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5.png" ContentType="image/png"/>
  <Override PartName="/ppt/media/image2.gif" ContentType="image/gif"/>
  <Override PartName="/ppt/media/image24.wmf" ContentType="image/x-wmf"/>
  <Override PartName="/ppt/media/image22.jpeg" ContentType="image/jpeg"/>
  <Override PartName="/ppt/media/image39.png" ContentType="image/png"/>
  <Override PartName="/ppt/media/image46.gif" ContentType="image/gif"/>
  <Override PartName="/ppt/media/image21.jpeg" ContentType="image/jpeg"/>
  <Override PartName="/ppt/media/image36.gif" ContentType="image/gif"/>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19.gif" ContentType="image/gif"/>
  <Override PartName="/ppt/media/image41.jpeg" ContentType="image/jpeg"/>
  <Override PartName="/ppt/media/image20.jpeg" ContentType="image/jpeg"/>
  <Override PartName="/ppt/media/image12.png" ContentType="image/png"/>
  <Override PartName="/ppt/media/image9.jpeg" ContentType="image/jpeg"/>
  <Override PartName="/ppt/media/image11.jpeg" ContentType="image/jpeg"/>
  <Override PartName="/ppt/media/image30.jpeg" ContentType="image/jpeg"/>
  <Override PartName="/ppt/media/image3.jpeg" ContentType="image/jpeg"/>
  <Override PartName="/ppt/media/image32.png" ContentType="image/png"/>
  <Override PartName="/ppt/media/image33.png" ContentType="image/png"/>
  <Override PartName="/ppt/media/image44.jpeg" ContentType="image/jpeg"/>
  <Override PartName="/ppt/media/image45.png" ContentType="image/png"/>
  <Override PartName="/ppt/media/image37.png" ContentType="image/png"/>
  <Override PartName="/ppt/media/image34.jpeg" ContentType="image/jpeg"/>
  <Override PartName="/ppt/media/image35.gif" ContentType="image/gif"/>
  <Override PartName="/ppt/media/image7.jpeg" ContentType="image/jpeg"/>
  <Override PartName="/ppt/media/image18.png" ContentType="image/png"/>
  <Override PartName="/ppt/media/image28.jpeg" ContentType="image/jpeg"/>
  <Override PartName="/ppt/media/image47.wmf" ContentType="image/x-wmf"/>
  <Override PartName="/ppt/media/image4.png" ContentType="image/png"/>
  <Override PartName="/ppt/media/image48.gif" ContentType="image/gif"/>
  <Override PartName="/ppt/media/image43.jpeg" ContentType="image/jpeg"/>
  <Override PartName="/ppt/media/image5.png" ContentType="image/png"/>
  <Override PartName="/ppt/media/image38.png" ContentType="image/png"/>
  <Override PartName="/ppt/media/image8.jpeg" ContentType="image/jpeg"/>
  <Override PartName="/ppt/media/image29.jpeg" ContentType="image/jpeg"/>
  <Override PartName="/ppt/media/image40.jpeg" ContentType="image/jpeg"/>
  <Override PartName="/ppt/media/image13.jpeg" ContentType="image/jpeg"/>
  <Override PartName="/ppt/media/image23.png" ContentType="image/png"/>
  <Override PartName="/ppt/media/image6.png" ContentType="image/png"/>
  <Override PartName="/ppt/media/image1.png" ContentType="image/png"/>
  <Override PartName="/ppt/media/image3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CFE67-B052-4EA3-A5D3-E01FB778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27" name="PlaceHolder 2"/>
          <p:cNvSpPr>
            <a:spLocks noGrp="1"/>
          </p:cNvSpPr>
          <p:nvPr>
            <p:ph/>
          </p:nvPr>
        </p:nvSpPr>
        <p:spPr>
          <a:xfrm>
            <a:off x="504360" y="113148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28" name="PlaceHolder 3"/>
          <p:cNvSpPr>
            <a:spLocks noGrp="1"/>
          </p:cNvSpPr>
          <p:nvPr>
            <p:ph/>
          </p:nvPr>
        </p:nvSpPr>
        <p:spPr>
          <a:xfrm>
            <a:off x="504360" y="381312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4145E-9521-42B8-BE30-6B3F721C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30"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1"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2" name="PlaceHolder 4"/>
          <p:cNvSpPr>
            <a:spLocks noGrp="1"/>
          </p:cNvSpPr>
          <p:nvPr>
            <p:ph/>
          </p:nvPr>
        </p:nvSpPr>
        <p:spPr>
          <a:xfrm>
            <a:off x="50436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3" name="PlaceHolder 5"/>
          <p:cNvSpPr>
            <a:spLocks noGrp="1"/>
          </p:cNvSpPr>
          <p:nvPr>
            <p:ph/>
          </p:nvPr>
        </p:nvSpPr>
        <p:spPr>
          <a:xfrm>
            <a:off x="433368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DAB9A-928D-491A-8558-616F5461F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35" name="PlaceHolder 2"/>
          <p:cNvSpPr>
            <a:spLocks noGrp="1"/>
          </p:cNvSpPr>
          <p:nvPr>
            <p:ph/>
          </p:nvPr>
        </p:nvSpPr>
        <p:spPr>
          <a:xfrm>
            <a:off x="50436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6" name="PlaceHolder 3"/>
          <p:cNvSpPr>
            <a:spLocks noGrp="1"/>
          </p:cNvSpPr>
          <p:nvPr>
            <p:ph/>
          </p:nvPr>
        </p:nvSpPr>
        <p:spPr>
          <a:xfrm>
            <a:off x="303084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7" name="PlaceHolder 4"/>
          <p:cNvSpPr>
            <a:spLocks noGrp="1"/>
          </p:cNvSpPr>
          <p:nvPr>
            <p:ph/>
          </p:nvPr>
        </p:nvSpPr>
        <p:spPr>
          <a:xfrm>
            <a:off x="555732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8" name="PlaceHolder 5"/>
          <p:cNvSpPr>
            <a:spLocks noGrp="1"/>
          </p:cNvSpPr>
          <p:nvPr>
            <p:ph/>
          </p:nvPr>
        </p:nvSpPr>
        <p:spPr>
          <a:xfrm>
            <a:off x="50436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39" name="PlaceHolder 6"/>
          <p:cNvSpPr>
            <a:spLocks noGrp="1"/>
          </p:cNvSpPr>
          <p:nvPr>
            <p:ph/>
          </p:nvPr>
        </p:nvSpPr>
        <p:spPr>
          <a:xfrm>
            <a:off x="303084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40" name="PlaceHolder 7"/>
          <p:cNvSpPr>
            <a:spLocks noGrp="1"/>
          </p:cNvSpPr>
          <p:nvPr>
            <p:ph/>
          </p:nvPr>
        </p:nvSpPr>
        <p:spPr>
          <a:xfrm>
            <a:off x="555732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35274-A46D-41E2-AA4E-DB69A7496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CEDB9-D6FF-4521-BD9F-BB191058A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50" name="PlaceHolder 2"/>
          <p:cNvSpPr>
            <a:spLocks noGrp="1"/>
          </p:cNvSpPr>
          <p:nvPr>
            <p:ph type="subTitle"/>
          </p:nvPr>
        </p:nvSpPr>
        <p:spPr>
          <a:xfrm>
            <a:off x="504360" y="1131480"/>
            <a:ext cx="7472520" cy="513396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4AA5A-0D00-433D-B205-11B47D48F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52" name="PlaceHolder 2"/>
          <p:cNvSpPr>
            <a:spLocks noGrp="1"/>
          </p:cNvSpPr>
          <p:nvPr>
            <p:ph/>
          </p:nvPr>
        </p:nvSpPr>
        <p:spPr>
          <a:xfrm>
            <a:off x="504360" y="1131480"/>
            <a:ext cx="747252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85A40-84DF-4A82-86C1-9A4EAFB92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54" name="PlaceHolder 2"/>
          <p:cNvSpPr>
            <a:spLocks noGrp="1"/>
          </p:cNvSpPr>
          <p:nvPr>
            <p:ph/>
          </p:nvPr>
        </p:nvSpPr>
        <p:spPr>
          <a:xfrm>
            <a:off x="50436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5" name="PlaceHolder 3"/>
          <p:cNvSpPr>
            <a:spLocks noGrp="1"/>
          </p:cNvSpPr>
          <p:nvPr>
            <p:ph/>
          </p:nvPr>
        </p:nvSpPr>
        <p:spPr>
          <a:xfrm>
            <a:off x="433368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8630-97F5-49F8-993B-B2D31A29D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94787-612C-4C85-8537-A3889B325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4360" y="320760"/>
            <a:ext cx="7472520" cy="273816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23AA6-DD58-4530-AF31-B04A45C0B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59"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0" name="PlaceHolder 3"/>
          <p:cNvSpPr>
            <a:spLocks noGrp="1"/>
          </p:cNvSpPr>
          <p:nvPr>
            <p:ph/>
          </p:nvPr>
        </p:nvSpPr>
        <p:spPr>
          <a:xfrm>
            <a:off x="433368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1" name="PlaceHolder 4"/>
          <p:cNvSpPr>
            <a:spLocks noGrp="1"/>
          </p:cNvSpPr>
          <p:nvPr>
            <p:ph/>
          </p:nvPr>
        </p:nvSpPr>
        <p:spPr>
          <a:xfrm>
            <a:off x="50436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94258-2C97-4F35-BE19-89C41E79A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6" name="PlaceHolder 2"/>
          <p:cNvSpPr>
            <a:spLocks noGrp="1"/>
          </p:cNvSpPr>
          <p:nvPr>
            <p:ph type="subTitle"/>
          </p:nvPr>
        </p:nvSpPr>
        <p:spPr>
          <a:xfrm>
            <a:off x="504360" y="1131480"/>
            <a:ext cx="7472520" cy="513396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32392-965E-493A-9200-D67E60EB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63" name="PlaceHolder 2"/>
          <p:cNvSpPr>
            <a:spLocks noGrp="1"/>
          </p:cNvSpPr>
          <p:nvPr>
            <p:ph/>
          </p:nvPr>
        </p:nvSpPr>
        <p:spPr>
          <a:xfrm>
            <a:off x="50436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4"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5" name="PlaceHolder 4"/>
          <p:cNvSpPr>
            <a:spLocks noGrp="1"/>
          </p:cNvSpPr>
          <p:nvPr>
            <p:ph/>
          </p:nvPr>
        </p:nvSpPr>
        <p:spPr>
          <a:xfrm>
            <a:off x="433368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728EA-9F54-4653-882A-51BB69C37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67"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8"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9" name="PlaceHolder 4"/>
          <p:cNvSpPr>
            <a:spLocks noGrp="1"/>
          </p:cNvSpPr>
          <p:nvPr>
            <p:ph/>
          </p:nvPr>
        </p:nvSpPr>
        <p:spPr>
          <a:xfrm>
            <a:off x="504360" y="381312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461CF-F644-4CCA-8B9A-654790C25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71" name="PlaceHolder 2"/>
          <p:cNvSpPr>
            <a:spLocks noGrp="1"/>
          </p:cNvSpPr>
          <p:nvPr>
            <p:ph/>
          </p:nvPr>
        </p:nvSpPr>
        <p:spPr>
          <a:xfrm>
            <a:off x="504360" y="113148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2" name="PlaceHolder 3"/>
          <p:cNvSpPr>
            <a:spLocks noGrp="1"/>
          </p:cNvSpPr>
          <p:nvPr>
            <p:ph/>
          </p:nvPr>
        </p:nvSpPr>
        <p:spPr>
          <a:xfrm>
            <a:off x="504360" y="381312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542BF-5EB3-4FEE-990E-AC3AAE83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74"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5"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6" name="PlaceHolder 4"/>
          <p:cNvSpPr>
            <a:spLocks noGrp="1"/>
          </p:cNvSpPr>
          <p:nvPr>
            <p:ph/>
          </p:nvPr>
        </p:nvSpPr>
        <p:spPr>
          <a:xfrm>
            <a:off x="50436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7" name="PlaceHolder 5"/>
          <p:cNvSpPr>
            <a:spLocks noGrp="1"/>
          </p:cNvSpPr>
          <p:nvPr>
            <p:ph/>
          </p:nvPr>
        </p:nvSpPr>
        <p:spPr>
          <a:xfrm>
            <a:off x="433368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9437A-5C0A-4987-8F1C-9948DE6AB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79" name="PlaceHolder 2"/>
          <p:cNvSpPr>
            <a:spLocks noGrp="1"/>
          </p:cNvSpPr>
          <p:nvPr>
            <p:ph/>
          </p:nvPr>
        </p:nvSpPr>
        <p:spPr>
          <a:xfrm>
            <a:off x="50436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80" name="PlaceHolder 3"/>
          <p:cNvSpPr>
            <a:spLocks noGrp="1"/>
          </p:cNvSpPr>
          <p:nvPr>
            <p:ph/>
          </p:nvPr>
        </p:nvSpPr>
        <p:spPr>
          <a:xfrm>
            <a:off x="303084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81" name="PlaceHolder 4"/>
          <p:cNvSpPr>
            <a:spLocks noGrp="1"/>
          </p:cNvSpPr>
          <p:nvPr>
            <p:ph/>
          </p:nvPr>
        </p:nvSpPr>
        <p:spPr>
          <a:xfrm>
            <a:off x="555732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82" name="PlaceHolder 5"/>
          <p:cNvSpPr>
            <a:spLocks noGrp="1"/>
          </p:cNvSpPr>
          <p:nvPr>
            <p:ph/>
          </p:nvPr>
        </p:nvSpPr>
        <p:spPr>
          <a:xfrm>
            <a:off x="50436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83" name="PlaceHolder 6"/>
          <p:cNvSpPr>
            <a:spLocks noGrp="1"/>
          </p:cNvSpPr>
          <p:nvPr>
            <p:ph/>
          </p:nvPr>
        </p:nvSpPr>
        <p:spPr>
          <a:xfrm>
            <a:off x="303084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84" name="PlaceHolder 7"/>
          <p:cNvSpPr>
            <a:spLocks noGrp="1"/>
          </p:cNvSpPr>
          <p:nvPr>
            <p:ph/>
          </p:nvPr>
        </p:nvSpPr>
        <p:spPr>
          <a:xfrm>
            <a:off x="555732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48C97-AE17-4BED-8CCB-482E1B851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B2E2C1-BCB1-409D-8CFC-EDBA90EDC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98" name="PlaceHolder 2"/>
          <p:cNvSpPr>
            <a:spLocks noGrp="1"/>
          </p:cNvSpPr>
          <p:nvPr>
            <p:ph type="subTitle"/>
          </p:nvPr>
        </p:nvSpPr>
        <p:spPr>
          <a:xfrm>
            <a:off x="504360" y="1131480"/>
            <a:ext cx="7472520" cy="513396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AC274-F113-4EAC-A3EB-FD1941F09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00" name="PlaceHolder 2"/>
          <p:cNvSpPr>
            <a:spLocks noGrp="1"/>
          </p:cNvSpPr>
          <p:nvPr>
            <p:ph/>
          </p:nvPr>
        </p:nvSpPr>
        <p:spPr>
          <a:xfrm>
            <a:off x="504360" y="1131480"/>
            <a:ext cx="747252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79DB0-76FA-4AFC-9BA0-BA1D202F3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02" name="PlaceHolder 2"/>
          <p:cNvSpPr>
            <a:spLocks noGrp="1"/>
          </p:cNvSpPr>
          <p:nvPr>
            <p:ph/>
          </p:nvPr>
        </p:nvSpPr>
        <p:spPr>
          <a:xfrm>
            <a:off x="50436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03" name="PlaceHolder 3"/>
          <p:cNvSpPr>
            <a:spLocks noGrp="1"/>
          </p:cNvSpPr>
          <p:nvPr>
            <p:ph/>
          </p:nvPr>
        </p:nvSpPr>
        <p:spPr>
          <a:xfrm>
            <a:off x="433368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FBE6C-6E67-4974-9069-2F8923A79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41884-1CDA-48A3-849C-62D7E41CC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8" name="PlaceHolder 2"/>
          <p:cNvSpPr>
            <a:spLocks noGrp="1"/>
          </p:cNvSpPr>
          <p:nvPr>
            <p:ph/>
          </p:nvPr>
        </p:nvSpPr>
        <p:spPr>
          <a:xfrm>
            <a:off x="504360" y="1131480"/>
            <a:ext cx="747252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DBB5D-3F40-4436-812B-A4E32A13A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4360" y="320760"/>
            <a:ext cx="7472520" cy="273816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8A8AB-6C59-45FB-96AA-E3B694D50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07"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08" name="PlaceHolder 3"/>
          <p:cNvSpPr>
            <a:spLocks noGrp="1"/>
          </p:cNvSpPr>
          <p:nvPr>
            <p:ph/>
          </p:nvPr>
        </p:nvSpPr>
        <p:spPr>
          <a:xfrm>
            <a:off x="433368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09" name="PlaceHolder 4"/>
          <p:cNvSpPr>
            <a:spLocks noGrp="1"/>
          </p:cNvSpPr>
          <p:nvPr>
            <p:ph/>
          </p:nvPr>
        </p:nvSpPr>
        <p:spPr>
          <a:xfrm>
            <a:off x="50436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F0F3F-D285-495F-A064-CF493603D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11" name="PlaceHolder 2"/>
          <p:cNvSpPr>
            <a:spLocks noGrp="1"/>
          </p:cNvSpPr>
          <p:nvPr>
            <p:ph/>
          </p:nvPr>
        </p:nvSpPr>
        <p:spPr>
          <a:xfrm>
            <a:off x="50436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12"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13" name="PlaceHolder 4"/>
          <p:cNvSpPr>
            <a:spLocks noGrp="1"/>
          </p:cNvSpPr>
          <p:nvPr>
            <p:ph/>
          </p:nvPr>
        </p:nvSpPr>
        <p:spPr>
          <a:xfrm>
            <a:off x="433368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8BD53-EB47-43A2-9715-2063F98EE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15"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16"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17" name="PlaceHolder 4"/>
          <p:cNvSpPr>
            <a:spLocks noGrp="1"/>
          </p:cNvSpPr>
          <p:nvPr>
            <p:ph/>
          </p:nvPr>
        </p:nvSpPr>
        <p:spPr>
          <a:xfrm>
            <a:off x="504360" y="381312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1C4D4-8AD6-4417-8B28-FFEF17F7F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19" name="PlaceHolder 2"/>
          <p:cNvSpPr>
            <a:spLocks noGrp="1"/>
          </p:cNvSpPr>
          <p:nvPr>
            <p:ph/>
          </p:nvPr>
        </p:nvSpPr>
        <p:spPr>
          <a:xfrm>
            <a:off x="504360" y="113148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20" name="PlaceHolder 3"/>
          <p:cNvSpPr>
            <a:spLocks noGrp="1"/>
          </p:cNvSpPr>
          <p:nvPr>
            <p:ph/>
          </p:nvPr>
        </p:nvSpPr>
        <p:spPr>
          <a:xfrm>
            <a:off x="504360" y="381312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5D5EC-76ED-483B-86C2-4E98671E9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22"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23"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24" name="PlaceHolder 4"/>
          <p:cNvSpPr>
            <a:spLocks noGrp="1"/>
          </p:cNvSpPr>
          <p:nvPr>
            <p:ph/>
          </p:nvPr>
        </p:nvSpPr>
        <p:spPr>
          <a:xfrm>
            <a:off x="50436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25" name="PlaceHolder 5"/>
          <p:cNvSpPr>
            <a:spLocks noGrp="1"/>
          </p:cNvSpPr>
          <p:nvPr>
            <p:ph/>
          </p:nvPr>
        </p:nvSpPr>
        <p:spPr>
          <a:xfrm>
            <a:off x="433368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70B7AC-A5C5-4D55-8FA1-EE40B8533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27" name="PlaceHolder 2"/>
          <p:cNvSpPr>
            <a:spLocks noGrp="1"/>
          </p:cNvSpPr>
          <p:nvPr>
            <p:ph/>
          </p:nvPr>
        </p:nvSpPr>
        <p:spPr>
          <a:xfrm>
            <a:off x="50436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28" name="PlaceHolder 3"/>
          <p:cNvSpPr>
            <a:spLocks noGrp="1"/>
          </p:cNvSpPr>
          <p:nvPr>
            <p:ph/>
          </p:nvPr>
        </p:nvSpPr>
        <p:spPr>
          <a:xfrm>
            <a:off x="303084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29" name="PlaceHolder 4"/>
          <p:cNvSpPr>
            <a:spLocks noGrp="1"/>
          </p:cNvSpPr>
          <p:nvPr>
            <p:ph/>
          </p:nvPr>
        </p:nvSpPr>
        <p:spPr>
          <a:xfrm>
            <a:off x="5557320" y="113148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30" name="PlaceHolder 5"/>
          <p:cNvSpPr>
            <a:spLocks noGrp="1"/>
          </p:cNvSpPr>
          <p:nvPr>
            <p:ph/>
          </p:nvPr>
        </p:nvSpPr>
        <p:spPr>
          <a:xfrm>
            <a:off x="50436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31" name="PlaceHolder 6"/>
          <p:cNvSpPr>
            <a:spLocks noGrp="1"/>
          </p:cNvSpPr>
          <p:nvPr>
            <p:ph/>
          </p:nvPr>
        </p:nvSpPr>
        <p:spPr>
          <a:xfrm>
            <a:off x="303084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32" name="PlaceHolder 7"/>
          <p:cNvSpPr>
            <a:spLocks noGrp="1"/>
          </p:cNvSpPr>
          <p:nvPr>
            <p:ph/>
          </p:nvPr>
        </p:nvSpPr>
        <p:spPr>
          <a:xfrm>
            <a:off x="5557320" y="3813120"/>
            <a:ext cx="240588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DFA5E-1B25-41CF-95F4-8AB92347C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0" name="PlaceHolder 2"/>
          <p:cNvSpPr>
            <a:spLocks noGrp="1"/>
          </p:cNvSpPr>
          <p:nvPr>
            <p:ph/>
          </p:nvPr>
        </p:nvSpPr>
        <p:spPr>
          <a:xfrm>
            <a:off x="50436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1" name="PlaceHolder 3"/>
          <p:cNvSpPr>
            <a:spLocks noGrp="1"/>
          </p:cNvSpPr>
          <p:nvPr>
            <p:ph/>
          </p:nvPr>
        </p:nvSpPr>
        <p:spPr>
          <a:xfrm>
            <a:off x="433368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1C90-0161-4AE5-B428-D9D38852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46BC7-DD4C-4AF7-AA04-6644CDB0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360" y="320760"/>
            <a:ext cx="7472520" cy="273816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1F2A-CB73-46B0-8BD8-88D898D5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5"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6" name="PlaceHolder 3"/>
          <p:cNvSpPr>
            <a:spLocks noGrp="1"/>
          </p:cNvSpPr>
          <p:nvPr>
            <p:ph/>
          </p:nvPr>
        </p:nvSpPr>
        <p:spPr>
          <a:xfrm>
            <a:off x="433368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17" name="PlaceHolder 4"/>
          <p:cNvSpPr>
            <a:spLocks noGrp="1"/>
          </p:cNvSpPr>
          <p:nvPr>
            <p:ph/>
          </p:nvPr>
        </p:nvSpPr>
        <p:spPr>
          <a:xfrm>
            <a:off x="50436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F448-5AAA-4E2B-BF06-B701089C5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19" name="PlaceHolder 2"/>
          <p:cNvSpPr>
            <a:spLocks noGrp="1"/>
          </p:cNvSpPr>
          <p:nvPr>
            <p:ph/>
          </p:nvPr>
        </p:nvSpPr>
        <p:spPr>
          <a:xfrm>
            <a:off x="504360" y="1131480"/>
            <a:ext cx="3646440" cy="513396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20"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21" name="PlaceHolder 4"/>
          <p:cNvSpPr>
            <a:spLocks noGrp="1"/>
          </p:cNvSpPr>
          <p:nvPr>
            <p:ph/>
          </p:nvPr>
        </p:nvSpPr>
        <p:spPr>
          <a:xfrm>
            <a:off x="4333680" y="381312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F141-7531-4B57-AD1D-A13D1805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524b"/>
              </a:solidFill>
              <a:latin typeface="comic"/>
            </a:endParaRPr>
          </a:p>
        </p:txBody>
      </p:sp>
      <p:sp>
        <p:nvSpPr>
          <p:cNvPr id="23" name="PlaceHolder 2"/>
          <p:cNvSpPr>
            <a:spLocks noGrp="1"/>
          </p:cNvSpPr>
          <p:nvPr>
            <p:ph/>
          </p:nvPr>
        </p:nvSpPr>
        <p:spPr>
          <a:xfrm>
            <a:off x="50436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24" name="PlaceHolder 3"/>
          <p:cNvSpPr>
            <a:spLocks noGrp="1"/>
          </p:cNvSpPr>
          <p:nvPr>
            <p:ph/>
          </p:nvPr>
        </p:nvSpPr>
        <p:spPr>
          <a:xfrm>
            <a:off x="4333680" y="1131480"/>
            <a:ext cx="364644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25" name="PlaceHolder 4"/>
          <p:cNvSpPr>
            <a:spLocks noGrp="1"/>
          </p:cNvSpPr>
          <p:nvPr>
            <p:ph/>
          </p:nvPr>
        </p:nvSpPr>
        <p:spPr>
          <a:xfrm>
            <a:off x="504360" y="3813120"/>
            <a:ext cx="7472520" cy="2448720"/>
          </a:xfrm>
          <a:prstGeom prst="rect">
            <a:avLst/>
          </a:prstGeom>
          <a:noFill/>
          <a:ln w="0">
            <a:noFill/>
          </a:ln>
        </p:spPr>
        <p:txBody>
          <a:bodyPr lIns="90000" rIns="90000" tIns="46800" bIns="46800" anchor="t">
            <a:normAutofit/>
          </a:bodyPr>
          <a:p>
            <a:pPr indent="0">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524b"/>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4C067-69EE-4CA5-96BF-139455416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3F4F-31D9-4509-B1E2-E8BFEC3113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25"/>
          <p:cNvSpPr/>
          <p:nvPr/>
        </p:nvSpPr>
        <p:spPr>
          <a:xfrm>
            <a:off x="0" y="0"/>
            <a:ext cx="9144000" cy="6858000"/>
          </a:xfrm>
          <a:prstGeom prst="rect">
            <a:avLst/>
          </a:prstGeom>
          <a:solidFill>
            <a:srgbClr val="dcd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Unknown Shape"/>
          <p:cNvSpPr/>
          <p:nvPr/>
        </p:nvSpPr>
        <p:spPr>
          <a:xfrm>
            <a:off x="1414440" y="1073160"/>
            <a:ext cx="6265800" cy="4711680"/>
          </a:xfrm>
          <a:custGeom>
            <a:avLst/>
            <a:gdLst/>
            <a:ahLst/>
            <a:rect l="l" t="t" r="r" b="b"/>
            <a:pathLst>
              <a:path w="21600" h="21600">
                <a:moveTo>
                  <a:pt x="11034" y="20471"/>
                </a:moveTo>
                <a:lnTo>
                  <a:pt x="11034" y="20471"/>
                </a:lnTo>
                <a:lnTo>
                  <a:pt x="9911" y="20669"/>
                </a:lnTo>
                <a:lnTo>
                  <a:pt x="9911" y="20669"/>
                </a:lnTo>
                <a:lnTo>
                  <a:pt x="9693" y="20532"/>
                </a:lnTo>
                <a:lnTo>
                  <a:pt x="9476" y="20410"/>
                </a:lnTo>
                <a:lnTo>
                  <a:pt x="9258" y="20319"/>
                </a:lnTo>
                <a:lnTo>
                  <a:pt x="9029" y="20258"/>
                </a:lnTo>
                <a:lnTo>
                  <a:pt x="9029" y="20258"/>
                </a:lnTo>
                <a:lnTo>
                  <a:pt x="8926" y="20471"/>
                </a:lnTo>
                <a:lnTo>
                  <a:pt x="8834" y="20654"/>
                </a:lnTo>
                <a:lnTo>
                  <a:pt x="8754" y="20807"/>
                </a:lnTo>
                <a:lnTo>
                  <a:pt x="8651" y="20959"/>
                </a:lnTo>
                <a:lnTo>
                  <a:pt x="8616" y="21020"/>
                </a:lnTo>
                <a:lnTo>
                  <a:pt x="8570" y="21066"/>
                </a:lnTo>
                <a:lnTo>
                  <a:pt x="8502" y="21096"/>
                </a:lnTo>
                <a:lnTo>
                  <a:pt x="8433" y="21142"/>
                </a:lnTo>
                <a:lnTo>
                  <a:pt x="8376" y="21173"/>
                </a:lnTo>
                <a:lnTo>
                  <a:pt x="8296" y="21173"/>
                </a:lnTo>
                <a:lnTo>
                  <a:pt x="8216" y="21188"/>
                </a:lnTo>
                <a:lnTo>
                  <a:pt x="8112" y="21173"/>
                </a:lnTo>
                <a:lnTo>
                  <a:pt x="8112" y="21173"/>
                </a:lnTo>
                <a:lnTo>
                  <a:pt x="7814" y="21142"/>
                </a:lnTo>
                <a:lnTo>
                  <a:pt x="7505" y="21096"/>
                </a:lnTo>
                <a:lnTo>
                  <a:pt x="6909" y="21005"/>
                </a:lnTo>
                <a:lnTo>
                  <a:pt x="6313" y="20868"/>
                </a:lnTo>
                <a:lnTo>
                  <a:pt x="5717" y="20730"/>
                </a:lnTo>
                <a:lnTo>
                  <a:pt x="5717" y="20730"/>
                </a:lnTo>
                <a:lnTo>
                  <a:pt x="5511" y="20669"/>
                </a:lnTo>
                <a:lnTo>
                  <a:pt x="5328" y="20578"/>
                </a:lnTo>
                <a:lnTo>
                  <a:pt x="5144" y="20502"/>
                </a:lnTo>
                <a:lnTo>
                  <a:pt x="4995" y="20410"/>
                </a:lnTo>
                <a:lnTo>
                  <a:pt x="4858" y="20319"/>
                </a:lnTo>
                <a:lnTo>
                  <a:pt x="4732" y="20212"/>
                </a:lnTo>
                <a:lnTo>
                  <a:pt x="4617" y="20060"/>
                </a:lnTo>
                <a:lnTo>
                  <a:pt x="4503" y="19938"/>
                </a:lnTo>
                <a:lnTo>
                  <a:pt x="4400" y="19785"/>
                </a:lnTo>
                <a:lnTo>
                  <a:pt x="4308" y="19633"/>
                </a:lnTo>
                <a:lnTo>
                  <a:pt x="4216" y="19465"/>
                </a:lnTo>
                <a:lnTo>
                  <a:pt x="4113" y="19267"/>
                </a:lnTo>
                <a:lnTo>
                  <a:pt x="3666" y="18368"/>
                </a:lnTo>
                <a:lnTo>
                  <a:pt x="3666" y="18368"/>
                </a:lnTo>
                <a:lnTo>
                  <a:pt x="3620" y="18368"/>
                </a:lnTo>
                <a:lnTo>
                  <a:pt x="3575" y="18383"/>
                </a:lnTo>
                <a:lnTo>
                  <a:pt x="3529" y="18413"/>
                </a:lnTo>
                <a:lnTo>
                  <a:pt x="3483" y="18429"/>
                </a:lnTo>
                <a:lnTo>
                  <a:pt x="3403" y="18505"/>
                </a:lnTo>
                <a:lnTo>
                  <a:pt x="3322" y="18596"/>
                </a:lnTo>
                <a:lnTo>
                  <a:pt x="3231" y="18718"/>
                </a:lnTo>
                <a:lnTo>
                  <a:pt x="3162" y="18840"/>
                </a:lnTo>
                <a:lnTo>
                  <a:pt x="3001" y="19084"/>
                </a:lnTo>
                <a:lnTo>
                  <a:pt x="2910" y="19206"/>
                </a:lnTo>
                <a:lnTo>
                  <a:pt x="2818" y="19282"/>
                </a:lnTo>
                <a:lnTo>
                  <a:pt x="2715" y="19374"/>
                </a:lnTo>
                <a:lnTo>
                  <a:pt x="2658" y="19389"/>
                </a:lnTo>
                <a:lnTo>
                  <a:pt x="2612" y="19420"/>
                </a:lnTo>
                <a:lnTo>
                  <a:pt x="2555" y="19435"/>
                </a:lnTo>
                <a:lnTo>
                  <a:pt x="2497" y="19450"/>
                </a:lnTo>
                <a:lnTo>
                  <a:pt x="2429" y="19435"/>
                </a:lnTo>
                <a:lnTo>
                  <a:pt x="2371" y="19420"/>
                </a:lnTo>
                <a:lnTo>
                  <a:pt x="2291" y="19389"/>
                </a:lnTo>
                <a:lnTo>
                  <a:pt x="2234" y="19359"/>
                </a:lnTo>
                <a:lnTo>
                  <a:pt x="2154" y="19298"/>
                </a:lnTo>
                <a:lnTo>
                  <a:pt x="2062" y="19252"/>
                </a:lnTo>
                <a:lnTo>
                  <a:pt x="2062" y="19252"/>
                </a:lnTo>
                <a:lnTo>
                  <a:pt x="2119" y="19222"/>
                </a:lnTo>
                <a:lnTo>
                  <a:pt x="2154" y="19206"/>
                </a:lnTo>
                <a:lnTo>
                  <a:pt x="2188" y="19176"/>
                </a:lnTo>
                <a:lnTo>
                  <a:pt x="2200" y="19130"/>
                </a:lnTo>
                <a:lnTo>
                  <a:pt x="2200" y="19084"/>
                </a:lnTo>
                <a:lnTo>
                  <a:pt x="2188" y="19023"/>
                </a:lnTo>
                <a:lnTo>
                  <a:pt x="2154" y="18978"/>
                </a:lnTo>
                <a:lnTo>
                  <a:pt x="2131" y="18932"/>
                </a:lnTo>
                <a:lnTo>
                  <a:pt x="2062" y="18779"/>
                </a:lnTo>
                <a:lnTo>
                  <a:pt x="1936" y="18657"/>
                </a:lnTo>
                <a:lnTo>
                  <a:pt x="1810" y="18505"/>
                </a:lnTo>
                <a:lnTo>
                  <a:pt x="1661" y="18337"/>
                </a:lnTo>
                <a:lnTo>
                  <a:pt x="1328" y="18032"/>
                </a:lnTo>
                <a:lnTo>
                  <a:pt x="1008" y="17758"/>
                </a:lnTo>
                <a:lnTo>
                  <a:pt x="721" y="17545"/>
                </a:lnTo>
                <a:lnTo>
                  <a:pt x="618" y="17468"/>
                </a:lnTo>
                <a:lnTo>
                  <a:pt x="527" y="17423"/>
                </a:lnTo>
                <a:lnTo>
                  <a:pt x="527" y="17423"/>
                </a:lnTo>
                <a:lnTo>
                  <a:pt x="515" y="17529"/>
                </a:lnTo>
                <a:lnTo>
                  <a:pt x="503" y="17636"/>
                </a:lnTo>
                <a:lnTo>
                  <a:pt x="481" y="17682"/>
                </a:lnTo>
                <a:lnTo>
                  <a:pt x="458" y="17712"/>
                </a:lnTo>
                <a:lnTo>
                  <a:pt x="423" y="17727"/>
                </a:lnTo>
                <a:lnTo>
                  <a:pt x="366" y="17743"/>
                </a:lnTo>
                <a:lnTo>
                  <a:pt x="366" y="17743"/>
                </a:lnTo>
                <a:lnTo>
                  <a:pt x="297" y="17423"/>
                </a:lnTo>
                <a:lnTo>
                  <a:pt x="240" y="17133"/>
                </a:lnTo>
                <a:lnTo>
                  <a:pt x="217" y="17011"/>
                </a:lnTo>
                <a:lnTo>
                  <a:pt x="217" y="16904"/>
                </a:lnTo>
                <a:lnTo>
                  <a:pt x="217" y="16813"/>
                </a:lnTo>
                <a:lnTo>
                  <a:pt x="240" y="16737"/>
                </a:lnTo>
                <a:lnTo>
                  <a:pt x="274" y="16691"/>
                </a:lnTo>
                <a:lnTo>
                  <a:pt x="320" y="16630"/>
                </a:lnTo>
                <a:lnTo>
                  <a:pt x="378" y="16615"/>
                </a:lnTo>
                <a:lnTo>
                  <a:pt x="469" y="16600"/>
                </a:lnTo>
                <a:lnTo>
                  <a:pt x="561" y="16615"/>
                </a:lnTo>
                <a:lnTo>
                  <a:pt x="687" y="16630"/>
                </a:lnTo>
                <a:lnTo>
                  <a:pt x="836" y="16691"/>
                </a:lnTo>
                <a:lnTo>
                  <a:pt x="996" y="16737"/>
                </a:lnTo>
                <a:lnTo>
                  <a:pt x="996" y="16737"/>
                </a:lnTo>
                <a:lnTo>
                  <a:pt x="939" y="16615"/>
                </a:lnTo>
                <a:lnTo>
                  <a:pt x="905" y="16478"/>
                </a:lnTo>
                <a:lnTo>
                  <a:pt x="779" y="16234"/>
                </a:lnTo>
                <a:lnTo>
                  <a:pt x="641" y="16005"/>
                </a:lnTo>
                <a:lnTo>
                  <a:pt x="503" y="15761"/>
                </a:lnTo>
                <a:lnTo>
                  <a:pt x="366" y="15532"/>
                </a:lnTo>
                <a:lnTo>
                  <a:pt x="309" y="15410"/>
                </a:lnTo>
                <a:lnTo>
                  <a:pt x="263" y="15304"/>
                </a:lnTo>
                <a:lnTo>
                  <a:pt x="205" y="15151"/>
                </a:lnTo>
                <a:lnTo>
                  <a:pt x="160" y="15029"/>
                </a:lnTo>
                <a:lnTo>
                  <a:pt x="125" y="14892"/>
                </a:lnTo>
                <a:lnTo>
                  <a:pt x="102" y="14740"/>
                </a:lnTo>
                <a:lnTo>
                  <a:pt x="102" y="14740"/>
                </a:lnTo>
                <a:lnTo>
                  <a:pt x="80" y="14542"/>
                </a:lnTo>
                <a:lnTo>
                  <a:pt x="80" y="14374"/>
                </a:lnTo>
                <a:lnTo>
                  <a:pt x="91" y="14222"/>
                </a:lnTo>
                <a:lnTo>
                  <a:pt x="114" y="14115"/>
                </a:lnTo>
                <a:lnTo>
                  <a:pt x="137" y="14023"/>
                </a:lnTo>
                <a:lnTo>
                  <a:pt x="194" y="13947"/>
                </a:lnTo>
                <a:lnTo>
                  <a:pt x="251" y="13886"/>
                </a:lnTo>
                <a:lnTo>
                  <a:pt x="320" y="13856"/>
                </a:lnTo>
                <a:lnTo>
                  <a:pt x="469" y="13779"/>
                </a:lnTo>
                <a:lnTo>
                  <a:pt x="630" y="13688"/>
                </a:lnTo>
                <a:lnTo>
                  <a:pt x="710" y="13657"/>
                </a:lnTo>
                <a:lnTo>
                  <a:pt x="779" y="13596"/>
                </a:lnTo>
                <a:lnTo>
                  <a:pt x="870" y="13520"/>
                </a:lnTo>
                <a:lnTo>
                  <a:pt x="939" y="13429"/>
                </a:lnTo>
                <a:lnTo>
                  <a:pt x="939" y="13429"/>
                </a:lnTo>
                <a:lnTo>
                  <a:pt x="824" y="13337"/>
                </a:lnTo>
                <a:lnTo>
                  <a:pt x="710" y="13246"/>
                </a:lnTo>
                <a:lnTo>
                  <a:pt x="618" y="13124"/>
                </a:lnTo>
                <a:lnTo>
                  <a:pt x="538" y="13032"/>
                </a:lnTo>
                <a:lnTo>
                  <a:pt x="469" y="12911"/>
                </a:lnTo>
                <a:lnTo>
                  <a:pt x="412" y="12804"/>
                </a:lnTo>
                <a:lnTo>
                  <a:pt x="354" y="12667"/>
                </a:lnTo>
                <a:lnTo>
                  <a:pt x="320" y="12545"/>
                </a:lnTo>
                <a:lnTo>
                  <a:pt x="286" y="12408"/>
                </a:lnTo>
                <a:lnTo>
                  <a:pt x="263" y="12286"/>
                </a:lnTo>
                <a:lnTo>
                  <a:pt x="240" y="12133"/>
                </a:lnTo>
                <a:lnTo>
                  <a:pt x="229" y="11996"/>
                </a:lnTo>
                <a:lnTo>
                  <a:pt x="229" y="11706"/>
                </a:lnTo>
                <a:lnTo>
                  <a:pt x="240" y="11432"/>
                </a:lnTo>
                <a:lnTo>
                  <a:pt x="263" y="11127"/>
                </a:lnTo>
                <a:lnTo>
                  <a:pt x="286" y="10837"/>
                </a:lnTo>
                <a:lnTo>
                  <a:pt x="309" y="10548"/>
                </a:lnTo>
                <a:lnTo>
                  <a:pt x="320" y="10258"/>
                </a:lnTo>
                <a:lnTo>
                  <a:pt x="320" y="9999"/>
                </a:lnTo>
                <a:lnTo>
                  <a:pt x="320" y="9862"/>
                </a:lnTo>
                <a:lnTo>
                  <a:pt x="320" y="9740"/>
                </a:lnTo>
                <a:lnTo>
                  <a:pt x="297" y="9618"/>
                </a:lnTo>
                <a:lnTo>
                  <a:pt x="274" y="9481"/>
                </a:lnTo>
                <a:lnTo>
                  <a:pt x="240" y="9374"/>
                </a:lnTo>
                <a:lnTo>
                  <a:pt x="205" y="9252"/>
                </a:lnTo>
                <a:lnTo>
                  <a:pt x="205" y="9252"/>
                </a:lnTo>
                <a:lnTo>
                  <a:pt x="137" y="9100"/>
                </a:lnTo>
                <a:lnTo>
                  <a:pt x="91" y="8947"/>
                </a:lnTo>
                <a:lnTo>
                  <a:pt x="57" y="8795"/>
                </a:lnTo>
                <a:lnTo>
                  <a:pt x="22" y="8673"/>
                </a:lnTo>
                <a:lnTo>
                  <a:pt x="0" y="8551"/>
                </a:lnTo>
                <a:lnTo>
                  <a:pt x="0" y="8444"/>
                </a:lnTo>
                <a:lnTo>
                  <a:pt x="0" y="8353"/>
                </a:lnTo>
                <a:lnTo>
                  <a:pt x="11" y="8261"/>
                </a:lnTo>
                <a:lnTo>
                  <a:pt x="34" y="8200"/>
                </a:lnTo>
                <a:lnTo>
                  <a:pt x="57" y="8124"/>
                </a:lnTo>
                <a:lnTo>
                  <a:pt x="80" y="8078"/>
                </a:lnTo>
                <a:lnTo>
                  <a:pt x="125" y="8033"/>
                </a:lnTo>
                <a:lnTo>
                  <a:pt x="137" y="8002"/>
                </a:lnTo>
                <a:lnTo>
                  <a:pt x="194" y="7972"/>
                </a:lnTo>
                <a:lnTo>
                  <a:pt x="229" y="7941"/>
                </a:lnTo>
                <a:lnTo>
                  <a:pt x="274" y="7941"/>
                </a:lnTo>
                <a:lnTo>
                  <a:pt x="320" y="7941"/>
                </a:lnTo>
                <a:lnTo>
                  <a:pt x="354" y="7941"/>
                </a:lnTo>
                <a:lnTo>
                  <a:pt x="389" y="7956"/>
                </a:lnTo>
                <a:lnTo>
                  <a:pt x="423" y="7987"/>
                </a:lnTo>
                <a:lnTo>
                  <a:pt x="458" y="8017"/>
                </a:lnTo>
                <a:lnTo>
                  <a:pt x="492" y="8063"/>
                </a:lnTo>
                <a:lnTo>
                  <a:pt x="515" y="8109"/>
                </a:lnTo>
                <a:lnTo>
                  <a:pt x="515" y="8170"/>
                </a:lnTo>
                <a:lnTo>
                  <a:pt x="527" y="8200"/>
                </a:lnTo>
                <a:lnTo>
                  <a:pt x="527" y="8261"/>
                </a:lnTo>
                <a:lnTo>
                  <a:pt x="527" y="8353"/>
                </a:lnTo>
                <a:lnTo>
                  <a:pt x="515" y="8429"/>
                </a:lnTo>
                <a:lnTo>
                  <a:pt x="492" y="8490"/>
                </a:lnTo>
                <a:lnTo>
                  <a:pt x="435" y="8581"/>
                </a:lnTo>
                <a:lnTo>
                  <a:pt x="389" y="8673"/>
                </a:lnTo>
                <a:lnTo>
                  <a:pt x="320" y="8764"/>
                </a:lnTo>
                <a:lnTo>
                  <a:pt x="320" y="8764"/>
                </a:lnTo>
                <a:lnTo>
                  <a:pt x="412" y="8764"/>
                </a:lnTo>
                <a:lnTo>
                  <a:pt x="492" y="8749"/>
                </a:lnTo>
                <a:lnTo>
                  <a:pt x="549" y="8718"/>
                </a:lnTo>
                <a:lnTo>
                  <a:pt x="595" y="8703"/>
                </a:lnTo>
                <a:lnTo>
                  <a:pt x="641" y="8688"/>
                </a:lnTo>
                <a:lnTo>
                  <a:pt x="675" y="8627"/>
                </a:lnTo>
                <a:lnTo>
                  <a:pt x="710" y="8597"/>
                </a:lnTo>
                <a:lnTo>
                  <a:pt x="710" y="8536"/>
                </a:lnTo>
                <a:lnTo>
                  <a:pt x="744" y="8429"/>
                </a:lnTo>
                <a:lnTo>
                  <a:pt x="779" y="8261"/>
                </a:lnTo>
                <a:lnTo>
                  <a:pt x="801" y="8109"/>
                </a:lnTo>
                <a:lnTo>
                  <a:pt x="859" y="7926"/>
                </a:lnTo>
                <a:lnTo>
                  <a:pt x="859" y="7926"/>
                </a:lnTo>
                <a:lnTo>
                  <a:pt x="905" y="7804"/>
                </a:lnTo>
                <a:lnTo>
                  <a:pt x="916" y="7697"/>
                </a:lnTo>
                <a:lnTo>
                  <a:pt x="928" y="7621"/>
                </a:lnTo>
                <a:lnTo>
                  <a:pt x="928" y="7545"/>
                </a:lnTo>
                <a:lnTo>
                  <a:pt x="928" y="7469"/>
                </a:lnTo>
                <a:lnTo>
                  <a:pt x="916" y="7408"/>
                </a:lnTo>
                <a:lnTo>
                  <a:pt x="893" y="7362"/>
                </a:lnTo>
                <a:lnTo>
                  <a:pt x="859" y="7316"/>
                </a:lnTo>
                <a:lnTo>
                  <a:pt x="779" y="7210"/>
                </a:lnTo>
                <a:lnTo>
                  <a:pt x="664" y="7118"/>
                </a:lnTo>
                <a:lnTo>
                  <a:pt x="527" y="6996"/>
                </a:lnTo>
                <a:lnTo>
                  <a:pt x="366" y="6874"/>
                </a:lnTo>
                <a:lnTo>
                  <a:pt x="366" y="6874"/>
                </a:lnTo>
                <a:lnTo>
                  <a:pt x="664" y="6874"/>
                </a:lnTo>
                <a:lnTo>
                  <a:pt x="996" y="6844"/>
                </a:lnTo>
                <a:lnTo>
                  <a:pt x="1317" y="6798"/>
                </a:lnTo>
                <a:lnTo>
                  <a:pt x="1477" y="6767"/>
                </a:lnTo>
                <a:lnTo>
                  <a:pt x="1615" y="6722"/>
                </a:lnTo>
                <a:lnTo>
                  <a:pt x="1615" y="6722"/>
                </a:lnTo>
                <a:lnTo>
                  <a:pt x="1615" y="6615"/>
                </a:lnTo>
                <a:lnTo>
                  <a:pt x="1592" y="6478"/>
                </a:lnTo>
                <a:lnTo>
                  <a:pt x="1558" y="6264"/>
                </a:lnTo>
                <a:lnTo>
                  <a:pt x="1524" y="6066"/>
                </a:lnTo>
                <a:lnTo>
                  <a:pt x="1512" y="5975"/>
                </a:lnTo>
                <a:lnTo>
                  <a:pt x="1500" y="5883"/>
                </a:lnTo>
                <a:lnTo>
                  <a:pt x="1512" y="5822"/>
                </a:lnTo>
                <a:lnTo>
                  <a:pt x="1535" y="5746"/>
                </a:lnTo>
                <a:lnTo>
                  <a:pt x="1569" y="5670"/>
                </a:lnTo>
                <a:lnTo>
                  <a:pt x="1638" y="5624"/>
                </a:lnTo>
                <a:lnTo>
                  <a:pt x="1707" y="5578"/>
                </a:lnTo>
                <a:lnTo>
                  <a:pt x="1798" y="5517"/>
                </a:lnTo>
                <a:lnTo>
                  <a:pt x="1924" y="5487"/>
                </a:lnTo>
                <a:lnTo>
                  <a:pt x="2062" y="5441"/>
                </a:lnTo>
                <a:lnTo>
                  <a:pt x="2062" y="5441"/>
                </a:lnTo>
                <a:lnTo>
                  <a:pt x="2211" y="5411"/>
                </a:lnTo>
                <a:lnTo>
                  <a:pt x="2337" y="5380"/>
                </a:lnTo>
                <a:lnTo>
                  <a:pt x="2440" y="5350"/>
                </a:lnTo>
                <a:lnTo>
                  <a:pt x="2532" y="5304"/>
                </a:lnTo>
                <a:lnTo>
                  <a:pt x="2612" y="5258"/>
                </a:lnTo>
                <a:lnTo>
                  <a:pt x="2658" y="5197"/>
                </a:lnTo>
                <a:lnTo>
                  <a:pt x="2715" y="5121"/>
                </a:lnTo>
                <a:lnTo>
                  <a:pt x="2750" y="5060"/>
                </a:lnTo>
                <a:lnTo>
                  <a:pt x="2784" y="4969"/>
                </a:lnTo>
                <a:lnTo>
                  <a:pt x="2807" y="4862"/>
                </a:lnTo>
                <a:lnTo>
                  <a:pt x="2830" y="4633"/>
                </a:lnTo>
                <a:lnTo>
                  <a:pt x="2853" y="4328"/>
                </a:lnTo>
                <a:lnTo>
                  <a:pt x="2899" y="3962"/>
                </a:lnTo>
                <a:lnTo>
                  <a:pt x="2899" y="3962"/>
                </a:lnTo>
                <a:lnTo>
                  <a:pt x="3001" y="3993"/>
                </a:lnTo>
                <a:lnTo>
                  <a:pt x="3082" y="4008"/>
                </a:lnTo>
                <a:lnTo>
                  <a:pt x="3128" y="3993"/>
                </a:lnTo>
                <a:lnTo>
                  <a:pt x="3150" y="3978"/>
                </a:lnTo>
                <a:lnTo>
                  <a:pt x="3219" y="3947"/>
                </a:lnTo>
                <a:lnTo>
                  <a:pt x="3231" y="3871"/>
                </a:lnTo>
                <a:lnTo>
                  <a:pt x="3265" y="3795"/>
                </a:lnTo>
                <a:lnTo>
                  <a:pt x="3288" y="3703"/>
                </a:lnTo>
                <a:lnTo>
                  <a:pt x="3299" y="3612"/>
                </a:lnTo>
                <a:lnTo>
                  <a:pt x="3334" y="3414"/>
                </a:lnTo>
                <a:lnTo>
                  <a:pt x="3357" y="3307"/>
                </a:lnTo>
                <a:lnTo>
                  <a:pt x="3380" y="3216"/>
                </a:lnTo>
                <a:lnTo>
                  <a:pt x="3426" y="3124"/>
                </a:lnTo>
                <a:lnTo>
                  <a:pt x="3471" y="3063"/>
                </a:lnTo>
                <a:lnTo>
                  <a:pt x="3551" y="3018"/>
                </a:lnTo>
                <a:lnTo>
                  <a:pt x="3586" y="3002"/>
                </a:lnTo>
                <a:lnTo>
                  <a:pt x="3632" y="2987"/>
                </a:lnTo>
                <a:lnTo>
                  <a:pt x="3632" y="2987"/>
                </a:lnTo>
                <a:lnTo>
                  <a:pt x="3735" y="2941"/>
                </a:lnTo>
                <a:lnTo>
                  <a:pt x="3827" y="2880"/>
                </a:lnTo>
                <a:lnTo>
                  <a:pt x="3907" y="2804"/>
                </a:lnTo>
                <a:lnTo>
                  <a:pt x="3976" y="2713"/>
                </a:lnTo>
                <a:lnTo>
                  <a:pt x="4010" y="2591"/>
                </a:lnTo>
                <a:lnTo>
                  <a:pt x="4056" y="2469"/>
                </a:lnTo>
                <a:lnTo>
                  <a:pt x="4067" y="2301"/>
                </a:lnTo>
                <a:lnTo>
                  <a:pt x="4079" y="2149"/>
                </a:lnTo>
                <a:lnTo>
                  <a:pt x="4079" y="2149"/>
                </a:lnTo>
                <a:lnTo>
                  <a:pt x="4182" y="2164"/>
                </a:lnTo>
                <a:lnTo>
                  <a:pt x="4262" y="2194"/>
                </a:lnTo>
                <a:lnTo>
                  <a:pt x="4354" y="2179"/>
                </a:lnTo>
                <a:lnTo>
                  <a:pt x="4423" y="2149"/>
                </a:lnTo>
                <a:lnTo>
                  <a:pt x="4491" y="2118"/>
                </a:lnTo>
                <a:lnTo>
                  <a:pt x="4560" y="2057"/>
                </a:lnTo>
                <a:lnTo>
                  <a:pt x="4617" y="1981"/>
                </a:lnTo>
                <a:lnTo>
                  <a:pt x="4674" y="1889"/>
                </a:lnTo>
                <a:lnTo>
                  <a:pt x="4674" y="1889"/>
                </a:lnTo>
                <a:lnTo>
                  <a:pt x="4778" y="1737"/>
                </a:lnTo>
                <a:lnTo>
                  <a:pt x="4892" y="1600"/>
                </a:lnTo>
                <a:lnTo>
                  <a:pt x="5007" y="1493"/>
                </a:lnTo>
                <a:lnTo>
                  <a:pt x="5144" y="1402"/>
                </a:lnTo>
                <a:lnTo>
                  <a:pt x="5293" y="1310"/>
                </a:lnTo>
                <a:lnTo>
                  <a:pt x="5431" y="1249"/>
                </a:lnTo>
                <a:lnTo>
                  <a:pt x="5568" y="1203"/>
                </a:lnTo>
                <a:lnTo>
                  <a:pt x="5717" y="1158"/>
                </a:lnTo>
                <a:lnTo>
                  <a:pt x="6038" y="1082"/>
                </a:lnTo>
                <a:lnTo>
                  <a:pt x="6359" y="1005"/>
                </a:lnTo>
                <a:lnTo>
                  <a:pt x="6508" y="960"/>
                </a:lnTo>
                <a:lnTo>
                  <a:pt x="6668" y="914"/>
                </a:lnTo>
                <a:lnTo>
                  <a:pt x="6817" y="853"/>
                </a:lnTo>
                <a:lnTo>
                  <a:pt x="6966" y="777"/>
                </a:lnTo>
                <a:lnTo>
                  <a:pt x="6966" y="777"/>
                </a:lnTo>
                <a:lnTo>
                  <a:pt x="6978" y="807"/>
                </a:lnTo>
                <a:lnTo>
                  <a:pt x="7001" y="838"/>
                </a:lnTo>
                <a:lnTo>
                  <a:pt x="7046" y="883"/>
                </a:lnTo>
                <a:lnTo>
                  <a:pt x="7104" y="929"/>
                </a:lnTo>
                <a:lnTo>
                  <a:pt x="7207" y="944"/>
                </a:lnTo>
                <a:lnTo>
                  <a:pt x="7299" y="975"/>
                </a:lnTo>
                <a:lnTo>
                  <a:pt x="7425" y="990"/>
                </a:lnTo>
                <a:lnTo>
                  <a:pt x="7677" y="1005"/>
                </a:lnTo>
                <a:lnTo>
                  <a:pt x="7952" y="990"/>
                </a:lnTo>
                <a:lnTo>
                  <a:pt x="8216" y="990"/>
                </a:lnTo>
                <a:lnTo>
                  <a:pt x="8422" y="960"/>
                </a:lnTo>
                <a:lnTo>
                  <a:pt x="8570" y="929"/>
                </a:lnTo>
                <a:lnTo>
                  <a:pt x="8570" y="929"/>
                </a:lnTo>
                <a:lnTo>
                  <a:pt x="8628" y="944"/>
                </a:lnTo>
                <a:lnTo>
                  <a:pt x="8708" y="975"/>
                </a:lnTo>
                <a:lnTo>
                  <a:pt x="8777" y="990"/>
                </a:lnTo>
                <a:lnTo>
                  <a:pt x="8834" y="990"/>
                </a:lnTo>
                <a:lnTo>
                  <a:pt x="8995" y="990"/>
                </a:lnTo>
                <a:lnTo>
                  <a:pt x="9132" y="960"/>
                </a:lnTo>
                <a:lnTo>
                  <a:pt x="9270" y="899"/>
                </a:lnTo>
                <a:lnTo>
                  <a:pt x="9396" y="822"/>
                </a:lnTo>
                <a:lnTo>
                  <a:pt x="9533" y="731"/>
                </a:lnTo>
                <a:lnTo>
                  <a:pt x="9648" y="655"/>
                </a:lnTo>
                <a:lnTo>
                  <a:pt x="9648" y="655"/>
                </a:lnTo>
                <a:lnTo>
                  <a:pt x="9820" y="518"/>
                </a:lnTo>
                <a:lnTo>
                  <a:pt x="10003" y="426"/>
                </a:lnTo>
                <a:lnTo>
                  <a:pt x="10209" y="304"/>
                </a:lnTo>
                <a:lnTo>
                  <a:pt x="10416" y="213"/>
                </a:lnTo>
                <a:lnTo>
                  <a:pt x="10622" y="152"/>
                </a:lnTo>
                <a:lnTo>
                  <a:pt x="10828" y="76"/>
                </a:lnTo>
                <a:lnTo>
                  <a:pt x="11023" y="30"/>
                </a:lnTo>
                <a:lnTo>
                  <a:pt x="11229" y="0"/>
                </a:lnTo>
                <a:lnTo>
                  <a:pt x="11229" y="0"/>
                </a:lnTo>
                <a:lnTo>
                  <a:pt x="11332" y="0"/>
                </a:lnTo>
                <a:lnTo>
                  <a:pt x="11435" y="0"/>
                </a:lnTo>
                <a:lnTo>
                  <a:pt x="11515" y="15"/>
                </a:lnTo>
                <a:lnTo>
                  <a:pt x="11596" y="60"/>
                </a:lnTo>
                <a:lnTo>
                  <a:pt x="11664" y="91"/>
                </a:lnTo>
                <a:lnTo>
                  <a:pt x="11722" y="137"/>
                </a:lnTo>
                <a:lnTo>
                  <a:pt x="11848" y="228"/>
                </a:lnTo>
                <a:lnTo>
                  <a:pt x="11962" y="335"/>
                </a:lnTo>
                <a:lnTo>
                  <a:pt x="12031" y="381"/>
                </a:lnTo>
                <a:lnTo>
                  <a:pt x="12100" y="426"/>
                </a:lnTo>
                <a:lnTo>
                  <a:pt x="12192" y="472"/>
                </a:lnTo>
                <a:lnTo>
                  <a:pt x="12295" y="487"/>
                </a:lnTo>
                <a:lnTo>
                  <a:pt x="12409" y="502"/>
                </a:lnTo>
                <a:lnTo>
                  <a:pt x="12524" y="502"/>
                </a:lnTo>
                <a:lnTo>
                  <a:pt x="12524" y="502"/>
                </a:lnTo>
                <a:lnTo>
                  <a:pt x="12535" y="594"/>
                </a:lnTo>
                <a:lnTo>
                  <a:pt x="12547" y="685"/>
                </a:lnTo>
                <a:lnTo>
                  <a:pt x="12570" y="746"/>
                </a:lnTo>
                <a:lnTo>
                  <a:pt x="12604" y="807"/>
                </a:lnTo>
                <a:lnTo>
                  <a:pt x="12650" y="883"/>
                </a:lnTo>
                <a:lnTo>
                  <a:pt x="12684" y="944"/>
                </a:lnTo>
                <a:lnTo>
                  <a:pt x="12730" y="1005"/>
                </a:lnTo>
                <a:lnTo>
                  <a:pt x="12799" y="1051"/>
                </a:lnTo>
                <a:lnTo>
                  <a:pt x="12937" y="1173"/>
                </a:lnTo>
                <a:lnTo>
                  <a:pt x="13086" y="1249"/>
                </a:lnTo>
                <a:lnTo>
                  <a:pt x="13269" y="1341"/>
                </a:lnTo>
                <a:lnTo>
                  <a:pt x="13441" y="1417"/>
                </a:lnTo>
                <a:lnTo>
                  <a:pt x="13647" y="1493"/>
                </a:lnTo>
                <a:lnTo>
                  <a:pt x="13842" y="1539"/>
                </a:lnTo>
                <a:lnTo>
                  <a:pt x="14220" y="1645"/>
                </a:lnTo>
                <a:lnTo>
                  <a:pt x="14586" y="1752"/>
                </a:lnTo>
                <a:lnTo>
                  <a:pt x="14861" y="1828"/>
                </a:lnTo>
                <a:lnTo>
                  <a:pt x="14861" y="1828"/>
                </a:lnTo>
                <a:lnTo>
                  <a:pt x="14976" y="1874"/>
                </a:lnTo>
                <a:lnTo>
                  <a:pt x="15091" y="1889"/>
                </a:lnTo>
                <a:lnTo>
                  <a:pt x="15217" y="1920"/>
                </a:lnTo>
                <a:lnTo>
                  <a:pt x="15343" y="1935"/>
                </a:lnTo>
                <a:lnTo>
                  <a:pt x="15583" y="1935"/>
                </a:lnTo>
                <a:lnTo>
                  <a:pt x="15824" y="1920"/>
                </a:lnTo>
                <a:lnTo>
                  <a:pt x="16088" y="1889"/>
                </a:lnTo>
                <a:lnTo>
                  <a:pt x="16328" y="1859"/>
                </a:lnTo>
                <a:lnTo>
                  <a:pt x="16569" y="1813"/>
                </a:lnTo>
                <a:lnTo>
                  <a:pt x="16810" y="1798"/>
                </a:lnTo>
                <a:lnTo>
                  <a:pt x="16810" y="1798"/>
                </a:lnTo>
                <a:lnTo>
                  <a:pt x="18299" y="2606"/>
                </a:lnTo>
                <a:lnTo>
                  <a:pt x="18299" y="2606"/>
                </a:lnTo>
                <a:lnTo>
                  <a:pt x="18299" y="2667"/>
                </a:lnTo>
                <a:lnTo>
                  <a:pt x="18276" y="2713"/>
                </a:lnTo>
                <a:lnTo>
                  <a:pt x="18254" y="2758"/>
                </a:lnTo>
                <a:lnTo>
                  <a:pt x="18219" y="2789"/>
                </a:lnTo>
                <a:lnTo>
                  <a:pt x="18162" y="2804"/>
                </a:lnTo>
                <a:lnTo>
                  <a:pt x="18105" y="2835"/>
                </a:lnTo>
                <a:lnTo>
                  <a:pt x="18013" y="2850"/>
                </a:lnTo>
                <a:lnTo>
                  <a:pt x="17887" y="2880"/>
                </a:lnTo>
                <a:lnTo>
                  <a:pt x="17795" y="2880"/>
                </a:lnTo>
                <a:lnTo>
                  <a:pt x="17680" y="2880"/>
                </a:lnTo>
                <a:lnTo>
                  <a:pt x="17680" y="2880"/>
                </a:lnTo>
                <a:lnTo>
                  <a:pt x="18024" y="3079"/>
                </a:lnTo>
                <a:lnTo>
                  <a:pt x="18254" y="3200"/>
                </a:lnTo>
                <a:lnTo>
                  <a:pt x="18505" y="3353"/>
                </a:lnTo>
                <a:lnTo>
                  <a:pt x="18735" y="3536"/>
                </a:lnTo>
                <a:lnTo>
                  <a:pt x="18838" y="3612"/>
                </a:lnTo>
                <a:lnTo>
                  <a:pt x="18941" y="3703"/>
                </a:lnTo>
                <a:lnTo>
                  <a:pt x="19021" y="3795"/>
                </a:lnTo>
                <a:lnTo>
                  <a:pt x="19078" y="3871"/>
                </a:lnTo>
                <a:lnTo>
                  <a:pt x="19113" y="3962"/>
                </a:lnTo>
                <a:lnTo>
                  <a:pt x="19124" y="3993"/>
                </a:lnTo>
                <a:lnTo>
                  <a:pt x="19124" y="4039"/>
                </a:lnTo>
                <a:lnTo>
                  <a:pt x="19124" y="4039"/>
                </a:lnTo>
                <a:lnTo>
                  <a:pt x="18047" y="4100"/>
                </a:lnTo>
                <a:lnTo>
                  <a:pt x="18047" y="4100"/>
                </a:lnTo>
                <a:lnTo>
                  <a:pt x="18139" y="4115"/>
                </a:lnTo>
                <a:lnTo>
                  <a:pt x="18242" y="4130"/>
                </a:lnTo>
                <a:lnTo>
                  <a:pt x="18334" y="4191"/>
                </a:lnTo>
                <a:lnTo>
                  <a:pt x="18448" y="4267"/>
                </a:lnTo>
                <a:lnTo>
                  <a:pt x="18563" y="4328"/>
                </a:lnTo>
                <a:lnTo>
                  <a:pt x="18666" y="4435"/>
                </a:lnTo>
                <a:lnTo>
                  <a:pt x="18792" y="4557"/>
                </a:lnTo>
                <a:lnTo>
                  <a:pt x="18895" y="4649"/>
                </a:lnTo>
                <a:lnTo>
                  <a:pt x="19124" y="4893"/>
                </a:lnTo>
                <a:lnTo>
                  <a:pt x="19308" y="5136"/>
                </a:lnTo>
                <a:lnTo>
                  <a:pt x="19468" y="5365"/>
                </a:lnTo>
                <a:lnTo>
                  <a:pt x="19537" y="5487"/>
                </a:lnTo>
                <a:lnTo>
                  <a:pt x="19594" y="5594"/>
                </a:lnTo>
                <a:lnTo>
                  <a:pt x="19594" y="5594"/>
                </a:lnTo>
                <a:lnTo>
                  <a:pt x="19376" y="5517"/>
                </a:lnTo>
                <a:lnTo>
                  <a:pt x="19136" y="5441"/>
                </a:lnTo>
                <a:lnTo>
                  <a:pt x="18654" y="5304"/>
                </a:lnTo>
                <a:lnTo>
                  <a:pt x="18414" y="5228"/>
                </a:lnTo>
                <a:lnTo>
                  <a:pt x="18162" y="5152"/>
                </a:lnTo>
                <a:lnTo>
                  <a:pt x="17909" y="5121"/>
                </a:lnTo>
                <a:lnTo>
                  <a:pt x="17669" y="5106"/>
                </a:lnTo>
                <a:lnTo>
                  <a:pt x="17669" y="5106"/>
                </a:lnTo>
                <a:lnTo>
                  <a:pt x="16546" y="4572"/>
                </a:lnTo>
                <a:lnTo>
                  <a:pt x="16546" y="4572"/>
                </a:lnTo>
                <a:lnTo>
                  <a:pt x="16649" y="4694"/>
                </a:lnTo>
                <a:lnTo>
                  <a:pt x="16729" y="4801"/>
                </a:lnTo>
                <a:lnTo>
                  <a:pt x="16867" y="4877"/>
                </a:lnTo>
                <a:lnTo>
                  <a:pt x="16981" y="4954"/>
                </a:lnTo>
                <a:lnTo>
                  <a:pt x="17119" y="4999"/>
                </a:lnTo>
                <a:lnTo>
                  <a:pt x="17268" y="5060"/>
                </a:lnTo>
                <a:lnTo>
                  <a:pt x="17428" y="5091"/>
                </a:lnTo>
                <a:lnTo>
                  <a:pt x="17589" y="5106"/>
                </a:lnTo>
                <a:lnTo>
                  <a:pt x="17589" y="5106"/>
                </a:lnTo>
                <a:lnTo>
                  <a:pt x="17417" y="5106"/>
                </a:lnTo>
                <a:lnTo>
                  <a:pt x="17245" y="5136"/>
                </a:lnTo>
                <a:lnTo>
                  <a:pt x="17084" y="5182"/>
                </a:lnTo>
                <a:lnTo>
                  <a:pt x="16913" y="5258"/>
                </a:lnTo>
                <a:lnTo>
                  <a:pt x="16913" y="5258"/>
                </a:lnTo>
                <a:lnTo>
                  <a:pt x="18254" y="6462"/>
                </a:lnTo>
                <a:lnTo>
                  <a:pt x="18254" y="6462"/>
                </a:lnTo>
                <a:lnTo>
                  <a:pt x="18379" y="6386"/>
                </a:lnTo>
                <a:lnTo>
                  <a:pt x="18494" y="6340"/>
                </a:lnTo>
                <a:lnTo>
                  <a:pt x="18608" y="6310"/>
                </a:lnTo>
                <a:lnTo>
                  <a:pt x="18654" y="6295"/>
                </a:lnTo>
                <a:lnTo>
                  <a:pt x="18700" y="6310"/>
                </a:lnTo>
                <a:lnTo>
                  <a:pt x="18735" y="6325"/>
                </a:lnTo>
                <a:lnTo>
                  <a:pt x="18792" y="6340"/>
                </a:lnTo>
                <a:lnTo>
                  <a:pt x="18826" y="6371"/>
                </a:lnTo>
                <a:lnTo>
                  <a:pt x="18872" y="6401"/>
                </a:lnTo>
                <a:lnTo>
                  <a:pt x="18906" y="6447"/>
                </a:lnTo>
                <a:lnTo>
                  <a:pt x="18952" y="6523"/>
                </a:lnTo>
                <a:lnTo>
                  <a:pt x="19021" y="6661"/>
                </a:lnTo>
                <a:lnTo>
                  <a:pt x="19021" y="6661"/>
                </a:lnTo>
                <a:lnTo>
                  <a:pt x="19055" y="6767"/>
                </a:lnTo>
                <a:lnTo>
                  <a:pt x="19078" y="6859"/>
                </a:lnTo>
                <a:lnTo>
                  <a:pt x="19090" y="6935"/>
                </a:lnTo>
                <a:lnTo>
                  <a:pt x="19090" y="7027"/>
                </a:lnTo>
                <a:lnTo>
                  <a:pt x="19078" y="7103"/>
                </a:lnTo>
                <a:lnTo>
                  <a:pt x="19055" y="7164"/>
                </a:lnTo>
                <a:lnTo>
                  <a:pt x="19033" y="7225"/>
                </a:lnTo>
                <a:lnTo>
                  <a:pt x="19010" y="7271"/>
                </a:lnTo>
                <a:lnTo>
                  <a:pt x="18964" y="7316"/>
                </a:lnTo>
                <a:lnTo>
                  <a:pt x="18918" y="7332"/>
                </a:lnTo>
                <a:lnTo>
                  <a:pt x="18872" y="7347"/>
                </a:lnTo>
                <a:lnTo>
                  <a:pt x="18826" y="7347"/>
                </a:lnTo>
                <a:lnTo>
                  <a:pt x="18781" y="7316"/>
                </a:lnTo>
                <a:lnTo>
                  <a:pt x="18723" y="7286"/>
                </a:lnTo>
                <a:lnTo>
                  <a:pt x="18654" y="7225"/>
                </a:lnTo>
                <a:lnTo>
                  <a:pt x="18608" y="7149"/>
                </a:lnTo>
                <a:lnTo>
                  <a:pt x="18608" y="7149"/>
                </a:lnTo>
                <a:lnTo>
                  <a:pt x="18551" y="7194"/>
                </a:lnTo>
                <a:lnTo>
                  <a:pt x="18517" y="7240"/>
                </a:lnTo>
                <a:lnTo>
                  <a:pt x="18494" y="7301"/>
                </a:lnTo>
                <a:lnTo>
                  <a:pt x="18494" y="7377"/>
                </a:lnTo>
                <a:lnTo>
                  <a:pt x="18517" y="7438"/>
                </a:lnTo>
                <a:lnTo>
                  <a:pt x="18540" y="7530"/>
                </a:lnTo>
                <a:lnTo>
                  <a:pt x="18574" y="7652"/>
                </a:lnTo>
                <a:lnTo>
                  <a:pt x="18608" y="7758"/>
                </a:lnTo>
                <a:lnTo>
                  <a:pt x="18608" y="7758"/>
                </a:lnTo>
                <a:lnTo>
                  <a:pt x="18654" y="8033"/>
                </a:lnTo>
                <a:lnTo>
                  <a:pt x="18689" y="8139"/>
                </a:lnTo>
                <a:lnTo>
                  <a:pt x="18723" y="8216"/>
                </a:lnTo>
                <a:lnTo>
                  <a:pt x="18757" y="8261"/>
                </a:lnTo>
                <a:lnTo>
                  <a:pt x="18792" y="8322"/>
                </a:lnTo>
                <a:lnTo>
                  <a:pt x="18826" y="8353"/>
                </a:lnTo>
                <a:lnTo>
                  <a:pt x="18872" y="8353"/>
                </a:lnTo>
                <a:lnTo>
                  <a:pt x="18918" y="8353"/>
                </a:lnTo>
                <a:lnTo>
                  <a:pt x="18964" y="8353"/>
                </a:lnTo>
                <a:lnTo>
                  <a:pt x="19090" y="8322"/>
                </a:lnTo>
                <a:lnTo>
                  <a:pt x="19273" y="8261"/>
                </a:lnTo>
                <a:lnTo>
                  <a:pt x="19491" y="8216"/>
                </a:lnTo>
                <a:lnTo>
                  <a:pt x="19491" y="8216"/>
                </a:lnTo>
                <a:lnTo>
                  <a:pt x="19480" y="8261"/>
                </a:lnTo>
                <a:lnTo>
                  <a:pt x="19468" y="8276"/>
                </a:lnTo>
                <a:lnTo>
                  <a:pt x="19445" y="8322"/>
                </a:lnTo>
                <a:lnTo>
                  <a:pt x="19353" y="8398"/>
                </a:lnTo>
                <a:lnTo>
                  <a:pt x="19308" y="8444"/>
                </a:lnTo>
                <a:lnTo>
                  <a:pt x="19296" y="8475"/>
                </a:lnTo>
                <a:lnTo>
                  <a:pt x="19273" y="8520"/>
                </a:lnTo>
                <a:lnTo>
                  <a:pt x="19262" y="8566"/>
                </a:lnTo>
                <a:lnTo>
                  <a:pt x="19262" y="8612"/>
                </a:lnTo>
                <a:lnTo>
                  <a:pt x="19262" y="8703"/>
                </a:lnTo>
                <a:lnTo>
                  <a:pt x="19285" y="8764"/>
                </a:lnTo>
                <a:lnTo>
                  <a:pt x="19285" y="8764"/>
                </a:lnTo>
                <a:lnTo>
                  <a:pt x="19617" y="8932"/>
                </a:lnTo>
                <a:lnTo>
                  <a:pt x="19731" y="8962"/>
                </a:lnTo>
                <a:lnTo>
                  <a:pt x="19800" y="9023"/>
                </a:lnTo>
                <a:lnTo>
                  <a:pt x="19858" y="9069"/>
                </a:lnTo>
                <a:lnTo>
                  <a:pt x="19880" y="9115"/>
                </a:lnTo>
                <a:lnTo>
                  <a:pt x="19892" y="9145"/>
                </a:lnTo>
                <a:lnTo>
                  <a:pt x="19880" y="9191"/>
                </a:lnTo>
                <a:lnTo>
                  <a:pt x="19858" y="9267"/>
                </a:lnTo>
                <a:lnTo>
                  <a:pt x="19846" y="9328"/>
                </a:lnTo>
                <a:lnTo>
                  <a:pt x="19835" y="9389"/>
                </a:lnTo>
                <a:lnTo>
                  <a:pt x="19846" y="9481"/>
                </a:lnTo>
                <a:lnTo>
                  <a:pt x="19880" y="9572"/>
                </a:lnTo>
                <a:lnTo>
                  <a:pt x="19927" y="9710"/>
                </a:lnTo>
                <a:lnTo>
                  <a:pt x="20007" y="9847"/>
                </a:lnTo>
                <a:lnTo>
                  <a:pt x="20007" y="9847"/>
                </a:lnTo>
                <a:lnTo>
                  <a:pt x="20041" y="9801"/>
                </a:lnTo>
                <a:lnTo>
                  <a:pt x="20087" y="9740"/>
                </a:lnTo>
                <a:lnTo>
                  <a:pt x="20110" y="9694"/>
                </a:lnTo>
                <a:lnTo>
                  <a:pt x="20132" y="9618"/>
                </a:lnTo>
                <a:lnTo>
                  <a:pt x="20144" y="9527"/>
                </a:lnTo>
                <a:lnTo>
                  <a:pt x="20156" y="9450"/>
                </a:lnTo>
                <a:lnTo>
                  <a:pt x="20144" y="9237"/>
                </a:lnTo>
                <a:lnTo>
                  <a:pt x="20121" y="9039"/>
                </a:lnTo>
                <a:lnTo>
                  <a:pt x="20087" y="8810"/>
                </a:lnTo>
                <a:lnTo>
                  <a:pt x="20064" y="8612"/>
                </a:lnTo>
                <a:lnTo>
                  <a:pt x="20029" y="8414"/>
                </a:lnTo>
                <a:lnTo>
                  <a:pt x="20018" y="8231"/>
                </a:lnTo>
                <a:lnTo>
                  <a:pt x="20018" y="8170"/>
                </a:lnTo>
                <a:lnTo>
                  <a:pt x="20029" y="8094"/>
                </a:lnTo>
                <a:lnTo>
                  <a:pt x="20052" y="8033"/>
                </a:lnTo>
                <a:lnTo>
                  <a:pt x="20075" y="8002"/>
                </a:lnTo>
                <a:lnTo>
                  <a:pt x="20110" y="7956"/>
                </a:lnTo>
                <a:lnTo>
                  <a:pt x="20156" y="7941"/>
                </a:lnTo>
                <a:lnTo>
                  <a:pt x="20190" y="7941"/>
                </a:lnTo>
                <a:lnTo>
                  <a:pt x="20259" y="7956"/>
                </a:lnTo>
                <a:lnTo>
                  <a:pt x="20339" y="8002"/>
                </a:lnTo>
                <a:lnTo>
                  <a:pt x="20430" y="8063"/>
                </a:lnTo>
                <a:lnTo>
                  <a:pt x="20534" y="8139"/>
                </a:lnTo>
                <a:lnTo>
                  <a:pt x="20648" y="8231"/>
                </a:lnTo>
                <a:lnTo>
                  <a:pt x="20935" y="8490"/>
                </a:lnTo>
                <a:lnTo>
                  <a:pt x="20935" y="8490"/>
                </a:lnTo>
                <a:lnTo>
                  <a:pt x="20832" y="8520"/>
                </a:lnTo>
                <a:lnTo>
                  <a:pt x="20751" y="8551"/>
                </a:lnTo>
                <a:lnTo>
                  <a:pt x="20671" y="8612"/>
                </a:lnTo>
                <a:lnTo>
                  <a:pt x="20614" y="8688"/>
                </a:lnTo>
                <a:lnTo>
                  <a:pt x="20568" y="8764"/>
                </a:lnTo>
                <a:lnTo>
                  <a:pt x="20534" y="8856"/>
                </a:lnTo>
                <a:lnTo>
                  <a:pt x="20522" y="8962"/>
                </a:lnTo>
                <a:lnTo>
                  <a:pt x="20499" y="9054"/>
                </a:lnTo>
                <a:lnTo>
                  <a:pt x="20488" y="9191"/>
                </a:lnTo>
                <a:lnTo>
                  <a:pt x="20488" y="9298"/>
                </a:lnTo>
                <a:lnTo>
                  <a:pt x="20499" y="9450"/>
                </a:lnTo>
                <a:lnTo>
                  <a:pt x="20522" y="9588"/>
                </a:lnTo>
                <a:lnTo>
                  <a:pt x="20568" y="9892"/>
                </a:lnTo>
                <a:lnTo>
                  <a:pt x="20625" y="10213"/>
                </a:lnTo>
                <a:lnTo>
                  <a:pt x="20717" y="10517"/>
                </a:lnTo>
                <a:lnTo>
                  <a:pt x="20809" y="10837"/>
                </a:lnTo>
                <a:lnTo>
                  <a:pt x="20992" y="11462"/>
                </a:lnTo>
                <a:lnTo>
                  <a:pt x="21153" y="12011"/>
                </a:lnTo>
                <a:lnTo>
                  <a:pt x="21210" y="12225"/>
                </a:lnTo>
                <a:lnTo>
                  <a:pt x="21233" y="12408"/>
                </a:lnTo>
                <a:lnTo>
                  <a:pt x="21233" y="12408"/>
                </a:lnTo>
                <a:lnTo>
                  <a:pt x="21600" y="12484"/>
                </a:lnTo>
                <a:lnTo>
                  <a:pt x="21600" y="12484"/>
                </a:lnTo>
                <a:lnTo>
                  <a:pt x="21565" y="12575"/>
                </a:lnTo>
                <a:lnTo>
                  <a:pt x="21531" y="12636"/>
                </a:lnTo>
                <a:lnTo>
                  <a:pt x="21462" y="12712"/>
                </a:lnTo>
                <a:lnTo>
                  <a:pt x="21404" y="12789"/>
                </a:lnTo>
                <a:lnTo>
                  <a:pt x="21347" y="12819"/>
                </a:lnTo>
                <a:lnTo>
                  <a:pt x="21278" y="12895"/>
                </a:lnTo>
                <a:lnTo>
                  <a:pt x="21198" y="12941"/>
                </a:lnTo>
                <a:lnTo>
                  <a:pt x="21130" y="12987"/>
                </a:lnTo>
                <a:lnTo>
                  <a:pt x="21038" y="13002"/>
                </a:lnTo>
                <a:lnTo>
                  <a:pt x="20958" y="13032"/>
                </a:lnTo>
                <a:lnTo>
                  <a:pt x="20877" y="13048"/>
                </a:lnTo>
                <a:lnTo>
                  <a:pt x="20809" y="13048"/>
                </a:lnTo>
                <a:lnTo>
                  <a:pt x="20740" y="13048"/>
                </a:lnTo>
                <a:lnTo>
                  <a:pt x="20660" y="13017"/>
                </a:lnTo>
                <a:lnTo>
                  <a:pt x="20579" y="13002"/>
                </a:lnTo>
                <a:lnTo>
                  <a:pt x="20522" y="12956"/>
                </a:lnTo>
                <a:lnTo>
                  <a:pt x="20522" y="12956"/>
                </a:lnTo>
                <a:lnTo>
                  <a:pt x="20522" y="12682"/>
                </a:lnTo>
                <a:lnTo>
                  <a:pt x="20522" y="12575"/>
                </a:lnTo>
                <a:lnTo>
                  <a:pt x="20511" y="12438"/>
                </a:lnTo>
                <a:lnTo>
                  <a:pt x="20476" y="12331"/>
                </a:lnTo>
                <a:lnTo>
                  <a:pt x="20419" y="12240"/>
                </a:lnTo>
                <a:lnTo>
                  <a:pt x="20385" y="12194"/>
                </a:lnTo>
                <a:lnTo>
                  <a:pt x="20362" y="12149"/>
                </a:lnTo>
                <a:lnTo>
                  <a:pt x="20305" y="12118"/>
                </a:lnTo>
                <a:lnTo>
                  <a:pt x="20259" y="12072"/>
                </a:lnTo>
                <a:lnTo>
                  <a:pt x="20259" y="12072"/>
                </a:lnTo>
                <a:lnTo>
                  <a:pt x="20201" y="12255"/>
                </a:lnTo>
                <a:lnTo>
                  <a:pt x="20144" y="12438"/>
                </a:lnTo>
                <a:lnTo>
                  <a:pt x="19995" y="12804"/>
                </a:lnTo>
                <a:lnTo>
                  <a:pt x="19880" y="13154"/>
                </a:lnTo>
                <a:lnTo>
                  <a:pt x="19812" y="13337"/>
                </a:lnTo>
                <a:lnTo>
                  <a:pt x="19778" y="13520"/>
                </a:lnTo>
                <a:lnTo>
                  <a:pt x="19778" y="13520"/>
                </a:lnTo>
                <a:lnTo>
                  <a:pt x="19731" y="13688"/>
                </a:lnTo>
                <a:lnTo>
                  <a:pt x="19720" y="13856"/>
                </a:lnTo>
                <a:lnTo>
                  <a:pt x="19709" y="13947"/>
                </a:lnTo>
                <a:lnTo>
                  <a:pt x="19709" y="14039"/>
                </a:lnTo>
                <a:lnTo>
                  <a:pt x="19720" y="14084"/>
                </a:lnTo>
                <a:lnTo>
                  <a:pt x="19743" y="14115"/>
                </a:lnTo>
                <a:lnTo>
                  <a:pt x="19778" y="14145"/>
                </a:lnTo>
                <a:lnTo>
                  <a:pt x="19800" y="14161"/>
                </a:lnTo>
                <a:lnTo>
                  <a:pt x="19892" y="14191"/>
                </a:lnTo>
                <a:lnTo>
                  <a:pt x="19949" y="14206"/>
                </a:lnTo>
                <a:lnTo>
                  <a:pt x="19995" y="14237"/>
                </a:lnTo>
                <a:lnTo>
                  <a:pt x="20052" y="14298"/>
                </a:lnTo>
                <a:lnTo>
                  <a:pt x="20098" y="14359"/>
                </a:lnTo>
                <a:lnTo>
                  <a:pt x="20156" y="14450"/>
                </a:lnTo>
                <a:lnTo>
                  <a:pt x="20190" y="14557"/>
                </a:lnTo>
                <a:lnTo>
                  <a:pt x="20190" y="14557"/>
                </a:lnTo>
                <a:lnTo>
                  <a:pt x="20236" y="14740"/>
                </a:lnTo>
                <a:lnTo>
                  <a:pt x="20247" y="14831"/>
                </a:lnTo>
                <a:lnTo>
                  <a:pt x="20259" y="14908"/>
                </a:lnTo>
                <a:lnTo>
                  <a:pt x="20259" y="14984"/>
                </a:lnTo>
                <a:lnTo>
                  <a:pt x="20259" y="15075"/>
                </a:lnTo>
                <a:lnTo>
                  <a:pt x="20247" y="15136"/>
                </a:lnTo>
                <a:lnTo>
                  <a:pt x="20236" y="15182"/>
                </a:lnTo>
                <a:lnTo>
                  <a:pt x="20213" y="15243"/>
                </a:lnTo>
                <a:lnTo>
                  <a:pt x="20190" y="15304"/>
                </a:lnTo>
                <a:lnTo>
                  <a:pt x="20132" y="15395"/>
                </a:lnTo>
                <a:lnTo>
                  <a:pt x="20041" y="15471"/>
                </a:lnTo>
                <a:lnTo>
                  <a:pt x="19961" y="15532"/>
                </a:lnTo>
                <a:lnTo>
                  <a:pt x="19858" y="15593"/>
                </a:lnTo>
                <a:lnTo>
                  <a:pt x="19754" y="15624"/>
                </a:lnTo>
                <a:lnTo>
                  <a:pt x="19640" y="15654"/>
                </a:lnTo>
                <a:lnTo>
                  <a:pt x="19525" y="15654"/>
                </a:lnTo>
                <a:lnTo>
                  <a:pt x="19411" y="15654"/>
                </a:lnTo>
                <a:lnTo>
                  <a:pt x="19296" y="15654"/>
                </a:lnTo>
                <a:lnTo>
                  <a:pt x="19182" y="15624"/>
                </a:lnTo>
                <a:lnTo>
                  <a:pt x="19078" y="15593"/>
                </a:lnTo>
                <a:lnTo>
                  <a:pt x="19078" y="15593"/>
                </a:lnTo>
                <a:lnTo>
                  <a:pt x="19033" y="16035"/>
                </a:lnTo>
                <a:lnTo>
                  <a:pt x="19021" y="16264"/>
                </a:lnTo>
                <a:lnTo>
                  <a:pt x="18975" y="16462"/>
                </a:lnTo>
                <a:lnTo>
                  <a:pt x="18941" y="16691"/>
                </a:lnTo>
                <a:lnTo>
                  <a:pt x="18895" y="16874"/>
                </a:lnTo>
                <a:lnTo>
                  <a:pt x="18838" y="17057"/>
                </a:lnTo>
                <a:lnTo>
                  <a:pt x="18781" y="17240"/>
                </a:lnTo>
                <a:lnTo>
                  <a:pt x="18712" y="17407"/>
                </a:lnTo>
                <a:lnTo>
                  <a:pt x="18632" y="17560"/>
                </a:lnTo>
                <a:lnTo>
                  <a:pt x="18528" y="17712"/>
                </a:lnTo>
                <a:lnTo>
                  <a:pt x="18425" y="17819"/>
                </a:lnTo>
                <a:lnTo>
                  <a:pt x="18299" y="17941"/>
                </a:lnTo>
                <a:lnTo>
                  <a:pt x="18162" y="18032"/>
                </a:lnTo>
                <a:lnTo>
                  <a:pt x="18013" y="18108"/>
                </a:lnTo>
                <a:lnTo>
                  <a:pt x="17841" y="18169"/>
                </a:lnTo>
                <a:lnTo>
                  <a:pt x="17841" y="18169"/>
                </a:lnTo>
                <a:lnTo>
                  <a:pt x="17807" y="18230"/>
                </a:lnTo>
                <a:lnTo>
                  <a:pt x="17761" y="18261"/>
                </a:lnTo>
                <a:lnTo>
                  <a:pt x="17726" y="18337"/>
                </a:lnTo>
                <a:lnTo>
                  <a:pt x="17715" y="18398"/>
                </a:lnTo>
                <a:lnTo>
                  <a:pt x="17692" y="18505"/>
                </a:lnTo>
                <a:lnTo>
                  <a:pt x="17680" y="18642"/>
                </a:lnTo>
                <a:lnTo>
                  <a:pt x="17658" y="18764"/>
                </a:lnTo>
                <a:lnTo>
                  <a:pt x="17635" y="18825"/>
                </a:lnTo>
                <a:lnTo>
                  <a:pt x="17612" y="18886"/>
                </a:lnTo>
                <a:lnTo>
                  <a:pt x="17589" y="18947"/>
                </a:lnTo>
                <a:lnTo>
                  <a:pt x="17531" y="19008"/>
                </a:lnTo>
                <a:lnTo>
                  <a:pt x="17486" y="19054"/>
                </a:lnTo>
                <a:lnTo>
                  <a:pt x="17428" y="19115"/>
                </a:lnTo>
                <a:lnTo>
                  <a:pt x="17428" y="19115"/>
                </a:lnTo>
                <a:lnTo>
                  <a:pt x="17188" y="18947"/>
                </a:lnTo>
                <a:lnTo>
                  <a:pt x="17130" y="18901"/>
                </a:lnTo>
                <a:lnTo>
                  <a:pt x="17119" y="18871"/>
                </a:lnTo>
                <a:lnTo>
                  <a:pt x="17108" y="18856"/>
                </a:lnTo>
                <a:lnTo>
                  <a:pt x="17119" y="18825"/>
                </a:lnTo>
                <a:lnTo>
                  <a:pt x="17130" y="18795"/>
                </a:lnTo>
                <a:lnTo>
                  <a:pt x="17188" y="18718"/>
                </a:lnTo>
                <a:lnTo>
                  <a:pt x="17268" y="18596"/>
                </a:lnTo>
                <a:lnTo>
                  <a:pt x="17371" y="18429"/>
                </a:lnTo>
                <a:lnTo>
                  <a:pt x="17371" y="18429"/>
                </a:lnTo>
                <a:lnTo>
                  <a:pt x="17291" y="18459"/>
                </a:lnTo>
                <a:lnTo>
                  <a:pt x="17222" y="18490"/>
                </a:lnTo>
                <a:lnTo>
                  <a:pt x="17165" y="18505"/>
                </a:lnTo>
                <a:lnTo>
                  <a:pt x="17096" y="18551"/>
                </a:lnTo>
                <a:lnTo>
                  <a:pt x="17073" y="18596"/>
                </a:lnTo>
                <a:lnTo>
                  <a:pt x="17027" y="18657"/>
                </a:lnTo>
                <a:lnTo>
                  <a:pt x="16970" y="18749"/>
                </a:lnTo>
                <a:lnTo>
                  <a:pt x="16924" y="18871"/>
                </a:lnTo>
                <a:lnTo>
                  <a:pt x="16878" y="19008"/>
                </a:lnTo>
                <a:lnTo>
                  <a:pt x="16832" y="19069"/>
                </a:lnTo>
                <a:lnTo>
                  <a:pt x="16786" y="19130"/>
                </a:lnTo>
                <a:lnTo>
                  <a:pt x="16729" y="19206"/>
                </a:lnTo>
                <a:lnTo>
                  <a:pt x="16661" y="19267"/>
                </a:lnTo>
                <a:lnTo>
                  <a:pt x="16661" y="19267"/>
                </a:lnTo>
                <a:lnTo>
                  <a:pt x="16592" y="19328"/>
                </a:lnTo>
                <a:lnTo>
                  <a:pt x="16523" y="19374"/>
                </a:lnTo>
                <a:lnTo>
                  <a:pt x="16454" y="19420"/>
                </a:lnTo>
                <a:lnTo>
                  <a:pt x="16397" y="19435"/>
                </a:lnTo>
                <a:lnTo>
                  <a:pt x="16340" y="19435"/>
                </a:lnTo>
                <a:lnTo>
                  <a:pt x="16305" y="19435"/>
                </a:lnTo>
                <a:lnTo>
                  <a:pt x="16248" y="19404"/>
                </a:lnTo>
                <a:lnTo>
                  <a:pt x="16202" y="19374"/>
                </a:lnTo>
                <a:lnTo>
                  <a:pt x="16111" y="19313"/>
                </a:lnTo>
                <a:lnTo>
                  <a:pt x="16007" y="19252"/>
                </a:lnTo>
                <a:lnTo>
                  <a:pt x="15893" y="19176"/>
                </a:lnTo>
                <a:lnTo>
                  <a:pt x="15836" y="19145"/>
                </a:lnTo>
                <a:lnTo>
                  <a:pt x="15755" y="19115"/>
                </a:lnTo>
                <a:lnTo>
                  <a:pt x="15755" y="19115"/>
                </a:lnTo>
                <a:lnTo>
                  <a:pt x="15687" y="19115"/>
                </a:lnTo>
                <a:lnTo>
                  <a:pt x="15606" y="19115"/>
                </a:lnTo>
                <a:lnTo>
                  <a:pt x="15560" y="19115"/>
                </a:lnTo>
                <a:lnTo>
                  <a:pt x="15503" y="19130"/>
                </a:lnTo>
                <a:lnTo>
                  <a:pt x="15457" y="19145"/>
                </a:lnTo>
                <a:lnTo>
                  <a:pt x="15411" y="19191"/>
                </a:lnTo>
                <a:lnTo>
                  <a:pt x="15377" y="19222"/>
                </a:lnTo>
                <a:lnTo>
                  <a:pt x="15366" y="19267"/>
                </a:lnTo>
                <a:lnTo>
                  <a:pt x="15331" y="19313"/>
                </a:lnTo>
                <a:lnTo>
                  <a:pt x="15308" y="19374"/>
                </a:lnTo>
                <a:lnTo>
                  <a:pt x="15297" y="19496"/>
                </a:lnTo>
                <a:lnTo>
                  <a:pt x="15274" y="19633"/>
                </a:lnTo>
                <a:lnTo>
                  <a:pt x="15262" y="19770"/>
                </a:lnTo>
                <a:lnTo>
                  <a:pt x="15251" y="20029"/>
                </a:lnTo>
                <a:lnTo>
                  <a:pt x="15228" y="20166"/>
                </a:lnTo>
                <a:lnTo>
                  <a:pt x="15217" y="20288"/>
                </a:lnTo>
                <a:lnTo>
                  <a:pt x="15194" y="20319"/>
                </a:lnTo>
                <a:lnTo>
                  <a:pt x="15171" y="20365"/>
                </a:lnTo>
                <a:lnTo>
                  <a:pt x="15159" y="20410"/>
                </a:lnTo>
                <a:lnTo>
                  <a:pt x="15114" y="20441"/>
                </a:lnTo>
                <a:lnTo>
                  <a:pt x="15079" y="20471"/>
                </a:lnTo>
                <a:lnTo>
                  <a:pt x="15033" y="20486"/>
                </a:lnTo>
                <a:lnTo>
                  <a:pt x="14976" y="20486"/>
                </a:lnTo>
                <a:lnTo>
                  <a:pt x="14930" y="20486"/>
                </a:lnTo>
                <a:lnTo>
                  <a:pt x="14930" y="20486"/>
                </a:lnTo>
                <a:lnTo>
                  <a:pt x="14724" y="20471"/>
                </a:lnTo>
                <a:lnTo>
                  <a:pt x="14518" y="20471"/>
                </a:lnTo>
                <a:lnTo>
                  <a:pt x="14312" y="20486"/>
                </a:lnTo>
                <a:lnTo>
                  <a:pt x="14105" y="20517"/>
                </a:lnTo>
                <a:lnTo>
                  <a:pt x="13899" y="20547"/>
                </a:lnTo>
                <a:lnTo>
                  <a:pt x="13704" y="20593"/>
                </a:lnTo>
                <a:lnTo>
                  <a:pt x="13292" y="20700"/>
                </a:lnTo>
                <a:lnTo>
                  <a:pt x="13292" y="20700"/>
                </a:lnTo>
                <a:lnTo>
                  <a:pt x="13154" y="20746"/>
                </a:lnTo>
                <a:lnTo>
                  <a:pt x="13051" y="20776"/>
                </a:lnTo>
                <a:lnTo>
                  <a:pt x="12959" y="20822"/>
                </a:lnTo>
                <a:lnTo>
                  <a:pt x="12879" y="20868"/>
                </a:lnTo>
                <a:lnTo>
                  <a:pt x="12822" y="20944"/>
                </a:lnTo>
                <a:lnTo>
                  <a:pt x="12753" y="21035"/>
                </a:lnTo>
                <a:lnTo>
                  <a:pt x="12581" y="21340"/>
                </a:lnTo>
                <a:lnTo>
                  <a:pt x="12581" y="21340"/>
                </a:lnTo>
                <a:lnTo>
                  <a:pt x="12432" y="21203"/>
                </a:lnTo>
                <a:lnTo>
                  <a:pt x="12295" y="21112"/>
                </a:lnTo>
                <a:lnTo>
                  <a:pt x="12238" y="21081"/>
                </a:lnTo>
                <a:lnTo>
                  <a:pt x="12192" y="21081"/>
                </a:lnTo>
                <a:lnTo>
                  <a:pt x="12146" y="21081"/>
                </a:lnTo>
                <a:lnTo>
                  <a:pt x="12111" y="21081"/>
                </a:lnTo>
                <a:lnTo>
                  <a:pt x="12089" y="21112"/>
                </a:lnTo>
                <a:lnTo>
                  <a:pt x="12065" y="21157"/>
                </a:lnTo>
                <a:lnTo>
                  <a:pt x="12054" y="21188"/>
                </a:lnTo>
                <a:lnTo>
                  <a:pt x="12043" y="21264"/>
                </a:lnTo>
                <a:lnTo>
                  <a:pt x="12031" y="21325"/>
                </a:lnTo>
                <a:lnTo>
                  <a:pt x="12043" y="21417"/>
                </a:lnTo>
                <a:lnTo>
                  <a:pt x="12077" y="21600"/>
                </a:lnTo>
                <a:lnTo>
                  <a:pt x="12077" y="21600"/>
                </a:lnTo>
                <a:lnTo>
                  <a:pt x="11997" y="21600"/>
                </a:lnTo>
                <a:lnTo>
                  <a:pt x="11905" y="21569"/>
                </a:lnTo>
                <a:lnTo>
                  <a:pt x="11825" y="21539"/>
                </a:lnTo>
                <a:lnTo>
                  <a:pt x="11722" y="21493"/>
                </a:lnTo>
                <a:lnTo>
                  <a:pt x="11642" y="21432"/>
                </a:lnTo>
                <a:lnTo>
                  <a:pt x="11550" y="21340"/>
                </a:lnTo>
                <a:lnTo>
                  <a:pt x="11458" y="21279"/>
                </a:lnTo>
                <a:lnTo>
                  <a:pt x="11366" y="21188"/>
                </a:lnTo>
                <a:lnTo>
                  <a:pt x="11298" y="21096"/>
                </a:lnTo>
                <a:lnTo>
                  <a:pt x="11217" y="21020"/>
                </a:lnTo>
                <a:lnTo>
                  <a:pt x="11149" y="20913"/>
                </a:lnTo>
                <a:lnTo>
                  <a:pt x="11103" y="20822"/>
                </a:lnTo>
                <a:lnTo>
                  <a:pt x="11069" y="20730"/>
                </a:lnTo>
                <a:lnTo>
                  <a:pt x="11034" y="20624"/>
                </a:lnTo>
                <a:lnTo>
                  <a:pt x="11023" y="20547"/>
                </a:lnTo>
                <a:lnTo>
                  <a:pt x="11034" y="20471"/>
                </a:lnTo>
                <a:close/>
                <a:moveTo>
                  <a:pt x="8513" y="20929"/>
                </a:moveTo>
                <a:lnTo>
                  <a:pt x="8513" y="20929"/>
                </a:lnTo>
                <a:lnTo>
                  <a:pt x="8662" y="20471"/>
                </a:lnTo>
                <a:lnTo>
                  <a:pt x="8662" y="20471"/>
                </a:lnTo>
                <a:lnTo>
                  <a:pt x="8559" y="20502"/>
                </a:lnTo>
                <a:lnTo>
                  <a:pt x="8433" y="20502"/>
                </a:lnTo>
                <a:lnTo>
                  <a:pt x="8330" y="20502"/>
                </a:lnTo>
                <a:lnTo>
                  <a:pt x="8227" y="20486"/>
                </a:lnTo>
                <a:lnTo>
                  <a:pt x="8101" y="20456"/>
                </a:lnTo>
                <a:lnTo>
                  <a:pt x="8009" y="20426"/>
                </a:lnTo>
                <a:lnTo>
                  <a:pt x="7791" y="20334"/>
                </a:lnTo>
                <a:lnTo>
                  <a:pt x="7574" y="20243"/>
                </a:lnTo>
                <a:lnTo>
                  <a:pt x="7356" y="20151"/>
                </a:lnTo>
                <a:lnTo>
                  <a:pt x="7264" y="20121"/>
                </a:lnTo>
                <a:lnTo>
                  <a:pt x="7150" y="20090"/>
                </a:lnTo>
                <a:lnTo>
                  <a:pt x="7035" y="20060"/>
                </a:lnTo>
                <a:lnTo>
                  <a:pt x="6921" y="20060"/>
                </a:lnTo>
                <a:lnTo>
                  <a:pt x="6921" y="20060"/>
                </a:lnTo>
                <a:lnTo>
                  <a:pt x="6921" y="20136"/>
                </a:lnTo>
                <a:lnTo>
                  <a:pt x="6932" y="20212"/>
                </a:lnTo>
                <a:lnTo>
                  <a:pt x="6932" y="20288"/>
                </a:lnTo>
                <a:lnTo>
                  <a:pt x="6955" y="20334"/>
                </a:lnTo>
                <a:lnTo>
                  <a:pt x="7012" y="20471"/>
                </a:lnTo>
                <a:lnTo>
                  <a:pt x="7070" y="20563"/>
                </a:lnTo>
                <a:lnTo>
                  <a:pt x="7161" y="20669"/>
                </a:lnTo>
                <a:lnTo>
                  <a:pt x="7264" y="20746"/>
                </a:lnTo>
                <a:lnTo>
                  <a:pt x="7367" y="20807"/>
                </a:lnTo>
                <a:lnTo>
                  <a:pt x="7493" y="20837"/>
                </a:lnTo>
                <a:lnTo>
                  <a:pt x="7620" y="20898"/>
                </a:lnTo>
                <a:lnTo>
                  <a:pt x="7746" y="20929"/>
                </a:lnTo>
                <a:lnTo>
                  <a:pt x="7872" y="20944"/>
                </a:lnTo>
                <a:lnTo>
                  <a:pt x="8009" y="20959"/>
                </a:lnTo>
                <a:lnTo>
                  <a:pt x="8273" y="20959"/>
                </a:lnTo>
                <a:lnTo>
                  <a:pt x="8513" y="20929"/>
                </a:lnTo>
                <a:close/>
                <a:moveTo>
                  <a:pt x="12581" y="20471"/>
                </a:moveTo>
                <a:lnTo>
                  <a:pt x="12581" y="20471"/>
                </a:lnTo>
                <a:lnTo>
                  <a:pt x="12581" y="20410"/>
                </a:lnTo>
                <a:lnTo>
                  <a:pt x="12570" y="20380"/>
                </a:lnTo>
                <a:lnTo>
                  <a:pt x="12524" y="20319"/>
                </a:lnTo>
                <a:lnTo>
                  <a:pt x="12455" y="20243"/>
                </a:lnTo>
                <a:lnTo>
                  <a:pt x="12363" y="20166"/>
                </a:lnTo>
                <a:lnTo>
                  <a:pt x="12272" y="20105"/>
                </a:lnTo>
                <a:lnTo>
                  <a:pt x="12146" y="20029"/>
                </a:lnTo>
                <a:lnTo>
                  <a:pt x="11871" y="19923"/>
                </a:lnTo>
                <a:lnTo>
                  <a:pt x="11584" y="19801"/>
                </a:lnTo>
                <a:lnTo>
                  <a:pt x="11309" y="19724"/>
                </a:lnTo>
                <a:lnTo>
                  <a:pt x="11092" y="19633"/>
                </a:lnTo>
                <a:lnTo>
                  <a:pt x="10931" y="19572"/>
                </a:lnTo>
                <a:lnTo>
                  <a:pt x="10931" y="19572"/>
                </a:lnTo>
                <a:lnTo>
                  <a:pt x="10954" y="19755"/>
                </a:lnTo>
                <a:lnTo>
                  <a:pt x="11011" y="19892"/>
                </a:lnTo>
                <a:lnTo>
                  <a:pt x="11057" y="20029"/>
                </a:lnTo>
                <a:lnTo>
                  <a:pt x="11126" y="20136"/>
                </a:lnTo>
                <a:lnTo>
                  <a:pt x="11195" y="20227"/>
                </a:lnTo>
                <a:lnTo>
                  <a:pt x="11286" y="20288"/>
                </a:lnTo>
                <a:lnTo>
                  <a:pt x="11366" y="20334"/>
                </a:lnTo>
                <a:lnTo>
                  <a:pt x="11481" y="20395"/>
                </a:lnTo>
                <a:lnTo>
                  <a:pt x="11584" y="20410"/>
                </a:lnTo>
                <a:lnTo>
                  <a:pt x="11699" y="20441"/>
                </a:lnTo>
                <a:lnTo>
                  <a:pt x="11916" y="20456"/>
                </a:lnTo>
                <a:lnTo>
                  <a:pt x="12157" y="20456"/>
                </a:lnTo>
                <a:lnTo>
                  <a:pt x="12398" y="20456"/>
                </a:lnTo>
                <a:lnTo>
                  <a:pt x="12398" y="20456"/>
                </a:lnTo>
                <a:lnTo>
                  <a:pt x="12581" y="20471"/>
                </a:lnTo>
                <a:close/>
                <a:moveTo>
                  <a:pt x="9487" y="19892"/>
                </a:moveTo>
                <a:lnTo>
                  <a:pt x="9487" y="19892"/>
                </a:lnTo>
                <a:lnTo>
                  <a:pt x="9591" y="19968"/>
                </a:lnTo>
                <a:lnTo>
                  <a:pt x="9751" y="20044"/>
                </a:lnTo>
                <a:lnTo>
                  <a:pt x="9911" y="20136"/>
                </a:lnTo>
                <a:lnTo>
                  <a:pt x="10083" y="20227"/>
                </a:lnTo>
                <a:lnTo>
                  <a:pt x="10163" y="20258"/>
                </a:lnTo>
                <a:lnTo>
                  <a:pt x="10255" y="20288"/>
                </a:lnTo>
                <a:lnTo>
                  <a:pt x="10347" y="20288"/>
                </a:lnTo>
                <a:lnTo>
                  <a:pt x="10416" y="20288"/>
                </a:lnTo>
                <a:lnTo>
                  <a:pt x="10484" y="20288"/>
                </a:lnTo>
                <a:lnTo>
                  <a:pt x="10541" y="20243"/>
                </a:lnTo>
                <a:lnTo>
                  <a:pt x="10587" y="20197"/>
                </a:lnTo>
                <a:lnTo>
                  <a:pt x="10633" y="20121"/>
                </a:lnTo>
                <a:lnTo>
                  <a:pt x="10633" y="20121"/>
                </a:lnTo>
                <a:lnTo>
                  <a:pt x="10645" y="19984"/>
                </a:lnTo>
                <a:lnTo>
                  <a:pt x="10645" y="19801"/>
                </a:lnTo>
                <a:lnTo>
                  <a:pt x="10622" y="19633"/>
                </a:lnTo>
                <a:lnTo>
                  <a:pt x="10599" y="19542"/>
                </a:lnTo>
                <a:lnTo>
                  <a:pt x="10576" y="19481"/>
                </a:lnTo>
                <a:lnTo>
                  <a:pt x="10553" y="19420"/>
                </a:lnTo>
                <a:lnTo>
                  <a:pt x="10519" y="19374"/>
                </a:lnTo>
                <a:lnTo>
                  <a:pt x="10473" y="19328"/>
                </a:lnTo>
                <a:lnTo>
                  <a:pt x="10427" y="19313"/>
                </a:lnTo>
                <a:lnTo>
                  <a:pt x="10358" y="19313"/>
                </a:lnTo>
                <a:lnTo>
                  <a:pt x="10312" y="19328"/>
                </a:lnTo>
                <a:lnTo>
                  <a:pt x="10232" y="19374"/>
                </a:lnTo>
                <a:lnTo>
                  <a:pt x="10152" y="19450"/>
                </a:lnTo>
                <a:lnTo>
                  <a:pt x="10152" y="19450"/>
                </a:lnTo>
                <a:lnTo>
                  <a:pt x="10186" y="19542"/>
                </a:lnTo>
                <a:lnTo>
                  <a:pt x="10198" y="19663"/>
                </a:lnTo>
                <a:lnTo>
                  <a:pt x="10186" y="19770"/>
                </a:lnTo>
                <a:lnTo>
                  <a:pt x="10163" y="19846"/>
                </a:lnTo>
                <a:lnTo>
                  <a:pt x="10152" y="19923"/>
                </a:lnTo>
                <a:lnTo>
                  <a:pt x="10118" y="19984"/>
                </a:lnTo>
                <a:lnTo>
                  <a:pt x="10083" y="20029"/>
                </a:lnTo>
                <a:lnTo>
                  <a:pt x="10026" y="20044"/>
                </a:lnTo>
                <a:lnTo>
                  <a:pt x="9991" y="20044"/>
                </a:lnTo>
                <a:lnTo>
                  <a:pt x="9957" y="20014"/>
                </a:lnTo>
                <a:lnTo>
                  <a:pt x="9923" y="19968"/>
                </a:lnTo>
                <a:lnTo>
                  <a:pt x="9889" y="19877"/>
                </a:lnTo>
                <a:lnTo>
                  <a:pt x="9877" y="19755"/>
                </a:lnTo>
                <a:lnTo>
                  <a:pt x="9865" y="19603"/>
                </a:lnTo>
                <a:lnTo>
                  <a:pt x="9877" y="19404"/>
                </a:lnTo>
                <a:lnTo>
                  <a:pt x="9911" y="19176"/>
                </a:lnTo>
                <a:lnTo>
                  <a:pt x="9911" y="19176"/>
                </a:lnTo>
                <a:lnTo>
                  <a:pt x="9820" y="19145"/>
                </a:lnTo>
                <a:lnTo>
                  <a:pt x="9740" y="19130"/>
                </a:lnTo>
                <a:lnTo>
                  <a:pt x="9648" y="19115"/>
                </a:lnTo>
                <a:lnTo>
                  <a:pt x="9567" y="19130"/>
                </a:lnTo>
                <a:lnTo>
                  <a:pt x="9361" y="19161"/>
                </a:lnTo>
                <a:lnTo>
                  <a:pt x="9155" y="19206"/>
                </a:lnTo>
                <a:lnTo>
                  <a:pt x="8960" y="19237"/>
                </a:lnTo>
                <a:lnTo>
                  <a:pt x="8788" y="19252"/>
                </a:lnTo>
                <a:lnTo>
                  <a:pt x="8697" y="19252"/>
                </a:lnTo>
                <a:lnTo>
                  <a:pt x="8616" y="19237"/>
                </a:lnTo>
                <a:lnTo>
                  <a:pt x="8559" y="19206"/>
                </a:lnTo>
                <a:lnTo>
                  <a:pt x="8502" y="19176"/>
                </a:lnTo>
                <a:lnTo>
                  <a:pt x="8502" y="19176"/>
                </a:lnTo>
                <a:lnTo>
                  <a:pt x="7963" y="18688"/>
                </a:lnTo>
                <a:lnTo>
                  <a:pt x="7654" y="18413"/>
                </a:lnTo>
                <a:lnTo>
                  <a:pt x="7344" y="18139"/>
                </a:lnTo>
                <a:lnTo>
                  <a:pt x="7024" y="17895"/>
                </a:lnTo>
                <a:lnTo>
                  <a:pt x="6863" y="17773"/>
                </a:lnTo>
                <a:lnTo>
                  <a:pt x="6703" y="17682"/>
                </a:lnTo>
                <a:lnTo>
                  <a:pt x="6543" y="17590"/>
                </a:lnTo>
                <a:lnTo>
                  <a:pt x="6394" y="17514"/>
                </a:lnTo>
                <a:lnTo>
                  <a:pt x="6245" y="17453"/>
                </a:lnTo>
                <a:lnTo>
                  <a:pt x="6096" y="17423"/>
                </a:lnTo>
                <a:lnTo>
                  <a:pt x="6096" y="17423"/>
                </a:lnTo>
                <a:lnTo>
                  <a:pt x="6107" y="17590"/>
                </a:lnTo>
                <a:lnTo>
                  <a:pt x="6130" y="17727"/>
                </a:lnTo>
                <a:lnTo>
                  <a:pt x="6164" y="17865"/>
                </a:lnTo>
                <a:lnTo>
                  <a:pt x="6221" y="17987"/>
                </a:lnTo>
                <a:lnTo>
                  <a:pt x="6267" y="18093"/>
                </a:lnTo>
                <a:lnTo>
                  <a:pt x="6313" y="18200"/>
                </a:lnTo>
                <a:lnTo>
                  <a:pt x="6428" y="18368"/>
                </a:lnTo>
                <a:lnTo>
                  <a:pt x="6474" y="18474"/>
                </a:lnTo>
                <a:lnTo>
                  <a:pt x="6496" y="18551"/>
                </a:lnTo>
                <a:lnTo>
                  <a:pt x="6519" y="18657"/>
                </a:lnTo>
                <a:lnTo>
                  <a:pt x="6519" y="18749"/>
                </a:lnTo>
                <a:lnTo>
                  <a:pt x="6496" y="18871"/>
                </a:lnTo>
                <a:lnTo>
                  <a:pt x="6474" y="19008"/>
                </a:lnTo>
                <a:lnTo>
                  <a:pt x="6394" y="19145"/>
                </a:lnTo>
                <a:lnTo>
                  <a:pt x="6302" y="19298"/>
                </a:lnTo>
                <a:lnTo>
                  <a:pt x="6302" y="19298"/>
                </a:lnTo>
                <a:lnTo>
                  <a:pt x="6394" y="19450"/>
                </a:lnTo>
                <a:lnTo>
                  <a:pt x="6496" y="19542"/>
                </a:lnTo>
                <a:lnTo>
                  <a:pt x="6577" y="19633"/>
                </a:lnTo>
                <a:lnTo>
                  <a:pt x="6657" y="19724"/>
                </a:lnTo>
                <a:lnTo>
                  <a:pt x="6737" y="19770"/>
                </a:lnTo>
                <a:lnTo>
                  <a:pt x="6829" y="19801"/>
                </a:lnTo>
                <a:lnTo>
                  <a:pt x="6909" y="19846"/>
                </a:lnTo>
                <a:lnTo>
                  <a:pt x="7001" y="19877"/>
                </a:lnTo>
                <a:lnTo>
                  <a:pt x="7173" y="19892"/>
                </a:lnTo>
                <a:lnTo>
                  <a:pt x="7367" y="19938"/>
                </a:lnTo>
                <a:lnTo>
                  <a:pt x="7585" y="19984"/>
                </a:lnTo>
                <a:lnTo>
                  <a:pt x="7711" y="20014"/>
                </a:lnTo>
                <a:lnTo>
                  <a:pt x="7837" y="20060"/>
                </a:lnTo>
                <a:lnTo>
                  <a:pt x="7837" y="20060"/>
                </a:lnTo>
                <a:lnTo>
                  <a:pt x="7929" y="20075"/>
                </a:lnTo>
                <a:lnTo>
                  <a:pt x="8032" y="20105"/>
                </a:lnTo>
                <a:lnTo>
                  <a:pt x="8124" y="20105"/>
                </a:lnTo>
                <a:lnTo>
                  <a:pt x="8227" y="20105"/>
                </a:lnTo>
                <a:lnTo>
                  <a:pt x="8296" y="20090"/>
                </a:lnTo>
                <a:lnTo>
                  <a:pt x="8387" y="20060"/>
                </a:lnTo>
                <a:lnTo>
                  <a:pt x="8548" y="20029"/>
                </a:lnTo>
                <a:lnTo>
                  <a:pt x="8857" y="19892"/>
                </a:lnTo>
                <a:lnTo>
                  <a:pt x="9006" y="19831"/>
                </a:lnTo>
                <a:lnTo>
                  <a:pt x="9098" y="19816"/>
                </a:lnTo>
                <a:lnTo>
                  <a:pt x="9189" y="19816"/>
                </a:lnTo>
                <a:lnTo>
                  <a:pt x="9189" y="19816"/>
                </a:lnTo>
                <a:lnTo>
                  <a:pt x="9258" y="19816"/>
                </a:lnTo>
                <a:lnTo>
                  <a:pt x="9338" y="19831"/>
                </a:lnTo>
                <a:lnTo>
                  <a:pt x="9407" y="19862"/>
                </a:lnTo>
                <a:lnTo>
                  <a:pt x="9487" y="19892"/>
                </a:lnTo>
                <a:close/>
                <a:moveTo>
                  <a:pt x="13509" y="20121"/>
                </a:moveTo>
                <a:lnTo>
                  <a:pt x="13509" y="20121"/>
                </a:lnTo>
                <a:lnTo>
                  <a:pt x="13544" y="20060"/>
                </a:lnTo>
                <a:lnTo>
                  <a:pt x="13555" y="20060"/>
                </a:lnTo>
                <a:lnTo>
                  <a:pt x="13532" y="20044"/>
                </a:lnTo>
                <a:lnTo>
                  <a:pt x="13509" y="19984"/>
                </a:lnTo>
                <a:lnTo>
                  <a:pt x="13509" y="19984"/>
                </a:lnTo>
                <a:lnTo>
                  <a:pt x="13509" y="20121"/>
                </a:lnTo>
                <a:close/>
                <a:moveTo>
                  <a:pt x="5568" y="20121"/>
                </a:moveTo>
                <a:lnTo>
                  <a:pt x="5568" y="20121"/>
                </a:lnTo>
                <a:lnTo>
                  <a:pt x="5637" y="20075"/>
                </a:lnTo>
                <a:lnTo>
                  <a:pt x="5649" y="20060"/>
                </a:lnTo>
                <a:lnTo>
                  <a:pt x="5649" y="20060"/>
                </a:lnTo>
                <a:lnTo>
                  <a:pt x="5637" y="19984"/>
                </a:lnTo>
                <a:lnTo>
                  <a:pt x="5637" y="19984"/>
                </a:lnTo>
                <a:lnTo>
                  <a:pt x="5568" y="20121"/>
                </a:lnTo>
                <a:close/>
                <a:moveTo>
                  <a:pt x="13979" y="20060"/>
                </a:moveTo>
                <a:lnTo>
                  <a:pt x="13979" y="20060"/>
                </a:lnTo>
                <a:lnTo>
                  <a:pt x="14082" y="20029"/>
                </a:lnTo>
                <a:lnTo>
                  <a:pt x="14197" y="19984"/>
                </a:lnTo>
                <a:lnTo>
                  <a:pt x="14289" y="19923"/>
                </a:lnTo>
                <a:lnTo>
                  <a:pt x="14392" y="19862"/>
                </a:lnTo>
                <a:lnTo>
                  <a:pt x="14483" y="19785"/>
                </a:lnTo>
                <a:lnTo>
                  <a:pt x="14563" y="19709"/>
                </a:lnTo>
                <a:lnTo>
                  <a:pt x="14632" y="19618"/>
                </a:lnTo>
                <a:lnTo>
                  <a:pt x="14701" y="19526"/>
                </a:lnTo>
                <a:lnTo>
                  <a:pt x="14759" y="19435"/>
                </a:lnTo>
                <a:lnTo>
                  <a:pt x="14793" y="19313"/>
                </a:lnTo>
                <a:lnTo>
                  <a:pt x="14816" y="19206"/>
                </a:lnTo>
                <a:lnTo>
                  <a:pt x="14827" y="19100"/>
                </a:lnTo>
                <a:lnTo>
                  <a:pt x="14827" y="18993"/>
                </a:lnTo>
                <a:lnTo>
                  <a:pt x="14793" y="18871"/>
                </a:lnTo>
                <a:lnTo>
                  <a:pt x="14770" y="18749"/>
                </a:lnTo>
                <a:lnTo>
                  <a:pt x="14701" y="18627"/>
                </a:lnTo>
                <a:lnTo>
                  <a:pt x="14701" y="18627"/>
                </a:lnTo>
                <a:lnTo>
                  <a:pt x="14678" y="18749"/>
                </a:lnTo>
                <a:lnTo>
                  <a:pt x="14655" y="18856"/>
                </a:lnTo>
                <a:lnTo>
                  <a:pt x="14632" y="18962"/>
                </a:lnTo>
                <a:lnTo>
                  <a:pt x="14598" y="19054"/>
                </a:lnTo>
                <a:lnTo>
                  <a:pt x="14518" y="19252"/>
                </a:lnTo>
                <a:lnTo>
                  <a:pt x="14415" y="19404"/>
                </a:lnTo>
                <a:lnTo>
                  <a:pt x="14300" y="19557"/>
                </a:lnTo>
                <a:lnTo>
                  <a:pt x="14208" y="19724"/>
                </a:lnTo>
                <a:lnTo>
                  <a:pt x="14082" y="19892"/>
                </a:lnTo>
                <a:lnTo>
                  <a:pt x="13979" y="20060"/>
                </a:lnTo>
                <a:close/>
                <a:moveTo>
                  <a:pt x="13246" y="19984"/>
                </a:moveTo>
                <a:lnTo>
                  <a:pt x="13246" y="19984"/>
                </a:lnTo>
                <a:lnTo>
                  <a:pt x="13337" y="19877"/>
                </a:lnTo>
                <a:lnTo>
                  <a:pt x="13349" y="19846"/>
                </a:lnTo>
                <a:lnTo>
                  <a:pt x="13349" y="19831"/>
                </a:lnTo>
                <a:lnTo>
                  <a:pt x="13349" y="19831"/>
                </a:lnTo>
                <a:lnTo>
                  <a:pt x="13303" y="19892"/>
                </a:lnTo>
                <a:lnTo>
                  <a:pt x="13280" y="19938"/>
                </a:lnTo>
                <a:lnTo>
                  <a:pt x="13246" y="19984"/>
                </a:lnTo>
                <a:close/>
                <a:moveTo>
                  <a:pt x="4445" y="18764"/>
                </a:moveTo>
                <a:lnTo>
                  <a:pt x="4445" y="18764"/>
                </a:lnTo>
                <a:lnTo>
                  <a:pt x="4445" y="19298"/>
                </a:lnTo>
                <a:lnTo>
                  <a:pt x="4445" y="19298"/>
                </a:lnTo>
                <a:lnTo>
                  <a:pt x="4503" y="19328"/>
                </a:lnTo>
                <a:lnTo>
                  <a:pt x="4560" y="19374"/>
                </a:lnTo>
                <a:lnTo>
                  <a:pt x="4721" y="19526"/>
                </a:lnTo>
                <a:lnTo>
                  <a:pt x="4915" y="19694"/>
                </a:lnTo>
                <a:lnTo>
                  <a:pt x="4995" y="19770"/>
                </a:lnTo>
                <a:lnTo>
                  <a:pt x="5099" y="19846"/>
                </a:lnTo>
                <a:lnTo>
                  <a:pt x="5190" y="19892"/>
                </a:lnTo>
                <a:lnTo>
                  <a:pt x="5293" y="19953"/>
                </a:lnTo>
                <a:lnTo>
                  <a:pt x="5351" y="19968"/>
                </a:lnTo>
                <a:lnTo>
                  <a:pt x="5397" y="19968"/>
                </a:lnTo>
                <a:lnTo>
                  <a:pt x="5431" y="19953"/>
                </a:lnTo>
                <a:lnTo>
                  <a:pt x="5465" y="19923"/>
                </a:lnTo>
                <a:lnTo>
                  <a:pt x="5500" y="19892"/>
                </a:lnTo>
                <a:lnTo>
                  <a:pt x="5522" y="19862"/>
                </a:lnTo>
                <a:lnTo>
                  <a:pt x="5534" y="19801"/>
                </a:lnTo>
                <a:lnTo>
                  <a:pt x="5557" y="19770"/>
                </a:lnTo>
                <a:lnTo>
                  <a:pt x="5568" y="19694"/>
                </a:lnTo>
                <a:lnTo>
                  <a:pt x="5568" y="19603"/>
                </a:lnTo>
                <a:lnTo>
                  <a:pt x="5568" y="19511"/>
                </a:lnTo>
                <a:lnTo>
                  <a:pt x="5568" y="19511"/>
                </a:lnTo>
                <a:lnTo>
                  <a:pt x="5546" y="19481"/>
                </a:lnTo>
                <a:lnTo>
                  <a:pt x="5522" y="19465"/>
                </a:lnTo>
                <a:lnTo>
                  <a:pt x="5500" y="19465"/>
                </a:lnTo>
                <a:lnTo>
                  <a:pt x="5454" y="19465"/>
                </a:lnTo>
                <a:lnTo>
                  <a:pt x="5397" y="19511"/>
                </a:lnTo>
                <a:lnTo>
                  <a:pt x="5328" y="19542"/>
                </a:lnTo>
                <a:lnTo>
                  <a:pt x="5248" y="19587"/>
                </a:lnTo>
                <a:lnTo>
                  <a:pt x="5213" y="19603"/>
                </a:lnTo>
                <a:lnTo>
                  <a:pt x="5156" y="19618"/>
                </a:lnTo>
                <a:lnTo>
                  <a:pt x="5121" y="19618"/>
                </a:lnTo>
                <a:lnTo>
                  <a:pt x="5076" y="19587"/>
                </a:lnTo>
                <a:lnTo>
                  <a:pt x="5007" y="19557"/>
                </a:lnTo>
                <a:lnTo>
                  <a:pt x="4950" y="19511"/>
                </a:lnTo>
                <a:lnTo>
                  <a:pt x="4950" y="19511"/>
                </a:lnTo>
                <a:lnTo>
                  <a:pt x="5007" y="19328"/>
                </a:lnTo>
                <a:lnTo>
                  <a:pt x="5041" y="19176"/>
                </a:lnTo>
                <a:lnTo>
                  <a:pt x="5053" y="19115"/>
                </a:lnTo>
                <a:lnTo>
                  <a:pt x="5041" y="19039"/>
                </a:lnTo>
                <a:lnTo>
                  <a:pt x="5041" y="18993"/>
                </a:lnTo>
                <a:lnTo>
                  <a:pt x="5018" y="18947"/>
                </a:lnTo>
                <a:lnTo>
                  <a:pt x="4995" y="18886"/>
                </a:lnTo>
                <a:lnTo>
                  <a:pt x="4972" y="18856"/>
                </a:lnTo>
                <a:lnTo>
                  <a:pt x="4950" y="18810"/>
                </a:lnTo>
                <a:lnTo>
                  <a:pt x="4915" y="18779"/>
                </a:lnTo>
                <a:lnTo>
                  <a:pt x="4858" y="18764"/>
                </a:lnTo>
                <a:lnTo>
                  <a:pt x="4801" y="18749"/>
                </a:lnTo>
                <a:lnTo>
                  <a:pt x="4697" y="18749"/>
                </a:lnTo>
                <a:lnTo>
                  <a:pt x="4697" y="18749"/>
                </a:lnTo>
                <a:lnTo>
                  <a:pt x="4572" y="18749"/>
                </a:lnTo>
                <a:lnTo>
                  <a:pt x="4445" y="18764"/>
                </a:lnTo>
                <a:close/>
                <a:moveTo>
                  <a:pt x="12283" y="19648"/>
                </a:moveTo>
                <a:lnTo>
                  <a:pt x="12283" y="19648"/>
                </a:lnTo>
                <a:lnTo>
                  <a:pt x="12157" y="19679"/>
                </a:lnTo>
                <a:lnTo>
                  <a:pt x="12043" y="19679"/>
                </a:lnTo>
                <a:lnTo>
                  <a:pt x="11928" y="19633"/>
                </a:lnTo>
                <a:lnTo>
                  <a:pt x="11813" y="19572"/>
                </a:lnTo>
                <a:lnTo>
                  <a:pt x="11813" y="19572"/>
                </a:lnTo>
                <a:lnTo>
                  <a:pt x="11768" y="19648"/>
                </a:lnTo>
                <a:lnTo>
                  <a:pt x="11745" y="19724"/>
                </a:lnTo>
                <a:lnTo>
                  <a:pt x="11745" y="19770"/>
                </a:lnTo>
                <a:lnTo>
                  <a:pt x="11768" y="19801"/>
                </a:lnTo>
                <a:lnTo>
                  <a:pt x="11791" y="19846"/>
                </a:lnTo>
                <a:lnTo>
                  <a:pt x="11836" y="19892"/>
                </a:lnTo>
                <a:lnTo>
                  <a:pt x="11882" y="19907"/>
                </a:lnTo>
                <a:lnTo>
                  <a:pt x="11940" y="19923"/>
                </a:lnTo>
                <a:lnTo>
                  <a:pt x="11997" y="19923"/>
                </a:lnTo>
                <a:lnTo>
                  <a:pt x="12065" y="19923"/>
                </a:lnTo>
                <a:lnTo>
                  <a:pt x="12111" y="19907"/>
                </a:lnTo>
                <a:lnTo>
                  <a:pt x="12157" y="19892"/>
                </a:lnTo>
                <a:lnTo>
                  <a:pt x="12214" y="19831"/>
                </a:lnTo>
                <a:lnTo>
                  <a:pt x="12249" y="19785"/>
                </a:lnTo>
                <a:lnTo>
                  <a:pt x="12272" y="19724"/>
                </a:lnTo>
                <a:lnTo>
                  <a:pt x="12283" y="19648"/>
                </a:lnTo>
                <a:close/>
                <a:moveTo>
                  <a:pt x="12375" y="19846"/>
                </a:moveTo>
                <a:lnTo>
                  <a:pt x="12375" y="19846"/>
                </a:lnTo>
                <a:lnTo>
                  <a:pt x="12444" y="19877"/>
                </a:lnTo>
                <a:lnTo>
                  <a:pt x="12490" y="19877"/>
                </a:lnTo>
                <a:lnTo>
                  <a:pt x="12535" y="19877"/>
                </a:lnTo>
                <a:lnTo>
                  <a:pt x="12593" y="19846"/>
                </a:lnTo>
                <a:lnTo>
                  <a:pt x="12639" y="19801"/>
                </a:lnTo>
                <a:lnTo>
                  <a:pt x="12661" y="19770"/>
                </a:lnTo>
                <a:lnTo>
                  <a:pt x="12707" y="19724"/>
                </a:lnTo>
                <a:lnTo>
                  <a:pt x="12730" y="19648"/>
                </a:lnTo>
                <a:lnTo>
                  <a:pt x="12730" y="19648"/>
                </a:lnTo>
                <a:lnTo>
                  <a:pt x="12753" y="19557"/>
                </a:lnTo>
                <a:lnTo>
                  <a:pt x="12753" y="19481"/>
                </a:lnTo>
                <a:lnTo>
                  <a:pt x="12742" y="19420"/>
                </a:lnTo>
                <a:lnTo>
                  <a:pt x="12730" y="19359"/>
                </a:lnTo>
                <a:lnTo>
                  <a:pt x="12696" y="19282"/>
                </a:lnTo>
                <a:lnTo>
                  <a:pt x="12661" y="19252"/>
                </a:lnTo>
                <a:lnTo>
                  <a:pt x="12604" y="19206"/>
                </a:lnTo>
                <a:lnTo>
                  <a:pt x="12524" y="19176"/>
                </a:lnTo>
                <a:lnTo>
                  <a:pt x="12524" y="19176"/>
                </a:lnTo>
                <a:lnTo>
                  <a:pt x="12512" y="19359"/>
                </a:lnTo>
                <a:lnTo>
                  <a:pt x="12467" y="19511"/>
                </a:lnTo>
                <a:lnTo>
                  <a:pt x="12444" y="19694"/>
                </a:lnTo>
                <a:lnTo>
                  <a:pt x="12375" y="19846"/>
                </a:lnTo>
                <a:close/>
                <a:moveTo>
                  <a:pt x="12890" y="19846"/>
                </a:moveTo>
                <a:lnTo>
                  <a:pt x="12890" y="19846"/>
                </a:lnTo>
                <a:lnTo>
                  <a:pt x="12937" y="19801"/>
                </a:lnTo>
                <a:lnTo>
                  <a:pt x="12937" y="19785"/>
                </a:lnTo>
                <a:lnTo>
                  <a:pt x="12937" y="19770"/>
                </a:lnTo>
                <a:lnTo>
                  <a:pt x="12937" y="19770"/>
                </a:lnTo>
                <a:lnTo>
                  <a:pt x="12937" y="19724"/>
                </a:lnTo>
                <a:lnTo>
                  <a:pt x="12937" y="19724"/>
                </a:lnTo>
                <a:lnTo>
                  <a:pt x="12890" y="19846"/>
                </a:lnTo>
                <a:close/>
                <a:moveTo>
                  <a:pt x="11756" y="19298"/>
                </a:moveTo>
                <a:lnTo>
                  <a:pt x="11756" y="19298"/>
                </a:lnTo>
                <a:lnTo>
                  <a:pt x="11137" y="19252"/>
                </a:lnTo>
                <a:lnTo>
                  <a:pt x="11137" y="19252"/>
                </a:lnTo>
                <a:lnTo>
                  <a:pt x="11298" y="19420"/>
                </a:lnTo>
                <a:lnTo>
                  <a:pt x="11401" y="19511"/>
                </a:lnTo>
                <a:lnTo>
                  <a:pt x="11504" y="19587"/>
                </a:lnTo>
                <a:lnTo>
                  <a:pt x="11562" y="19633"/>
                </a:lnTo>
                <a:lnTo>
                  <a:pt x="11607" y="19633"/>
                </a:lnTo>
                <a:lnTo>
                  <a:pt x="11653" y="19633"/>
                </a:lnTo>
                <a:lnTo>
                  <a:pt x="11687" y="19618"/>
                </a:lnTo>
                <a:lnTo>
                  <a:pt x="11722" y="19572"/>
                </a:lnTo>
                <a:lnTo>
                  <a:pt x="11733" y="19511"/>
                </a:lnTo>
                <a:lnTo>
                  <a:pt x="11756" y="19435"/>
                </a:lnTo>
                <a:lnTo>
                  <a:pt x="11756" y="19298"/>
                </a:lnTo>
                <a:close/>
                <a:moveTo>
                  <a:pt x="13773" y="19572"/>
                </a:moveTo>
                <a:lnTo>
                  <a:pt x="13773" y="19572"/>
                </a:lnTo>
                <a:lnTo>
                  <a:pt x="13819" y="19526"/>
                </a:lnTo>
                <a:lnTo>
                  <a:pt x="13865" y="19481"/>
                </a:lnTo>
                <a:lnTo>
                  <a:pt x="13945" y="19328"/>
                </a:lnTo>
                <a:lnTo>
                  <a:pt x="14014" y="19176"/>
                </a:lnTo>
                <a:lnTo>
                  <a:pt x="14048" y="19084"/>
                </a:lnTo>
                <a:lnTo>
                  <a:pt x="14082" y="18993"/>
                </a:lnTo>
                <a:lnTo>
                  <a:pt x="14082" y="18901"/>
                </a:lnTo>
                <a:lnTo>
                  <a:pt x="14094" y="18810"/>
                </a:lnTo>
                <a:lnTo>
                  <a:pt x="14094" y="18734"/>
                </a:lnTo>
                <a:lnTo>
                  <a:pt x="14082" y="18642"/>
                </a:lnTo>
                <a:lnTo>
                  <a:pt x="14071" y="18551"/>
                </a:lnTo>
                <a:lnTo>
                  <a:pt x="14025" y="18490"/>
                </a:lnTo>
                <a:lnTo>
                  <a:pt x="13991" y="18429"/>
                </a:lnTo>
                <a:lnTo>
                  <a:pt x="13933" y="18368"/>
                </a:lnTo>
                <a:lnTo>
                  <a:pt x="13933" y="18368"/>
                </a:lnTo>
                <a:lnTo>
                  <a:pt x="13910" y="18490"/>
                </a:lnTo>
                <a:lnTo>
                  <a:pt x="13876" y="18673"/>
                </a:lnTo>
                <a:lnTo>
                  <a:pt x="13807" y="19039"/>
                </a:lnTo>
                <a:lnTo>
                  <a:pt x="13773" y="19237"/>
                </a:lnTo>
                <a:lnTo>
                  <a:pt x="13738" y="19389"/>
                </a:lnTo>
                <a:lnTo>
                  <a:pt x="13738" y="19465"/>
                </a:lnTo>
                <a:lnTo>
                  <a:pt x="13738" y="19511"/>
                </a:lnTo>
                <a:lnTo>
                  <a:pt x="13750" y="19542"/>
                </a:lnTo>
                <a:lnTo>
                  <a:pt x="13773" y="19572"/>
                </a:lnTo>
                <a:close/>
                <a:moveTo>
                  <a:pt x="12226" y="19450"/>
                </a:moveTo>
                <a:lnTo>
                  <a:pt x="12226" y="19450"/>
                </a:lnTo>
                <a:lnTo>
                  <a:pt x="12295" y="19282"/>
                </a:lnTo>
                <a:lnTo>
                  <a:pt x="12329" y="19222"/>
                </a:lnTo>
                <a:lnTo>
                  <a:pt x="12341" y="19161"/>
                </a:lnTo>
                <a:lnTo>
                  <a:pt x="12352" y="19115"/>
                </a:lnTo>
                <a:lnTo>
                  <a:pt x="12341" y="19084"/>
                </a:lnTo>
                <a:lnTo>
                  <a:pt x="12329" y="19054"/>
                </a:lnTo>
                <a:lnTo>
                  <a:pt x="12306" y="19039"/>
                </a:lnTo>
                <a:lnTo>
                  <a:pt x="12283" y="19039"/>
                </a:lnTo>
                <a:lnTo>
                  <a:pt x="12260" y="19054"/>
                </a:lnTo>
                <a:lnTo>
                  <a:pt x="12226" y="19084"/>
                </a:lnTo>
                <a:lnTo>
                  <a:pt x="12169" y="19115"/>
                </a:lnTo>
                <a:lnTo>
                  <a:pt x="12089" y="19222"/>
                </a:lnTo>
                <a:lnTo>
                  <a:pt x="11962" y="19374"/>
                </a:lnTo>
                <a:lnTo>
                  <a:pt x="11962" y="19374"/>
                </a:lnTo>
                <a:lnTo>
                  <a:pt x="12020" y="19374"/>
                </a:lnTo>
                <a:lnTo>
                  <a:pt x="12020" y="19374"/>
                </a:lnTo>
                <a:lnTo>
                  <a:pt x="12077" y="19374"/>
                </a:lnTo>
                <a:lnTo>
                  <a:pt x="12123" y="19389"/>
                </a:lnTo>
                <a:lnTo>
                  <a:pt x="12169" y="19420"/>
                </a:lnTo>
                <a:lnTo>
                  <a:pt x="12226" y="19450"/>
                </a:lnTo>
                <a:close/>
                <a:moveTo>
                  <a:pt x="12478" y="18703"/>
                </a:moveTo>
                <a:lnTo>
                  <a:pt x="12478" y="18703"/>
                </a:lnTo>
                <a:lnTo>
                  <a:pt x="12512" y="18764"/>
                </a:lnTo>
                <a:lnTo>
                  <a:pt x="12547" y="18825"/>
                </a:lnTo>
                <a:lnTo>
                  <a:pt x="12627" y="18947"/>
                </a:lnTo>
                <a:lnTo>
                  <a:pt x="12730" y="19054"/>
                </a:lnTo>
                <a:lnTo>
                  <a:pt x="12845" y="19161"/>
                </a:lnTo>
                <a:lnTo>
                  <a:pt x="12948" y="19237"/>
                </a:lnTo>
                <a:lnTo>
                  <a:pt x="13074" y="19298"/>
                </a:lnTo>
                <a:lnTo>
                  <a:pt x="13200" y="19359"/>
                </a:lnTo>
                <a:lnTo>
                  <a:pt x="13303" y="19374"/>
                </a:lnTo>
                <a:lnTo>
                  <a:pt x="13303" y="19374"/>
                </a:lnTo>
                <a:lnTo>
                  <a:pt x="13372" y="19313"/>
                </a:lnTo>
                <a:lnTo>
                  <a:pt x="13441" y="19267"/>
                </a:lnTo>
                <a:lnTo>
                  <a:pt x="13475" y="19191"/>
                </a:lnTo>
                <a:lnTo>
                  <a:pt x="13509" y="19115"/>
                </a:lnTo>
                <a:lnTo>
                  <a:pt x="13532" y="19023"/>
                </a:lnTo>
                <a:lnTo>
                  <a:pt x="13544" y="18947"/>
                </a:lnTo>
                <a:lnTo>
                  <a:pt x="13532" y="18871"/>
                </a:lnTo>
                <a:lnTo>
                  <a:pt x="13521" y="18795"/>
                </a:lnTo>
                <a:lnTo>
                  <a:pt x="13498" y="18734"/>
                </a:lnTo>
                <a:lnTo>
                  <a:pt x="13452" y="18657"/>
                </a:lnTo>
                <a:lnTo>
                  <a:pt x="13418" y="18596"/>
                </a:lnTo>
                <a:lnTo>
                  <a:pt x="13372" y="18520"/>
                </a:lnTo>
                <a:lnTo>
                  <a:pt x="13292" y="18490"/>
                </a:lnTo>
                <a:lnTo>
                  <a:pt x="13235" y="18459"/>
                </a:lnTo>
                <a:lnTo>
                  <a:pt x="13154" y="18429"/>
                </a:lnTo>
                <a:lnTo>
                  <a:pt x="13062" y="18429"/>
                </a:lnTo>
                <a:lnTo>
                  <a:pt x="13062" y="18429"/>
                </a:lnTo>
                <a:lnTo>
                  <a:pt x="13005" y="18429"/>
                </a:lnTo>
                <a:lnTo>
                  <a:pt x="12937" y="18444"/>
                </a:lnTo>
                <a:lnTo>
                  <a:pt x="12868" y="18459"/>
                </a:lnTo>
                <a:lnTo>
                  <a:pt x="12799" y="18490"/>
                </a:lnTo>
                <a:lnTo>
                  <a:pt x="12719" y="18520"/>
                </a:lnTo>
                <a:lnTo>
                  <a:pt x="12650" y="18581"/>
                </a:lnTo>
                <a:lnTo>
                  <a:pt x="12570" y="18627"/>
                </a:lnTo>
                <a:lnTo>
                  <a:pt x="12478" y="18703"/>
                </a:lnTo>
                <a:close/>
                <a:moveTo>
                  <a:pt x="12020" y="18840"/>
                </a:moveTo>
                <a:lnTo>
                  <a:pt x="12020" y="18840"/>
                </a:lnTo>
                <a:lnTo>
                  <a:pt x="11607" y="18764"/>
                </a:lnTo>
                <a:lnTo>
                  <a:pt x="11607" y="18764"/>
                </a:lnTo>
                <a:lnTo>
                  <a:pt x="11664" y="18917"/>
                </a:lnTo>
                <a:lnTo>
                  <a:pt x="11710" y="19023"/>
                </a:lnTo>
                <a:lnTo>
                  <a:pt x="11756" y="19100"/>
                </a:lnTo>
                <a:lnTo>
                  <a:pt x="11791" y="19145"/>
                </a:lnTo>
                <a:lnTo>
                  <a:pt x="11825" y="19176"/>
                </a:lnTo>
                <a:lnTo>
                  <a:pt x="11859" y="19176"/>
                </a:lnTo>
                <a:lnTo>
                  <a:pt x="11882" y="19161"/>
                </a:lnTo>
                <a:lnTo>
                  <a:pt x="11894" y="19130"/>
                </a:lnTo>
                <a:lnTo>
                  <a:pt x="11928" y="19039"/>
                </a:lnTo>
                <a:lnTo>
                  <a:pt x="11951" y="18947"/>
                </a:lnTo>
                <a:lnTo>
                  <a:pt x="11985" y="18871"/>
                </a:lnTo>
                <a:lnTo>
                  <a:pt x="12008" y="18856"/>
                </a:lnTo>
                <a:lnTo>
                  <a:pt x="12020" y="18840"/>
                </a:lnTo>
                <a:close/>
                <a:moveTo>
                  <a:pt x="6096" y="19176"/>
                </a:moveTo>
                <a:lnTo>
                  <a:pt x="6096" y="19176"/>
                </a:lnTo>
                <a:lnTo>
                  <a:pt x="6153" y="19039"/>
                </a:lnTo>
                <a:lnTo>
                  <a:pt x="6199" y="18917"/>
                </a:lnTo>
                <a:lnTo>
                  <a:pt x="6221" y="18856"/>
                </a:lnTo>
                <a:lnTo>
                  <a:pt x="6221" y="18779"/>
                </a:lnTo>
                <a:lnTo>
                  <a:pt x="6221" y="18734"/>
                </a:lnTo>
                <a:lnTo>
                  <a:pt x="6221" y="18673"/>
                </a:lnTo>
                <a:lnTo>
                  <a:pt x="6210" y="18596"/>
                </a:lnTo>
                <a:lnTo>
                  <a:pt x="6187" y="18535"/>
                </a:lnTo>
                <a:lnTo>
                  <a:pt x="6153" y="18490"/>
                </a:lnTo>
                <a:lnTo>
                  <a:pt x="6130" y="18429"/>
                </a:lnTo>
                <a:lnTo>
                  <a:pt x="6096" y="18383"/>
                </a:lnTo>
                <a:lnTo>
                  <a:pt x="6050" y="18322"/>
                </a:lnTo>
                <a:lnTo>
                  <a:pt x="5935" y="18230"/>
                </a:lnTo>
                <a:lnTo>
                  <a:pt x="5935" y="18230"/>
                </a:lnTo>
                <a:lnTo>
                  <a:pt x="5798" y="18566"/>
                </a:lnTo>
                <a:lnTo>
                  <a:pt x="5740" y="18718"/>
                </a:lnTo>
                <a:lnTo>
                  <a:pt x="5729" y="18764"/>
                </a:lnTo>
                <a:lnTo>
                  <a:pt x="5717" y="18840"/>
                </a:lnTo>
                <a:lnTo>
                  <a:pt x="5717" y="18886"/>
                </a:lnTo>
                <a:lnTo>
                  <a:pt x="5729" y="18947"/>
                </a:lnTo>
                <a:lnTo>
                  <a:pt x="5752" y="18993"/>
                </a:lnTo>
                <a:lnTo>
                  <a:pt x="5786" y="19023"/>
                </a:lnTo>
                <a:lnTo>
                  <a:pt x="5855" y="19069"/>
                </a:lnTo>
                <a:lnTo>
                  <a:pt x="5912" y="19115"/>
                </a:lnTo>
                <a:lnTo>
                  <a:pt x="5992" y="19145"/>
                </a:lnTo>
                <a:lnTo>
                  <a:pt x="6096" y="19176"/>
                </a:lnTo>
                <a:close/>
                <a:moveTo>
                  <a:pt x="11401" y="19115"/>
                </a:moveTo>
                <a:lnTo>
                  <a:pt x="11401" y="19115"/>
                </a:lnTo>
                <a:lnTo>
                  <a:pt x="11435" y="19008"/>
                </a:lnTo>
                <a:lnTo>
                  <a:pt x="11458" y="18932"/>
                </a:lnTo>
                <a:lnTo>
                  <a:pt x="11458" y="18840"/>
                </a:lnTo>
                <a:lnTo>
                  <a:pt x="11435" y="18749"/>
                </a:lnTo>
                <a:lnTo>
                  <a:pt x="11389" y="18673"/>
                </a:lnTo>
                <a:lnTo>
                  <a:pt x="11321" y="18596"/>
                </a:lnTo>
                <a:lnTo>
                  <a:pt x="11252" y="18505"/>
                </a:lnTo>
                <a:lnTo>
                  <a:pt x="11137" y="18429"/>
                </a:lnTo>
                <a:lnTo>
                  <a:pt x="11137" y="18429"/>
                </a:lnTo>
                <a:lnTo>
                  <a:pt x="11092" y="18596"/>
                </a:lnTo>
                <a:lnTo>
                  <a:pt x="11057" y="18718"/>
                </a:lnTo>
                <a:lnTo>
                  <a:pt x="11057" y="18764"/>
                </a:lnTo>
                <a:lnTo>
                  <a:pt x="11057" y="18825"/>
                </a:lnTo>
                <a:lnTo>
                  <a:pt x="11057" y="18871"/>
                </a:lnTo>
                <a:lnTo>
                  <a:pt x="11080" y="18917"/>
                </a:lnTo>
                <a:lnTo>
                  <a:pt x="11080" y="18947"/>
                </a:lnTo>
                <a:lnTo>
                  <a:pt x="11115" y="18993"/>
                </a:lnTo>
                <a:lnTo>
                  <a:pt x="11183" y="19023"/>
                </a:lnTo>
                <a:lnTo>
                  <a:pt x="11286" y="19069"/>
                </a:lnTo>
                <a:lnTo>
                  <a:pt x="11401" y="19115"/>
                </a:lnTo>
                <a:close/>
                <a:moveTo>
                  <a:pt x="10358" y="18901"/>
                </a:moveTo>
                <a:lnTo>
                  <a:pt x="10358" y="18901"/>
                </a:lnTo>
                <a:lnTo>
                  <a:pt x="10438" y="18947"/>
                </a:lnTo>
                <a:lnTo>
                  <a:pt x="10507" y="18947"/>
                </a:lnTo>
                <a:lnTo>
                  <a:pt x="10565" y="18962"/>
                </a:lnTo>
                <a:lnTo>
                  <a:pt x="10622" y="18947"/>
                </a:lnTo>
                <a:lnTo>
                  <a:pt x="10668" y="18932"/>
                </a:lnTo>
                <a:lnTo>
                  <a:pt x="10713" y="18886"/>
                </a:lnTo>
                <a:lnTo>
                  <a:pt x="10736" y="18856"/>
                </a:lnTo>
                <a:lnTo>
                  <a:pt x="10771" y="18795"/>
                </a:lnTo>
                <a:lnTo>
                  <a:pt x="10817" y="18688"/>
                </a:lnTo>
                <a:lnTo>
                  <a:pt x="10862" y="18535"/>
                </a:lnTo>
                <a:lnTo>
                  <a:pt x="10931" y="18230"/>
                </a:lnTo>
                <a:lnTo>
                  <a:pt x="10931" y="18230"/>
                </a:lnTo>
                <a:lnTo>
                  <a:pt x="10851" y="18230"/>
                </a:lnTo>
                <a:lnTo>
                  <a:pt x="10851" y="18230"/>
                </a:lnTo>
                <a:lnTo>
                  <a:pt x="10771" y="18230"/>
                </a:lnTo>
                <a:lnTo>
                  <a:pt x="10702" y="18246"/>
                </a:lnTo>
                <a:lnTo>
                  <a:pt x="10622" y="18276"/>
                </a:lnTo>
                <a:lnTo>
                  <a:pt x="10553" y="18337"/>
                </a:lnTo>
                <a:lnTo>
                  <a:pt x="10496" y="18383"/>
                </a:lnTo>
                <a:lnTo>
                  <a:pt x="10438" y="18429"/>
                </a:lnTo>
                <a:lnTo>
                  <a:pt x="10381" y="18490"/>
                </a:lnTo>
                <a:lnTo>
                  <a:pt x="10347" y="18566"/>
                </a:lnTo>
                <a:lnTo>
                  <a:pt x="10312" y="18627"/>
                </a:lnTo>
                <a:lnTo>
                  <a:pt x="10289" y="18688"/>
                </a:lnTo>
                <a:lnTo>
                  <a:pt x="10278" y="18749"/>
                </a:lnTo>
                <a:lnTo>
                  <a:pt x="10267" y="18795"/>
                </a:lnTo>
                <a:lnTo>
                  <a:pt x="10278" y="18840"/>
                </a:lnTo>
                <a:lnTo>
                  <a:pt x="10301" y="18871"/>
                </a:lnTo>
                <a:lnTo>
                  <a:pt x="10324" y="18901"/>
                </a:lnTo>
                <a:lnTo>
                  <a:pt x="10358" y="18901"/>
                </a:lnTo>
                <a:close/>
                <a:moveTo>
                  <a:pt x="13979" y="17971"/>
                </a:moveTo>
                <a:lnTo>
                  <a:pt x="13979" y="17971"/>
                </a:lnTo>
                <a:lnTo>
                  <a:pt x="14014" y="18002"/>
                </a:lnTo>
                <a:lnTo>
                  <a:pt x="14025" y="18048"/>
                </a:lnTo>
                <a:lnTo>
                  <a:pt x="14071" y="18078"/>
                </a:lnTo>
                <a:lnTo>
                  <a:pt x="14105" y="18108"/>
                </a:lnTo>
                <a:lnTo>
                  <a:pt x="14208" y="18139"/>
                </a:lnTo>
                <a:lnTo>
                  <a:pt x="14312" y="18154"/>
                </a:lnTo>
                <a:lnTo>
                  <a:pt x="14541" y="18169"/>
                </a:lnTo>
                <a:lnTo>
                  <a:pt x="14655" y="18185"/>
                </a:lnTo>
                <a:lnTo>
                  <a:pt x="14701" y="18215"/>
                </a:lnTo>
                <a:lnTo>
                  <a:pt x="14747" y="18230"/>
                </a:lnTo>
                <a:lnTo>
                  <a:pt x="14747" y="18230"/>
                </a:lnTo>
                <a:lnTo>
                  <a:pt x="15056" y="18840"/>
                </a:lnTo>
                <a:lnTo>
                  <a:pt x="15056" y="18840"/>
                </a:lnTo>
                <a:lnTo>
                  <a:pt x="14942" y="18383"/>
                </a:lnTo>
                <a:lnTo>
                  <a:pt x="14884" y="18215"/>
                </a:lnTo>
                <a:lnTo>
                  <a:pt x="14827" y="18063"/>
                </a:lnTo>
                <a:lnTo>
                  <a:pt x="14770" y="17956"/>
                </a:lnTo>
                <a:lnTo>
                  <a:pt x="14724" y="17910"/>
                </a:lnTo>
                <a:lnTo>
                  <a:pt x="14690" y="17865"/>
                </a:lnTo>
                <a:lnTo>
                  <a:pt x="14655" y="17834"/>
                </a:lnTo>
                <a:lnTo>
                  <a:pt x="14598" y="17819"/>
                </a:lnTo>
                <a:lnTo>
                  <a:pt x="14552" y="17804"/>
                </a:lnTo>
                <a:lnTo>
                  <a:pt x="14495" y="17804"/>
                </a:lnTo>
                <a:lnTo>
                  <a:pt x="14495" y="17804"/>
                </a:lnTo>
                <a:lnTo>
                  <a:pt x="14392" y="17804"/>
                </a:lnTo>
                <a:lnTo>
                  <a:pt x="14277" y="17834"/>
                </a:lnTo>
                <a:lnTo>
                  <a:pt x="14140" y="17895"/>
                </a:lnTo>
                <a:lnTo>
                  <a:pt x="13979" y="17971"/>
                </a:lnTo>
                <a:close/>
                <a:moveTo>
                  <a:pt x="12283" y="18703"/>
                </a:moveTo>
                <a:lnTo>
                  <a:pt x="12283" y="18703"/>
                </a:lnTo>
                <a:lnTo>
                  <a:pt x="12295" y="18642"/>
                </a:lnTo>
                <a:lnTo>
                  <a:pt x="12318" y="18581"/>
                </a:lnTo>
                <a:lnTo>
                  <a:pt x="12318" y="18535"/>
                </a:lnTo>
                <a:lnTo>
                  <a:pt x="12318" y="18490"/>
                </a:lnTo>
                <a:lnTo>
                  <a:pt x="12306" y="18474"/>
                </a:lnTo>
                <a:lnTo>
                  <a:pt x="12283" y="18429"/>
                </a:lnTo>
                <a:lnTo>
                  <a:pt x="12226" y="18398"/>
                </a:lnTo>
                <a:lnTo>
                  <a:pt x="12146" y="18352"/>
                </a:lnTo>
                <a:lnTo>
                  <a:pt x="12054" y="18322"/>
                </a:lnTo>
                <a:lnTo>
                  <a:pt x="11951" y="18276"/>
                </a:lnTo>
                <a:lnTo>
                  <a:pt x="11871" y="18230"/>
                </a:lnTo>
                <a:lnTo>
                  <a:pt x="11871" y="18230"/>
                </a:lnTo>
                <a:lnTo>
                  <a:pt x="11882" y="18352"/>
                </a:lnTo>
                <a:lnTo>
                  <a:pt x="11905" y="18474"/>
                </a:lnTo>
                <a:lnTo>
                  <a:pt x="11940" y="18535"/>
                </a:lnTo>
                <a:lnTo>
                  <a:pt x="11985" y="18596"/>
                </a:lnTo>
                <a:lnTo>
                  <a:pt x="12043" y="18657"/>
                </a:lnTo>
                <a:lnTo>
                  <a:pt x="12089" y="18688"/>
                </a:lnTo>
                <a:lnTo>
                  <a:pt x="12180" y="18703"/>
                </a:lnTo>
                <a:lnTo>
                  <a:pt x="12283" y="18703"/>
                </a:lnTo>
                <a:close/>
                <a:moveTo>
                  <a:pt x="3105" y="18566"/>
                </a:moveTo>
                <a:lnTo>
                  <a:pt x="3105" y="18566"/>
                </a:lnTo>
                <a:lnTo>
                  <a:pt x="3150" y="18505"/>
                </a:lnTo>
                <a:lnTo>
                  <a:pt x="3197" y="18459"/>
                </a:lnTo>
                <a:lnTo>
                  <a:pt x="3219" y="18383"/>
                </a:lnTo>
                <a:lnTo>
                  <a:pt x="3219" y="18291"/>
                </a:lnTo>
                <a:lnTo>
                  <a:pt x="3219" y="18291"/>
                </a:lnTo>
                <a:lnTo>
                  <a:pt x="3059" y="18291"/>
                </a:lnTo>
                <a:lnTo>
                  <a:pt x="2921" y="18261"/>
                </a:lnTo>
                <a:lnTo>
                  <a:pt x="2818" y="18230"/>
                </a:lnTo>
                <a:lnTo>
                  <a:pt x="2715" y="18169"/>
                </a:lnTo>
                <a:lnTo>
                  <a:pt x="2623" y="18078"/>
                </a:lnTo>
                <a:lnTo>
                  <a:pt x="2509" y="17987"/>
                </a:lnTo>
                <a:lnTo>
                  <a:pt x="2417" y="17910"/>
                </a:lnTo>
                <a:lnTo>
                  <a:pt x="2280" y="17819"/>
                </a:lnTo>
                <a:lnTo>
                  <a:pt x="2280" y="17819"/>
                </a:lnTo>
                <a:lnTo>
                  <a:pt x="2337" y="17956"/>
                </a:lnTo>
                <a:lnTo>
                  <a:pt x="2429" y="18108"/>
                </a:lnTo>
                <a:lnTo>
                  <a:pt x="2520" y="18261"/>
                </a:lnTo>
                <a:lnTo>
                  <a:pt x="2635" y="18429"/>
                </a:lnTo>
                <a:lnTo>
                  <a:pt x="2704" y="18490"/>
                </a:lnTo>
                <a:lnTo>
                  <a:pt x="2772" y="18535"/>
                </a:lnTo>
                <a:lnTo>
                  <a:pt x="2830" y="18596"/>
                </a:lnTo>
                <a:lnTo>
                  <a:pt x="2887" y="18627"/>
                </a:lnTo>
                <a:lnTo>
                  <a:pt x="2956" y="18642"/>
                </a:lnTo>
                <a:lnTo>
                  <a:pt x="3001" y="18642"/>
                </a:lnTo>
                <a:lnTo>
                  <a:pt x="3059" y="18612"/>
                </a:lnTo>
                <a:lnTo>
                  <a:pt x="3105" y="18566"/>
                </a:lnTo>
                <a:close/>
                <a:moveTo>
                  <a:pt x="15526" y="18627"/>
                </a:moveTo>
                <a:lnTo>
                  <a:pt x="15526" y="18627"/>
                </a:lnTo>
                <a:lnTo>
                  <a:pt x="15549" y="18596"/>
                </a:lnTo>
                <a:lnTo>
                  <a:pt x="15560" y="18596"/>
                </a:lnTo>
                <a:lnTo>
                  <a:pt x="15583" y="18581"/>
                </a:lnTo>
                <a:lnTo>
                  <a:pt x="15583" y="18566"/>
                </a:lnTo>
                <a:lnTo>
                  <a:pt x="15572" y="18505"/>
                </a:lnTo>
                <a:lnTo>
                  <a:pt x="15572" y="18505"/>
                </a:lnTo>
                <a:lnTo>
                  <a:pt x="15526" y="18627"/>
                </a:lnTo>
                <a:close/>
                <a:moveTo>
                  <a:pt x="11756" y="18627"/>
                </a:moveTo>
                <a:lnTo>
                  <a:pt x="11756" y="18627"/>
                </a:lnTo>
                <a:lnTo>
                  <a:pt x="11733" y="18520"/>
                </a:lnTo>
                <a:lnTo>
                  <a:pt x="11722" y="18429"/>
                </a:lnTo>
                <a:lnTo>
                  <a:pt x="11687" y="18337"/>
                </a:lnTo>
                <a:lnTo>
                  <a:pt x="11653" y="18246"/>
                </a:lnTo>
                <a:lnTo>
                  <a:pt x="11596" y="18185"/>
                </a:lnTo>
                <a:lnTo>
                  <a:pt x="11538" y="18124"/>
                </a:lnTo>
                <a:lnTo>
                  <a:pt x="11481" y="18078"/>
                </a:lnTo>
                <a:lnTo>
                  <a:pt x="11401" y="18017"/>
                </a:lnTo>
                <a:lnTo>
                  <a:pt x="11401" y="18017"/>
                </a:lnTo>
                <a:lnTo>
                  <a:pt x="11389" y="18169"/>
                </a:lnTo>
                <a:lnTo>
                  <a:pt x="11401" y="18276"/>
                </a:lnTo>
                <a:lnTo>
                  <a:pt x="11424" y="18383"/>
                </a:lnTo>
                <a:lnTo>
                  <a:pt x="11458" y="18474"/>
                </a:lnTo>
                <a:lnTo>
                  <a:pt x="11504" y="18535"/>
                </a:lnTo>
                <a:lnTo>
                  <a:pt x="11573" y="18596"/>
                </a:lnTo>
                <a:lnTo>
                  <a:pt x="11653" y="18627"/>
                </a:lnTo>
                <a:lnTo>
                  <a:pt x="11756" y="18627"/>
                </a:lnTo>
                <a:close/>
                <a:moveTo>
                  <a:pt x="16546" y="18566"/>
                </a:moveTo>
                <a:lnTo>
                  <a:pt x="16546" y="18566"/>
                </a:lnTo>
                <a:lnTo>
                  <a:pt x="16661" y="18505"/>
                </a:lnTo>
                <a:lnTo>
                  <a:pt x="16718" y="18490"/>
                </a:lnTo>
                <a:lnTo>
                  <a:pt x="16729" y="18474"/>
                </a:lnTo>
                <a:lnTo>
                  <a:pt x="16729" y="18444"/>
                </a:lnTo>
                <a:lnTo>
                  <a:pt x="16718" y="18368"/>
                </a:lnTo>
                <a:lnTo>
                  <a:pt x="16718" y="18368"/>
                </a:lnTo>
                <a:lnTo>
                  <a:pt x="16546" y="18566"/>
                </a:lnTo>
                <a:close/>
                <a:moveTo>
                  <a:pt x="3781" y="16539"/>
                </a:moveTo>
                <a:lnTo>
                  <a:pt x="3781" y="16539"/>
                </a:lnTo>
                <a:lnTo>
                  <a:pt x="3758" y="16859"/>
                </a:lnTo>
                <a:lnTo>
                  <a:pt x="3746" y="17133"/>
                </a:lnTo>
                <a:lnTo>
                  <a:pt x="3758" y="17392"/>
                </a:lnTo>
                <a:lnTo>
                  <a:pt x="3792" y="17590"/>
                </a:lnTo>
                <a:lnTo>
                  <a:pt x="3827" y="17773"/>
                </a:lnTo>
                <a:lnTo>
                  <a:pt x="3849" y="17849"/>
                </a:lnTo>
                <a:lnTo>
                  <a:pt x="3884" y="17926"/>
                </a:lnTo>
                <a:lnTo>
                  <a:pt x="3918" y="17987"/>
                </a:lnTo>
                <a:lnTo>
                  <a:pt x="3953" y="18063"/>
                </a:lnTo>
                <a:lnTo>
                  <a:pt x="3998" y="18124"/>
                </a:lnTo>
                <a:lnTo>
                  <a:pt x="4044" y="18169"/>
                </a:lnTo>
                <a:lnTo>
                  <a:pt x="4147" y="18246"/>
                </a:lnTo>
                <a:lnTo>
                  <a:pt x="4262" y="18322"/>
                </a:lnTo>
                <a:lnTo>
                  <a:pt x="4388" y="18368"/>
                </a:lnTo>
                <a:lnTo>
                  <a:pt x="4548" y="18413"/>
                </a:lnTo>
                <a:lnTo>
                  <a:pt x="4709" y="18429"/>
                </a:lnTo>
                <a:lnTo>
                  <a:pt x="4870" y="18429"/>
                </a:lnTo>
                <a:lnTo>
                  <a:pt x="5270" y="18429"/>
                </a:lnTo>
                <a:lnTo>
                  <a:pt x="5270" y="18429"/>
                </a:lnTo>
                <a:lnTo>
                  <a:pt x="5282" y="18307"/>
                </a:lnTo>
                <a:lnTo>
                  <a:pt x="5282" y="18185"/>
                </a:lnTo>
                <a:lnTo>
                  <a:pt x="5259" y="18078"/>
                </a:lnTo>
                <a:lnTo>
                  <a:pt x="5224" y="17987"/>
                </a:lnTo>
                <a:lnTo>
                  <a:pt x="5190" y="17910"/>
                </a:lnTo>
                <a:lnTo>
                  <a:pt x="5144" y="17819"/>
                </a:lnTo>
                <a:lnTo>
                  <a:pt x="5087" y="17727"/>
                </a:lnTo>
                <a:lnTo>
                  <a:pt x="5018" y="17667"/>
                </a:lnTo>
                <a:lnTo>
                  <a:pt x="4892" y="17529"/>
                </a:lnTo>
                <a:lnTo>
                  <a:pt x="4743" y="17392"/>
                </a:lnTo>
                <a:lnTo>
                  <a:pt x="4583" y="17240"/>
                </a:lnTo>
                <a:lnTo>
                  <a:pt x="4514" y="17179"/>
                </a:lnTo>
                <a:lnTo>
                  <a:pt x="4445" y="17072"/>
                </a:lnTo>
                <a:lnTo>
                  <a:pt x="4445" y="17072"/>
                </a:lnTo>
                <a:lnTo>
                  <a:pt x="4480" y="16935"/>
                </a:lnTo>
                <a:lnTo>
                  <a:pt x="4491" y="16783"/>
                </a:lnTo>
                <a:lnTo>
                  <a:pt x="4480" y="16676"/>
                </a:lnTo>
                <a:lnTo>
                  <a:pt x="4457" y="16569"/>
                </a:lnTo>
                <a:lnTo>
                  <a:pt x="4423" y="16493"/>
                </a:lnTo>
                <a:lnTo>
                  <a:pt x="4388" y="16462"/>
                </a:lnTo>
                <a:lnTo>
                  <a:pt x="4365" y="16432"/>
                </a:lnTo>
                <a:lnTo>
                  <a:pt x="4296" y="16417"/>
                </a:lnTo>
                <a:lnTo>
                  <a:pt x="4216" y="16417"/>
                </a:lnTo>
                <a:lnTo>
                  <a:pt x="4216" y="16417"/>
                </a:lnTo>
                <a:lnTo>
                  <a:pt x="4125" y="16417"/>
                </a:lnTo>
                <a:lnTo>
                  <a:pt x="4010" y="16432"/>
                </a:lnTo>
                <a:lnTo>
                  <a:pt x="3907" y="16478"/>
                </a:lnTo>
                <a:lnTo>
                  <a:pt x="3781" y="16539"/>
                </a:lnTo>
                <a:close/>
                <a:moveTo>
                  <a:pt x="9384" y="18230"/>
                </a:moveTo>
                <a:lnTo>
                  <a:pt x="9384" y="18230"/>
                </a:lnTo>
                <a:lnTo>
                  <a:pt x="9373" y="18322"/>
                </a:lnTo>
                <a:lnTo>
                  <a:pt x="9361" y="18368"/>
                </a:lnTo>
                <a:lnTo>
                  <a:pt x="9373" y="18383"/>
                </a:lnTo>
                <a:lnTo>
                  <a:pt x="9373" y="18368"/>
                </a:lnTo>
                <a:lnTo>
                  <a:pt x="9384" y="18352"/>
                </a:lnTo>
                <a:lnTo>
                  <a:pt x="9407" y="18322"/>
                </a:lnTo>
                <a:lnTo>
                  <a:pt x="9419" y="18261"/>
                </a:lnTo>
                <a:lnTo>
                  <a:pt x="9419" y="18246"/>
                </a:lnTo>
                <a:lnTo>
                  <a:pt x="9419" y="18246"/>
                </a:lnTo>
                <a:lnTo>
                  <a:pt x="9407" y="18230"/>
                </a:lnTo>
                <a:lnTo>
                  <a:pt x="9384" y="18230"/>
                </a:lnTo>
                <a:close/>
                <a:moveTo>
                  <a:pt x="12581" y="18368"/>
                </a:moveTo>
                <a:lnTo>
                  <a:pt x="12581" y="18368"/>
                </a:lnTo>
                <a:lnTo>
                  <a:pt x="12581" y="18291"/>
                </a:lnTo>
                <a:lnTo>
                  <a:pt x="12558" y="18230"/>
                </a:lnTo>
                <a:lnTo>
                  <a:pt x="12524" y="18169"/>
                </a:lnTo>
                <a:lnTo>
                  <a:pt x="12490" y="18093"/>
                </a:lnTo>
                <a:lnTo>
                  <a:pt x="12421" y="17971"/>
                </a:lnTo>
                <a:lnTo>
                  <a:pt x="12329" y="17895"/>
                </a:lnTo>
                <a:lnTo>
                  <a:pt x="12329" y="17895"/>
                </a:lnTo>
                <a:lnTo>
                  <a:pt x="12318" y="17987"/>
                </a:lnTo>
                <a:lnTo>
                  <a:pt x="12318" y="18078"/>
                </a:lnTo>
                <a:lnTo>
                  <a:pt x="12329" y="18169"/>
                </a:lnTo>
                <a:lnTo>
                  <a:pt x="12363" y="18230"/>
                </a:lnTo>
                <a:lnTo>
                  <a:pt x="12398" y="18261"/>
                </a:lnTo>
                <a:lnTo>
                  <a:pt x="12455" y="18322"/>
                </a:lnTo>
                <a:lnTo>
                  <a:pt x="12512" y="18337"/>
                </a:lnTo>
                <a:lnTo>
                  <a:pt x="12581" y="18368"/>
                </a:lnTo>
                <a:close/>
                <a:moveTo>
                  <a:pt x="9591" y="17971"/>
                </a:moveTo>
                <a:lnTo>
                  <a:pt x="9591" y="17971"/>
                </a:lnTo>
                <a:lnTo>
                  <a:pt x="9579" y="17971"/>
                </a:lnTo>
                <a:lnTo>
                  <a:pt x="9579" y="17971"/>
                </a:lnTo>
                <a:lnTo>
                  <a:pt x="9533" y="18017"/>
                </a:lnTo>
                <a:lnTo>
                  <a:pt x="9510" y="18078"/>
                </a:lnTo>
                <a:lnTo>
                  <a:pt x="9487" y="18139"/>
                </a:lnTo>
                <a:lnTo>
                  <a:pt x="9476" y="18169"/>
                </a:lnTo>
                <a:lnTo>
                  <a:pt x="9476" y="18169"/>
                </a:lnTo>
                <a:lnTo>
                  <a:pt x="9487" y="18169"/>
                </a:lnTo>
                <a:lnTo>
                  <a:pt x="9522" y="18093"/>
                </a:lnTo>
                <a:lnTo>
                  <a:pt x="9591" y="17971"/>
                </a:lnTo>
                <a:close/>
                <a:moveTo>
                  <a:pt x="12169" y="18169"/>
                </a:moveTo>
                <a:lnTo>
                  <a:pt x="12169" y="18169"/>
                </a:lnTo>
                <a:lnTo>
                  <a:pt x="12123" y="18078"/>
                </a:lnTo>
                <a:lnTo>
                  <a:pt x="12089" y="17987"/>
                </a:lnTo>
                <a:lnTo>
                  <a:pt x="12031" y="17819"/>
                </a:lnTo>
                <a:lnTo>
                  <a:pt x="12008" y="17743"/>
                </a:lnTo>
                <a:lnTo>
                  <a:pt x="11962" y="17682"/>
                </a:lnTo>
                <a:lnTo>
                  <a:pt x="11916" y="17606"/>
                </a:lnTo>
                <a:lnTo>
                  <a:pt x="11871" y="17560"/>
                </a:lnTo>
                <a:lnTo>
                  <a:pt x="11871" y="17560"/>
                </a:lnTo>
                <a:lnTo>
                  <a:pt x="11848" y="17682"/>
                </a:lnTo>
                <a:lnTo>
                  <a:pt x="11836" y="17788"/>
                </a:lnTo>
                <a:lnTo>
                  <a:pt x="11848" y="17895"/>
                </a:lnTo>
                <a:lnTo>
                  <a:pt x="11871" y="17971"/>
                </a:lnTo>
                <a:lnTo>
                  <a:pt x="11916" y="18048"/>
                </a:lnTo>
                <a:lnTo>
                  <a:pt x="11985" y="18093"/>
                </a:lnTo>
                <a:lnTo>
                  <a:pt x="12077" y="18139"/>
                </a:lnTo>
                <a:lnTo>
                  <a:pt x="12169" y="18169"/>
                </a:lnTo>
                <a:close/>
                <a:moveTo>
                  <a:pt x="15985" y="17895"/>
                </a:moveTo>
                <a:lnTo>
                  <a:pt x="15985" y="17895"/>
                </a:lnTo>
                <a:lnTo>
                  <a:pt x="16065" y="18017"/>
                </a:lnTo>
                <a:lnTo>
                  <a:pt x="16088" y="18048"/>
                </a:lnTo>
                <a:lnTo>
                  <a:pt x="16088" y="18032"/>
                </a:lnTo>
                <a:lnTo>
                  <a:pt x="16042" y="17880"/>
                </a:lnTo>
                <a:lnTo>
                  <a:pt x="15939" y="17560"/>
                </a:lnTo>
                <a:lnTo>
                  <a:pt x="15939" y="17560"/>
                </a:lnTo>
                <a:lnTo>
                  <a:pt x="15916" y="17651"/>
                </a:lnTo>
                <a:lnTo>
                  <a:pt x="15927" y="17727"/>
                </a:lnTo>
                <a:lnTo>
                  <a:pt x="15939" y="17819"/>
                </a:lnTo>
                <a:lnTo>
                  <a:pt x="15985" y="17895"/>
                </a:lnTo>
                <a:close/>
                <a:moveTo>
                  <a:pt x="16134" y="18017"/>
                </a:moveTo>
                <a:lnTo>
                  <a:pt x="16134" y="18017"/>
                </a:lnTo>
                <a:lnTo>
                  <a:pt x="16283" y="17910"/>
                </a:lnTo>
                <a:lnTo>
                  <a:pt x="16374" y="17788"/>
                </a:lnTo>
                <a:lnTo>
                  <a:pt x="16466" y="17682"/>
                </a:lnTo>
                <a:lnTo>
                  <a:pt x="16523" y="17560"/>
                </a:lnTo>
                <a:lnTo>
                  <a:pt x="16534" y="17453"/>
                </a:lnTo>
                <a:lnTo>
                  <a:pt x="16546" y="17346"/>
                </a:lnTo>
                <a:lnTo>
                  <a:pt x="16523" y="17240"/>
                </a:lnTo>
                <a:lnTo>
                  <a:pt x="16512" y="17164"/>
                </a:lnTo>
                <a:lnTo>
                  <a:pt x="16443" y="17087"/>
                </a:lnTo>
                <a:lnTo>
                  <a:pt x="16374" y="17026"/>
                </a:lnTo>
                <a:lnTo>
                  <a:pt x="16305" y="16981"/>
                </a:lnTo>
                <a:lnTo>
                  <a:pt x="16214" y="16950"/>
                </a:lnTo>
                <a:lnTo>
                  <a:pt x="16122" y="16965"/>
                </a:lnTo>
                <a:lnTo>
                  <a:pt x="16007" y="16996"/>
                </a:lnTo>
                <a:lnTo>
                  <a:pt x="15893" y="17057"/>
                </a:lnTo>
                <a:lnTo>
                  <a:pt x="15778" y="17148"/>
                </a:lnTo>
                <a:lnTo>
                  <a:pt x="15778" y="17148"/>
                </a:lnTo>
                <a:lnTo>
                  <a:pt x="15881" y="17103"/>
                </a:lnTo>
                <a:lnTo>
                  <a:pt x="15962" y="17057"/>
                </a:lnTo>
                <a:lnTo>
                  <a:pt x="16053" y="17042"/>
                </a:lnTo>
                <a:lnTo>
                  <a:pt x="16134" y="17042"/>
                </a:lnTo>
                <a:lnTo>
                  <a:pt x="16134" y="17042"/>
                </a:lnTo>
                <a:lnTo>
                  <a:pt x="16202" y="17042"/>
                </a:lnTo>
                <a:lnTo>
                  <a:pt x="16271" y="17057"/>
                </a:lnTo>
                <a:lnTo>
                  <a:pt x="16328" y="17103"/>
                </a:lnTo>
                <a:lnTo>
                  <a:pt x="16374" y="17133"/>
                </a:lnTo>
                <a:lnTo>
                  <a:pt x="16397" y="17179"/>
                </a:lnTo>
                <a:lnTo>
                  <a:pt x="16432" y="17225"/>
                </a:lnTo>
                <a:lnTo>
                  <a:pt x="16443" y="17301"/>
                </a:lnTo>
                <a:lnTo>
                  <a:pt x="16454" y="17362"/>
                </a:lnTo>
                <a:lnTo>
                  <a:pt x="16454" y="17438"/>
                </a:lnTo>
                <a:lnTo>
                  <a:pt x="16443" y="17514"/>
                </a:lnTo>
                <a:lnTo>
                  <a:pt x="16420" y="17590"/>
                </a:lnTo>
                <a:lnTo>
                  <a:pt x="16385" y="17682"/>
                </a:lnTo>
                <a:lnTo>
                  <a:pt x="16340" y="17758"/>
                </a:lnTo>
                <a:lnTo>
                  <a:pt x="16294" y="17849"/>
                </a:lnTo>
                <a:lnTo>
                  <a:pt x="16225" y="17941"/>
                </a:lnTo>
                <a:lnTo>
                  <a:pt x="16134" y="18017"/>
                </a:lnTo>
                <a:close/>
                <a:moveTo>
                  <a:pt x="13097" y="18017"/>
                </a:moveTo>
                <a:lnTo>
                  <a:pt x="13097" y="18017"/>
                </a:lnTo>
                <a:lnTo>
                  <a:pt x="13086" y="17956"/>
                </a:lnTo>
                <a:lnTo>
                  <a:pt x="13086" y="17895"/>
                </a:lnTo>
                <a:lnTo>
                  <a:pt x="13074" y="17819"/>
                </a:lnTo>
                <a:lnTo>
                  <a:pt x="13051" y="17773"/>
                </a:lnTo>
                <a:lnTo>
                  <a:pt x="13017" y="17727"/>
                </a:lnTo>
                <a:lnTo>
                  <a:pt x="12994" y="17697"/>
                </a:lnTo>
                <a:lnTo>
                  <a:pt x="12937" y="17651"/>
                </a:lnTo>
                <a:lnTo>
                  <a:pt x="12890" y="17621"/>
                </a:lnTo>
                <a:lnTo>
                  <a:pt x="12890" y="17621"/>
                </a:lnTo>
                <a:lnTo>
                  <a:pt x="12879" y="17819"/>
                </a:lnTo>
                <a:lnTo>
                  <a:pt x="12890" y="17895"/>
                </a:lnTo>
                <a:lnTo>
                  <a:pt x="12902" y="17941"/>
                </a:lnTo>
                <a:lnTo>
                  <a:pt x="12925" y="17987"/>
                </a:lnTo>
                <a:lnTo>
                  <a:pt x="12959" y="18002"/>
                </a:lnTo>
                <a:lnTo>
                  <a:pt x="13017" y="18017"/>
                </a:lnTo>
                <a:lnTo>
                  <a:pt x="13097" y="18017"/>
                </a:lnTo>
                <a:close/>
                <a:moveTo>
                  <a:pt x="12524" y="17895"/>
                </a:moveTo>
                <a:lnTo>
                  <a:pt x="12524" y="17895"/>
                </a:lnTo>
                <a:lnTo>
                  <a:pt x="12581" y="17926"/>
                </a:lnTo>
                <a:lnTo>
                  <a:pt x="12639" y="17956"/>
                </a:lnTo>
                <a:lnTo>
                  <a:pt x="12684" y="17971"/>
                </a:lnTo>
                <a:lnTo>
                  <a:pt x="12730" y="17971"/>
                </a:lnTo>
                <a:lnTo>
                  <a:pt x="12730" y="17971"/>
                </a:lnTo>
                <a:lnTo>
                  <a:pt x="12719" y="17819"/>
                </a:lnTo>
                <a:lnTo>
                  <a:pt x="12696" y="17697"/>
                </a:lnTo>
                <a:lnTo>
                  <a:pt x="12661" y="17575"/>
                </a:lnTo>
                <a:lnTo>
                  <a:pt x="12616" y="17468"/>
                </a:lnTo>
                <a:lnTo>
                  <a:pt x="12558" y="17392"/>
                </a:lnTo>
                <a:lnTo>
                  <a:pt x="12490" y="17301"/>
                </a:lnTo>
                <a:lnTo>
                  <a:pt x="12329" y="17148"/>
                </a:lnTo>
                <a:lnTo>
                  <a:pt x="12329" y="17148"/>
                </a:lnTo>
                <a:lnTo>
                  <a:pt x="12306" y="17255"/>
                </a:lnTo>
                <a:lnTo>
                  <a:pt x="12306" y="17362"/>
                </a:lnTo>
                <a:lnTo>
                  <a:pt x="12318" y="17468"/>
                </a:lnTo>
                <a:lnTo>
                  <a:pt x="12352" y="17560"/>
                </a:lnTo>
                <a:lnTo>
                  <a:pt x="12375" y="17651"/>
                </a:lnTo>
                <a:lnTo>
                  <a:pt x="12421" y="17727"/>
                </a:lnTo>
                <a:lnTo>
                  <a:pt x="12467" y="17819"/>
                </a:lnTo>
                <a:lnTo>
                  <a:pt x="12524" y="17895"/>
                </a:lnTo>
                <a:close/>
                <a:moveTo>
                  <a:pt x="17635" y="17895"/>
                </a:moveTo>
                <a:lnTo>
                  <a:pt x="17635" y="17895"/>
                </a:lnTo>
                <a:lnTo>
                  <a:pt x="17818" y="17880"/>
                </a:lnTo>
                <a:lnTo>
                  <a:pt x="17978" y="17834"/>
                </a:lnTo>
                <a:lnTo>
                  <a:pt x="18105" y="17788"/>
                </a:lnTo>
                <a:lnTo>
                  <a:pt x="18230" y="17712"/>
                </a:lnTo>
                <a:lnTo>
                  <a:pt x="18311" y="17621"/>
                </a:lnTo>
                <a:lnTo>
                  <a:pt x="18402" y="17499"/>
                </a:lnTo>
                <a:lnTo>
                  <a:pt x="18459" y="17392"/>
                </a:lnTo>
                <a:lnTo>
                  <a:pt x="18517" y="17225"/>
                </a:lnTo>
                <a:lnTo>
                  <a:pt x="18563" y="17072"/>
                </a:lnTo>
                <a:lnTo>
                  <a:pt x="18597" y="16920"/>
                </a:lnTo>
                <a:lnTo>
                  <a:pt x="18620" y="16722"/>
                </a:lnTo>
                <a:lnTo>
                  <a:pt x="18643" y="16539"/>
                </a:lnTo>
                <a:lnTo>
                  <a:pt x="18666" y="16157"/>
                </a:lnTo>
                <a:lnTo>
                  <a:pt x="18712" y="15730"/>
                </a:lnTo>
                <a:lnTo>
                  <a:pt x="18712" y="15730"/>
                </a:lnTo>
                <a:lnTo>
                  <a:pt x="18643" y="15730"/>
                </a:lnTo>
                <a:lnTo>
                  <a:pt x="18586" y="15761"/>
                </a:lnTo>
                <a:lnTo>
                  <a:pt x="18517" y="15807"/>
                </a:lnTo>
                <a:lnTo>
                  <a:pt x="18459" y="15852"/>
                </a:lnTo>
                <a:lnTo>
                  <a:pt x="18414" y="15913"/>
                </a:lnTo>
                <a:lnTo>
                  <a:pt x="18368" y="15990"/>
                </a:lnTo>
                <a:lnTo>
                  <a:pt x="18276" y="16173"/>
                </a:lnTo>
                <a:lnTo>
                  <a:pt x="18207" y="16356"/>
                </a:lnTo>
                <a:lnTo>
                  <a:pt x="18127" y="16539"/>
                </a:lnTo>
                <a:lnTo>
                  <a:pt x="18058" y="16737"/>
                </a:lnTo>
                <a:lnTo>
                  <a:pt x="18013" y="16904"/>
                </a:lnTo>
                <a:lnTo>
                  <a:pt x="18013" y="16904"/>
                </a:lnTo>
                <a:lnTo>
                  <a:pt x="18036" y="16722"/>
                </a:lnTo>
                <a:lnTo>
                  <a:pt x="18058" y="16523"/>
                </a:lnTo>
                <a:lnTo>
                  <a:pt x="18081" y="16310"/>
                </a:lnTo>
                <a:lnTo>
                  <a:pt x="18139" y="16096"/>
                </a:lnTo>
                <a:lnTo>
                  <a:pt x="18196" y="15898"/>
                </a:lnTo>
                <a:lnTo>
                  <a:pt x="18230" y="15791"/>
                </a:lnTo>
                <a:lnTo>
                  <a:pt x="18265" y="15700"/>
                </a:lnTo>
                <a:lnTo>
                  <a:pt x="18311" y="15639"/>
                </a:lnTo>
                <a:lnTo>
                  <a:pt x="18368" y="15563"/>
                </a:lnTo>
                <a:lnTo>
                  <a:pt x="18437" y="15502"/>
                </a:lnTo>
                <a:lnTo>
                  <a:pt x="18494" y="15471"/>
                </a:lnTo>
                <a:lnTo>
                  <a:pt x="18494" y="15471"/>
                </a:lnTo>
                <a:lnTo>
                  <a:pt x="18540" y="15471"/>
                </a:lnTo>
                <a:lnTo>
                  <a:pt x="18597" y="15471"/>
                </a:lnTo>
                <a:lnTo>
                  <a:pt x="18643" y="15441"/>
                </a:lnTo>
                <a:lnTo>
                  <a:pt x="18677" y="15426"/>
                </a:lnTo>
                <a:lnTo>
                  <a:pt x="18723" y="15395"/>
                </a:lnTo>
                <a:lnTo>
                  <a:pt x="18757" y="15365"/>
                </a:lnTo>
                <a:lnTo>
                  <a:pt x="18792" y="15319"/>
                </a:lnTo>
                <a:lnTo>
                  <a:pt x="18815" y="15243"/>
                </a:lnTo>
                <a:lnTo>
                  <a:pt x="18815" y="15243"/>
                </a:lnTo>
                <a:lnTo>
                  <a:pt x="18906" y="15075"/>
                </a:lnTo>
                <a:lnTo>
                  <a:pt x="18975" y="14923"/>
                </a:lnTo>
                <a:lnTo>
                  <a:pt x="19033" y="14801"/>
                </a:lnTo>
                <a:lnTo>
                  <a:pt x="19078" y="14633"/>
                </a:lnTo>
                <a:lnTo>
                  <a:pt x="19090" y="14587"/>
                </a:lnTo>
                <a:lnTo>
                  <a:pt x="19101" y="14511"/>
                </a:lnTo>
                <a:lnTo>
                  <a:pt x="19090" y="14450"/>
                </a:lnTo>
                <a:lnTo>
                  <a:pt x="19090" y="14389"/>
                </a:lnTo>
                <a:lnTo>
                  <a:pt x="19055" y="14359"/>
                </a:lnTo>
                <a:lnTo>
                  <a:pt x="19021" y="14313"/>
                </a:lnTo>
                <a:lnTo>
                  <a:pt x="19021" y="14313"/>
                </a:lnTo>
                <a:lnTo>
                  <a:pt x="18941" y="14374"/>
                </a:lnTo>
                <a:lnTo>
                  <a:pt x="18838" y="14466"/>
                </a:lnTo>
                <a:lnTo>
                  <a:pt x="18643" y="14618"/>
                </a:lnTo>
                <a:lnTo>
                  <a:pt x="18414" y="14740"/>
                </a:lnTo>
                <a:lnTo>
                  <a:pt x="18162" y="14877"/>
                </a:lnTo>
                <a:lnTo>
                  <a:pt x="18162" y="14877"/>
                </a:lnTo>
                <a:lnTo>
                  <a:pt x="18219" y="14801"/>
                </a:lnTo>
                <a:lnTo>
                  <a:pt x="18254" y="14709"/>
                </a:lnTo>
                <a:lnTo>
                  <a:pt x="18254" y="14709"/>
                </a:lnTo>
                <a:lnTo>
                  <a:pt x="18173" y="14572"/>
                </a:lnTo>
                <a:lnTo>
                  <a:pt x="18139" y="14527"/>
                </a:lnTo>
                <a:lnTo>
                  <a:pt x="18093" y="14466"/>
                </a:lnTo>
                <a:lnTo>
                  <a:pt x="18070" y="14450"/>
                </a:lnTo>
                <a:lnTo>
                  <a:pt x="18036" y="14435"/>
                </a:lnTo>
                <a:lnTo>
                  <a:pt x="18013" y="14435"/>
                </a:lnTo>
                <a:lnTo>
                  <a:pt x="17978" y="14466"/>
                </a:lnTo>
                <a:lnTo>
                  <a:pt x="17944" y="14481"/>
                </a:lnTo>
                <a:lnTo>
                  <a:pt x="17921" y="14527"/>
                </a:lnTo>
                <a:lnTo>
                  <a:pt x="17887" y="14587"/>
                </a:lnTo>
                <a:lnTo>
                  <a:pt x="17875" y="14633"/>
                </a:lnTo>
                <a:lnTo>
                  <a:pt x="17829" y="14816"/>
                </a:lnTo>
                <a:lnTo>
                  <a:pt x="17795" y="15060"/>
                </a:lnTo>
                <a:lnTo>
                  <a:pt x="17795" y="15060"/>
                </a:lnTo>
                <a:lnTo>
                  <a:pt x="17807" y="15060"/>
                </a:lnTo>
                <a:lnTo>
                  <a:pt x="17807" y="15060"/>
                </a:lnTo>
                <a:lnTo>
                  <a:pt x="17337" y="15289"/>
                </a:lnTo>
                <a:lnTo>
                  <a:pt x="17119" y="15410"/>
                </a:lnTo>
                <a:lnTo>
                  <a:pt x="16924" y="15548"/>
                </a:lnTo>
                <a:lnTo>
                  <a:pt x="16741" y="15670"/>
                </a:lnTo>
                <a:lnTo>
                  <a:pt x="16661" y="15746"/>
                </a:lnTo>
                <a:lnTo>
                  <a:pt x="16592" y="15822"/>
                </a:lnTo>
                <a:lnTo>
                  <a:pt x="16523" y="15898"/>
                </a:lnTo>
                <a:lnTo>
                  <a:pt x="16477" y="15959"/>
                </a:lnTo>
                <a:lnTo>
                  <a:pt x="16432" y="16051"/>
                </a:lnTo>
                <a:lnTo>
                  <a:pt x="16397" y="16142"/>
                </a:lnTo>
                <a:lnTo>
                  <a:pt x="16397" y="16142"/>
                </a:lnTo>
                <a:lnTo>
                  <a:pt x="16500" y="16157"/>
                </a:lnTo>
                <a:lnTo>
                  <a:pt x="16592" y="16173"/>
                </a:lnTo>
                <a:lnTo>
                  <a:pt x="16706" y="16234"/>
                </a:lnTo>
                <a:lnTo>
                  <a:pt x="16798" y="16295"/>
                </a:lnTo>
                <a:lnTo>
                  <a:pt x="17004" y="16432"/>
                </a:lnTo>
                <a:lnTo>
                  <a:pt x="17199" y="16600"/>
                </a:lnTo>
                <a:lnTo>
                  <a:pt x="17394" y="16752"/>
                </a:lnTo>
                <a:lnTo>
                  <a:pt x="17497" y="16813"/>
                </a:lnTo>
                <a:lnTo>
                  <a:pt x="17589" y="16874"/>
                </a:lnTo>
                <a:lnTo>
                  <a:pt x="17692" y="16920"/>
                </a:lnTo>
                <a:lnTo>
                  <a:pt x="17795" y="16950"/>
                </a:lnTo>
                <a:lnTo>
                  <a:pt x="17875" y="16950"/>
                </a:lnTo>
                <a:lnTo>
                  <a:pt x="17990" y="16950"/>
                </a:lnTo>
                <a:lnTo>
                  <a:pt x="17990" y="16950"/>
                </a:lnTo>
                <a:lnTo>
                  <a:pt x="17875" y="17179"/>
                </a:lnTo>
                <a:lnTo>
                  <a:pt x="17795" y="17407"/>
                </a:lnTo>
                <a:lnTo>
                  <a:pt x="17703" y="17651"/>
                </a:lnTo>
                <a:lnTo>
                  <a:pt x="17635" y="17895"/>
                </a:lnTo>
                <a:close/>
                <a:moveTo>
                  <a:pt x="11653" y="17895"/>
                </a:moveTo>
                <a:lnTo>
                  <a:pt x="11653" y="17895"/>
                </a:lnTo>
                <a:lnTo>
                  <a:pt x="11653" y="16950"/>
                </a:lnTo>
                <a:lnTo>
                  <a:pt x="11653" y="16950"/>
                </a:lnTo>
                <a:lnTo>
                  <a:pt x="11584" y="17179"/>
                </a:lnTo>
                <a:lnTo>
                  <a:pt x="11527" y="17331"/>
                </a:lnTo>
                <a:lnTo>
                  <a:pt x="11504" y="17484"/>
                </a:lnTo>
                <a:lnTo>
                  <a:pt x="11504" y="17560"/>
                </a:lnTo>
                <a:lnTo>
                  <a:pt x="11493" y="17651"/>
                </a:lnTo>
                <a:lnTo>
                  <a:pt x="11493" y="17712"/>
                </a:lnTo>
                <a:lnTo>
                  <a:pt x="11504" y="17758"/>
                </a:lnTo>
                <a:lnTo>
                  <a:pt x="11515" y="17819"/>
                </a:lnTo>
                <a:lnTo>
                  <a:pt x="11550" y="17865"/>
                </a:lnTo>
                <a:lnTo>
                  <a:pt x="11596" y="17895"/>
                </a:lnTo>
                <a:lnTo>
                  <a:pt x="11653" y="17895"/>
                </a:lnTo>
                <a:close/>
                <a:moveTo>
                  <a:pt x="15159" y="17819"/>
                </a:moveTo>
                <a:lnTo>
                  <a:pt x="15159" y="17819"/>
                </a:lnTo>
                <a:lnTo>
                  <a:pt x="15228" y="17758"/>
                </a:lnTo>
                <a:lnTo>
                  <a:pt x="15251" y="17727"/>
                </a:lnTo>
                <a:lnTo>
                  <a:pt x="15262" y="17712"/>
                </a:lnTo>
                <a:lnTo>
                  <a:pt x="15251" y="17712"/>
                </a:lnTo>
                <a:lnTo>
                  <a:pt x="15251" y="17712"/>
                </a:lnTo>
                <a:lnTo>
                  <a:pt x="15228" y="17712"/>
                </a:lnTo>
                <a:lnTo>
                  <a:pt x="15194" y="17727"/>
                </a:lnTo>
                <a:lnTo>
                  <a:pt x="15171" y="17773"/>
                </a:lnTo>
                <a:lnTo>
                  <a:pt x="15159" y="17804"/>
                </a:lnTo>
                <a:lnTo>
                  <a:pt x="15159" y="17819"/>
                </a:lnTo>
                <a:close/>
                <a:moveTo>
                  <a:pt x="5522" y="17209"/>
                </a:moveTo>
                <a:lnTo>
                  <a:pt x="5522" y="17209"/>
                </a:lnTo>
                <a:lnTo>
                  <a:pt x="5511" y="17362"/>
                </a:lnTo>
                <a:lnTo>
                  <a:pt x="5500" y="17468"/>
                </a:lnTo>
                <a:lnTo>
                  <a:pt x="5500" y="17529"/>
                </a:lnTo>
                <a:lnTo>
                  <a:pt x="5511" y="17575"/>
                </a:lnTo>
                <a:lnTo>
                  <a:pt x="5522" y="17636"/>
                </a:lnTo>
                <a:lnTo>
                  <a:pt x="5534" y="17667"/>
                </a:lnTo>
                <a:lnTo>
                  <a:pt x="5580" y="17727"/>
                </a:lnTo>
                <a:lnTo>
                  <a:pt x="5660" y="17773"/>
                </a:lnTo>
                <a:lnTo>
                  <a:pt x="5729" y="17819"/>
                </a:lnTo>
                <a:lnTo>
                  <a:pt x="5843" y="17819"/>
                </a:lnTo>
                <a:lnTo>
                  <a:pt x="5843" y="17819"/>
                </a:lnTo>
                <a:lnTo>
                  <a:pt x="5866" y="17606"/>
                </a:lnTo>
                <a:lnTo>
                  <a:pt x="5866" y="17453"/>
                </a:lnTo>
                <a:lnTo>
                  <a:pt x="5866" y="17301"/>
                </a:lnTo>
                <a:lnTo>
                  <a:pt x="5866" y="17164"/>
                </a:lnTo>
                <a:lnTo>
                  <a:pt x="5843" y="17042"/>
                </a:lnTo>
                <a:lnTo>
                  <a:pt x="5832" y="16996"/>
                </a:lnTo>
                <a:lnTo>
                  <a:pt x="5809" y="16950"/>
                </a:lnTo>
                <a:lnTo>
                  <a:pt x="5786" y="16950"/>
                </a:lnTo>
                <a:lnTo>
                  <a:pt x="5763" y="16935"/>
                </a:lnTo>
                <a:lnTo>
                  <a:pt x="5763" y="16935"/>
                </a:lnTo>
                <a:lnTo>
                  <a:pt x="5717" y="16950"/>
                </a:lnTo>
                <a:lnTo>
                  <a:pt x="5671" y="16996"/>
                </a:lnTo>
                <a:lnTo>
                  <a:pt x="5603" y="17087"/>
                </a:lnTo>
                <a:lnTo>
                  <a:pt x="5522" y="17209"/>
                </a:lnTo>
                <a:close/>
                <a:moveTo>
                  <a:pt x="13303" y="17743"/>
                </a:moveTo>
                <a:lnTo>
                  <a:pt x="13303" y="17743"/>
                </a:lnTo>
                <a:lnTo>
                  <a:pt x="13372" y="17743"/>
                </a:lnTo>
                <a:lnTo>
                  <a:pt x="13441" y="17743"/>
                </a:lnTo>
                <a:lnTo>
                  <a:pt x="13498" y="17727"/>
                </a:lnTo>
                <a:lnTo>
                  <a:pt x="13544" y="17712"/>
                </a:lnTo>
                <a:lnTo>
                  <a:pt x="13589" y="17667"/>
                </a:lnTo>
                <a:lnTo>
                  <a:pt x="13624" y="17621"/>
                </a:lnTo>
                <a:lnTo>
                  <a:pt x="13647" y="17560"/>
                </a:lnTo>
                <a:lnTo>
                  <a:pt x="13658" y="17468"/>
                </a:lnTo>
                <a:lnTo>
                  <a:pt x="13658" y="17468"/>
                </a:lnTo>
                <a:lnTo>
                  <a:pt x="13613" y="17423"/>
                </a:lnTo>
                <a:lnTo>
                  <a:pt x="13544" y="17362"/>
                </a:lnTo>
                <a:lnTo>
                  <a:pt x="13372" y="17240"/>
                </a:lnTo>
                <a:lnTo>
                  <a:pt x="13200" y="17148"/>
                </a:lnTo>
                <a:lnTo>
                  <a:pt x="13051" y="17072"/>
                </a:lnTo>
                <a:lnTo>
                  <a:pt x="13051" y="17072"/>
                </a:lnTo>
                <a:lnTo>
                  <a:pt x="13039" y="17194"/>
                </a:lnTo>
                <a:lnTo>
                  <a:pt x="13051" y="17301"/>
                </a:lnTo>
                <a:lnTo>
                  <a:pt x="13051" y="17392"/>
                </a:lnTo>
                <a:lnTo>
                  <a:pt x="13086" y="17468"/>
                </a:lnTo>
                <a:lnTo>
                  <a:pt x="13131" y="17545"/>
                </a:lnTo>
                <a:lnTo>
                  <a:pt x="13188" y="17621"/>
                </a:lnTo>
                <a:lnTo>
                  <a:pt x="13303" y="17743"/>
                </a:lnTo>
                <a:close/>
                <a:moveTo>
                  <a:pt x="11137" y="17743"/>
                </a:moveTo>
                <a:lnTo>
                  <a:pt x="11137" y="17743"/>
                </a:lnTo>
                <a:lnTo>
                  <a:pt x="11183" y="17667"/>
                </a:lnTo>
                <a:lnTo>
                  <a:pt x="11206" y="17560"/>
                </a:lnTo>
                <a:lnTo>
                  <a:pt x="11217" y="17468"/>
                </a:lnTo>
                <a:lnTo>
                  <a:pt x="11217" y="17392"/>
                </a:lnTo>
                <a:lnTo>
                  <a:pt x="11183" y="17301"/>
                </a:lnTo>
                <a:lnTo>
                  <a:pt x="11149" y="17209"/>
                </a:lnTo>
                <a:lnTo>
                  <a:pt x="11103" y="17133"/>
                </a:lnTo>
                <a:lnTo>
                  <a:pt x="11034" y="17072"/>
                </a:lnTo>
                <a:lnTo>
                  <a:pt x="11034" y="17072"/>
                </a:lnTo>
                <a:lnTo>
                  <a:pt x="10988" y="17179"/>
                </a:lnTo>
                <a:lnTo>
                  <a:pt x="10943" y="17255"/>
                </a:lnTo>
                <a:lnTo>
                  <a:pt x="10931" y="17346"/>
                </a:lnTo>
                <a:lnTo>
                  <a:pt x="10931" y="17438"/>
                </a:lnTo>
                <a:lnTo>
                  <a:pt x="10954" y="17514"/>
                </a:lnTo>
                <a:lnTo>
                  <a:pt x="11011" y="17590"/>
                </a:lnTo>
                <a:lnTo>
                  <a:pt x="11069" y="17682"/>
                </a:lnTo>
                <a:lnTo>
                  <a:pt x="11137" y="17743"/>
                </a:lnTo>
                <a:close/>
                <a:moveTo>
                  <a:pt x="2383" y="17468"/>
                </a:moveTo>
                <a:lnTo>
                  <a:pt x="2383" y="17468"/>
                </a:lnTo>
                <a:lnTo>
                  <a:pt x="2440" y="17514"/>
                </a:lnTo>
                <a:lnTo>
                  <a:pt x="2497" y="17529"/>
                </a:lnTo>
                <a:lnTo>
                  <a:pt x="2566" y="17545"/>
                </a:lnTo>
                <a:lnTo>
                  <a:pt x="2635" y="17560"/>
                </a:lnTo>
                <a:lnTo>
                  <a:pt x="2784" y="17560"/>
                </a:lnTo>
                <a:lnTo>
                  <a:pt x="2944" y="17529"/>
                </a:lnTo>
                <a:lnTo>
                  <a:pt x="3254" y="17468"/>
                </a:lnTo>
                <a:lnTo>
                  <a:pt x="3517" y="17423"/>
                </a:lnTo>
                <a:lnTo>
                  <a:pt x="3517" y="17423"/>
                </a:lnTo>
                <a:lnTo>
                  <a:pt x="3506" y="17255"/>
                </a:lnTo>
                <a:lnTo>
                  <a:pt x="3494" y="17194"/>
                </a:lnTo>
                <a:lnTo>
                  <a:pt x="3483" y="17164"/>
                </a:lnTo>
                <a:lnTo>
                  <a:pt x="3448" y="17118"/>
                </a:lnTo>
                <a:lnTo>
                  <a:pt x="3426" y="17072"/>
                </a:lnTo>
                <a:lnTo>
                  <a:pt x="3311" y="17011"/>
                </a:lnTo>
                <a:lnTo>
                  <a:pt x="3311" y="17011"/>
                </a:lnTo>
                <a:lnTo>
                  <a:pt x="3254" y="17057"/>
                </a:lnTo>
                <a:lnTo>
                  <a:pt x="3208" y="17118"/>
                </a:lnTo>
                <a:lnTo>
                  <a:pt x="3139" y="17148"/>
                </a:lnTo>
                <a:lnTo>
                  <a:pt x="3070" y="17179"/>
                </a:lnTo>
                <a:lnTo>
                  <a:pt x="2921" y="17209"/>
                </a:lnTo>
                <a:lnTo>
                  <a:pt x="2795" y="17255"/>
                </a:lnTo>
                <a:lnTo>
                  <a:pt x="2658" y="17301"/>
                </a:lnTo>
                <a:lnTo>
                  <a:pt x="2555" y="17331"/>
                </a:lnTo>
                <a:lnTo>
                  <a:pt x="2497" y="17362"/>
                </a:lnTo>
                <a:lnTo>
                  <a:pt x="2440" y="17392"/>
                </a:lnTo>
                <a:lnTo>
                  <a:pt x="2417" y="17438"/>
                </a:lnTo>
                <a:lnTo>
                  <a:pt x="2383" y="17468"/>
                </a:lnTo>
                <a:close/>
                <a:moveTo>
                  <a:pt x="12123" y="17560"/>
                </a:moveTo>
                <a:lnTo>
                  <a:pt x="12123" y="17560"/>
                </a:lnTo>
                <a:lnTo>
                  <a:pt x="12157" y="17545"/>
                </a:lnTo>
                <a:lnTo>
                  <a:pt x="12180" y="17514"/>
                </a:lnTo>
                <a:lnTo>
                  <a:pt x="12203" y="17468"/>
                </a:lnTo>
                <a:lnTo>
                  <a:pt x="12214" y="17423"/>
                </a:lnTo>
                <a:lnTo>
                  <a:pt x="12214" y="17362"/>
                </a:lnTo>
                <a:lnTo>
                  <a:pt x="12203" y="17285"/>
                </a:lnTo>
                <a:lnTo>
                  <a:pt x="12180" y="17133"/>
                </a:lnTo>
                <a:lnTo>
                  <a:pt x="12134" y="16950"/>
                </a:lnTo>
                <a:lnTo>
                  <a:pt x="12089" y="16798"/>
                </a:lnTo>
                <a:lnTo>
                  <a:pt x="12020" y="16691"/>
                </a:lnTo>
                <a:lnTo>
                  <a:pt x="11997" y="16630"/>
                </a:lnTo>
                <a:lnTo>
                  <a:pt x="11962" y="16615"/>
                </a:lnTo>
                <a:lnTo>
                  <a:pt x="11962" y="16615"/>
                </a:lnTo>
                <a:lnTo>
                  <a:pt x="11916" y="16737"/>
                </a:lnTo>
                <a:lnTo>
                  <a:pt x="11894" y="16874"/>
                </a:lnTo>
                <a:lnTo>
                  <a:pt x="11882" y="16996"/>
                </a:lnTo>
                <a:lnTo>
                  <a:pt x="11894" y="17133"/>
                </a:lnTo>
                <a:lnTo>
                  <a:pt x="11916" y="17240"/>
                </a:lnTo>
                <a:lnTo>
                  <a:pt x="11962" y="17346"/>
                </a:lnTo>
                <a:lnTo>
                  <a:pt x="12031" y="17453"/>
                </a:lnTo>
                <a:lnTo>
                  <a:pt x="12123" y="17560"/>
                </a:lnTo>
                <a:close/>
                <a:moveTo>
                  <a:pt x="10576" y="17072"/>
                </a:moveTo>
                <a:lnTo>
                  <a:pt x="10576" y="17072"/>
                </a:lnTo>
                <a:lnTo>
                  <a:pt x="10530" y="17560"/>
                </a:lnTo>
                <a:lnTo>
                  <a:pt x="10530" y="17560"/>
                </a:lnTo>
                <a:lnTo>
                  <a:pt x="10599" y="17545"/>
                </a:lnTo>
                <a:lnTo>
                  <a:pt x="10656" y="17529"/>
                </a:lnTo>
                <a:lnTo>
                  <a:pt x="10679" y="17499"/>
                </a:lnTo>
                <a:lnTo>
                  <a:pt x="10690" y="17468"/>
                </a:lnTo>
                <a:lnTo>
                  <a:pt x="10713" y="17438"/>
                </a:lnTo>
                <a:lnTo>
                  <a:pt x="10725" y="17392"/>
                </a:lnTo>
                <a:lnTo>
                  <a:pt x="10759" y="17331"/>
                </a:lnTo>
                <a:lnTo>
                  <a:pt x="10839" y="17285"/>
                </a:lnTo>
                <a:lnTo>
                  <a:pt x="10839" y="17285"/>
                </a:lnTo>
                <a:lnTo>
                  <a:pt x="10805" y="17194"/>
                </a:lnTo>
                <a:lnTo>
                  <a:pt x="10794" y="17164"/>
                </a:lnTo>
                <a:lnTo>
                  <a:pt x="10759" y="17133"/>
                </a:lnTo>
                <a:lnTo>
                  <a:pt x="10736" y="17103"/>
                </a:lnTo>
                <a:lnTo>
                  <a:pt x="10713" y="17087"/>
                </a:lnTo>
                <a:lnTo>
                  <a:pt x="10633" y="17072"/>
                </a:lnTo>
                <a:lnTo>
                  <a:pt x="10633" y="17072"/>
                </a:lnTo>
                <a:lnTo>
                  <a:pt x="10576" y="17072"/>
                </a:lnTo>
                <a:close/>
                <a:moveTo>
                  <a:pt x="10267" y="17560"/>
                </a:moveTo>
                <a:lnTo>
                  <a:pt x="10267" y="17560"/>
                </a:lnTo>
                <a:lnTo>
                  <a:pt x="10358" y="17560"/>
                </a:lnTo>
                <a:lnTo>
                  <a:pt x="10358" y="17560"/>
                </a:lnTo>
                <a:lnTo>
                  <a:pt x="10358" y="17011"/>
                </a:lnTo>
                <a:lnTo>
                  <a:pt x="10358" y="17011"/>
                </a:lnTo>
                <a:lnTo>
                  <a:pt x="10267" y="17560"/>
                </a:lnTo>
                <a:close/>
                <a:moveTo>
                  <a:pt x="5213" y="17468"/>
                </a:moveTo>
                <a:lnTo>
                  <a:pt x="5213" y="17468"/>
                </a:lnTo>
                <a:lnTo>
                  <a:pt x="5224" y="17316"/>
                </a:lnTo>
                <a:lnTo>
                  <a:pt x="5248" y="17194"/>
                </a:lnTo>
                <a:lnTo>
                  <a:pt x="5282" y="17072"/>
                </a:lnTo>
                <a:lnTo>
                  <a:pt x="5328" y="16965"/>
                </a:lnTo>
                <a:lnTo>
                  <a:pt x="5385" y="16889"/>
                </a:lnTo>
                <a:lnTo>
                  <a:pt x="5465" y="16828"/>
                </a:lnTo>
                <a:lnTo>
                  <a:pt x="5557" y="16783"/>
                </a:lnTo>
                <a:lnTo>
                  <a:pt x="5683" y="16737"/>
                </a:lnTo>
                <a:lnTo>
                  <a:pt x="5683" y="16737"/>
                </a:lnTo>
                <a:lnTo>
                  <a:pt x="5637" y="16691"/>
                </a:lnTo>
                <a:lnTo>
                  <a:pt x="5580" y="16630"/>
                </a:lnTo>
                <a:lnTo>
                  <a:pt x="5522" y="16600"/>
                </a:lnTo>
                <a:lnTo>
                  <a:pt x="5488" y="16554"/>
                </a:lnTo>
                <a:lnTo>
                  <a:pt x="5373" y="16523"/>
                </a:lnTo>
                <a:lnTo>
                  <a:pt x="5293" y="16508"/>
                </a:lnTo>
                <a:lnTo>
                  <a:pt x="5293" y="16508"/>
                </a:lnTo>
                <a:lnTo>
                  <a:pt x="5213" y="16508"/>
                </a:lnTo>
                <a:lnTo>
                  <a:pt x="5156" y="16523"/>
                </a:lnTo>
                <a:lnTo>
                  <a:pt x="5110" y="16554"/>
                </a:lnTo>
                <a:lnTo>
                  <a:pt x="5064" y="16600"/>
                </a:lnTo>
                <a:lnTo>
                  <a:pt x="5007" y="16645"/>
                </a:lnTo>
                <a:lnTo>
                  <a:pt x="4972" y="16691"/>
                </a:lnTo>
                <a:lnTo>
                  <a:pt x="4950" y="16767"/>
                </a:lnTo>
                <a:lnTo>
                  <a:pt x="4938" y="16828"/>
                </a:lnTo>
                <a:lnTo>
                  <a:pt x="4938" y="16904"/>
                </a:lnTo>
                <a:lnTo>
                  <a:pt x="4938" y="16981"/>
                </a:lnTo>
                <a:lnTo>
                  <a:pt x="4950" y="17057"/>
                </a:lnTo>
                <a:lnTo>
                  <a:pt x="4961" y="17148"/>
                </a:lnTo>
                <a:lnTo>
                  <a:pt x="5007" y="17225"/>
                </a:lnTo>
                <a:lnTo>
                  <a:pt x="5064" y="17316"/>
                </a:lnTo>
                <a:lnTo>
                  <a:pt x="5144" y="17407"/>
                </a:lnTo>
                <a:lnTo>
                  <a:pt x="5213" y="17468"/>
                </a:lnTo>
                <a:close/>
                <a:moveTo>
                  <a:pt x="10060" y="17423"/>
                </a:moveTo>
                <a:lnTo>
                  <a:pt x="10060" y="17423"/>
                </a:lnTo>
                <a:lnTo>
                  <a:pt x="10060" y="17316"/>
                </a:lnTo>
                <a:lnTo>
                  <a:pt x="10049" y="17225"/>
                </a:lnTo>
                <a:lnTo>
                  <a:pt x="10014" y="17148"/>
                </a:lnTo>
                <a:lnTo>
                  <a:pt x="10003" y="17057"/>
                </a:lnTo>
                <a:lnTo>
                  <a:pt x="9969" y="16981"/>
                </a:lnTo>
                <a:lnTo>
                  <a:pt x="9923" y="16935"/>
                </a:lnTo>
                <a:lnTo>
                  <a:pt x="9865" y="16874"/>
                </a:lnTo>
                <a:lnTo>
                  <a:pt x="9797" y="16798"/>
                </a:lnTo>
                <a:lnTo>
                  <a:pt x="9797" y="16798"/>
                </a:lnTo>
                <a:lnTo>
                  <a:pt x="9774" y="16950"/>
                </a:lnTo>
                <a:lnTo>
                  <a:pt x="9751" y="17057"/>
                </a:lnTo>
                <a:lnTo>
                  <a:pt x="9751" y="17164"/>
                </a:lnTo>
                <a:lnTo>
                  <a:pt x="9751" y="17194"/>
                </a:lnTo>
                <a:lnTo>
                  <a:pt x="9774" y="17225"/>
                </a:lnTo>
                <a:lnTo>
                  <a:pt x="9785" y="17270"/>
                </a:lnTo>
                <a:lnTo>
                  <a:pt x="9797" y="17301"/>
                </a:lnTo>
                <a:lnTo>
                  <a:pt x="9865" y="17346"/>
                </a:lnTo>
                <a:lnTo>
                  <a:pt x="9957" y="17392"/>
                </a:lnTo>
                <a:lnTo>
                  <a:pt x="10060" y="17423"/>
                </a:lnTo>
                <a:close/>
                <a:moveTo>
                  <a:pt x="14438" y="17209"/>
                </a:moveTo>
                <a:lnTo>
                  <a:pt x="14438" y="17209"/>
                </a:lnTo>
                <a:lnTo>
                  <a:pt x="14082" y="16950"/>
                </a:lnTo>
                <a:lnTo>
                  <a:pt x="14082" y="16950"/>
                </a:lnTo>
                <a:lnTo>
                  <a:pt x="14014" y="17087"/>
                </a:lnTo>
                <a:lnTo>
                  <a:pt x="13979" y="17194"/>
                </a:lnTo>
                <a:lnTo>
                  <a:pt x="13979" y="17240"/>
                </a:lnTo>
                <a:lnTo>
                  <a:pt x="13979" y="17285"/>
                </a:lnTo>
                <a:lnTo>
                  <a:pt x="13991" y="17301"/>
                </a:lnTo>
                <a:lnTo>
                  <a:pt x="14014" y="17331"/>
                </a:lnTo>
                <a:lnTo>
                  <a:pt x="14025" y="17346"/>
                </a:lnTo>
                <a:lnTo>
                  <a:pt x="14071" y="17346"/>
                </a:lnTo>
                <a:lnTo>
                  <a:pt x="14163" y="17331"/>
                </a:lnTo>
                <a:lnTo>
                  <a:pt x="14289" y="17301"/>
                </a:lnTo>
                <a:lnTo>
                  <a:pt x="14438" y="17209"/>
                </a:lnTo>
                <a:close/>
                <a:moveTo>
                  <a:pt x="12375" y="16950"/>
                </a:moveTo>
                <a:lnTo>
                  <a:pt x="12375" y="16950"/>
                </a:lnTo>
                <a:lnTo>
                  <a:pt x="12845" y="17285"/>
                </a:lnTo>
                <a:lnTo>
                  <a:pt x="12845" y="17285"/>
                </a:lnTo>
                <a:lnTo>
                  <a:pt x="12845" y="17164"/>
                </a:lnTo>
                <a:lnTo>
                  <a:pt x="12833" y="17026"/>
                </a:lnTo>
                <a:lnTo>
                  <a:pt x="12810" y="16904"/>
                </a:lnTo>
                <a:lnTo>
                  <a:pt x="12788" y="16783"/>
                </a:lnTo>
                <a:lnTo>
                  <a:pt x="12742" y="16676"/>
                </a:lnTo>
                <a:lnTo>
                  <a:pt x="12684" y="16569"/>
                </a:lnTo>
                <a:lnTo>
                  <a:pt x="12627" y="16478"/>
                </a:lnTo>
                <a:lnTo>
                  <a:pt x="12524" y="16417"/>
                </a:lnTo>
                <a:lnTo>
                  <a:pt x="12524" y="16417"/>
                </a:lnTo>
                <a:lnTo>
                  <a:pt x="12375" y="16950"/>
                </a:lnTo>
                <a:close/>
                <a:moveTo>
                  <a:pt x="13727" y="17209"/>
                </a:moveTo>
                <a:lnTo>
                  <a:pt x="13727" y="17209"/>
                </a:lnTo>
                <a:lnTo>
                  <a:pt x="13716" y="17133"/>
                </a:lnTo>
                <a:lnTo>
                  <a:pt x="13727" y="17026"/>
                </a:lnTo>
                <a:lnTo>
                  <a:pt x="13773" y="16950"/>
                </a:lnTo>
                <a:lnTo>
                  <a:pt x="13819" y="16874"/>
                </a:lnTo>
                <a:lnTo>
                  <a:pt x="13819" y="16874"/>
                </a:lnTo>
                <a:lnTo>
                  <a:pt x="13624" y="16798"/>
                </a:lnTo>
                <a:lnTo>
                  <a:pt x="13624" y="16798"/>
                </a:lnTo>
                <a:lnTo>
                  <a:pt x="13624" y="16935"/>
                </a:lnTo>
                <a:lnTo>
                  <a:pt x="13624" y="17026"/>
                </a:lnTo>
                <a:lnTo>
                  <a:pt x="13658" y="17133"/>
                </a:lnTo>
                <a:lnTo>
                  <a:pt x="13727" y="17209"/>
                </a:lnTo>
                <a:close/>
                <a:moveTo>
                  <a:pt x="11298" y="17148"/>
                </a:moveTo>
                <a:lnTo>
                  <a:pt x="11298" y="17148"/>
                </a:lnTo>
                <a:lnTo>
                  <a:pt x="11332" y="17133"/>
                </a:lnTo>
                <a:lnTo>
                  <a:pt x="11366" y="17133"/>
                </a:lnTo>
                <a:lnTo>
                  <a:pt x="11389" y="17103"/>
                </a:lnTo>
                <a:lnTo>
                  <a:pt x="11413" y="17057"/>
                </a:lnTo>
                <a:lnTo>
                  <a:pt x="11435" y="17026"/>
                </a:lnTo>
                <a:lnTo>
                  <a:pt x="11435" y="16965"/>
                </a:lnTo>
                <a:lnTo>
                  <a:pt x="11447" y="16874"/>
                </a:lnTo>
                <a:lnTo>
                  <a:pt x="11435" y="16752"/>
                </a:lnTo>
                <a:lnTo>
                  <a:pt x="11413" y="16645"/>
                </a:lnTo>
                <a:lnTo>
                  <a:pt x="11378" y="16539"/>
                </a:lnTo>
                <a:lnTo>
                  <a:pt x="11344" y="16462"/>
                </a:lnTo>
                <a:lnTo>
                  <a:pt x="11344" y="16462"/>
                </a:lnTo>
                <a:lnTo>
                  <a:pt x="11309" y="16554"/>
                </a:lnTo>
                <a:lnTo>
                  <a:pt x="11298" y="16630"/>
                </a:lnTo>
                <a:lnTo>
                  <a:pt x="11275" y="16706"/>
                </a:lnTo>
                <a:lnTo>
                  <a:pt x="11264" y="16798"/>
                </a:lnTo>
                <a:lnTo>
                  <a:pt x="11264" y="16889"/>
                </a:lnTo>
                <a:lnTo>
                  <a:pt x="11264" y="16965"/>
                </a:lnTo>
                <a:lnTo>
                  <a:pt x="11286" y="17057"/>
                </a:lnTo>
                <a:lnTo>
                  <a:pt x="11298" y="17148"/>
                </a:lnTo>
                <a:close/>
                <a:moveTo>
                  <a:pt x="13452" y="17011"/>
                </a:moveTo>
                <a:lnTo>
                  <a:pt x="13452" y="17011"/>
                </a:lnTo>
                <a:lnTo>
                  <a:pt x="13395" y="16798"/>
                </a:lnTo>
                <a:lnTo>
                  <a:pt x="13303" y="16615"/>
                </a:lnTo>
                <a:lnTo>
                  <a:pt x="13223" y="16432"/>
                </a:lnTo>
                <a:lnTo>
                  <a:pt x="13097" y="16264"/>
                </a:lnTo>
                <a:lnTo>
                  <a:pt x="13097" y="16264"/>
                </a:lnTo>
                <a:lnTo>
                  <a:pt x="13086" y="16371"/>
                </a:lnTo>
                <a:lnTo>
                  <a:pt x="13086" y="16447"/>
                </a:lnTo>
                <a:lnTo>
                  <a:pt x="13086" y="16539"/>
                </a:lnTo>
                <a:lnTo>
                  <a:pt x="13108" y="16615"/>
                </a:lnTo>
                <a:lnTo>
                  <a:pt x="13143" y="16691"/>
                </a:lnTo>
                <a:lnTo>
                  <a:pt x="13166" y="16752"/>
                </a:lnTo>
                <a:lnTo>
                  <a:pt x="13211" y="16798"/>
                </a:lnTo>
                <a:lnTo>
                  <a:pt x="13246" y="16859"/>
                </a:lnTo>
                <a:lnTo>
                  <a:pt x="13315" y="16935"/>
                </a:lnTo>
                <a:lnTo>
                  <a:pt x="13395" y="16981"/>
                </a:lnTo>
                <a:lnTo>
                  <a:pt x="13441" y="17011"/>
                </a:lnTo>
                <a:lnTo>
                  <a:pt x="13452" y="17011"/>
                </a:lnTo>
                <a:close/>
                <a:moveTo>
                  <a:pt x="10152" y="17011"/>
                </a:moveTo>
                <a:lnTo>
                  <a:pt x="10152" y="17011"/>
                </a:lnTo>
                <a:lnTo>
                  <a:pt x="10221" y="16920"/>
                </a:lnTo>
                <a:lnTo>
                  <a:pt x="10289" y="16813"/>
                </a:lnTo>
                <a:lnTo>
                  <a:pt x="10335" y="16691"/>
                </a:lnTo>
                <a:lnTo>
                  <a:pt x="10358" y="16600"/>
                </a:lnTo>
                <a:lnTo>
                  <a:pt x="10358" y="16539"/>
                </a:lnTo>
                <a:lnTo>
                  <a:pt x="10358" y="16493"/>
                </a:lnTo>
                <a:lnTo>
                  <a:pt x="10347" y="16432"/>
                </a:lnTo>
                <a:lnTo>
                  <a:pt x="10335" y="16417"/>
                </a:lnTo>
                <a:lnTo>
                  <a:pt x="10301" y="16386"/>
                </a:lnTo>
                <a:lnTo>
                  <a:pt x="10278" y="16356"/>
                </a:lnTo>
                <a:lnTo>
                  <a:pt x="10221" y="16356"/>
                </a:lnTo>
                <a:lnTo>
                  <a:pt x="10152" y="16340"/>
                </a:lnTo>
                <a:lnTo>
                  <a:pt x="10152" y="16340"/>
                </a:lnTo>
                <a:lnTo>
                  <a:pt x="10140" y="16432"/>
                </a:lnTo>
                <a:lnTo>
                  <a:pt x="10118" y="16508"/>
                </a:lnTo>
                <a:lnTo>
                  <a:pt x="10095" y="16600"/>
                </a:lnTo>
                <a:lnTo>
                  <a:pt x="10095" y="16676"/>
                </a:lnTo>
                <a:lnTo>
                  <a:pt x="10095" y="16752"/>
                </a:lnTo>
                <a:lnTo>
                  <a:pt x="10118" y="16844"/>
                </a:lnTo>
                <a:lnTo>
                  <a:pt x="10140" y="16935"/>
                </a:lnTo>
                <a:lnTo>
                  <a:pt x="10152" y="17011"/>
                </a:lnTo>
                <a:close/>
                <a:moveTo>
                  <a:pt x="9545" y="16874"/>
                </a:moveTo>
                <a:lnTo>
                  <a:pt x="9545" y="16874"/>
                </a:lnTo>
                <a:lnTo>
                  <a:pt x="9579" y="16783"/>
                </a:lnTo>
                <a:lnTo>
                  <a:pt x="9636" y="16691"/>
                </a:lnTo>
                <a:lnTo>
                  <a:pt x="9659" y="16615"/>
                </a:lnTo>
                <a:lnTo>
                  <a:pt x="9682" y="16523"/>
                </a:lnTo>
                <a:lnTo>
                  <a:pt x="9705" y="16432"/>
                </a:lnTo>
                <a:lnTo>
                  <a:pt x="9716" y="16340"/>
                </a:lnTo>
                <a:lnTo>
                  <a:pt x="9716" y="16234"/>
                </a:lnTo>
                <a:lnTo>
                  <a:pt x="9705" y="16142"/>
                </a:lnTo>
                <a:lnTo>
                  <a:pt x="9705" y="16142"/>
                </a:lnTo>
                <a:lnTo>
                  <a:pt x="9648" y="16157"/>
                </a:lnTo>
                <a:lnTo>
                  <a:pt x="9579" y="16173"/>
                </a:lnTo>
                <a:lnTo>
                  <a:pt x="9556" y="16234"/>
                </a:lnTo>
                <a:lnTo>
                  <a:pt x="9510" y="16310"/>
                </a:lnTo>
                <a:lnTo>
                  <a:pt x="9487" y="16401"/>
                </a:lnTo>
                <a:lnTo>
                  <a:pt x="9453" y="16493"/>
                </a:lnTo>
                <a:lnTo>
                  <a:pt x="9430" y="16600"/>
                </a:lnTo>
                <a:lnTo>
                  <a:pt x="9430" y="16691"/>
                </a:lnTo>
                <a:lnTo>
                  <a:pt x="9430" y="16767"/>
                </a:lnTo>
                <a:lnTo>
                  <a:pt x="9430" y="16859"/>
                </a:lnTo>
                <a:lnTo>
                  <a:pt x="9430" y="16920"/>
                </a:lnTo>
                <a:lnTo>
                  <a:pt x="9442" y="16950"/>
                </a:lnTo>
                <a:lnTo>
                  <a:pt x="9464" y="16981"/>
                </a:lnTo>
                <a:lnTo>
                  <a:pt x="9487" y="16965"/>
                </a:lnTo>
                <a:lnTo>
                  <a:pt x="9510" y="16950"/>
                </a:lnTo>
                <a:lnTo>
                  <a:pt x="9545" y="16874"/>
                </a:lnTo>
                <a:close/>
                <a:moveTo>
                  <a:pt x="10736" y="16950"/>
                </a:moveTo>
                <a:lnTo>
                  <a:pt x="10736" y="16950"/>
                </a:lnTo>
                <a:lnTo>
                  <a:pt x="10771" y="16950"/>
                </a:lnTo>
                <a:lnTo>
                  <a:pt x="10805" y="16965"/>
                </a:lnTo>
                <a:lnTo>
                  <a:pt x="10839" y="16965"/>
                </a:lnTo>
                <a:lnTo>
                  <a:pt x="10862" y="16950"/>
                </a:lnTo>
                <a:lnTo>
                  <a:pt x="10874" y="16950"/>
                </a:lnTo>
                <a:lnTo>
                  <a:pt x="10885" y="16920"/>
                </a:lnTo>
                <a:lnTo>
                  <a:pt x="10908" y="16828"/>
                </a:lnTo>
                <a:lnTo>
                  <a:pt x="10897" y="16722"/>
                </a:lnTo>
                <a:lnTo>
                  <a:pt x="10885" y="16630"/>
                </a:lnTo>
                <a:lnTo>
                  <a:pt x="10862" y="16539"/>
                </a:lnTo>
                <a:lnTo>
                  <a:pt x="10839" y="16462"/>
                </a:lnTo>
                <a:lnTo>
                  <a:pt x="10839" y="16462"/>
                </a:lnTo>
                <a:lnTo>
                  <a:pt x="10736" y="16950"/>
                </a:lnTo>
                <a:close/>
                <a:moveTo>
                  <a:pt x="14953" y="16874"/>
                </a:moveTo>
                <a:lnTo>
                  <a:pt x="14953" y="16874"/>
                </a:lnTo>
                <a:lnTo>
                  <a:pt x="14942" y="16844"/>
                </a:lnTo>
                <a:lnTo>
                  <a:pt x="14919" y="16798"/>
                </a:lnTo>
                <a:lnTo>
                  <a:pt x="14861" y="16737"/>
                </a:lnTo>
                <a:lnTo>
                  <a:pt x="14781" y="16691"/>
                </a:lnTo>
                <a:lnTo>
                  <a:pt x="14712" y="16661"/>
                </a:lnTo>
                <a:lnTo>
                  <a:pt x="14541" y="16600"/>
                </a:lnTo>
                <a:lnTo>
                  <a:pt x="14392" y="16539"/>
                </a:lnTo>
                <a:lnTo>
                  <a:pt x="14392" y="16539"/>
                </a:lnTo>
                <a:lnTo>
                  <a:pt x="14415" y="16706"/>
                </a:lnTo>
                <a:lnTo>
                  <a:pt x="14449" y="16844"/>
                </a:lnTo>
                <a:lnTo>
                  <a:pt x="14472" y="16889"/>
                </a:lnTo>
                <a:lnTo>
                  <a:pt x="14506" y="16920"/>
                </a:lnTo>
                <a:lnTo>
                  <a:pt x="14529" y="16950"/>
                </a:lnTo>
                <a:lnTo>
                  <a:pt x="14563" y="16950"/>
                </a:lnTo>
                <a:lnTo>
                  <a:pt x="14598" y="16965"/>
                </a:lnTo>
                <a:lnTo>
                  <a:pt x="14632" y="16965"/>
                </a:lnTo>
                <a:lnTo>
                  <a:pt x="14724" y="16950"/>
                </a:lnTo>
                <a:lnTo>
                  <a:pt x="14827" y="16935"/>
                </a:lnTo>
                <a:lnTo>
                  <a:pt x="14953" y="16874"/>
                </a:lnTo>
                <a:close/>
                <a:moveTo>
                  <a:pt x="2383" y="16798"/>
                </a:moveTo>
                <a:lnTo>
                  <a:pt x="2383" y="16798"/>
                </a:lnTo>
                <a:lnTo>
                  <a:pt x="2532" y="16661"/>
                </a:lnTo>
                <a:lnTo>
                  <a:pt x="2692" y="16523"/>
                </a:lnTo>
                <a:lnTo>
                  <a:pt x="2853" y="16432"/>
                </a:lnTo>
                <a:lnTo>
                  <a:pt x="3013" y="16356"/>
                </a:lnTo>
                <a:lnTo>
                  <a:pt x="3185" y="16264"/>
                </a:lnTo>
                <a:lnTo>
                  <a:pt x="3357" y="16234"/>
                </a:lnTo>
                <a:lnTo>
                  <a:pt x="3540" y="16203"/>
                </a:lnTo>
                <a:lnTo>
                  <a:pt x="3724" y="16188"/>
                </a:lnTo>
                <a:lnTo>
                  <a:pt x="3724" y="16188"/>
                </a:lnTo>
                <a:lnTo>
                  <a:pt x="3712" y="16173"/>
                </a:lnTo>
                <a:lnTo>
                  <a:pt x="3689" y="16142"/>
                </a:lnTo>
                <a:lnTo>
                  <a:pt x="3620" y="16081"/>
                </a:lnTo>
                <a:lnTo>
                  <a:pt x="3517" y="16005"/>
                </a:lnTo>
                <a:lnTo>
                  <a:pt x="3403" y="15913"/>
                </a:lnTo>
                <a:lnTo>
                  <a:pt x="3070" y="15761"/>
                </a:lnTo>
                <a:lnTo>
                  <a:pt x="2715" y="15593"/>
                </a:lnTo>
                <a:lnTo>
                  <a:pt x="2337" y="15441"/>
                </a:lnTo>
                <a:lnTo>
                  <a:pt x="1982" y="15334"/>
                </a:lnTo>
                <a:lnTo>
                  <a:pt x="1672" y="15228"/>
                </a:lnTo>
                <a:lnTo>
                  <a:pt x="1558" y="15197"/>
                </a:lnTo>
                <a:lnTo>
                  <a:pt x="1466" y="15182"/>
                </a:lnTo>
                <a:lnTo>
                  <a:pt x="1466" y="15182"/>
                </a:lnTo>
                <a:lnTo>
                  <a:pt x="1489" y="15502"/>
                </a:lnTo>
                <a:lnTo>
                  <a:pt x="1500" y="15654"/>
                </a:lnTo>
                <a:lnTo>
                  <a:pt x="1535" y="15791"/>
                </a:lnTo>
                <a:lnTo>
                  <a:pt x="1569" y="15913"/>
                </a:lnTo>
                <a:lnTo>
                  <a:pt x="1604" y="16020"/>
                </a:lnTo>
                <a:lnTo>
                  <a:pt x="1649" y="16142"/>
                </a:lnTo>
                <a:lnTo>
                  <a:pt x="1695" y="16234"/>
                </a:lnTo>
                <a:lnTo>
                  <a:pt x="1753" y="16325"/>
                </a:lnTo>
                <a:lnTo>
                  <a:pt x="1821" y="16417"/>
                </a:lnTo>
                <a:lnTo>
                  <a:pt x="1890" y="16493"/>
                </a:lnTo>
                <a:lnTo>
                  <a:pt x="1970" y="16569"/>
                </a:lnTo>
                <a:lnTo>
                  <a:pt x="2062" y="16630"/>
                </a:lnTo>
                <a:lnTo>
                  <a:pt x="2154" y="16691"/>
                </a:lnTo>
                <a:lnTo>
                  <a:pt x="2268" y="16752"/>
                </a:lnTo>
                <a:lnTo>
                  <a:pt x="2383" y="16798"/>
                </a:lnTo>
                <a:close/>
                <a:moveTo>
                  <a:pt x="14289" y="16737"/>
                </a:moveTo>
                <a:lnTo>
                  <a:pt x="14289" y="16737"/>
                </a:lnTo>
                <a:lnTo>
                  <a:pt x="14220" y="16462"/>
                </a:lnTo>
                <a:lnTo>
                  <a:pt x="14220" y="16462"/>
                </a:lnTo>
                <a:lnTo>
                  <a:pt x="13933" y="16340"/>
                </a:lnTo>
                <a:lnTo>
                  <a:pt x="13933" y="16340"/>
                </a:lnTo>
                <a:lnTo>
                  <a:pt x="13910" y="16462"/>
                </a:lnTo>
                <a:lnTo>
                  <a:pt x="13922" y="16600"/>
                </a:lnTo>
                <a:lnTo>
                  <a:pt x="13945" y="16691"/>
                </a:lnTo>
                <a:lnTo>
                  <a:pt x="13956" y="16706"/>
                </a:lnTo>
                <a:lnTo>
                  <a:pt x="13979" y="16737"/>
                </a:lnTo>
                <a:lnTo>
                  <a:pt x="14002" y="16767"/>
                </a:lnTo>
                <a:lnTo>
                  <a:pt x="14025" y="16783"/>
                </a:lnTo>
                <a:lnTo>
                  <a:pt x="14094" y="16783"/>
                </a:lnTo>
                <a:lnTo>
                  <a:pt x="14185" y="16783"/>
                </a:lnTo>
                <a:lnTo>
                  <a:pt x="14289" y="16737"/>
                </a:lnTo>
                <a:close/>
                <a:moveTo>
                  <a:pt x="15217" y="16539"/>
                </a:moveTo>
                <a:lnTo>
                  <a:pt x="15217" y="16539"/>
                </a:lnTo>
                <a:lnTo>
                  <a:pt x="14953" y="16539"/>
                </a:lnTo>
                <a:lnTo>
                  <a:pt x="14953" y="16539"/>
                </a:lnTo>
                <a:lnTo>
                  <a:pt x="14976" y="16630"/>
                </a:lnTo>
                <a:lnTo>
                  <a:pt x="15010" y="16691"/>
                </a:lnTo>
                <a:lnTo>
                  <a:pt x="15033" y="16722"/>
                </a:lnTo>
                <a:lnTo>
                  <a:pt x="15068" y="16737"/>
                </a:lnTo>
                <a:lnTo>
                  <a:pt x="15102" y="16722"/>
                </a:lnTo>
                <a:lnTo>
                  <a:pt x="15148" y="16691"/>
                </a:lnTo>
                <a:lnTo>
                  <a:pt x="15171" y="16630"/>
                </a:lnTo>
                <a:lnTo>
                  <a:pt x="15217" y="16539"/>
                </a:lnTo>
                <a:close/>
                <a:moveTo>
                  <a:pt x="13773" y="16676"/>
                </a:moveTo>
                <a:lnTo>
                  <a:pt x="13773" y="16676"/>
                </a:lnTo>
                <a:lnTo>
                  <a:pt x="13842" y="16676"/>
                </a:lnTo>
                <a:lnTo>
                  <a:pt x="13865" y="16661"/>
                </a:lnTo>
                <a:lnTo>
                  <a:pt x="13876" y="16645"/>
                </a:lnTo>
                <a:lnTo>
                  <a:pt x="13899" y="16615"/>
                </a:lnTo>
                <a:lnTo>
                  <a:pt x="13910" y="16600"/>
                </a:lnTo>
                <a:lnTo>
                  <a:pt x="13910" y="16554"/>
                </a:lnTo>
                <a:lnTo>
                  <a:pt x="13910" y="16523"/>
                </a:lnTo>
                <a:lnTo>
                  <a:pt x="13876" y="16432"/>
                </a:lnTo>
                <a:lnTo>
                  <a:pt x="13830" y="16310"/>
                </a:lnTo>
                <a:lnTo>
                  <a:pt x="13762" y="16173"/>
                </a:lnTo>
                <a:lnTo>
                  <a:pt x="13658" y="16005"/>
                </a:lnTo>
                <a:lnTo>
                  <a:pt x="13658" y="16005"/>
                </a:lnTo>
                <a:lnTo>
                  <a:pt x="13647" y="16096"/>
                </a:lnTo>
                <a:lnTo>
                  <a:pt x="13647" y="16173"/>
                </a:lnTo>
                <a:lnTo>
                  <a:pt x="13647" y="16264"/>
                </a:lnTo>
                <a:lnTo>
                  <a:pt x="13647" y="16356"/>
                </a:lnTo>
                <a:lnTo>
                  <a:pt x="13670" y="16432"/>
                </a:lnTo>
                <a:lnTo>
                  <a:pt x="13704" y="16523"/>
                </a:lnTo>
                <a:lnTo>
                  <a:pt x="13727" y="16600"/>
                </a:lnTo>
                <a:lnTo>
                  <a:pt x="13773" y="16676"/>
                </a:lnTo>
                <a:close/>
                <a:moveTo>
                  <a:pt x="12226" y="16615"/>
                </a:moveTo>
                <a:lnTo>
                  <a:pt x="12226" y="16615"/>
                </a:lnTo>
                <a:lnTo>
                  <a:pt x="12249" y="16523"/>
                </a:lnTo>
                <a:lnTo>
                  <a:pt x="12283" y="16447"/>
                </a:lnTo>
                <a:lnTo>
                  <a:pt x="12329" y="16401"/>
                </a:lnTo>
                <a:lnTo>
                  <a:pt x="12375" y="16340"/>
                </a:lnTo>
                <a:lnTo>
                  <a:pt x="12375" y="16340"/>
                </a:lnTo>
                <a:lnTo>
                  <a:pt x="12306" y="16173"/>
                </a:lnTo>
                <a:lnTo>
                  <a:pt x="12283" y="16157"/>
                </a:lnTo>
                <a:lnTo>
                  <a:pt x="12272" y="16142"/>
                </a:lnTo>
                <a:lnTo>
                  <a:pt x="12272" y="16142"/>
                </a:lnTo>
                <a:lnTo>
                  <a:pt x="12260" y="16157"/>
                </a:lnTo>
                <a:lnTo>
                  <a:pt x="12249" y="16173"/>
                </a:lnTo>
                <a:lnTo>
                  <a:pt x="12226" y="16264"/>
                </a:lnTo>
                <a:lnTo>
                  <a:pt x="12226" y="16417"/>
                </a:lnTo>
                <a:lnTo>
                  <a:pt x="12226" y="16615"/>
                </a:lnTo>
                <a:close/>
                <a:moveTo>
                  <a:pt x="11653" y="16615"/>
                </a:moveTo>
                <a:lnTo>
                  <a:pt x="11653" y="16615"/>
                </a:lnTo>
                <a:lnTo>
                  <a:pt x="11779" y="16493"/>
                </a:lnTo>
                <a:lnTo>
                  <a:pt x="11894" y="16371"/>
                </a:lnTo>
                <a:lnTo>
                  <a:pt x="11985" y="16218"/>
                </a:lnTo>
                <a:lnTo>
                  <a:pt x="12077" y="16066"/>
                </a:lnTo>
                <a:lnTo>
                  <a:pt x="12077" y="16066"/>
                </a:lnTo>
                <a:lnTo>
                  <a:pt x="11974" y="16035"/>
                </a:lnTo>
                <a:lnTo>
                  <a:pt x="11894" y="16020"/>
                </a:lnTo>
                <a:lnTo>
                  <a:pt x="11894" y="16020"/>
                </a:lnTo>
                <a:lnTo>
                  <a:pt x="11825" y="16035"/>
                </a:lnTo>
                <a:lnTo>
                  <a:pt x="11768" y="16066"/>
                </a:lnTo>
                <a:lnTo>
                  <a:pt x="11722" y="16112"/>
                </a:lnTo>
                <a:lnTo>
                  <a:pt x="11699" y="16173"/>
                </a:lnTo>
                <a:lnTo>
                  <a:pt x="11676" y="16264"/>
                </a:lnTo>
                <a:lnTo>
                  <a:pt x="11664" y="16356"/>
                </a:lnTo>
                <a:lnTo>
                  <a:pt x="11653" y="16615"/>
                </a:lnTo>
                <a:close/>
                <a:moveTo>
                  <a:pt x="1351" y="16615"/>
                </a:moveTo>
                <a:lnTo>
                  <a:pt x="1351" y="16615"/>
                </a:lnTo>
                <a:lnTo>
                  <a:pt x="1569" y="16462"/>
                </a:lnTo>
                <a:lnTo>
                  <a:pt x="1569" y="16462"/>
                </a:lnTo>
                <a:lnTo>
                  <a:pt x="1500" y="16432"/>
                </a:lnTo>
                <a:lnTo>
                  <a:pt x="1477" y="16432"/>
                </a:lnTo>
                <a:lnTo>
                  <a:pt x="1477" y="16432"/>
                </a:lnTo>
                <a:lnTo>
                  <a:pt x="1432" y="16447"/>
                </a:lnTo>
                <a:lnTo>
                  <a:pt x="1397" y="16478"/>
                </a:lnTo>
                <a:lnTo>
                  <a:pt x="1363" y="16523"/>
                </a:lnTo>
                <a:lnTo>
                  <a:pt x="1351" y="16615"/>
                </a:lnTo>
                <a:close/>
                <a:moveTo>
                  <a:pt x="12730" y="16188"/>
                </a:moveTo>
                <a:lnTo>
                  <a:pt x="12730" y="16188"/>
                </a:lnTo>
                <a:lnTo>
                  <a:pt x="12890" y="16539"/>
                </a:lnTo>
                <a:lnTo>
                  <a:pt x="12890" y="16539"/>
                </a:lnTo>
                <a:lnTo>
                  <a:pt x="12913" y="16447"/>
                </a:lnTo>
                <a:lnTo>
                  <a:pt x="12937" y="16386"/>
                </a:lnTo>
                <a:lnTo>
                  <a:pt x="12937" y="16325"/>
                </a:lnTo>
                <a:lnTo>
                  <a:pt x="12937" y="16264"/>
                </a:lnTo>
                <a:lnTo>
                  <a:pt x="12913" y="16234"/>
                </a:lnTo>
                <a:lnTo>
                  <a:pt x="12890" y="16188"/>
                </a:lnTo>
                <a:lnTo>
                  <a:pt x="12868" y="16173"/>
                </a:lnTo>
                <a:lnTo>
                  <a:pt x="12833" y="16173"/>
                </a:lnTo>
                <a:lnTo>
                  <a:pt x="12833" y="16173"/>
                </a:lnTo>
                <a:lnTo>
                  <a:pt x="12799" y="16173"/>
                </a:lnTo>
                <a:lnTo>
                  <a:pt x="12730" y="16188"/>
                </a:lnTo>
                <a:close/>
                <a:moveTo>
                  <a:pt x="11034" y="16539"/>
                </a:moveTo>
                <a:lnTo>
                  <a:pt x="11034" y="16539"/>
                </a:lnTo>
                <a:lnTo>
                  <a:pt x="11160" y="16508"/>
                </a:lnTo>
                <a:lnTo>
                  <a:pt x="11275" y="16462"/>
                </a:lnTo>
                <a:lnTo>
                  <a:pt x="11366" y="16432"/>
                </a:lnTo>
                <a:lnTo>
                  <a:pt x="11435" y="16356"/>
                </a:lnTo>
                <a:lnTo>
                  <a:pt x="11504" y="16279"/>
                </a:lnTo>
                <a:lnTo>
                  <a:pt x="11527" y="16188"/>
                </a:lnTo>
                <a:lnTo>
                  <a:pt x="11550" y="16112"/>
                </a:lnTo>
                <a:lnTo>
                  <a:pt x="11550" y="16005"/>
                </a:lnTo>
                <a:lnTo>
                  <a:pt x="11550" y="16005"/>
                </a:lnTo>
                <a:lnTo>
                  <a:pt x="11298" y="16005"/>
                </a:lnTo>
                <a:lnTo>
                  <a:pt x="11298" y="16005"/>
                </a:lnTo>
                <a:lnTo>
                  <a:pt x="11034" y="16539"/>
                </a:lnTo>
                <a:close/>
                <a:moveTo>
                  <a:pt x="10576" y="16539"/>
                </a:moveTo>
                <a:lnTo>
                  <a:pt x="10576" y="16539"/>
                </a:lnTo>
                <a:lnTo>
                  <a:pt x="10622" y="16432"/>
                </a:lnTo>
                <a:lnTo>
                  <a:pt x="10679" y="16340"/>
                </a:lnTo>
                <a:lnTo>
                  <a:pt x="10725" y="16249"/>
                </a:lnTo>
                <a:lnTo>
                  <a:pt x="10771" y="16173"/>
                </a:lnTo>
                <a:lnTo>
                  <a:pt x="10794" y="16096"/>
                </a:lnTo>
                <a:lnTo>
                  <a:pt x="10794" y="16066"/>
                </a:lnTo>
                <a:lnTo>
                  <a:pt x="10794" y="16020"/>
                </a:lnTo>
                <a:lnTo>
                  <a:pt x="10782" y="15990"/>
                </a:lnTo>
                <a:lnTo>
                  <a:pt x="10759" y="15944"/>
                </a:lnTo>
                <a:lnTo>
                  <a:pt x="10725" y="15913"/>
                </a:lnTo>
                <a:lnTo>
                  <a:pt x="10679" y="15868"/>
                </a:lnTo>
                <a:lnTo>
                  <a:pt x="10679" y="15868"/>
                </a:lnTo>
                <a:lnTo>
                  <a:pt x="10599" y="15929"/>
                </a:lnTo>
                <a:lnTo>
                  <a:pt x="10541" y="16020"/>
                </a:lnTo>
                <a:lnTo>
                  <a:pt x="10507" y="16096"/>
                </a:lnTo>
                <a:lnTo>
                  <a:pt x="10473" y="16173"/>
                </a:lnTo>
                <a:lnTo>
                  <a:pt x="10473" y="16249"/>
                </a:lnTo>
                <a:lnTo>
                  <a:pt x="10484" y="16340"/>
                </a:lnTo>
                <a:lnTo>
                  <a:pt x="10519" y="16432"/>
                </a:lnTo>
                <a:lnTo>
                  <a:pt x="10576" y="16539"/>
                </a:lnTo>
                <a:close/>
                <a:moveTo>
                  <a:pt x="13246" y="16188"/>
                </a:moveTo>
                <a:lnTo>
                  <a:pt x="13246" y="16188"/>
                </a:lnTo>
                <a:lnTo>
                  <a:pt x="13269" y="16264"/>
                </a:lnTo>
                <a:lnTo>
                  <a:pt x="13292" y="16325"/>
                </a:lnTo>
                <a:lnTo>
                  <a:pt x="13326" y="16371"/>
                </a:lnTo>
                <a:lnTo>
                  <a:pt x="13360" y="16432"/>
                </a:lnTo>
                <a:lnTo>
                  <a:pt x="13395" y="16432"/>
                </a:lnTo>
                <a:lnTo>
                  <a:pt x="13441" y="16447"/>
                </a:lnTo>
                <a:lnTo>
                  <a:pt x="13464" y="16462"/>
                </a:lnTo>
                <a:lnTo>
                  <a:pt x="13509" y="16462"/>
                </a:lnTo>
                <a:lnTo>
                  <a:pt x="13509" y="16462"/>
                </a:lnTo>
                <a:lnTo>
                  <a:pt x="13498" y="16356"/>
                </a:lnTo>
                <a:lnTo>
                  <a:pt x="13464" y="16203"/>
                </a:lnTo>
                <a:lnTo>
                  <a:pt x="13441" y="16157"/>
                </a:lnTo>
                <a:lnTo>
                  <a:pt x="13429" y="16096"/>
                </a:lnTo>
                <a:lnTo>
                  <a:pt x="13395" y="16081"/>
                </a:lnTo>
                <a:lnTo>
                  <a:pt x="13372" y="16066"/>
                </a:lnTo>
                <a:lnTo>
                  <a:pt x="13372" y="16066"/>
                </a:lnTo>
                <a:lnTo>
                  <a:pt x="13337" y="16066"/>
                </a:lnTo>
                <a:lnTo>
                  <a:pt x="13303" y="16096"/>
                </a:lnTo>
                <a:lnTo>
                  <a:pt x="13280" y="16142"/>
                </a:lnTo>
                <a:lnTo>
                  <a:pt x="13246" y="16188"/>
                </a:lnTo>
                <a:close/>
                <a:moveTo>
                  <a:pt x="14701" y="16417"/>
                </a:moveTo>
                <a:lnTo>
                  <a:pt x="14701" y="16417"/>
                </a:lnTo>
                <a:lnTo>
                  <a:pt x="14701" y="16310"/>
                </a:lnTo>
                <a:lnTo>
                  <a:pt x="14678" y="16218"/>
                </a:lnTo>
                <a:lnTo>
                  <a:pt x="14655" y="16173"/>
                </a:lnTo>
                <a:lnTo>
                  <a:pt x="14598" y="16096"/>
                </a:lnTo>
                <a:lnTo>
                  <a:pt x="14552" y="16035"/>
                </a:lnTo>
                <a:lnTo>
                  <a:pt x="14472" y="15990"/>
                </a:lnTo>
                <a:lnTo>
                  <a:pt x="14392" y="15944"/>
                </a:lnTo>
                <a:lnTo>
                  <a:pt x="14289" y="15913"/>
                </a:lnTo>
                <a:lnTo>
                  <a:pt x="14289" y="15913"/>
                </a:lnTo>
                <a:lnTo>
                  <a:pt x="14277" y="16081"/>
                </a:lnTo>
                <a:lnTo>
                  <a:pt x="14289" y="16173"/>
                </a:lnTo>
                <a:lnTo>
                  <a:pt x="14300" y="16279"/>
                </a:lnTo>
                <a:lnTo>
                  <a:pt x="14323" y="16325"/>
                </a:lnTo>
                <a:lnTo>
                  <a:pt x="14357" y="16356"/>
                </a:lnTo>
                <a:lnTo>
                  <a:pt x="14380" y="16386"/>
                </a:lnTo>
                <a:lnTo>
                  <a:pt x="14403" y="16401"/>
                </a:lnTo>
                <a:lnTo>
                  <a:pt x="14495" y="16432"/>
                </a:lnTo>
                <a:lnTo>
                  <a:pt x="14586" y="16432"/>
                </a:lnTo>
                <a:lnTo>
                  <a:pt x="14701" y="16417"/>
                </a:lnTo>
                <a:close/>
                <a:moveTo>
                  <a:pt x="15114" y="16417"/>
                </a:moveTo>
                <a:lnTo>
                  <a:pt x="15114" y="16417"/>
                </a:lnTo>
                <a:lnTo>
                  <a:pt x="15423" y="16264"/>
                </a:lnTo>
                <a:lnTo>
                  <a:pt x="15423" y="16264"/>
                </a:lnTo>
                <a:lnTo>
                  <a:pt x="15354" y="16173"/>
                </a:lnTo>
                <a:lnTo>
                  <a:pt x="15274" y="16127"/>
                </a:lnTo>
                <a:lnTo>
                  <a:pt x="15205" y="16096"/>
                </a:lnTo>
                <a:lnTo>
                  <a:pt x="15148" y="16066"/>
                </a:lnTo>
                <a:lnTo>
                  <a:pt x="14976" y="16035"/>
                </a:lnTo>
                <a:lnTo>
                  <a:pt x="14896" y="16020"/>
                </a:lnTo>
                <a:lnTo>
                  <a:pt x="14793" y="16005"/>
                </a:lnTo>
                <a:lnTo>
                  <a:pt x="14793" y="16005"/>
                </a:lnTo>
                <a:lnTo>
                  <a:pt x="14850" y="16127"/>
                </a:lnTo>
                <a:lnTo>
                  <a:pt x="14930" y="16249"/>
                </a:lnTo>
                <a:lnTo>
                  <a:pt x="14965" y="16279"/>
                </a:lnTo>
                <a:lnTo>
                  <a:pt x="15010" y="16340"/>
                </a:lnTo>
                <a:lnTo>
                  <a:pt x="15114" y="16417"/>
                </a:lnTo>
                <a:close/>
                <a:moveTo>
                  <a:pt x="10003" y="16340"/>
                </a:moveTo>
                <a:lnTo>
                  <a:pt x="10003" y="16340"/>
                </a:lnTo>
                <a:lnTo>
                  <a:pt x="10060" y="16173"/>
                </a:lnTo>
                <a:lnTo>
                  <a:pt x="10106" y="16035"/>
                </a:lnTo>
                <a:lnTo>
                  <a:pt x="10140" y="15883"/>
                </a:lnTo>
                <a:lnTo>
                  <a:pt x="10152" y="15730"/>
                </a:lnTo>
                <a:lnTo>
                  <a:pt x="10152" y="15730"/>
                </a:lnTo>
                <a:lnTo>
                  <a:pt x="10106" y="15730"/>
                </a:lnTo>
                <a:lnTo>
                  <a:pt x="10049" y="15746"/>
                </a:lnTo>
                <a:lnTo>
                  <a:pt x="9991" y="15761"/>
                </a:lnTo>
                <a:lnTo>
                  <a:pt x="9946" y="15807"/>
                </a:lnTo>
                <a:lnTo>
                  <a:pt x="9911" y="15837"/>
                </a:lnTo>
                <a:lnTo>
                  <a:pt x="9865" y="15883"/>
                </a:lnTo>
                <a:lnTo>
                  <a:pt x="9854" y="15913"/>
                </a:lnTo>
                <a:lnTo>
                  <a:pt x="9820" y="15974"/>
                </a:lnTo>
                <a:lnTo>
                  <a:pt x="9808" y="16020"/>
                </a:lnTo>
                <a:lnTo>
                  <a:pt x="9808" y="16081"/>
                </a:lnTo>
                <a:lnTo>
                  <a:pt x="9808" y="16127"/>
                </a:lnTo>
                <a:lnTo>
                  <a:pt x="9831" y="16173"/>
                </a:lnTo>
                <a:lnTo>
                  <a:pt x="9865" y="16218"/>
                </a:lnTo>
                <a:lnTo>
                  <a:pt x="9900" y="16264"/>
                </a:lnTo>
                <a:lnTo>
                  <a:pt x="9946" y="16295"/>
                </a:lnTo>
                <a:lnTo>
                  <a:pt x="10003" y="16340"/>
                </a:lnTo>
                <a:close/>
                <a:moveTo>
                  <a:pt x="13773" y="15868"/>
                </a:moveTo>
                <a:lnTo>
                  <a:pt x="13773" y="15868"/>
                </a:lnTo>
                <a:lnTo>
                  <a:pt x="14185" y="16264"/>
                </a:lnTo>
                <a:lnTo>
                  <a:pt x="14185" y="16264"/>
                </a:lnTo>
                <a:lnTo>
                  <a:pt x="14140" y="16142"/>
                </a:lnTo>
                <a:lnTo>
                  <a:pt x="14059" y="15990"/>
                </a:lnTo>
                <a:lnTo>
                  <a:pt x="14014" y="15913"/>
                </a:lnTo>
                <a:lnTo>
                  <a:pt x="13979" y="15852"/>
                </a:lnTo>
                <a:lnTo>
                  <a:pt x="13922" y="15822"/>
                </a:lnTo>
                <a:lnTo>
                  <a:pt x="13899" y="15807"/>
                </a:lnTo>
                <a:lnTo>
                  <a:pt x="13865" y="15807"/>
                </a:lnTo>
                <a:lnTo>
                  <a:pt x="13865" y="15807"/>
                </a:lnTo>
                <a:lnTo>
                  <a:pt x="13842" y="15807"/>
                </a:lnTo>
                <a:lnTo>
                  <a:pt x="13819" y="15822"/>
                </a:lnTo>
                <a:lnTo>
                  <a:pt x="13807" y="15837"/>
                </a:lnTo>
                <a:lnTo>
                  <a:pt x="13773" y="15868"/>
                </a:lnTo>
                <a:close/>
                <a:moveTo>
                  <a:pt x="10988" y="16188"/>
                </a:moveTo>
                <a:lnTo>
                  <a:pt x="10988" y="16188"/>
                </a:lnTo>
                <a:lnTo>
                  <a:pt x="11034" y="16142"/>
                </a:lnTo>
                <a:lnTo>
                  <a:pt x="11080" y="16096"/>
                </a:lnTo>
                <a:lnTo>
                  <a:pt x="11092" y="16035"/>
                </a:lnTo>
                <a:lnTo>
                  <a:pt x="11092" y="16005"/>
                </a:lnTo>
                <a:lnTo>
                  <a:pt x="11080" y="15944"/>
                </a:lnTo>
                <a:lnTo>
                  <a:pt x="11046" y="15913"/>
                </a:lnTo>
                <a:lnTo>
                  <a:pt x="11000" y="15898"/>
                </a:lnTo>
                <a:lnTo>
                  <a:pt x="10931" y="15868"/>
                </a:lnTo>
                <a:lnTo>
                  <a:pt x="10931" y="15868"/>
                </a:lnTo>
                <a:lnTo>
                  <a:pt x="10988" y="16188"/>
                </a:lnTo>
                <a:close/>
                <a:moveTo>
                  <a:pt x="4445" y="14709"/>
                </a:moveTo>
                <a:lnTo>
                  <a:pt x="4445" y="14709"/>
                </a:lnTo>
                <a:lnTo>
                  <a:pt x="4503" y="14892"/>
                </a:lnTo>
                <a:lnTo>
                  <a:pt x="4560" y="15060"/>
                </a:lnTo>
                <a:lnTo>
                  <a:pt x="4583" y="15243"/>
                </a:lnTo>
                <a:lnTo>
                  <a:pt x="4617" y="15410"/>
                </a:lnTo>
                <a:lnTo>
                  <a:pt x="4686" y="15776"/>
                </a:lnTo>
                <a:lnTo>
                  <a:pt x="4721" y="15944"/>
                </a:lnTo>
                <a:lnTo>
                  <a:pt x="4755" y="16142"/>
                </a:lnTo>
                <a:lnTo>
                  <a:pt x="4755" y="16142"/>
                </a:lnTo>
                <a:lnTo>
                  <a:pt x="4972" y="16157"/>
                </a:lnTo>
                <a:lnTo>
                  <a:pt x="5339" y="16173"/>
                </a:lnTo>
                <a:lnTo>
                  <a:pt x="5786" y="16173"/>
                </a:lnTo>
                <a:lnTo>
                  <a:pt x="6004" y="16142"/>
                </a:lnTo>
                <a:lnTo>
                  <a:pt x="6221" y="16112"/>
                </a:lnTo>
                <a:lnTo>
                  <a:pt x="6405" y="16081"/>
                </a:lnTo>
                <a:lnTo>
                  <a:pt x="6565" y="16020"/>
                </a:lnTo>
                <a:lnTo>
                  <a:pt x="6634" y="15990"/>
                </a:lnTo>
                <a:lnTo>
                  <a:pt x="6680" y="15944"/>
                </a:lnTo>
                <a:lnTo>
                  <a:pt x="6714" y="15913"/>
                </a:lnTo>
                <a:lnTo>
                  <a:pt x="6760" y="15852"/>
                </a:lnTo>
                <a:lnTo>
                  <a:pt x="6772" y="15791"/>
                </a:lnTo>
                <a:lnTo>
                  <a:pt x="6772" y="15730"/>
                </a:lnTo>
                <a:lnTo>
                  <a:pt x="6760" y="15670"/>
                </a:lnTo>
                <a:lnTo>
                  <a:pt x="6714" y="15593"/>
                </a:lnTo>
                <a:lnTo>
                  <a:pt x="6668" y="15502"/>
                </a:lnTo>
                <a:lnTo>
                  <a:pt x="6588" y="15410"/>
                </a:lnTo>
                <a:lnTo>
                  <a:pt x="6496" y="15319"/>
                </a:lnTo>
                <a:lnTo>
                  <a:pt x="6382" y="15212"/>
                </a:lnTo>
                <a:lnTo>
                  <a:pt x="6382" y="15212"/>
                </a:lnTo>
                <a:lnTo>
                  <a:pt x="6221" y="15075"/>
                </a:lnTo>
                <a:lnTo>
                  <a:pt x="6061" y="14938"/>
                </a:lnTo>
                <a:lnTo>
                  <a:pt x="5901" y="14831"/>
                </a:lnTo>
                <a:lnTo>
                  <a:pt x="5729" y="14725"/>
                </a:lnTo>
                <a:lnTo>
                  <a:pt x="5568" y="14648"/>
                </a:lnTo>
                <a:lnTo>
                  <a:pt x="5419" y="14618"/>
                </a:lnTo>
                <a:lnTo>
                  <a:pt x="5259" y="14572"/>
                </a:lnTo>
                <a:lnTo>
                  <a:pt x="5087" y="14557"/>
                </a:lnTo>
                <a:lnTo>
                  <a:pt x="5087" y="14557"/>
                </a:lnTo>
                <a:lnTo>
                  <a:pt x="4938" y="14572"/>
                </a:lnTo>
                <a:lnTo>
                  <a:pt x="4778" y="14603"/>
                </a:lnTo>
                <a:lnTo>
                  <a:pt x="4617" y="14633"/>
                </a:lnTo>
                <a:lnTo>
                  <a:pt x="4445" y="14709"/>
                </a:lnTo>
                <a:close/>
                <a:moveTo>
                  <a:pt x="4239" y="16066"/>
                </a:moveTo>
                <a:lnTo>
                  <a:pt x="4239" y="16066"/>
                </a:lnTo>
                <a:lnTo>
                  <a:pt x="4239" y="15944"/>
                </a:lnTo>
                <a:lnTo>
                  <a:pt x="4251" y="15868"/>
                </a:lnTo>
                <a:lnTo>
                  <a:pt x="4262" y="15776"/>
                </a:lnTo>
                <a:lnTo>
                  <a:pt x="4262" y="15715"/>
                </a:lnTo>
                <a:lnTo>
                  <a:pt x="4239" y="15654"/>
                </a:lnTo>
                <a:lnTo>
                  <a:pt x="4216" y="15654"/>
                </a:lnTo>
                <a:lnTo>
                  <a:pt x="4205" y="15624"/>
                </a:lnTo>
                <a:lnTo>
                  <a:pt x="4147" y="15593"/>
                </a:lnTo>
                <a:lnTo>
                  <a:pt x="4033" y="15593"/>
                </a:lnTo>
                <a:lnTo>
                  <a:pt x="4033" y="15593"/>
                </a:lnTo>
                <a:lnTo>
                  <a:pt x="3998" y="15730"/>
                </a:lnTo>
                <a:lnTo>
                  <a:pt x="3987" y="15852"/>
                </a:lnTo>
                <a:lnTo>
                  <a:pt x="3987" y="15929"/>
                </a:lnTo>
                <a:lnTo>
                  <a:pt x="3998" y="16020"/>
                </a:lnTo>
                <a:lnTo>
                  <a:pt x="3998" y="16035"/>
                </a:lnTo>
                <a:lnTo>
                  <a:pt x="4021" y="16066"/>
                </a:lnTo>
                <a:lnTo>
                  <a:pt x="4056" y="16081"/>
                </a:lnTo>
                <a:lnTo>
                  <a:pt x="4079" y="16096"/>
                </a:lnTo>
                <a:lnTo>
                  <a:pt x="4147" y="16096"/>
                </a:lnTo>
                <a:lnTo>
                  <a:pt x="4239" y="16066"/>
                </a:lnTo>
                <a:close/>
                <a:moveTo>
                  <a:pt x="1088" y="16066"/>
                </a:moveTo>
                <a:lnTo>
                  <a:pt x="1088" y="16066"/>
                </a:lnTo>
                <a:lnTo>
                  <a:pt x="1168" y="16020"/>
                </a:lnTo>
                <a:lnTo>
                  <a:pt x="1237" y="15959"/>
                </a:lnTo>
                <a:lnTo>
                  <a:pt x="1283" y="15913"/>
                </a:lnTo>
                <a:lnTo>
                  <a:pt x="1306" y="15837"/>
                </a:lnTo>
                <a:lnTo>
                  <a:pt x="1328" y="15761"/>
                </a:lnTo>
                <a:lnTo>
                  <a:pt x="1340" y="15654"/>
                </a:lnTo>
                <a:lnTo>
                  <a:pt x="1328" y="15563"/>
                </a:lnTo>
                <a:lnTo>
                  <a:pt x="1294" y="15456"/>
                </a:lnTo>
                <a:lnTo>
                  <a:pt x="1294" y="15456"/>
                </a:lnTo>
                <a:lnTo>
                  <a:pt x="1306" y="15426"/>
                </a:lnTo>
                <a:lnTo>
                  <a:pt x="1306" y="15426"/>
                </a:lnTo>
                <a:lnTo>
                  <a:pt x="1306" y="15426"/>
                </a:lnTo>
                <a:lnTo>
                  <a:pt x="1283" y="15456"/>
                </a:lnTo>
                <a:lnTo>
                  <a:pt x="1214" y="15532"/>
                </a:lnTo>
                <a:lnTo>
                  <a:pt x="1145" y="15639"/>
                </a:lnTo>
                <a:lnTo>
                  <a:pt x="1077" y="15746"/>
                </a:lnTo>
                <a:lnTo>
                  <a:pt x="1019" y="15868"/>
                </a:lnTo>
                <a:lnTo>
                  <a:pt x="996" y="15913"/>
                </a:lnTo>
                <a:lnTo>
                  <a:pt x="996" y="15959"/>
                </a:lnTo>
                <a:lnTo>
                  <a:pt x="996" y="16005"/>
                </a:lnTo>
                <a:lnTo>
                  <a:pt x="1019" y="16035"/>
                </a:lnTo>
                <a:lnTo>
                  <a:pt x="1054" y="16066"/>
                </a:lnTo>
                <a:lnTo>
                  <a:pt x="1088" y="16066"/>
                </a:lnTo>
                <a:close/>
                <a:moveTo>
                  <a:pt x="15526" y="16005"/>
                </a:moveTo>
                <a:lnTo>
                  <a:pt x="15526" y="16005"/>
                </a:lnTo>
                <a:lnTo>
                  <a:pt x="15595" y="15990"/>
                </a:lnTo>
                <a:lnTo>
                  <a:pt x="15675" y="15959"/>
                </a:lnTo>
                <a:lnTo>
                  <a:pt x="15755" y="15913"/>
                </a:lnTo>
                <a:lnTo>
                  <a:pt x="15813" y="15852"/>
                </a:lnTo>
                <a:lnTo>
                  <a:pt x="15847" y="15822"/>
                </a:lnTo>
                <a:lnTo>
                  <a:pt x="15870" y="15761"/>
                </a:lnTo>
                <a:lnTo>
                  <a:pt x="15870" y="15730"/>
                </a:lnTo>
                <a:lnTo>
                  <a:pt x="15881" y="15670"/>
                </a:lnTo>
                <a:lnTo>
                  <a:pt x="15881" y="15639"/>
                </a:lnTo>
                <a:lnTo>
                  <a:pt x="15870" y="15578"/>
                </a:lnTo>
                <a:lnTo>
                  <a:pt x="15858" y="15517"/>
                </a:lnTo>
                <a:lnTo>
                  <a:pt x="15824" y="15456"/>
                </a:lnTo>
                <a:lnTo>
                  <a:pt x="15824" y="15456"/>
                </a:lnTo>
                <a:lnTo>
                  <a:pt x="15813" y="15563"/>
                </a:lnTo>
                <a:lnTo>
                  <a:pt x="15790" y="15654"/>
                </a:lnTo>
                <a:lnTo>
                  <a:pt x="15744" y="15700"/>
                </a:lnTo>
                <a:lnTo>
                  <a:pt x="15698" y="15761"/>
                </a:lnTo>
                <a:lnTo>
                  <a:pt x="15629" y="15791"/>
                </a:lnTo>
                <a:lnTo>
                  <a:pt x="15560" y="15822"/>
                </a:lnTo>
                <a:lnTo>
                  <a:pt x="15469" y="15822"/>
                </a:lnTo>
                <a:lnTo>
                  <a:pt x="15366" y="15791"/>
                </a:lnTo>
                <a:lnTo>
                  <a:pt x="15366" y="15791"/>
                </a:lnTo>
                <a:lnTo>
                  <a:pt x="15377" y="15898"/>
                </a:lnTo>
                <a:lnTo>
                  <a:pt x="15400" y="15913"/>
                </a:lnTo>
                <a:lnTo>
                  <a:pt x="15411" y="15959"/>
                </a:lnTo>
                <a:lnTo>
                  <a:pt x="15446" y="15974"/>
                </a:lnTo>
                <a:lnTo>
                  <a:pt x="15457" y="15990"/>
                </a:lnTo>
                <a:lnTo>
                  <a:pt x="15492" y="16005"/>
                </a:lnTo>
                <a:lnTo>
                  <a:pt x="15526" y="16005"/>
                </a:lnTo>
                <a:close/>
                <a:moveTo>
                  <a:pt x="12684" y="15913"/>
                </a:moveTo>
                <a:lnTo>
                  <a:pt x="12684" y="15913"/>
                </a:lnTo>
                <a:lnTo>
                  <a:pt x="12833" y="15913"/>
                </a:lnTo>
                <a:lnTo>
                  <a:pt x="12994" y="15898"/>
                </a:lnTo>
                <a:lnTo>
                  <a:pt x="13166" y="15852"/>
                </a:lnTo>
                <a:lnTo>
                  <a:pt x="13360" y="15791"/>
                </a:lnTo>
                <a:lnTo>
                  <a:pt x="13544" y="15730"/>
                </a:lnTo>
                <a:lnTo>
                  <a:pt x="13738" y="15654"/>
                </a:lnTo>
                <a:lnTo>
                  <a:pt x="13933" y="15563"/>
                </a:lnTo>
                <a:lnTo>
                  <a:pt x="14117" y="15456"/>
                </a:lnTo>
                <a:lnTo>
                  <a:pt x="14289" y="15349"/>
                </a:lnTo>
                <a:lnTo>
                  <a:pt x="14438" y="15228"/>
                </a:lnTo>
                <a:lnTo>
                  <a:pt x="14598" y="15106"/>
                </a:lnTo>
                <a:lnTo>
                  <a:pt x="14724" y="14984"/>
                </a:lnTo>
                <a:lnTo>
                  <a:pt x="14804" y="14847"/>
                </a:lnTo>
                <a:lnTo>
                  <a:pt x="14850" y="14786"/>
                </a:lnTo>
                <a:lnTo>
                  <a:pt x="14873" y="14709"/>
                </a:lnTo>
                <a:lnTo>
                  <a:pt x="14896" y="14633"/>
                </a:lnTo>
                <a:lnTo>
                  <a:pt x="14908" y="14587"/>
                </a:lnTo>
                <a:lnTo>
                  <a:pt x="14919" y="14511"/>
                </a:lnTo>
                <a:lnTo>
                  <a:pt x="14908" y="14450"/>
                </a:lnTo>
                <a:lnTo>
                  <a:pt x="14908" y="14450"/>
                </a:lnTo>
                <a:lnTo>
                  <a:pt x="14759" y="14633"/>
                </a:lnTo>
                <a:lnTo>
                  <a:pt x="14610" y="14816"/>
                </a:lnTo>
                <a:lnTo>
                  <a:pt x="14472" y="14938"/>
                </a:lnTo>
                <a:lnTo>
                  <a:pt x="14346" y="15060"/>
                </a:lnTo>
                <a:lnTo>
                  <a:pt x="14208" y="15151"/>
                </a:lnTo>
                <a:lnTo>
                  <a:pt x="14059" y="15228"/>
                </a:lnTo>
                <a:lnTo>
                  <a:pt x="13933" y="15289"/>
                </a:lnTo>
                <a:lnTo>
                  <a:pt x="13796" y="15349"/>
                </a:lnTo>
                <a:lnTo>
                  <a:pt x="13509" y="15426"/>
                </a:lnTo>
                <a:lnTo>
                  <a:pt x="13383" y="15502"/>
                </a:lnTo>
                <a:lnTo>
                  <a:pt x="13246" y="15548"/>
                </a:lnTo>
                <a:lnTo>
                  <a:pt x="13108" y="15624"/>
                </a:lnTo>
                <a:lnTo>
                  <a:pt x="12971" y="15700"/>
                </a:lnTo>
                <a:lnTo>
                  <a:pt x="12833" y="15807"/>
                </a:lnTo>
                <a:lnTo>
                  <a:pt x="12684" y="15913"/>
                </a:lnTo>
                <a:close/>
                <a:moveTo>
                  <a:pt x="10324" y="15913"/>
                </a:moveTo>
                <a:lnTo>
                  <a:pt x="10324" y="15913"/>
                </a:lnTo>
                <a:lnTo>
                  <a:pt x="10370" y="15913"/>
                </a:lnTo>
                <a:lnTo>
                  <a:pt x="10427" y="15913"/>
                </a:lnTo>
                <a:lnTo>
                  <a:pt x="10438" y="15883"/>
                </a:lnTo>
                <a:lnTo>
                  <a:pt x="10450" y="15837"/>
                </a:lnTo>
                <a:lnTo>
                  <a:pt x="10450" y="15807"/>
                </a:lnTo>
                <a:lnTo>
                  <a:pt x="10438" y="15761"/>
                </a:lnTo>
                <a:lnTo>
                  <a:pt x="10404" y="15700"/>
                </a:lnTo>
                <a:lnTo>
                  <a:pt x="10358" y="15654"/>
                </a:lnTo>
                <a:lnTo>
                  <a:pt x="10358" y="15654"/>
                </a:lnTo>
                <a:lnTo>
                  <a:pt x="10324" y="15913"/>
                </a:lnTo>
                <a:close/>
                <a:moveTo>
                  <a:pt x="14541" y="15791"/>
                </a:moveTo>
                <a:lnTo>
                  <a:pt x="14541" y="15791"/>
                </a:lnTo>
                <a:lnTo>
                  <a:pt x="14495" y="15700"/>
                </a:lnTo>
                <a:lnTo>
                  <a:pt x="14426" y="15639"/>
                </a:lnTo>
                <a:lnTo>
                  <a:pt x="14369" y="15578"/>
                </a:lnTo>
                <a:lnTo>
                  <a:pt x="14289" y="15517"/>
                </a:lnTo>
                <a:lnTo>
                  <a:pt x="14289" y="15517"/>
                </a:lnTo>
                <a:lnTo>
                  <a:pt x="14300" y="15593"/>
                </a:lnTo>
                <a:lnTo>
                  <a:pt x="14334" y="15670"/>
                </a:lnTo>
                <a:lnTo>
                  <a:pt x="14369" y="15761"/>
                </a:lnTo>
                <a:lnTo>
                  <a:pt x="14415" y="15837"/>
                </a:lnTo>
                <a:lnTo>
                  <a:pt x="14461" y="15883"/>
                </a:lnTo>
                <a:lnTo>
                  <a:pt x="14483" y="15898"/>
                </a:lnTo>
                <a:lnTo>
                  <a:pt x="14506" y="15913"/>
                </a:lnTo>
                <a:lnTo>
                  <a:pt x="14518" y="15898"/>
                </a:lnTo>
                <a:lnTo>
                  <a:pt x="14529" y="15883"/>
                </a:lnTo>
                <a:lnTo>
                  <a:pt x="14541" y="15837"/>
                </a:lnTo>
                <a:lnTo>
                  <a:pt x="14541" y="15791"/>
                </a:lnTo>
                <a:close/>
                <a:moveTo>
                  <a:pt x="9338" y="15395"/>
                </a:moveTo>
                <a:lnTo>
                  <a:pt x="9338" y="15395"/>
                </a:lnTo>
                <a:lnTo>
                  <a:pt x="9224" y="15517"/>
                </a:lnTo>
                <a:lnTo>
                  <a:pt x="9178" y="15639"/>
                </a:lnTo>
                <a:lnTo>
                  <a:pt x="9155" y="15670"/>
                </a:lnTo>
                <a:lnTo>
                  <a:pt x="9155" y="15715"/>
                </a:lnTo>
                <a:lnTo>
                  <a:pt x="9155" y="15761"/>
                </a:lnTo>
                <a:lnTo>
                  <a:pt x="9155" y="15791"/>
                </a:lnTo>
                <a:lnTo>
                  <a:pt x="9155" y="15822"/>
                </a:lnTo>
                <a:lnTo>
                  <a:pt x="9178" y="15837"/>
                </a:lnTo>
                <a:lnTo>
                  <a:pt x="9212" y="15852"/>
                </a:lnTo>
                <a:lnTo>
                  <a:pt x="9270" y="15868"/>
                </a:lnTo>
                <a:lnTo>
                  <a:pt x="9338" y="15852"/>
                </a:lnTo>
                <a:lnTo>
                  <a:pt x="9384" y="15837"/>
                </a:lnTo>
                <a:lnTo>
                  <a:pt x="9442" y="15807"/>
                </a:lnTo>
                <a:lnTo>
                  <a:pt x="9499" y="15761"/>
                </a:lnTo>
                <a:lnTo>
                  <a:pt x="9522" y="15685"/>
                </a:lnTo>
                <a:lnTo>
                  <a:pt x="9522" y="15670"/>
                </a:lnTo>
                <a:lnTo>
                  <a:pt x="9522" y="15639"/>
                </a:lnTo>
                <a:lnTo>
                  <a:pt x="9510" y="15593"/>
                </a:lnTo>
                <a:lnTo>
                  <a:pt x="9499" y="15563"/>
                </a:lnTo>
                <a:lnTo>
                  <a:pt x="9476" y="15517"/>
                </a:lnTo>
                <a:lnTo>
                  <a:pt x="9430" y="15471"/>
                </a:lnTo>
                <a:lnTo>
                  <a:pt x="9338" y="15395"/>
                </a:lnTo>
                <a:close/>
                <a:moveTo>
                  <a:pt x="14598" y="15654"/>
                </a:moveTo>
                <a:lnTo>
                  <a:pt x="14598" y="15654"/>
                </a:lnTo>
                <a:lnTo>
                  <a:pt x="14667" y="15746"/>
                </a:lnTo>
                <a:lnTo>
                  <a:pt x="14735" y="15822"/>
                </a:lnTo>
                <a:lnTo>
                  <a:pt x="14804" y="15852"/>
                </a:lnTo>
                <a:lnTo>
                  <a:pt x="14884" y="15868"/>
                </a:lnTo>
                <a:lnTo>
                  <a:pt x="14953" y="15852"/>
                </a:lnTo>
                <a:lnTo>
                  <a:pt x="15010" y="15822"/>
                </a:lnTo>
                <a:lnTo>
                  <a:pt x="15091" y="15746"/>
                </a:lnTo>
                <a:lnTo>
                  <a:pt x="15159" y="15654"/>
                </a:lnTo>
                <a:lnTo>
                  <a:pt x="15159" y="15654"/>
                </a:lnTo>
                <a:lnTo>
                  <a:pt x="14850" y="15365"/>
                </a:lnTo>
                <a:lnTo>
                  <a:pt x="14735" y="15258"/>
                </a:lnTo>
                <a:lnTo>
                  <a:pt x="14690" y="15243"/>
                </a:lnTo>
                <a:lnTo>
                  <a:pt x="14655" y="15228"/>
                </a:lnTo>
                <a:lnTo>
                  <a:pt x="14655" y="15228"/>
                </a:lnTo>
                <a:lnTo>
                  <a:pt x="14632" y="15243"/>
                </a:lnTo>
                <a:lnTo>
                  <a:pt x="14610" y="15243"/>
                </a:lnTo>
                <a:lnTo>
                  <a:pt x="14598" y="15289"/>
                </a:lnTo>
                <a:lnTo>
                  <a:pt x="14586" y="15334"/>
                </a:lnTo>
                <a:lnTo>
                  <a:pt x="14586" y="15456"/>
                </a:lnTo>
                <a:lnTo>
                  <a:pt x="14598" y="15654"/>
                </a:lnTo>
                <a:close/>
                <a:moveTo>
                  <a:pt x="893" y="15868"/>
                </a:moveTo>
                <a:lnTo>
                  <a:pt x="893" y="15868"/>
                </a:lnTo>
                <a:lnTo>
                  <a:pt x="916" y="15791"/>
                </a:lnTo>
                <a:lnTo>
                  <a:pt x="928" y="15746"/>
                </a:lnTo>
                <a:lnTo>
                  <a:pt x="939" y="15685"/>
                </a:lnTo>
                <a:lnTo>
                  <a:pt x="939" y="15654"/>
                </a:lnTo>
                <a:lnTo>
                  <a:pt x="928" y="15639"/>
                </a:lnTo>
                <a:lnTo>
                  <a:pt x="916" y="15593"/>
                </a:lnTo>
                <a:lnTo>
                  <a:pt x="859" y="15563"/>
                </a:lnTo>
                <a:lnTo>
                  <a:pt x="710" y="15502"/>
                </a:lnTo>
                <a:lnTo>
                  <a:pt x="618" y="15441"/>
                </a:lnTo>
                <a:lnTo>
                  <a:pt x="527" y="15395"/>
                </a:lnTo>
                <a:lnTo>
                  <a:pt x="527" y="15395"/>
                </a:lnTo>
                <a:lnTo>
                  <a:pt x="527" y="15502"/>
                </a:lnTo>
                <a:lnTo>
                  <a:pt x="549" y="15593"/>
                </a:lnTo>
                <a:lnTo>
                  <a:pt x="572" y="15670"/>
                </a:lnTo>
                <a:lnTo>
                  <a:pt x="618" y="15746"/>
                </a:lnTo>
                <a:lnTo>
                  <a:pt x="675" y="15791"/>
                </a:lnTo>
                <a:lnTo>
                  <a:pt x="721" y="15837"/>
                </a:lnTo>
                <a:lnTo>
                  <a:pt x="801" y="15852"/>
                </a:lnTo>
                <a:lnTo>
                  <a:pt x="893" y="15868"/>
                </a:lnTo>
                <a:close/>
                <a:moveTo>
                  <a:pt x="11504" y="15791"/>
                </a:moveTo>
                <a:lnTo>
                  <a:pt x="11504" y="15791"/>
                </a:lnTo>
                <a:lnTo>
                  <a:pt x="8662" y="13962"/>
                </a:lnTo>
                <a:lnTo>
                  <a:pt x="8662" y="13962"/>
                </a:lnTo>
                <a:lnTo>
                  <a:pt x="8788" y="14115"/>
                </a:lnTo>
                <a:lnTo>
                  <a:pt x="8914" y="14283"/>
                </a:lnTo>
                <a:lnTo>
                  <a:pt x="9063" y="14420"/>
                </a:lnTo>
                <a:lnTo>
                  <a:pt x="9212" y="14557"/>
                </a:lnTo>
                <a:lnTo>
                  <a:pt x="9384" y="14709"/>
                </a:lnTo>
                <a:lnTo>
                  <a:pt x="9567" y="14847"/>
                </a:lnTo>
                <a:lnTo>
                  <a:pt x="9751" y="14984"/>
                </a:lnTo>
                <a:lnTo>
                  <a:pt x="9946" y="15106"/>
                </a:lnTo>
                <a:lnTo>
                  <a:pt x="10152" y="15228"/>
                </a:lnTo>
                <a:lnTo>
                  <a:pt x="10347" y="15334"/>
                </a:lnTo>
                <a:lnTo>
                  <a:pt x="10541" y="15426"/>
                </a:lnTo>
                <a:lnTo>
                  <a:pt x="10736" y="15532"/>
                </a:lnTo>
                <a:lnTo>
                  <a:pt x="10931" y="15609"/>
                </a:lnTo>
                <a:lnTo>
                  <a:pt x="11126" y="15670"/>
                </a:lnTo>
                <a:lnTo>
                  <a:pt x="11309" y="15746"/>
                </a:lnTo>
                <a:lnTo>
                  <a:pt x="11504" y="15791"/>
                </a:lnTo>
                <a:close/>
                <a:moveTo>
                  <a:pt x="9705" y="15730"/>
                </a:moveTo>
                <a:lnTo>
                  <a:pt x="9705" y="15730"/>
                </a:lnTo>
                <a:lnTo>
                  <a:pt x="9785" y="15654"/>
                </a:lnTo>
                <a:lnTo>
                  <a:pt x="9865" y="15563"/>
                </a:lnTo>
                <a:lnTo>
                  <a:pt x="9911" y="15487"/>
                </a:lnTo>
                <a:lnTo>
                  <a:pt x="9934" y="15441"/>
                </a:lnTo>
                <a:lnTo>
                  <a:pt x="9934" y="15410"/>
                </a:lnTo>
                <a:lnTo>
                  <a:pt x="9934" y="15395"/>
                </a:lnTo>
                <a:lnTo>
                  <a:pt x="9934" y="15349"/>
                </a:lnTo>
                <a:lnTo>
                  <a:pt x="9923" y="15334"/>
                </a:lnTo>
                <a:lnTo>
                  <a:pt x="9889" y="15289"/>
                </a:lnTo>
                <a:lnTo>
                  <a:pt x="9865" y="15258"/>
                </a:lnTo>
                <a:lnTo>
                  <a:pt x="9808" y="15243"/>
                </a:lnTo>
                <a:lnTo>
                  <a:pt x="9705" y="15182"/>
                </a:lnTo>
                <a:lnTo>
                  <a:pt x="9705" y="15182"/>
                </a:lnTo>
                <a:lnTo>
                  <a:pt x="9659" y="15273"/>
                </a:lnTo>
                <a:lnTo>
                  <a:pt x="9625" y="15349"/>
                </a:lnTo>
                <a:lnTo>
                  <a:pt x="9613" y="15410"/>
                </a:lnTo>
                <a:lnTo>
                  <a:pt x="9602" y="15502"/>
                </a:lnTo>
                <a:lnTo>
                  <a:pt x="9613" y="15563"/>
                </a:lnTo>
                <a:lnTo>
                  <a:pt x="9625" y="15624"/>
                </a:lnTo>
                <a:lnTo>
                  <a:pt x="9659" y="15670"/>
                </a:lnTo>
                <a:lnTo>
                  <a:pt x="9705" y="15730"/>
                </a:lnTo>
                <a:close/>
                <a:moveTo>
                  <a:pt x="7746" y="15243"/>
                </a:moveTo>
                <a:lnTo>
                  <a:pt x="7746" y="15243"/>
                </a:lnTo>
                <a:lnTo>
                  <a:pt x="7654" y="15517"/>
                </a:lnTo>
                <a:lnTo>
                  <a:pt x="7654" y="15517"/>
                </a:lnTo>
                <a:lnTo>
                  <a:pt x="7688" y="15563"/>
                </a:lnTo>
                <a:lnTo>
                  <a:pt x="7734" y="15593"/>
                </a:lnTo>
                <a:lnTo>
                  <a:pt x="7791" y="15593"/>
                </a:lnTo>
                <a:lnTo>
                  <a:pt x="7837" y="15593"/>
                </a:lnTo>
                <a:lnTo>
                  <a:pt x="7837" y="15593"/>
                </a:lnTo>
                <a:lnTo>
                  <a:pt x="7883" y="15426"/>
                </a:lnTo>
                <a:lnTo>
                  <a:pt x="7883" y="15395"/>
                </a:lnTo>
                <a:lnTo>
                  <a:pt x="7883" y="15334"/>
                </a:lnTo>
                <a:lnTo>
                  <a:pt x="7872" y="15304"/>
                </a:lnTo>
                <a:lnTo>
                  <a:pt x="7860" y="15258"/>
                </a:lnTo>
                <a:lnTo>
                  <a:pt x="7837" y="15243"/>
                </a:lnTo>
                <a:lnTo>
                  <a:pt x="7803" y="15243"/>
                </a:lnTo>
                <a:lnTo>
                  <a:pt x="7803" y="15243"/>
                </a:lnTo>
                <a:lnTo>
                  <a:pt x="7746" y="15243"/>
                </a:lnTo>
                <a:close/>
                <a:moveTo>
                  <a:pt x="15675" y="15334"/>
                </a:moveTo>
                <a:lnTo>
                  <a:pt x="15675" y="15334"/>
                </a:lnTo>
                <a:lnTo>
                  <a:pt x="15159" y="15334"/>
                </a:lnTo>
                <a:lnTo>
                  <a:pt x="15159" y="15334"/>
                </a:lnTo>
                <a:lnTo>
                  <a:pt x="15171" y="15380"/>
                </a:lnTo>
                <a:lnTo>
                  <a:pt x="15217" y="15410"/>
                </a:lnTo>
                <a:lnTo>
                  <a:pt x="15286" y="15502"/>
                </a:lnTo>
                <a:lnTo>
                  <a:pt x="15366" y="15563"/>
                </a:lnTo>
                <a:lnTo>
                  <a:pt x="15457" y="15593"/>
                </a:lnTo>
                <a:lnTo>
                  <a:pt x="15503" y="15593"/>
                </a:lnTo>
                <a:lnTo>
                  <a:pt x="15538" y="15593"/>
                </a:lnTo>
                <a:lnTo>
                  <a:pt x="15572" y="15578"/>
                </a:lnTo>
                <a:lnTo>
                  <a:pt x="15606" y="15548"/>
                </a:lnTo>
                <a:lnTo>
                  <a:pt x="15641" y="15502"/>
                </a:lnTo>
                <a:lnTo>
                  <a:pt x="15664" y="15456"/>
                </a:lnTo>
                <a:lnTo>
                  <a:pt x="15664" y="15395"/>
                </a:lnTo>
                <a:lnTo>
                  <a:pt x="15675" y="15334"/>
                </a:lnTo>
                <a:close/>
                <a:moveTo>
                  <a:pt x="12581" y="15121"/>
                </a:moveTo>
                <a:lnTo>
                  <a:pt x="12581" y="15121"/>
                </a:lnTo>
                <a:lnTo>
                  <a:pt x="13567" y="15334"/>
                </a:lnTo>
                <a:lnTo>
                  <a:pt x="13567" y="15334"/>
                </a:lnTo>
                <a:lnTo>
                  <a:pt x="13567" y="15228"/>
                </a:lnTo>
                <a:lnTo>
                  <a:pt x="13578" y="15136"/>
                </a:lnTo>
                <a:lnTo>
                  <a:pt x="13589" y="15045"/>
                </a:lnTo>
                <a:lnTo>
                  <a:pt x="13613" y="14968"/>
                </a:lnTo>
                <a:lnTo>
                  <a:pt x="13635" y="14892"/>
                </a:lnTo>
                <a:lnTo>
                  <a:pt x="13658" y="14862"/>
                </a:lnTo>
                <a:lnTo>
                  <a:pt x="13704" y="14816"/>
                </a:lnTo>
                <a:lnTo>
                  <a:pt x="13738" y="14770"/>
                </a:lnTo>
                <a:lnTo>
                  <a:pt x="13796" y="14725"/>
                </a:lnTo>
                <a:lnTo>
                  <a:pt x="13842" y="14725"/>
                </a:lnTo>
                <a:lnTo>
                  <a:pt x="13899" y="14709"/>
                </a:lnTo>
                <a:lnTo>
                  <a:pt x="13968" y="14694"/>
                </a:lnTo>
                <a:lnTo>
                  <a:pt x="14036" y="14709"/>
                </a:lnTo>
                <a:lnTo>
                  <a:pt x="14117" y="14725"/>
                </a:lnTo>
                <a:lnTo>
                  <a:pt x="14289" y="14786"/>
                </a:lnTo>
                <a:lnTo>
                  <a:pt x="14289" y="14786"/>
                </a:lnTo>
                <a:lnTo>
                  <a:pt x="14312" y="14679"/>
                </a:lnTo>
                <a:lnTo>
                  <a:pt x="14334" y="14618"/>
                </a:lnTo>
                <a:lnTo>
                  <a:pt x="14334" y="14542"/>
                </a:lnTo>
                <a:lnTo>
                  <a:pt x="14323" y="14481"/>
                </a:lnTo>
                <a:lnTo>
                  <a:pt x="14300" y="14435"/>
                </a:lnTo>
                <a:lnTo>
                  <a:pt x="14254" y="14405"/>
                </a:lnTo>
                <a:lnTo>
                  <a:pt x="14208" y="14374"/>
                </a:lnTo>
                <a:lnTo>
                  <a:pt x="14117" y="14374"/>
                </a:lnTo>
                <a:lnTo>
                  <a:pt x="14117" y="14374"/>
                </a:lnTo>
                <a:lnTo>
                  <a:pt x="14128" y="14374"/>
                </a:lnTo>
                <a:lnTo>
                  <a:pt x="14128" y="14374"/>
                </a:lnTo>
                <a:lnTo>
                  <a:pt x="14105" y="14328"/>
                </a:lnTo>
                <a:lnTo>
                  <a:pt x="14002" y="14176"/>
                </a:lnTo>
                <a:lnTo>
                  <a:pt x="13807" y="13947"/>
                </a:lnTo>
                <a:lnTo>
                  <a:pt x="13555" y="13688"/>
                </a:lnTo>
                <a:lnTo>
                  <a:pt x="13051" y="13154"/>
                </a:lnTo>
                <a:lnTo>
                  <a:pt x="12845" y="12941"/>
                </a:lnTo>
                <a:lnTo>
                  <a:pt x="12684" y="12819"/>
                </a:lnTo>
                <a:lnTo>
                  <a:pt x="12684" y="12819"/>
                </a:lnTo>
                <a:lnTo>
                  <a:pt x="12478" y="14313"/>
                </a:lnTo>
                <a:lnTo>
                  <a:pt x="12478" y="14313"/>
                </a:lnTo>
                <a:lnTo>
                  <a:pt x="11092" y="12011"/>
                </a:lnTo>
                <a:lnTo>
                  <a:pt x="11092" y="12011"/>
                </a:lnTo>
                <a:lnTo>
                  <a:pt x="11080" y="12133"/>
                </a:lnTo>
                <a:lnTo>
                  <a:pt x="11080" y="12225"/>
                </a:lnTo>
                <a:lnTo>
                  <a:pt x="11046" y="12286"/>
                </a:lnTo>
                <a:lnTo>
                  <a:pt x="11023" y="12301"/>
                </a:lnTo>
                <a:lnTo>
                  <a:pt x="11011" y="12301"/>
                </a:lnTo>
                <a:lnTo>
                  <a:pt x="10988" y="12301"/>
                </a:lnTo>
                <a:lnTo>
                  <a:pt x="10966" y="12286"/>
                </a:lnTo>
                <a:lnTo>
                  <a:pt x="10920" y="12225"/>
                </a:lnTo>
                <a:lnTo>
                  <a:pt x="10862" y="12133"/>
                </a:lnTo>
                <a:lnTo>
                  <a:pt x="10782" y="12011"/>
                </a:lnTo>
                <a:lnTo>
                  <a:pt x="10782" y="12011"/>
                </a:lnTo>
                <a:lnTo>
                  <a:pt x="10736" y="12316"/>
                </a:lnTo>
                <a:lnTo>
                  <a:pt x="10725" y="12423"/>
                </a:lnTo>
                <a:lnTo>
                  <a:pt x="10668" y="12560"/>
                </a:lnTo>
                <a:lnTo>
                  <a:pt x="10645" y="12590"/>
                </a:lnTo>
                <a:lnTo>
                  <a:pt x="10610" y="12636"/>
                </a:lnTo>
                <a:lnTo>
                  <a:pt x="10576" y="12667"/>
                </a:lnTo>
                <a:lnTo>
                  <a:pt x="10541" y="12697"/>
                </a:lnTo>
                <a:lnTo>
                  <a:pt x="10496" y="12712"/>
                </a:lnTo>
                <a:lnTo>
                  <a:pt x="10438" y="12728"/>
                </a:lnTo>
                <a:lnTo>
                  <a:pt x="10381" y="12712"/>
                </a:lnTo>
                <a:lnTo>
                  <a:pt x="10324" y="12682"/>
                </a:lnTo>
                <a:lnTo>
                  <a:pt x="10324" y="12682"/>
                </a:lnTo>
                <a:lnTo>
                  <a:pt x="10392" y="13017"/>
                </a:lnTo>
                <a:lnTo>
                  <a:pt x="10416" y="13093"/>
                </a:lnTo>
                <a:lnTo>
                  <a:pt x="10416" y="13124"/>
                </a:lnTo>
                <a:lnTo>
                  <a:pt x="10404" y="13154"/>
                </a:lnTo>
                <a:lnTo>
                  <a:pt x="10392" y="13170"/>
                </a:lnTo>
                <a:lnTo>
                  <a:pt x="10370" y="13170"/>
                </a:lnTo>
                <a:lnTo>
                  <a:pt x="10324" y="13139"/>
                </a:lnTo>
                <a:lnTo>
                  <a:pt x="10118" y="13017"/>
                </a:lnTo>
                <a:lnTo>
                  <a:pt x="10118" y="13017"/>
                </a:lnTo>
                <a:lnTo>
                  <a:pt x="10175" y="13170"/>
                </a:lnTo>
                <a:lnTo>
                  <a:pt x="10267" y="13322"/>
                </a:lnTo>
                <a:lnTo>
                  <a:pt x="10358" y="13429"/>
                </a:lnTo>
                <a:lnTo>
                  <a:pt x="10450" y="13551"/>
                </a:lnTo>
                <a:lnTo>
                  <a:pt x="10656" y="13779"/>
                </a:lnTo>
                <a:lnTo>
                  <a:pt x="10736" y="13901"/>
                </a:lnTo>
                <a:lnTo>
                  <a:pt x="10839" y="14039"/>
                </a:lnTo>
                <a:lnTo>
                  <a:pt x="10839" y="14039"/>
                </a:lnTo>
                <a:lnTo>
                  <a:pt x="10713" y="13993"/>
                </a:lnTo>
                <a:lnTo>
                  <a:pt x="10576" y="13947"/>
                </a:lnTo>
                <a:lnTo>
                  <a:pt x="10335" y="13856"/>
                </a:lnTo>
                <a:lnTo>
                  <a:pt x="10198" y="13795"/>
                </a:lnTo>
                <a:lnTo>
                  <a:pt x="10083" y="13779"/>
                </a:lnTo>
                <a:lnTo>
                  <a:pt x="9946" y="13764"/>
                </a:lnTo>
                <a:lnTo>
                  <a:pt x="9797" y="13779"/>
                </a:lnTo>
                <a:lnTo>
                  <a:pt x="9797" y="13779"/>
                </a:lnTo>
                <a:lnTo>
                  <a:pt x="9808" y="13932"/>
                </a:lnTo>
                <a:lnTo>
                  <a:pt x="9842" y="14084"/>
                </a:lnTo>
                <a:lnTo>
                  <a:pt x="9900" y="14206"/>
                </a:lnTo>
                <a:lnTo>
                  <a:pt x="9969" y="14359"/>
                </a:lnTo>
                <a:lnTo>
                  <a:pt x="10049" y="14466"/>
                </a:lnTo>
                <a:lnTo>
                  <a:pt x="10152" y="14572"/>
                </a:lnTo>
                <a:lnTo>
                  <a:pt x="10255" y="14633"/>
                </a:lnTo>
                <a:lnTo>
                  <a:pt x="10358" y="14709"/>
                </a:lnTo>
                <a:lnTo>
                  <a:pt x="10358" y="14709"/>
                </a:lnTo>
                <a:lnTo>
                  <a:pt x="10381" y="14618"/>
                </a:lnTo>
                <a:lnTo>
                  <a:pt x="10404" y="14542"/>
                </a:lnTo>
                <a:lnTo>
                  <a:pt x="10438" y="14481"/>
                </a:lnTo>
                <a:lnTo>
                  <a:pt x="10461" y="14450"/>
                </a:lnTo>
                <a:lnTo>
                  <a:pt x="10496" y="14420"/>
                </a:lnTo>
                <a:lnTo>
                  <a:pt x="10530" y="14420"/>
                </a:lnTo>
                <a:lnTo>
                  <a:pt x="10565" y="14435"/>
                </a:lnTo>
                <a:lnTo>
                  <a:pt x="10599" y="14466"/>
                </a:lnTo>
                <a:lnTo>
                  <a:pt x="10679" y="14557"/>
                </a:lnTo>
                <a:lnTo>
                  <a:pt x="10759" y="14664"/>
                </a:lnTo>
                <a:lnTo>
                  <a:pt x="10931" y="14968"/>
                </a:lnTo>
                <a:lnTo>
                  <a:pt x="11023" y="15121"/>
                </a:lnTo>
                <a:lnTo>
                  <a:pt x="11126" y="15243"/>
                </a:lnTo>
                <a:lnTo>
                  <a:pt x="11206" y="15334"/>
                </a:lnTo>
                <a:lnTo>
                  <a:pt x="11240" y="15380"/>
                </a:lnTo>
                <a:lnTo>
                  <a:pt x="11286" y="15395"/>
                </a:lnTo>
                <a:lnTo>
                  <a:pt x="11309" y="15395"/>
                </a:lnTo>
                <a:lnTo>
                  <a:pt x="11344" y="15395"/>
                </a:lnTo>
                <a:lnTo>
                  <a:pt x="11378" y="15365"/>
                </a:lnTo>
                <a:lnTo>
                  <a:pt x="11413" y="15319"/>
                </a:lnTo>
                <a:lnTo>
                  <a:pt x="11435" y="15243"/>
                </a:lnTo>
                <a:lnTo>
                  <a:pt x="11470" y="15151"/>
                </a:lnTo>
                <a:lnTo>
                  <a:pt x="11493" y="15060"/>
                </a:lnTo>
                <a:lnTo>
                  <a:pt x="11504" y="14908"/>
                </a:lnTo>
                <a:lnTo>
                  <a:pt x="11504" y="14908"/>
                </a:lnTo>
                <a:lnTo>
                  <a:pt x="11630" y="15029"/>
                </a:lnTo>
                <a:lnTo>
                  <a:pt x="11791" y="15167"/>
                </a:lnTo>
                <a:lnTo>
                  <a:pt x="11962" y="15334"/>
                </a:lnTo>
                <a:lnTo>
                  <a:pt x="12065" y="15395"/>
                </a:lnTo>
                <a:lnTo>
                  <a:pt x="12146" y="15441"/>
                </a:lnTo>
                <a:lnTo>
                  <a:pt x="12238" y="15502"/>
                </a:lnTo>
                <a:lnTo>
                  <a:pt x="12306" y="15517"/>
                </a:lnTo>
                <a:lnTo>
                  <a:pt x="12386" y="15532"/>
                </a:lnTo>
                <a:lnTo>
                  <a:pt x="12455" y="15502"/>
                </a:lnTo>
                <a:lnTo>
                  <a:pt x="12478" y="15502"/>
                </a:lnTo>
                <a:lnTo>
                  <a:pt x="12512" y="15456"/>
                </a:lnTo>
                <a:lnTo>
                  <a:pt x="12524" y="15426"/>
                </a:lnTo>
                <a:lnTo>
                  <a:pt x="12547" y="15395"/>
                </a:lnTo>
                <a:lnTo>
                  <a:pt x="12570" y="15334"/>
                </a:lnTo>
                <a:lnTo>
                  <a:pt x="12581" y="15273"/>
                </a:lnTo>
                <a:lnTo>
                  <a:pt x="12581" y="15121"/>
                </a:lnTo>
                <a:close/>
                <a:moveTo>
                  <a:pt x="19227" y="14709"/>
                </a:moveTo>
                <a:lnTo>
                  <a:pt x="19227" y="14709"/>
                </a:lnTo>
                <a:lnTo>
                  <a:pt x="19308" y="14740"/>
                </a:lnTo>
                <a:lnTo>
                  <a:pt x="19376" y="14801"/>
                </a:lnTo>
                <a:lnTo>
                  <a:pt x="19411" y="14847"/>
                </a:lnTo>
                <a:lnTo>
                  <a:pt x="19445" y="14892"/>
                </a:lnTo>
                <a:lnTo>
                  <a:pt x="19457" y="14968"/>
                </a:lnTo>
                <a:lnTo>
                  <a:pt x="19457" y="15045"/>
                </a:lnTo>
                <a:lnTo>
                  <a:pt x="19457" y="15167"/>
                </a:lnTo>
                <a:lnTo>
                  <a:pt x="19457" y="15319"/>
                </a:lnTo>
                <a:lnTo>
                  <a:pt x="19468" y="15365"/>
                </a:lnTo>
                <a:lnTo>
                  <a:pt x="19491" y="15410"/>
                </a:lnTo>
                <a:lnTo>
                  <a:pt x="19525" y="15441"/>
                </a:lnTo>
                <a:lnTo>
                  <a:pt x="19571" y="15456"/>
                </a:lnTo>
                <a:lnTo>
                  <a:pt x="19629" y="15471"/>
                </a:lnTo>
                <a:lnTo>
                  <a:pt x="19731" y="15456"/>
                </a:lnTo>
                <a:lnTo>
                  <a:pt x="19731" y="15456"/>
                </a:lnTo>
                <a:lnTo>
                  <a:pt x="19800" y="15410"/>
                </a:lnTo>
                <a:lnTo>
                  <a:pt x="19858" y="15395"/>
                </a:lnTo>
                <a:lnTo>
                  <a:pt x="19915" y="15334"/>
                </a:lnTo>
                <a:lnTo>
                  <a:pt x="19949" y="15289"/>
                </a:lnTo>
                <a:lnTo>
                  <a:pt x="19984" y="15212"/>
                </a:lnTo>
                <a:lnTo>
                  <a:pt x="19995" y="15136"/>
                </a:lnTo>
                <a:lnTo>
                  <a:pt x="19995" y="15075"/>
                </a:lnTo>
                <a:lnTo>
                  <a:pt x="19995" y="14984"/>
                </a:lnTo>
                <a:lnTo>
                  <a:pt x="19995" y="14892"/>
                </a:lnTo>
                <a:lnTo>
                  <a:pt x="19984" y="14831"/>
                </a:lnTo>
                <a:lnTo>
                  <a:pt x="19949" y="14740"/>
                </a:lnTo>
                <a:lnTo>
                  <a:pt x="19927" y="14664"/>
                </a:lnTo>
                <a:lnTo>
                  <a:pt x="19880" y="14618"/>
                </a:lnTo>
                <a:lnTo>
                  <a:pt x="19835" y="14542"/>
                </a:lnTo>
                <a:lnTo>
                  <a:pt x="19800" y="14481"/>
                </a:lnTo>
                <a:lnTo>
                  <a:pt x="19743" y="14450"/>
                </a:lnTo>
                <a:lnTo>
                  <a:pt x="19743" y="14450"/>
                </a:lnTo>
                <a:lnTo>
                  <a:pt x="19686" y="14405"/>
                </a:lnTo>
                <a:lnTo>
                  <a:pt x="19640" y="14374"/>
                </a:lnTo>
                <a:lnTo>
                  <a:pt x="19594" y="14374"/>
                </a:lnTo>
                <a:lnTo>
                  <a:pt x="19548" y="14374"/>
                </a:lnTo>
                <a:lnTo>
                  <a:pt x="19548" y="14374"/>
                </a:lnTo>
                <a:lnTo>
                  <a:pt x="19502" y="14374"/>
                </a:lnTo>
                <a:lnTo>
                  <a:pt x="19445" y="14374"/>
                </a:lnTo>
                <a:lnTo>
                  <a:pt x="19411" y="14405"/>
                </a:lnTo>
                <a:lnTo>
                  <a:pt x="19376" y="14450"/>
                </a:lnTo>
                <a:lnTo>
                  <a:pt x="19331" y="14496"/>
                </a:lnTo>
                <a:lnTo>
                  <a:pt x="19296" y="14557"/>
                </a:lnTo>
                <a:lnTo>
                  <a:pt x="19262" y="14633"/>
                </a:lnTo>
                <a:lnTo>
                  <a:pt x="19227" y="14709"/>
                </a:lnTo>
                <a:close/>
                <a:moveTo>
                  <a:pt x="8937" y="15456"/>
                </a:moveTo>
                <a:lnTo>
                  <a:pt x="8937" y="15456"/>
                </a:lnTo>
                <a:lnTo>
                  <a:pt x="8903" y="15289"/>
                </a:lnTo>
                <a:lnTo>
                  <a:pt x="8857" y="15121"/>
                </a:lnTo>
                <a:lnTo>
                  <a:pt x="8811" y="14938"/>
                </a:lnTo>
                <a:lnTo>
                  <a:pt x="8777" y="14786"/>
                </a:lnTo>
                <a:lnTo>
                  <a:pt x="8777" y="14786"/>
                </a:lnTo>
                <a:lnTo>
                  <a:pt x="8513" y="14984"/>
                </a:lnTo>
                <a:lnTo>
                  <a:pt x="8513" y="14984"/>
                </a:lnTo>
                <a:lnTo>
                  <a:pt x="8456" y="15395"/>
                </a:lnTo>
                <a:lnTo>
                  <a:pt x="8456" y="15395"/>
                </a:lnTo>
                <a:lnTo>
                  <a:pt x="8513" y="15395"/>
                </a:lnTo>
                <a:lnTo>
                  <a:pt x="8513" y="15395"/>
                </a:lnTo>
                <a:lnTo>
                  <a:pt x="8616" y="15395"/>
                </a:lnTo>
                <a:lnTo>
                  <a:pt x="8719" y="15410"/>
                </a:lnTo>
                <a:lnTo>
                  <a:pt x="8823" y="15410"/>
                </a:lnTo>
                <a:lnTo>
                  <a:pt x="8937" y="15456"/>
                </a:lnTo>
                <a:close/>
                <a:moveTo>
                  <a:pt x="8009" y="15456"/>
                </a:moveTo>
                <a:lnTo>
                  <a:pt x="8009" y="15456"/>
                </a:lnTo>
                <a:lnTo>
                  <a:pt x="8032" y="15441"/>
                </a:lnTo>
                <a:lnTo>
                  <a:pt x="8067" y="15441"/>
                </a:lnTo>
                <a:lnTo>
                  <a:pt x="8135" y="15395"/>
                </a:lnTo>
                <a:lnTo>
                  <a:pt x="8181" y="15334"/>
                </a:lnTo>
                <a:lnTo>
                  <a:pt x="8216" y="15273"/>
                </a:lnTo>
                <a:lnTo>
                  <a:pt x="8227" y="15182"/>
                </a:lnTo>
                <a:lnTo>
                  <a:pt x="8227" y="15121"/>
                </a:lnTo>
                <a:lnTo>
                  <a:pt x="8227" y="15075"/>
                </a:lnTo>
                <a:lnTo>
                  <a:pt x="8204" y="15045"/>
                </a:lnTo>
                <a:lnTo>
                  <a:pt x="8181" y="15014"/>
                </a:lnTo>
                <a:lnTo>
                  <a:pt x="8147" y="14984"/>
                </a:lnTo>
                <a:lnTo>
                  <a:pt x="8147" y="14984"/>
                </a:lnTo>
                <a:lnTo>
                  <a:pt x="8078" y="15075"/>
                </a:lnTo>
                <a:lnTo>
                  <a:pt x="8055" y="15136"/>
                </a:lnTo>
                <a:lnTo>
                  <a:pt x="8032" y="15182"/>
                </a:lnTo>
                <a:lnTo>
                  <a:pt x="8020" y="15243"/>
                </a:lnTo>
                <a:lnTo>
                  <a:pt x="8009" y="15334"/>
                </a:lnTo>
                <a:lnTo>
                  <a:pt x="8009" y="15456"/>
                </a:lnTo>
                <a:close/>
                <a:moveTo>
                  <a:pt x="733" y="15243"/>
                </a:moveTo>
                <a:lnTo>
                  <a:pt x="733" y="15243"/>
                </a:lnTo>
                <a:lnTo>
                  <a:pt x="847" y="15334"/>
                </a:lnTo>
                <a:lnTo>
                  <a:pt x="916" y="15380"/>
                </a:lnTo>
                <a:lnTo>
                  <a:pt x="996" y="15410"/>
                </a:lnTo>
                <a:lnTo>
                  <a:pt x="1077" y="15410"/>
                </a:lnTo>
                <a:lnTo>
                  <a:pt x="1099" y="15410"/>
                </a:lnTo>
                <a:lnTo>
                  <a:pt x="1134" y="15410"/>
                </a:lnTo>
                <a:lnTo>
                  <a:pt x="1157" y="15395"/>
                </a:lnTo>
                <a:lnTo>
                  <a:pt x="1180" y="15349"/>
                </a:lnTo>
                <a:lnTo>
                  <a:pt x="1203" y="15319"/>
                </a:lnTo>
                <a:lnTo>
                  <a:pt x="1203" y="15243"/>
                </a:lnTo>
                <a:lnTo>
                  <a:pt x="1203" y="15243"/>
                </a:lnTo>
                <a:lnTo>
                  <a:pt x="1157" y="15151"/>
                </a:lnTo>
                <a:lnTo>
                  <a:pt x="1122" y="15075"/>
                </a:lnTo>
                <a:lnTo>
                  <a:pt x="1077" y="15045"/>
                </a:lnTo>
                <a:lnTo>
                  <a:pt x="1054" y="15029"/>
                </a:lnTo>
                <a:lnTo>
                  <a:pt x="1019" y="15014"/>
                </a:lnTo>
                <a:lnTo>
                  <a:pt x="1019" y="15014"/>
                </a:lnTo>
                <a:lnTo>
                  <a:pt x="962" y="15045"/>
                </a:lnTo>
                <a:lnTo>
                  <a:pt x="893" y="15075"/>
                </a:lnTo>
                <a:lnTo>
                  <a:pt x="813" y="15151"/>
                </a:lnTo>
                <a:lnTo>
                  <a:pt x="733" y="15243"/>
                </a:lnTo>
                <a:close/>
                <a:moveTo>
                  <a:pt x="9075" y="15334"/>
                </a:moveTo>
                <a:lnTo>
                  <a:pt x="9075" y="15334"/>
                </a:lnTo>
                <a:lnTo>
                  <a:pt x="9144" y="15319"/>
                </a:lnTo>
                <a:lnTo>
                  <a:pt x="9189" y="15304"/>
                </a:lnTo>
                <a:lnTo>
                  <a:pt x="9224" y="15273"/>
                </a:lnTo>
                <a:lnTo>
                  <a:pt x="9258" y="15243"/>
                </a:lnTo>
                <a:lnTo>
                  <a:pt x="9293" y="15197"/>
                </a:lnTo>
                <a:lnTo>
                  <a:pt x="9304" y="15151"/>
                </a:lnTo>
                <a:lnTo>
                  <a:pt x="9315" y="15106"/>
                </a:lnTo>
                <a:lnTo>
                  <a:pt x="9315" y="15060"/>
                </a:lnTo>
                <a:lnTo>
                  <a:pt x="9315" y="14999"/>
                </a:lnTo>
                <a:lnTo>
                  <a:pt x="9304" y="14953"/>
                </a:lnTo>
                <a:lnTo>
                  <a:pt x="9293" y="14892"/>
                </a:lnTo>
                <a:lnTo>
                  <a:pt x="9258" y="14862"/>
                </a:lnTo>
                <a:lnTo>
                  <a:pt x="9212" y="14816"/>
                </a:lnTo>
                <a:lnTo>
                  <a:pt x="9189" y="14770"/>
                </a:lnTo>
                <a:lnTo>
                  <a:pt x="9144" y="14725"/>
                </a:lnTo>
                <a:lnTo>
                  <a:pt x="9075" y="14709"/>
                </a:lnTo>
                <a:lnTo>
                  <a:pt x="9075" y="14709"/>
                </a:lnTo>
                <a:lnTo>
                  <a:pt x="9075" y="15334"/>
                </a:lnTo>
                <a:close/>
                <a:moveTo>
                  <a:pt x="7482" y="15243"/>
                </a:moveTo>
                <a:lnTo>
                  <a:pt x="7482" y="15243"/>
                </a:lnTo>
                <a:lnTo>
                  <a:pt x="7574" y="15151"/>
                </a:lnTo>
                <a:lnTo>
                  <a:pt x="7654" y="15060"/>
                </a:lnTo>
                <a:lnTo>
                  <a:pt x="7723" y="14923"/>
                </a:lnTo>
                <a:lnTo>
                  <a:pt x="7746" y="14877"/>
                </a:lnTo>
                <a:lnTo>
                  <a:pt x="7769" y="14816"/>
                </a:lnTo>
                <a:lnTo>
                  <a:pt x="7780" y="14740"/>
                </a:lnTo>
                <a:lnTo>
                  <a:pt x="7780" y="14694"/>
                </a:lnTo>
                <a:lnTo>
                  <a:pt x="7769" y="14633"/>
                </a:lnTo>
                <a:lnTo>
                  <a:pt x="7746" y="14603"/>
                </a:lnTo>
                <a:lnTo>
                  <a:pt x="7723" y="14557"/>
                </a:lnTo>
                <a:lnTo>
                  <a:pt x="7665" y="14542"/>
                </a:lnTo>
                <a:lnTo>
                  <a:pt x="7620" y="14527"/>
                </a:lnTo>
                <a:lnTo>
                  <a:pt x="7539" y="14511"/>
                </a:lnTo>
                <a:lnTo>
                  <a:pt x="7539" y="14511"/>
                </a:lnTo>
                <a:lnTo>
                  <a:pt x="7493" y="14694"/>
                </a:lnTo>
                <a:lnTo>
                  <a:pt x="7471" y="14892"/>
                </a:lnTo>
                <a:lnTo>
                  <a:pt x="7459" y="15075"/>
                </a:lnTo>
                <a:lnTo>
                  <a:pt x="7482" y="15243"/>
                </a:lnTo>
                <a:close/>
                <a:moveTo>
                  <a:pt x="15010" y="15182"/>
                </a:moveTo>
                <a:lnTo>
                  <a:pt x="15010" y="15182"/>
                </a:lnTo>
                <a:lnTo>
                  <a:pt x="15091" y="15197"/>
                </a:lnTo>
                <a:lnTo>
                  <a:pt x="15159" y="15197"/>
                </a:lnTo>
                <a:lnTo>
                  <a:pt x="15205" y="15182"/>
                </a:lnTo>
                <a:lnTo>
                  <a:pt x="15251" y="15151"/>
                </a:lnTo>
                <a:lnTo>
                  <a:pt x="15286" y="15136"/>
                </a:lnTo>
                <a:lnTo>
                  <a:pt x="15297" y="15106"/>
                </a:lnTo>
                <a:lnTo>
                  <a:pt x="15320" y="15045"/>
                </a:lnTo>
                <a:lnTo>
                  <a:pt x="15320" y="14984"/>
                </a:lnTo>
                <a:lnTo>
                  <a:pt x="15320" y="14984"/>
                </a:lnTo>
                <a:lnTo>
                  <a:pt x="15159" y="14968"/>
                </a:lnTo>
                <a:lnTo>
                  <a:pt x="15022" y="14953"/>
                </a:lnTo>
                <a:lnTo>
                  <a:pt x="15022" y="14953"/>
                </a:lnTo>
                <a:lnTo>
                  <a:pt x="14919" y="14968"/>
                </a:lnTo>
                <a:lnTo>
                  <a:pt x="14884" y="14984"/>
                </a:lnTo>
                <a:lnTo>
                  <a:pt x="14873" y="14984"/>
                </a:lnTo>
                <a:lnTo>
                  <a:pt x="14850" y="14999"/>
                </a:lnTo>
                <a:lnTo>
                  <a:pt x="14850" y="15029"/>
                </a:lnTo>
                <a:lnTo>
                  <a:pt x="14873" y="15075"/>
                </a:lnTo>
                <a:lnTo>
                  <a:pt x="14896" y="15121"/>
                </a:lnTo>
                <a:lnTo>
                  <a:pt x="14942" y="15151"/>
                </a:lnTo>
                <a:lnTo>
                  <a:pt x="14976" y="15167"/>
                </a:lnTo>
                <a:lnTo>
                  <a:pt x="15010" y="15182"/>
                </a:lnTo>
                <a:close/>
                <a:moveTo>
                  <a:pt x="7276" y="15182"/>
                </a:moveTo>
                <a:lnTo>
                  <a:pt x="7276" y="15182"/>
                </a:lnTo>
                <a:lnTo>
                  <a:pt x="7230" y="14908"/>
                </a:lnTo>
                <a:lnTo>
                  <a:pt x="7230" y="14908"/>
                </a:lnTo>
                <a:lnTo>
                  <a:pt x="7219" y="15014"/>
                </a:lnTo>
                <a:lnTo>
                  <a:pt x="7219" y="15075"/>
                </a:lnTo>
                <a:lnTo>
                  <a:pt x="7230" y="15106"/>
                </a:lnTo>
                <a:lnTo>
                  <a:pt x="7276" y="15182"/>
                </a:lnTo>
                <a:close/>
                <a:moveTo>
                  <a:pt x="16134" y="14633"/>
                </a:moveTo>
                <a:lnTo>
                  <a:pt x="16134" y="14633"/>
                </a:lnTo>
                <a:lnTo>
                  <a:pt x="16088" y="14709"/>
                </a:lnTo>
                <a:lnTo>
                  <a:pt x="15939" y="14862"/>
                </a:lnTo>
                <a:lnTo>
                  <a:pt x="15790" y="15014"/>
                </a:lnTo>
                <a:lnTo>
                  <a:pt x="15732" y="15075"/>
                </a:lnTo>
                <a:lnTo>
                  <a:pt x="15664" y="15121"/>
                </a:lnTo>
                <a:lnTo>
                  <a:pt x="15664" y="15121"/>
                </a:lnTo>
                <a:lnTo>
                  <a:pt x="15870" y="15136"/>
                </a:lnTo>
                <a:lnTo>
                  <a:pt x="15939" y="15121"/>
                </a:lnTo>
                <a:lnTo>
                  <a:pt x="16007" y="15090"/>
                </a:lnTo>
                <a:lnTo>
                  <a:pt x="16019" y="15075"/>
                </a:lnTo>
                <a:lnTo>
                  <a:pt x="16053" y="15029"/>
                </a:lnTo>
                <a:lnTo>
                  <a:pt x="16076" y="14984"/>
                </a:lnTo>
                <a:lnTo>
                  <a:pt x="16088" y="14938"/>
                </a:lnTo>
                <a:lnTo>
                  <a:pt x="16122" y="14816"/>
                </a:lnTo>
                <a:lnTo>
                  <a:pt x="16134" y="14633"/>
                </a:lnTo>
                <a:close/>
                <a:moveTo>
                  <a:pt x="687" y="15060"/>
                </a:moveTo>
                <a:lnTo>
                  <a:pt x="687" y="15060"/>
                </a:lnTo>
                <a:lnTo>
                  <a:pt x="687" y="14999"/>
                </a:lnTo>
                <a:lnTo>
                  <a:pt x="675" y="14968"/>
                </a:lnTo>
                <a:lnTo>
                  <a:pt x="641" y="14892"/>
                </a:lnTo>
                <a:lnTo>
                  <a:pt x="595" y="14801"/>
                </a:lnTo>
                <a:lnTo>
                  <a:pt x="527" y="14725"/>
                </a:lnTo>
                <a:lnTo>
                  <a:pt x="469" y="14648"/>
                </a:lnTo>
                <a:lnTo>
                  <a:pt x="400" y="14603"/>
                </a:lnTo>
                <a:lnTo>
                  <a:pt x="274" y="14511"/>
                </a:lnTo>
                <a:lnTo>
                  <a:pt x="274" y="14511"/>
                </a:lnTo>
                <a:lnTo>
                  <a:pt x="263" y="14679"/>
                </a:lnTo>
                <a:lnTo>
                  <a:pt x="274" y="14816"/>
                </a:lnTo>
                <a:lnTo>
                  <a:pt x="286" y="14892"/>
                </a:lnTo>
                <a:lnTo>
                  <a:pt x="297" y="14923"/>
                </a:lnTo>
                <a:lnTo>
                  <a:pt x="320" y="14984"/>
                </a:lnTo>
                <a:lnTo>
                  <a:pt x="343" y="15014"/>
                </a:lnTo>
                <a:lnTo>
                  <a:pt x="366" y="15045"/>
                </a:lnTo>
                <a:lnTo>
                  <a:pt x="400" y="15075"/>
                </a:lnTo>
                <a:lnTo>
                  <a:pt x="435" y="15075"/>
                </a:lnTo>
                <a:lnTo>
                  <a:pt x="481" y="15090"/>
                </a:lnTo>
                <a:lnTo>
                  <a:pt x="561" y="15090"/>
                </a:lnTo>
                <a:lnTo>
                  <a:pt x="687" y="15060"/>
                </a:lnTo>
                <a:close/>
                <a:moveTo>
                  <a:pt x="16867" y="14847"/>
                </a:moveTo>
                <a:lnTo>
                  <a:pt x="16867" y="14847"/>
                </a:lnTo>
                <a:lnTo>
                  <a:pt x="16901" y="14938"/>
                </a:lnTo>
                <a:lnTo>
                  <a:pt x="16935" y="14968"/>
                </a:lnTo>
                <a:lnTo>
                  <a:pt x="16959" y="14999"/>
                </a:lnTo>
                <a:lnTo>
                  <a:pt x="17004" y="15029"/>
                </a:lnTo>
                <a:lnTo>
                  <a:pt x="17039" y="15045"/>
                </a:lnTo>
                <a:lnTo>
                  <a:pt x="17108" y="15060"/>
                </a:lnTo>
                <a:lnTo>
                  <a:pt x="17108" y="15060"/>
                </a:lnTo>
                <a:lnTo>
                  <a:pt x="17096" y="14953"/>
                </a:lnTo>
                <a:lnTo>
                  <a:pt x="17062" y="14892"/>
                </a:lnTo>
                <a:lnTo>
                  <a:pt x="17027" y="14862"/>
                </a:lnTo>
                <a:lnTo>
                  <a:pt x="17016" y="14847"/>
                </a:lnTo>
                <a:lnTo>
                  <a:pt x="16970" y="14831"/>
                </a:lnTo>
                <a:lnTo>
                  <a:pt x="16947" y="14831"/>
                </a:lnTo>
                <a:lnTo>
                  <a:pt x="16947" y="14831"/>
                </a:lnTo>
                <a:lnTo>
                  <a:pt x="16901" y="14831"/>
                </a:lnTo>
                <a:lnTo>
                  <a:pt x="16867" y="14847"/>
                </a:lnTo>
                <a:close/>
                <a:moveTo>
                  <a:pt x="1970" y="15060"/>
                </a:moveTo>
                <a:lnTo>
                  <a:pt x="1970" y="15060"/>
                </a:lnTo>
                <a:lnTo>
                  <a:pt x="1924" y="14938"/>
                </a:lnTo>
                <a:lnTo>
                  <a:pt x="1867" y="14831"/>
                </a:lnTo>
                <a:lnTo>
                  <a:pt x="1810" y="14725"/>
                </a:lnTo>
                <a:lnTo>
                  <a:pt x="1753" y="14618"/>
                </a:lnTo>
                <a:lnTo>
                  <a:pt x="1615" y="14405"/>
                </a:lnTo>
                <a:lnTo>
                  <a:pt x="1466" y="14237"/>
                </a:lnTo>
                <a:lnTo>
                  <a:pt x="1466" y="14237"/>
                </a:lnTo>
                <a:lnTo>
                  <a:pt x="1432" y="14344"/>
                </a:lnTo>
                <a:lnTo>
                  <a:pt x="1409" y="14420"/>
                </a:lnTo>
                <a:lnTo>
                  <a:pt x="1397" y="14511"/>
                </a:lnTo>
                <a:lnTo>
                  <a:pt x="1397" y="14587"/>
                </a:lnTo>
                <a:lnTo>
                  <a:pt x="1409" y="14648"/>
                </a:lnTo>
                <a:lnTo>
                  <a:pt x="1432" y="14725"/>
                </a:lnTo>
                <a:lnTo>
                  <a:pt x="1455" y="14786"/>
                </a:lnTo>
                <a:lnTo>
                  <a:pt x="1489" y="14847"/>
                </a:lnTo>
                <a:lnTo>
                  <a:pt x="1535" y="14892"/>
                </a:lnTo>
                <a:lnTo>
                  <a:pt x="1581" y="14923"/>
                </a:lnTo>
                <a:lnTo>
                  <a:pt x="1638" y="14968"/>
                </a:lnTo>
                <a:lnTo>
                  <a:pt x="1695" y="14984"/>
                </a:lnTo>
                <a:lnTo>
                  <a:pt x="1833" y="15029"/>
                </a:lnTo>
                <a:lnTo>
                  <a:pt x="1970" y="15060"/>
                </a:lnTo>
                <a:close/>
                <a:moveTo>
                  <a:pt x="996" y="14633"/>
                </a:moveTo>
                <a:lnTo>
                  <a:pt x="996" y="14633"/>
                </a:lnTo>
                <a:lnTo>
                  <a:pt x="687" y="14587"/>
                </a:lnTo>
                <a:lnTo>
                  <a:pt x="687" y="14587"/>
                </a:lnTo>
                <a:lnTo>
                  <a:pt x="721" y="14664"/>
                </a:lnTo>
                <a:lnTo>
                  <a:pt x="779" y="14755"/>
                </a:lnTo>
                <a:lnTo>
                  <a:pt x="859" y="14831"/>
                </a:lnTo>
                <a:lnTo>
                  <a:pt x="916" y="14892"/>
                </a:lnTo>
                <a:lnTo>
                  <a:pt x="950" y="14892"/>
                </a:lnTo>
                <a:lnTo>
                  <a:pt x="973" y="14892"/>
                </a:lnTo>
                <a:lnTo>
                  <a:pt x="996" y="14892"/>
                </a:lnTo>
                <a:lnTo>
                  <a:pt x="1008" y="14892"/>
                </a:lnTo>
                <a:lnTo>
                  <a:pt x="1019" y="14847"/>
                </a:lnTo>
                <a:lnTo>
                  <a:pt x="1019" y="14801"/>
                </a:lnTo>
                <a:lnTo>
                  <a:pt x="1008" y="14725"/>
                </a:lnTo>
                <a:lnTo>
                  <a:pt x="996" y="14633"/>
                </a:lnTo>
                <a:close/>
                <a:moveTo>
                  <a:pt x="15159" y="14450"/>
                </a:moveTo>
                <a:lnTo>
                  <a:pt x="15159" y="14450"/>
                </a:lnTo>
                <a:lnTo>
                  <a:pt x="15171" y="14542"/>
                </a:lnTo>
                <a:lnTo>
                  <a:pt x="15205" y="14618"/>
                </a:lnTo>
                <a:lnTo>
                  <a:pt x="15251" y="14679"/>
                </a:lnTo>
                <a:lnTo>
                  <a:pt x="15297" y="14740"/>
                </a:lnTo>
                <a:lnTo>
                  <a:pt x="15354" y="14801"/>
                </a:lnTo>
                <a:lnTo>
                  <a:pt x="15389" y="14831"/>
                </a:lnTo>
                <a:lnTo>
                  <a:pt x="15446" y="14862"/>
                </a:lnTo>
                <a:lnTo>
                  <a:pt x="15515" y="14892"/>
                </a:lnTo>
                <a:lnTo>
                  <a:pt x="15560" y="14892"/>
                </a:lnTo>
                <a:lnTo>
                  <a:pt x="15595" y="14892"/>
                </a:lnTo>
                <a:lnTo>
                  <a:pt x="15641" y="14877"/>
                </a:lnTo>
                <a:lnTo>
                  <a:pt x="15664" y="14862"/>
                </a:lnTo>
                <a:lnTo>
                  <a:pt x="15687" y="14816"/>
                </a:lnTo>
                <a:lnTo>
                  <a:pt x="15698" y="14770"/>
                </a:lnTo>
                <a:lnTo>
                  <a:pt x="15698" y="14709"/>
                </a:lnTo>
                <a:lnTo>
                  <a:pt x="15675" y="14633"/>
                </a:lnTo>
                <a:lnTo>
                  <a:pt x="15675" y="14633"/>
                </a:lnTo>
                <a:lnTo>
                  <a:pt x="15583" y="14527"/>
                </a:lnTo>
                <a:lnTo>
                  <a:pt x="15515" y="14435"/>
                </a:lnTo>
                <a:lnTo>
                  <a:pt x="15469" y="14389"/>
                </a:lnTo>
                <a:lnTo>
                  <a:pt x="15423" y="14374"/>
                </a:lnTo>
                <a:lnTo>
                  <a:pt x="15377" y="14374"/>
                </a:lnTo>
                <a:lnTo>
                  <a:pt x="15343" y="14374"/>
                </a:lnTo>
                <a:lnTo>
                  <a:pt x="15343" y="14374"/>
                </a:lnTo>
                <a:lnTo>
                  <a:pt x="15297" y="14374"/>
                </a:lnTo>
                <a:lnTo>
                  <a:pt x="15251" y="14374"/>
                </a:lnTo>
                <a:lnTo>
                  <a:pt x="15205" y="14405"/>
                </a:lnTo>
                <a:lnTo>
                  <a:pt x="15159" y="14450"/>
                </a:lnTo>
                <a:close/>
                <a:moveTo>
                  <a:pt x="2440" y="14847"/>
                </a:moveTo>
                <a:lnTo>
                  <a:pt x="2440" y="14847"/>
                </a:lnTo>
                <a:lnTo>
                  <a:pt x="2429" y="14786"/>
                </a:lnTo>
                <a:lnTo>
                  <a:pt x="2383" y="14694"/>
                </a:lnTo>
                <a:lnTo>
                  <a:pt x="2325" y="14603"/>
                </a:lnTo>
                <a:lnTo>
                  <a:pt x="2257" y="14496"/>
                </a:lnTo>
                <a:lnTo>
                  <a:pt x="2131" y="14298"/>
                </a:lnTo>
                <a:lnTo>
                  <a:pt x="2027" y="14176"/>
                </a:lnTo>
                <a:lnTo>
                  <a:pt x="2027" y="14176"/>
                </a:lnTo>
                <a:lnTo>
                  <a:pt x="2005" y="14374"/>
                </a:lnTo>
                <a:lnTo>
                  <a:pt x="1993" y="14542"/>
                </a:lnTo>
                <a:lnTo>
                  <a:pt x="2005" y="14618"/>
                </a:lnTo>
                <a:lnTo>
                  <a:pt x="2016" y="14664"/>
                </a:lnTo>
                <a:lnTo>
                  <a:pt x="2039" y="14725"/>
                </a:lnTo>
                <a:lnTo>
                  <a:pt x="2062" y="14770"/>
                </a:lnTo>
                <a:lnTo>
                  <a:pt x="2073" y="14816"/>
                </a:lnTo>
                <a:lnTo>
                  <a:pt x="2108" y="14831"/>
                </a:lnTo>
                <a:lnTo>
                  <a:pt x="2142" y="14862"/>
                </a:lnTo>
                <a:lnTo>
                  <a:pt x="2200" y="14877"/>
                </a:lnTo>
                <a:lnTo>
                  <a:pt x="2245" y="14892"/>
                </a:lnTo>
                <a:lnTo>
                  <a:pt x="2291" y="14877"/>
                </a:lnTo>
                <a:lnTo>
                  <a:pt x="2440" y="14847"/>
                </a:lnTo>
                <a:close/>
                <a:moveTo>
                  <a:pt x="7940" y="14847"/>
                </a:moveTo>
                <a:lnTo>
                  <a:pt x="7940" y="14847"/>
                </a:lnTo>
                <a:lnTo>
                  <a:pt x="8032" y="14801"/>
                </a:lnTo>
                <a:lnTo>
                  <a:pt x="8124" y="14725"/>
                </a:lnTo>
                <a:lnTo>
                  <a:pt x="8204" y="14633"/>
                </a:lnTo>
                <a:lnTo>
                  <a:pt x="8250" y="14542"/>
                </a:lnTo>
                <a:lnTo>
                  <a:pt x="8261" y="14496"/>
                </a:lnTo>
                <a:lnTo>
                  <a:pt x="8273" y="14450"/>
                </a:lnTo>
                <a:lnTo>
                  <a:pt x="8261" y="14405"/>
                </a:lnTo>
                <a:lnTo>
                  <a:pt x="8250" y="14374"/>
                </a:lnTo>
                <a:lnTo>
                  <a:pt x="8227" y="14359"/>
                </a:lnTo>
                <a:lnTo>
                  <a:pt x="8181" y="14328"/>
                </a:lnTo>
                <a:lnTo>
                  <a:pt x="8124" y="14313"/>
                </a:lnTo>
                <a:lnTo>
                  <a:pt x="8043" y="14313"/>
                </a:lnTo>
                <a:lnTo>
                  <a:pt x="8043" y="14313"/>
                </a:lnTo>
                <a:lnTo>
                  <a:pt x="8009" y="14435"/>
                </a:lnTo>
                <a:lnTo>
                  <a:pt x="7963" y="14572"/>
                </a:lnTo>
                <a:lnTo>
                  <a:pt x="7940" y="14709"/>
                </a:lnTo>
                <a:lnTo>
                  <a:pt x="7940" y="14847"/>
                </a:lnTo>
                <a:close/>
                <a:moveTo>
                  <a:pt x="6921" y="14847"/>
                </a:moveTo>
                <a:lnTo>
                  <a:pt x="6921" y="14847"/>
                </a:lnTo>
                <a:lnTo>
                  <a:pt x="6966" y="14847"/>
                </a:lnTo>
                <a:lnTo>
                  <a:pt x="7012" y="14831"/>
                </a:lnTo>
                <a:lnTo>
                  <a:pt x="7058" y="14816"/>
                </a:lnTo>
                <a:lnTo>
                  <a:pt x="7070" y="14786"/>
                </a:lnTo>
                <a:lnTo>
                  <a:pt x="7104" y="14740"/>
                </a:lnTo>
                <a:lnTo>
                  <a:pt x="7115" y="14709"/>
                </a:lnTo>
                <a:lnTo>
                  <a:pt x="7138" y="14618"/>
                </a:lnTo>
                <a:lnTo>
                  <a:pt x="7138" y="14511"/>
                </a:lnTo>
                <a:lnTo>
                  <a:pt x="7138" y="14389"/>
                </a:lnTo>
                <a:lnTo>
                  <a:pt x="7127" y="14176"/>
                </a:lnTo>
                <a:lnTo>
                  <a:pt x="7127" y="14176"/>
                </a:lnTo>
                <a:lnTo>
                  <a:pt x="7070" y="14161"/>
                </a:lnTo>
                <a:lnTo>
                  <a:pt x="7070" y="14161"/>
                </a:lnTo>
                <a:lnTo>
                  <a:pt x="7001" y="14176"/>
                </a:lnTo>
                <a:lnTo>
                  <a:pt x="6943" y="14206"/>
                </a:lnTo>
                <a:lnTo>
                  <a:pt x="6909" y="14267"/>
                </a:lnTo>
                <a:lnTo>
                  <a:pt x="6886" y="14344"/>
                </a:lnTo>
                <a:lnTo>
                  <a:pt x="6875" y="14435"/>
                </a:lnTo>
                <a:lnTo>
                  <a:pt x="6875" y="14557"/>
                </a:lnTo>
                <a:lnTo>
                  <a:pt x="6886" y="14694"/>
                </a:lnTo>
                <a:lnTo>
                  <a:pt x="6921" y="14847"/>
                </a:lnTo>
                <a:close/>
                <a:moveTo>
                  <a:pt x="17520" y="14557"/>
                </a:moveTo>
                <a:lnTo>
                  <a:pt x="17520" y="14557"/>
                </a:lnTo>
                <a:close/>
                <a:moveTo>
                  <a:pt x="2750" y="14786"/>
                </a:moveTo>
                <a:lnTo>
                  <a:pt x="2750" y="14786"/>
                </a:lnTo>
                <a:lnTo>
                  <a:pt x="2761" y="14664"/>
                </a:lnTo>
                <a:lnTo>
                  <a:pt x="2772" y="14572"/>
                </a:lnTo>
                <a:lnTo>
                  <a:pt x="2750" y="14466"/>
                </a:lnTo>
                <a:lnTo>
                  <a:pt x="2727" y="14374"/>
                </a:lnTo>
                <a:lnTo>
                  <a:pt x="2681" y="14313"/>
                </a:lnTo>
                <a:lnTo>
                  <a:pt x="2635" y="14237"/>
                </a:lnTo>
                <a:lnTo>
                  <a:pt x="2566" y="14161"/>
                </a:lnTo>
                <a:lnTo>
                  <a:pt x="2486" y="14115"/>
                </a:lnTo>
                <a:lnTo>
                  <a:pt x="2486" y="14115"/>
                </a:lnTo>
                <a:lnTo>
                  <a:pt x="2463" y="14222"/>
                </a:lnTo>
                <a:lnTo>
                  <a:pt x="2452" y="14344"/>
                </a:lnTo>
                <a:lnTo>
                  <a:pt x="2463" y="14435"/>
                </a:lnTo>
                <a:lnTo>
                  <a:pt x="2486" y="14527"/>
                </a:lnTo>
                <a:lnTo>
                  <a:pt x="2532" y="14618"/>
                </a:lnTo>
                <a:lnTo>
                  <a:pt x="2589" y="14664"/>
                </a:lnTo>
                <a:lnTo>
                  <a:pt x="2646" y="14725"/>
                </a:lnTo>
                <a:lnTo>
                  <a:pt x="2750" y="14786"/>
                </a:lnTo>
                <a:close/>
                <a:moveTo>
                  <a:pt x="8364" y="14709"/>
                </a:moveTo>
                <a:lnTo>
                  <a:pt x="8364" y="14709"/>
                </a:lnTo>
                <a:lnTo>
                  <a:pt x="8433" y="14725"/>
                </a:lnTo>
                <a:lnTo>
                  <a:pt x="8490" y="14725"/>
                </a:lnTo>
                <a:lnTo>
                  <a:pt x="8548" y="14709"/>
                </a:lnTo>
                <a:lnTo>
                  <a:pt x="8582" y="14679"/>
                </a:lnTo>
                <a:lnTo>
                  <a:pt x="8616" y="14633"/>
                </a:lnTo>
                <a:lnTo>
                  <a:pt x="8651" y="14587"/>
                </a:lnTo>
                <a:lnTo>
                  <a:pt x="8651" y="14527"/>
                </a:lnTo>
                <a:lnTo>
                  <a:pt x="8662" y="14450"/>
                </a:lnTo>
                <a:lnTo>
                  <a:pt x="8662" y="14450"/>
                </a:lnTo>
                <a:lnTo>
                  <a:pt x="8456" y="14237"/>
                </a:lnTo>
                <a:lnTo>
                  <a:pt x="8456" y="14237"/>
                </a:lnTo>
                <a:lnTo>
                  <a:pt x="8364" y="14709"/>
                </a:lnTo>
                <a:close/>
                <a:moveTo>
                  <a:pt x="3105" y="14709"/>
                </a:moveTo>
                <a:lnTo>
                  <a:pt x="3105" y="14709"/>
                </a:lnTo>
                <a:lnTo>
                  <a:pt x="2956" y="14511"/>
                </a:lnTo>
                <a:lnTo>
                  <a:pt x="2956" y="14511"/>
                </a:lnTo>
                <a:lnTo>
                  <a:pt x="2921" y="14572"/>
                </a:lnTo>
                <a:lnTo>
                  <a:pt x="2899" y="14618"/>
                </a:lnTo>
                <a:lnTo>
                  <a:pt x="2899" y="14648"/>
                </a:lnTo>
                <a:lnTo>
                  <a:pt x="2910" y="14679"/>
                </a:lnTo>
                <a:lnTo>
                  <a:pt x="2933" y="14709"/>
                </a:lnTo>
                <a:lnTo>
                  <a:pt x="2990" y="14725"/>
                </a:lnTo>
                <a:lnTo>
                  <a:pt x="3036" y="14725"/>
                </a:lnTo>
                <a:lnTo>
                  <a:pt x="3105" y="14709"/>
                </a:lnTo>
                <a:close/>
                <a:moveTo>
                  <a:pt x="17016" y="14709"/>
                </a:moveTo>
                <a:lnTo>
                  <a:pt x="17016" y="14709"/>
                </a:lnTo>
                <a:lnTo>
                  <a:pt x="17153" y="14587"/>
                </a:lnTo>
                <a:lnTo>
                  <a:pt x="17188" y="14557"/>
                </a:lnTo>
                <a:lnTo>
                  <a:pt x="17211" y="14511"/>
                </a:lnTo>
                <a:lnTo>
                  <a:pt x="17222" y="14466"/>
                </a:lnTo>
                <a:lnTo>
                  <a:pt x="17233" y="14420"/>
                </a:lnTo>
                <a:lnTo>
                  <a:pt x="17222" y="14237"/>
                </a:lnTo>
                <a:lnTo>
                  <a:pt x="17222" y="14237"/>
                </a:lnTo>
                <a:lnTo>
                  <a:pt x="17016" y="14115"/>
                </a:lnTo>
                <a:lnTo>
                  <a:pt x="17016" y="14115"/>
                </a:lnTo>
                <a:lnTo>
                  <a:pt x="16981" y="14252"/>
                </a:lnTo>
                <a:lnTo>
                  <a:pt x="16970" y="14405"/>
                </a:lnTo>
                <a:lnTo>
                  <a:pt x="16981" y="14557"/>
                </a:lnTo>
                <a:lnTo>
                  <a:pt x="17016" y="14709"/>
                </a:lnTo>
                <a:close/>
                <a:moveTo>
                  <a:pt x="996" y="13962"/>
                </a:moveTo>
                <a:lnTo>
                  <a:pt x="996" y="13962"/>
                </a:lnTo>
                <a:lnTo>
                  <a:pt x="996" y="14084"/>
                </a:lnTo>
                <a:lnTo>
                  <a:pt x="1008" y="14191"/>
                </a:lnTo>
                <a:lnTo>
                  <a:pt x="1031" y="14298"/>
                </a:lnTo>
                <a:lnTo>
                  <a:pt x="1065" y="14374"/>
                </a:lnTo>
                <a:lnTo>
                  <a:pt x="1088" y="14466"/>
                </a:lnTo>
                <a:lnTo>
                  <a:pt x="1134" y="14557"/>
                </a:lnTo>
                <a:lnTo>
                  <a:pt x="1191" y="14633"/>
                </a:lnTo>
                <a:lnTo>
                  <a:pt x="1260" y="14709"/>
                </a:lnTo>
                <a:lnTo>
                  <a:pt x="1260" y="14709"/>
                </a:lnTo>
                <a:lnTo>
                  <a:pt x="1271" y="14633"/>
                </a:lnTo>
                <a:lnTo>
                  <a:pt x="1283" y="14511"/>
                </a:lnTo>
                <a:lnTo>
                  <a:pt x="1283" y="14374"/>
                </a:lnTo>
                <a:lnTo>
                  <a:pt x="1271" y="14252"/>
                </a:lnTo>
                <a:lnTo>
                  <a:pt x="1248" y="14115"/>
                </a:lnTo>
                <a:lnTo>
                  <a:pt x="1237" y="14084"/>
                </a:lnTo>
                <a:lnTo>
                  <a:pt x="1214" y="14039"/>
                </a:lnTo>
                <a:lnTo>
                  <a:pt x="1191" y="13993"/>
                </a:lnTo>
                <a:lnTo>
                  <a:pt x="1157" y="13947"/>
                </a:lnTo>
                <a:lnTo>
                  <a:pt x="1134" y="13947"/>
                </a:lnTo>
                <a:lnTo>
                  <a:pt x="1088" y="13932"/>
                </a:lnTo>
                <a:lnTo>
                  <a:pt x="1088" y="13932"/>
                </a:lnTo>
                <a:lnTo>
                  <a:pt x="1054" y="13947"/>
                </a:lnTo>
                <a:lnTo>
                  <a:pt x="996" y="13962"/>
                </a:lnTo>
                <a:close/>
                <a:moveTo>
                  <a:pt x="3357" y="14587"/>
                </a:moveTo>
                <a:lnTo>
                  <a:pt x="3357" y="14587"/>
                </a:lnTo>
                <a:lnTo>
                  <a:pt x="3357" y="14496"/>
                </a:lnTo>
                <a:lnTo>
                  <a:pt x="3357" y="14420"/>
                </a:lnTo>
                <a:lnTo>
                  <a:pt x="3345" y="14374"/>
                </a:lnTo>
                <a:lnTo>
                  <a:pt x="3322" y="14298"/>
                </a:lnTo>
                <a:lnTo>
                  <a:pt x="3288" y="14222"/>
                </a:lnTo>
                <a:lnTo>
                  <a:pt x="3254" y="14145"/>
                </a:lnTo>
                <a:lnTo>
                  <a:pt x="3219" y="14100"/>
                </a:lnTo>
                <a:lnTo>
                  <a:pt x="3162" y="14039"/>
                </a:lnTo>
                <a:lnTo>
                  <a:pt x="3162" y="14039"/>
                </a:lnTo>
                <a:lnTo>
                  <a:pt x="3139" y="14267"/>
                </a:lnTo>
                <a:lnTo>
                  <a:pt x="3139" y="14374"/>
                </a:lnTo>
                <a:lnTo>
                  <a:pt x="3139" y="14466"/>
                </a:lnTo>
                <a:lnTo>
                  <a:pt x="3150" y="14496"/>
                </a:lnTo>
                <a:lnTo>
                  <a:pt x="3173" y="14542"/>
                </a:lnTo>
                <a:lnTo>
                  <a:pt x="3185" y="14572"/>
                </a:lnTo>
                <a:lnTo>
                  <a:pt x="3219" y="14587"/>
                </a:lnTo>
                <a:lnTo>
                  <a:pt x="3231" y="14603"/>
                </a:lnTo>
                <a:lnTo>
                  <a:pt x="3277" y="14603"/>
                </a:lnTo>
                <a:lnTo>
                  <a:pt x="3311" y="14603"/>
                </a:lnTo>
                <a:lnTo>
                  <a:pt x="3357" y="14587"/>
                </a:lnTo>
                <a:close/>
                <a:moveTo>
                  <a:pt x="15618" y="14374"/>
                </a:moveTo>
                <a:lnTo>
                  <a:pt x="15618" y="14374"/>
                </a:lnTo>
                <a:lnTo>
                  <a:pt x="15664" y="14450"/>
                </a:lnTo>
                <a:lnTo>
                  <a:pt x="15698" y="14511"/>
                </a:lnTo>
                <a:lnTo>
                  <a:pt x="15732" y="14557"/>
                </a:lnTo>
                <a:lnTo>
                  <a:pt x="15778" y="14572"/>
                </a:lnTo>
                <a:lnTo>
                  <a:pt x="15824" y="14587"/>
                </a:lnTo>
                <a:lnTo>
                  <a:pt x="15870" y="14572"/>
                </a:lnTo>
                <a:lnTo>
                  <a:pt x="15939" y="14557"/>
                </a:lnTo>
                <a:lnTo>
                  <a:pt x="15985" y="14511"/>
                </a:lnTo>
                <a:lnTo>
                  <a:pt x="15985" y="14511"/>
                </a:lnTo>
                <a:lnTo>
                  <a:pt x="16065" y="14466"/>
                </a:lnTo>
                <a:lnTo>
                  <a:pt x="16088" y="14435"/>
                </a:lnTo>
                <a:lnTo>
                  <a:pt x="16111" y="14389"/>
                </a:lnTo>
                <a:lnTo>
                  <a:pt x="16134" y="14374"/>
                </a:lnTo>
                <a:lnTo>
                  <a:pt x="16134" y="14328"/>
                </a:lnTo>
                <a:lnTo>
                  <a:pt x="16134" y="14298"/>
                </a:lnTo>
                <a:lnTo>
                  <a:pt x="16134" y="14237"/>
                </a:lnTo>
                <a:lnTo>
                  <a:pt x="16134" y="14237"/>
                </a:lnTo>
                <a:lnTo>
                  <a:pt x="16088" y="14206"/>
                </a:lnTo>
                <a:lnTo>
                  <a:pt x="16019" y="14176"/>
                </a:lnTo>
                <a:lnTo>
                  <a:pt x="15962" y="14161"/>
                </a:lnTo>
                <a:lnTo>
                  <a:pt x="15927" y="14145"/>
                </a:lnTo>
                <a:lnTo>
                  <a:pt x="15927" y="14145"/>
                </a:lnTo>
                <a:lnTo>
                  <a:pt x="15836" y="14161"/>
                </a:lnTo>
                <a:lnTo>
                  <a:pt x="15755" y="14206"/>
                </a:lnTo>
                <a:lnTo>
                  <a:pt x="15687" y="14283"/>
                </a:lnTo>
                <a:lnTo>
                  <a:pt x="15618" y="14374"/>
                </a:lnTo>
                <a:close/>
                <a:moveTo>
                  <a:pt x="17635" y="13901"/>
                </a:moveTo>
                <a:lnTo>
                  <a:pt x="17635" y="13901"/>
                </a:lnTo>
                <a:lnTo>
                  <a:pt x="17623" y="14008"/>
                </a:lnTo>
                <a:lnTo>
                  <a:pt x="17623" y="14115"/>
                </a:lnTo>
                <a:lnTo>
                  <a:pt x="17646" y="14206"/>
                </a:lnTo>
                <a:lnTo>
                  <a:pt x="17669" y="14298"/>
                </a:lnTo>
                <a:lnTo>
                  <a:pt x="17680" y="14374"/>
                </a:lnTo>
                <a:lnTo>
                  <a:pt x="17726" y="14450"/>
                </a:lnTo>
                <a:lnTo>
                  <a:pt x="17784" y="14511"/>
                </a:lnTo>
                <a:lnTo>
                  <a:pt x="17841" y="14587"/>
                </a:lnTo>
                <a:lnTo>
                  <a:pt x="17841" y="14587"/>
                </a:lnTo>
                <a:lnTo>
                  <a:pt x="17875" y="14527"/>
                </a:lnTo>
                <a:lnTo>
                  <a:pt x="17921" y="14450"/>
                </a:lnTo>
                <a:lnTo>
                  <a:pt x="17944" y="14374"/>
                </a:lnTo>
                <a:lnTo>
                  <a:pt x="17944" y="14328"/>
                </a:lnTo>
                <a:lnTo>
                  <a:pt x="17944" y="14252"/>
                </a:lnTo>
                <a:lnTo>
                  <a:pt x="17921" y="14176"/>
                </a:lnTo>
                <a:lnTo>
                  <a:pt x="17875" y="14115"/>
                </a:lnTo>
                <a:lnTo>
                  <a:pt x="17841" y="14039"/>
                </a:lnTo>
                <a:lnTo>
                  <a:pt x="17841" y="14039"/>
                </a:lnTo>
                <a:lnTo>
                  <a:pt x="17807" y="13978"/>
                </a:lnTo>
                <a:lnTo>
                  <a:pt x="17761" y="13932"/>
                </a:lnTo>
                <a:lnTo>
                  <a:pt x="17703" y="13901"/>
                </a:lnTo>
                <a:lnTo>
                  <a:pt x="17658" y="13901"/>
                </a:lnTo>
                <a:lnTo>
                  <a:pt x="17658" y="13901"/>
                </a:lnTo>
                <a:lnTo>
                  <a:pt x="17635" y="13901"/>
                </a:lnTo>
                <a:close/>
                <a:moveTo>
                  <a:pt x="3517" y="14587"/>
                </a:moveTo>
                <a:lnTo>
                  <a:pt x="3517" y="14587"/>
                </a:lnTo>
                <a:lnTo>
                  <a:pt x="3620" y="14542"/>
                </a:lnTo>
                <a:lnTo>
                  <a:pt x="3712" y="14466"/>
                </a:lnTo>
                <a:lnTo>
                  <a:pt x="3781" y="14405"/>
                </a:lnTo>
                <a:lnTo>
                  <a:pt x="3792" y="14374"/>
                </a:lnTo>
                <a:lnTo>
                  <a:pt x="3792" y="14344"/>
                </a:lnTo>
                <a:lnTo>
                  <a:pt x="3804" y="14298"/>
                </a:lnTo>
                <a:lnTo>
                  <a:pt x="3804" y="14252"/>
                </a:lnTo>
                <a:lnTo>
                  <a:pt x="3792" y="14206"/>
                </a:lnTo>
                <a:lnTo>
                  <a:pt x="3792" y="14161"/>
                </a:lnTo>
                <a:lnTo>
                  <a:pt x="3758" y="14115"/>
                </a:lnTo>
                <a:lnTo>
                  <a:pt x="3712" y="14069"/>
                </a:lnTo>
                <a:lnTo>
                  <a:pt x="3620" y="13962"/>
                </a:lnTo>
                <a:lnTo>
                  <a:pt x="3620" y="13962"/>
                </a:lnTo>
                <a:lnTo>
                  <a:pt x="3517" y="14587"/>
                </a:lnTo>
                <a:close/>
                <a:moveTo>
                  <a:pt x="18356" y="14511"/>
                </a:moveTo>
                <a:lnTo>
                  <a:pt x="18356" y="14511"/>
                </a:lnTo>
                <a:lnTo>
                  <a:pt x="18448" y="14389"/>
                </a:lnTo>
                <a:lnTo>
                  <a:pt x="18517" y="14313"/>
                </a:lnTo>
                <a:lnTo>
                  <a:pt x="18586" y="14252"/>
                </a:lnTo>
                <a:lnTo>
                  <a:pt x="18597" y="14222"/>
                </a:lnTo>
                <a:lnTo>
                  <a:pt x="18608" y="14206"/>
                </a:lnTo>
                <a:lnTo>
                  <a:pt x="18608" y="14161"/>
                </a:lnTo>
                <a:lnTo>
                  <a:pt x="18597" y="14130"/>
                </a:lnTo>
                <a:lnTo>
                  <a:pt x="18586" y="14115"/>
                </a:lnTo>
                <a:lnTo>
                  <a:pt x="18551" y="14069"/>
                </a:lnTo>
                <a:lnTo>
                  <a:pt x="18448" y="13962"/>
                </a:lnTo>
                <a:lnTo>
                  <a:pt x="18299" y="13840"/>
                </a:lnTo>
                <a:lnTo>
                  <a:pt x="18299" y="13840"/>
                </a:lnTo>
                <a:lnTo>
                  <a:pt x="18242" y="13962"/>
                </a:lnTo>
                <a:lnTo>
                  <a:pt x="18207" y="14084"/>
                </a:lnTo>
                <a:lnTo>
                  <a:pt x="18185" y="14191"/>
                </a:lnTo>
                <a:lnTo>
                  <a:pt x="18185" y="14283"/>
                </a:lnTo>
                <a:lnTo>
                  <a:pt x="18196" y="14359"/>
                </a:lnTo>
                <a:lnTo>
                  <a:pt x="18242" y="14420"/>
                </a:lnTo>
                <a:lnTo>
                  <a:pt x="18288" y="14466"/>
                </a:lnTo>
                <a:lnTo>
                  <a:pt x="18356" y="14511"/>
                </a:lnTo>
                <a:close/>
                <a:moveTo>
                  <a:pt x="7333" y="14450"/>
                </a:moveTo>
                <a:lnTo>
                  <a:pt x="7333" y="14450"/>
                </a:lnTo>
                <a:lnTo>
                  <a:pt x="7425" y="14405"/>
                </a:lnTo>
                <a:lnTo>
                  <a:pt x="7505" y="14374"/>
                </a:lnTo>
                <a:lnTo>
                  <a:pt x="7574" y="14298"/>
                </a:lnTo>
                <a:lnTo>
                  <a:pt x="7642" y="14222"/>
                </a:lnTo>
                <a:lnTo>
                  <a:pt x="7677" y="14145"/>
                </a:lnTo>
                <a:lnTo>
                  <a:pt x="7723" y="14054"/>
                </a:lnTo>
                <a:lnTo>
                  <a:pt x="7769" y="13947"/>
                </a:lnTo>
                <a:lnTo>
                  <a:pt x="7791" y="13840"/>
                </a:lnTo>
                <a:lnTo>
                  <a:pt x="7791" y="13840"/>
                </a:lnTo>
                <a:lnTo>
                  <a:pt x="7539" y="13840"/>
                </a:lnTo>
                <a:lnTo>
                  <a:pt x="7539" y="13840"/>
                </a:lnTo>
                <a:lnTo>
                  <a:pt x="7528" y="13840"/>
                </a:lnTo>
                <a:lnTo>
                  <a:pt x="7528" y="13840"/>
                </a:lnTo>
                <a:lnTo>
                  <a:pt x="7436" y="13856"/>
                </a:lnTo>
                <a:lnTo>
                  <a:pt x="7367" y="13856"/>
                </a:lnTo>
                <a:lnTo>
                  <a:pt x="7310" y="13917"/>
                </a:lnTo>
                <a:lnTo>
                  <a:pt x="7287" y="13947"/>
                </a:lnTo>
                <a:lnTo>
                  <a:pt x="7276" y="13993"/>
                </a:lnTo>
                <a:lnTo>
                  <a:pt x="7264" y="14069"/>
                </a:lnTo>
                <a:lnTo>
                  <a:pt x="7264" y="14176"/>
                </a:lnTo>
                <a:lnTo>
                  <a:pt x="7287" y="14298"/>
                </a:lnTo>
                <a:lnTo>
                  <a:pt x="7333" y="14450"/>
                </a:lnTo>
                <a:close/>
                <a:moveTo>
                  <a:pt x="320" y="14176"/>
                </a:moveTo>
                <a:lnTo>
                  <a:pt x="320" y="14176"/>
                </a:lnTo>
                <a:lnTo>
                  <a:pt x="389" y="14283"/>
                </a:lnTo>
                <a:lnTo>
                  <a:pt x="458" y="14374"/>
                </a:lnTo>
                <a:lnTo>
                  <a:pt x="515" y="14405"/>
                </a:lnTo>
                <a:lnTo>
                  <a:pt x="561" y="14420"/>
                </a:lnTo>
                <a:lnTo>
                  <a:pt x="584" y="14435"/>
                </a:lnTo>
                <a:lnTo>
                  <a:pt x="630" y="14435"/>
                </a:lnTo>
                <a:lnTo>
                  <a:pt x="664" y="14420"/>
                </a:lnTo>
                <a:lnTo>
                  <a:pt x="698" y="14405"/>
                </a:lnTo>
                <a:lnTo>
                  <a:pt x="721" y="14374"/>
                </a:lnTo>
                <a:lnTo>
                  <a:pt x="756" y="14344"/>
                </a:lnTo>
                <a:lnTo>
                  <a:pt x="779" y="14298"/>
                </a:lnTo>
                <a:lnTo>
                  <a:pt x="813" y="14237"/>
                </a:lnTo>
                <a:lnTo>
                  <a:pt x="847" y="14176"/>
                </a:lnTo>
                <a:lnTo>
                  <a:pt x="847" y="14176"/>
                </a:lnTo>
                <a:lnTo>
                  <a:pt x="527" y="13962"/>
                </a:lnTo>
                <a:lnTo>
                  <a:pt x="527" y="13962"/>
                </a:lnTo>
                <a:lnTo>
                  <a:pt x="320" y="14176"/>
                </a:lnTo>
                <a:close/>
                <a:moveTo>
                  <a:pt x="1821" y="14176"/>
                </a:moveTo>
                <a:lnTo>
                  <a:pt x="1821" y="14176"/>
                </a:lnTo>
                <a:lnTo>
                  <a:pt x="1672" y="13627"/>
                </a:lnTo>
                <a:lnTo>
                  <a:pt x="1672" y="13627"/>
                </a:lnTo>
                <a:lnTo>
                  <a:pt x="1638" y="13703"/>
                </a:lnTo>
                <a:lnTo>
                  <a:pt x="1626" y="13779"/>
                </a:lnTo>
                <a:lnTo>
                  <a:pt x="1615" y="13856"/>
                </a:lnTo>
                <a:lnTo>
                  <a:pt x="1615" y="13947"/>
                </a:lnTo>
                <a:lnTo>
                  <a:pt x="1626" y="14039"/>
                </a:lnTo>
                <a:lnTo>
                  <a:pt x="1638" y="14115"/>
                </a:lnTo>
                <a:lnTo>
                  <a:pt x="1649" y="14161"/>
                </a:lnTo>
                <a:lnTo>
                  <a:pt x="1672" y="14222"/>
                </a:lnTo>
                <a:lnTo>
                  <a:pt x="1695" y="14283"/>
                </a:lnTo>
                <a:lnTo>
                  <a:pt x="1718" y="14313"/>
                </a:lnTo>
                <a:lnTo>
                  <a:pt x="1741" y="14344"/>
                </a:lnTo>
                <a:lnTo>
                  <a:pt x="1775" y="14359"/>
                </a:lnTo>
                <a:lnTo>
                  <a:pt x="1787" y="14344"/>
                </a:lnTo>
                <a:lnTo>
                  <a:pt x="1798" y="14298"/>
                </a:lnTo>
                <a:lnTo>
                  <a:pt x="1821" y="14252"/>
                </a:lnTo>
                <a:lnTo>
                  <a:pt x="1821" y="14176"/>
                </a:lnTo>
                <a:close/>
                <a:moveTo>
                  <a:pt x="6496" y="14313"/>
                </a:moveTo>
                <a:lnTo>
                  <a:pt x="6496" y="14313"/>
                </a:lnTo>
                <a:lnTo>
                  <a:pt x="6565" y="14161"/>
                </a:lnTo>
                <a:lnTo>
                  <a:pt x="6623" y="14008"/>
                </a:lnTo>
                <a:lnTo>
                  <a:pt x="6668" y="13856"/>
                </a:lnTo>
                <a:lnTo>
                  <a:pt x="6714" y="13688"/>
                </a:lnTo>
                <a:lnTo>
                  <a:pt x="6714" y="13688"/>
                </a:lnTo>
                <a:lnTo>
                  <a:pt x="6645" y="13718"/>
                </a:lnTo>
                <a:lnTo>
                  <a:pt x="6577" y="13749"/>
                </a:lnTo>
                <a:lnTo>
                  <a:pt x="6496" y="13779"/>
                </a:lnTo>
                <a:lnTo>
                  <a:pt x="6451" y="13825"/>
                </a:lnTo>
                <a:lnTo>
                  <a:pt x="6394" y="13856"/>
                </a:lnTo>
                <a:lnTo>
                  <a:pt x="6347" y="13917"/>
                </a:lnTo>
                <a:lnTo>
                  <a:pt x="6302" y="13962"/>
                </a:lnTo>
                <a:lnTo>
                  <a:pt x="6290" y="14039"/>
                </a:lnTo>
                <a:lnTo>
                  <a:pt x="6267" y="14084"/>
                </a:lnTo>
                <a:lnTo>
                  <a:pt x="6256" y="14115"/>
                </a:lnTo>
                <a:lnTo>
                  <a:pt x="6256" y="14176"/>
                </a:lnTo>
                <a:lnTo>
                  <a:pt x="6279" y="14222"/>
                </a:lnTo>
                <a:lnTo>
                  <a:pt x="6302" y="14252"/>
                </a:lnTo>
                <a:lnTo>
                  <a:pt x="6359" y="14298"/>
                </a:lnTo>
                <a:lnTo>
                  <a:pt x="6428" y="14298"/>
                </a:lnTo>
                <a:lnTo>
                  <a:pt x="6496" y="14313"/>
                </a:lnTo>
                <a:close/>
                <a:moveTo>
                  <a:pt x="2692" y="13779"/>
                </a:moveTo>
                <a:lnTo>
                  <a:pt x="2692" y="13779"/>
                </a:lnTo>
                <a:lnTo>
                  <a:pt x="2715" y="13932"/>
                </a:lnTo>
                <a:lnTo>
                  <a:pt x="2750" y="14008"/>
                </a:lnTo>
                <a:lnTo>
                  <a:pt x="2772" y="14054"/>
                </a:lnTo>
                <a:lnTo>
                  <a:pt x="2807" y="14115"/>
                </a:lnTo>
                <a:lnTo>
                  <a:pt x="2841" y="14161"/>
                </a:lnTo>
                <a:lnTo>
                  <a:pt x="2887" y="14206"/>
                </a:lnTo>
                <a:lnTo>
                  <a:pt x="2956" y="14237"/>
                </a:lnTo>
                <a:lnTo>
                  <a:pt x="2956" y="14237"/>
                </a:lnTo>
                <a:lnTo>
                  <a:pt x="2990" y="14130"/>
                </a:lnTo>
                <a:lnTo>
                  <a:pt x="3001" y="14054"/>
                </a:lnTo>
                <a:lnTo>
                  <a:pt x="3013" y="13947"/>
                </a:lnTo>
                <a:lnTo>
                  <a:pt x="3001" y="13856"/>
                </a:lnTo>
                <a:lnTo>
                  <a:pt x="2990" y="13779"/>
                </a:lnTo>
                <a:lnTo>
                  <a:pt x="2944" y="13688"/>
                </a:lnTo>
                <a:lnTo>
                  <a:pt x="2910" y="13596"/>
                </a:lnTo>
                <a:lnTo>
                  <a:pt x="2853" y="13505"/>
                </a:lnTo>
                <a:lnTo>
                  <a:pt x="2853" y="13505"/>
                </a:lnTo>
                <a:lnTo>
                  <a:pt x="2692" y="13779"/>
                </a:lnTo>
                <a:close/>
                <a:moveTo>
                  <a:pt x="2337" y="14237"/>
                </a:moveTo>
                <a:lnTo>
                  <a:pt x="2337" y="14237"/>
                </a:lnTo>
                <a:lnTo>
                  <a:pt x="2337" y="13840"/>
                </a:lnTo>
                <a:lnTo>
                  <a:pt x="2337" y="13840"/>
                </a:lnTo>
                <a:lnTo>
                  <a:pt x="2360" y="13779"/>
                </a:lnTo>
                <a:lnTo>
                  <a:pt x="2371" y="13703"/>
                </a:lnTo>
                <a:lnTo>
                  <a:pt x="2371" y="13642"/>
                </a:lnTo>
                <a:lnTo>
                  <a:pt x="2360" y="13596"/>
                </a:lnTo>
                <a:lnTo>
                  <a:pt x="2348" y="13551"/>
                </a:lnTo>
                <a:lnTo>
                  <a:pt x="2314" y="13505"/>
                </a:lnTo>
                <a:lnTo>
                  <a:pt x="2280" y="13459"/>
                </a:lnTo>
                <a:lnTo>
                  <a:pt x="2234" y="13429"/>
                </a:lnTo>
                <a:lnTo>
                  <a:pt x="2234" y="13429"/>
                </a:lnTo>
                <a:lnTo>
                  <a:pt x="2188" y="13551"/>
                </a:lnTo>
                <a:lnTo>
                  <a:pt x="2154" y="13657"/>
                </a:lnTo>
                <a:lnTo>
                  <a:pt x="2142" y="13779"/>
                </a:lnTo>
                <a:lnTo>
                  <a:pt x="2142" y="13856"/>
                </a:lnTo>
                <a:lnTo>
                  <a:pt x="2154" y="13962"/>
                </a:lnTo>
                <a:lnTo>
                  <a:pt x="2200" y="14054"/>
                </a:lnTo>
                <a:lnTo>
                  <a:pt x="2245" y="14145"/>
                </a:lnTo>
                <a:lnTo>
                  <a:pt x="2337" y="14237"/>
                </a:lnTo>
                <a:close/>
                <a:moveTo>
                  <a:pt x="15366" y="14176"/>
                </a:moveTo>
                <a:lnTo>
                  <a:pt x="15366" y="14176"/>
                </a:lnTo>
                <a:lnTo>
                  <a:pt x="15503" y="14161"/>
                </a:lnTo>
                <a:lnTo>
                  <a:pt x="15560" y="14161"/>
                </a:lnTo>
                <a:lnTo>
                  <a:pt x="15618" y="14130"/>
                </a:lnTo>
                <a:lnTo>
                  <a:pt x="15664" y="14115"/>
                </a:lnTo>
                <a:lnTo>
                  <a:pt x="15687" y="14100"/>
                </a:lnTo>
                <a:lnTo>
                  <a:pt x="15698" y="14069"/>
                </a:lnTo>
                <a:lnTo>
                  <a:pt x="15709" y="14039"/>
                </a:lnTo>
                <a:lnTo>
                  <a:pt x="15709" y="13993"/>
                </a:lnTo>
                <a:lnTo>
                  <a:pt x="15698" y="13947"/>
                </a:lnTo>
                <a:lnTo>
                  <a:pt x="15675" y="13901"/>
                </a:lnTo>
                <a:lnTo>
                  <a:pt x="15675" y="13901"/>
                </a:lnTo>
                <a:lnTo>
                  <a:pt x="15560" y="13840"/>
                </a:lnTo>
                <a:lnTo>
                  <a:pt x="15515" y="13825"/>
                </a:lnTo>
                <a:lnTo>
                  <a:pt x="15480" y="13810"/>
                </a:lnTo>
                <a:lnTo>
                  <a:pt x="15480" y="13810"/>
                </a:lnTo>
                <a:lnTo>
                  <a:pt x="15446" y="13825"/>
                </a:lnTo>
                <a:lnTo>
                  <a:pt x="15423" y="13840"/>
                </a:lnTo>
                <a:lnTo>
                  <a:pt x="15389" y="13856"/>
                </a:lnTo>
                <a:lnTo>
                  <a:pt x="15366" y="13901"/>
                </a:lnTo>
                <a:lnTo>
                  <a:pt x="15366" y="13947"/>
                </a:lnTo>
                <a:lnTo>
                  <a:pt x="15366" y="14023"/>
                </a:lnTo>
                <a:lnTo>
                  <a:pt x="15366" y="14176"/>
                </a:lnTo>
                <a:close/>
                <a:moveTo>
                  <a:pt x="7940" y="14176"/>
                </a:moveTo>
                <a:lnTo>
                  <a:pt x="7940" y="14176"/>
                </a:lnTo>
                <a:lnTo>
                  <a:pt x="8020" y="14161"/>
                </a:lnTo>
                <a:lnTo>
                  <a:pt x="8067" y="14115"/>
                </a:lnTo>
                <a:lnTo>
                  <a:pt x="8112" y="14100"/>
                </a:lnTo>
                <a:lnTo>
                  <a:pt x="8135" y="14039"/>
                </a:lnTo>
                <a:lnTo>
                  <a:pt x="8135" y="13978"/>
                </a:lnTo>
                <a:lnTo>
                  <a:pt x="8112" y="13932"/>
                </a:lnTo>
                <a:lnTo>
                  <a:pt x="8067" y="13871"/>
                </a:lnTo>
                <a:lnTo>
                  <a:pt x="8009" y="13840"/>
                </a:lnTo>
                <a:lnTo>
                  <a:pt x="8009" y="13840"/>
                </a:lnTo>
                <a:lnTo>
                  <a:pt x="7940" y="14176"/>
                </a:lnTo>
                <a:close/>
                <a:moveTo>
                  <a:pt x="4033" y="14176"/>
                </a:moveTo>
                <a:lnTo>
                  <a:pt x="4033" y="14176"/>
                </a:lnTo>
                <a:lnTo>
                  <a:pt x="4113" y="14130"/>
                </a:lnTo>
                <a:lnTo>
                  <a:pt x="4182" y="14115"/>
                </a:lnTo>
                <a:lnTo>
                  <a:pt x="4216" y="14054"/>
                </a:lnTo>
                <a:lnTo>
                  <a:pt x="4239" y="14008"/>
                </a:lnTo>
                <a:lnTo>
                  <a:pt x="4239" y="13962"/>
                </a:lnTo>
                <a:lnTo>
                  <a:pt x="4239" y="13932"/>
                </a:lnTo>
                <a:lnTo>
                  <a:pt x="4216" y="13856"/>
                </a:lnTo>
                <a:lnTo>
                  <a:pt x="4159" y="13779"/>
                </a:lnTo>
                <a:lnTo>
                  <a:pt x="4079" y="13688"/>
                </a:lnTo>
                <a:lnTo>
                  <a:pt x="4079" y="13688"/>
                </a:lnTo>
                <a:lnTo>
                  <a:pt x="4033" y="14176"/>
                </a:lnTo>
                <a:close/>
                <a:moveTo>
                  <a:pt x="17428" y="13840"/>
                </a:moveTo>
                <a:lnTo>
                  <a:pt x="17428" y="13840"/>
                </a:lnTo>
                <a:lnTo>
                  <a:pt x="17108" y="13566"/>
                </a:lnTo>
                <a:lnTo>
                  <a:pt x="17108" y="13566"/>
                </a:lnTo>
                <a:lnTo>
                  <a:pt x="17256" y="13856"/>
                </a:lnTo>
                <a:lnTo>
                  <a:pt x="17302" y="13993"/>
                </a:lnTo>
                <a:lnTo>
                  <a:pt x="17348" y="14069"/>
                </a:lnTo>
                <a:lnTo>
                  <a:pt x="17371" y="14115"/>
                </a:lnTo>
                <a:lnTo>
                  <a:pt x="17382" y="14115"/>
                </a:lnTo>
                <a:lnTo>
                  <a:pt x="17394" y="14115"/>
                </a:lnTo>
                <a:lnTo>
                  <a:pt x="17405" y="14100"/>
                </a:lnTo>
                <a:lnTo>
                  <a:pt x="17428" y="14008"/>
                </a:lnTo>
                <a:lnTo>
                  <a:pt x="17428" y="13840"/>
                </a:lnTo>
                <a:close/>
                <a:moveTo>
                  <a:pt x="14082" y="13886"/>
                </a:moveTo>
                <a:lnTo>
                  <a:pt x="14082" y="13886"/>
                </a:lnTo>
                <a:lnTo>
                  <a:pt x="14151" y="13947"/>
                </a:lnTo>
                <a:lnTo>
                  <a:pt x="14220" y="14008"/>
                </a:lnTo>
                <a:lnTo>
                  <a:pt x="14312" y="14039"/>
                </a:lnTo>
                <a:lnTo>
                  <a:pt x="14403" y="14069"/>
                </a:lnTo>
                <a:lnTo>
                  <a:pt x="14506" y="14084"/>
                </a:lnTo>
                <a:lnTo>
                  <a:pt x="14598" y="14084"/>
                </a:lnTo>
                <a:lnTo>
                  <a:pt x="14690" y="14069"/>
                </a:lnTo>
                <a:lnTo>
                  <a:pt x="14781" y="14039"/>
                </a:lnTo>
                <a:lnTo>
                  <a:pt x="14873" y="14008"/>
                </a:lnTo>
                <a:lnTo>
                  <a:pt x="14953" y="13947"/>
                </a:lnTo>
                <a:lnTo>
                  <a:pt x="15010" y="13871"/>
                </a:lnTo>
                <a:lnTo>
                  <a:pt x="15079" y="13810"/>
                </a:lnTo>
                <a:lnTo>
                  <a:pt x="15114" y="13703"/>
                </a:lnTo>
                <a:lnTo>
                  <a:pt x="15137" y="13596"/>
                </a:lnTo>
                <a:lnTo>
                  <a:pt x="15137" y="13490"/>
                </a:lnTo>
                <a:lnTo>
                  <a:pt x="15114" y="13353"/>
                </a:lnTo>
                <a:lnTo>
                  <a:pt x="15114" y="13353"/>
                </a:lnTo>
                <a:lnTo>
                  <a:pt x="14976" y="13322"/>
                </a:lnTo>
                <a:lnTo>
                  <a:pt x="14861" y="13261"/>
                </a:lnTo>
                <a:lnTo>
                  <a:pt x="14735" y="13170"/>
                </a:lnTo>
                <a:lnTo>
                  <a:pt x="14621" y="13078"/>
                </a:lnTo>
                <a:lnTo>
                  <a:pt x="14518" y="13002"/>
                </a:lnTo>
                <a:lnTo>
                  <a:pt x="14403" y="12911"/>
                </a:lnTo>
                <a:lnTo>
                  <a:pt x="14208" y="12682"/>
                </a:lnTo>
                <a:lnTo>
                  <a:pt x="14014" y="12484"/>
                </a:lnTo>
                <a:lnTo>
                  <a:pt x="13887" y="12377"/>
                </a:lnTo>
                <a:lnTo>
                  <a:pt x="13796" y="12286"/>
                </a:lnTo>
                <a:lnTo>
                  <a:pt x="13670" y="12194"/>
                </a:lnTo>
                <a:lnTo>
                  <a:pt x="13567" y="12118"/>
                </a:lnTo>
                <a:lnTo>
                  <a:pt x="13441" y="12057"/>
                </a:lnTo>
                <a:lnTo>
                  <a:pt x="13303" y="12011"/>
                </a:lnTo>
                <a:lnTo>
                  <a:pt x="13303" y="12011"/>
                </a:lnTo>
                <a:lnTo>
                  <a:pt x="13315" y="12149"/>
                </a:lnTo>
                <a:lnTo>
                  <a:pt x="13326" y="12316"/>
                </a:lnTo>
                <a:lnTo>
                  <a:pt x="13349" y="12438"/>
                </a:lnTo>
                <a:lnTo>
                  <a:pt x="13372" y="12575"/>
                </a:lnTo>
                <a:lnTo>
                  <a:pt x="13406" y="12712"/>
                </a:lnTo>
                <a:lnTo>
                  <a:pt x="13441" y="12819"/>
                </a:lnTo>
                <a:lnTo>
                  <a:pt x="13486" y="12941"/>
                </a:lnTo>
                <a:lnTo>
                  <a:pt x="13532" y="13078"/>
                </a:lnTo>
                <a:lnTo>
                  <a:pt x="13647" y="13292"/>
                </a:lnTo>
                <a:lnTo>
                  <a:pt x="13773" y="13505"/>
                </a:lnTo>
                <a:lnTo>
                  <a:pt x="13922" y="13688"/>
                </a:lnTo>
                <a:lnTo>
                  <a:pt x="14082" y="13886"/>
                </a:lnTo>
                <a:close/>
                <a:moveTo>
                  <a:pt x="16088" y="14039"/>
                </a:moveTo>
                <a:lnTo>
                  <a:pt x="16088" y="14039"/>
                </a:lnTo>
                <a:lnTo>
                  <a:pt x="16134" y="14039"/>
                </a:lnTo>
                <a:lnTo>
                  <a:pt x="16168" y="14039"/>
                </a:lnTo>
                <a:lnTo>
                  <a:pt x="16202" y="14039"/>
                </a:lnTo>
                <a:lnTo>
                  <a:pt x="16225" y="14008"/>
                </a:lnTo>
                <a:lnTo>
                  <a:pt x="16236" y="13962"/>
                </a:lnTo>
                <a:lnTo>
                  <a:pt x="16248" y="13901"/>
                </a:lnTo>
                <a:lnTo>
                  <a:pt x="16248" y="13856"/>
                </a:lnTo>
                <a:lnTo>
                  <a:pt x="16236" y="13779"/>
                </a:lnTo>
                <a:lnTo>
                  <a:pt x="16236" y="13779"/>
                </a:lnTo>
                <a:lnTo>
                  <a:pt x="16099" y="13779"/>
                </a:lnTo>
                <a:lnTo>
                  <a:pt x="16053" y="13779"/>
                </a:lnTo>
                <a:lnTo>
                  <a:pt x="16019" y="13810"/>
                </a:lnTo>
                <a:lnTo>
                  <a:pt x="15996" y="13856"/>
                </a:lnTo>
                <a:lnTo>
                  <a:pt x="16007" y="13886"/>
                </a:lnTo>
                <a:lnTo>
                  <a:pt x="16030" y="13947"/>
                </a:lnTo>
                <a:lnTo>
                  <a:pt x="16088" y="14039"/>
                </a:lnTo>
                <a:close/>
                <a:moveTo>
                  <a:pt x="18207" y="13901"/>
                </a:moveTo>
                <a:lnTo>
                  <a:pt x="18207" y="13901"/>
                </a:lnTo>
                <a:lnTo>
                  <a:pt x="18196" y="13779"/>
                </a:lnTo>
                <a:lnTo>
                  <a:pt x="18173" y="13657"/>
                </a:lnTo>
                <a:lnTo>
                  <a:pt x="18150" y="13581"/>
                </a:lnTo>
                <a:lnTo>
                  <a:pt x="18093" y="13505"/>
                </a:lnTo>
                <a:lnTo>
                  <a:pt x="18047" y="13429"/>
                </a:lnTo>
                <a:lnTo>
                  <a:pt x="17967" y="13383"/>
                </a:lnTo>
                <a:lnTo>
                  <a:pt x="17875" y="13337"/>
                </a:lnTo>
                <a:lnTo>
                  <a:pt x="17795" y="13292"/>
                </a:lnTo>
                <a:lnTo>
                  <a:pt x="17795" y="13292"/>
                </a:lnTo>
                <a:lnTo>
                  <a:pt x="17807" y="13535"/>
                </a:lnTo>
                <a:lnTo>
                  <a:pt x="17829" y="13734"/>
                </a:lnTo>
                <a:lnTo>
                  <a:pt x="17875" y="13871"/>
                </a:lnTo>
                <a:lnTo>
                  <a:pt x="17875" y="13947"/>
                </a:lnTo>
                <a:lnTo>
                  <a:pt x="17909" y="13993"/>
                </a:lnTo>
                <a:lnTo>
                  <a:pt x="17944" y="14023"/>
                </a:lnTo>
                <a:lnTo>
                  <a:pt x="17967" y="14039"/>
                </a:lnTo>
                <a:lnTo>
                  <a:pt x="18001" y="14039"/>
                </a:lnTo>
                <a:lnTo>
                  <a:pt x="18036" y="14039"/>
                </a:lnTo>
                <a:lnTo>
                  <a:pt x="18070" y="14039"/>
                </a:lnTo>
                <a:lnTo>
                  <a:pt x="18105" y="13993"/>
                </a:lnTo>
                <a:lnTo>
                  <a:pt x="18207" y="13901"/>
                </a:lnTo>
                <a:close/>
                <a:moveTo>
                  <a:pt x="3219" y="13840"/>
                </a:moveTo>
                <a:lnTo>
                  <a:pt x="3219" y="13840"/>
                </a:lnTo>
                <a:lnTo>
                  <a:pt x="3265" y="13932"/>
                </a:lnTo>
                <a:lnTo>
                  <a:pt x="3288" y="13962"/>
                </a:lnTo>
                <a:lnTo>
                  <a:pt x="3322" y="13993"/>
                </a:lnTo>
                <a:lnTo>
                  <a:pt x="3357" y="14023"/>
                </a:lnTo>
                <a:lnTo>
                  <a:pt x="3391" y="14039"/>
                </a:lnTo>
                <a:lnTo>
                  <a:pt x="3426" y="14039"/>
                </a:lnTo>
                <a:lnTo>
                  <a:pt x="3460" y="14039"/>
                </a:lnTo>
                <a:lnTo>
                  <a:pt x="3460" y="14039"/>
                </a:lnTo>
                <a:lnTo>
                  <a:pt x="3471" y="13825"/>
                </a:lnTo>
                <a:lnTo>
                  <a:pt x="3471" y="13734"/>
                </a:lnTo>
                <a:lnTo>
                  <a:pt x="3460" y="13673"/>
                </a:lnTo>
                <a:lnTo>
                  <a:pt x="3448" y="13596"/>
                </a:lnTo>
                <a:lnTo>
                  <a:pt x="3426" y="13551"/>
                </a:lnTo>
                <a:lnTo>
                  <a:pt x="3380" y="13490"/>
                </a:lnTo>
                <a:lnTo>
                  <a:pt x="3311" y="13429"/>
                </a:lnTo>
                <a:lnTo>
                  <a:pt x="3311" y="13429"/>
                </a:lnTo>
                <a:lnTo>
                  <a:pt x="3219" y="13840"/>
                </a:lnTo>
                <a:close/>
                <a:moveTo>
                  <a:pt x="6863" y="14039"/>
                </a:moveTo>
                <a:lnTo>
                  <a:pt x="6863" y="14039"/>
                </a:lnTo>
                <a:lnTo>
                  <a:pt x="7070" y="13962"/>
                </a:lnTo>
                <a:lnTo>
                  <a:pt x="7070" y="13962"/>
                </a:lnTo>
                <a:lnTo>
                  <a:pt x="7230" y="13505"/>
                </a:lnTo>
                <a:lnTo>
                  <a:pt x="7230" y="13505"/>
                </a:lnTo>
                <a:lnTo>
                  <a:pt x="7150" y="13474"/>
                </a:lnTo>
                <a:lnTo>
                  <a:pt x="7070" y="13459"/>
                </a:lnTo>
                <a:lnTo>
                  <a:pt x="7070" y="13459"/>
                </a:lnTo>
                <a:lnTo>
                  <a:pt x="7012" y="13474"/>
                </a:lnTo>
                <a:lnTo>
                  <a:pt x="6966" y="13505"/>
                </a:lnTo>
                <a:lnTo>
                  <a:pt x="6921" y="13551"/>
                </a:lnTo>
                <a:lnTo>
                  <a:pt x="6886" y="13596"/>
                </a:lnTo>
                <a:lnTo>
                  <a:pt x="6863" y="13688"/>
                </a:lnTo>
                <a:lnTo>
                  <a:pt x="6863" y="13779"/>
                </a:lnTo>
                <a:lnTo>
                  <a:pt x="6863" y="13901"/>
                </a:lnTo>
                <a:lnTo>
                  <a:pt x="6863" y="14039"/>
                </a:lnTo>
                <a:close/>
                <a:moveTo>
                  <a:pt x="4652" y="14039"/>
                </a:moveTo>
                <a:lnTo>
                  <a:pt x="4652" y="14039"/>
                </a:lnTo>
                <a:lnTo>
                  <a:pt x="4652" y="13688"/>
                </a:lnTo>
                <a:lnTo>
                  <a:pt x="4652" y="13688"/>
                </a:lnTo>
                <a:lnTo>
                  <a:pt x="4629" y="13596"/>
                </a:lnTo>
                <a:lnTo>
                  <a:pt x="4606" y="13535"/>
                </a:lnTo>
                <a:lnTo>
                  <a:pt x="4594" y="13429"/>
                </a:lnTo>
                <a:lnTo>
                  <a:pt x="4572" y="13368"/>
                </a:lnTo>
                <a:lnTo>
                  <a:pt x="4560" y="13337"/>
                </a:lnTo>
                <a:lnTo>
                  <a:pt x="4514" y="13276"/>
                </a:lnTo>
                <a:lnTo>
                  <a:pt x="4445" y="13231"/>
                </a:lnTo>
                <a:lnTo>
                  <a:pt x="4445" y="13231"/>
                </a:lnTo>
                <a:lnTo>
                  <a:pt x="4434" y="13413"/>
                </a:lnTo>
                <a:lnTo>
                  <a:pt x="4423" y="13551"/>
                </a:lnTo>
                <a:lnTo>
                  <a:pt x="4434" y="13688"/>
                </a:lnTo>
                <a:lnTo>
                  <a:pt x="4457" y="13825"/>
                </a:lnTo>
                <a:lnTo>
                  <a:pt x="4480" y="13871"/>
                </a:lnTo>
                <a:lnTo>
                  <a:pt x="4503" y="13932"/>
                </a:lnTo>
                <a:lnTo>
                  <a:pt x="4526" y="13978"/>
                </a:lnTo>
                <a:lnTo>
                  <a:pt x="4560" y="14008"/>
                </a:lnTo>
                <a:lnTo>
                  <a:pt x="4594" y="14039"/>
                </a:lnTo>
                <a:lnTo>
                  <a:pt x="4652" y="14039"/>
                </a:lnTo>
                <a:close/>
                <a:moveTo>
                  <a:pt x="18254" y="13292"/>
                </a:moveTo>
                <a:lnTo>
                  <a:pt x="18254" y="13292"/>
                </a:lnTo>
                <a:lnTo>
                  <a:pt x="18299" y="13520"/>
                </a:lnTo>
                <a:lnTo>
                  <a:pt x="18356" y="13688"/>
                </a:lnTo>
                <a:lnTo>
                  <a:pt x="18414" y="13810"/>
                </a:lnTo>
                <a:lnTo>
                  <a:pt x="18448" y="13856"/>
                </a:lnTo>
                <a:lnTo>
                  <a:pt x="18459" y="13886"/>
                </a:lnTo>
                <a:lnTo>
                  <a:pt x="18494" y="13917"/>
                </a:lnTo>
                <a:lnTo>
                  <a:pt x="18517" y="13932"/>
                </a:lnTo>
                <a:lnTo>
                  <a:pt x="18551" y="13932"/>
                </a:lnTo>
                <a:lnTo>
                  <a:pt x="18597" y="13917"/>
                </a:lnTo>
                <a:lnTo>
                  <a:pt x="18620" y="13886"/>
                </a:lnTo>
                <a:lnTo>
                  <a:pt x="18643" y="13856"/>
                </a:lnTo>
                <a:lnTo>
                  <a:pt x="18712" y="13779"/>
                </a:lnTo>
                <a:lnTo>
                  <a:pt x="18712" y="13779"/>
                </a:lnTo>
                <a:lnTo>
                  <a:pt x="18700" y="13657"/>
                </a:lnTo>
                <a:lnTo>
                  <a:pt x="18666" y="13566"/>
                </a:lnTo>
                <a:lnTo>
                  <a:pt x="18643" y="13474"/>
                </a:lnTo>
                <a:lnTo>
                  <a:pt x="18597" y="13398"/>
                </a:lnTo>
                <a:lnTo>
                  <a:pt x="18551" y="13337"/>
                </a:lnTo>
                <a:lnTo>
                  <a:pt x="18494" y="13322"/>
                </a:lnTo>
                <a:lnTo>
                  <a:pt x="18425" y="13292"/>
                </a:lnTo>
                <a:lnTo>
                  <a:pt x="18345" y="13292"/>
                </a:lnTo>
                <a:lnTo>
                  <a:pt x="18345" y="13292"/>
                </a:lnTo>
                <a:lnTo>
                  <a:pt x="18254" y="13292"/>
                </a:lnTo>
                <a:close/>
                <a:moveTo>
                  <a:pt x="9384" y="13901"/>
                </a:moveTo>
                <a:lnTo>
                  <a:pt x="9384" y="13901"/>
                </a:lnTo>
                <a:lnTo>
                  <a:pt x="9384" y="13825"/>
                </a:lnTo>
                <a:lnTo>
                  <a:pt x="9373" y="13734"/>
                </a:lnTo>
                <a:lnTo>
                  <a:pt x="9361" y="13657"/>
                </a:lnTo>
                <a:lnTo>
                  <a:pt x="9338" y="13596"/>
                </a:lnTo>
                <a:lnTo>
                  <a:pt x="9293" y="13535"/>
                </a:lnTo>
                <a:lnTo>
                  <a:pt x="9258" y="13474"/>
                </a:lnTo>
                <a:lnTo>
                  <a:pt x="9178" y="13353"/>
                </a:lnTo>
                <a:lnTo>
                  <a:pt x="9075" y="13261"/>
                </a:lnTo>
                <a:lnTo>
                  <a:pt x="8983" y="13154"/>
                </a:lnTo>
                <a:lnTo>
                  <a:pt x="8868" y="13063"/>
                </a:lnTo>
                <a:lnTo>
                  <a:pt x="8777" y="12956"/>
                </a:lnTo>
                <a:lnTo>
                  <a:pt x="8777" y="12956"/>
                </a:lnTo>
                <a:lnTo>
                  <a:pt x="8846" y="12392"/>
                </a:lnTo>
                <a:lnTo>
                  <a:pt x="8937" y="11844"/>
                </a:lnTo>
                <a:lnTo>
                  <a:pt x="8937" y="11844"/>
                </a:lnTo>
                <a:lnTo>
                  <a:pt x="8949" y="11630"/>
                </a:lnTo>
                <a:lnTo>
                  <a:pt x="8960" y="11462"/>
                </a:lnTo>
                <a:lnTo>
                  <a:pt x="8949" y="11325"/>
                </a:lnTo>
                <a:lnTo>
                  <a:pt x="8926" y="11203"/>
                </a:lnTo>
                <a:lnTo>
                  <a:pt x="8880" y="11112"/>
                </a:lnTo>
                <a:lnTo>
                  <a:pt x="8846" y="11035"/>
                </a:lnTo>
                <a:lnTo>
                  <a:pt x="8800" y="10990"/>
                </a:lnTo>
                <a:lnTo>
                  <a:pt x="8719" y="10929"/>
                </a:lnTo>
                <a:lnTo>
                  <a:pt x="8594" y="10822"/>
                </a:lnTo>
                <a:lnTo>
                  <a:pt x="8513" y="10761"/>
                </a:lnTo>
                <a:lnTo>
                  <a:pt x="8433" y="10700"/>
                </a:lnTo>
                <a:lnTo>
                  <a:pt x="8364" y="10624"/>
                </a:lnTo>
                <a:lnTo>
                  <a:pt x="8296" y="10517"/>
                </a:lnTo>
                <a:lnTo>
                  <a:pt x="8227" y="10411"/>
                </a:lnTo>
                <a:lnTo>
                  <a:pt x="8147" y="10258"/>
                </a:lnTo>
                <a:lnTo>
                  <a:pt x="8147" y="10258"/>
                </a:lnTo>
                <a:lnTo>
                  <a:pt x="8318" y="10243"/>
                </a:lnTo>
                <a:lnTo>
                  <a:pt x="8467" y="10243"/>
                </a:lnTo>
                <a:lnTo>
                  <a:pt x="8616" y="10258"/>
                </a:lnTo>
                <a:lnTo>
                  <a:pt x="8731" y="10304"/>
                </a:lnTo>
                <a:lnTo>
                  <a:pt x="8846" y="10350"/>
                </a:lnTo>
                <a:lnTo>
                  <a:pt x="8937" y="10411"/>
                </a:lnTo>
                <a:lnTo>
                  <a:pt x="9040" y="10456"/>
                </a:lnTo>
                <a:lnTo>
                  <a:pt x="9144" y="10517"/>
                </a:lnTo>
                <a:lnTo>
                  <a:pt x="9212" y="10517"/>
                </a:lnTo>
                <a:lnTo>
                  <a:pt x="9315" y="10533"/>
                </a:lnTo>
                <a:lnTo>
                  <a:pt x="9407" y="10517"/>
                </a:lnTo>
                <a:lnTo>
                  <a:pt x="9510" y="10487"/>
                </a:lnTo>
                <a:lnTo>
                  <a:pt x="9613" y="10411"/>
                </a:lnTo>
                <a:lnTo>
                  <a:pt x="9740" y="10273"/>
                </a:lnTo>
                <a:lnTo>
                  <a:pt x="9865" y="10121"/>
                </a:lnTo>
                <a:lnTo>
                  <a:pt x="10003" y="9908"/>
                </a:lnTo>
                <a:lnTo>
                  <a:pt x="10003" y="9908"/>
                </a:lnTo>
                <a:lnTo>
                  <a:pt x="9865" y="9679"/>
                </a:lnTo>
                <a:lnTo>
                  <a:pt x="9740" y="9481"/>
                </a:lnTo>
                <a:lnTo>
                  <a:pt x="9682" y="9420"/>
                </a:lnTo>
                <a:lnTo>
                  <a:pt x="9625" y="9359"/>
                </a:lnTo>
                <a:lnTo>
                  <a:pt x="9579" y="9298"/>
                </a:lnTo>
                <a:lnTo>
                  <a:pt x="9510" y="9267"/>
                </a:lnTo>
                <a:lnTo>
                  <a:pt x="9453" y="9252"/>
                </a:lnTo>
                <a:lnTo>
                  <a:pt x="9396" y="9237"/>
                </a:lnTo>
                <a:lnTo>
                  <a:pt x="9350" y="9222"/>
                </a:lnTo>
                <a:lnTo>
                  <a:pt x="9293" y="9237"/>
                </a:lnTo>
                <a:lnTo>
                  <a:pt x="9224" y="9267"/>
                </a:lnTo>
                <a:lnTo>
                  <a:pt x="9166" y="9298"/>
                </a:lnTo>
                <a:lnTo>
                  <a:pt x="9029" y="9374"/>
                </a:lnTo>
                <a:lnTo>
                  <a:pt x="9029" y="9374"/>
                </a:lnTo>
                <a:lnTo>
                  <a:pt x="9017" y="9252"/>
                </a:lnTo>
                <a:lnTo>
                  <a:pt x="9006" y="9145"/>
                </a:lnTo>
                <a:lnTo>
                  <a:pt x="8972" y="9054"/>
                </a:lnTo>
                <a:lnTo>
                  <a:pt x="8937" y="8978"/>
                </a:lnTo>
                <a:lnTo>
                  <a:pt x="8868" y="8917"/>
                </a:lnTo>
                <a:lnTo>
                  <a:pt x="8811" y="8871"/>
                </a:lnTo>
                <a:lnTo>
                  <a:pt x="8754" y="8810"/>
                </a:lnTo>
                <a:lnTo>
                  <a:pt x="8662" y="8779"/>
                </a:lnTo>
                <a:lnTo>
                  <a:pt x="8594" y="8749"/>
                </a:lnTo>
                <a:lnTo>
                  <a:pt x="8502" y="8734"/>
                </a:lnTo>
                <a:lnTo>
                  <a:pt x="8422" y="8734"/>
                </a:lnTo>
                <a:lnTo>
                  <a:pt x="8318" y="8734"/>
                </a:lnTo>
                <a:lnTo>
                  <a:pt x="8227" y="8749"/>
                </a:lnTo>
                <a:lnTo>
                  <a:pt x="8135" y="8779"/>
                </a:lnTo>
                <a:lnTo>
                  <a:pt x="8032" y="8795"/>
                </a:lnTo>
                <a:lnTo>
                  <a:pt x="7940" y="8840"/>
                </a:lnTo>
                <a:lnTo>
                  <a:pt x="7849" y="8886"/>
                </a:lnTo>
                <a:lnTo>
                  <a:pt x="7757" y="8947"/>
                </a:lnTo>
                <a:lnTo>
                  <a:pt x="7677" y="8978"/>
                </a:lnTo>
                <a:lnTo>
                  <a:pt x="7597" y="9039"/>
                </a:lnTo>
                <a:lnTo>
                  <a:pt x="7516" y="9130"/>
                </a:lnTo>
                <a:lnTo>
                  <a:pt x="7459" y="9191"/>
                </a:lnTo>
                <a:lnTo>
                  <a:pt x="7402" y="9267"/>
                </a:lnTo>
                <a:lnTo>
                  <a:pt x="7356" y="9344"/>
                </a:lnTo>
                <a:lnTo>
                  <a:pt x="7310" y="9435"/>
                </a:lnTo>
                <a:lnTo>
                  <a:pt x="7287" y="9511"/>
                </a:lnTo>
                <a:lnTo>
                  <a:pt x="7276" y="9618"/>
                </a:lnTo>
                <a:lnTo>
                  <a:pt x="7276" y="9710"/>
                </a:lnTo>
                <a:lnTo>
                  <a:pt x="7287" y="9801"/>
                </a:lnTo>
                <a:lnTo>
                  <a:pt x="7322" y="9908"/>
                </a:lnTo>
                <a:lnTo>
                  <a:pt x="7367" y="9999"/>
                </a:lnTo>
                <a:lnTo>
                  <a:pt x="7436" y="10091"/>
                </a:lnTo>
                <a:lnTo>
                  <a:pt x="7436" y="10091"/>
                </a:lnTo>
                <a:lnTo>
                  <a:pt x="7562" y="10273"/>
                </a:lnTo>
                <a:lnTo>
                  <a:pt x="7700" y="10456"/>
                </a:lnTo>
                <a:lnTo>
                  <a:pt x="7837" y="10639"/>
                </a:lnTo>
                <a:lnTo>
                  <a:pt x="7986" y="10822"/>
                </a:lnTo>
                <a:lnTo>
                  <a:pt x="8112" y="11020"/>
                </a:lnTo>
                <a:lnTo>
                  <a:pt x="8227" y="11218"/>
                </a:lnTo>
                <a:lnTo>
                  <a:pt x="8284" y="11325"/>
                </a:lnTo>
                <a:lnTo>
                  <a:pt x="8330" y="11447"/>
                </a:lnTo>
                <a:lnTo>
                  <a:pt x="8364" y="11539"/>
                </a:lnTo>
                <a:lnTo>
                  <a:pt x="8399" y="11676"/>
                </a:lnTo>
                <a:lnTo>
                  <a:pt x="8399" y="11676"/>
                </a:lnTo>
                <a:lnTo>
                  <a:pt x="8433" y="11844"/>
                </a:lnTo>
                <a:lnTo>
                  <a:pt x="8433" y="11981"/>
                </a:lnTo>
                <a:lnTo>
                  <a:pt x="8433" y="12088"/>
                </a:lnTo>
                <a:lnTo>
                  <a:pt x="8422" y="12179"/>
                </a:lnTo>
                <a:lnTo>
                  <a:pt x="8387" y="12255"/>
                </a:lnTo>
                <a:lnTo>
                  <a:pt x="8353" y="12316"/>
                </a:lnTo>
                <a:lnTo>
                  <a:pt x="8261" y="12438"/>
                </a:lnTo>
                <a:lnTo>
                  <a:pt x="8227" y="12499"/>
                </a:lnTo>
                <a:lnTo>
                  <a:pt x="8181" y="12575"/>
                </a:lnTo>
                <a:lnTo>
                  <a:pt x="8147" y="12636"/>
                </a:lnTo>
                <a:lnTo>
                  <a:pt x="8135" y="12743"/>
                </a:lnTo>
                <a:lnTo>
                  <a:pt x="8124" y="12834"/>
                </a:lnTo>
                <a:lnTo>
                  <a:pt x="8135" y="12987"/>
                </a:lnTo>
                <a:lnTo>
                  <a:pt x="8158" y="13154"/>
                </a:lnTo>
                <a:lnTo>
                  <a:pt x="8216" y="13353"/>
                </a:lnTo>
                <a:lnTo>
                  <a:pt x="8216" y="13353"/>
                </a:lnTo>
                <a:lnTo>
                  <a:pt x="8273" y="13383"/>
                </a:lnTo>
                <a:lnTo>
                  <a:pt x="8330" y="13383"/>
                </a:lnTo>
                <a:lnTo>
                  <a:pt x="8376" y="13368"/>
                </a:lnTo>
                <a:lnTo>
                  <a:pt x="8422" y="13337"/>
                </a:lnTo>
                <a:lnTo>
                  <a:pt x="8445" y="13322"/>
                </a:lnTo>
                <a:lnTo>
                  <a:pt x="8479" y="13261"/>
                </a:lnTo>
                <a:lnTo>
                  <a:pt x="8502" y="13170"/>
                </a:lnTo>
                <a:lnTo>
                  <a:pt x="8513" y="13078"/>
                </a:lnTo>
                <a:lnTo>
                  <a:pt x="8513" y="13078"/>
                </a:lnTo>
                <a:lnTo>
                  <a:pt x="8697" y="13322"/>
                </a:lnTo>
                <a:lnTo>
                  <a:pt x="8811" y="13474"/>
                </a:lnTo>
                <a:lnTo>
                  <a:pt x="8937" y="13612"/>
                </a:lnTo>
                <a:lnTo>
                  <a:pt x="9063" y="13764"/>
                </a:lnTo>
                <a:lnTo>
                  <a:pt x="9121" y="13825"/>
                </a:lnTo>
                <a:lnTo>
                  <a:pt x="9189" y="13856"/>
                </a:lnTo>
                <a:lnTo>
                  <a:pt x="9235" y="13886"/>
                </a:lnTo>
                <a:lnTo>
                  <a:pt x="9293" y="13917"/>
                </a:lnTo>
                <a:lnTo>
                  <a:pt x="9350" y="13917"/>
                </a:lnTo>
                <a:lnTo>
                  <a:pt x="9384" y="13901"/>
                </a:lnTo>
                <a:close/>
                <a:moveTo>
                  <a:pt x="5843" y="13901"/>
                </a:moveTo>
                <a:lnTo>
                  <a:pt x="5843" y="13901"/>
                </a:lnTo>
                <a:lnTo>
                  <a:pt x="5855" y="13886"/>
                </a:lnTo>
                <a:lnTo>
                  <a:pt x="5866" y="13871"/>
                </a:lnTo>
                <a:lnTo>
                  <a:pt x="5912" y="13825"/>
                </a:lnTo>
                <a:lnTo>
                  <a:pt x="5947" y="13749"/>
                </a:lnTo>
                <a:lnTo>
                  <a:pt x="5992" y="13642"/>
                </a:lnTo>
                <a:lnTo>
                  <a:pt x="6061" y="13429"/>
                </a:lnTo>
                <a:lnTo>
                  <a:pt x="6096" y="13292"/>
                </a:lnTo>
                <a:lnTo>
                  <a:pt x="6096" y="13292"/>
                </a:lnTo>
                <a:lnTo>
                  <a:pt x="6027" y="13276"/>
                </a:lnTo>
                <a:lnTo>
                  <a:pt x="5981" y="13276"/>
                </a:lnTo>
                <a:lnTo>
                  <a:pt x="5981" y="13276"/>
                </a:lnTo>
                <a:lnTo>
                  <a:pt x="5912" y="13276"/>
                </a:lnTo>
                <a:lnTo>
                  <a:pt x="5866" y="13322"/>
                </a:lnTo>
                <a:lnTo>
                  <a:pt x="5820" y="13353"/>
                </a:lnTo>
                <a:lnTo>
                  <a:pt x="5798" y="13429"/>
                </a:lnTo>
                <a:lnTo>
                  <a:pt x="5786" y="13520"/>
                </a:lnTo>
                <a:lnTo>
                  <a:pt x="5786" y="13612"/>
                </a:lnTo>
                <a:lnTo>
                  <a:pt x="5809" y="13764"/>
                </a:lnTo>
                <a:lnTo>
                  <a:pt x="5843" y="13901"/>
                </a:lnTo>
                <a:close/>
                <a:moveTo>
                  <a:pt x="5522" y="13627"/>
                </a:moveTo>
                <a:lnTo>
                  <a:pt x="5522" y="13627"/>
                </a:lnTo>
                <a:lnTo>
                  <a:pt x="5522" y="13718"/>
                </a:lnTo>
                <a:lnTo>
                  <a:pt x="5522" y="13810"/>
                </a:lnTo>
                <a:lnTo>
                  <a:pt x="5534" y="13856"/>
                </a:lnTo>
                <a:lnTo>
                  <a:pt x="5557" y="13871"/>
                </a:lnTo>
                <a:lnTo>
                  <a:pt x="5580" y="13886"/>
                </a:lnTo>
                <a:lnTo>
                  <a:pt x="5637" y="13901"/>
                </a:lnTo>
                <a:lnTo>
                  <a:pt x="5637" y="13901"/>
                </a:lnTo>
                <a:lnTo>
                  <a:pt x="5660" y="13779"/>
                </a:lnTo>
                <a:lnTo>
                  <a:pt x="5660" y="13734"/>
                </a:lnTo>
                <a:lnTo>
                  <a:pt x="5660" y="13688"/>
                </a:lnTo>
                <a:lnTo>
                  <a:pt x="5649" y="13657"/>
                </a:lnTo>
                <a:lnTo>
                  <a:pt x="5649" y="13627"/>
                </a:lnTo>
                <a:lnTo>
                  <a:pt x="5614" y="13612"/>
                </a:lnTo>
                <a:lnTo>
                  <a:pt x="5580" y="13612"/>
                </a:lnTo>
                <a:lnTo>
                  <a:pt x="5580" y="13612"/>
                </a:lnTo>
                <a:lnTo>
                  <a:pt x="5522" y="13627"/>
                </a:lnTo>
                <a:close/>
                <a:moveTo>
                  <a:pt x="18872" y="13429"/>
                </a:moveTo>
                <a:lnTo>
                  <a:pt x="18872" y="13429"/>
                </a:lnTo>
                <a:lnTo>
                  <a:pt x="18872" y="13490"/>
                </a:lnTo>
                <a:lnTo>
                  <a:pt x="18872" y="13551"/>
                </a:lnTo>
                <a:lnTo>
                  <a:pt x="18872" y="13596"/>
                </a:lnTo>
                <a:lnTo>
                  <a:pt x="18895" y="13642"/>
                </a:lnTo>
                <a:lnTo>
                  <a:pt x="18918" y="13688"/>
                </a:lnTo>
                <a:lnTo>
                  <a:pt x="18952" y="13718"/>
                </a:lnTo>
                <a:lnTo>
                  <a:pt x="18987" y="13749"/>
                </a:lnTo>
                <a:lnTo>
                  <a:pt x="19021" y="13779"/>
                </a:lnTo>
                <a:lnTo>
                  <a:pt x="19021" y="13779"/>
                </a:lnTo>
                <a:lnTo>
                  <a:pt x="19044" y="13810"/>
                </a:lnTo>
                <a:lnTo>
                  <a:pt x="19078" y="13840"/>
                </a:lnTo>
                <a:lnTo>
                  <a:pt x="19101" y="13856"/>
                </a:lnTo>
                <a:lnTo>
                  <a:pt x="19147" y="13856"/>
                </a:lnTo>
                <a:lnTo>
                  <a:pt x="19170" y="13856"/>
                </a:lnTo>
                <a:lnTo>
                  <a:pt x="19216" y="13856"/>
                </a:lnTo>
                <a:lnTo>
                  <a:pt x="19239" y="13856"/>
                </a:lnTo>
                <a:lnTo>
                  <a:pt x="19285" y="13840"/>
                </a:lnTo>
                <a:lnTo>
                  <a:pt x="19285" y="13840"/>
                </a:lnTo>
                <a:lnTo>
                  <a:pt x="19273" y="13734"/>
                </a:lnTo>
                <a:lnTo>
                  <a:pt x="19250" y="13642"/>
                </a:lnTo>
                <a:lnTo>
                  <a:pt x="19227" y="13581"/>
                </a:lnTo>
                <a:lnTo>
                  <a:pt x="19204" y="13520"/>
                </a:lnTo>
                <a:lnTo>
                  <a:pt x="19159" y="13459"/>
                </a:lnTo>
                <a:lnTo>
                  <a:pt x="19113" y="13429"/>
                </a:lnTo>
                <a:lnTo>
                  <a:pt x="19067" y="13398"/>
                </a:lnTo>
                <a:lnTo>
                  <a:pt x="19021" y="13398"/>
                </a:lnTo>
                <a:lnTo>
                  <a:pt x="19021" y="13398"/>
                </a:lnTo>
                <a:lnTo>
                  <a:pt x="18952" y="13398"/>
                </a:lnTo>
                <a:lnTo>
                  <a:pt x="18872" y="13429"/>
                </a:lnTo>
                <a:close/>
                <a:moveTo>
                  <a:pt x="5007" y="13840"/>
                </a:moveTo>
                <a:lnTo>
                  <a:pt x="5007" y="13840"/>
                </a:lnTo>
                <a:lnTo>
                  <a:pt x="5030" y="13764"/>
                </a:lnTo>
                <a:lnTo>
                  <a:pt x="5053" y="13688"/>
                </a:lnTo>
                <a:lnTo>
                  <a:pt x="5064" y="13612"/>
                </a:lnTo>
                <a:lnTo>
                  <a:pt x="5053" y="13551"/>
                </a:lnTo>
                <a:lnTo>
                  <a:pt x="5041" y="13490"/>
                </a:lnTo>
                <a:lnTo>
                  <a:pt x="5018" y="13413"/>
                </a:lnTo>
                <a:lnTo>
                  <a:pt x="4995" y="13337"/>
                </a:lnTo>
                <a:lnTo>
                  <a:pt x="4950" y="13292"/>
                </a:lnTo>
                <a:lnTo>
                  <a:pt x="4950" y="13292"/>
                </a:lnTo>
                <a:lnTo>
                  <a:pt x="4892" y="13474"/>
                </a:lnTo>
                <a:lnTo>
                  <a:pt x="4858" y="13581"/>
                </a:lnTo>
                <a:lnTo>
                  <a:pt x="4846" y="13657"/>
                </a:lnTo>
                <a:lnTo>
                  <a:pt x="4846" y="13718"/>
                </a:lnTo>
                <a:lnTo>
                  <a:pt x="4858" y="13764"/>
                </a:lnTo>
                <a:lnTo>
                  <a:pt x="4870" y="13779"/>
                </a:lnTo>
                <a:lnTo>
                  <a:pt x="4892" y="13810"/>
                </a:lnTo>
                <a:lnTo>
                  <a:pt x="4927" y="13825"/>
                </a:lnTo>
                <a:lnTo>
                  <a:pt x="4961" y="13840"/>
                </a:lnTo>
                <a:lnTo>
                  <a:pt x="5007" y="13840"/>
                </a:lnTo>
                <a:close/>
                <a:moveTo>
                  <a:pt x="1821" y="13688"/>
                </a:moveTo>
                <a:lnTo>
                  <a:pt x="1821" y="13688"/>
                </a:lnTo>
                <a:lnTo>
                  <a:pt x="1867" y="13749"/>
                </a:lnTo>
                <a:lnTo>
                  <a:pt x="1924" y="13779"/>
                </a:lnTo>
                <a:lnTo>
                  <a:pt x="1970" y="13779"/>
                </a:lnTo>
                <a:lnTo>
                  <a:pt x="1993" y="13749"/>
                </a:lnTo>
                <a:lnTo>
                  <a:pt x="2027" y="13688"/>
                </a:lnTo>
                <a:lnTo>
                  <a:pt x="2039" y="13627"/>
                </a:lnTo>
                <a:lnTo>
                  <a:pt x="2039" y="13535"/>
                </a:lnTo>
                <a:lnTo>
                  <a:pt x="2027" y="13429"/>
                </a:lnTo>
                <a:lnTo>
                  <a:pt x="2027" y="13429"/>
                </a:lnTo>
                <a:lnTo>
                  <a:pt x="1947" y="13398"/>
                </a:lnTo>
                <a:lnTo>
                  <a:pt x="1890" y="13398"/>
                </a:lnTo>
                <a:lnTo>
                  <a:pt x="1890" y="13398"/>
                </a:lnTo>
                <a:lnTo>
                  <a:pt x="1856" y="13398"/>
                </a:lnTo>
                <a:lnTo>
                  <a:pt x="1844" y="13413"/>
                </a:lnTo>
                <a:lnTo>
                  <a:pt x="1810" y="13429"/>
                </a:lnTo>
                <a:lnTo>
                  <a:pt x="1798" y="13474"/>
                </a:lnTo>
                <a:lnTo>
                  <a:pt x="1787" y="13520"/>
                </a:lnTo>
                <a:lnTo>
                  <a:pt x="1787" y="13566"/>
                </a:lnTo>
                <a:lnTo>
                  <a:pt x="1821" y="13688"/>
                </a:lnTo>
                <a:close/>
                <a:moveTo>
                  <a:pt x="3724" y="13779"/>
                </a:moveTo>
                <a:lnTo>
                  <a:pt x="3724" y="13779"/>
                </a:lnTo>
                <a:lnTo>
                  <a:pt x="3792" y="13779"/>
                </a:lnTo>
                <a:lnTo>
                  <a:pt x="3838" y="13749"/>
                </a:lnTo>
                <a:lnTo>
                  <a:pt x="3884" y="13688"/>
                </a:lnTo>
                <a:lnTo>
                  <a:pt x="3930" y="13627"/>
                </a:lnTo>
                <a:lnTo>
                  <a:pt x="3930" y="13627"/>
                </a:lnTo>
                <a:lnTo>
                  <a:pt x="3987" y="13535"/>
                </a:lnTo>
                <a:lnTo>
                  <a:pt x="4021" y="13444"/>
                </a:lnTo>
                <a:lnTo>
                  <a:pt x="4044" y="13353"/>
                </a:lnTo>
                <a:lnTo>
                  <a:pt x="4044" y="13292"/>
                </a:lnTo>
                <a:lnTo>
                  <a:pt x="4021" y="13215"/>
                </a:lnTo>
                <a:lnTo>
                  <a:pt x="3998" y="13139"/>
                </a:lnTo>
                <a:lnTo>
                  <a:pt x="3941" y="13078"/>
                </a:lnTo>
                <a:lnTo>
                  <a:pt x="3873" y="13017"/>
                </a:lnTo>
                <a:lnTo>
                  <a:pt x="3873" y="13017"/>
                </a:lnTo>
                <a:lnTo>
                  <a:pt x="3827" y="13093"/>
                </a:lnTo>
                <a:lnTo>
                  <a:pt x="3792" y="13185"/>
                </a:lnTo>
                <a:lnTo>
                  <a:pt x="3769" y="13276"/>
                </a:lnTo>
                <a:lnTo>
                  <a:pt x="3746" y="13368"/>
                </a:lnTo>
                <a:lnTo>
                  <a:pt x="3724" y="13459"/>
                </a:lnTo>
                <a:lnTo>
                  <a:pt x="3712" y="13566"/>
                </a:lnTo>
                <a:lnTo>
                  <a:pt x="3712" y="13657"/>
                </a:lnTo>
                <a:lnTo>
                  <a:pt x="3724" y="13779"/>
                </a:lnTo>
                <a:close/>
                <a:moveTo>
                  <a:pt x="16030" y="13429"/>
                </a:moveTo>
                <a:lnTo>
                  <a:pt x="16030" y="13429"/>
                </a:lnTo>
                <a:lnTo>
                  <a:pt x="15950" y="13444"/>
                </a:lnTo>
                <a:lnTo>
                  <a:pt x="15881" y="13444"/>
                </a:lnTo>
                <a:lnTo>
                  <a:pt x="15813" y="13444"/>
                </a:lnTo>
                <a:lnTo>
                  <a:pt x="15744" y="13429"/>
                </a:lnTo>
                <a:lnTo>
                  <a:pt x="15664" y="13413"/>
                </a:lnTo>
                <a:lnTo>
                  <a:pt x="15595" y="13383"/>
                </a:lnTo>
                <a:lnTo>
                  <a:pt x="15538" y="13337"/>
                </a:lnTo>
                <a:lnTo>
                  <a:pt x="15469" y="13292"/>
                </a:lnTo>
                <a:lnTo>
                  <a:pt x="15469" y="13292"/>
                </a:lnTo>
                <a:lnTo>
                  <a:pt x="15480" y="13398"/>
                </a:lnTo>
                <a:lnTo>
                  <a:pt x="15503" y="13505"/>
                </a:lnTo>
                <a:lnTo>
                  <a:pt x="15526" y="13581"/>
                </a:lnTo>
                <a:lnTo>
                  <a:pt x="15560" y="13642"/>
                </a:lnTo>
                <a:lnTo>
                  <a:pt x="15595" y="13688"/>
                </a:lnTo>
                <a:lnTo>
                  <a:pt x="15652" y="13734"/>
                </a:lnTo>
                <a:lnTo>
                  <a:pt x="15709" y="13764"/>
                </a:lnTo>
                <a:lnTo>
                  <a:pt x="15755" y="13779"/>
                </a:lnTo>
                <a:lnTo>
                  <a:pt x="15801" y="13764"/>
                </a:lnTo>
                <a:lnTo>
                  <a:pt x="15858" y="13749"/>
                </a:lnTo>
                <a:lnTo>
                  <a:pt x="15904" y="13718"/>
                </a:lnTo>
                <a:lnTo>
                  <a:pt x="15939" y="13688"/>
                </a:lnTo>
                <a:lnTo>
                  <a:pt x="15985" y="13627"/>
                </a:lnTo>
                <a:lnTo>
                  <a:pt x="16019" y="13581"/>
                </a:lnTo>
                <a:lnTo>
                  <a:pt x="16030" y="13520"/>
                </a:lnTo>
                <a:lnTo>
                  <a:pt x="16030" y="13429"/>
                </a:lnTo>
                <a:close/>
                <a:moveTo>
                  <a:pt x="7379" y="13688"/>
                </a:moveTo>
                <a:lnTo>
                  <a:pt x="7379" y="13688"/>
                </a:lnTo>
                <a:lnTo>
                  <a:pt x="7459" y="13673"/>
                </a:lnTo>
                <a:lnTo>
                  <a:pt x="7528" y="13627"/>
                </a:lnTo>
                <a:lnTo>
                  <a:pt x="7585" y="13581"/>
                </a:lnTo>
                <a:lnTo>
                  <a:pt x="7654" y="13505"/>
                </a:lnTo>
                <a:lnTo>
                  <a:pt x="7654" y="13505"/>
                </a:lnTo>
                <a:lnTo>
                  <a:pt x="7597" y="13429"/>
                </a:lnTo>
                <a:lnTo>
                  <a:pt x="7562" y="13398"/>
                </a:lnTo>
                <a:lnTo>
                  <a:pt x="7516" y="13353"/>
                </a:lnTo>
                <a:lnTo>
                  <a:pt x="7493" y="13353"/>
                </a:lnTo>
                <a:lnTo>
                  <a:pt x="7493" y="13353"/>
                </a:lnTo>
                <a:lnTo>
                  <a:pt x="7459" y="13353"/>
                </a:lnTo>
                <a:lnTo>
                  <a:pt x="7448" y="13383"/>
                </a:lnTo>
                <a:lnTo>
                  <a:pt x="7436" y="13413"/>
                </a:lnTo>
                <a:lnTo>
                  <a:pt x="7425" y="13444"/>
                </a:lnTo>
                <a:lnTo>
                  <a:pt x="7390" y="13551"/>
                </a:lnTo>
                <a:lnTo>
                  <a:pt x="7379" y="13688"/>
                </a:lnTo>
                <a:close/>
                <a:moveTo>
                  <a:pt x="3059" y="13566"/>
                </a:moveTo>
                <a:lnTo>
                  <a:pt x="3059" y="13566"/>
                </a:lnTo>
                <a:lnTo>
                  <a:pt x="3162" y="13078"/>
                </a:lnTo>
                <a:lnTo>
                  <a:pt x="3162" y="13078"/>
                </a:lnTo>
                <a:lnTo>
                  <a:pt x="3139" y="13124"/>
                </a:lnTo>
                <a:lnTo>
                  <a:pt x="3105" y="13185"/>
                </a:lnTo>
                <a:lnTo>
                  <a:pt x="3070" y="13322"/>
                </a:lnTo>
                <a:lnTo>
                  <a:pt x="3059" y="13429"/>
                </a:lnTo>
                <a:lnTo>
                  <a:pt x="3048" y="13551"/>
                </a:lnTo>
                <a:lnTo>
                  <a:pt x="3048" y="13688"/>
                </a:lnTo>
                <a:lnTo>
                  <a:pt x="3048" y="13657"/>
                </a:lnTo>
                <a:lnTo>
                  <a:pt x="3059" y="13566"/>
                </a:lnTo>
                <a:close/>
                <a:moveTo>
                  <a:pt x="17222" y="13231"/>
                </a:moveTo>
                <a:lnTo>
                  <a:pt x="17222" y="13231"/>
                </a:lnTo>
                <a:lnTo>
                  <a:pt x="17222" y="13337"/>
                </a:lnTo>
                <a:lnTo>
                  <a:pt x="17233" y="13398"/>
                </a:lnTo>
                <a:lnTo>
                  <a:pt x="17256" y="13474"/>
                </a:lnTo>
                <a:lnTo>
                  <a:pt x="17302" y="13535"/>
                </a:lnTo>
                <a:lnTo>
                  <a:pt x="17360" y="13581"/>
                </a:lnTo>
                <a:lnTo>
                  <a:pt x="17440" y="13596"/>
                </a:lnTo>
                <a:lnTo>
                  <a:pt x="17520" y="13612"/>
                </a:lnTo>
                <a:lnTo>
                  <a:pt x="17635" y="13627"/>
                </a:lnTo>
                <a:lnTo>
                  <a:pt x="17635" y="13627"/>
                </a:lnTo>
                <a:lnTo>
                  <a:pt x="17635" y="13535"/>
                </a:lnTo>
                <a:lnTo>
                  <a:pt x="17623" y="13429"/>
                </a:lnTo>
                <a:lnTo>
                  <a:pt x="17600" y="13353"/>
                </a:lnTo>
                <a:lnTo>
                  <a:pt x="17577" y="13307"/>
                </a:lnTo>
                <a:lnTo>
                  <a:pt x="17531" y="13261"/>
                </a:lnTo>
                <a:lnTo>
                  <a:pt x="17497" y="13215"/>
                </a:lnTo>
                <a:lnTo>
                  <a:pt x="17451" y="13185"/>
                </a:lnTo>
                <a:lnTo>
                  <a:pt x="17382" y="13185"/>
                </a:lnTo>
                <a:lnTo>
                  <a:pt x="17382" y="13185"/>
                </a:lnTo>
                <a:lnTo>
                  <a:pt x="17302" y="13185"/>
                </a:lnTo>
                <a:lnTo>
                  <a:pt x="17222" y="13231"/>
                </a:lnTo>
                <a:close/>
                <a:moveTo>
                  <a:pt x="12283" y="13627"/>
                </a:moveTo>
                <a:lnTo>
                  <a:pt x="12283" y="13627"/>
                </a:lnTo>
                <a:lnTo>
                  <a:pt x="12077" y="13353"/>
                </a:lnTo>
                <a:lnTo>
                  <a:pt x="12077" y="13353"/>
                </a:lnTo>
                <a:lnTo>
                  <a:pt x="12111" y="13459"/>
                </a:lnTo>
                <a:lnTo>
                  <a:pt x="12157" y="13520"/>
                </a:lnTo>
                <a:lnTo>
                  <a:pt x="12203" y="13581"/>
                </a:lnTo>
                <a:lnTo>
                  <a:pt x="12283" y="13627"/>
                </a:lnTo>
                <a:close/>
                <a:moveTo>
                  <a:pt x="2383" y="13078"/>
                </a:moveTo>
                <a:lnTo>
                  <a:pt x="2383" y="13078"/>
                </a:lnTo>
                <a:lnTo>
                  <a:pt x="2417" y="13246"/>
                </a:lnTo>
                <a:lnTo>
                  <a:pt x="2452" y="13353"/>
                </a:lnTo>
                <a:lnTo>
                  <a:pt x="2497" y="13490"/>
                </a:lnTo>
                <a:lnTo>
                  <a:pt x="2543" y="13627"/>
                </a:lnTo>
                <a:lnTo>
                  <a:pt x="2543" y="13627"/>
                </a:lnTo>
                <a:lnTo>
                  <a:pt x="2589" y="13596"/>
                </a:lnTo>
                <a:lnTo>
                  <a:pt x="2635" y="13520"/>
                </a:lnTo>
                <a:lnTo>
                  <a:pt x="2646" y="13474"/>
                </a:lnTo>
                <a:lnTo>
                  <a:pt x="2681" y="13413"/>
                </a:lnTo>
                <a:lnTo>
                  <a:pt x="2715" y="13307"/>
                </a:lnTo>
                <a:lnTo>
                  <a:pt x="2727" y="13185"/>
                </a:lnTo>
                <a:lnTo>
                  <a:pt x="2715" y="13078"/>
                </a:lnTo>
                <a:lnTo>
                  <a:pt x="2715" y="13063"/>
                </a:lnTo>
                <a:lnTo>
                  <a:pt x="2692" y="13017"/>
                </a:lnTo>
                <a:lnTo>
                  <a:pt x="2669" y="12987"/>
                </a:lnTo>
                <a:lnTo>
                  <a:pt x="2646" y="12956"/>
                </a:lnTo>
                <a:lnTo>
                  <a:pt x="2635" y="12941"/>
                </a:lnTo>
                <a:lnTo>
                  <a:pt x="2589" y="12941"/>
                </a:lnTo>
                <a:lnTo>
                  <a:pt x="2589" y="12941"/>
                </a:lnTo>
                <a:lnTo>
                  <a:pt x="2555" y="12941"/>
                </a:lnTo>
                <a:lnTo>
                  <a:pt x="2497" y="12987"/>
                </a:lnTo>
                <a:lnTo>
                  <a:pt x="2440" y="13017"/>
                </a:lnTo>
                <a:lnTo>
                  <a:pt x="2383" y="13078"/>
                </a:lnTo>
                <a:close/>
                <a:moveTo>
                  <a:pt x="19594" y="13154"/>
                </a:moveTo>
                <a:lnTo>
                  <a:pt x="19594" y="13154"/>
                </a:lnTo>
                <a:lnTo>
                  <a:pt x="19514" y="13078"/>
                </a:lnTo>
                <a:lnTo>
                  <a:pt x="19422" y="13017"/>
                </a:lnTo>
                <a:lnTo>
                  <a:pt x="19331" y="12987"/>
                </a:lnTo>
                <a:lnTo>
                  <a:pt x="19227" y="12956"/>
                </a:lnTo>
                <a:lnTo>
                  <a:pt x="19227" y="12956"/>
                </a:lnTo>
                <a:lnTo>
                  <a:pt x="19331" y="13398"/>
                </a:lnTo>
                <a:lnTo>
                  <a:pt x="19376" y="13535"/>
                </a:lnTo>
                <a:lnTo>
                  <a:pt x="19388" y="13581"/>
                </a:lnTo>
                <a:lnTo>
                  <a:pt x="19411" y="13596"/>
                </a:lnTo>
                <a:lnTo>
                  <a:pt x="19422" y="13596"/>
                </a:lnTo>
                <a:lnTo>
                  <a:pt x="19445" y="13596"/>
                </a:lnTo>
                <a:lnTo>
                  <a:pt x="19457" y="13581"/>
                </a:lnTo>
                <a:lnTo>
                  <a:pt x="19480" y="13520"/>
                </a:lnTo>
                <a:lnTo>
                  <a:pt x="19525" y="13368"/>
                </a:lnTo>
                <a:lnTo>
                  <a:pt x="19594" y="13154"/>
                </a:lnTo>
                <a:close/>
                <a:moveTo>
                  <a:pt x="5431" y="13505"/>
                </a:moveTo>
                <a:lnTo>
                  <a:pt x="5431" y="13505"/>
                </a:lnTo>
                <a:lnTo>
                  <a:pt x="5442" y="13368"/>
                </a:lnTo>
                <a:lnTo>
                  <a:pt x="5488" y="13292"/>
                </a:lnTo>
                <a:lnTo>
                  <a:pt x="5534" y="13139"/>
                </a:lnTo>
                <a:lnTo>
                  <a:pt x="5546" y="13078"/>
                </a:lnTo>
                <a:lnTo>
                  <a:pt x="5546" y="13063"/>
                </a:lnTo>
                <a:lnTo>
                  <a:pt x="5534" y="13032"/>
                </a:lnTo>
                <a:lnTo>
                  <a:pt x="5511" y="12971"/>
                </a:lnTo>
                <a:lnTo>
                  <a:pt x="5431" y="12880"/>
                </a:lnTo>
                <a:lnTo>
                  <a:pt x="5431" y="12880"/>
                </a:lnTo>
                <a:lnTo>
                  <a:pt x="5373" y="12971"/>
                </a:lnTo>
                <a:lnTo>
                  <a:pt x="5328" y="13078"/>
                </a:lnTo>
                <a:lnTo>
                  <a:pt x="5270" y="13246"/>
                </a:lnTo>
                <a:lnTo>
                  <a:pt x="5224" y="13383"/>
                </a:lnTo>
                <a:lnTo>
                  <a:pt x="5213" y="13444"/>
                </a:lnTo>
                <a:lnTo>
                  <a:pt x="5213" y="13505"/>
                </a:lnTo>
                <a:lnTo>
                  <a:pt x="5213" y="13551"/>
                </a:lnTo>
                <a:lnTo>
                  <a:pt x="5236" y="13581"/>
                </a:lnTo>
                <a:lnTo>
                  <a:pt x="5270" y="13596"/>
                </a:lnTo>
                <a:lnTo>
                  <a:pt x="5305" y="13581"/>
                </a:lnTo>
                <a:lnTo>
                  <a:pt x="5351" y="13551"/>
                </a:lnTo>
                <a:lnTo>
                  <a:pt x="5431" y="13505"/>
                </a:lnTo>
                <a:close/>
                <a:moveTo>
                  <a:pt x="6496" y="13566"/>
                </a:moveTo>
                <a:lnTo>
                  <a:pt x="6496" y="13566"/>
                </a:lnTo>
                <a:lnTo>
                  <a:pt x="6760" y="13017"/>
                </a:lnTo>
                <a:lnTo>
                  <a:pt x="6760" y="13017"/>
                </a:lnTo>
                <a:lnTo>
                  <a:pt x="6691" y="13032"/>
                </a:lnTo>
                <a:lnTo>
                  <a:pt x="6634" y="13048"/>
                </a:lnTo>
                <a:lnTo>
                  <a:pt x="6565" y="13078"/>
                </a:lnTo>
                <a:lnTo>
                  <a:pt x="6496" y="13093"/>
                </a:lnTo>
                <a:lnTo>
                  <a:pt x="6439" y="13154"/>
                </a:lnTo>
                <a:lnTo>
                  <a:pt x="6394" y="13185"/>
                </a:lnTo>
                <a:lnTo>
                  <a:pt x="6347" y="13246"/>
                </a:lnTo>
                <a:lnTo>
                  <a:pt x="6302" y="13292"/>
                </a:lnTo>
                <a:lnTo>
                  <a:pt x="6290" y="13337"/>
                </a:lnTo>
                <a:lnTo>
                  <a:pt x="6267" y="13383"/>
                </a:lnTo>
                <a:lnTo>
                  <a:pt x="6267" y="13429"/>
                </a:lnTo>
                <a:lnTo>
                  <a:pt x="6279" y="13474"/>
                </a:lnTo>
                <a:lnTo>
                  <a:pt x="6302" y="13520"/>
                </a:lnTo>
                <a:lnTo>
                  <a:pt x="6347" y="13535"/>
                </a:lnTo>
                <a:lnTo>
                  <a:pt x="6416" y="13566"/>
                </a:lnTo>
                <a:lnTo>
                  <a:pt x="6496" y="13566"/>
                </a:lnTo>
                <a:close/>
                <a:moveTo>
                  <a:pt x="1409" y="13353"/>
                </a:moveTo>
                <a:lnTo>
                  <a:pt x="1409" y="13353"/>
                </a:lnTo>
                <a:lnTo>
                  <a:pt x="1489" y="13413"/>
                </a:lnTo>
                <a:lnTo>
                  <a:pt x="1535" y="13429"/>
                </a:lnTo>
                <a:lnTo>
                  <a:pt x="1569" y="13429"/>
                </a:lnTo>
                <a:lnTo>
                  <a:pt x="1615" y="13429"/>
                </a:lnTo>
                <a:lnTo>
                  <a:pt x="1649" y="13413"/>
                </a:lnTo>
                <a:lnTo>
                  <a:pt x="1672" y="13383"/>
                </a:lnTo>
                <a:lnTo>
                  <a:pt x="1707" y="13353"/>
                </a:lnTo>
                <a:lnTo>
                  <a:pt x="1730" y="13337"/>
                </a:lnTo>
                <a:lnTo>
                  <a:pt x="1764" y="13276"/>
                </a:lnTo>
                <a:lnTo>
                  <a:pt x="1810" y="13154"/>
                </a:lnTo>
                <a:lnTo>
                  <a:pt x="1856" y="13002"/>
                </a:lnTo>
                <a:lnTo>
                  <a:pt x="1867" y="12819"/>
                </a:lnTo>
                <a:lnTo>
                  <a:pt x="1867" y="12819"/>
                </a:lnTo>
                <a:lnTo>
                  <a:pt x="1569" y="12819"/>
                </a:lnTo>
                <a:lnTo>
                  <a:pt x="1569" y="12819"/>
                </a:lnTo>
                <a:lnTo>
                  <a:pt x="1409" y="13353"/>
                </a:lnTo>
                <a:close/>
                <a:moveTo>
                  <a:pt x="1260" y="13429"/>
                </a:moveTo>
                <a:lnTo>
                  <a:pt x="1260" y="13429"/>
                </a:lnTo>
                <a:lnTo>
                  <a:pt x="1248" y="13337"/>
                </a:lnTo>
                <a:lnTo>
                  <a:pt x="1248" y="13261"/>
                </a:lnTo>
                <a:lnTo>
                  <a:pt x="1260" y="13170"/>
                </a:lnTo>
                <a:lnTo>
                  <a:pt x="1283" y="13093"/>
                </a:lnTo>
                <a:lnTo>
                  <a:pt x="1283" y="13032"/>
                </a:lnTo>
                <a:lnTo>
                  <a:pt x="1328" y="12956"/>
                </a:lnTo>
                <a:lnTo>
                  <a:pt x="1351" y="12880"/>
                </a:lnTo>
                <a:lnTo>
                  <a:pt x="1409" y="12819"/>
                </a:lnTo>
                <a:lnTo>
                  <a:pt x="1409" y="12819"/>
                </a:lnTo>
                <a:lnTo>
                  <a:pt x="1340" y="12819"/>
                </a:lnTo>
                <a:lnTo>
                  <a:pt x="1283" y="12834"/>
                </a:lnTo>
                <a:lnTo>
                  <a:pt x="1214" y="12865"/>
                </a:lnTo>
                <a:lnTo>
                  <a:pt x="1145" y="12911"/>
                </a:lnTo>
                <a:lnTo>
                  <a:pt x="1088" y="12956"/>
                </a:lnTo>
                <a:lnTo>
                  <a:pt x="1054" y="13017"/>
                </a:lnTo>
                <a:lnTo>
                  <a:pt x="1008" y="13078"/>
                </a:lnTo>
                <a:lnTo>
                  <a:pt x="985" y="13124"/>
                </a:lnTo>
                <a:lnTo>
                  <a:pt x="962" y="13170"/>
                </a:lnTo>
                <a:lnTo>
                  <a:pt x="950" y="13246"/>
                </a:lnTo>
                <a:lnTo>
                  <a:pt x="950" y="13292"/>
                </a:lnTo>
                <a:lnTo>
                  <a:pt x="985" y="13337"/>
                </a:lnTo>
                <a:lnTo>
                  <a:pt x="1019" y="13368"/>
                </a:lnTo>
                <a:lnTo>
                  <a:pt x="1077" y="13398"/>
                </a:lnTo>
                <a:lnTo>
                  <a:pt x="1145" y="13429"/>
                </a:lnTo>
                <a:lnTo>
                  <a:pt x="1260" y="13429"/>
                </a:lnTo>
                <a:close/>
                <a:moveTo>
                  <a:pt x="6921" y="13353"/>
                </a:moveTo>
                <a:lnTo>
                  <a:pt x="6921" y="13353"/>
                </a:lnTo>
                <a:lnTo>
                  <a:pt x="7024" y="13322"/>
                </a:lnTo>
                <a:lnTo>
                  <a:pt x="7070" y="13276"/>
                </a:lnTo>
                <a:lnTo>
                  <a:pt x="7104" y="13246"/>
                </a:lnTo>
                <a:lnTo>
                  <a:pt x="7115" y="13215"/>
                </a:lnTo>
                <a:lnTo>
                  <a:pt x="7115" y="13170"/>
                </a:lnTo>
                <a:lnTo>
                  <a:pt x="7127" y="13124"/>
                </a:lnTo>
                <a:lnTo>
                  <a:pt x="7150" y="13078"/>
                </a:lnTo>
                <a:lnTo>
                  <a:pt x="7230" y="13017"/>
                </a:lnTo>
                <a:lnTo>
                  <a:pt x="7230" y="13017"/>
                </a:lnTo>
                <a:lnTo>
                  <a:pt x="7150" y="13002"/>
                </a:lnTo>
                <a:lnTo>
                  <a:pt x="7092" y="12987"/>
                </a:lnTo>
                <a:lnTo>
                  <a:pt x="7046" y="12926"/>
                </a:lnTo>
                <a:lnTo>
                  <a:pt x="6966" y="12880"/>
                </a:lnTo>
                <a:lnTo>
                  <a:pt x="6966" y="12880"/>
                </a:lnTo>
                <a:lnTo>
                  <a:pt x="6921" y="13353"/>
                </a:lnTo>
                <a:close/>
                <a:moveTo>
                  <a:pt x="15778" y="13231"/>
                </a:moveTo>
                <a:lnTo>
                  <a:pt x="15778" y="13231"/>
                </a:lnTo>
                <a:lnTo>
                  <a:pt x="15847" y="13231"/>
                </a:lnTo>
                <a:lnTo>
                  <a:pt x="15893" y="13246"/>
                </a:lnTo>
                <a:lnTo>
                  <a:pt x="15985" y="13261"/>
                </a:lnTo>
                <a:lnTo>
                  <a:pt x="16019" y="13261"/>
                </a:lnTo>
                <a:lnTo>
                  <a:pt x="16065" y="13215"/>
                </a:lnTo>
                <a:lnTo>
                  <a:pt x="16099" y="13170"/>
                </a:lnTo>
                <a:lnTo>
                  <a:pt x="16134" y="13078"/>
                </a:lnTo>
                <a:lnTo>
                  <a:pt x="16134" y="13078"/>
                </a:lnTo>
                <a:lnTo>
                  <a:pt x="16088" y="13032"/>
                </a:lnTo>
                <a:lnTo>
                  <a:pt x="16042" y="12987"/>
                </a:lnTo>
                <a:lnTo>
                  <a:pt x="15996" y="12956"/>
                </a:lnTo>
                <a:lnTo>
                  <a:pt x="15950" y="12956"/>
                </a:lnTo>
                <a:lnTo>
                  <a:pt x="15950" y="12956"/>
                </a:lnTo>
                <a:lnTo>
                  <a:pt x="15939" y="12956"/>
                </a:lnTo>
                <a:lnTo>
                  <a:pt x="15904" y="12971"/>
                </a:lnTo>
                <a:lnTo>
                  <a:pt x="15870" y="13002"/>
                </a:lnTo>
                <a:lnTo>
                  <a:pt x="15858" y="13017"/>
                </a:lnTo>
                <a:lnTo>
                  <a:pt x="15813" y="13093"/>
                </a:lnTo>
                <a:lnTo>
                  <a:pt x="15778" y="13231"/>
                </a:lnTo>
                <a:close/>
                <a:moveTo>
                  <a:pt x="4182" y="13231"/>
                </a:moveTo>
                <a:lnTo>
                  <a:pt x="4182" y="13231"/>
                </a:lnTo>
                <a:lnTo>
                  <a:pt x="4228" y="13154"/>
                </a:lnTo>
                <a:lnTo>
                  <a:pt x="4274" y="13078"/>
                </a:lnTo>
                <a:lnTo>
                  <a:pt x="4296" y="13017"/>
                </a:lnTo>
                <a:lnTo>
                  <a:pt x="4319" y="12956"/>
                </a:lnTo>
                <a:lnTo>
                  <a:pt x="4331" y="12880"/>
                </a:lnTo>
                <a:lnTo>
                  <a:pt x="4342" y="12804"/>
                </a:lnTo>
                <a:lnTo>
                  <a:pt x="4354" y="12606"/>
                </a:lnTo>
                <a:lnTo>
                  <a:pt x="4354" y="12606"/>
                </a:lnTo>
                <a:lnTo>
                  <a:pt x="4296" y="12621"/>
                </a:lnTo>
                <a:lnTo>
                  <a:pt x="4262" y="12636"/>
                </a:lnTo>
                <a:lnTo>
                  <a:pt x="4216" y="12651"/>
                </a:lnTo>
                <a:lnTo>
                  <a:pt x="4205" y="12682"/>
                </a:lnTo>
                <a:lnTo>
                  <a:pt x="4182" y="12712"/>
                </a:lnTo>
                <a:lnTo>
                  <a:pt x="4170" y="12743"/>
                </a:lnTo>
                <a:lnTo>
                  <a:pt x="4147" y="12819"/>
                </a:lnTo>
                <a:lnTo>
                  <a:pt x="4147" y="12926"/>
                </a:lnTo>
                <a:lnTo>
                  <a:pt x="4147" y="13032"/>
                </a:lnTo>
                <a:lnTo>
                  <a:pt x="4170" y="13124"/>
                </a:lnTo>
                <a:lnTo>
                  <a:pt x="4182" y="13231"/>
                </a:lnTo>
                <a:close/>
                <a:moveTo>
                  <a:pt x="3517" y="13231"/>
                </a:moveTo>
                <a:lnTo>
                  <a:pt x="3517" y="13231"/>
                </a:lnTo>
                <a:lnTo>
                  <a:pt x="3666" y="12956"/>
                </a:lnTo>
                <a:lnTo>
                  <a:pt x="3666" y="12956"/>
                </a:lnTo>
                <a:lnTo>
                  <a:pt x="3620" y="12956"/>
                </a:lnTo>
                <a:lnTo>
                  <a:pt x="3586" y="12971"/>
                </a:lnTo>
                <a:lnTo>
                  <a:pt x="3563" y="13002"/>
                </a:lnTo>
                <a:lnTo>
                  <a:pt x="3540" y="13017"/>
                </a:lnTo>
                <a:lnTo>
                  <a:pt x="3529" y="13063"/>
                </a:lnTo>
                <a:lnTo>
                  <a:pt x="3529" y="13093"/>
                </a:lnTo>
                <a:lnTo>
                  <a:pt x="3517" y="13231"/>
                </a:lnTo>
                <a:close/>
                <a:moveTo>
                  <a:pt x="1924" y="13231"/>
                </a:moveTo>
                <a:lnTo>
                  <a:pt x="1924" y="13231"/>
                </a:lnTo>
                <a:lnTo>
                  <a:pt x="2062" y="13170"/>
                </a:lnTo>
                <a:lnTo>
                  <a:pt x="2119" y="13154"/>
                </a:lnTo>
                <a:lnTo>
                  <a:pt x="2176" y="13093"/>
                </a:lnTo>
                <a:lnTo>
                  <a:pt x="2234" y="13078"/>
                </a:lnTo>
                <a:lnTo>
                  <a:pt x="2280" y="13017"/>
                </a:lnTo>
                <a:lnTo>
                  <a:pt x="2337" y="12956"/>
                </a:lnTo>
                <a:lnTo>
                  <a:pt x="2383" y="12880"/>
                </a:lnTo>
                <a:lnTo>
                  <a:pt x="2383" y="12880"/>
                </a:lnTo>
                <a:lnTo>
                  <a:pt x="2303" y="12819"/>
                </a:lnTo>
                <a:lnTo>
                  <a:pt x="2245" y="12773"/>
                </a:lnTo>
                <a:lnTo>
                  <a:pt x="2188" y="12743"/>
                </a:lnTo>
                <a:lnTo>
                  <a:pt x="2142" y="12743"/>
                </a:lnTo>
                <a:lnTo>
                  <a:pt x="2142" y="12743"/>
                </a:lnTo>
                <a:lnTo>
                  <a:pt x="2096" y="12743"/>
                </a:lnTo>
                <a:lnTo>
                  <a:pt x="2062" y="12773"/>
                </a:lnTo>
                <a:lnTo>
                  <a:pt x="2027" y="12819"/>
                </a:lnTo>
                <a:lnTo>
                  <a:pt x="1993" y="12865"/>
                </a:lnTo>
                <a:lnTo>
                  <a:pt x="1982" y="12941"/>
                </a:lnTo>
                <a:lnTo>
                  <a:pt x="1959" y="13017"/>
                </a:lnTo>
                <a:lnTo>
                  <a:pt x="1924" y="13231"/>
                </a:lnTo>
                <a:close/>
                <a:moveTo>
                  <a:pt x="4950" y="13078"/>
                </a:moveTo>
                <a:lnTo>
                  <a:pt x="4950" y="13078"/>
                </a:lnTo>
                <a:lnTo>
                  <a:pt x="5018" y="12926"/>
                </a:lnTo>
                <a:lnTo>
                  <a:pt x="5041" y="12865"/>
                </a:lnTo>
                <a:lnTo>
                  <a:pt x="5053" y="12819"/>
                </a:lnTo>
                <a:lnTo>
                  <a:pt x="5053" y="12789"/>
                </a:lnTo>
                <a:lnTo>
                  <a:pt x="5041" y="12743"/>
                </a:lnTo>
                <a:lnTo>
                  <a:pt x="5007" y="12667"/>
                </a:lnTo>
                <a:lnTo>
                  <a:pt x="4950" y="12606"/>
                </a:lnTo>
                <a:lnTo>
                  <a:pt x="4950" y="12606"/>
                </a:lnTo>
                <a:lnTo>
                  <a:pt x="4915" y="12697"/>
                </a:lnTo>
                <a:lnTo>
                  <a:pt x="4858" y="12819"/>
                </a:lnTo>
                <a:lnTo>
                  <a:pt x="4801" y="12926"/>
                </a:lnTo>
                <a:lnTo>
                  <a:pt x="4766" y="13048"/>
                </a:lnTo>
                <a:lnTo>
                  <a:pt x="4755" y="13078"/>
                </a:lnTo>
                <a:lnTo>
                  <a:pt x="4755" y="13124"/>
                </a:lnTo>
                <a:lnTo>
                  <a:pt x="4755" y="13170"/>
                </a:lnTo>
                <a:lnTo>
                  <a:pt x="4778" y="13185"/>
                </a:lnTo>
                <a:lnTo>
                  <a:pt x="4801" y="13185"/>
                </a:lnTo>
                <a:lnTo>
                  <a:pt x="4846" y="13170"/>
                </a:lnTo>
                <a:lnTo>
                  <a:pt x="4892" y="13139"/>
                </a:lnTo>
                <a:lnTo>
                  <a:pt x="4950" y="13078"/>
                </a:lnTo>
                <a:close/>
                <a:moveTo>
                  <a:pt x="15469" y="13154"/>
                </a:moveTo>
                <a:lnTo>
                  <a:pt x="15469" y="13154"/>
                </a:lnTo>
                <a:lnTo>
                  <a:pt x="15538" y="13139"/>
                </a:lnTo>
                <a:lnTo>
                  <a:pt x="15583" y="13109"/>
                </a:lnTo>
                <a:lnTo>
                  <a:pt x="15664" y="13078"/>
                </a:lnTo>
                <a:lnTo>
                  <a:pt x="15721" y="13002"/>
                </a:lnTo>
                <a:lnTo>
                  <a:pt x="15755" y="12926"/>
                </a:lnTo>
                <a:lnTo>
                  <a:pt x="15801" y="12834"/>
                </a:lnTo>
                <a:lnTo>
                  <a:pt x="15813" y="12773"/>
                </a:lnTo>
                <a:lnTo>
                  <a:pt x="15824" y="12682"/>
                </a:lnTo>
                <a:lnTo>
                  <a:pt x="15824" y="12682"/>
                </a:lnTo>
                <a:lnTo>
                  <a:pt x="15572" y="12682"/>
                </a:lnTo>
                <a:lnTo>
                  <a:pt x="15572" y="12682"/>
                </a:lnTo>
                <a:lnTo>
                  <a:pt x="15492" y="12804"/>
                </a:lnTo>
                <a:lnTo>
                  <a:pt x="15457" y="12834"/>
                </a:lnTo>
                <a:lnTo>
                  <a:pt x="15446" y="12895"/>
                </a:lnTo>
                <a:lnTo>
                  <a:pt x="15446" y="12941"/>
                </a:lnTo>
                <a:lnTo>
                  <a:pt x="15446" y="13002"/>
                </a:lnTo>
                <a:lnTo>
                  <a:pt x="15446" y="13078"/>
                </a:lnTo>
                <a:lnTo>
                  <a:pt x="15469" y="13154"/>
                </a:lnTo>
                <a:close/>
                <a:moveTo>
                  <a:pt x="15114" y="13154"/>
                </a:moveTo>
                <a:lnTo>
                  <a:pt x="15114" y="13154"/>
                </a:lnTo>
                <a:lnTo>
                  <a:pt x="15114" y="12743"/>
                </a:lnTo>
                <a:lnTo>
                  <a:pt x="15114" y="12743"/>
                </a:lnTo>
                <a:lnTo>
                  <a:pt x="15056" y="12514"/>
                </a:lnTo>
                <a:lnTo>
                  <a:pt x="14999" y="12270"/>
                </a:lnTo>
                <a:lnTo>
                  <a:pt x="14930" y="12042"/>
                </a:lnTo>
                <a:lnTo>
                  <a:pt x="14839" y="11798"/>
                </a:lnTo>
                <a:lnTo>
                  <a:pt x="14793" y="11706"/>
                </a:lnTo>
                <a:lnTo>
                  <a:pt x="14735" y="11584"/>
                </a:lnTo>
                <a:lnTo>
                  <a:pt x="14678" y="11493"/>
                </a:lnTo>
                <a:lnTo>
                  <a:pt x="14610" y="11401"/>
                </a:lnTo>
                <a:lnTo>
                  <a:pt x="14541" y="11310"/>
                </a:lnTo>
                <a:lnTo>
                  <a:pt x="14461" y="11249"/>
                </a:lnTo>
                <a:lnTo>
                  <a:pt x="14380" y="11188"/>
                </a:lnTo>
                <a:lnTo>
                  <a:pt x="14289" y="11127"/>
                </a:lnTo>
                <a:lnTo>
                  <a:pt x="14289" y="11127"/>
                </a:lnTo>
                <a:lnTo>
                  <a:pt x="14300" y="11447"/>
                </a:lnTo>
                <a:lnTo>
                  <a:pt x="14323" y="11767"/>
                </a:lnTo>
                <a:lnTo>
                  <a:pt x="14346" y="11920"/>
                </a:lnTo>
                <a:lnTo>
                  <a:pt x="14369" y="12072"/>
                </a:lnTo>
                <a:lnTo>
                  <a:pt x="14392" y="12240"/>
                </a:lnTo>
                <a:lnTo>
                  <a:pt x="14426" y="12392"/>
                </a:lnTo>
                <a:lnTo>
                  <a:pt x="14472" y="12530"/>
                </a:lnTo>
                <a:lnTo>
                  <a:pt x="14518" y="12651"/>
                </a:lnTo>
                <a:lnTo>
                  <a:pt x="14586" y="12773"/>
                </a:lnTo>
                <a:lnTo>
                  <a:pt x="14655" y="12880"/>
                </a:lnTo>
                <a:lnTo>
                  <a:pt x="14759" y="12987"/>
                </a:lnTo>
                <a:lnTo>
                  <a:pt x="14861" y="13063"/>
                </a:lnTo>
                <a:lnTo>
                  <a:pt x="14976" y="13109"/>
                </a:lnTo>
                <a:lnTo>
                  <a:pt x="15114" y="13154"/>
                </a:lnTo>
                <a:close/>
                <a:moveTo>
                  <a:pt x="5935" y="13078"/>
                </a:moveTo>
                <a:lnTo>
                  <a:pt x="5935" y="13078"/>
                </a:lnTo>
                <a:lnTo>
                  <a:pt x="5958" y="13017"/>
                </a:lnTo>
                <a:lnTo>
                  <a:pt x="6004" y="12956"/>
                </a:lnTo>
                <a:lnTo>
                  <a:pt x="6084" y="12819"/>
                </a:lnTo>
                <a:lnTo>
                  <a:pt x="6130" y="12743"/>
                </a:lnTo>
                <a:lnTo>
                  <a:pt x="6153" y="12682"/>
                </a:lnTo>
                <a:lnTo>
                  <a:pt x="6187" y="12606"/>
                </a:lnTo>
                <a:lnTo>
                  <a:pt x="6199" y="12560"/>
                </a:lnTo>
                <a:lnTo>
                  <a:pt x="6199" y="12560"/>
                </a:lnTo>
                <a:lnTo>
                  <a:pt x="6118" y="12575"/>
                </a:lnTo>
                <a:lnTo>
                  <a:pt x="6061" y="12575"/>
                </a:lnTo>
                <a:lnTo>
                  <a:pt x="6004" y="12621"/>
                </a:lnTo>
                <a:lnTo>
                  <a:pt x="5935" y="12667"/>
                </a:lnTo>
                <a:lnTo>
                  <a:pt x="5901" y="12728"/>
                </a:lnTo>
                <a:lnTo>
                  <a:pt x="5866" y="12789"/>
                </a:lnTo>
                <a:lnTo>
                  <a:pt x="5832" y="12850"/>
                </a:lnTo>
                <a:lnTo>
                  <a:pt x="5798" y="12911"/>
                </a:lnTo>
                <a:lnTo>
                  <a:pt x="5786" y="12987"/>
                </a:lnTo>
                <a:lnTo>
                  <a:pt x="5786" y="13032"/>
                </a:lnTo>
                <a:lnTo>
                  <a:pt x="5786" y="13078"/>
                </a:lnTo>
                <a:lnTo>
                  <a:pt x="5798" y="13109"/>
                </a:lnTo>
                <a:lnTo>
                  <a:pt x="5820" y="13139"/>
                </a:lnTo>
                <a:lnTo>
                  <a:pt x="5855" y="13139"/>
                </a:lnTo>
                <a:lnTo>
                  <a:pt x="5889" y="13124"/>
                </a:lnTo>
                <a:lnTo>
                  <a:pt x="5935" y="13078"/>
                </a:lnTo>
                <a:close/>
                <a:moveTo>
                  <a:pt x="16959" y="8901"/>
                </a:moveTo>
                <a:lnTo>
                  <a:pt x="16959" y="8901"/>
                </a:lnTo>
                <a:lnTo>
                  <a:pt x="17050" y="9039"/>
                </a:lnTo>
                <a:lnTo>
                  <a:pt x="17153" y="9161"/>
                </a:lnTo>
                <a:lnTo>
                  <a:pt x="17256" y="9252"/>
                </a:lnTo>
                <a:lnTo>
                  <a:pt x="17371" y="9359"/>
                </a:lnTo>
                <a:lnTo>
                  <a:pt x="17612" y="9527"/>
                </a:lnTo>
                <a:lnTo>
                  <a:pt x="17726" y="9618"/>
                </a:lnTo>
                <a:lnTo>
                  <a:pt x="17841" y="9725"/>
                </a:lnTo>
                <a:lnTo>
                  <a:pt x="17841" y="9725"/>
                </a:lnTo>
                <a:lnTo>
                  <a:pt x="17807" y="9908"/>
                </a:lnTo>
                <a:lnTo>
                  <a:pt x="17772" y="10106"/>
                </a:lnTo>
                <a:lnTo>
                  <a:pt x="17726" y="10319"/>
                </a:lnTo>
                <a:lnTo>
                  <a:pt x="17703" y="10517"/>
                </a:lnTo>
                <a:lnTo>
                  <a:pt x="17680" y="10746"/>
                </a:lnTo>
                <a:lnTo>
                  <a:pt x="17692" y="10837"/>
                </a:lnTo>
                <a:lnTo>
                  <a:pt x="17703" y="10929"/>
                </a:lnTo>
                <a:lnTo>
                  <a:pt x="17715" y="11020"/>
                </a:lnTo>
                <a:lnTo>
                  <a:pt x="17738" y="11112"/>
                </a:lnTo>
                <a:lnTo>
                  <a:pt x="17784" y="11203"/>
                </a:lnTo>
                <a:lnTo>
                  <a:pt x="17829" y="11279"/>
                </a:lnTo>
                <a:lnTo>
                  <a:pt x="17829" y="11279"/>
                </a:lnTo>
                <a:lnTo>
                  <a:pt x="17875" y="11356"/>
                </a:lnTo>
                <a:lnTo>
                  <a:pt x="17921" y="11447"/>
                </a:lnTo>
                <a:lnTo>
                  <a:pt x="17956" y="11539"/>
                </a:lnTo>
                <a:lnTo>
                  <a:pt x="17990" y="11600"/>
                </a:lnTo>
                <a:lnTo>
                  <a:pt x="18001" y="11676"/>
                </a:lnTo>
                <a:lnTo>
                  <a:pt x="18013" y="11737"/>
                </a:lnTo>
                <a:lnTo>
                  <a:pt x="18013" y="11798"/>
                </a:lnTo>
                <a:lnTo>
                  <a:pt x="18001" y="11859"/>
                </a:lnTo>
                <a:lnTo>
                  <a:pt x="17978" y="11905"/>
                </a:lnTo>
                <a:lnTo>
                  <a:pt x="17944" y="11966"/>
                </a:lnTo>
                <a:lnTo>
                  <a:pt x="17887" y="12057"/>
                </a:lnTo>
                <a:lnTo>
                  <a:pt x="17818" y="12164"/>
                </a:lnTo>
                <a:lnTo>
                  <a:pt x="17726" y="12255"/>
                </a:lnTo>
                <a:lnTo>
                  <a:pt x="17520" y="12423"/>
                </a:lnTo>
                <a:lnTo>
                  <a:pt x="17417" y="12514"/>
                </a:lnTo>
                <a:lnTo>
                  <a:pt x="17302" y="12590"/>
                </a:lnTo>
                <a:lnTo>
                  <a:pt x="17233" y="12682"/>
                </a:lnTo>
                <a:lnTo>
                  <a:pt x="17153" y="12804"/>
                </a:lnTo>
                <a:lnTo>
                  <a:pt x="17119" y="12834"/>
                </a:lnTo>
                <a:lnTo>
                  <a:pt x="17096" y="12911"/>
                </a:lnTo>
                <a:lnTo>
                  <a:pt x="17084" y="12956"/>
                </a:lnTo>
                <a:lnTo>
                  <a:pt x="17073" y="13017"/>
                </a:lnTo>
                <a:lnTo>
                  <a:pt x="17073" y="13017"/>
                </a:lnTo>
                <a:lnTo>
                  <a:pt x="17302" y="13032"/>
                </a:lnTo>
                <a:lnTo>
                  <a:pt x="17566" y="13002"/>
                </a:lnTo>
                <a:lnTo>
                  <a:pt x="17818" y="12971"/>
                </a:lnTo>
                <a:lnTo>
                  <a:pt x="18070" y="12911"/>
                </a:lnTo>
                <a:lnTo>
                  <a:pt x="18311" y="12819"/>
                </a:lnTo>
                <a:lnTo>
                  <a:pt x="18448" y="12789"/>
                </a:lnTo>
                <a:lnTo>
                  <a:pt x="18563" y="12728"/>
                </a:lnTo>
                <a:lnTo>
                  <a:pt x="18666" y="12651"/>
                </a:lnTo>
                <a:lnTo>
                  <a:pt x="18792" y="12575"/>
                </a:lnTo>
                <a:lnTo>
                  <a:pt x="18895" y="12514"/>
                </a:lnTo>
                <a:lnTo>
                  <a:pt x="19010" y="12423"/>
                </a:lnTo>
                <a:lnTo>
                  <a:pt x="19010" y="12423"/>
                </a:lnTo>
                <a:lnTo>
                  <a:pt x="18987" y="12499"/>
                </a:lnTo>
                <a:lnTo>
                  <a:pt x="18975" y="12590"/>
                </a:lnTo>
                <a:lnTo>
                  <a:pt x="18998" y="12682"/>
                </a:lnTo>
                <a:lnTo>
                  <a:pt x="19010" y="12728"/>
                </a:lnTo>
                <a:lnTo>
                  <a:pt x="19021" y="12743"/>
                </a:lnTo>
                <a:lnTo>
                  <a:pt x="19021" y="12743"/>
                </a:lnTo>
                <a:lnTo>
                  <a:pt x="19113" y="12743"/>
                </a:lnTo>
                <a:lnTo>
                  <a:pt x="19216" y="12743"/>
                </a:lnTo>
                <a:lnTo>
                  <a:pt x="19296" y="12773"/>
                </a:lnTo>
                <a:lnTo>
                  <a:pt x="19388" y="12819"/>
                </a:lnTo>
                <a:lnTo>
                  <a:pt x="19388" y="12819"/>
                </a:lnTo>
                <a:lnTo>
                  <a:pt x="19296" y="12590"/>
                </a:lnTo>
                <a:lnTo>
                  <a:pt x="19239" y="12514"/>
                </a:lnTo>
                <a:lnTo>
                  <a:pt x="19216" y="12453"/>
                </a:lnTo>
                <a:lnTo>
                  <a:pt x="19170" y="12392"/>
                </a:lnTo>
                <a:lnTo>
                  <a:pt x="19147" y="12377"/>
                </a:lnTo>
                <a:lnTo>
                  <a:pt x="19101" y="12347"/>
                </a:lnTo>
                <a:lnTo>
                  <a:pt x="19078" y="12331"/>
                </a:lnTo>
                <a:lnTo>
                  <a:pt x="19078" y="12331"/>
                </a:lnTo>
                <a:lnTo>
                  <a:pt x="19204" y="12225"/>
                </a:lnTo>
                <a:lnTo>
                  <a:pt x="19308" y="12072"/>
                </a:lnTo>
                <a:lnTo>
                  <a:pt x="19411" y="11920"/>
                </a:lnTo>
                <a:lnTo>
                  <a:pt x="19491" y="11752"/>
                </a:lnTo>
                <a:lnTo>
                  <a:pt x="19571" y="11554"/>
                </a:lnTo>
                <a:lnTo>
                  <a:pt x="19617" y="11356"/>
                </a:lnTo>
                <a:lnTo>
                  <a:pt x="19663" y="11157"/>
                </a:lnTo>
                <a:lnTo>
                  <a:pt x="19697" y="10929"/>
                </a:lnTo>
                <a:lnTo>
                  <a:pt x="19697" y="10929"/>
                </a:lnTo>
                <a:lnTo>
                  <a:pt x="19525" y="10944"/>
                </a:lnTo>
                <a:lnTo>
                  <a:pt x="19342" y="10990"/>
                </a:lnTo>
                <a:lnTo>
                  <a:pt x="19136" y="11020"/>
                </a:lnTo>
                <a:lnTo>
                  <a:pt x="18918" y="11066"/>
                </a:lnTo>
                <a:lnTo>
                  <a:pt x="18815" y="11081"/>
                </a:lnTo>
                <a:lnTo>
                  <a:pt x="18712" y="11081"/>
                </a:lnTo>
                <a:lnTo>
                  <a:pt x="18620" y="11081"/>
                </a:lnTo>
                <a:lnTo>
                  <a:pt x="18528" y="11066"/>
                </a:lnTo>
                <a:lnTo>
                  <a:pt x="18448" y="11020"/>
                </a:lnTo>
                <a:lnTo>
                  <a:pt x="18379" y="11005"/>
                </a:lnTo>
                <a:lnTo>
                  <a:pt x="18299" y="10929"/>
                </a:lnTo>
                <a:lnTo>
                  <a:pt x="18254" y="10853"/>
                </a:lnTo>
                <a:lnTo>
                  <a:pt x="18254" y="10853"/>
                </a:lnTo>
                <a:lnTo>
                  <a:pt x="18242" y="10746"/>
                </a:lnTo>
                <a:lnTo>
                  <a:pt x="18219" y="10624"/>
                </a:lnTo>
                <a:lnTo>
                  <a:pt x="18219" y="10517"/>
                </a:lnTo>
                <a:lnTo>
                  <a:pt x="18219" y="10426"/>
                </a:lnTo>
                <a:lnTo>
                  <a:pt x="18230" y="10334"/>
                </a:lnTo>
                <a:lnTo>
                  <a:pt x="18242" y="10258"/>
                </a:lnTo>
                <a:lnTo>
                  <a:pt x="18254" y="10182"/>
                </a:lnTo>
                <a:lnTo>
                  <a:pt x="18288" y="10091"/>
                </a:lnTo>
                <a:lnTo>
                  <a:pt x="18368" y="9953"/>
                </a:lnTo>
                <a:lnTo>
                  <a:pt x="18448" y="9801"/>
                </a:lnTo>
                <a:lnTo>
                  <a:pt x="18551" y="9633"/>
                </a:lnTo>
                <a:lnTo>
                  <a:pt x="18654" y="9450"/>
                </a:lnTo>
                <a:lnTo>
                  <a:pt x="18654" y="9450"/>
                </a:lnTo>
                <a:lnTo>
                  <a:pt x="18620" y="9344"/>
                </a:lnTo>
                <a:lnTo>
                  <a:pt x="18574" y="9252"/>
                </a:lnTo>
                <a:lnTo>
                  <a:pt x="18540" y="9161"/>
                </a:lnTo>
                <a:lnTo>
                  <a:pt x="18517" y="9054"/>
                </a:lnTo>
                <a:lnTo>
                  <a:pt x="18483" y="8962"/>
                </a:lnTo>
                <a:lnTo>
                  <a:pt x="18459" y="8856"/>
                </a:lnTo>
                <a:lnTo>
                  <a:pt x="18448" y="8734"/>
                </a:lnTo>
                <a:lnTo>
                  <a:pt x="18448" y="8627"/>
                </a:lnTo>
                <a:lnTo>
                  <a:pt x="18448" y="8627"/>
                </a:lnTo>
                <a:lnTo>
                  <a:pt x="18368" y="8657"/>
                </a:lnTo>
                <a:lnTo>
                  <a:pt x="18276" y="8688"/>
                </a:lnTo>
                <a:lnTo>
                  <a:pt x="18207" y="8703"/>
                </a:lnTo>
                <a:lnTo>
                  <a:pt x="18150" y="8764"/>
                </a:lnTo>
                <a:lnTo>
                  <a:pt x="18093" y="8795"/>
                </a:lnTo>
                <a:lnTo>
                  <a:pt x="18058" y="8856"/>
                </a:lnTo>
                <a:lnTo>
                  <a:pt x="18001" y="8962"/>
                </a:lnTo>
                <a:lnTo>
                  <a:pt x="17956" y="8978"/>
                </a:lnTo>
                <a:lnTo>
                  <a:pt x="17921" y="9023"/>
                </a:lnTo>
                <a:lnTo>
                  <a:pt x="17875" y="9039"/>
                </a:lnTo>
                <a:lnTo>
                  <a:pt x="17829" y="9054"/>
                </a:lnTo>
                <a:lnTo>
                  <a:pt x="17772" y="9054"/>
                </a:lnTo>
                <a:lnTo>
                  <a:pt x="17692" y="9039"/>
                </a:lnTo>
                <a:lnTo>
                  <a:pt x="17600" y="8993"/>
                </a:lnTo>
                <a:lnTo>
                  <a:pt x="17497" y="8947"/>
                </a:lnTo>
                <a:lnTo>
                  <a:pt x="17497" y="8947"/>
                </a:lnTo>
                <a:lnTo>
                  <a:pt x="17440" y="8871"/>
                </a:lnTo>
                <a:lnTo>
                  <a:pt x="17360" y="8825"/>
                </a:lnTo>
                <a:lnTo>
                  <a:pt x="17291" y="8795"/>
                </a:lnTo>
                <a:lnTo>
                  <a:pt x="17222" y="8779"/>
                </a:lnTo>
                <a:lnTo>
                  <a:pt x="17222" y="8779"/>
                </a:lnTo>
                <a:lnTo>
                  <a:pt x="17153" y="8779"/>
                </a:lnTo>
                <a:lnTo>
                  <a:pt x="17096" y="8810"/>
                </a:lnTo>
                <a:lnTo>
                  <a:pt x="17027" y="8856"/>
                </a:lnTo>
                <a:lnTo>
                  <a:pt x="16959" y="8901"/>
                </a:lnTo>
                <a:close/>
                <a:moveTo>
                  <a:pt x="19697" y="13017"/>
                </a:moveTo>
                <a:lnTo>
                  <a:pt x="19697" y="13017"/>
                </a:lnTo>
                <a:lnTo>
                  <a:pt x="19754" y="12804"/>
                </a:lnTo>
                <a:lnTo>
                  <a:pt x="19778" y="12697"/>
                </a:lnTo>
                <a:lnTo>
                  <a:pt x="19789" y="12606"/>
                </a:lnTo>
                <a:lnTo>
                  <a:pt x="19789" y="12530"/>
                </a:lnTo>
                <a:lnTo>
                  <a:pt x="19789" y="12453"/>
                </a:lnTo>
                <a:lnTo>
                  <a:pt x="19778" y="12377"/>
                </a:lnTo>
                <a:lnTo>
                  <a:pt x="19754" y="12316"/>
                </a:lnTo>
                <a:lnTo>
                  <a:pt x="19731" y="12255"/>
                </a:lnTo>
                <a:lnTo>
                  <a:pt x="19686" y="12209"/>
                </a:lnTo>
                <a:lnTo>
                  <a:pt x="19651" y="12164"/>
                </a:lnTo>
                <a:lnTo>
                  <a:pt x="19605" y="12133"/>
                </a:lnTo>
                <a:lnTo>
                  <a:pt x="19548" y="12103"/>
                </a:lnTo>
                <a:lnTo>
                  <a:pt x="19480" y="12088"/>
                </a:lnTo>
                <a:lnTo>
                  <a:pt x="19411" y="12072"/>
                </a:lnTo>
                <a:lnTo>
                  <a:pt x="19331" y="12072"/>
                </a:lnTo>
                <a:lnTo>
                  <a:pt x="19331" y="12072"/>
                </a:lnTo>
                <a:lnTo>
                  <a:pt x="19697" y="13017"/>
                </a:lnTo>
                <a:close/>
                <a:moveTo>
                  <a:pt x="18803" y="12850"/>
                </a:moveTo>
                <a:lnTo>
                  <a:pt x="18803" y="12850"/>
                </a:lnTo>
                <a:close/>
                <a:moveTo>
                  <a:pt x="16603" y="12880"/>
                </a:moveTo>
                <a:lnTo>
                  <a:pt x="16603" y="12880"/>
                </a:lnTo>
                <a:lnTo>
                  <a:pt x="16661" y="12880"/>
                </a:lnTo>
                <a:lnTo>
                  <a:pt x="16695" y="12865"/>
                </a:lnTo>
                <a:lnTo>
                  <a:pt x="16729" y="12834"/>
                </a:lnTo>
                <a:lnTo>
                  <a:pt x="16741" y="12819"/>
                </a:lnTo>
                <a:lnTo>
                  <a:pt x="16764" y="12789"/>
                </a:lnTo>
                <a:lnTo>
                  <a:pt x="16775" y="12743"/>
                </a:lnTo>
                <a:lnTo>
                  <a:pt x="16810" y="12606"/>
                </a:lnTo>
                <a:lnTo>
                  <a:pt x="16810" y="12606"/>
                </a:lnTo>
                <a:lnTo>
                  <a:pt x="16729" y="12575"/>
                </a:lnTo>
                <a:lnTo>
                  <a:pt x="16706" y="12560"/>
                </a:lnTo>
                <a:lnTo>
                  <a:pt x="16672" y="12560"/>
                </a:lnTo>
                <a:lnTo>
                  <a:pt x="16672" y="12560"/>
                </a:lnTo>
                <a:lnTo>
                  <a:pt x="16661" y="12560"/>
                </a:lnTo>
                <a:lnTo>
                  <a:pt x="16626" y="12575"/>
                </a:lnTo>
                <a:lnTo>
                  <a:pt x="16615" y="12590"/>
                </a:lnTo>
                <a:lnTo>
                  <a:pt x="16592" y="12636"/>
                </a:lnTo>
                <a:lnTo>
                  <a:pt x="16592" y="12743"/>
                </a:lnTo>
                <a:lnTo>
                  <a:pt x="16603" y="12880"/>
                </a:lnTo>
                <a:close/>
                <a:moveTo>
                  <a:pt x="12020" y="12880"/>
                </a:moveTo>
                <a:lnTo>
                  <a:pt x="12020" y="12880"/>
                </a:lnTo>
                <a:lnTo>
                  <a:pt x="11871" y="12682"/>
                </a:lnTo>
                <a:lnTo>
                  <a:pt x="11871" y="12682"/>
                </a:lnTo>
                <a:lnTo>
                  <a:pt x="11928" y="12804"/>
                </a:lnTo>
                <a:lnTo>
                  <a:pt x="11951" y="12819"/>
                </a:lnTo>
                <a:lnTo>
                  <a:pt x="12020" y="12880"/>
                </a:lnTo>
                <a:close/>
                <a:moveTo>
                  <a:pt x="6302" y="12880"/>
                </a:moveTo>
                <a:lnTo>
                  <a:pt x="6302" y="12880"/>
                </a:lnTo>
                <a:lnTo>
                  <a:pt x="6428" y="12850"/>
                </a:lnTo>
                <a:lnTo>
                  <a:pt x="6485" y="12834"/>
                </a:lnTo>
                <a:lnTo>
                  <a:pt x="6519" y="12819"/>
                </a:lnTo>
                <a:lnTo>
                  <a:pt x="6565" y="12819"/>
                </a:lnTo>
                <a:lnTo>
                  <a:pt x="6588" y="12758"/>
                </a:lnTo>
                <a:lnTo>
                  <a:pt x="6600" y="12697"/>
                </a:lnTo>
                <a:lnTo>
                  <a:pt x="6611" y="12606"/>
                </a:lnTo>
                <a:lnTo>
                  <a:pt x="6611" y="12606"/>
                </a:lnTo>
                <a:lnTo>
                  <a:pt x="6508" y="12575"/>
                </a:lnTo>
                <a:lnTo>
                  <a:pt x="6485" y="12560"/>
                </a:lnTo>
                <a:lnTo>
                  <a:pt x="6451" y="12545"/>
                </a:lnTo>
                <a:lnTo>
                  <a:pt x="6451" y="12545"/>
                </a:lnTo>
                <a:lnTo>
                  <a:pt x="6416" y="12560"/>
                </a:lnTo>
                <a:lnTo>
                  <a:pt x="6382" y="12575"/>
                </a:lnTo>
                <a:lnTo>
                  <a:pt x="6359" y="12575"/>
                </a:lnTo>
                <a:lnTo>
                  <a:pt x="6336" y="12621"/>
                </a:lnTo>
                <a:lnTo>
                  <a:pt x="6313" y="12667"/>
                </a:lnTo>
                <a:lnTo>
                  <a:pt x="6302" y="12743"/>
                </a:lnTo>
                <a:lnTo>
                  <a:pt x="6302" y="12880"/>
                </a:lnTo>
                <a:close/>
                <a:moveTo>
                  <a:pt x="6302" y="11127"/>
                </a:moveTo>
                <a:lnTo>
                  <a:pt x="6302" y="11127"/>
                </a:lnTo>
                <a:lnTo>
                  <a:pt x="6416" y="11203"/>
                </a:lnTo>
                <a:lnTo>
                  <a:pt x="6508" y="11279"/>
                </a:lnTo>
                <a:lnTo>
                  <a:pt x="6600" y="11401"/>
                </a:lnTo>
                <a:lnTo>
                  <a:pt x="6680" y="11523"/>
                </a:lnTo>
                <a:lnTo>
                  <a:pt x="6760" y="11630"/>
                </a:lnTo>
                <a:lnTo>
                  <a:pt x="6840" y="11767"/>
                </a:lnTo>
                <a:lnTo>
                  <a:pt x="6966" y="12027"/>
                </a:lnTo>
                <a:lnTo>
                  <a:pt x="7104" y="12286"/>
                </a:lnTo>
                <a:lnTo>
                  <a:pt x="7184" y="12392"/>
                </a:lnTo>
                <a:lnTo>
                  <a:pt x="7264" y="12514"/>
                </a:lnTo>
                <a:lnTo>
                  <a:pt x="7356" y="12606"/>
                </a:lnTo>
                <a:lnTo>
                  <a:pt x="7459" y="12697"/>
                </a:lnTo>
                <a:lnTo>
                  <a:pt x="7574" y="12773"/>
                </a:lnTo>
                <a:lnTo>
                  <a:pt x="7688" y="12819"/>
                </a:lnTo>
                <a:lnTo>
                  <a:pt x="7688" y="12819"/>
                </a:lnTo>
                <a:lnTo>
                  <a:pt x="7677" y="12651"/>
                </a:lnTo>
                <a:lnTo>
                  <a:pt x="7654" y="12499"/>
                </a:lnTo>
                <a:lnTo>
                  <a:pt x="7642" y="12392"/>
                </a:lnTo>
                <a:lnTo>
                  <a:pt x="7597" y="12301"/>
                </a:lnTo>
                <a:lnTo>
                  <a:pt x="7551" y="12225"/>
                </a:lnTo>
                <a:lnTo>
                  <a:pt x="7505" y="12164"/>
                </a:lnTo>
                <a:lnTo>
                  <a:pt x="7436" y="12088"/>
                </a:lnTo>
                <a:lnTo>
                  <a:pt x="7413" y="12057"/>
                </a:lnTo>
                <a:lnTo>
                  <a:pt x="7390" y="12057"/>
                </a:lnTo>
                <a:lnTo>
                  <a:pt x="7402" y="12042"/>
                </a:lnTo>
                <a:lnTo>
                  <a:pt x="7425" y="12011"/>
                </a:lnTo>
                <a:lnTo>
                  <a:pt x="7516" y="11935"/>
                </a:lnTo>
                <a:lnTo>
                  <a:pt x="7746" y="11798"/>
                </a:lnTo>
                <a:lnTo>
                  <a:pt x="7746" y="11798"/>
                </a:lnTo>
                <a:lnTo>
                  <a:pt x="7746" y="12286"/>
                </a:lnTo>
                <a:lnTo>
                  <a:pt x="7746" y="12286"/>
                </a:lnTo>
                <a:lnTo>
                  <a:pt x="7860" y="12316"/>
                </a:lnTo>
                <a:lnTo>
                  <a:pt x="7975" y="12331"/>
                </a:lnTo>
                <a:lnTo>
                  <a:pt x="8055" y="12347"/>
                </a:lnTo>
                <a:lnTo>
                  <a:pt x="8135" y="12331"/>
                </a:lnTo>
                <a:lnTo>
                  <a:pt x="8181" y="12316"/>
                </a:lnTo>
                <a:lnTo>
                  <a:pt x="8227" y="12286"/>
                </a:lnTo>
                <a:lnTo>
                  <a:pt x="8227" y="12225"/>
                </a:lnTo>
                <a:lnTo>
                  <a:pt x="8238" y="12164"/>
                </a:lnTo>
                <a:lnTo>
                  <a:pt x="8238" y="12088"/>
                </a:lnTo>
                <a:lnTo>
                  <a:pt x="8227" y="12011"/>
                </a:lnTo>
                <a:lnTo>
                  <a:pt x="8204" y="11920"/>
                </a:lnTo>
                <a:lnTo>
                  <a:pt x="8169" y="11813"/>
                </a:lnTo>
                <a:lnTo>
                  <a:pt x="8067" y="11615"/>
                </a:lnTo>
                <a:lnTo>
                  <a:pt x="7952" y="11371"/>
                </a:lnTo>
                <a:lnTo>
                  <a:pt x="7814" y="11127"/>
                </a:lnTo>
                <a:lnTo>
                  <a:pt x="7654" y="10883"/>
                </a:lnTo>
                <a:lnTo>
                  <a:pt x="7379" y="10426"/>
                </a:lnTo>
                <a:lnTo>
                  <a:pt x="7264" y="10243"/>
                </a:lnTo>
                <a:lnTo>
                  <a:pt x="7150" y="10060"/>
                </a:lnTo>
                <a:lnTo>
                  <a:pt x="7081" y="9923"/>
                </a:lnTo>
                <a:lnTo>
                  <a:pt x="7070" y="9877"/>
                </a:lnTo>
                <a:lnTo>
                  <a:pt x="7070" y="9831"/>
                </a:lnTo>
                <a:lnTo>
                  <a:pt x="7070" y="9831"/>
                </a:lnTo>
                <a:lnTo>
                  <a:pt x="7070" y="9725"/>
                </a:lnTo>
                <a:lnTo>
                  <a:pt x="7046" y="9649"/>
                </a:lnTo>
                <a:lnTo>
                  <a:pt x="7024" y="9588"/>
                </a:lnTo>
                <a:lnTo>
                  <a:pt x="7001" y="9572"/>
                </a:lnTo>
                <a:lnTo>
                  <a:pt x="7001" y="9557"/>
                </a:lnTo>
                <a:lnTo>
                  <a:pt x="7001" y="9557"/>
                </a:lnTo>
                <a:lnTo>
                  <a:pt x="6978" y="9572"/>
                </a:lnTo>
                <a:lnTo>
                  <a:pt x="6955" y="9588"/>
                </a:lnTo>
                <a:lnTo>
                  <a:pt x="6909" y="9649"/>
                </a:lnTo>
                <a:lnTo>
                  <a:pt x="6863" y="9725"/>
                </a:lnTo>
                <a:lnTo>
                  <a:pt x="6806" y="9816"/>
                </a:lnTo>
                <a:lnTo>
                  <a:pt x="6691" y="10060"/>
                </a:lnTo>
                <a:lnTo>
                  <a:pt x="6577" y="10334"/>
                </a:lnTo>
                <a:lnTo>
                  <a:pt x="6474" y="10624"/>
                </a:lnTo>
                <a:lnTo>
                  <a:pt x="6382" y="10883"/>
                </a:lnTo>
                <a:lnTo>
                  <a:pt x="6302" y="11127"/>
                </a:lnTo>
                <a:close/>
                <a:moveTo>
                  <a:pt x="4560" y="12819"/>
                </a:moveTo>
                <a:lnTo>
                  <a:pt x="4560" y="12819"/>
                </a:lnTo>
                <a:lnTo>
                  <a:pt x="4709" y="12606"/>
                </a:lnTo>
                <a:lnTo>
                  <a:pt x="4709" y="12606"/>
                </a:lnTo>
                <a:lnTo>
                  <a:pt x="5064" y="12484"/>
                </a:lnTo>
                <a:lnTo>
                  <a:pt x="5064" y="12484"/>
                </a:lnTo>
                <a:lnTo>
                  <a:pt x="4995" y="12423"/>
                </a:lnTo>
                <a:lnTo>
                  <a:pt x="4927" y="12392"/>
                </a:lnTo>
                <a:lnTo>
                  <a:pt x="4846" y="12362"/>
                </a:lnTo>
                <a:lnTo>
                  <a:pt x="4778" y="12347"/>
                </a:lnTo>
                <a:lnTo>
                  <a:pt x="4778" y="12347"/>
                </a:lnTo>
                <a:lnTo>
                  <a:pt x="4721" y="12362"/>
                </a:lnTo>
                <a:lnTo>
                  <a:pt x="4663" y="12392"/>
                </a:lnTo>
                <a:lnTo>
                  <a:pt x="4617" y="12423"/>
                </a:lnTo>
                <a:lnTo>
                  <a:pt x="4572" y="12484"/>
                </a:lnTo>
                <a:lnTo>
                  <a:pt x="4560" y="12545"/>
                </a:lnTo>
                <a:lnTo>
                  <a:pt x="4537" y="12606"/>
                </a:lnTo>
                <a:lnTo>
                  <a:pt x="4537" y="12712"/>
                </a:lnTo>
                <a:lnTo>
                  <a:pt x="4560" y="12819"/>
                </a:lnTo>
                <a:close/>
                <a:moveTo>
                  <a:pt x="847" y="12682"/>
                </a:moveTo>
                <a:lnTo>
                  <a:pt x="847" y="12682"/>
                </a:lnTo>
                <a:lnTo>
                  <a:pt x="847" y="12286"/>
                </a:lnTo>
                <a:lnTo>
                  <a:pt x="847" y="12286"/>
                </a:lnTo>
                <a:lnTo>
                  <a:pt x="813" y="12331"/>
                </a:lnTo>
                <a:lnTo>
                  <a:pt x="779" y="12392"/>
                </a:lnTo>
                <a:lnTo>
                  <a:pt x="767" y="12469"/>
                </a:lnTo>
                <a:lnTo>
                  <a:pt x="756" y="12530"/>
                </a:lnTo>
                <a:lnTo>
                  <a:pt x="756" y="12636"/>
                </a:lnTo>
                <a:lnTo>
                  <a:pt x="767" y="12743"/>
                </a:lnTo>
                <a:lnTo>
                  <a:pt x="790" y="12804"/>
                </a:lnTo>
                <a:lnTo>
                  <a:pt x="801" y="12819"/>
                </a:lnTo>
                <a:lnTo>
                  <a:pt x="813" y="12819"/>
                </a:lnTo>
                <a:lnTo>
                  <a:pt x="824" y="12819"/>
                </a:lnTo>
                <a:lnTo>
                  <a:pt x="836" y="12789"/>
                </a:lnTo>
                <a:lnTo>
                  <a:pt x="847" y="12682"/>
                </a:lnTo>
                <a:close/>
                <a:moveTo>
                  <a:pt x="5328" y="12743"/>
                </a:moveTo>
                <a:lnTo>
                  <a:pt x="5328" y="12743"/>
                </a:lnTo>
                <a:lnTo>
                  <a:pt x="5442" y="12743"/>
                </a:lnTo>
                <a:lnTo>
                  <a:pt x="5557" y="12743"/>
                </a:lnTo>
                <a:lnTo>
                  <a:pt x="5649" y="12712"/>
                </a:lnTo>
                <a:lnTo>
                  <a:pt x="5717" y="12651"/>
                </a:lnTo>
                <a:lnTo>
                  <a:pt x="5775" y="12606"/>
                </a:lnTo>
                <a:lnTo>
                  <a:pt x="5809" y="12545"/>
                </a:lnTo>
                <a:lnTo>
                  <a:pt x="5832" y="12453"/>
                </a:lnTo>
                <a:lnTo>
                  <a:pt x="5843" y="12347"/>
                </a:lnTo>
                <a:lnTo>
                  <a:pt x="5843" y="12347"/>
                </a:lnTo>
                <a:lnTo>
                  <a:pt x="5752" y="12362"/>
                </a:lnTo>
                <a:lnTo>
                  <a:pt x="5649" y="12408"/>
                </a:lnTo>
                <a:lnTo>
                  <a:pt x="5534" y="12484"/>
                </a:lnTo>
                <a:lnTo>
                  <a:pt x="5431" y="12560"/>
                </a:lnTo>
                <a:lnTo>
                  <a:pt x="5351" y="12621"/>
                </a:lnTo>
                <a:lnTo>
                  <a:pt x="5293" y="12682"/>
                </a:lnTo>
                <a:lnTo>
                  <a:pt x="5282" y="12712"/>
                </a:lnTo>
                <a:lnTo>
                  <a:pt x="5282" y="12743"/>
                </a:lnTo>
                <a:lnTo>
                  <a:pt x="5293" y="12743"/>
                </a:lnTo>
                <a:lnTo>
                  <a:pt x="5328" y="12743"/>
                </a:lnTo>
                <a:close/>
                <a:moveTo>
                  <a:pt x="996" y="12743"/>
                </a:moveTo>
                <a:lnTo>
                  <a:pt x="996" y="12743"/>
                </a:lnTo>
                <a:lnTo>
                  <a:pt x="1180" y="12606"/>
                </a:lnTo>
                <a:lnTo>
                  <a:pt x="1317" y="12499"/>
                </a:lnTo>
                <a:lnTo>
                  <a:pt x="1432" y="12392"/>
                </a:lnTo>
                <a:lnTo>
                  <a:pt x="1489" y="12316"/>
                </a:lnTo>
                <a:lnTo>
                  <a:pt x="1500" y="12301"/>
                </a:lnTo>
                <a:lnTo>
                  <a:pt x="1512" y="12270"/>
                </a:lnTo>
                <a:lnTo>
                  <a:pt x="1512" y="12240"/>
                </a:lnTo>
                <a:lnTo>
                  <a:pt x="1489" y="12225"/>
                </a:lnTo>
                <a:lnTo>
                  <a:pt x="1477" y="12225"/>
                </a:lnTo>
                <a:lnTo>
                  <a:pt x="1455" y="12209"/>
                </a:lnTo>
                <a:lnTo>
                  <a:pt x="1351" y="12225"/>
                </a:lnTo>
                <a:lnTo>
                  <a:pt x="1351" y="12225"/>
                </a:lnTo>
                <a:lnTo>
                  <a:pt x="1248" y="12149"/>
                </a:lnTo>
                <a:lnTo>
                  <a:pt x="1203" y="12133"/>
                </a:lnTo>
                <a:lnTo>
                  <a:pt x="1145" y="12133"/>
                </a:lnTo>
                <a:lnTo>
                  <a:pt x="1145" y="12133"/>
                </a:lnTo>
                <a:lnTo>
                  <a:pt x="1088" y="12133"/>
                </a:lnTo>
                <a:lnTo>
                  <a:pt x="1065" y="12164"/>
                </a:lnTo>
                <a:lnTo>
                  <a:pt x="1019" y="12225"/>
                </a:lnTo>
                <a:lnTo>
                  <a:pt x="996" y="12301"/>
                </a:lnTo>
                <a:lnTo>
                  <a:pt x="985" y="12377"/>
                </a:lnTo>
                <a:lnTo>
                  <a:pt x="973" y="12484"/>
                </a:lnTo>
                <a:lnTo>
                  <a:pt x="985" y="12606"/>
                </a:lnTo>
                <a:lnTo>
                  <a:pt x="996" y="12743"/>
                </a:lnTo>
                <a:close/>
                <a:moveTo>
                  <a:pt x="3700" y="12728"/>
                </a:moveTo>
                <a:lnTo>
                  <a:pt x="3700" y="12728"/>
                </a:lnTo>
                <a:lnTo>
                  <a:pt x="5431" y="12072"/>
                </a:lnTo>
                <a:lnTo>
                  <a:pt x="5431" y="12072"/>
                </a:lnTo>
                <a:lnTo>
                  <a:pt x="5282" y="12057"/>
                </a:lnTo>
                <a:lnTo>
                  <a:pt x="5282" y="12057"/>
                </a:lnTo>
                <a:lnTo>
                  <a:pt x="5179" y="12057"/>
                </a:lnTo>
                <a:lnTo>
                  <a:pt x="5076" y="12072"/>
                </a:lnTo>
                <a:lnTo>
                  <a:pt x="4881" y="12133"/>
                </a:lnTo>
                <a:lnTo>
                  <a:pt x="4674" y="12209"/>
                </a:lnTo>
                <a:lnTo>
                  <a:pt x="4457" y="12316"/>
                </a:lnTo>
                <a:lnTo>
                  <a:pt x="4262" y="12408"/>
                </a:lnTo>
                <a:lnTo>
                  <a:pt x="4056" y="12530"/>
                </a:lnTo>
                <a:lnTo>
                  <a:pt x="3700" y="12728"/>
                </a:lnTo>
                <a:close/>
                <a:moveTo>
                  <a:pt x="1500" y="12606"/>
                </a:moveTo>
                <a:lnTo>
                  <a:pt x="1500" y="12606"/>
                </a:lnTo>
                <a:lnTo>
                  <a:pt x="1695" y="12651"/>
                </a:lnTo>
                <a:lnTo>
                  <a:pt x="1856" y="12667"/>
                </a:lnTo>
                <a:lnTo>
                  <a:pt x="1970" y="12667"/>
                </a:lnTo>
                <a:lnTo>
                  <a:pt x="2051" y="12651"/>
                </a:lnTo>
                <a:lnTo>
                  <a:pt x="2062" y="12651"/>
                </a:lnTo>
                <a:lnTo>
                  <a:pt x="2073" y="12621"/>
                </a:lnTo>
                <a:lnTo>
                  <a:pt x="2085" y="12590"/>
                </a:lnTo>
                <a:lnTo>
                  <a:pt x="2073" y="12575"/>
                </a:lnTo>
                <a:lnTo>
                  <a:pt x="2062" y="12545"/>
                </a:lnTo>
                <a:lnTo>
                  <a:pt x="2051" y="12499"/>
                </a:lnTo>
                <a:lnTo>
                  <a:pt x="1970" y="12408"/>
                </a:lnTo>
                <a:lnTo>
                  <a:pt x="1970" y="12408"/>
                </a:lnTo>
                <a:lnTo>
                  <a:pt x="1913" y="12316"/>
                </a:lnTo>
                <a:lnTo>
                  <a:pt x="1856" y="12225"/>
                </a:lnTo>
                <a:lnTo>
                  <a:pt x="1810" y="12179"/>
                </a:lnTo>
                <a:lnTo>
                  <a:pt x="1775" y="12164"/>
                </a:lnTo>
                <a:lnTo>
                  <a:pt x="1775" y="12164"/>
                </a:lnTo>
                <a:lnTo>
                  <a:pt x="1730" y="12179"/>
                </a:lnTo>
                <a:lnTo>
                  <a:pt x="1707" y="12209"/>
                </a:lnTo>
                <a:lnTo>
                  <a:pt x="1672" y="12240"/>
                </a:lnTo>
                <a:lnTo>
                  <a:pt x="1649" y="12301"/>
                </a:lnTo>
                <a:lnTo>
                  <a:pt x="1581" y="12438"/>
                </a:lnTo>
                <a:lnTo>
                  <a:pt x="1500" y="12606"/>
                </a:lnTo>
                <a:close/>
                <a:moveTo>
                  <a:pt x="3219" y="12560"/>
                </a:moveTo>
                <a:lnTo>
                  <a:pt x="3219" y="12560"/>
                </a:lnTo>
                <a:lnTo>
                  <a:pt x="3219" y="12453"/>
                </a:lnTo>
                <a:lnTo>
                  <a:pt x="3219" y="12362"/>
                </a:lnTo>
                <a:lnTo>
                  <a:pt x="3254" y="12301"/>
                </a:lnTo>
                <a:lnTo>
                  <a:pt x="3288" y="12225"/>
                </a:lnTo>
                <a:lnTo>
                  <a:pt x="3345" y="12179"/>
                </a:lnTo>
                <a:lnTo>
                  <a:pt x="3403" y="12133"/>
                </a:lnTo>
                <a:lnTo>
                  <a:pt x="3448" y="12103"/>
                </a:lnTo>
                <a:lnTo>
                  <a:pt x="3529" y="12057"/>
                </a:lnTo>
                <a:lnTo>
                  <a:pt x="3666" y="12042"/>
                </a:lnTo>
                <a:lnTo>
                  <a:pt x="3827" y="12011"/>
                </a:lnTo>
                <a:lnTo>
                  <a:pt x="3987" y="11981"/>
                </a:lnTo>
                <a:lnTo>
                  <a:pt x="4147" y="11950"/>
                </a:lnTo>
                <a:lnTo>
                  <a:pt x="4147" y="11950"/>
                </a:lnTo>
                <a:lnTo>
                  <a:pt x="4136" y="11859"/>
                </a:lnTo>
                <a:lnTo>
                  <a:pt x="4113" y="11798"/>
                </a:lnTo>
                <a:lnTo>
                  <a:pt x="4090" y="11722"/>
                </a:lnTo>
                <a:lnTo>
                  <a:pt x="4067" y="11661"/>
                </a:lnTo>
                <a:lnTo>
                  <a:pt x="3987" y="11539"/>
                </a:lnTo>
                <a:lnTo>
                  <a:pt x="3918" y="11386"/>
                </a:lnTo>
                <a:lnTo>
                  <a:pt x="3884" y="11310"/>
                </a:lnTo>
                <a:lnTo>
                  <a:pt x="3861" y="11249"/>
                </a:lnTo>
                <a:lnTo>
                  <a:pt x="3849" y="11157"/>
                </a:lnTo>
                <a:lnTo>
                  <a:pt x="3838" y="11051"/>
                </a:lnTo>
                <a:lnTo>
                  <a:pt x="3849" y="10959"/>
                </a:lnTo>
                <a:lnTo>
                  <a:pt x="3861" y="10837"/>
                </a:lnTo>
                <a:lnTo>
                  <a:pt x="3907" y="10731"/>
                </a:lnTo>
                <a:lnTo>
                  <a:pt x="3964" y="10578"/>
                </a:lnTo>
                <a:lnTo>
                  <a:pt x="3964" y="10578"/>
                </a:lnTo>
                <a:lnTo>
                  <a:pt x="4021" y="10441"/>
                </a:lnTo>
                <a:lnTo>
                  <a:pt x="4102" y="10304"/>
                </a:lnTo>
                <a:lnTo>
                  <a:pt x="4239" y="10045"/>
                </a:lnTo>
                <a:lnTo>
                  <a:pt x="4308" y="9908"/>
                </a:lnTo>
                <a:lnTo>
                  <a:pt x="4365" y="9755"/>
                </a:lnTo>
                <a:lnTo>
                  <a:pt x="4411" y="9618"/>
                </a:lnTo>
                <a:lnTo>
                  <a:pt x="4445" y="9450"/>
                </a:lnTo>
                <a:lnTo>
                  <a:pt x="4445" y="9450"/>
                </a:lnTo>
                <a:lnTo>
                  <a:pt x="4251" y="9527"/>
                </a:lnTo>
                <a:lnTo>
                  <a:pt x="4102" y="9588"/>
                </a:lnTo>
                <a:lnTo>
                  <a:pt x="3987" y="9649"/>
                </a:lnTo>
                <a:lnTo>
                  <a:pt x="3930" y="9649"/>
                </a:lnTo>
                <a:lnTo>
                  <a:pt x="3873" y="9649"/>
                </a:lnTo>
                <a:lnTo>
                  <a:pt x="3827" y="9649"/>
                </a:lnTo>
                <a:lnTo>
                  <a:pt x="3792" y="9633"/>
                </a:lnTo>
                <a:lnTo>
                  <a:pt x="3724" y="9588"/>
                </a:lnTo>
                <a:lnTo>
                  <a:pt x="3666" y="9557"/>
                </a:lnTo>
                <a:lnTo>
                  <a:pt x="3540" y="9435"/>
                </a:lnTo>
                <a:lnTo>
                  <a:pt x="3357" y="9222"/>
                </a:lnTo>
                <a:lnTo>
                  <a:pt x="3357" y="9222"/>
                </a:lnTo>
                <a:lnTo>
                  <a:pt x="3242" y="9328"/>
                </a:lnTo>
                <a:lnTo>
                  <a:pt x="3116" y="9420"/>
                </a:lnTo>
                <a:lnTo>
                  <a:pt x="2853" y="9572"/>
                </a:lnTo>
                <a:lnTo>
                  <a:pt x="2612" y="9740"/>
                </a:lnTo>
                <a:lnTo>
                  <a:pt x="2486" y="9816"/>
                </a:lnTo>
                <a:lnTo>
                  <a:pt x="2360" y="9908"/>
                </a:lnTo>
                <a:lnTo>
                  <a:pt x="2245" y="9999"/>
                </a:lnTo>
                <a:lnTo>
                  <a:pt x="2142" y="10091"/>
                </a:lnTo>
                <a:lnTo>
                  <a:pt x="2062" y="10228"/>
                </a:lnTo>
                <a:lnTo>
                  <a:pt x="1970" y="10350"/>
                </a:lnTo>
                <a:lnTo>
                  <a:pt x="1890" y="10517"/>
                </a:lnTo>
                <a:lnTo>
                  <a:pt x="1844" y="10670"/>
                </a:lnTo>
                <a:lnTo>
                  <a:pt x="1787" y="10837"/>
                </a:lnTo>
                <a:lnTo>
                  <a:pt x="1764" y="11051"/>
                </a:lnTo>
                <a:lnTo>
                  <a:pt x="1764" y="11051"/>
                </a:lnTo>
                <a:lnTo>
                  <a:pt x="1856" y="11005"/>
                </a:lnTo>
                <a:lnTo>
                  <a:pt x="1913" y="10959"/>
                </a:lnTo>
                <a:lnTo>
                  <a:pt x="1936" y="10959"/>
                </a:lnTo>
                <a:lnTo>
                  <a:pt x="1959" y="10975"/>
                </a:lnTo>
                <a:lnTo>
                  <a:pt x="1993" y="10990"/>
                </a:lnTo>
                <a:lnTo>
                  <a:pt x="1993" y="11005"/>
                </a:lnTo>
                <a:lnTo>
                  <a:pt x="2039" y="11051"/>
                </a:lnTo>
                <a:lnTo>
                  <a:pt x="2062" y="11127"/>
                </a:lnTo>
                <a:lnTo>
                  <a:pt x="2085" y="11340"/>
                </a:lnTo>
                <a:lnTo>
                  <a:pt x="2131" y="11569"/>
                </a:lnTo>
                <a:lnTo>
                  <a:pt x="2154" y="11706"/>
                </a:lnTo>
                <a:lnTo>
                  <a:pt x="2188" y="11798"/>
                </a:lnTo>
                <a:lnTo>
                  <a:pt x="2234" y="11920"/>
                </a:lnTo>
                <a:lnTo>
                  <a:pt x="2280" y="12011"/>
                </a:lnTo>
                <a:lnTo>
                  <a:pt x="2360" y="12088"/>
                </a:lnTo>
                <a:lnTo>
                  <a:pt x="2394" y="12118"/>
                </a:lnTo>
                <a:lnTo>
                  <a:pt x="2440" y="12133"/>
                </a:lnTo>
                <a:lnTo>
                  <a:pt x="2440" y="12133"/>
                </a:lnTo>
                <a:lnTo>
                  <a:pt x="2463" y="12072"/>
                </a:lnTo>
                <a:lnTo>
                  <a:pt x="2497" y="12042"/>
                </a:lnTo>
                <a:lnTo>
                  <a:pt x="2543" y="12011"/>
                </a:lnTo>
                <a:lnTo>
                  <a:pt x="2578" y="12011"/>
                </a:lnTo>
                <a:lnTo>
                  <a:pt x="2578" y="12011"/>
                </a:lnTo>
                <a:lnTo>
                  <a:pt x="2612" y="12011"/>
                </a:lnTo>
                <a:lnTo>
                  <a:pt x="2635" y="12027"/>
                </a:lnTo>
                <a:lnTo>
                  <a:pt x="2715" y="12072"/>
                </a:lnTo>
                <a:lnTo>
                  <a:pt x="2784" y="12149"/>
                </a:lnTo>
                <a:lnTo>
                  <a:pt x="2853" y="12240"/>
                </a:lnTo>
                <a:lnTo>
                  <a:pt x="2944" y="12331"/>
                </a:lnTo>
                <a:lnTo>
                  <a:pt x="3024" y="12423"/>
                </a:lnTo>
                <a:lnTo>
                  <a:pt x="3116" y="12499"/>
                </a:lnTo>
                <a:lnTo>
                  <a:pt x="3162" y="12530"/>
                </a:lnTo>
                <a:lnTo>
                  <a:pt x="3219" y="12560"/>
                </a:lnTo>
                <a:close/>
                <a:moveTo>
                  <a:pt x="15423" y="12286"/>
                </a:moveTo>
                <a:lnTo>
                  <a:pt x="15423" y="12286"/>
                </a:lnTo>
                <a:lnTo>
                  <a:pt x="15515" y="12362"/>
                </a:lnTo>
                <a:lnTo>
                  <a:pt x="15606" y="12438"/>
                </a:lnTo>
                <a:lnTo>
                  <a:pt x="15721" y="12484"/>
                </a:lnTo>
                <a:lnTo>
                  <a:pt x="15824" y="12484"/>
                </a:lnTo>
                <a:lnTo>
                  <a:pt x="15824" y="12484"/>
                </a:lnTo>
                <a:lnTo>
                  <a:pt x="15732" y="12133"/>
                </a:lnTo>
                <a:lnTo>
                  <a:pt x="15732" y="12133"/>
                </a:lnTo>
                <a:lnTo>
                  <a:pt x="15423" y="12286"/>
                </a:lnTo>
                <a:close/>
                <a:moveTo>
                  <a:pt x="17016" y="12347"/>
                </a:moveTo>
                <a:lnTo>
                  <a:pt x="17016" y="12347"/>
                </a:lnTo>
                <a:lnTo>
                  <a:pt x="17142" y="12270"/>
                </a:lnTo>
                <a:lnTo>
                  <a:pt x="17233" y="12179"/>
                </a:lnTo>
                <a:lnTo>
                  <a:pt x="17302" y="12103"/>
                </a:lnTo>
                <a:lnTo>
                  <a:pt x="17371" y="12042"/>
                </a:lnTo>
                <a:lnTo>
                  <a:pt x="17405" y="11966"/>
                </a:lnTo>
                <a:lnTo>
                  <a:pt x="17428" y="11905"/>
                </a:lnTo>
                <a:lnTo>
                  <a:pt x="17428" y="11844"/>
                </a:lnTo>
                <a:lnTo>
                  <a:pt x="17405" y="11798"/>
                </a:lnTo>
                <a:lnTo>
                  <a:pt x="17371" y="11752"/>
                </a:lnTo>
                <a:lnTo>
                  <a:pt x="17325" y="11706"/>
                </a:lnTo>
                <a:lnTo>
                  <a:pt x="17268" y="11645"/>
                </a:lnTo>
                <a:lnTo>
                  <a:pt x="17199" y="11615"/>
                </a:lnTo>
                <a:lnTo>
                  <a:pt x="17016" y="11539"/>
                </a:lnTo>
                <a:lnTo>
                  <a:pt x="16810" y="11462"/>
                </a:lnTo>
                <a:lnTo>
                  <a:pt x="16810" y="11462"/>
                </a:lnTo>
                <a:lnTo>
                  <a:pt x="17016" y="12347"/>
                </a:lnTo>
                <a:close/>
                <a:moveTo>
                  <a:pt x="6245" y="12286"/>
                </a:moveTo>
                <a:lnTo>
                  <a:pt x="6245" y="12286"/>
                </a:lnTo>
                <a:lnTo>
                  <a:pt x="6187" y="12225"/>
                </a:lnTo>
                <a:lnTo>
                  <a:pt x="6141" y="12194"/>
                </a:lnTo>
                <a:lnTo>
                  <a:pt x="6096" y="12164"/>
                </a:lnTo>
                <a:lnTo>
                  <a:pt x="5992" y="12133"/>
                </a:lnTo>
                <a:lnTo>
                  <a:pt x="5992" y="12133"/>
                </a:lnTo>
                <a:lnTo>
                  <a:pt x="6245" y="12286"/>
                </a:lnTo>
                <a:close/>
                <a:moveTo>
                  <a:pt x="527" y="12286"/>
                </a:moveTo>
                <a:lnTo>
                  <a:pt x="527" y="12286"/>
                </a:lnTo>
                <a:lnTo>
                  <a:pt x="733" y="12133"/>
                </a:lnTo>
                <a:lnTo>
                  <a:pt x="733" y="12133"/>
                </a:lnTo>
                <a:lnTo>
                  <a:pt x="1054" y="11600"/>
                </a:lnTo>
                <a:lnTo>
                  <a:pt x="1054" y="11600"/>
                </a:lnTo>
                <a:lnTo>
                  <a:pt x="950" y="11569"/>
                </a:lnTo>
                <a:lnTo>
                  <a:pt x="870" y="11569"/>
                </a:lnTo>
                <a:lnTo>
                  <a:pt x="870" y="11569"/>
                </a:lnTo>
                <a:lnTo>
                  <a:pt x="790" y="11569"/>
                </a:lnTo>
                <a:lnTo>
                  <a:pt x="710" y="11615"/>
                </a:lnTo>
                <a:lnTo>
                  <a:pt x="664" y="11676"/>
                </a:lnTo>
                <a:lnTo>
                  <a:pt x="607" y="11752"/>
                </a:lnTo>
                <a:lnTo>
                  <a:pt x="561" y="11844"/>
                </a:lnTo>
                <a:lnTo>
                  <a:pt x="549" y="11966"/>
                </a:lnTo>
                <a:lnTo>
                  <a:pt x="527" y="12118"/>
                </a:lnTo>
                <a:lnTo>
                  <a:pt x="527" y="12286"/>
                </a:lnTo>
                <a:close/>
                <a:moveTo>
                  <a:pt x="5935" y="12225"/>
                </a:moveTo>
                <a:lnTo>
                  <a:pt x="5935" y="12225"/>
                </a:lnTo>
                <a:lnTo>
                  <a:pt x="5866" y="12133"/>
                </a:lnTo>
                <a:lnTo>
                  <a:pt x="5820" y="12118"/>
                </a:lnTo>
                <a:lnTo>
                  <a:pt x="5775" y="12103"/>
                </a:lnTo>
                <a:lnTo>
                  <a:pt x="5671" y="12072"/>
                </a:lnTo>
                <a:lnTo>
                  <a:pt x="5522" y="12072"/>
                </a:lnTo>
                <a:lnTo>
                  <a:pt x="5522" y="12072"/>
                </a:lnTo>
                <a:lnTo>
                  <a:pt x="5614" y="12133"/>
                </a:lnTo>
                <a:lnTo>
                  <a:pt x="5706" y="12179"/>
                </a:lnTo>
                <a:lnTo>
                  <a:pt x="5786" y="12209"/>
                </a:lnTo>
                <a:lnTo>
                  <a:pt x="5935" y="12225"/>
                </a:lnTo>
                <a:close/>
                <a:moveTo>
                  <a:pt x="16397" y="12072"/>
                </a:moveTo>
                <a:lnTo>
                  <a:pt x="16397" y="12072"/>
                </a:lnTo>
                <a:lnTo>
                  <a:pt x="16454" y="12057"/>
                </a:lnTo>
                <a:lnTo>
                  <a:pt x="16500" y="12057"/>
                </a:lnTo>
                <a:lnTo>
                  <a:pt x="16523" y="12027"/>
                </a:lnTo>
                <a:lnTo>
                  <a:pt x="16534" y="11981"/>
                </a:lnTo>
                <a:lnTo>
                  <a:pt x="16534" y="11935"/>
                </a:lnTo>
                <a:lnTo>
                  <a:pt x="16523" y="11874"/>
                </a:lnTo>
                <a:lnTo>
                  <a:pt x="16500" y="11844"/>
                </a:lnTo>
                <a:lnTo>
                  <a:pt x="16443" y="11798"/>
                </a:lnTo>
                <a:lnTo>
                  <a:pt x="16443" y="11798"/>
                </a:lnTo>
                <a:lnTo>
                  <a:pt x="16397" y="12072"/>
                </a:lnTo>
                <a:close/>
                <a:moveTo>
                  <a:pt x="1970" y="12072"/>
                </a:moveTo>
                <a:lnTo>
                  <a:pt x="1970" y="12072"/>
                </a:lnTo>
                <a:lnTo>
                  <a:pt x="1764" y="11798"/>
                </a:lnTo>
                <a:lnTo>
                  <a:pt x="1764" y="11798"/>
                </a:lnTo>
                <a:lnTo>
                  <a:pt x="1810" y="11920"/>
                </a:lnTo>
                <a:lnTo>
                  <a:pt x="1844" y="11981"/>
                </a:lnTo>
                <a:lnTo>
                  <a:pt x="1878" y="12027"/>
                </a:lnTo>
                <a:lnTo>
                  <a:pt x="1970" y="12072"/>
                </a:lnTo>
                <a:close/>
                <a:moveTo>
                  <a:pt x="15366" y="11600"/>
                </a:moveTo>
                <a:lnTo>
                  <a:pt x="15366" y="11600"/>
                </a:lnTo>
                <a:lnTo>
                  <a:pt x="15262" y="11554"/>
                </a:lnTo>
                <a:lnTo>
                  <a:pt x="15171" y="11508"/>
                </a:lnTo>
                <a:lnTo>
                  <a:pt x="15091" y="11432"/>
                </a:lnTo>
                <a:lnTo>
                  <a:pt x="15010" y="11325"/>
                </a:lnTo>
                <a:lnTo>
                  <a:pt x="15010" y="11325"/>
                </a:lnTo>
                <a:lnTo>
                  <a:pt x="15159" y="11767"/>
                </a:lnTo>
                <a:lnTo>
                  <a:pt x="15217" y="11920"/>
                </a:lnTo>
                <a:lnTo>
                  <a:pt x="15274" y="12027"/>
                </a:lnTo>
                <a:lnTo>
                  <a:pt x="15297" y="12057"/>
                </a:lnTo>
                <a:lnTo>
                  <a:pt x="15308" y="12057"/>
                </a:lnTo>
                <a:lnTo>
                  <a:pt x="15331" y="12057"/>
                </a:lnTo>
                <a:lnTo>
                  <a:pt x="15343" y="12011"/>
                </a:lnTo>
                <a:lnTo>
                  <a:pt x="15366" y="11950"/>
                </a:lnTo>
                <a:lnTo>
                  <a:pt x="15366" y="11859"/>
                </a:lnTo>
                <a:lnTo>
                  <a:pt x="15366" y="11600"/>
                </a:lnTo>
                <a:close/>
                <a:moveTo>
                  <a:pt x="6496" y="12011"/>
                </a:moveTo>
                <a:lnTo>
                  <a:pt x="6496" y="12011"/>
                </a:lnTo>
                <a:lnTo>
                  <a:pt x="6531" y="11966"/>
                </a:lnTo>
                <a:lnTo>
                  <a:pt x="6543" y="11950"/>
                </a:lnTo>
                <a:lnTo>
                  <a:pt x="6531" y="11935"/>
                </a:lnTo>
                <a:lnTo>
                  <a:pt x="6496" y="11874"/>
                </a:lnTo>
                <a:lnTo>
                  <a:pt x="6496" y="11874"/>
                </a:lnTo>
                <a:lnTo>
                  <a:pt x="6496" y="12011"/>
                </a:lnTo>
                <a:close/>
                <a:moveTo>
                  <a:pt x="1145" y="11950"/>
                </a:moveTo>
                <a:lnTo>
                  <a:pt x="1145" y="11950"/>
                </a:lnTo>
                <a:lnTo>
                  <a:pt x="1260" y="11950"/>
                </a:lnTo>
                <a:lnTo>
                  <a:pt x="1294" y="11950"/>
                </a:lnTo>
                <a:lnTo>
                  <a:pt x="1351" y="11935"/>
                </a:lnTo>
                <a:lnTo>
                  <a:pt x="1397" y="11905"/>
                </a:lnTo>
                <a:lnTo>
                  <a:pt x="1432" y="11874"/>
                </a:lnTo>
                <a:lnTo>
                  <a:pt x="1455" y="11813"/>
                </a:lnTo>
                <a:lnTo>
                  <a:pt x="1466" y="11737"/>
                </a:lnTo>
                <a:lnTo>
                  <a:pt x="1466" y="11737"/>
                </a:lnTo>
                <a:lnTo>
                  <a:pt x="1306" y="11600"/>
                </a:lnTo>
                <a:lnTo>
                  <a:pt x="1260" y="11554"/>
                </a:lnTo>
                <a:lnTo>
                  <a:pt x="1214" y="11554"/>
                </a:lnTo>
                <a:lnTo>
                  <a:pt x="1214" y="11554"/>
                </a:lnTo>
                <a:lnTo>
                  <a:pt x="1203" y="11554"/>
                </a:lnTo>
                <a:lnTo>
                  <a:pt x="1180" y="11569"/>
                </a:lnTo>
                <a:lnTo>
                  <a:pt x="1168" y="11615"/>
                </a:lnTo>
                <a:lnTo>
                  <a:pt x="1157" y="11645"/>
                </a:lnTo>
                <a:lnTo>
                  <a:pt x="1145" y="11783"/>
                </a:lnTo>
                <a:lnTo>
                  <a:pt x="1145" y="11950"/>
                </a:lnTo>
                <a:close/>
                <a:moveTo>
                  <a:pt x="17680" y="11950"/>
                </a:moveTo>
                <a:lnTo>
                  <a:pt x="17680" y="11950"/>
                </a:lnTo>
                <a:lnTo>
                  <a:pt x="17761" y="11874"/>
                </a:lnTo>
                <a:lnTo>
                  <a:pt x="17818" y="11798"/>
                </a:lnTo>
                <a:lnTo>
                  <a:pt x="17852" y="11722"/>
                </a:lnTo>
                <a:lnTo>
                  <a:pt x="17852" y="11691"/>
                </a:lnTo>
                <a:lnTo>
                  <a:pt x="17852" y="11661"/>
                </a:lnTo>
                <a:lnTo>
                  <a:pt x="17829" y="11600"/>
                </a:lnTo>
                <a:lnTo>
                  <a:pt x="17795" y="11539"/>
                </a:lnTo>
                <a:lnTo>
                  <a:pt x="17726" y="11462"/>
                </a:lnTo>
                <a:lnTo>
                  <a:pt x="17635" y="11401"/>
                </a:lnTo>
                <a:lnTo>
                  <a:pt x="17635" y="11401"/>
                </a:lnTo>
                <a:lnTo>
                  <a:pt x="17680" y="11950"/>
                </a:lnTo>
                <a:close/>
                <a:moveTo>
                  <a:pt x="10324" y="11874"/>
                </a:moveTo>
                <a:lnTo>
                  <a:pt x="10324" y="11874"/>
                </a:lnTo>
                <a:lnTo>
                  <a:pt x="10392" y="11767"/>
                </a:lnTo>
                <a:lnTo>
                  <a:pt x="10404" y="11737"/>
                </a:lnTo>
                <a:lnTo>
                  <a:pt x="10416" y="11722"/>
                </a:lnTo>
                <a:lnTo>
                  <a:pt x="10416" y="11722"/>
                </a:lnTo>
                <a:lnTo>
                  <a:pt x="10358" y="11783"/>
                </a:lnTo>
                <a:lnTo>
                  <a:pt x="10347" y="11813"/>
                </a:lnTo>
                <a:lnTo>
                  <a:pt x="10324" y="11874"/>
                </a:lnTo>
                <a:close/>
                <a:moveTo>
                  <a:pt x="423" y="11676"/>
                </a:moveTo>
                <a:lnTo>
                  <a:pt x="423" y="11676"/>
                </a:lnTo>
                <a:lnTo>
                  <a:pt x="458" y="11722"/>
                </a:lnTo>
                <a:lnTo>
                  <a:pt x="492" y="11767"/>
                </a:lnTo>
                <a:lnTo>
                  <a:pt x="503" y="11767"/>
                </a:lnTo>
                <a:lnTo>
                  <a:pt x="527" y="11752"/>
                </a:lnTo>
                <a:lnTo>
                  <a:pt x="561" y="11722"/>
                </a:lnTo>
                <a:lnTo>
                  <a:pt x="572" y="11676"/>
                </a:lnTo>
                <a:lnTo>
                  <a:pt x="630" y="11539"/>
                </a:lnTo>
                <a:lnTo>
                  <a:pt x="664" y="11401"/>
                </a:lnTo>
                <a:lnTo>
                  <a:pt x="710" y="11279"/>
                </a:lnTo>
                <a:lnTo>
                  <a:pt x="733" y="11051"/>
                </a:lnTo>
                <a:lnTo>
                  <a:pt x="733" y="11051"/>
                </a:lnTo>
                <a:lnTo>
                  <a:pt x="595" y="11066"/>
                </a:lnTo>
                <a:lnTo>
                  <a:pt x="503" y="11081"/>
                </a:lnTo>
                <a:lnTo>
                  <a:pt x="446" y="11096"/>
                </a:lnTo>
                <a:lnTo>
                  <a:pt x="423" y="11112"/>
                </a:lnTo>
                <a:lnTo>
                  <a:pt x="389" y="11142"/>
                </a:lnTo>
                <a:lnTo>
                  <a:pt x="366" y="11188"/>
                </a:lnTo>
                <a:lnTo>
                  <a:pt x="354" y="11218"/>
                </a:lnTo>
                <a:lnTo>
                  <a:pt x="354" y="11264"/>
                </a:lnTo>
                <a:lnTo>
                  <a:pt x="354" y="11295"/>
                </a:lnTo>
                <a:lnTo>
                  <a:pt x="354" y="11356"/>
                </a:lnTo>
                <a:lnTo>
                  <a:pt x="378" y="11508"/>
                </a:lnTo>
                <a:lnTo>
                  <a:pt x="423" y="11676"/>
                </a:lnTo>
                <a:close/>
                <a:moveTo>
                  <a:pt x="16340" y="11401"/>
                </a:moveTo>
                <a:lnTo>
                  <a:pt x="16340" y="11401"/>
                </a:lnTo>
                <a:lnTo>
                  <a:pt x="16363" y="11493"/>
                </a:lnTo>
                <a:lnTo>
                  <a:pt x="16374" y="11523"/>
                </a:lnTo>
                <a:lnTo>
                  <a:pt x="16385" y="11539"/>
                </a:lnTo>
                <a:lnTo>
                  <a:pt x="16408" y="11554"/>
                </a:lnTo>
                <a:lnTo>
                  <a:pt x="16443" y="11584"/>
                </a:lnTo>
                <a:lnTo>
                  <a:pt x="16512" y="11600"/>
                </a:lnTo>
                <a:lnTo>
                  <a:pt x="16512" y="11600"/>
                </a:lnTo>
                <a:lnTo>
                  <a:pt x="16512" y="11493"/>
                </a:lnTo>
                <a:lnTo>
                  <a:pt x="16500" y="11401"/>
                </a:lnTo>
                <a:lnTo>
                  <a:pt x="16477" y="11356"/>
                </a:lnTo>
                <a:lnTo>
                  <a:pt x="16466" y="11340"/>
                </a:lnTo>
                <a:lnTo>
                  <a:pt x="16443" y="11325"/>
                </a:lnTo>
                <a:lnTo>
                  <a:pt x="16443" y="11325"/>
                </a:lnTo>
                <a:lnTo>
                  <a:pt x="16397" y="11356"/>
                </a:lnTo>
                <a:lnTo>
                  <a:pt x="16340" y="11401"/>
                </a:lnTo>
                <a:close/>
                <a:moveTo>
                  <a:pt x="6141" y="11600"/>
                </a:moveTo>
                <a:lnTo>
                  <a:pt x="6141" y="11600"/>
                </a:lnTo>
                <a:lnTo>
                  <a:pt x="6221" y="11554"/>
                </a:lnTo>
                <a:lnTo>
                  <a:pt x="6267" y="11539"/>
                </a:lnTo>
                <a:lnTo>
                  <a:pt x="6290" y="11493"/>
                </a:lnTo>
                <a:lnTo>
                  <a:pt x="6302" y="11462"/>
                </a:lnTo>
                <a:lnTo>
                  <a:pt x="6290" y="11447"/>
                </a:lnTo>
                <a:lnTo>
                  <a:pt x="6245" y="11417"/>
                </a:lnTo>
                <a:lnTo>
                  <a:pt x="6176" y="11401"/>
                </a:lnTo>
                <a:lnTo>
                  <a:pt x="6096" y="11401"/>
                </a:lnTo>
                <a:lnTo>
                  <a:pt x="6096" y="11401"/>
                </a:lnTo>
                <a:lnTo>
                  <a:pt x="6050" y="11447"/>
                </a:lnTo>
                <a:lnTo>
                  <a:pt x="6004" y="11478"/>
                </a:lnTo>
                <a:lnTo>
                  <a:pt x="5992" y="11523"/>
                </a:lnTo>
                <a:lnTo>
                  <a:pt x="5992" y="11539"/>
                </a:lnTo>
                <a:lnTo>
                  <a:pt x="6004" y="11554"/>
                </a:lnTo>
                <a:lnTo>
                  <a:pt x="6038" y="11584"/>
                </a:lnTo>
                <a:lnTo>
                  <a:pt x="6084" y="11600"/>
                </a:lnTo>
                <a:lnTo>
                  <a:pt x="6141" y="11600"/>
                </a:lnTo>
                <a:close/>
                <a:moveTo>
                  <a:pt x="4147" y="11600"/>
                </a:moveTo>
                <a:lnTo>
                  <a:pt x="4147" y="11600"/>
                </a:lnTo>
                <a:lnTo>
                  <a:pt x="4147" y="11447"/>
                </a:lnTo>
                <a:lnTo>
                  <a:pt x="4182" y="11279"/>
                </a:lnTo>
                <a:lnTo>
                  <a:pt x="4216" y="11127"/>
                </a:lnTo>
                <a:lnTo>
                  <a:pt x="4285" y="11005"/>
                </a:lnTo>
                <a:lnTo>
                  <a:pt x="4285" y="11005"/>
                </a:lnTo>
                <a:lnTo>
                  <a:pt x="4170" y="11020"/>
                </a:lnTo>
                <a:lnTo>
                  <a:pt x="4125" y="11020"/>
                </a:lnTo>
                <a:lnTo>
                  <a:pt x="4079" y="11035"/>
                </a:lnTo>
                <a:lnTo>
                  <a:pt x="4056" y="11066"/>
                </a:lnTo>
                <a:lnTo>
                  <a:pt x="4021" y="11096"/>
                </a:lnTo>
                <a:lnTo>
                  <a:pt x="4010" y="11127"/>
                </a:lnTo>
                <a:lnTo>
                  <a:pt x="3998" y="11188"/>
                </a:lnTo>
                <a:lnTo>
                  <a:pt x="3998" y="11218"/>
                </a:lnTo>
                <a:lnTo>
                  <a:pt x="3998" y="11279"/>
                </a:lnTo>
                <a:lnTo>
                  <a:pt x="4021" y="11356"/>
                </a:lnTo>
                <a:lnTo>
                  <a:pt x="4067" y="11493"/>
                </a:lnTo>
                <a:lnTo>
                  <a:pt x="4147" y="11600"/>
                </a:lnTo>
                <a:close/>
                <a:moveTo>
                  <a:pt x="4354" y="11539"/>
                </a:moveTo>
                <a:lnTo>
                  <a:pt x="4354" y="11539"/>
                </a:lnTo>
                <a:lnTo>
                  <a:pt x="4423" y="11539"/>
                </a:lnTo>
                <a:lnTo>
                  <a:pt x="4491" y="11523"/>
                </a:lnTo>
                <a:lnTo>
                  <a:pt x="4560" y="11478"/>
                </a:lnTo>
                <a:lnTo>
                  <a:pt x="4594" y="11432"/>
                </a:lnTo>
                <a:lnTo>
                  <a:pt x="4640" y="11356"/>
                </a:lnTo>
                <a:lnTo>
                  <a:pt x="4674" y="11279"/>
                </a:lnTo>
                <a:lnTo>
                  <a:pt x="4697" y="11188"/>
                </a:lnTo>
                <a:lnTo>
                  <a:pt x="4709" y="11051"/>
                </a:lnTo>
                <a:lnTo>
                  <a:pt x="4709" y="11051"/>
                </a:lnTo>
                <a:lnTo>
                  <a:pt x="4606" y="11020"/>
                </a:lnTo>
                <a:lnTo>
                  <a:pt x="4572" y="11005"/>
                </a:lnTo>
                <a:lnTo>
                  <a:pt x="4526" y="11005"/>
                </a:lnTo>
                <a:lnTo>
                  <a:pt x="4526" y="11005"/>
                </a:lnTo>
                <a:lnTo>
                  <a:pt x="4480" y="11005"/>
                </a:lnTo>
                <a:lnTo>
                  <a:pt x="4434" y="11020"/>
                </a:lnTo>
                <a:lnTo>
                  <a:pt x="4411" y="11066"/>
                </a:lnTo>
                <a:lnTo>
                  <a:pt x="4377" y="11127"/>
                </a:lnTo>
                <a:lnTo>
                  <a:pt x="4365" y="11203"/>
                </a:lnTo>
                <a:lnTo>
                  <a:pt x="4354" y="11279"/>
                </a:lnTo>
                <a:lnTo>
                  <a:pt x="4354" y="11401"/>
                </a:lnTo>
                <a:lnTo>
                  <a:pt x="4354" y="11539"/>
                </a:lnTo>
                <a:close/>
                <a:moveTo>
                  <a:pt x="4801" y="11462"/>
                </a:moveTo>
                <a:lnTo>
                  <a:pt x="4801" y="11462"/>
                </a:lnTo>
                <a:lnTo>
                  <a:pt x="4892" y="11447"/>
                </a:lnTo>
                <a:lnTo>
                  <a:pt x="4950" y="11432"/>
                </a:lnTo>
                <a:lnTo>
                  <a:pt x="5007" y="11371"/>
                </a:lnTo>
                <a:lnTo>
                  <a:pt x="5053" y="11310"/>
                </a:lnTo>
                <a:lnTo>
                  <a:pt x="5064" y="11279"/>
                </a:lnTo>
                <a:lnTo>
                  <a:pt x="5064" y="11249"/>
                </a:lnTo>
                <a:lnTo>
                  <a:pt x="5064" y="11203"/>
                </a:lnTo>
                <a:lnTo>
                  <a:pt x="5041" y="11188"/>
                </a:lnTo>
                <a:lnTo>
                  <a:pt x="5018" y="11142"/>
                </a:lnTo>
                <a:lnTo>
                  <a:pt x="4995" y="11112"/>
                </a:lnTo>
                <a:lnTo>
                  <a:pt x="4950" y="11081"/>
                </a:lnTo>
                <a:lnTo>
                  <a:pt x="4915" y="11051"/>
                </a:lnTo>
                <a:lnTo>
                  <a:pt x="4915" y="11051"/>
                </a:lnTo>
                <a:lnTo>
                  <a:pt x="4801" y="11462"/>
                </a:lnTo>
                <a:close/>
                <a:moveTo>
                  <a:pt x="5637" y="11401"/>
                </a:moveTo>
                <a:lnTo>
                  <a:pt x="5637" y="11401"/>
                </a:lnTo>
                <a:lnTo>
                  <a:pt x="5752" y="11447"/>
                </a:lnTo>
                <a:lnTo>
                  <a:pt x="5866" y="11447"/>
                </a:lnTo>
                <a:lnTo>
                  <a:pt x="5935" y="11447"/>
                </a:lnTo>
                <a:lnTo>
                  <a:pt x="6004" y="11432"/>
                </a:lnTo>
                <a:lnTo>
                  <a:pt x="6015" y="11417"/>
                </a:lnTo>
                <a:lnTo>
                  <a:pt x="6038" y="11401"/>
                </a:lnTo>
                <a:lnTo>
                  <a:pt x="6050" y="11371"/>
                </a:lnTo>
                <a:lnTo>
                  <a:pt x="6050" y="11356"/>
                </a:lnTo>
                <a:lnTo>
                  <a:pt x="6027" y="11279"/>
                </a:lnTo>
                <a:lnTo>
                  <a:pt x="5992" y="11188"/>
                </a:lnTo>
                <a:lnTo>
                  <a:pt x="5992" y="11188"/>
                </a:lnTo>
                <a:lnTo>
                  <a:pt x="5866" y="11173"/>
                </a:lnTo>
                <a:lnTo>
                  <a:pt x="5820" y="11142"/>
                </a:lnTo>
                <a:lnTo>
                  <a:pt x="5763" y="11142"/>
                </a:lnTo>
                <a:lnTo>
                  <a:pt x="5763" y="11142"/>
                </a:lnTo>
                <a:lnTo>
                  <a:pt x="5717" y="11157"/>
                </a:lnTo>
                <a:lnTo>
                  <a:pt x="5694" y="11173"/>
                </a:lnTo>
                <a:lnTo>
                  <a:pt x="5671" y="11188"/>
                </a:lnTo>
                <a:lnTo>
                  <a:pt x="5649" y="11234"/>
                </a:lnTo>
                <a:lnTo>
                  <a:pt x="5649" y="11279"/>
                </a:lnTo>
                <a:lnTo>
                  <a:pt x="5637" y="11325"/>
                </a:lnTo>
                <a:lnTo>
                  <a:pt x="5637" y="11401"/>
                </a:lnTo>
                <a:close/>
                <a:moveTo>
                  <a:pt x="16088" y="11401"/>
                </a:moveTo>
                <a:lnTo>
                  <a:pt x="16088" y="11401"/>
                </a:lnTo>
                <a:lnTo>
                  <a:pt x="16145" y="11371"/>
                </a:lnTo>
                <a:lnTo>
                  <a:pt x="16179" y="11340"/>
                </a:lnTo>
                <a:lnTo>
                  <a:pt x="16214" y="11279"/>
                </a:lnTo>
                <a:lnTo>
                  <a:pt x="16225" y="11249"/>
                </a:lnTo>
                <a:lnTo>
                  <a:pt x="16225" y="11188"/>
                </a:lnTo>
                <a:lnTo>
                  <a:pt x="16214" y="11096"/>
                </a:lnTo>
                <a:lnTo>
                  <a:pt x="16179" y="11020"/>
                </a:lnTo>
                <a:lnTo>
                  <a:pt x="16134" y="10929"/>
                </a:lnTo>
                <a:lnTo>
                  <a:pt x="16134" y="10929"/>
                </a:lnTo>
                <a:lnTo>
                  <a:pt x="16065" y="11020"/>
                </a:lnTo>
                <a:lnTo>
                  <a:pt x="16019" y="11096"/>
                </a:lnTo>
                <a:lnTo>
                  <a:pt x="15973" y="11173"/>
                </a:lnTo>
                <a:lnTo>
                  <a:pt x="15950" y="11234"/>
                </a:lnTo>
                <a:lnTo>
                  <a:pt x="15950" y="11279"/>
                </a:lnTo>
                <a:lnTo>
                  <a:pt x="15985" y="11325"/>
                </a:lnTo>
                <a:lnTo>
                  <a:pt x="16019" y="11356"/>
                </a:lnTo>
                <a:lnTo>
                  <a:pt x="16088" y="11401"/>
                </a:lnTo>
                <a:close/>
                <a:moveTo>
                  <a:pt x="5213" y="11401"/>
                </a:moveTo>
                <a:lnTo>
                  <a:pt x="5213" y="11401"/>
                </a:lnTo>
                <a:lnTo>
                  <a:pt x="5431" y="11264"/>
                </a:lnTo>
                <a:lnTo>
                  <a:pt x="5488" y="11203"/>
                </a:lnTo>
                <a:lnTo>
                  <a:pt x="5511" y="11173"/>
                </a:lnTo>
                <a:lnTo>
                  <a:pt x="5511" y="11157"/>
                </a:lnTo>
                <a:lnTo>
                  <a:pt x="5500" y="11142"/>
                </a:lnTo>
                <a:lnTo>
                  <a:pt x="5454" y="11112"/>
                </a:lnTo>
                <a:lnTo>
                  <a:pt x="5373" y="11096"/>
                </a:lnTo>
                <a:lnTo>
                  <a:pt x="5270" y="11051"/>
                </a:lnTo>
                <a:lnTo>
                  <a:pt x="5270" y="11051"/>
                </a:lnTo>
                <a:lnTo>
                  <a:pt x="5213" y="11401"/>
                </a:lnTo>
                <a:close/>
                <a:moveTo>
                  <a:pt x="1054" y="11051"/>
                </a:moveTo>
                <a:lnTo>
                  <a:pt x="1054" y="11051"/>
                </a:lnTo>
                <a:lnTo>
                  <a:pt x="847" y="11401"/>
                </a:lnTo>
                <a:lnTo>
                  <a:pt x="847" y="11401"/>
                </a:lnTo>
                <a:lnTo>
                  <a:pt x="1088" y="11356"/>
                </a:lnTo>
                <a:lnTo>
                  <a:pt x="1351" y="11325"/>
                </a:lnTo>
                <a:lnTo>
                  <a:pt x="1351" y="11325"/>
                </a:lnTo>
                <a:lnTo>
                  <a:pt x="1340" y="11279"/>
                </a:lnTo>
                <a:lnTo>
                  <a:pt x="1306" y="11218"/>
                </a:lnTo>
                <a:lnTo>
                  <a:pt x="1283" y="11173"/>
                </a:lnTo>
                <a:lnTo>
                  <a:pt x="1260" y="11127"/>
                </a:lnTo>
                <a:lnTo>
                  <a:pt x="1214" y="11096"/>
                </a:lnTo>
                <a:lnTo>
                  <a:pt x="1168" y="11081"/>
                </a:lnTo>
                <a:lnTo>
                  <a:pt x="1122" y="11066"/>
                </a:lnTo>
                <a:lnTo>
                  <a:pt x="1077" y="11051"/>
                </a:lnTo>
                <a:lnTo>
                  <a:pt x="1077" y="11051"/>
                </a:lnTo>
                <a:lnTo>
                  <a:pt x="1054" y="11051"/>
                </a:lnTo>
                <a:close/>
                <a:moveTo>
                  <a:pt x="17222" y="11279"/>
                </a:moveTo>
                <a:lnTo>
                  <a:pt x="17222" y="11279"/>
                </a:lnTo>
                <a:lnTo>
                  <a:pt x="17016" y="10853"/>
                </a:lnTo>
                <a:lnTo>
                  <a:pt x="17016" y="10853"/>
                </a:lnTo>
                <a:lnTo>
                  <a:pt x="17016" y="11020"/>
                </a:lnTo>
                <a:lnTo>
                  <a:pt x="17016" y="11096"/>
                </a:lnTo>
                <a:lnTo>
                  <a:pt x="17027" y="11127"/>
                </a:lnTo>
                <a:lnTo>
                  <a:pt x="17050" y="11173"/>
                </a:lnTo>
                <a:lnTo>
                  <a:pt x="17096" y="11188"/>
                </a:lnTo>
                <a:lnTo>
                  <a:pt x="17222" y="11279"/>
                </a:lnTo>
                <a:close/>
                <a:moveTo>
                  <a:pt x="17486" y="11127"/>
                </a:moveTo>
                <a:lnTo>
                  <a:pt x="17486" y="11127"/>
                </a:lnTo>
                <a:lnTo>
                  <a:pt x="17486" y="11066"/>
                </a:lnTo>
                <a:lnTo>
                  <a:pt x="17474" y="11020"/>
                </a:lnTo>
                <a:lnTo>
                  <a:pt x="17463" y="10959"/>
                </a:lnTo>
                <a:lnTo>
                  <a:pt x="17451" y="10914"/>
                </a:lnTo>
                <a:lnTo>
                  <a:pt x="17394" y="10807"/>
                </a:lnTo>
                <a:lnTo>
                  <a:pt x="17314" y="10731"/>
                </a:lnTo>
                <a:lnTo>
                  <a:pt x="17314" y="10731"/>
                </a:lnTo>
                <a:lnTo>
                  <a:pt x="17291" y="10807"/>
                </a:lnTo>
                <a:lnTo>
                  <a:pt x="17291" y="10868"/>
                </a:lnTo>
                <a:lnTo>
                  <a:pt x="17291" y="10944"/>
                </a:lnTo>
                <a:lnTo>
                  <a:pt x="17291" y="11005"/>
                </a:lnTo>
                <a:lnTo>
                  <a:pt x="17314" y="11035"/>
                </a:lnTo>
                <a:lnTo>
                  <a:pt x="17360" y="11081"/>
                </a:lnTo>
                <a:lnTo>
                  <a:pt x="17417" y="11096"/>
                </a:lnTo>
                <a:lnTo>
                  <a:pt x="17486" y="11127"/>
                </a:lnTo>
                <a:close/>
                <a:moveTo>
                  <a:pt x="779" y="10670"/>
                </a:moveTo>
                <a:lnTo>
                  <a:pt x="779" y="10670"/>
                </a:lnTo>
                <a:lnTo>
                  <a:pt x="733" y="10929"/>
                </a:lnTo>
                <a:lnTo>
                  <a:pt x="733" y="10929"/>
                </a:lnTo>
                <a:lnTo>
                  <a:pt x="859" y="10990"/>
                </a:lnTo>
                <a:lnTo>
                  <a:pt x="962" y="11020"/>
                </a:lnTo>
                <a:lnTo>
                  <a:pt x="1054" y="11020"/>
                </a:lnTo>
                <a:lnTo>
                  <a:pt x="1088" y="11005"/>
                </a:lnTo>
                <a:lnTo>
                  <a:pt x="1111" y="10990"/>
                </a:lnTo>
                <a:lnTo>
                  <a:pt x="1134" y="10959"/>
                </a:lnTo>
                <a:lnTo>
                  <a:pt x="1145" y="10929"/>
                </a:lnTo>
                <a:lnTo>
                  <a:pt x="1157" y="10883"/>
                </a:lnTo>
                <a:lnTo>
                  <a:pt x="1168" y="10837"/>
                </a:lnTo>
                <a:lnTo>
                  <a:pt x="1168" y="10731"/>
                </a:lnTo>
                <a:lnTo>
                  <a:pt x="1145" y="10578"/>
                </a:lnTo>
                <a:lnTo>
                  <a:pt x="1145" y="10578"/>
                </a:lnTo>
                <a:lnTo>
                  <a:pt x="779" y="10670"/>
                </a:lnTo>
                <a:close/>
                <a:moveTo>
                  <a:pt x="15618" y="10929"/>
                </a:moveTo>
                <a:lnTo>
                  <a:pt x="15618" y="10929"/>
                </a:lnTo>
                <a:lnTo>
                  <a:pt x="15664" y="10929"/>
                </a:lnTo>
                <a:lnTo>
                  <a:pt x="15687" y="10929"/>
                </a:lnTo>
                <a:lnTo>
                  <a:pt x="15709" y="10914"/>
                </a:lnTo>
                <a:lnTo>
                  <a:pt x="15732" y="10883"/>
                </a:lnTo>
                <a:lnTo>
                  <a:pt x="15744" y="10853"/>
                </a:lnTo>
                <a:lnTo>
                  <a:pt x="15755" y="10822"/>
                </a:lnTo>
                <a:lnTo>
                  <a:pt x="15778" y="10731"/>
                </a:lnTo>
                <a:lnTo>
                  <a:pt x="15778" y="10731"/>
                </a:lnTo>
                <a:lnTo>
                  <a:pt x="15732" y="10670"/>
                </a:lnTo>
                <a:lnTo>
                  <a:pt x="15675" y="10654"/>
                </a:lnTo>
                <a:lnTo>
                  <a:pt x="15675" y="10654"/>
                </a:lnTo>
                <a:lnTo>
                  <a:pt x="15664" y="10670"/>
                </a:lnTo>
                <a:lnTo>
                  <a:pt x="15652" y="10670"/>
                </a:lnTo>
                <a:lnTo>
                  <a:pt x="15629" y="10731"/>
                </a:lnTo>
                <a:lnTo>
                  <a:pt x="15618" y="10807"/>
                </a:lnTo>
                <a:lnTo>
                  <a:pt x="15618" y="10929"/>
                </a:lnTo>
                <a:close/>
                <a:moveTo>
                  <a:pt x="1466" y="10929"/>
                </a:moveTo>
                <a:lnTo>
                  <a:pt x="1466" y="10929"/>
                </a:lnTo>
                <a:lnTo>
                  <a:pt x="1455" y="10837"/>
                </a:lnTo>
                <a:lnTo>
                  <a:pt x="1432" y="10746"/>
                </a:lnTo>
                <a:lnTo>
                  <a:pt x="1409" y="10670"/>
                </a:lnTo>
                <a:lnTo>
                  <a:pt x="1351" y="10578"/>
                </a:lnTo>
                <a:lnTo>
                  <a:pt x="1351" y="10578"/>
                </a:lnTo>
                <a:lnTo>
                  <a:pt x="1340" y="10670"/>
                </a:lnTo>
                <a:lnTo>
                  <a:pt x="1328" y="10761"/>
                </a:lnTo>
                <a:lnTo>
                  <a:pt x="1328" y="10807"/>
                </a:lnTo>
                <a:lnTo>
                  <a:pt x="1340" y="10853"/>
                </a:lnTo>
                <a:lnTo>
                  <a:pt x="1351" y="10898"/>
                </a:lnTo>
                <a:lnTo>
                  <a:pt x="1386" y="10929"/>
                </a:lnTo>
                <a:lnTo>
                  <a:pt x="1420" y="10929"/>
                </a:lnTo>
                <a:lnTo>
                  <a:pt x="1466" y="10929"/>
                </a:lnTo>
                <a:close/>
                <a:moveTo>
                  <a:pt x="366" y="10578"/>
                </a:moveTo>
                <a:lnTo>
                  <a:pt x="366" y="10578"/>
                </a:lnTo>
                <a:lnTo>
                  <a:pt x="378" y="10700"/>
                </a:lnTo>
                <a:lnTo>
                  <a:pt x="389" y="10761"/>
                </a:lnTo>
                <a:lnTo>
                  <a:pt x="400" y="10837"/>
                </a:lnTo>
                <a:lnTo>
                  <a:pt x="423" y="10853"/>
                </a:lnTo>
                <a:lnTo>
                  <a:pt x="446" y="10868"/>
                </a:lnTo>
                <a:lnTo>
                  <a:pt x="469" y="10868"/>
                </a:lnTo>
                <a:lnTo>
                  <a:pt x="503" y="10853"/>
                </a:lnTo>
                <a:lnTo>
                  <a:pt x="515" y="10822"/>
                </a:lnTo>
                <a:lnTo>
                  <a:pt x="584" y="10746"/>
                </a:lnTo>
                <a:lnTo>
                  <a:pt x="641" y="10609"/>
                </a:lnTo>
                <a:lnTo>
                  <a:pt x="710" y="10502"/>
                </a:lnTo>
                <a:lnTo>
                  <a:pt x="733" y="10395"/>
                </a:lnTo>
                <a:lnTo>
                  <a:pt x="733" y="10395"/>
                </a:lnTo>
                <a:lnTo>
                  <a:pt x="652" y="10319"/>
                </a:lnTo>
                <a:lnTo>
                  <a:pt x="607" y="10319"/>
                </a:lnTo>
                <a:lnTo>
                  <a:pt x="561" y="10304"/>
                </a:lnTo>
                <a:lnTo>
                  <a:pt x="561" y="10304"/>
                </a:lnTo>
                <a:lnTo>
                  <a:pt x="538" y="10319"/>
                </a:lnTo>
                <a:lnTo>
                  <a:pt x="515" y="10319"/>
                </a:lnTo>
                <a:lnTo>
                  <a:pt x="492" y="10350"/>
                </a:lnTo>
                <a:lnTo>
                  <a:pt x="458" y="10380"/>
                </a:lnTo>
                <a:lnTo>
                  <a:pt x="423" y="10426"/>
                </a:lnTo>
                <a:lnTo>
                  <a:pt x="412" y="10472"/>
                </a:lnTo>
                <a:lnTo>
                  <a:pt x="366" y="10578"/>
                </a:lnTo>
                <a:close/>
                <a:moveTo>
                  <a:pt x="16603" y="10853"/>
                </a:moveTo>
                <a:lnTo>
                  <a:pt x="16603" y="10853"/>
                </a:lnTo>
                <a:lnTo>
                  <a:pt x="16729" y="10792"/>
                </a:lnTo>
                <a:lnTo>
                  <a:pt x="16867" y="10746"/>
                </a:lnTo>
                <a:lnTo>
                  <a:pt x="16959" y="10670"/>
                </a:lnTo>
                <a:lnTo>
                  <a:pt x="17062" y="10578"/>
                </a:lnTo>
                <a:lnTo>
                  <a:pt x="17119" y="10517"/>
                </a:lnTo>
                <a:lnTo>
                  <a:pt x="17176" y="10426"/>
                </a:lnTo>
                <a:lnTo>
                  <a:pt x="17233" y="10350"/>
                </a:lnTo>
                <a:lnTo>
                  <a:pt x="17256" y="10258"/>
                </a:lnTo>
                <a:lnTo>
                  <a:pt x="17268" y="10182"/>
                </a:lnTo>
                <a:lnTo>
                  <a:pt x="17268" y="10091"/>
                </a:lnTo>
                <a:lnTo>
                  <a:pt x="17256" y="10014"/>
                </a:lnTo>
                <a:lnTo>
                  <a:pt x="17233" y="9938"/>
                </a:lnTo>
                <a:lnTo>
                  <a:pt x="17211" y="9847"/>
                </a:lnTo>
                <a:lnTo>
                  <a:pt x="17165" y="9771"/>
                </a:lnTo>
                <a:lnTo>
                  <a:pt x="17108" y="9710"/>
                </a:lnTo>
                <a:lnTo>
                  <a:pt x="17050" y="9633"/>
                </a:lnTo>
                <a:lnTo>
                  <a:pt x="16981" y="9557"/>
                </a:lnTo>
                <a:lnTo>
                  <a:pt x="16901" y="9481"/>
                </a:lnTo>
                <a:lnTo>
                  <a:pt x="16832" y="9420"/>
                </a:lnTo>
                <a:lnTo>
                  <a:pt x="16741" y="9374"/>
                </a:lnTo>
                <a:lnTo>
                  <a:pt x="16661" y="9298"/>
                </a:lnTo>
                <a:lnTo>
                  <a:pt x="16557" y="9252"/>
                </a:lnTo>
                <a:lnTo>
                  <a:pt x="16454" y="9222"/>
                </a:lnTo>
                <a:lnTo>
                  <a:pt x="16351" y="9206"/>
                </a:lnTo>
                <a:lnTo>
                  <a:pt x="16248" y="9161"/>
                </a:lnTo>
                <a:lnTo>
                  <a:pt x="16145" y="9145"/>
                </a:lnTo>
                <a:lnTo>
                  <a:pt x="16042" y="9130"/>
                </a:lnTo>
                <a:lnTo>
                  <a:pt x="15939" y="9130"/>
                </a:lnTo>
                <a:lnTo>
                  <a:pt x="15824" y="9145"/>
                </a:lnTo>
                <a:lnTo>
                  <a:pt x="15732" y="9176"/>
                </a:lnTo>
                <a:lnTo>
                  <a:pt x="15618" y="9206"/>
                </a:lnTo>
                <a:lnTo>
                  <a:pt x="15526" y="9222"/>
                </a:lnTo>
                <a:lnTo>
                  <a:pt x="15526" y="9222"/>
                </a:lnTo>
                <a:lnTo>
                  <a:pt x="15538" y="9298"/>
                </a:lnTo>
                <a:lnTo>
                  <a:pt x="15560" y="9359"/>
                </a:lnTo>
                <a:lnTo>
                  <a:pt x="15583" y="9405"/>
                </a:lnTo>
                <a:lnTo>
                  <a:pt x="15629" y="9450"/>
                </a:lnTo>
                <a:lnTo>
                  <a:pt x="15664" y="9481"/>
                </a:lnTo>
                <a:lnTo>
                  <a:pt x="15721" y="9481"/>
                </a:lnTo>
                <a:lnTo>
                  <a:pt x="15767" y="9496"/>
                </a:lnTo>
                <a:lnTo>
                  <a:pt x="15824" y="9496"/>
                </a:lnTo>
                <a:lnTo>
                  <a:pt x="15824" y="9496"/>
                </a:lnTo>
                <a:lnTo>
                  <a:pt x="15801" y="9572"/>
                </a:lnTo>
                <a:lnTo>
                  <a:pt x="15778" y="9649"/>
                </a:lnTo>
                <a:lnTo>
                  <a:pt x="15755" y="9679"/>
                </a:lnTo>
                <a:lnTo>
                  <a:pt x="15709" y="9725"/>
                </a:lnTo>
                <a:lnTo>
                  <a:pt x="15664" y="9740"/>
                </a:lnTo>
                <a:lnTo>
                  <a:pt x="15595" y="9740"/>
                </a:lnTo>
                <a:lnTo>
                  <a:pt x="15538" y="9740"/>
                </a:lnTo>
                <a:lnTo>
                  <a:pt x="15469" y="9725"/>
                </a:lnTo>
                <a:lnTo>
                  <a:pt x="15469" y="9725"/>
                </a:lnTo>
                <a:lnTo>
                  <a:pt x="15549" y="9816"/>
                </a:lnTo>
                <a:lnTo>
                  <a:pt x="15687" y="9984"/>
                </a:lnTo>
                <a:lnTo>
                  <a:pt x="16076" y="10365"/>
                </a:lnTo>
                <a:lnTo>
                  <a:pt x="16443" y="10731"/>
                </a:lnTo>
                <a:lnTo>
                  <a:pt x="16557" y="10822"/>
                </a:lnTo>
                <a:lnTo>
                  <a:pt x="16592" y="10853"/>
                </a:lnTo>
                <a:lnTo>
                  <a:pt x="16603" y="10853"/>
                </a:lnTo>
                <a:close/>
                <a:moveTo>
                  <a:pt x="15939" y="10853"/>
                </a:moveTo>
                <a:lnTo>
                  <a:pt x="15939" y="10853"/>
                </a:lnTo>
                <a:lnTo>
                  <a:pt x="15973" y="10807"/>
                </a:lnTo>
                <a:lnTo>
                  <a:pt x="16007" y="10761"/>
                </a:lnTo>
                <a:lnTo>
                  <a:pt x="16019" y="10731"/>
                </a:lnTo>
                <a:lnTo>
                  <a:pt x="16030" y="10685"/>
                </a:lnTo>
                <a:lnTo>
                  <a:pt x="16030" y="10654"/>
                </a:lnTo>
                <a:lnTo>
                  <a:pt x="16030" y="10624"/>
                </a:lnTo>
                <a:lnTo>
                  <a:pt x="16019" y="10609"/>
                </a:lnTo>
                <a:lnTo>
                  <a:pt x="16007" y="10609"/>
                </a:lnTo>
                <a:lnTo>
                  <a:pt x="16007" y="10609"/>
                </a:lnTo>
                <a:lnTo>
                  <a:pt x="15973" y="10624"/>
                </a:lnTo>
                <a:lnTo>
                  <a:pt x="15950" y="10670"/>
                </a:lnTo>
                <a:lnTo>
                  <a:pt x="15939" y="10746"/>
                </a:lnTo>
                <a:lnTo>
                  <a:pt x="15939" y="10853"/>
                </a:lnTo>
                <a:close/>
                <a:moveTo>
                  <a:pt x="5121" y="10776"/>
                </a:moveTo>
                <a:lnTo>
                  <a:pt x="5121" y="10776"/>
                </a:lnTo>
                <a:lnTo>
                  <a:pt x="5729" y="10853"/>
                </a:lnTo>
                <a:lnTo>
                  <a:pt x="5729" y="10853"/>
                </a:lnTo>
                <a:lnTo>
                  <a:pt x="5717" y="10670"/>
                </a:lnTo>
                <a:lnTo>
                  <a:pt x="5706" y="10487"/>
                </a:lnTo>
                <a:lnTo>
                  <a:pt x="5660" y="10319"/>
                </a:lnTo>
                <a:lnTo>
                  <a:pt x="5626" y="10197"/>
                </a:lnTo>
                <a:lnTo>
                  <a:pt x="5568" y="10091"/>
                </a:lnTo>
                <a:lnTo>
                  <a:pt x="5522" y="10014"/>
                </a:lnTo>
                <a:lnTo>
                  <a:pt x="5465" y="9984"/>
                </a:lnTo>
                <a:lnTo>
                  <a:pt x="5431" y="9969"/>
                </a:lnTo>
                <a:lnTo>
                  <a:pt x="5408" y="9953"/>
                </a:lnTo>
                <a:lnTo>
                  <a:pt x="5408" y="9953"/>
                </a:lnTo>
                <a:lnTo>
                  <a:pt x="5351" y="9969"/>
                </a:lnTo>
                <a:lnTo>
                  <a:pt x="5316" y="9999"/>
                </a:lnTo>
                <a:lnTo>
                  <a:pt x="5282" y="10060"/>
                </a:lnTo>
                <a:lnTo>
                  <a:pt x="5224" y="10167"/>
                </a:lnTo>
                <a:lnTo>
                  <a:pt x="5190" y="10258"/>
                </a:lnTo>
                <a:lnTo>
                  <a:pt x="5156" y="10426"/>
                </a:lnTo>
                <a:lnTo>
                  <a:pt x="5144" y="10578"/>
                </a:lnTo>
                <a:lnTo>
                  <a:pt x="5121" y="10776"/>
                </a:lnTo>
                <a:close/>
                <a:moveTo>
                  <a:pt x="4709" y="10853"/>
                </a:moveTo>
                <a:lnTo>
                  <a:pt x="4709" y="10853"/>
                </a:lnTo>
                <a:lnTo>
                  <a:pt x="4652" y="10700"/>
                </a:lnTo>
                <a:lnTo>
                  <a:pt x="4606" y="10594"/>
                </a:lnTo>
                <a:lnTo>
                  <a:pt x="4572" y="10563"/>
                </a:lnTo>
                <a:lnTo>
                  <a:pt x="4560" y="10517"/>
                </a:lnTo>
                <a:lnTo>
                  <a:pt x="4548" y="10517"/>
                </a:lnTo>
                <a:lnTo>
                  <a:pt x="4514" y="10517"/>
                </a:lnTo>
                <a:lnTo>
                  <a:pt x="4503" y="10517"/>
                </a:lnTo>
                <a:lnTo>
                  <a:pt x="4468" y="10517"/>
                </a:lnTo>
                <a:lnTo>
                  <a:pt x="4400" y="10578"/>
                </a:lnTo>
                <a:lnTo>
                  <a:pt x="4331" y="10670"/>
                </a:lnTo>
                <a:lnTo>
                  <a:pt x="4239" y="10776"/>
                </a:lnTo>
                <a:lnTo>
                  <a:pt x="4239" y="10776"/>
                </a:lnTo>
                <a:lnTo>
                  <a:pt x="4331" y="10761"/>
                </a:lnTo>
                <a:lnTo>
                  <a:pt x="4411" y="10761"/>
                </a:lnTo>
                <a:lnTo>
                  <a:pt x="4411" y="10761"/>
                </a:lnTo>
                <a:lnTo>
                  <a:pt x="4491" y="10761"/>
                </a:lnTo>
                <a:lnTo>
                  <a:pt x="4560" y="10776"/>
                </a:lnTo>
                <a:lnTo>
                  <a:pt x="4629" y="10807"/>
                </a:lnTo>
                <a:lnTo>
                  <a:pt x="4709" y="10853"/>
                </a:lnTo>
                <a:close/>
                <a:moveTo>
                  <a:pt x="13097" y="10731"/>
                </a:moveTo>
                <a:lnTo>
                  <a:pt x="13097" y="10731"/>
                </a:lnTo>
                <a:lnTo>
                  <a:pt x="13177" y="10639"/>
                </a:lnTo>
                <a:lnTo>
                  <a:pt x="13223" y="10578"/>
                </a:lnTo>
                <a:lnTo>
                  <a:pt x="13235" y="10548"/>
                </a:lnTo>
                <a:lnTo>
                  <a:pt x="13235" y="10517"/>
                </a:lnTo>
                <a:lnTo>
                  <a:pt x="13211" y="10395"/>
                </a:lnTo>
                <a:lnTo>
                  <a:pt x="13211" y="10395"/>
                </a:lnTo>
                <a:lnTo>
                  <a:pt x="13097" y="10731"/>
                </a:lnTo>
                <a:close/>
                <a:moveTo>
                  <a:pt x="4950" y="10578"/>
                </a:moveTo>
                <a:lnTo>
                  <a:pt x="4950" y="10578"/>
                </a:lnTo>
                <a:lnTo>
                  <a:pt x="4950" y="10472"/>
                </a:lnTo>
                <a:lnTo>
                  <a:pt x="4938" y="10365"/>
                </a:lnTo>
                <a:lnTo>
                  <a:pt x="4927" y="10273"/>
                </a:lnTo>
                <a:lnTo>
                  <a:pt x="4881" y="10213"/>
                </a:lnTo>
                <a:lnTo>
                  <a:pt x="4835" y="10152"/>
                </a:lnTo>
                <a:lnTo>
                  <a:pt x="4766" y="10106"/>
                </a:lnTo>
                <a:lnTo>
                  <a:pt x="4697" y="10075"/>
                </a:lnTo>
                <a:lnTo>
                  <a:pt x="4594" y="10045"/>
                </a:lnTo>
                <a:lnTo>
                  <a:pt x="4594" y="10045"/>
                </a:lnTo>
                <a:lnTo>
                  <a:pt x="4617" y="10182"/>
                </a:lnTo>
                <a:lnTo>
                  <a:pt x="4640" y="10289"/>
                </a:lnTo>
                <a:lnTo>
                  <a:pt x="4686" y="10395"/>
                </a:lnTo>
                <a:lnTo>
                  <a:pt x="4721" y="10472"/>
                </a:lnTo>
                <a:lnTo>
                  <a:pt x="4766" y="10517"/>
                </a:lnTo>
                <a:lnTo>
                  <a:pt x="4823" y="10563"/>
                </a:lnTo>
                <a:lnTo>
                  <a:pt x="4892" y="10578"/>
                </a:lnTo>
                <a:lnTo>
                  <a:pt x="4950" y="10578"/>
                </a:lnTo>
                <a:close/>
                <a:moveTo>
                  <a:pt x="15159" y="10517"/>
                </a:moveTo>
                <a:lnTo>
                  <a:pt x="15159" y="10517"/>
                </a:lnTo>
                <a:lnTo>
                  <a:pt x="15262" y="10517"/>
                </a:lnTo>
                <a:lnTo>
                  <a:pt x="15286" y="10517"/>
                </a:lnTo>
                <a:lnTo>
                  <a:pt x="15286" y="10502"/>
                </a:lnTo>
                <a:lnTo>
                  <a:pt x="15251" y="10365"/>
                </a:lnTo>
                <a:lnTo>
                  <a:pt x="15228" y="10258"/>
                </a:lnTo>
                <a:lnTo>
                  <a:pt x="15217" y="10121"/>
                </a:lnTo>
                <a:lnTo>
                  <a:pt x="15217" y="10121"/>
                </a:lnTo>
                <a:lnTo>
                  <a:pt x="15159" y="10517"/>
                </a:lnTo>
                <a:close/>
                <a:moveTo>
                  <a:pt x="4239" y="10517"/>
                </a:moveTo>
                <a:lnTo>
                  <a:pt x="4239" y="10517"/>
                </a:lnTo>
                <a:lnTo>
                  <a:pt x="4331" y="10502"/>
                </a:lnTo>
                <a:lnTo>
                  <a:pt x="4365" y="10472"/>
                </a:lnTo>
                <a:lnTo>
                  <a:pt x="4400" y="10441"/>
                </a:lnTo>
                <a:lnTo>
                  <a:pt x="4423" y="10411"/>
                </a:lnTo>
                <a:lnTo>
                  <a:pt x="4457" y="10350"/>
                </a:lnTo>
                <a:lnTo>
                  <a:pt x="4503" y="10258"/>
                </a:lnTo>
                <a:lnTo>
                  <a:pt x="4503" y="10258"/>
                </a:lnTo>
                <a:lnTo>
                  <a:pt x="4423" y="10243"/>
                </a:lnTo>
                <a:lnTo>
                  <a:pt x="4377" y="10228"/>
                </a:lnTo>
                <a:lnTo>
                  <a:pt x="4377" y="10228"/>
                </a:lnTo>
                <a:lnTo>
                  <a:pt x="4342" y="10228"/>
                </a:lnTo>
                <a:lnTo>
                  <a:pt x="4308" y="10243"/>
                </a:lnTo>
                <a:lnTo>
                  <a:pt x="4285" y="10258"/>
                </a:lnTo>
                <a:lnTo>
                  <a:pt x="4262" y="10289"/>
                </a:lnTo>
                <a:lnTo>
                  <a:pt x="4251" y="10334"/>
                </a:lnTo>
                <a:lnTo>
                  <a:pt x="4239" y="10395"/>
                </a:lnTo>
                <a:lnTo>
                  <a:pt x="4239" y="10517"/>
                </a:lnTo>
                <a:close/>
                <a:moveTo>
                  <a:pt x="15526" y="10258"/>
                </a:moveTo>
                <a:lnTo>
                  <a:pt x="15526" y="10258"/>
                </a:lnTo>
                <a:lnTo>
                  <a:pt x="15492" y="10304"/>
                </a:lnTo>
                <a:lnTo>
                  <a:pt x="15469" y="10350"/>
                </a:lnTo>
                <a:lnTo>
                  <a:pt x="15469" y="10395"/>
                </a:lnTo>
                <a:lnTo>
                  <a:pt x="15480" y="10426"/>
                </a:lnTo>
                <a:lnTo>
                  <a:pt x="15515" y="10426"/>
                </a:lnTo>
                <a:lnTo>
                  <a:pt x="15560" y="10426"/>
                </a:lnTo>
                <a:lnTo>
                  <a:pt x="15675" y="10395"/>
                </a:lnTo>
                <a:lnTo>
                  <a:pt x="15675" y="10395"/>
                </a:lnTo>
                <a:lnTo>
                  <a:pt x="15675" y="10319"/>
                </a:lnTo>
                <a:lnTo>
                  <a:pt x="15664" y="10273"/>
                </a:lnTo>
                <a:lnTo>
                  <a:pt x="15618" y="10258"/>
                </a:lnTo>
                <a:lnTo>
                  <a:pt x="15572" y="10243"/>
                </a:lnTo>
                <a:lnTo>
                  <a:pt x="15572" y="10243"/>
                </a:lnTo>
                <a:lnTo>
                  <a:pt x="15526" y="10258"/>
                </a:lnTo>
                <a:close/>
                <a:moveTo>
                  <a:pt x="12226" y="10395"/>
                </a:moveTo>
                <a:lnTo>
                  <a:pt x="12226" y="10395"/>
                </a:lnTo>
                <a:lnTo>
                  <a:pt x="12180" y="10304"/>
                </a:lnTo>
                <a:lnTo>
                  <a:pt x="12123" y="10258"/>
                </a:lnTo>
                <a:lnTo>
                  <a:pt x="12123" y="10258"/>
                </a:lnTo>
                <a:lnTo>
                  <a:pt x="12226" y="10395"/>
                </a:lnTo>
                <a:close/>
                <a:moveTo>
                  <a:pt x="733" y="10258"/>
                </a:moveTo>
                <a:lnTo>
                  <a:pt x="733" y="10258"/>
                </a:lnTo>
                <a:lnTo>
                  <a:pt x="1088" y="10395"/>
                </a:lnTo>
                <a:lnTo>
                  <a:pt x="1088" y="10395"/>
                </a:lnTo>
                <a:lnTo>
                  <a:pt x="1088" y="10273"/>
                </a:lnTo>
                <a:lnTo>
                  <a:pt x="1077" y="10197"/>
                </a:lnTo>
                <a:lnTo>
                  <a:pt x="1054" y="10121"/>
                </a:lnTo>
                <a:lnTo>
                  <a:pt x="1008" y="10075"/>
                </a:lnTo>
                <a:lnTo>
                  <a:pt x="973" y="10014"/>
                </a:lnTo>
                <a:lnTo>
                  <a:pt x="928" y="9999"/>
                </a:lnTo>
                <a:lnTo>
                  <a:pt x="893" y="9984"/>
                </a:lnTo>
                <a:lnTo>
                  <a:pt x="859" y="9969"/>
                </a:lnTo>
                <a:lnTo>
                  <a:pt x="859" y="9969"/>
                </a:lnTo>
                <a:lnTo>
                  <a:pt x="813" y="9969"/>
                </a:lnTo>
                <a:lnTo>
                  <a:pt x="779" y="9984"/>
                </a:lnTo>
                <a:lnTo>
                  <a:pt x="767" y="9999"/>
                </a:lnTo>
                <a:lnTo>
                  <a:pt x="733" y="10030"/>
                </a:lnTo>
                <a:lnTo>
                  <a:pt x="721" y="10075"/>
                </a:lnTo>
                <a:lnTo>
                  <a:pt x="710" y="10121"/>
                </a:lnTo>
                <a:lnTo>
                  <a:pt x="710" y="10182"/>
                </a:lnTo>
                <a:lnTo>
                  <a:pt x="733" y="10258"/>
                </a:lnTo>
                <a:close/>
                <a:moveTo>
                  <a:pt x="19594" y="10319"/>
                </a:moveTo>
                <a:lnTo>
                  <a:pt x="19594" y="10319"/>
                </a:lnTo>
                <a:lnTo>
                  <a:pt x="19537" y="10136"/>
                </a:lnTo>
                <a:lnTo>
                  <a:pt x="19502" y="10060"/>
                </a:lnTo>
                <a:lnTo>
                  <a:pt x="19468" y="9999"/>
                </a:lnTo>
                <a:lnTo>
                  <a:pt x="19434" y="9938"/>
                </a:lnTo>
                <a:lnTo>
                  <a:pt x="19399" y="9908"/>
                </a:lnTo>
                <a:lnTo>
                  <a:pt x="19353" y="9862"/>
                </a:lnTo>
                <a:lnTo>
                  <a:pt x="19308" y="9816"/>
                </a:lnTo>
                <a:lnTo>
                  <a:pt x="19216" y="9771"/>
                </a:lnTo>
                <a:lnTo>
                  <a:pt x="19090" y="9740"/>
                </a:lnTo>
                <a:lnTo>
                  <a:pt x="18964" y="9710"/>
                </a:lnTo>
                <a:lnTo>
                  <a:pt x="18815" y="9649"/>
                </a:lnTo>
                <a:lnTo>
                  <a:pt x="18815" y="9649"/>
                </a:lnTo>
                <a:lnTo>
                  <a:pt x="18735" y="9786"/>
                </a:lnTo>
                <a:lnTo>
                  <a:pt x="18666" y="9908"/>
                </a:lnTo>
                <a:lnTo>
                  <a:pt x="18643" y="9999"/>
                </a:lnTo>
                <a:lnTo>
                  <a:pt x="18632" y="10075"/>
                </a:lnTo>
                <a:lnTo>
                  <a:pt x="18632" y="10152"/>
                </a:lnTo>
                <a:lnTo>
                  <a:pt x="18643" y="10213"/>
                </a:lnTo>
                <a:lnTo>
                  <a:pt x="18666" y="10243"/>
                </a:lnTo>
                <a:lnTo>
                  <a:pt x="18723" y="10258"/>
                </a:lnTo>
                <a:lnTo>
                  <a:pt x="18792" y="10289"/>
                </a:lnTo>
                <a:lnTo>
                  <a:pt x="18849" y="10304"/>
                </a:lnTo>
                <a:lnTo>
                  <a:pt x="19021" y="10319"/>
                </a:lnTo>
                <a:lnTo>
                  <a:pt x="19376" y="10304"/>
                </a:lnTo>
                <a:lnTo>
                  <a:pt x="19376" y="10304"/>
                </a:lnTo>
                <a:lnTo>
                  <a:pt x="19491" y="10304"/>
                </a:lnTo>
                <a:lnTo>
                  <a:pt x="19594" y="10319"/>
                </a:lnTo>
                <a:close/>
                <a:moveTo>
                  <a:pt x="6199" y="10182"/>
                </a:moveTo>
                <a:lnTo>
                  <a:pt x="6199" y="10182"/>
                </a:lnTo>
                <a:lnTo>
                  <a:pt x="6325" y="10075"/>
                </a:lnTo>
                <a:lnTo>
                  <a:pt x="6370" y="10030"/>
                </a:lnTo>
                <a:lnTo>
                  <a:pt x="6416" y="9999"/>
                </a:lnTo>
                <a:lnTo>
                  <a:pt x="6439" y="9953"/>
                </a:lnTo>
                <a:lnTo>
                  <a:pt x="6474" y="9908"/>
                </a:lnTo>
                <a:lnTo>
                  <a:pt x="6485" y="9862"/>
                </a:lnTo>
                <a:lnTo>
                  <a:pt x="6496" y="9816"/>
                </a:lnTo>
                <a:lnTo>
                  <a:pt x="6485" y="9771"/>
                </a:lnTo>
                <a:lnTo>
                  <a:pt x="6474" y="9740"/>
                </a:lnTo>
                <a:lnTo>
                  <a:pt x="6428" y="9664"/>
                </a:lnTo>
                <a:lnTo>
                  <a:pt x="6370" y="9588"/>
                </a:lnTo>
                <a:lnTo>
                  <a:pt x="6302" y="9527"/>
                </a:lnTo>
                <a:lnTo>
                  <a:pt x="6221" y="9481"/>
                </a:lnTo>
                <a:lnTo>
                  <a:pt x="6118" y="9420"/>
                </a:lnTo>
                <a:lnTo>
                  <a:pt x="5924" y="9328"/>
                </a:lnTo>
                <a:lnTo>
                  <a:pt x="5752" y="9267"/>
                </a:lnTo>
                <a:lnTo>
                  <a:pt x="5637" y="9222"/>
                </a:lnTo>
                <a:lnTo>
                  <a:pt x="5637" y="9222"/>
                </a:lnTo>
                <a:lnTo>
                  <a:pt x="5637" y="9298"/>
                </a:lnTo>
                <a:lnTo>
                  <a:pt x="5649" y="9374"/>
                </a:lnTo>
                <a:lnTo>
                  <a:pt x="5660" y="9450"/>
                </a:lnTo>
                <a:lnTo>
                  <a:pt x="5694" y="9481"/>
                </a:lnTo>
                <a:lnTo>
                  <a:pt x="5752" y="9618"/>
                </a:lnTo>
                <a:lnTo>
                  <a:pt x="5832" y="9725"/>
                </a:lnTo>
                <a:lnTo>
                  <a:pt x="6015" y="9938"/>
                </a:lnTo>
                <a:lnTo>
                  <a:pt x="6107" y="10045"/>
                </a:lnTo>
                <a:lnTo>
                  <a:pt x="6199" y="10182"/>
                </a:lnTo>
                <a:close/>
                <a:moveTo>
                  <a:pt x="11504" y="10121"/>
                </a:moveTo>
                <a:lnTo>
                  <a:pt x="11504" y="10121"/>
                </a:lnTo>
                <a:lnTo>
                  <a:pt x="11481" y="9984"/>
                </a:lnTo>
                <a:lnTo>
                  <a:pt x="11458" y="9908"/>
                </a:lnTo>
                <a:lnTo>
                  <a:pt x="11424" y="9847"/>
                </a:lnTo>
                <a:lnTo>
                  <a:pt x="11344" y="9771"/>
                </a:lnTo>
                <a:lnTo>
                  <a:pt x="11344" y="9771"/>
                </a:lnTo>
                <a:lnTo>
                  <a:pt x="11504" y="10121"/>
                </a:lnTo>
                <a:close/>
                <a:moveTo>
                  <a:pt x="527" y="9908"/>
                </a:moveTo>
                <a:lnTo>
                  <a:pt x="527" y="9908"/>
                </a:lnTo>
                <a:lnTo>
                  <a:pt x="595" y="9877"/>
                </a:lnTo>
                <a:lnTo>
                  <a:pt x="675" y="9847"/>
                </a:lnTo>
                <a:lnTo>
                  <a:pt x="733" y="9816"/>
                </a:lnTo>
                <a:lnTo>
                  <a:pt x="813" y="9816"/>
                </a:lnTo>
                <a:lnTo>
                  <a:pt x="882" y="9816"/>
                </a:lnTo>
                <a:lnTo>
                  <a:pt x="950" y="9816"/>
                </a:lnTo>
                <a:lnTo>
                  <a:pt x="1019" y="9816"/>
                </a:lnTo>
                <a:lnTo>
                  <a:pt x="1088" y="9847"/>
                </a:lnTo>
                <a:lnTo>
                  <a:pt x="1088" y="9847"/>
                </a:lnTo>
                <a:lnTo>
                  <a:pt x="1065" y="9664"/>
                </a:lnTo>
                <a:lnTo>
                  <a:pt x="1031" y="9588"/>
                </a:lnTo>
                <a:lnTo>
                  <a:pt x="996" y="9527"/>
                </a:lnTo>
                <a:lnTo>
                  <a:pt x="973" y="9481"/>
                </a:lnTo>
                <a:lnTo>
                  <a:pt x="916" y="9450"/>
                </a:lnTo>
                <a:lnTo>
                  <a:pt x="859" y="9405"/>
                </a:lnTo>
                <a:lnTo>
                  <a:pt x="779" y="9374"/>
                </a:lnTo>
                <a:lnTo>
                  <a:pt x="779" y="9374"/>
                </a:lnTo>
                <a:lnTo>
                  <a:pt x="527" y="9908"/>
                </a:lnTo>
                <a:close/>
                <a:moveTo>
                  <a:pt x="10885" y="9725"/>
                </a:moveTo>
                <a:lnTo>
                  <a:pt x="10885" y="9725"/>
                </a:lnTo>
                <a:lnTo>
                  <a:pt x="11137" y="9771"/>
                </a:lnTo>
                <a:lnTo>
                  <a:pt x="11137" y="9771"/>
                </a:lnTo>
                <a:lnTo>
                  <a:pt x="11115" y="9725"/>
                </a:lnTo>
                <a:lnTo>
                  <a:pt x="11080" y="9679"/>
                </a:lnTo>
                <a:lnTo>
                  <a:pt x="11034" y="9649"/>
                </a:lnTo>
                <a:lnTo>
                  <a:pt x="11000" y="9649"/>
                </a:lnTo>
                <a:lnTo>
                  <a:pt x="11000" y="9649"/>
                </a:lnTo>
                <a:lnTo>
                  <a:pt x="10966" y="9649"/>
                </a:lnTo>
                <a:lnTo>
                  <a:pt x="10931" y="9664"/>
                </a:lnTo>
                <a:lnTo>
                  <a:pt x="10885" y="9725"/>
                </a:lnTo>
                <a:close/>
                <a:moveTo>
                  <a:pt x="1970" y="9771"/>
                </a:moveTo>
                <a:lnTo>
                  <a:pt x="1970" y="9771"/>
                </a:lnTo>
                <a:lnTo>
                  <a:pt x="2039" y="9740"/>
                </a:lnTo>
                <a:lnTo>
                  <a:pt x="2073" y="9725"/>
                </a:lnTo>
                <a:lnTo>
                  <a:pt x="2119" y="9664"/>
                </a:lnTo>
                <a:lnTo>
                  <a:pt x="2142" y="9603"/>
                </a:lnTo>
                <a:lnTo>
                  <a:pt x="2154" y="9542"/>
                </a:lnTo>
                <a:lnTo>
                  <a:pt x="2154" y="9481"/>
                </a:lnTo>
                <a:lnTo>
                  <a:pt x="2142" y="9389"/>
                </a:lnTo>
                <a:lnTo>
                  <a:pt x="2131" y="9298"/>
                </a:lnTo>
                <a:lnTo>
                  <a:pt x="2131" y="9298"/>
                </a:lnTo>
                <a:lnTo>
                  <a:pt x="1970" y="9771"/>
                </a:lnTo>
                <a:close/>
                <a:moveTo>
                  <a:pt x="2383" y="9496"/>
                </a:moveTo>
                <a:lnTo>
                  <a:pt x="2383" y="9496"/>
                </a:lnTo>
                <a:lnTo>
                  <a:pt x="2440" y="9496"/>
                </a:lnTo>
                <a:lnTo>
                  <a:pt x="2486" y="9481"/>
                </a:lnTo>
                <a:lnTo>
                  <a:pt x="2520" y="9481"/>
                </a:lnTo>
                <a:lnTo>
                  <a:pt x="2555" y="9466"/>
                </a:lnTo>
                <a:lnTo>
                  <a:pt x="2578" y="9435"/>
                </a:lnTo>
                <a:lnTo>
                  <a:pt x="2612" y="9405"/>
                </a:lnTo>
                <a:lnTo>
                  <a:pt x="2623" y="9374"/>
                </a:lnTo>
                <a:lnTo>
                  <a:pt x="2635" y="9344"/>
                </a:lnTo>
                <a:lnTo>
                  <a:pt x="2635" y="9298"/>
                </a:lnTo>
                <a:lnTo>
                  <a:pt x="2635" y="9283"/>
                </a:lnTo>
                <a:lnTo>
                  <a:pt x="2612" y="9237"/>
                </a:lnTo>
                <a:lnTo>
                  <a:pt x="2589" y="9222"/>
                </a:lnTo>
                <a:lnTo>
                  <a:pt x="2566" y="9206"/>
                </a:lnTo>
                <a:lnTo>
                  <a:pt x="2532" y="9191"/>
                </a:lnTo>
                <a:lnTo>
                  <a:pt x="2486" y="9176"/>
                </a:lnTo>
                <a:lnTo>
                  <a:pt x="2440" y="9176"/>
                </a:lnTo>
                <a:lnTo>
                  <a:pt x="2440" y="9176"/>
                </a:lnTo>
                <a:lnTo>
                  <a:pt x="2383" y="9496"/>
                </a:lnTo>
                <a:close/>
                <a:moveTo>
                  <a:pt x="10003" y="9450"/>
                </a:moveTo>
                <a:lnTo>
                  <a:pt x="10003" y="9450"/>
                </a:lnTo>
                <a:lnTo>
                  <a:pt x="9969" y="9374"/>
                </a:lnTo>
                <a:lnTo>
                  <a:pt x="9934" y="9298"/>
                </a:lnTo>
                <a:lnTo>
                  <a:pt x="9877" y="9252"/>
                </a:lnTo>
                <a:lnTo>
                  <a:pt x="9820" y="9222"/>
                </a:lnTo>
                <a:lnTo>
                  <a:pt x="9774" y="9176"/>
                </a:lnTo>
                <a:lnTo>
                  <a:pt x="9705" y="9145"/>
                </a:lnTo>
                <a:lnTo>
                  <a:pt x="9545" y="9100"/>
                </a:lnTo>
                <a:lnTo>
                  <a:pt x="9545" y="9100"/>
                </a:lnTo>
                <a:lnTo>
                  <a:pt x="10003" y="9450"/>
                </a:lnTo>
                <a:close/>
                <a:moveTo>
                  <a:pt x="1351" y="9176"/>
                </a:moveTo>
                <a:lnTo>
                  <a:pt x="1351" y="9176"/>
                </a:lnTo>
                <a:lnTo>
                  <a:pt x="996" y="9176"/>
                </a:lnTo>
                <a:lnTo>
                  <a:pt x="996" y="9176"/>
                </a:lnTo>
                <a:lnTo>
                  <a:pt x="1008" y="9222"/>
                </a:lnTo>
                <a:lnTo>
                  <a:pt x="1031" y="9252"/>
                </a:lnTo>
                <a:lnTo>
                  <a:pt x="1077" y="9298"/>
                </a:lnTo>
                <a:lnTo>
                  <a:pt x="1134" y="9344"/>
                </a:lnTo>
                <a:lnTo>
                  <a:pt x="1203" y="9359"/>
                </a:lnTo>
                <a:lnTo>
                  <a:pt x="1260" y="9344"/>
                </a:lnTo>
                <a:lnTo>
                  <a:pt x="1306" y="9298"/>
                </a:lnTo>
                <a:lnTo>
                  <a:pt x="1328" y="9283"/>
                </a:lnTo>
                <a:lnTo>
                  <a:pt x="1340" y="9252"/>
                </a:lnTo>
                <a:lnTo>
                  <a:pt x="1351" y="9222"/>
                </a:lnTo>
                <a:lnTo>
                  <a:pt x="1351" y="9176"/>
                </a:lnTo>
                <a:close/>
                <a:moveTo>
                  <a:pt x="2589" y="9100"/>
                </a:moveTo>
                <a:lnTo>
                  <a:pt x="2589" y="9100"/>
                </a:lnTo>
                <a:lnTo>
                  <a:pt x="2692" y="9206"/>
                </a:lnTo>
                <a:lnTo>
                  <a:pt x="2784" y="9237"/>
                </a:lnTo>
                <a:lnTo>
                  <a:pt x="2853" y="9283"/>
                </a:lnTo>
                <a:lnTo>
                  <a:pt x="2887" y="9283"/>
                </a:lnTo>
                <a:lnTo>
                  <a:pt x="2910" y="9283"/>
                </a:lnTo>
                <a:lnTo>
                  <a:pt x="2921" y="9267"/>
                </a:lnTo>
                <a:lnTo>
                  <a:pt x="2944" y="9237"/>
                </a:lnTo>
                <a:lnTo>
                  <a:pt x="2956" y="9222"/>
                </a:lnTo>
                <a:lnTo>
                  <a:pt x="2967" y="9191"/>
                </a:lnTo>
                <a:lnTo>
                  <a:pt x="2967" y="9084"/>
                </a:lnTo>
                <a:lnTo>
                  <a:pt x="2956" y="8962"/>
                </a:lnTo>
                <a:lnTo>
                  <a:pt x="2956" y="8962"/>
                </a:lnTo>
                <a:lnTo>
                  <a:pt x="2853" y="8917"/>
                </a:lnTo>
                <a:lnTo>
                  <a:pt x="2807" y="8901"/>
                </a:lnTo>
                <a:lnTo>
                  <a:pt x="2772" y="8901"/>
                </a:lnTo>
                <a:lnTo>
                  <a:pt x="2772" y="8901"/>
                </a:lnTo>
                <a:lnTo>
                  <a:pt x="2704" y="8917"/>
                </a:lnTo>
                <a:lnTo>
                  <a:pt x="2646" y="8962"/>
                </a:lnTo>
                <a:lnTo>
                  <a:pt x="2623" y="9008"/>
                </a:lnTo>
                <a:lnTo>
                  <a:pt x="2589" y="9100"/>
                </a:lnTo>
                <a:close/>
                <a:moveTo>
                  <a:pt x="3162" y="9100"/>
                </a:moveTo>
                <a:lnTo>
                  <a:pt x="3162" y="9100"/>
                </a:lnTo>
                <a:lnTo>
                  <a:pt x="3208" y="9054"/>
                </a:lnTo>
                <a:lnTo>
                  <a:pt x="3231" y="9008"/>
                </a:lnTo>
                <a:lnTo>
                  <a:pt x="3265" y="8962"/>
                </a:lnTo>
                <a:lnTo>
                  <a:pt x="3288" y="8932"/>
                </a:lnTo>
                <a:lnTo>
                  <a:pt x="3288" y="8871"/>
                </a:lnTo>
                <a:lnTo>
                  <a:pt x="3299" y="8825"/>
                </a:lnTo>
                <a:lnTo>
                  <a:pt x="3299" y="8779"/>
                </a:lnTo>
                <a:lnTo>
                  <a:pt x="3288" y="8734"/>
                </a:lnTo>
                <a:lnTo>
                  <a:pt x="3277" y="8703"/>
                </a:lnTo>
                <a:lnTo>
                  <a:pt x="3242" y="8642"/>
                </a:lnTo>
                <a:lnTo>
                  <a:pt x="3197" y="8566"/>
                </a:lnTo>
                <a:lnTo>
                  <a:pt x="3105" y="8490"/>
                </a:lnTo>
                <a:lnTo>
                  <a:pt x="3001" y="8444"/>
                </a:lnTo>
                <a:lnTo>
                  <a:pt x="3001" y="8444"/>
                </a:lnTo>
                <a:lnTo>
                  <a:pt x="3162" y="9100"/>
                </a:lnTo>
                <a:close/>
                <a:moveTo>
                  <a:pt x="2245" y="8917"/>
                </a:moveTo>
                <a:lnTo>
                  <a:pt x="2245" y="8917"/>
                </a:lnTo>
                <a:close/>
                <a:moveTo>
                  <a:pt x="1145" y="8764"/>
                </a:moveTo>
                <a:lnTo>
                  <a:pt x="1145" y="8764"/>
                </a:lnTo>
                <a:lnTo>
                  <a:pt x="1134" y="8871"/>
                </a:lnTo>
                <a:lnTo>
                  <a:pt x="1145" y="8962"/>
                </a:lnTo>
                <a:lnTo>
                  <a:pt x="1157" y="8993"/>
                </a:lnTo>
                <a:lnTo>
                  <a:pt x="1180" y="9039"/>
                </a:lnTo>
                <a:lnTo>
                  <a:pt x="1203" y="9039"/>
                </a:lnTo>
                <a:lnTo>
                  <a:pt x="1226" y="9069"/>
                </a:lnTo>
                <a:lnTo>
                  <a:pt x="1283" y="9084"/>
                </a:lnTo>
                <a:lnTo>
                  <a:pt x="1375" y="9069"/>
                </a:lnTo>
                <a:lnTo>
                  <a:pt x="1489" y="9039"/>
                </a:lnTo>
                <a:lnTo>
                  <a:pt x="1615" y="8962"/>
                </a:lnTo>
                <a:lnTo>
                  <a:pt x="1615" y="8962"/>
                </a:lnTo>
                <a:lnTo>
                  <a:pt x="1615" y="8886"/>
                </a:lnTo>
                <a:lnTo>
                  <a:pt x="1592" y="8825"/>
                </a:lnTo>
                <a:lnTo>
                  <a:pt x="1569" y="8779"/>
                </a:lnTo>
                <a:lnTo>
                  <a:pt x="1558" y="8734"/>
                </a:lnTo>
                <a:lnTo>
                  <a:pt x="1512" y="8703"/>
                </a:lnTo>
                <a:lnTo>
                  <a:pt x="1489" y="8688"/>
                </a:lnTo>
                <a:lnTo>
                  <a:pt x="1455" y="8688"/>
                </a:lnTo>
                <a:lnTo>
                  <a:pt x="1420" y="8673"/>
                </a:lnTo>
                <a:lnTo>
                  <a:pt x="1420" y="8673"/>
                </a:lnTo>
                <a:lnTo>
                  <a:pt x="1340" y="8688"/>
                </a:lnTo>
                <a:lnTo>
                  <a:pt x="1283" y="8703"/>
                </a:lnTo>
                <a:lnTo>
                  <a:pt x="1214" y="8718"/>
                </a:lnTo>
                <a:lnTo>
                  <a:pt x="1145" y="8764"/>
                </a:lnTo>
                <a:close/>
                <a:moveTo>
                  <a:pt x="16661" y="8002"/>
                </a:moveTo>
                <a:lnTo>
                  <a:pt x="16661" y="8002"/>
                </a:lnTo>
                <a:lnTo>
                  <a:pt x="16741" y="7911"/>
                </a:lnTo>
                <a:lnTo>
                  <a:pt x="16810" y="7835"/>
                </a:lnTo>
                <a:lnTo>
                  <a:pt x="16878" y="7743"/>
                </a:lnTo>
                <a:lnTo>
                  <a:pt x="16913" y="7682"/>
                </a:lnTo>
                <a:lnTo>
                  <a:pt x="16947" y="7606"/>
                </a:lnTo>
                <a:lnTo>
                  <a:pt x="16970" y="7530"/>
                </a:lnTo>
                <a:lnTo>
                  <a:pt x="16993" y="7469"/>
                </a:lnTo>
                <a:lnTo>
                  <a:pt x="17004" y="7408"/>
                </a:lnTo>
                <a:lnTo>
                  <a:pt x="17016" y="7225"/>
                </a:lnTo>
                <a:lnTo>
                  <a:pt x="17027" y="7057"/>
                </a:lnTo>
                <a:lnTo>
                  <a:pt x="17062" y="6859"/>
                </a:lnTo>
                <a:lnTo>
                  <a:pt x="17096" y="6722"/>
                </a:lnTo>
                <a:lnTo>
                  <a:pt x="17108" y="6600"/>
                </a:lnTo>
                <a:lnTo>
                  <a:pt x="17108" y="6600"/>
                </a:lnTo>
                <a:lnTo>
                  <a:pt x="17233" y="6615"/>
                </a:lnTo>
                <a:lnTo>
                  <a:pt x="17360" y="6645"/>
                </a:lnTo>
                <a:lnTo>
                  <a:pt x="17646" y="6706"/>
                </a:lnTo>
                <a:lnTo>
                  <a:pt x="17784" y="6752"/>
                </a:lnTo>
                <a:lnTo>
                  <a:pt x="17909" y="6767"/>
                </a:lnTo>
                <a:lnTo>
                  <a:pt x="18036" y="6767"/>
                </a:lnTo>
                <a:lnTo>
                  <a:pt x="18093" y="6752"/>
                </a:lnTo>
                <a:lnTo>
                  <a:pt x="18150" y="6722"/>
                </a:lnTo>
                <a:lnTo>
                  <a:pt x="18150" y="6722"/>
                </a:lnTo>
                <a:lnTo>
                  <a:pt x="17841" y="6386"/>
                </a:lnTo>
                <a:lnTo>
                  <a:pt x="17841" y="6386"/>
                </a:lnTo>
                <a:lnTo>
                  <a:pt x="17669" y="6295"/>
                </a:lnTo>
                <a:lnTo>
                  <a:pt x="17509" y="6234"/>
                </a:lnTo>
                <a:lnTo>
                  <a:pt x="17337" y="6203"/>
                </a:lnTo>
                <a:lnTo>
                  <a:pt x="17176" y="6188"/>
                </a:lnTo>
                <a:lnTo>
                  <a:pt x="17027" y="6219"/>
                </a:lnTo>
                <a:lnTo>
                  <a:pt x="16890" y="6264"/>
                </a:lnTo>
                <a:lnTo>
                  <a:pt x="16741" y="6325"/>
                </a:lnTo>
                <a:lnTo>
                  <a:pt x="16626" y="6401"/>
                </a:lnTo>
                <a:lnTo>
                  <a:pt x="16523" y="6523"/>
                </a:lnTo>
                <a:lnTo>
                  <a:pt x="16420" y="6630"/>
                </a:lnTo>
                <a:lnTo>
                  <a:pt x="16340" y="6767"/>
                </a:lnTo>
                <a:lnTo>
                  <a:pt x="16283" y="6920"/>
                </a:lnTo>
                <a:lnTo>
                  <a:pt x="16236" y="7088"/>
                </a:lnTo>
                <a:lnTo>
                  <a:pt x="16225" y="7164"/>
                </a:lnTo>
                <a:lnTo>
                  <a:pt x="16214" y="7240"/>
                </a:lnTo>
                <a:lnTo>
                  <a:pt x="16214" y="7347"/>
                </a:lnTo>
                <a:lnTo>
                  <a:pt x="16214" y="7423"/>
                </a:lnTo>
                <a:lnTo>
                  <a:pt x="16225" y="7514"/>
                </a:lnTo>
                <a:lnTo>
                  <a:pt x="16236" y="7621"/>
                </a:lnTo>
                <a:lnTo>
                  <a:pt x="16236" y="7621"/>
                </a:lnTo>
                <a:lnTo>
                  <a:pt x="16202" y="7667"/>
                </a:lnTo>
                <a:lnTo>
                  <a:pt x="16145" y="7682"/>
                </a:lnTo>
                <a:lnTo>
                  <a:pt x="16076" y="7713"/>
                </a:lnTo>
                <a:lnTo>
                  <a:pt x="15985" y="7743"/>
                </a:lnTo>
                <a:lnTo>
                  <a:pt x="15790" y="7758"/>
                </a:lnTo>
                <a:lnTo>
                  <a:pt x="15572" y="7789"/>
                </a:lnTo>
                <a:lnTo>
                  <a:pt x="15137" y="7819"/>
                </a:lnTo>
                <a:lnTo>
                  <a:pt x="14942" y="7835"/>
                </a:lnTo>
                <a:lnTo>
                  <a:pt x="14873" y="7865"/>
                </a:lnTo>
                <a:lnTo>
                  <a:pt x="14793" y="7895"/>
                </a:lnTo>
                <a:lnTo>
                  <a:pt x="14793" y="7895"/>
                </a:lnTo>
                <a:lnTo>
                  <a:pt x="14861" y="7972"/>
                </a:lnTo>
                <a:lnTo>
                  <a:pt x="14908" y="8063"/>
                </a:lnTo>
                <a:lnTo>
                  <a:pt x="14942" y="8185"/>
                </a:lnTo>
                <a:lnTo>
                  <a:pt x="14953" y="8292"/>
                </a:lnTo>
                <a:lnTo>
                  <a:pt x="14953" y="8292"/>
                </a:lnTo>
                <a:lnTo>
                  <a:pt x="14804" y="8261"/>
                </a:lnTo>
                <a:lnTo>
                  <a:pt x="14678" y="8200"/>
                </a:lnTo>
                <a:lnTo>
                  <a:pt x="14415" y="8109"/>
                </a:lnTo>
                <a:lnTo>
                  <a:pt x="14289" y="8078"/>
                </a:lnTo>
                <a:lnTo>
                  <a:pt x="14163" y="8048"/>
                </a:lnTo>
                <a:lnTo>
                  <a:pt x="14014" y="8063"/>
                </a:lnTo>
                <a:lnTo>
                  <a:pt x="13945" y="8063"/>
                </a:lnTo>
                <a:lnTo>
                  <a:pt x="13865" y="8094"/>
                </a:lnTo>
                <a:lnTo>
                  <a:pt x="13865" y="8094"/>
                </a:lnTo>
                <a:lnTo>
                  <a:pt x="13945" y="8246"/>
                </a:lnTo>
                <a:lnTo>
                  <a:pt x="14014" y="8368"/>
                </a:lnTo>
                <a:lnTo>
                  <a:pt x="14071" y="8459"/>
                </a:lnTo>
                <a:lnTo>
                  <a:pt x="14151" y="8536"/>
                </a:lnTo>
                <a:lnTo>
                  <a:pt x="14220" y="8612"/>
                </a:lnTo>
                <a:lnTo>
                  <a:pt x="14300" y="8642"/>
                </a:lnTo>
                <a:lnTo>
                  <a:pt x="14369" y="8673"/>
                </a:lnTo>
                <a:lnTo>
                  <a:pt x="14449" y="8688"/>
                </a:lnTo>
                <a:lnTo>
                  <a:pt x="14529" y="8688"/>
                </a:lnTo>
                <a:lnTo>
                  <a:pt x="14610" y="8673"/>
                </a:lnTo>
                <a:lnTo>
                  <a:pt x="14793" y="8627"/>
                </a:lnTo>
                <a:lnTo>
                  <a:pt x="14976" y="8597"/>
                </a:lnTo>
                <a:lnTo>
                  <a:pt x="15159" y="8566"/>
                </a:lnTo>
                <a:lnTo>
                  <a:pt x="15159" y="8566"/>
                </a:lnTo>
                <a:lnTo>
                  <a:pt x="15159" y="8673"/>
                </a:lnTo>
                <a:lnTo>
                  <a:pt x="15159" y="8749"/>
                </a:lnTo>
                <a:lnTo>
                  <a:pt x="15159" y="8825"/>
                </a:lnTo>
                <a:lnTo>
                  <a:pt x="15171" y="8886"/>
                </a:lnTo>
                <a:lnTo>
                  <a:pt x="15194" y="8947"/>
                </a:lnTo>
                <a:lnTo>
                  <a:pt x="15217" y="8962"/>
                </a:lnTo>
                <a:lnTo>
                  <a:pt x="15251" y="8993"/>
                </a:lnTo>
                <a:lnTo>
                  <a:pt x="15297" y="9023"/>
                </a:lnTo>
                <a:lnTo>
                  <a:pt x="15331" y="9023"/>
                </a:lnTo>
                <a:lnTo>
                  <a:pt x="15366" y="9023"/>
                </a:lnTo>
                <a:lnTo>
                  <a:pt x="15492" y="8978"/>
                </a:lnTo>
                <a:lnTo>
                  <a:pt x="15595" y="8932"/>
                </a:lnTo>
                <a:lnTo>
                  <a:pt x="15732" y="8856"/>
                </a:lnTo>
                <a:lnTo>
                  <a:pt x="15870" y="8734"/>
                </a:lnTo>
                <a:lnTo>
                  <a:pt x="15996" y="8627"/>
                </a:lnTo>
                <a:lnTo>
                  <a:pt x="16259" y="8383"/>
                </a:lnTo>
                <a:lnTo>
                  <a:pt x="16661" y="8002"/>
                </a:lnTo>
                <a:close/>
                <a:moveTo>
                  <a:pt x="8364" y="8566"/>
                </a:moveTo>
                <a:lnTo>
                  <a:pt x="8364" y="8566"/>
                </a:lnTo>
                <a:lnTo>
                  <a:pt x="8318" y="8459"/>
                </a:lnTo>
                <a:lnTo>
                  <a:pt x="8273" y="8383"/>
                </a:lnTo>
                <a:lnTo>
                  <a:pt x="8227" y="8307"/>
                </a:lnTo>
                <a:lnTo>
                  <a:pt x="8158" y="8246"/>
                </a:lnTo>
                <a:lnTo>
                  <a:pt x="8089" y="8185"/>
                </a:lnTo>
                <a:lnTo>
                  <a:pt x="8020" y="8155"/>
                </a:lnTo>
                <a:lnTo>
                  <a:pt x="7929" y="8109"/>
                </a:lnTo>
                <a:lnTo>
                  <a:pt x="7837" y="8094"/>
                </a:lnTo>
                <a:lnTo>
                  <a:pt x="7837" y="8094"/>
                </a:lnTo>
                <a:lnTo>
                  <a:pt x="7929" y="8002"/>
                </a:lnTo>
                <a:lnTo>
                  <a:pt x="7998" y="7956"/>
                </a:lnTo>
                <a:lnTo>
                  <a:pt x="8043" y="7926"/>
                </a:lnTo>
                <a:lnTo>
                  <a:pt x="8078" y="7895"/>
                </a:lnTo>
                <a:lnTo>
                  <a:pt x="8078" y="7865"/>
                </a:lnTo>
                <a:lnTo>
                  <a:pt x="8078" y="7850"/>
                </a:lnTo>
                <a:lnTo>
                  <a:pt x="8067" y="7804"/>
                </a:lnTo>
                <a:lnTo>
                  <a:pt x="8009" y="7713"/>
                </a:lnTo>
                <a:lnTo>
                  <a:pt x="7894" y="7621"/>
                </a:lnTo>
                <a:lnTo>
                  <a:pt x="7894" y="7621"/>
                </a:lnTo>
                <a:lnTo>
                  <a:pt x="7940" y="7591"/>
                </a:lnTo>
                <a:lnTo>
                  <a:pt x="7986" y="7575"/>
                </a:lnTo>
                <a:lnTo>
                  <a:pt x="8043" y="7514"/>
                </a:lnTo>
                <a:lnTo>
                  <a:pt x="8089" y="7438"/>
                </a:lnTo>
                <a:lnTo>
                  <a:pt x="8135" y="7362"/>
                </a:lnTo>
                <a:lnTo>
                  <a:pt x="8147" y="7271"/>
                </a:lnTo>
                <a:lnTo>
                  <a:pt x="8135" y="7194"/>
                </a:lnTo>
                <a:lnTo>
                  <a:pt x="8124" y="7164"/>
                </a:lnTo>
                <a:lnTo>
                  <a:pt x="8101" y="7133"/>
                </a:lnTo>
                <a:lnTo>
                  <a:pt x="8078" y="7103"/>
                </a:lnTo>
                <a:lnTo>
                  <a:pt x="8043" y="7072"/>
                </a:lnTo>
                <a:lnTo>
                  <a:pt x="8043" y="7072"/>
                </a:lnTo>
                <a:lnTo>
                  <a:pt x="8135" y="7027"/>
                </a:lnTo>
                <a:lnTo>
                  <a:pt x="8192" y="6966"/>
                </a:lnTo>
                <a:lnTo>
                  <a:pt x="8227" y="6920"/>
                </a:lnTo>
                <a:lnTo>
                  <a:pt x="8250" y="6889"/>
                </a:lnTo>
                <a:lnTo>
                  <a:pt x="8261" y="6828"/>
                </a:lnTo>
                <a:lnTo>
                  <a:pt x="8261" y="6783"/>
                </a:lnTo>
                <a:lnTo>
                  <a:pt x="8250" y="6676"/>
                </a:lnTo>
                <a:lnTo>
                  <a:pt x="8238" y="6569"/>
                </a:lnTo>
                <a:lnTo>
                  <a:pt x="8250" y="6523"/>
                </a:lnTo>
                <a:lnTo>
                  <a:pt x="8261" y="6447"/>
                </a:lnTo>
                <a:lnTo>
                  <a:pt x="8296" y="6386"/>
                </a:lnTo>
                <a:lnTo>
                  <a:pt x="8353" y="6340"/>
                </a:lnTo>
                <a:lnTo>
                  <a:pt x="8422" y="6264"/>
                </a:lnTo>
                <a:lnTo>
                  <a:pt x="8513" y="6188"/>
                </a:lnTo>
                <a:lnTo>
                  <a:pt x="8513" y="6188"/>
                </a:lnTo>
                <a:lnTo>
                  <a:pt x="8364" y="6112"/>
                </a:lnTo>
                <a:lnTo>
                  <a:pt x="8284" y="6051"/>
                </a:lnTo>
                <a:lnTo>
                  <a:pt x="8250" y="6020"/>
                </a:lnTo>
                <a:lnTo>
                  <a:pt x="8250" y="6005"/>
                </a:lnTo>
                <a:lnTo>
                  <a:pt x="8261" y="5990"/>
                </a:lnTo>
                <a:lnTo>
                  <a:pt x="8284" y="5975"/>
                </a:lnTo>
                <a:lnTo>
                  <a:pt x="8364" y="5944"/>
                </a:lnTo>
                <a:lnTo>
                  <a:pt x="8479" y="5929"/>
                </a:lnTo>
                <a:lnTo>
                  <a:pt x="8834" y="5868"/>
                </a:lnTo>
                <a:lnTo>
                  <a:pt x="8834" y="5868"/>
                </a:lnTo>
                <a:lnTo>
                  <a:pt x="8972" y="5944"/>
                </a:lnTo>
                <a:lnTo>
                  <a:pt x="9075" y="6051"/>
                </a:lnTo>
                <a:lnTo>
                  <a:pt x="9178" y="6158"/>
                </a:lnTo>
                <a:lnTo>
                  <a:pt x="9258" y="6280"/>
                </a:lnTo>
                <a:lnTo>
                  <a:pt x="9338" y="6401"/>
                </a:lnTo>
                <a:lnTo>
                  <a:pt x="9407" y="6539"/>
                </a:lnTo>
                <a:lnTo>
                  <a:pt x="9556" y="6798"/>
                </a:lnTo>
                <a:lnTo>
                  <a:pt x="9693" y="7072"/>
                </a:lnTo>
                <a:lnTo>
                  <a:pt x="9785" y="7210"/>
                </a:lnTo>
                <a:lnTo>
                  <a:pt x="9877" y="7347"/>
                </a:lnTo>
                <a:lnTo>
                  <a:pt x="9980" y="7469"/>
                </a:lnTo>
                <a:lnTo>
                  <a:pt x="10118" y="7591"/>
                </a:lnTo>
                <a:lnTo>
                  <a:pt x="10255" y="7713"/>
                </a:lnTo>
                <a:lnTo>
                  <a:pt x="10427" y="7819"/>
                </a:lnTo>
                <a:lnTo>
                  <a:pt x="10427" y="7819"/>
                </a:lnTo>
                <a:lnTo>
                  <a:pt x="10438" y="7728"/>
                </a:lnTo>
                <a:lnTo>
                  <a:pt x="10450" y="7667"/>
                </a:lnTo>
                <a:lnTo>
                  <a:pt x="10473" y="7575"/>
                </a:lnTo>
                <a:lnTo>
                  <a:pt x="10507" y="7530"/>
                </a:lnTo>
                <a:lnTo>
                  <a:pt x="10530" y="7469"/>
                </a:lnTo>
                <a:lnTo>
                  <a:pt x="10553" y="7423"/>
                </a:lnTo>
                <a:lnTo>
                  <a:pt x="10633" y="7362"/>
                </a:lnTo>
                <a:lnTo>
                  <a:pt x="10725" y="7316"/>
                </a:lnTo>
                <a:lnTo>
                  <a:pt x="10817" y="7271"/>
                </a:lnTo>
                <a:lnTo>
                  <a:pt x="11034" y="7210"/>
                </a:lnTo>
                <a:lnTo>
                  <a:pt x="11034" y="7210"/>
                </a:lnTo>
                <a:lnTo>
                  <a:pt x="11069" y="7027"/>
                </a:lnTo>
                <a:lnTo>
                  <a:pt x="11103" y="6859"/>
                </a:lnTo>
                <a:lnTo>
                  <a:pt x="11149" y="6676"/>
                </a:lnTo>
                <a:lnTo>
                  <a:pt x="11229" y="6523"/>
                </a:lnTo>
                <a:lnTo>
                  <a:pt x="11309" y="6371"/>
                </a:lnTo>
                <a:lnTo>
                  <a:pt x="11389" y="6234"/>
                </a:lnTo>
                <a:lnTo>
                  <a:pt x="11504" y="6112"/>
                </a:lnTo>
                <a:lnTo>
                  <a:pt x="11607" y="5990"/>
                </a:lnTo>
                <a:lnTo>
                  <a:pt x="11607" y="5990"/>
                </a:lnTo>
                <a:lnTo>
                  <a:pt x="11538" y="5853"/>
                </a:lnTo>
                <a:lnTo>
                  <a:pt x="11504" y="5685"/>
                </a:lnTo>
                <a:lnTo>
                  <a:pt x="11493" y="5563"/>
                </a:lnTo>
                <a:lnTo>
                  <a:pt x="11493" y="5426"/>
                </a:lnTo>
                <a:lnTo>
                  <a:pt x="11504" y="5335"/>
                </a:lnTo>
                <a:lnTo>
                  <a:pt x="11527" y="5228"/>
                </a:lnTo>
                <a:lnTo>
                  <a:pt x="11573" y="5152"/>
                </a:lnTo>
                <a:lnTo>
                  <a:pt x="11619" y="5091"/>
                </a:lnTo>
                <a:lnTo>
                  <a:pt x="11664" y="5060"/>
                </a:lnTo>
                <a:lnTo>
                  <a:pt x="11722" y="5030"/>
                </a:lnTo>
                <a:lnTo>
                  <a:pt x="11768" y="5030"/>
                </a:lnTo>
                <a:lnTo>
                  <a:pt x="11813" y="5076"/>
                </a:lnTo>
                <a:lnTo>
                  <a:pt x="11871" y="5106"/>
                </a:lnTo>
                <a:lnTo>
                  <a:pt x="11894" y="5197"/>
                </a:lnTo>
                <a:lnTo>
                  <a:pt x="11905" y="5319"/>
                </a:lnTo>
                <a:lnTo>
                  <a:pt x="11916" y="5441"/>
                </a:lnTo>
                <a:lnTo>
                  <a:pt x="11916" y="5441"/>
                </a:lnTo>
                <a:lnTo>
                  <a:pt x="11974" y="5411"/>
                </a:lnTo>
                <a:lnTo>
                  <a:pt x="12020" y="5396"/>
                </a:lnTo>
                <a:lnTo>
                  <a:pt x="12054" y="5365"/>
                </a:lnTo>
                <a:lnTo>
                  <a:pt x="12077" y="5335"/>
                </a:lnTo>
                <a:lnTo>
                  <a:pt x="12089" y="5304"/>
                </a:lnTo>
                <a:lnTo>
                  <a:pt x="12089" y="5258"/>
                </a:lnTo>
                <a:lnTo>
                  <a:pt x="12089" y="5228"/>
                </a:lnTo>
                <a:lnTo>
                  <a:pt x="12065" y="5167"/>
                </a:lnTo>
                <a:lnTo>
                  <a:pt x="11997" y="5091"/>
                </a:lnTo>
                <a:lnTo>
                  <a:pt x="11905" y="4999"/>
                </a:lnTo>
                <a:lnTo>
                  <a:pt x="11802" y="4908"/>
                </a:lnTo>
                <a:lnTo>
                  <a:pt x="11687" y="4816"/>
                </a:lnTo>
                <a:lnTo>
                  <a:pt x="11424" y="4588"/>
                </a:lnTo>
                <a:lnTo>
                  <a:pt x="11298" y="4481"/>
                </a:lnTo>
                <a:lnTo>
                  <a:pt x="11172" y="4374"/>
                </a:lnTo>
                <a:lnTo>
                  <a:pt x="11080" y="4283"/>
                </a:lnTo>
                <a:lnTo>
                  <a:pt x="10988" y="4161"/>
                </a:lnTo>
                <a:lnTo>
                  <a:pt x="10954" y="4115"/>
                </a:lnTo>
                <a:lnTo>
                  <a:pt x="10931" y="4069"/>
                </a:lnTo>
                <a:lnTo>
                  <a:pt x="10931" y="4023"/>
                </a:lnTo>
                <a:lnTo>
                  <a:pt x="10920" y="3962"/>
                </a:lnTo>
                <a:lnTo>
                  <a:pt x="10920" y="3962"/>
                </a:lnTo>
                <a:lnTo>
                  <a:pt x="10897" y="3795"/>
                </a:lnTo>
                <a:lnTo>
                  <a:pt x="10862" y="3612"/>
                </a:lnTo>
                <a:lnTo>
                  <a:pt x="10828" y="3475"/>
                </a:lnTo>
                <a:lnTo>
                  <a:pt x="10782" y="3353"/>
                </a:lnTo>
                <a:lnTo>
                  <a:pt x="10725" y="3277"/>
                </a:lnTo>
                <a:lnTo>
                  <a:pt x="10656" y="3185"/>
                </a:lnTo>
                <a:lnTo>
                  <a:pt x="10576" y="3109"/>
                </a:lnTo>
                <a:lnTo>
                  <a:pt x="10507" y="3063"/>
                </a:lnTo>
                <a:lnTo>
                  <a:pt x="10416" y="3033"/>
                </a:lnTo>
                <a:lnTo>
                  <a:pt x="10324" y="3018"/>
                </a:lnTo>
                <a:lnTo>
                  <a:pt x="10221" y="3002"/>
                </a:lnTo>
                <a:lnTo>
                  <a:pt x="10129" y="3002"/>
                </a:lnTo>
                <a:lnTo>
                  <a:pt x="10003" y="3018"/>
                </a:lnTo>
                <a:lnTo>
                  <a:pt x="9900" y="3018"/>
                </a:lnTo>
                <a:lnTo>
                  <a:pt x="9659" y="3079"/>
                </a:lnTo>
                <a:lnTo>
                  <a:pt x="9419" y="3155"/>
                </a:lnTo>
                <a:lnTo>
                  <a:pt x="9166" y="3246"/>
                </a:lnTo>
                <a:lnTo>
                  <a:pt x="8926" y="3322"/>
                </a:lnTo>
                <a:lnTo>
                  <a:pt x="8674" y="3399"/>
                </a:lnTo>
                <a:lnTo>
                  <a:pt x="8433" y="3444"/>
                </a:lnTo>
                <a:lnTo>
                  <a:pt x="8330" y="3475"/>
                </a:lnTo>
                <a:lnTo>
                  <a:pt x="8227" y="3490"/>
                </a:lnTo>
                <a:lnTo>
                  <a:pt x="8124" y="3490"/>
                </a:lnTo>
                <a:lnTo>
                  <a:pt x="8020" y="3475"/>
                </a:lnTo>
                <a:lnTo>
                  <a:pt x="7929" y="3460"/>
                </a:lnTo>
                <a:lnTo>
                  <a:pt x="7837" y="3429"/>
                </a:lnTo>
                <a:lnTo>
                  <a:pt x="7837" y="3429"/>
                </a:lnTo>
                <a:lnTo>
                  <a:pt x="7860" y="3566"/>
                </a:lnTo>
                <a:lnTo>
                  <a:pt x="7860" y="3703"/>
                </a:lnTo>
                <a:lnTo>
                  <a:pt x="7860" y="3825"/>
                </a:lnTo>
                <a:lnTo>
                  <a:pt x="7837" y="3932"/>
                </a:lnTo>
                <a:lnTo>
                  <a:pt x="7814" y="3978"/>
                </a:lnTo>
                <a:lnTo>
                  <a:pt x="7791" y="4039"/>
                </a:lnTo>
                <a:lnTo>
                  <a:pt x="7769" y="4084"/>
                </a:lnTo>
                <a:lnTo>
                  <a:pt x="7734" y="4115"/>
                </a:lnTo>
                <a:lnTo>
                  <a:pt x="7688" y="4145"/>
                </a:lnTo>
                <a:lnTo>
                  <a:pt x="7654" y="4176"/>
                </a:lnTo>
                <a:lnTo>
                  <a:pt x="7539" y="4237"/>
                </a:lnTo>
                <a:lnTo>
                  <a:pt x="7539" y="4237"/>
                </a:lnTo>
                <a:lnTo>
                  <a:pt x="7597" y="4145"/>
                </a:lnTo>
                <a:lnTo>
                  <a:pt x="7654" y="4069"/>
                </a:lnTo>
                <a:lnTo>
                  <a:pt x="7677" y="3978"/>
                </a:lnTo>
                <a:lnTo>
                  <a:pt x="7711" y="3886"/>
                </a:lnTo>
                <a:lnTo>
                  <a:pt x="7711" y="3795"/>
                </a:lnTo>
                <a:lnTo>
                  <a:pt x="7700" y="3703"/>
                </a:lnTo>
                <a:lnTo>
                  <a:pt x="7677" y="3597"/>
                </a:lnTo>
                <a:lnTo>
                  <a:pt x="7654" y="3490"/>
                </a:lnTo>
                <a:lnTo>
                  <a:pt x="7654" y="3490"/>
                </a:lnTo>
                <a:lnTo>
                  <a:pt x="7471" y="3399"/>
                </a:lnTo>
                <a:lnTo>
                  <a:pt x="7402" y="3368"/>
                </a:lnTo>
                <a:lnTo>
                  <a:pt x="7322" y="3353"/>
                </a:lnTo>
                <a:lnTo>
                  <a:pt x="7264" y="3338"/>
                </a:lnTo>
                <a:lnTo>
                  <a:pt x="7207" y="3338"/>
                </a:lnTo>
                <a:lnTo>
                  <a:pt x="7150" y="3338"/>
                </a:lnTo>
                <a:lnTo>
                  <a:pt x="7081" y="3353"/>
                </a:lnTo>
                <a:lnTo>
                  <a:pt x="7046" y="3368"/>
                </a:lnTo>
                <a:lnTo>
                  <a:pt x="7001" y="3399"/>
                </a:lnTo>
                <a:lnTo>
                  <a:pt x="6955" y="3444"/>
                </a:lnTo>
                <a:lnTo>
                  <a:pt x="6932" y="3475"/>
                </a:lnTo>
                <a:lnTo>
                  <a:pt x="6886" y="3536"/>
                </a:lnTo>
                <a:lnTo>
                  <a:pt x="6875" y="3566"/>
                </a:lnTo>
                <a:lnTo>
                  <a:pt x="6829" y="3703"/>
                </a:lnTo>
                <a:lnTo>
                  <a:pt x="6806" y="3825"/>
                </a:lnTo>
                <a:lnTo>
                  <a:pt x="6794" y="3962"/>
                </a:lnTo>
                <a:lnTo>
                  <a:pt x="6794" y="4130"/>
                </a:lnTo>
                <a:lnTo>
                  <a:pt x="6817" y="4298"/>
                </a:lnTo>
                <a:lnTo>
                  <a:pt x="6852" y="4450"/>
                </a:lnTo>
                <a:lnTo>
                  <a:pt x="6875" y="4618"/>
                </a:lnTo>
                <a:lnTo>
                  <a:pt x="6932" y="4786"/>
                </a:lnTo>
                <a:lnTo>
                  <a:pt x="7001" y="4923"/>
                </a:lnTo>
                <a:lnTo>
                  <a:pt x="7001" y="4923"/>
                </a:lnTo>
                <a:lnTo>
                  <a:pt x="7046" y="5015"/>
                </a:lnTo>
                <a:lnTo>
                  <a:pt x="7081" y="5076"/>
                </a:lnTo>
                <a:lnTo>
                  <a:pt x="7138" y="5152"/>
                </a:lnTo>
                <a:lnTo>
                  <a:pt x="7195" y="5213"/>
                </a:lnTo>
                <a:lnTo>
                  <a:pt x="7299" y="5335"/>
                </a:lnTo>
                <a:lnTo>
                  <a:pt x="7436" y="5411"/>
                </a:lnTo>
                <a:lnTo>
                  <a:pt x="7436" y="5411"/>
                </a:lnTo>
                <a:lnTo>
                  <a:pt x="7344" y="5396"/>
                </a:lnTo>
                <a:lnTo>
                  <a:pt x="7253" y="5411"/>
                </a:lnTo>
                <a:lnTo>
                  <a:pt x="7161" y="5426"/>
                </a:lnTo>
                <a:lnTo>
                  <a:pt x="7070" y="5457"/>
                </a:lnTo>
                <a:lnTo>
                  <a:pt x="7001" y="5502"/>
                </a:lnTo>
                <a:lnTo>
                  <a:pt x="6932" y="5563"/>
                </a:lnTo>
                <a:lnTo>
                  <a:pt x="6875" y="5624"/>
                </a:lnTo>
                <a:lnTo>
                  <a:pt x="6817" y="5716"/>
                </a:lnTo>
                <a:lnTo>
                  <a:pt x="6817" y="5716"/>
                </a:lnTo>
                <a:lnTo>
                  <a:pt x="6634" y="5792"/>
                </a:lnTo>
                <a:lnTo>
                  <a:pt x="6496" y="5868"/>
                </a:lnTo>
                <a:lnTo>
                  <a:pt x="6370" y="5929"/>
                </a:lnTo>
                <a:lnTo>
                  <a:pt x="6290" y="6020"/>
                </a:lnTo>
                <a:lnTo>
                  <a:pt x="6221" y="6112"/>
                </a:lnTo>
                <a:lnTo>
                  <a:pt x="6164" y="6188"/>
                </a:lnTo>
                <a:lnTo>
                  <a:pt x="6141" y="6280"/>
                </a:lnTo>
                <a:lnTo>
                  <a:pt x="6107" y="6386"/>
                </a:lnTo>
                <a:lnTo>
                  <a:pt x="6073" y="6600"/>
                </a:lnTo>
                <a:lnTo>
                  <a:pt x="6050" y="6691"/>
                </a:lnTo>
                <a:lnTo>
                  <a:pt x="6004" y="6798"/>
                </a:lnTo>
                <a:lnTo>
                  <a:pt x="5958" y="6905"/>
                </a:lnTo>
                <a:lnTo>
                  <a:pt x="5901" y="7042"/>
                </a:lnTo>
                <a:lnTo>
                  <a:pt x="5798" y="7149"/>
                </a:lnTo>
                <a:lnTo>
                  <a:pt x="5683" y="7271"/>
                </a:lnTo>
                <a:lnTo>
                  <a:pt x="5683" y="7271"/>
                </a:lnTo>
                <a:lnTo>
                  <a:pt x="5534" y="7408"/>
                </a:lnTo>
                <a:lnTo>
                  <a:pt x="5385" y="7484"/>
                </a:lnTo>
                <a:lnTo>
                  <a:pt x="5236" y="7545"/>
                </a:lnTo>
                <a:lnTo>
                  <a:pt x="5087" y="7591"/>
                </a:lnTo>
                <a:lnTo>
                  <a:pt x="4778" y="7667"/>
                </a:lnTo>
                <a:lnTo>
                  <a:pt x="4640" y="7697"/>
                </a:lnTo>
                <a:lnTo>
                  <a:pt x="4514" y="7743"/>
                </a:lnTo>
                <a:lnTo>
                  <a:pt x="4377" y="7774"/>
                </a:lnTo>
                <a:lnTo>
                  <a:pt x="4262" y="7835"/>
                </a:lnTo>
                <a:lnTo>
                  <a:pt x="4159" y="7926"/>
                </a:lnTo>
                <a:lnTo>
                  <a:pt x="4102" y="7972"/>
                </a:lnTo>
                <a:lnTo>
                  <a:pt x="4056" y="8033"/>
                </a:lnTo>
                <a:lnTo>
                  <a:pt x="4010" y="8094"/>
                </a:lnTo>
                <a:lnTo>
                  <a:pt x="3987" y="8185"/>
                </a:lnTo>
                <a:lnTo>
                  <a:pt x="3941" y="8261"/>
                </a:lnTo>
                <a:lnTo>
                  <a:pt x="3918" y="8353"/>
                </a:lnTo>
                <a:lnTo>
                  <a:pt x="3884" y="8459"/>
                </a:lnTo>
                <a:lnTo>
                  <a:pt x="3861" y="8566"/>
                </a:lnTo>
                <a:lnTo>
                  <a:pt x="3838" y="8703"/>
                </a:lnTo>
                <a:lnTo>
                  <a:pt x="3827" y="8825"/>
                </a:lnTo>
                <a:lnTo>
                  <a:pt x="3827" y="8825"/>
                </a:lnTo>
                <a:lnTo>
                  <a:pt x="4010" y="8810"/>
                </a:lnTo>
                <a:lnTo>
                  <a:pt x="4193" y="8779"/>
                </a:lnTo>
                <a:lnTo>
                  <a:pt x="4365" y="8734"/>
                </a:lnTo>
                <a:lnTo>
                  <a:pt x="4526" y="8703"/>
                </a:lnTo>
                <a:lnTo>
                  <a:pt x="4674" y="8612"/>
                </a:lnTo>
                <a:lnTo>
                  <a:pt x="4823" y="8520"/>
                </a:lnTo>
                <a:lnTo>
                  <a:pt x="4961" y="8444"/>
                </a:lnTo>
                <a:lnTo>
                  <a:pt x="5099" y="8337"/>
                </a:lnTo>
                <a:lnTo>
                  <a:pt x="5213" y="8216"/>
                </a:lnTo>
                <a:lnTo>
                  <a:pt x="5339" y="8094"/>
                </a:lnTo>
                <a:lnTo>
                  <a:pt x="5454" y="7972"/>
                </a:lnTo>
                <a:lnTo>
                  <a:pt x="5557" y="7835"/>
                </a:lnTo>
                <a:lnTo>
                  <a:pt x="5660" y="7682"/>
                </a:lnTo>
                <a:lnTo>
                  <a:pt x="5763" y="7530"/>
                </a:lnTo>
                <a:lnTo>
                  <a:pt x="5855" y="7377"/>
                </a:lnTo>
                <a:lnTo>
                  <a:pt x="5935" y="7210"/>
                </a:lnTo>
                <a:lnTo>
                  <a:pt x="5935" y="7210"/>
                </a:lnTo>
                <a:lnTo>
                  <a:pt x="6107" y="7347"/>
                </a:lnTo>
                <a:lnTo>
                  <a:pt x="6233" y="7469"/>
                </a:lnTo>
                <a:lnTo>
                  <a:pt x="6313" y="7575"/>
                </a:lnTo>
                <a:lnTo>
                  <a:pt x="6359" y="7652"/>
                </a:lnTo>
                <a:lnTo>
                  <a:pt x="6370" y="7682"/>
                </a:lnTo>
                <a:lnTo>
                  <a:pt x="6394" y="7743"/>
                </a:lnTo>
                <a:lnTo>
                  <a:pt x="6405" y="7774"/>
                </a:lnTo>
                <a:lnTo>
                  <a:pt x="6405" y="7835"/>
                </a:lnTo>
                <a:lnTo>
                  <a:pt x="6394" y="7880"/>
                </a:lnTo>
                <a:lnTo>
                  <a:pt x="6359" y="7941"/>
                </a:lnTo>
                <a:lnTo>
                  <a:pt x="6313" y="8033"/>
                </a:lnTo>
                <a:lnTo>
                  <a:pt x="6267" y="8109"/>
                </a:lnTo>
                <a:lnTo>
                  <a:pt x="6176" y="8200"/>
                </a:lnTo>
                <a:lnTo>
                  <a:pt x="6004" y="8353"/>
                </a:lnTo>
                <a:lnTo>
                  <a:pt x="5809" y="8536"/>
                </a:lnTo>
                <a:lnTo>
                  <a:pt x="5717" y="8657"/>
                </a:lnTo>
                <a:lnTo>
                  <a:pt x="5637" y="8764"/>
                </a:lnTo>
                <a:lnTo>
                  <a:pt x="5637" y="8764"/>
                </a:lnTo>
                <a:lnTo>
                  <a:pt x="5683" y="8810"/>
                </a:lnTo>
                <a:lnTo>
                  <a:pt x="5729" y="8840"/>
                </a:lnTo>
                <a:lnTo>
                  <a:pt x="5809" y="8871"/>
                </a:lnTo>
                <a:lnTo>
                  <a:pt x="5889" y="8871"/>
                </a:lnTo>
                <a:lnTo>
                  <a:pt x="5969" y="8871"/>
                </a:lnTo>
                <a:lnTo>
                  <a:pt x="6073" y="8871"/>
                </a:lnTo>
                <a:lnTo>
                  <a:pt x="6153" y="8856"/>
                </a:lnTo>
                <a:lnTo>
                  <a:pt x="6256" y="8825"/>
                </a:lnTo>
                <a:lnTo>
                  <a:pt x="6336" y="8795"/>
                </a:lnTo>
                <a:lnTo>
                  <a:pt x="6428" y="8749"/>
                </a:lnTo>
                <a:lnTo>
                  <a:pt x="6496" y="8703"/>
                </a:lnTo>
                <a:lnTo>
                  <a:pt x="6577" y="8673"/>
                </a:lnTo>
                <a:lnTo>
                  <a:pt x="6634" y="8612"/>
                </a:lnTo>
                <a:lnTo>
                  <a:pt x="6680" y="8551"/>
                </a:lnTo>
                <a:lnTo>
                  <a:pt x="6703" y="8490"/>
                </a:lnTo>
                <a:lnTo>
                  <a:pt x="6714" y="8444"/>
                </a:lnTo>
                <a:lnTo>
                  <a:pt x="6714" y="8444"/>
                </a:lnTo>
                <a:lnTo>
                  <a:pt x="6829" y="8612"/>
                </a:lnTo>
                <a:lnTo>
                  <a:pt x="6932" y="8734"/>
                </a:lnTo>
                <a:lnTo>
                  <a:pt x="7035" y="8840"/>
                </a:lnTo>
                <a:lnTo>
                  <a:pt x="7115" y="8917"/>
                </a:lnTo>
                <a:lnTo>
                  <a:pt x="7207" y="8962"/>
                </a:lnTo>
                <a:lnTo>
                  <a:pt x="7276" y="8962"/>
                </a:lnTo>
                <a:lnTo>
                  <a:pt x="7356" y="8962"/>
                </a:lnTo>
                <a:lnTo>
                  <a:pt x="7436" y="8932"/>
                </a:lnTo>
                <a:lnTo>
                  <a:pt x="7516" y="8886"/>
                </a:lnTo>
                <a:lnTo>
                  <a:pt x="7620" y="8840"/>
                </a:lnTo>
                <a:lnTo>
                  <a:pt x="7814" y="8718"/>
                </a:lnTo>
                <a:lnTo>
                  <a:pt x="7929" y="8688"/>
                </a:lnTo>
                <a:lnTo>
                  <a:pt x="8055" y="8627"/>
                </a:lnTo>
                <a:lnTo>
                  <a:pt x="8204" y="8597"/>
                </a:lnTo>
                <a:lnTo>
                  <a:pt x="8364" y="8566"/>
                </a:lnTo>
                <a:close/>
                <a:moveTo>
                  <a:pt x="13773" y="8825"/>
                </a:moveTo>
                <a:lnTo>
                  <a:pt x="13773" y="8825"/>
                </a:lnTo>
                <a:lnTo>
                  <a:pt x="13624" y="8627"/>
                </a:lnTo>
                <a:lnTo>
                  <a:pt x="13624" y="8627"/>
                </a:lnTo>
                <a:lnTo>
                  <a:pt x="13647" y="8703"/>
                </a:lnTo>
                <a:lnTo>
                  <a:pt x="13681" y="8749"/>
                </a:lnTo>
                <a:lnTo>
                  <a:pt x="13773" y="8825"/>
                </a:lnTo>
                <a:close/>
                <a:moveTo>
                  <a:pt x="2635" y="8825"/>
                </a:moveTo>
                <a:lnTo>
                  <a:pt x="2635" y="8825"/>
                </a:lnTo>
                <a:lnTo>
                  <a:pt x="2727" y="8825"/>
                </a:lnTo>
                <a:lnTo>
                  <a:pt x="2784" y="8779"/>
                </a:lnTo>
                <a:lnTo>
                  <a:pt x="2818" y="8779"/>
                </a:lnTo>
                <a:lnTo>
                  <a:pt x="2830" y="8749"/>
                </a:lnTo>
                <a:lnTo>
                  <a:pt x="2830" y="8718"/>
                </a:lnTo>
                <a:lnTo>
                  <a:pt x="2830" y="8703"/>
                </a:lnTo>
                <a:lnTo>
                  <a:pt x="2830" y="8642"/>
                </a:lnTo>
                <a:lnTo>
                  <a:pt x="2795" y="8566"/>
                </a:lnTo>
                <a:lnTo>
                  <a:pt x="2761" y="8490"/>
                </a:lnTo>
                <a:lnTo>
                  <a:pt x="2692" y="8444"/>
                </a:lnTo>
                <a:lnTo>
                  <a:pt x="2692" y="8444"/>
                </a:lnTo>
                <a:lnTo>
                  <a:pt x="2635" y="8825"/>
                </a:lnTo>
                <a:close/>
                <a:moveTo>
                  <a:pt x="13567" y="8703"/>
                </a:moveTo>
                <a:lnTo>
                  <a:pt x="13567" y="8703"/>
                </a:lnTo>
                <a:lnTo>
                  <a:pt x="13509" y="8581"/>
                </a:lnTo>
                <a:lnTo>
                  <a:pt x="13464" y="8520"/>
                </a:lnTo>
                <a:lnTo>
                  <a:pt x="13418" y="8475"/>
                </a:lnTo>
                <a:lnTo>
                  <a:pt x="13303" y="8444"/>
                </a:lnTo>
                <a:lnTo>
                  <a:pt x="13303" y="8444"/>
                </a:lnTo>
                <a:lnTo>
                  <a:pt x="13567" y="8703"/>
                </a:lnTo>
                <a:close/>
                <a:moveTo>
                  <a:pt x="12890" y="8703"/>
                </a:moveTo>
                <a:lnTo>
                  <a:pt x="12890" y="8703"/>
                </a:lnTo>
                <a:lnTo>
                  <a:pt x="12856" y="8612"/>
                </a:lnTo>
                <a:lnTo>
                  <a:pt x="12799" y="8566"/>
                </a:lnTo>
                <a:lnTo>
                  <a:pt x="12799" y="8566"/>
                </a:lnTo>
                <a:lnTo>
                  <a:pt x="12890" y="8703"/>
                </a:lnTo>
                <a:close/>
                <a:moveTo>
                  <a:pt x="3414" y="8627"/>
                </a:moveTo>
                <a:lnTo>
                  <a:pt x="3414" y="8627"/>
                </a:lnTo>
                <a:lnTo>
                  <a:pt x="3494" y="8566"/>
                </a:lnTo>
                <a:lnTo>
                  <a:pt x="3575" y="8520"/>
                </a:lnTo>
                <a:lnTo>
                  <a:pt x="3597" y="8459"/>
                </a:lnTo>
                <a:lnTo>
                  <a:pt x="3632" y="8429"/>
                </a:lnTo>
                <a:lnTo>
                  <a:pt x="3632" y="8383"/>
                </a:lnTo>
                <a:lnTo>
                  <a:pt x="3609" y="8353"/>
                </a:lnTo>
                <a:lnTo>
                  <a:pt x="3575" y="8322"/>
                </a:lnTo>
                <a:lnTo>
                  <a:pt x="3517" y="8292"/>
                </a:lnTo>
                <a:lnTo>
                  <a:pt x="3517" y="8292"/>
                </a:lnTo>
                <a:lnTo>
                  <a:pt x="3414" y="8627"/>
                </a:lnTo>
                <a:close/>
                <a:moveTo>
                  <a:pt x="17589" y="8094"/>
                </a:moveTo>
                <a:lnTo>
                  <a:pt x="17589" y="8094"/>
                </a:lnTo>
                <a:lnTo>
                  <a:pt x="17531" y="8155"/>
                </a:lnTo>
                <a:lnTo>
                  <a:pt x="17497" y="8200"/>
                </a:lnTo>
                <a:lnTo>
                  <a:pt x="17486" y="8261"/>
                </a:lnTo>
                <a:lnTo>
                  <a:pt x="17463" y="8322"/>
                </a:lnTo>
                <a:lnTo>
                  <a:pt x="17451" y="8353"/>
                </a:lnTo>
                <a:lnTo>
                  <a:pt x="17451" y="8398"/>
                </a:lnTo>
                <a:lnTo>
                  <a:pt x="17463" y="8444"/>
                </a:lnTo>
                <a:lnTo>
                  <a:pt x="17486" y="8459"/>
                </a:lnTo>
                <a:lnTo>
                  <a:pt x="17520" y="8520"/>
                </a:lnTo>
                <a:lnTo>
                  <a:pt x="17577" y="8551"/>
                </a:lnTo>
                <a:lnTo>
                  <a:pt x="17646" y="8566"/>
                </a:lnTo>
                <a:lnTo>
                  <a:pt x="17703" y="8566"/>
                </a:lnTo>
                <a:lnTo>
                  <a:pt x="17772" y="8551"/>
                </a:lnTo>
                <a:lnTo>
                  <a:pt x="17818" y="8520"/>
                </a:lnTo>
                <a:lnTo>
                  <a:pt x="17864" y="8475"/>
                </a:lnTo>
                <a:lnTo>
                  <a:pt x="17875" y="8459"/>
                </a:lnTo>
                <a:lnTo>
                  <a:pt x="17875" y="8444"/>
                </a:lnTo>
                <a:lnTo>
                  <a:pt x="17875" y="8398"/>
                </a:lnTo>
                <a:lnTo>
                  <a:pt x="17864" y="8353"/>
                </a:lnTo>
                <a:lnTo>
                  <a:pt x="17841" y="8322"/>
                </a:lnTo>
                <a:lnTo>
                  <a:pt x="17807" y="8276"/>
                </a:lnTo>
                <a:lnTo>
                  <a:pt x="17715" y="8185"/>
                </a:lnTo>
                <a:lnTo>
                  <a:pt x="17589" y="8094"/>
                </a:lnTo>
                <a:close/>
                <a:moveTo>
                  <a:pt x="1569" y="8444"/>
                </a:moveTo>
                <a:lnTo>
                  <a:pt x="1569" y="8444"/>
                </a:lnTo>
                <a:lnTo>
                  <a:pt x="1638" y="8505"/>
                </a:lnTo>
                <a:lnTo>
                  <a:pt x="1695" y="8551"/>
                </a:lnTo>
                <a:lnTo>
                  <a:pt x="1741" y="8566"/>
                </a:lnTo>
                <a:lnTo>
                  <a:pt x="1764" y="8566"/>
                </a:lnTo>
                <a:lnTo>
                  <a:pt x="1775" y="8551"/>
                </a:lnTo>
                <a:lnTo>
                  <a:pt x="1787" y="8536"/>
                </a:lnTo>
                <a:lnTo>
                  <a:pt x="1787" y="8520"/>
                </a:lnTo>
                <a:lnTo>
                  <a:pt x="1798" y="8444"/>
                </a:lnTo>
                <a:lnTo>
                  <a:pt x="1787" y="8353"/>
                </a:lnTo>
                <a:lnTo>
                  <a:pt x="1764" y="8216"/>
                </a:lnTo>
                <a:lnTo>
                  <a:pt x="1764" y="8216"/>
                </a:lnTo>
                <a:lnTo>
                  <a:pt x="1569" y="8444"/>
                </a:lnTo>
                <a:close/>
                <a:moveTo>
                  <a:pt x="12581" y="8566"/>
                </a:moveTo>
                <a:lnTo>
                  <a:pt x="12581" y="8566"/>
                </a:lnTo>
                <a:lnTo>
                  <a:pt x="12478" y="8444"/>
                </a:lnTo>
                <a:lnTo>
                  <a:pt x="12478" y="8444"/>
                </a:lnTo>
                <a:lnTo>
                  <a:pt x="12512" y="8505"/>
                </a:lnTo>
                <a:lnTo>
                  <a:pt x="12581" y="8566"/>
                </a:lnTo>
                <a:close/>
                <a:moveTo>
                  <a:pt x="9189" y="8292"/>
                </a:moveTo>
                <a:lnTo>
                  <a:pt x="9189" y="8292"/>
                </a:lnTo>
                <a:lnTo>
                  <a:pt x="9132" y="8337"/>
                </a:lnTo>
                <a:lnTo>
                  <a:pt x="9075" y="8353"/>
                </a:lnTo>
                <a:lnTo>
                  <a:pt x="9006" y="8383"/>
                </a:lnTo>
                <a:lnTo>
                  <a:pt x="8949" y="8383"/>
                </a:lnTo>
                <a:lnTo>
                  <a:pt x="8892" y="8383"/>
                </a:lnTo>
                <a:lnTo>
                  <a:pt x="8834" y="8353"/>
                </a:lnTo>
                <a:lnTo>
                  <a:pt x="8788" y="8337"/>
                </a:lnTo>
                <a:lnTo>
                  <a:pt x="8719" y="8292"/>
                </a:lnTo>
                <a:lnTo>
                  <a:pt x="8719" y="8292"/>
                </a:lnTo>
                <a:lnTo>
                  <a:pt x="8788" y="8383"/>
                </a:lnTo>
                <a:lnTo>
                  <a:pt x="8834" y="8444"/>
                </a:lnTo>
                <a:lnTo>
                  <a:pt x="8892" y="8475"/>
                </a:lnTo>
                <a:lnTo>
                  <a:pt x="8960" y="8490"/>
                </a:lnTo>
                <a:lnTo>
                  <a:pt x="9006" y="8475"/>
                </a:lnTo>
                <a:lnTo>
                  <a:pt x="9075" y="8444"/>
                </a:lnTo>
                <a:lnTo>
                  <a:pt x="9132" y="8383"/>
                </a:lnTo>
                <a:lnTo>
                  <a:pt x="9189" y="8292"/>
                </a:lnTo>
                <a:close/>
                <a:moveTo>
                  <a:pt x="8777" y="8170"/>
                </a:moveTo>
                <a:lnTo>
                  <a:pt x="8777" y="8170"/>
                </a:lnTo>
                <a:lnTo>
                  <a:pt x="8834" y="8155"/>
                </a:lnTo>
                <a:lnTo>
                  <a:pt x="8880" y="8139"/>
                </a:lnTo>
                <a:lnTo>
                  <a:pt x="8937" y="8124"/>
                </a:lnTo>
                <a:lnTo>
                  <a:pt x="8960" y="8094"/>
                </a:lnTo>
                <a:lnTo>
                  <a:pt x="8995" y="8078"/>
                </a:lnTo>
                <a:lnTo>
                  <a:pt x="9006" y="8033"/>
                </a:lnTo>
                <a:lnTo>
                  <a:pt x="9006" y="8002"/>
                </a:lnTo>
                <a:lnTo>
                  <a:pt x="9006" y="7956"/>
                </a:lnTo>
                <a:lnTo>
                  <a:pt x="9006" y="7926"/>
                </a:lnTo>
                <a:lnTo>
                  <a:pt x="9006" y="7880"/>
                </a:lnTo>
                <a:lnTo>
                  <a:pt x="8972" y="7789"/>
                </a:lnTo>
                <a:lnTo>
                  <a:pt x="8903" y="7682"/>
                </a:lnTo>
                <a:lnTo>
                  <a:pt x="8823" y="7621"/>
                </a:lnTo>
                <a:lnTo>
                  <a:pt x="8823" y="7621"/>
                </a:lnTo>
                <a:lnTo>
                  <a:pt x="8777" y="8170"/>
                </a:lnTo>
                <a:close/>
                <a:moveTo>
                  <a:pt x="17428" y="7743"/>
                </a:moveTo>
                <a:lnTo>
                  <a:pt x="17428" y="7743"/>
                </a:lnTo>
                <a:lnTo>
                  <a:pt x="17497" y="7743"/>
                </a:lnTo>
                <a:lnTo>
                  <a:pt x="17566" y="7728"/>
                </a:lnTo>
                <a:lnTo>
                  <a:pt x="17623" y="7682"/>
                </a:lnTo>
                <a:lnTo>
                  <a:pt x="17669" y="7667"/>
                </a:lnTo>
                <a:lnTo>
                  <a:pt x="17692" y="7606"/>
                </a:lnTo>
                <a:lnTo>
                  <a:pt x="17726" y="7560"/>
                </a:lnTo>
                <a:lnTo>
                  <a:pt x="17726" y="7499"/>
                </a:lnTo>
                <a:lnTo>
                  <a:pt x="17738" y="7438"/>
                </a:lnTo>
                <a:lnTo>
                  <a:pt x="17726" y="7393"/>
                </a:lnTo>
                <a:lnTo>
                  <a:pt x="17715" y="7332"/>
                </a:lnTo>
                <a:lnTo>
                  <a:pt x="17692" y="7286"/>
                </a:lnTo>
                <a:lnTo>
                  <a:pt x="17669" y="7225"/>
                </a:lnTo>
                <a:lnTo>
                  <a:pt x="17612" y="7194"/>
                </a:lnTo>
                <a:lnTo>
                  <a:pt x="17566" y="7164"/>
                </a:lnTo>
                <a:lnTo>
                  <a:pt x="17497" y="7149"/>
                </a:lnTo>
                <a:lnTo>
                  <a:pt x="17428" y="7149"/>
                </a:lnTo>
                <a:lnTo>
                  <a:pt x="17428" y="7149"/>
                </a:lnTo>
                <a:lnTo>
                  <a:pt x="17451" y="7225"/>
                </a:lnTo>
                <a:lnTo>
                  <a:pt x="17474" y="7301"/>
                </a:lnTo>
                <a:lnTo>
                  <a:pt x="17486" y="7377"/>
                </a:lnTo>
                <a:lnTo>
                  <a:pt x="17486" y="7438"/>
                </a:lnTo>
                <a:lnTo>
                  <a:pt x="17486" y="7514"/>
                </a:lnTo>
                <a:lnTo>
                  <a:pt x="17474" y="7591"/>
                </a:lnTo>
                <a:lnTo>
                  <a:pt x="17451" y="7682"/>
                </a:lnTo>
                <a:lnTo>
                  <a:pt x="17428" y="7743"/>
                </a:lnTo>
                <a:close/>
                <a:moveTo>
                  <a:pt x="2692" y="7743"/>
                </a:moveTo>
                <a:lnTo>
                  <a:pt x="2692" y="7743"/>
                </a:lnTo>
                <a:lnTo>
                  <a:pt x="2738" y="7697"/>
                </a:lnTo>
                <a:lnTo>
                  <a:pt x="2784" y="7667"/>
                </a:lnTo>
                <a:lnTo>
                  <a:pt x="2818" y="7606"/>
                </a:lnTo>
                <a:lnTo>
                  <a:pt x="2830" y="7575"/>
                </a:lnTo>
                <a:lnTo>
                  <a:pt x="2853" y="7514"/>
                </a:lnTo>
                <a:lnTo>
                  <a:pt x="2853" y="7469"/>
                </a:lnTo>
                <a:lnTo>
                  <a:pt x="2853" y="7423"/>
                </a:lnTo>
                <a:lnTo>
                  <a:pt x="2841" y="7393"/>
                </a:lnTo>
                <a:lnTo>
                  <a:pt x="2830" y="7347"/>
                </a:lnTo>
                <a:lnTo>
                  <a:pt x="2807" y="7316"/>
                </a:lnTo>
                <a:lnTo>
                  <a:pt x="2784" y="7271"/>
                </a:lnTo>
                <a:lnTo>
                  <a:pt x="2738" y="7225"/>
                </a:lnTo>
                <a:lnTo>
                  <a:pt x="2646" y="7179"/>
                </a:lnTo>
                <a:lnTo>
                  <a:pt x="2543" y="7149"/>
                </a:lnTo>
                <a:lnTo>
                  <a:pt x="2543" y="7149"/>
                </a:lnTo>
                <a:lnTo>
                  <a:pt x="2497" y="7240"/>
                </a:lnTo>
                <a:lnTo>
                  <a:pt x="2486" y="7301"/>
                </a:lnTo>
                <a:lnTo>
                  <a:pt x="2474" y="7316"/>
                </a:lnTo>
                <a:lnTo>
                  <a:pt x="2486" y="7347"/>
                </a:lnTo>
                <a:lnTo>
                  <a:pt x="2497" y="7377"/>
                </a:lnTo>
                <a:lnTo>
                  <a:pt x="2520" y="7423"/>
                </a:lnTo>
                <a:lnTo>
                  <a:pt x="2566" y="7454"/>
                </a:lnTo>
                <a:lnTo>
                  <a:pt x="2623" y="7514"/>
                </a:lnTo>
                <a:lnTo>
                  <a:pt x="2635" y="7560"/>
                </a:lnTo>
                <a:lnTo>
                  <a:pt x="2658" y="7621"/>
                </a:lnTo>
                <a:lnTo>
                  <a:pt x="2681" y="7682"/>
                </a:lnTo>
                <a:lnTo>
                  <a:pt x="2692" y="7743"/>
                </a:lnTo>
                <a:close/>
                <a:moveTo>
                  <a:pt x="14541" y="7408"/>
                </a:moveTo>
                <a:lnTo>
                  <a:pt x="14541" y="7408"/>
                </a:lnTo>
                <a:lnTo>
                  <a:pt x="14712" y="7408"/>
                </a:lnTo>
                <a:lnTo>
                  <a:pt x="14873" y="7362"/>
                </a:lnTo>
                <a:lnTo>
                  <a:pt x="15056" y="7286"/>
                </a:lnTo>
                <a:lnTo>
                  <a:pt x="15228" y="7194"/>
                </a:lnTo>
                <a:lnTo>
                  <a:pt x="15411" y="7088"/>
                </a:lnTo>
                <a:lnTo>
                  <a:pt x="15572" y="6966"/>
                </a:lnTo>
                <a:lnTo>
                  <a:pt x="15721" y="6813"/>
                </a:lnTo>
                <a:lnTo>
                  <a:pt x="15767" y="6737"/>
                </a:lnTo>
                <a:lnTo>
                  <a:pt x="15824" y="6661"/>
                </a:lnTo>
                <a:lnTo>
                  <a:pt x="15824" y="6661"/>
                </a:lnTo>
                <a:lnTo>
                  <a:pt x="15801" y="6523"/>
                </a:lnTo>
                <a:lnTo>
                  <a:pt x="15767" y="6386"/>
                </a:lnTo>
                <a:lnTo>
                  <a:pt x="15732" y="6249"/>
                </a:lnTo>
                <a:lnTo>
                  <a:pt x="15687" y="6112"/>
                </a:lnTo>
                <a:lnTo>
                  <a:pt x="15641" y="5975"/>
                </a:lnTo>
                <a:lnTo>
                  <a:pt x="15572" y="5853"/>
                </a:lnTo>
                <a:lnTo>
                  <a:pt x="15446" y="5609"/>
                </a:lnTo>
                <a:lnTo>
                  <a:pt x="15297" y="5365"/>
                </a:lnTo>
                <a:lnTo>
                  <a:pt x="15148" y="5152"/>
                </a:lnTo>
                <a:lnTo>
                  <a:pt x="14976" y="4954"/>
                </a:lnTo>
                <a:lnTo>
                  <a:pt x="14793" y="4771"/>
                </a:lnTo>
                <a:lnTo>
                  <a:pt x="14793" y="4771"/>
                </a:lnTo>
                <a:lnTo>
                  <a:pt x="14747" y="4923"/>
                </a:lnTo>
                <a:lnTo>
                  <a:pt x="14690" y="5060"/>
                </a:lnTo>
                <a:lnTo>
                  <a:pt x="14655" y="5091"/>
                </a:lnTo>
                <a:lnTo>
                  <a:pt x="14632" y="5121"/>
                </a:lnTo>
                <a:lnTo>
                  <a:pt x="14598" y="5152"/>
                </a:lnTo>
                <a:lnTo>
                  <a:pt x="14575" y="5167"/>
                </a:lnTo>
                <a:lnTo>
                  <a:pt x="14529" y="5182"/>
                </a:lnTo>
                <a:lnTo>
                  <a:pt x="14495" y="5167"/>
                </a:lnTo>
                <a:lnTo>
                  <a:pt x="14449" y="5167"/>
                </a:lnTo>
                <a:lnTo>
                  <a:pt x="14403" y="5152"/>
                </a:lnTo>
                <a:lnTo>
                  <a:pt x="14323" y="5076"/>
                </a:lnTo>
                <a:lnTo>
                  <a:pt x="14220" y="4984"/>
                </a:lnTo>
                <a:lnTo>
                  <a:pt x="14220" y="4984"/>
                </a:lnTo>
                <a:lnTo>
                  <a:pt x="14266" y="5182"/>
                </a:lnTo>
                <a:lnTo>
                  <a:pt x="14277" y="5380"/>
                </a:lnTo>
                <a:lnTo>
                  <a:pt x="14277" y="5548"/>
                </a:lnTo>
                <a:lnTo>
                  <a:pt x="14254" y="5685"/>
                </a:lnTo>
                <a:lnTo>
                  <a:pt x="14220" y="5822"/>
                </a:lnTo>
                <a:lnTo>
                  <a:pt x="14163" y="5929"/>
                </a:lnTo>
                <a:lnTo>
                  <a:pt x="14094" y="6020"/>
                </a:lnTo>
                <a:lnTo>
                  <a:pt x="14014" y="6097"/>
                </a:lnTo>
                <a:lnTo>
                  <a:pt x="13945" y="6142"/>
                </a:lnTo>
                <a:lnTo>
                  <a:pt x="13842" y="6188"/>
                </a:lnTo>
                <a:lnTo>
                  <a:pt x="13727" y="6203"/>
                </a:lnTo>
                <a:lnTo>
                  <a:pt x="13624" y="6234"/>
                </a:lnTo>
                <a:lnTo>
                  <a:pt x="13509" y="6234"/>
                </a:lnTo>
                <a:lnTo>
                  <a:pt x="13372" y="6249"/>
                </a:lnTo>
                <a:lnTo>
                  <a:pt x="13120" y="6219"/>
                </a:lnTo>
                <a:lnTo>
                  <a:pt x="12856" y="6188"/>
                </a:lnTo>
                <a:lnTo>
                  <a:pt x="12593" y="6158"/>
                </a:lnTo>
                <a:lnTo>
                  <a:pt x="12352" y="6142"/>
                </a:lnTo>
                <a:lnTo>
                  <a:pt x="12123" y="6127"/>
                </a:lnTo>
                <a:lnTo>
                  <a:pt x="12020" y="6127"/>
                </a:lnTo>
                <a:lnTo>
                  <a:pt x="11940" y="6142"/>
                </a:lnTo>
                <a:lnTo>
                  <a:pt x="11859" y="6158"/>
                </a:lnTo>
                <a:lnTo>
                  <a:pt x="11791" y="6188"/>
                </a:lnTo>
                <a:lnTo>
                  <a:pt x="11722" y="6234"/>
                </a:lnTo>
                <a:lnTo>
                  <a:pt x="11699" y="6295"/>
                </a:lnTo>
                <a:lnTo>
                  <a:pt x="11664" y="6371"/>
                </a:lnTo>
                <a:lnTo>
                  <a:pt x="11653" y="6462"/>
                </a:lnTo>
                <a:lnTo>
                  <a:pt x="11653" y="6462"/>
                </a:lnTo>
                <a:lnTo>
                  <a:pt x="11894" y="6569"/>
                </a:lnTo>
                <a:lnTo>
                  <a:pt x="12134" y="6691"/>
                </a:lnTo>
                <a:lnTo>
                  <a:pt x="12375" y="6828"/>
                </a:lnTo>
                <a:lnTo>
                  <a:pt x="12627" y="6950"/>
                </a:lnTo>
                <a:lnTo>
                  <a:pt x="12868" y="7057"/>
                </a:lnTo>
                <a:lnTo>
                  <a:pt x="13005" y="7103"/>
                </a:lnTo>
                <a:lnTo>
                  <a:pt x="13131" y="7133"/>
                </a:lnTo>
                <a:lnTo>
                  <a:pt x="13246" y="7149"/>
                </a:lnTo>
                <a:lnTo>
                  <a:pt x="13383" y="7164"/>
                </a:lnTo>
                <a:lnTo>
                  <a:pt x="13509" y="7164"/>
                </a:lnTo>
                <a:lnTo>
                  <a:pt x="13635" y="7149"/>
                </a:lnTo>
                <a:lnTo>
                  <a:pt x="13635" y="7149"/>
                </a:lnTo>
                <a:lnTo>
                  <a:pt x="13773" y="7103"/>
                </a:lnTo>
                <a:lnTo>
                  <a:pt x="13899" y="7042"/>
                </a:lnTo>
                <a:lnTo>
                  <a:pt x="14014" y="6966"/>
                </a:lnTo>
                <a:lnTo>
                  <a:pt x="14151" y="6889"/>
                </a:lnTo>
                <a:lnTo>
                  <a:pt x="14346" y="6737"/>
                </a:lnTo>
                <a:lnTo>
                  <a:pt x="14426" y="6706"/>
                </a:lnTo>
                <a:lnTo>
                  <a:pt x="14495" y="6676"/>
                </a:lnTo>
                <a:lnTo>
                  <a:pt x="14495" y="6676"/>
                </a:lnTo>
                <a:lnTo>
                  <a:pt x="14529" y="6691"/>
                </a:lnTo>
                <a:lnTo>
                  <a:pt x="14563" y="6706"/>
                </a:lnTo>
                <a:lnTo>
                  <a:pt x="14586" y="6767"/>
                </a:lnTo>
                <a:lnTo>
                  <a:pt x="14586" y="6844"/>
                </a:lnTo>
                <a:lnTo>
                  <a:pt x="14586" y="6935"/>
                </a:lnTo>
                <a:lnTo>
                  <a:pt x="14586" y="7057"/>
                </a:lnTo>
                <a:lnTo>
                  <a:pt x="14575" y="7225"/>
                </a:lnTo>
                <a:lnTo>
                  <a:pt x="14541" y="7408"/>
                </a:lnTo>
                <a:close/>
                <a:moveTo>
                  <a:pt x="12283" y="7347"/>
                </a:moveTo>
                <a:lnTo>
                  <a:pt x="12283" y="7347"/>
                </a:lnTo>
                <a:lnTo>
                  <a:pt x="12295" y="7316"/>
                </a:lnTo>
                <a:lnTo>
                  <a:pt x="12329" y="7286"/>
                </a:lnTo>
                <a:lnTo>
                  <a:pt x="12341" y="7255"/>
                </a:lnTo>
                <a:lnTo>
                  <a:pt x="12341" y="7225"/>
                </a:lnTo>
                <a:lnTo>
                  <a:pt x="12341" y="7164"/>
                </a:lnTo>
                <a:lnTo>
                  <a:pt x="12329" y="7164"/>
                </a:lnTo>
                <a:lnTo>
                  <a:pt x="12318" y="7164"/>
                </a:lnTo>
                <a:lnTo>
                  <a:pt x="12318" y="7164"/>
                </a:lnTo>
                <a:lnTo>
                  <a:pt x="12295" y="7164"/>
                </a:lnTo>
                <a:lnTo>
                  <a:pt x="12295" y="7194"/>
                </a:lnTo>
                <a:lnTo>
                  <a:pt x="12283" y="7255"/>
                </a:lnTo>
                <a:lnTo>
                  <a:pt x="12283" y="7347"/>
                </a:lnTo>
                <a:close/>
                <a:moveTo>
                  <a:pt x="4594" y="7149"/>
                </a:moveTo>
                <a:lnTo>
                  <a:pt x="4594" y="7149"/>
                </a:lnTo>
                <a:lnTo>
                  <a:pt x="4640" y="7103"/>
                </a:lnTo>
                <a:lnTo>
                  <a:pt x="4674" y="7103"/>
                </a:lnTo>
                <a:lnTo>
                  <a:pt x="4663" y="7072"/>
                </a:lnTo>
                <a:lnTo>
                  <a:pt x="4652" y="6996"/>
                </a:lnTo>
                <a:lnTo>
                  <a:pt x="4652" y="6996"/>
                </a:lnTo>
                <a:lnTo>
                  <a:pt x="4594" y="7149"/>
                </a:lnTo>
                <a:close/>
                <a:moveTo>
                  <a:pt x="4915" y="6935"/>
                </a:moveTo>
                <a:lnTo>
                  <a:pt x="4915" y="6935"/>
                </a:lnTo>
                <a:lnTo>
                  <a:pt x="4881" y="6950"/>
                </a:lnTo>
                <a:lnTo>
                  <a:pt x="4846" y="6966"/>
                </a:lnTo>
                <a:lnTo>
                  <a:pt x="4789" y="7057"/>
                </a:lnTo>
                <a:lnTo>
                  <a:pt x="4778" y="7072"/>
                </a:lnTo>
                <a:lnTo>
                  <a:pt x="4801" y="7057"/>
                </a:lnTo>
                <a:lnTo>
                  <a:pt x="4846" y="7027"/>
                </a:lnTo>
                <a:lnTo>
                  <a:pt x="4915" y="6935"/>
                </a:lnTo>
                <a:close/>
                <a:moveTo>
                  <a:pt x="9144" y="6996"/>
                </a:moveTo>
                <a:lnTo>
                  <a:pt x="9144" y="6996"/>
                </a:lnTo>
                <a:lnTo>
                  <a:pt x="9178" y="6844"/>
                </a:lnTo>
                <a:lnTo>
                  <a:pt x="9189" y="6798"/>
                </a:lnTo>
                <a:lnTo>
                  <a:pt x="9189" y="6752"/>
                </a:lnTo>
                <a:lnTo>
                  <a:pt x="9166" y="6722"/>
                </a:lnTo>
                <a:lnTo>
                  <a:pt x="9121" y="6706"/>
                </a:lnTo>
                <a:lnTo>
                  <a:pt x="8983" y="6661"/>
                </a:lnTo>
                <a:lnTo>
                  <a:pt x="8983" y="6661"/>
                </a:lnTo>
                <a:lnTo>
                  <a:pt x="8995" y="6783"/>
                </a:lnTo>
                <a:lnTo>
                  <a:pt x="9006" y="6889"/>
                </a:lnTo>
                <a:lnTo>
                  <a:pt x="9029" y="6920"/>
                </a:lnTo>
                <a:lnTo>
                  <a:pt x="9052" y="6966"/>
                </a:lnTo>
                <a:lnTo>
                  <a:pt x="9086" y="6996"/>
                </a:lnTo>
                <a:lnTo>
                  <a:pt x="9144" y="6996"/>
                </a:lnTo>
                <a:close/>
                <a:moveTo>
                  <a:pt x="3254" y="6798"/>
                </a:moveTo>
                <a:lnTo>
                  <a:pt x="3254" y="6798"/>
                </a:lnTo>
                <a:lnTo>
                  <a:pt x="3162" y="6798"/>
                </a:lnTo>
                <a:lnTo>
                  <a:pt x="3070" y="6798"/>
                </a:lnTo>
                <a:lnTo>
                  <a:pt x="2979" y="6767"/>
                </a:lnTo>
                <a:lnTo>
                  <a:pt x="2876" y="6722"/>
                </a:lnTo>
                <a:lnTo>
                  <a:pt x="2795" y="6691"/>
                </a:lnTo>
                <a:lnTo>
                  <a:pt x="2715" y="6645"/>
                </a:lnTo>
                <a:lnTo>
                  <a:pt x="2635" y="6600"/>
                </a:lnTo>
                <a:lnTo>
                  <a:pt x="2543" y="6539"/>
                </a:lnTo>
                <a:lnTo>
                  <a:pt x="2543" y="6539"/>
                </a:lnTo>
                <a:lnTo>
                  <a:pt x="2715" y="6752"/>
                </a:lnTo>
                <a:lnTo>
                  <a:pt x="2784" y="6844"/>
                </a:lnTo>
                <a:lnTo>
                  <a:pt x="2864" y="6905"/>
                </a:lnTo>
                <a:lnTo>
                  <a:pt x="2910" y="6935"/>
                </a:lnTo>
                <a:lnTo>
                  <a:pt x="2956" y="6950"/>
                </a:lnTo>
                <a:lnTo>
                  <a:pt x="3001" y="6950"/>
                </a:lnTo>
                <a:lnTo>
                  <a:pt x="3048" y="6950"/>
                </a:lnTo>
                <a:lnTo>
                  <a:pt x="3093" y="6920"/>
                </a:lnTo>
                <a:lnTo>
                  <a:pt x="3139" y="6905"/>
                </a:lnTo>
                <a:lnTo>
                  <a:pt x="3208" y="6859"/>
                </a:lnTo>
                <a:lnTo>
                  <a:pt x="3254" y="6798"/>
                </a:lnTo>
                <a:close/>
                <a:moveTo>
                  <a:pt x="3311" y="6874"/>
                </a:moveTo>
                <a:lnTo>
                  <a:pt x="3311" y="6874"/>
                </a:lnTo>
                <a:lnTo>
                  <a:pt x="3357" y="6828"/>
                </a:lnTo>
                <a:lnTo>
                  <a:pt x="3368" y="6813"/>
                </a:lnTo>
                <a:lnTo>
                  <a:pt x="3368" y="6798"/>
                </a:lnTo>
                <a:lnTo>
                  <a:pt x="3357" y="6783"/>
                </a:lnTo>
                <a:lnTo>
                  <a:pt x="3357" y="6752"/>
                </a:lnTo>
                <a:lnTo>
                  <a:pt x="3357" y="6722"/>
                </a:lnTo>
                <a:lnTo>
                  <a:pt x="3357" y="6722"/>
                </a:lnTo>
                <a:lnTo>
                  <a:pt x="3311" y="6874"/>
                </a:lnTo>
                <a:close/>
                <a:moveTo>
                  <a:pt x="16088" y="6539"/>
                </a:moveTo>
                <a:lnTo>
                  <a:pt x="16088" y="6539"/>
                </a:lnTo>
                <a:lnTo>
                  <a:pt x="16179" y="6401"/>
                </a:lnTo>
                <a:lnTo>
                  <a:pt x="16294" y="6280"/>
                </a:lnTo>
                <a:lnTo>
                  <a:pt x="16385" y="6158"/>
                </a:lnTo>
                <a:lnTo>
                  <a:pt x="16512" y="6066"/>
                </a:lnTo>
                <a:lnTo>
                  <a:pt x="16512" y="6066"/>
                </a:lnTo>
                <a:lnTo>
                  <a:pt x="16420" y="6005"/>
                </a:lnTo>
                <a:lnTo>
                  <a:pt x="16328" y="5929"/>
                </a:lnTo>
                <a:lnTo>
                  <a:pt x="16259" y="5883"/>
                </a:lnTo>
                <a:lnTo>
                  <a:pt x="16179" y="5807"/>
                </a:lnTo>
                <a:lnTo>
                  <a:pt x="16122" y="5731"/>
                </a:lnTo>
                <a:lnTo>
                  <a:pt x="16053" y="5639"/>
                </a:lnTo>
                <a:lnTo>
                  <a:pt x="15985" y="5548"/>
                </a:lnTo>
                <a:lnTo>
                  <a:pt x="15939" y="5441"/>
                </a:lnTo>
                <a:lnTo>
                  <a:pt x="15939" y="5441"/>
                </a:lnTo>
                <a:lnTo>
                  <a:pt x="15927" y="5594"/>
                </a:lnTo>
                <a:lnTo>
                  <a:pt x="15927" y="5731"/>
                </a:lnTo>
                <a:lnTo>
                  <a:pt x="15939" y="5883"/>
                </a:lnTo>
                <a:lnTo>
                  <a:pt x="15939" y="6020"/>
                </a:lnTo>
                <a:lnTo>
                  <a:pt x="15962" y="6142"/>
                </a:lnTo>
                <a:lnTo>
                  <a:pt x="15996" y="6280"/>
                </a:lnTo>
                <a:lnTo>
                  <a:pt x="16042" y="6401"/>
                </a:lnTo>
                <a:lnTo>
                  <a:pt x="16088" y="6539"/>
                </a:lnTo>
                <a:close/>
                <a:moveTo>
                  <a:pt x="2589" y="6462"/>
                </a:moveTo>
                <a:lnTo>
                  <a:pt x="2589" y="6462"/>
                </a:lnTo>
                <a:lnTo>
                  <a:pt x="2486" y="6340"/>
                </a:lnTo>
                <a:lnTo>
                  <a:pt x="2486" y="6340"/>
                </a:lnTo>
                <a:lnTo>
                  <a:pt x="2532" y="6401"/>
                </a:lnTo>
                <a:lnTo>
                  <a:pt x="2589" y="6462"/>
                </a:lnTo>
                <a:close/>
                <a:moveTo>
                  <a:pt x="2176" y="6188"/>
                </a:moveTo>
                <a:lnTo>
                  <a:pt x="2176" y="6188"/>
                </a:lnTo>
                <a:lnTo>
                  <a:pt x="2142" y="6188"/>
                </a:lnTo>
                <a:lnTo>
                  <a:pt x="2096" y="6203"/>
                </a:lnTo>
                <a:lnTo>
                  <a:pt x="2062" y="6219"/>
                </a:lnTo>
                <a:lnTo>
                  <a:pt x="2062" y="6249"/>
                </a:lnTo>
                <a:lnTo>
                  <a:pt x="2051" y="6264"/>
                </a:lnTo>
                <a:lnTo>
                  <a:pt x="2051" y="6280"/>
                </a:lnTo>
                <a:lnTo>
                  <a:pt x="2051" y="6325"/>
                </a:lnTo>
                <a:lnTo>
                  <a:pt x="2062" y="6340"/>
                </a:lnTo>
                <a:lnTo>
                  <a:pt x="2062" y="6356"/>
                </a:lnTo>
                <a:lnTo>
                  <a:pt x="2073" y="6356"/>
                </a:lnTo>
                <a:lnTo>
                  <a:pt x="2096" y="6356"/>
                </a:lnTo>
                <a:lnTo>
                  <a:pt x="2119" y="6325"/>
                </a:lnTo>
                <a:lnTo>
                  <a:pt x="2142" y="6295"/>
                </a:lnTo>
                <a:lnTo>
                  <a:pt x="2154" y="6249"/>
                </a:lnTo>
                <a:lnTo>
                  <a:pt x="2176" y="6188"/>
                </a:lnTo>
                <a:close/>
                <a:moveTo>
                  <a:pt x="4801" y="6066"/>
                </a:moveTo>
                <a:lnTo>
                  <a:pt x="4801" y="6066"/>
                </a:lnTo>
                <a:lnTo>
                  <a:pt x="4870" y="6020"/>
                </a:lnTo>
                <a:lnTo>
                  <a:pt x="4938" y="5990"/>
                </a:lnTo>
                <a:lnTo>
                  <a:pt x="4984" y="5944"/>
                </a:lnTo>
                <a:lnTo>
                  <a:pt x="5041" y="5898"/>
                </a:lnTo>
                <a:lnTo>
                  <a:pt x="5076" y="5853"/>
                </a:lnTo>
                <a:lnTo>
                  <a:pt x="5110" y="5792"/>
                </a:lnTo>
                <a:lnTo>
                  <a:pt x="5144" y="5716"/>
                </a:lnTo>
                <a:lnTo>
                  <a:pt x="5144" y="5655"/>
                </a:lnTo>
                <a:lnTo>
                  <a:pt x="5156" y="5594"/>
                </a:lnTo>
                <a:lnTo>
                  <a:pt x="5156" y="5517"/>
                </a:lnTo>
                <a:lnTo>
                  <a:pt x="5144" y="5441"/>
                </a:lnTo>
                <a:lnTo>
                  <a:pt x="5144" y="5365"/>
                </a:lnTo>
                <a:lnTo>
                  <a:pt x="5110" y="5319"/>
                </a:lnTo>
                <a:lnTo>
                  <a:pt x="5076" y="5243"/>
                </a:lnTo>
                <a:lnTo>
                  <a:pt x="5018" y="5167"/>
                </a:lnTo>
                <a:lnTo>
                  <a:pt x="4950" y="5106"/>
                </a:lnTo>
                <a:lnTo>
                  <a:pt x="4950" y="5106"/>
                </a:lnTo>
                <a:lnTo>
                  <a:pt x="4709" y="4984"/>
                </a:lnTo>
                <a:lnTo>
                  <a:pt x="4709" y="4984"/>
                </a:lnTo>
                <a:lnTo>
                  <a:pt x="4835" y="5106"/>
                </a:lnTo>
                <a:lnTo>
                  <a:pt x="4938" y="5243"/>
                </a:lnTo>
                <a:lnTo>
                  <a:pt x="4972" y="5304"/>
                </a:lnTo>
                <a:lnTo>
                  <a:pt x="5007" y="5365"/>
                </a:lnTo>
                <a:lnTo>
                  <a:pt x="5030" y="5411"/>
                </a:lnTo>
                <a:lnTo>
                  <a:pt x="5053" y="5502"/>
                </a:lnTo>
                <a:lnTo>
                  <a:pt x="5064" y="5563"/>
                </a:lnTo>
                <a:lnTo>
                  <a:pt x="5053" y="5624"/>
                </a:lnTo>
                <a:lnTo>
                  <a:pt x="5041" y="5685"/>
                </a:lnTo>
                <a:lnTo>
                  <a:pt x="5007" y="5761"/>
                </a:lnTo>
                <a:lnTo>
                  <a:pt x="4984" y="5838"/>
                </a:lnTo>
                <a:lnTo>
                  <a:pt x="4938" y="5898"/>
                </a:lnTo>
                <a:lnTo>
                  <a:pt x="4881" y="5975"/>
                </a:lnTo>
                <a:lnTo>
                  <a:pt x="4801" y="6066"/>
                </a:lnTo>
                <a:close/>
                <a:moveTo>
                  <a:pt x="16752" y="5990"/>
                </a:moveTo>
                <a:lnTo>
                  <a:pt x="16752" y="5990"/>
                </a:lnTo>
                <a:lnTo>
                  <a:pt x="16191" y="5517"/>
                </a:lnTo>
                <a:lnTo>
                  <a:pt x="16191" y="5517"/>
                </a:lnTo>
                <a:lnTo>
                  <a:pt x="16248" y="5609"/>
                </a:lnTo>
                <a:lnTo>
                  <a:pt x="16305" y="5670"/>
                </a:lnTo>
                <a:lnTo>
                  <a:pt x="16363" y="5761"/>
                </a:lnTo>
                <a:lnTo>
                  <a:pt x="16432" y="5822"/>
                </a:lnTo>
                <a:lnTo>
                  <a:pt x="16500" y="5868"/>
                </a:lnTo>
                <a:lnTo>
                  <a:pt x="16581" y="5914"/>
                </a:lnTo>
                <a:lnTo>
                  <a:pt x="16661" y="5944"/>
                </a:lnTo>
                <a:lnTo>
                  <a:pt x="16752" y="5990"/>
                </a:lnTo>
                <a:close/>
                <a:moveTo>
                  <a:pt x="17016" y="5655"/>
                </a:moveTo>
                <a:lnTo>
                  <a:pt x="17016" y="5655"/>
                </a:lnTo>
                <a:lnTo>
                  <a:pt x="15985" y="4710"/>
                </a:lnTo>
                <a:lnTo>
                  <a:pt x="15985" y="4710"/>
                </a:lnTo>
                <a:lnTo>
                  <a:pt x="16088" y="4847"/>
                </a:lnTo>
                <a:lnTo>
                  <a:pt x="16191" y="4999"/>
                </a:lnTo>
                <a:lnTo>
                  <a:pt x="16305" y="5136"/>
                </a:lnTo>
                <a:lnTo>
                  <a:pt x="16443" y="5258"/>
                </a:lnTo>
                <a:lnTo>
                  <a:pt x="16569" y="5380"/>
                </a:lnTo>
                <a:lnTo>
                  <a:pt x="16718" y="5487"/>
                </a:lnTo>
                <a:lnTo>
                  <a:pt x="16867" y="5594"/>
                </a:lnTo>
                <a:lnTo>
                  <a:pt x="17016" y="5655"/>
                </a:lnTo>
                <a:close/>
                <a:moveTo>
                  <a:pt x="4388" y="5655"/>
                </a:moveTo>
                <a:lnTo>
                  <a:pt x="4388" y="5655"/>
                </a:lnTo>
                <a:lnTo>
                  <a:pt x="4239" y="5441"/>
                </a:lnTo>
                <a:lnTo>
                  <a:pt x="4239" y="5441"/>
                </a:lnTo>
                <a:lnTo>
                  <a:pt x="4285" y="5548"/>
                </a:lnTo>
                <a:lnTo>
                  <a:pt x="4296" y="5594"/>
                </a:lnTo>
                <a:lnTo>
                  <a:pt x="4388" y="5655"/>
                </a:lnTo>
                <a:close/>
                <a:moveTo>
                  <a:pt x="13097" y="5594"/>
                </a:moveTo>
                <a:lnTo>
                  <a:pt x="13097" y="5594"/>
                </a:lnTo>
                <a:lnTo>
                  <a:pt x="13292" y="5548"/>
                </a:lnTo>
                <a:lnTo>
                  <a:pt x="13429" y="5502"/>
                </a:lnTo>
                <a:lnTo>
                  <a:pt x="13544" y="5441"/>
                </a:lnTo>
                <a:lnTo>
                  <a:pt x="13601" y="5411"/>
                </a:lnTo>
                <a:lnTo>
                  <a:pt x="13647" y="5365"/>
                </a:lnTo>
                <a:lnTo>
                  <a:pt x="13681" y="5319"/>
                </a:lnTo>
                <a:lnTo>
                  <a:pt x="13704" y="5258"/>
                </a:lnTo>
                <a:lnTo>
                  <a:pt x="13716" y="5197"/>
                </a:lnTo>
                <a:lnTo>
                  <a:pt x="13704" y="5136"/>
                </a:lnTo>
                <a:lnTo>
                  <a:pt x="13658" y="5076"/>
                </a:lnTo>
                <a:lnTo>
                  <a:pt x="13624" y="4984"/>
                </a:lnTo>
                <a:lnTo>
                  <a:pt x="13624" y="4984"/>
                </a:lnTo>
                <a:lnTo>
                  <a:pt x="13567" y="5319"/>
                </a:lnTo>
                <a:lnTo>
                  <a:pt x="13567" y="5319"/>
                </a:lnTo>
                <a:lnTo>
                  <a:pt x="13452" y="5304"/>
                </a:lnTo>
                <a:lnTo>
                  <a:pt x="13372" y="5289"/>
                </a:lnTo>
                <a:lnTo>
                  <a:pt x="13372" y="5289"/>
                </a:lnTo>
                <a:lnTo>
                  <a:pt x="13303" y="5304"/>
                </a:lnTo>
                <a:lnTo>
                  <a:pt x="13246" y="5319"/>
                </a:lnTo>
                <a:lnTo>
                  <a:pt x="13200" y="5335"/>
                </a:lnTo>
                <a:lnTo>
                  <a:pt x="13154" y="5365"/>
                </a:lnTo>
                <a:lnTo>
                  <a:pt x="13131" y="5411"/>
                </a:lnTo>
                <a:lnTo>
                  <a:pt x="13108" y="5457"/>
                </a:lnTo>
                <a:lnTo>
                  <a:pt x="13097" y="5517"/>
                </a:lnTo>
                <a:lnTo>
                  <a:pt x="13097" y="5594"/>
                </a:lnTo>
                <a:close/>
                <a:moveTo>
                  <a:pt x="6347" y="5380"/>
                </a:moveTo>
                <a:lnTo>
                  <a:pt x="6347" y="5380"/>
                </a:lnTo>
                <a:lnTo>
                  <a:pt x="6428" y="5304"/>
                </a:lnTo>
                <a:lnTo>
                  <a:pt x="6496" y="5228"/>
                </a:lnTo>
                <a:lnTo>
                  <a:pt x="6496" y="5182"/>
                </a:lnTo>
                <a:lnTo>
                  <a:pt x="6508" y="5152"/>
                </a:lnTo>
                <a:lnTo>
                  <a:pt x="6508" y="5106"/>
                </a:lnTo>
                <a:lnTo>
                  <a:pt x="6508" y="5091"/>
                </a:lnTo>
                <a:lnTo>
                  <a:pt x="6496" y="5060"/>
                </a:lnTo>
                <a:lnTo>
                  <a:pt x="6485" y="5015"/>
                </a:lnTo>
                <a:lnTo>
                  <a:pt x="6428" y="4954"/>
                </a:lnTo>
                <a:lnTo>
                  <a:pt x="6347" y="4908"/>
                </a:lnTo>
                <a:lnTo>
                  <a:pt x="6245" y="4847"/>
                </a:lnTo>
                <a:lnTo>
                  <a:pt x="6245" y="4847"/>
                </a:lnTo>
                <a:lnTo>
                  <a:pt x="6256" y="4984"/>
                </a:lnTo>
                <a:lnTo>
                  <a:pt x="6279" y="5121"/>
                </a:lnTo>
                <a:lnTo>
                  <a:pt x="6302" y="5258"/>
                </a:lnTo>
                <a:lnTo>
                  <a:pt x="6347" y="5380"/>
                </a:lnTo>
                <a:close/>
                <a:moveTo>
                  <a:pt x="3575" y="5045"/>
                </a:moveTo>
                <a:lnTo>
                  <a:pt x="3575" y="5045"/>
                </a:lnTo>
                <a:lnTo>
                  <a:pt x="3551" y="5060"/>
                </a:lnTo>
                <a:lnTo>
                  <a:pt x="3517" y="5076"/>
                </a:lnTo>
                <a:lnTo>
                  <a:pt x="3483" y="5106"/>
                </a:lnTo>
                <a:lnTo>
                  <a:pt x="3448" y="5152"/>
                </a:lnTo>
                <a:lnTo>
                  <a:pt x="3437" y="5197"/>
                </a:lnTo>
                <a:lnTo>
                  <a:pt x="3437" y="5228"/>
                </a:lnTo>
                <a:lnTo>
                  <a:pt x="3448" y="5228"/>
                </a:lnTo>
                <a:lnTo>
                  <a:pt x="3460" y="5213"/>
                </a:lnTo>
                <a:lnTo>
                  <a:pt x="3506" y="5152"/>
                </a:lnTo>
                <a:lnTo>
                  <a:pt x="3575" y="5045"/>
                </a:lnTo>
                <a:close/>
                <a:moveTo>
                  <a:pt x="15526" y="5106"/>
                </a:moveTo>
                <a:lnTo>
                  <a:pt x="15526" y="5106"/>
                </a:lnTo>
                <a:lnTo>
                  <a:pt x="15480" y="5030"/>
                </a:lnTo>
                <a:lnTo>
                  <a:pt x="15423" y="4984"/>
                </a:lnTo>
                <a:lnTo>
                  <a:pt x="15423" y="4984"/>
                </a:lnTo>
                <a:lnTo>
                  <a:pt x="15526" y="5106"/>
                </a:lnTo>
                <a:close/>
                <a:moveTo>
                  <a:pt x="3517" y="4984"/>
                </a:moveTo>
                <a:lnTo>
                  <a:pt x="3517" y="4984"/>
                </a:lnTo>
                <a:lnTo>
                  <a:pt x="3643" y="4893"/>
                </a:lnTo>
                <a:lnTo>
                  <a:pt x="3712" y="4832"/>
                </a:lnTo>
                <a:lnTo>
                  <a:pt x="3724" y="4801"/>
                </a:lnTo>
                <a:lnTo>
                  <a:pt x="3724" y="4771"/>
                </a:lnTo>
                <a:lnTo>
                  <a:pt x="3724" y="4710"/>
                </a:lnTo>
                <a:lnTo>
                  <a:pt x="3724" y="4710"/>
                </a:lnTo>
                <a:lnTo>
                  <a:pt x="3517" y="4984"/>
                </a:lnTo>
                <a:close/>
                <a:moveTo>
                  <a:pt x="18047" y="4710"/>
                </a:moveTo>
                <a:lnTo>
                  <a:pt x="18047" y="4710"/>
                </a:lnTo>
                <a:lnTo>
                  <a:pt x="18563" y="4908"/>
                </a:lnTo>
                <a:lnTo>
                  <a:pt x="18563" y="4908"/>
                </a:lnTo>
                <a:lnTo>
                  <a:pt x="18517" y="4847"/>
                </a:lnTo>
                <a:lnTo>
                  <a:pt x="18483" y="4816"/>
                </a:lnTo>
                <a:lnTo>
                  <a:pt x="18448" y="4771"/>
                </a:lnTo>
                <a:lnTo>
                  <a:pt x="18414" y="4740"/>
                </a:lnTo>
                <a:lnTo>
                  <a:pt x="18368" y="4725"/>
                </a:lnTo>
                <a:lnTo>
                  <a:pt x="18311" y="4710"/>
                </a:lnTo>
                <a:lnTo>
                  <a:pt x="18196" y="4710"/>
                </a:lnTo>
                <a:lnTo>
                  <a:pt x="18196" y="4710"/>
                </a:lnTo>
                <a:lnTo>
                  <a:pt x="18047" y="4710"/>
                </a:lnTo>
                <a:close/>
                <a:moveTo>
                  <a:pt x="15469" y="4908"/>
                </a:moveTo>
                <a:lnTo>
                  <a:pt x="15469" y="4908"/>
                </a:lnTo>
                <a:lnTo>
                  <a:pt x="15366" y="4771"/>
                </a:lnTo>
                <a:lnTo>
                  <a:pt x="15366" y="4771"/>
                </a:lnTo>
                <a:lnTo>
                  <a:pt x="15400" y="4847"/>
                </a:lnTo>
                <a:lnTo>
                  <a:pt x="15469" y="4908"/>
                </a:lnTo>
                <a:close/>
                <a:moveTo>
                  <a:pt x="13097" y="4847"/>
                </a:moveTo>
                <a:lnTo>
                  <a:pt x="13097" y="4847"/>
                </a:lnTo>
                <a:lnTo>
                  <a:pt x="13120" y="4771"/>
                </a:lnTo>
                <a:lnTo>
                  <a:pt x="13154" y="4710"/>
                </a:lnTo>
                <a:lnTo>
                  <a:pt x="13177" y="4649"/>
                </a:lnTo>
                <a:lnTo>
                  <a:pt x="13223" y="4603"/>
                </a:lnTo>
                <a:lnTo>
                  <a:pt x="13246" y="4572"/>
                </a:lnTo>
                <a:lnTo>
                  <a:pt x="13292" y="4557"/>
                </a:lnTo>
                <a:lnTo>
                  <a:pt x="13360" y="4527"/>
                </a:lnTo>
                <a:lnTo>
                  <a:pt x="13418" y="4511"/>
                </a:lnTo>
                <a:lnTo>
                  <a:pt x="13418" y="4511"/>
                </a:lnTo>
                <a:lnTo>
                  <a:pt x="13280" y="4481"/>
                </a:lnTo>
                <a:lnTo>
                  <a:pt x="13280" y="4481"/>
                </a:lnTo>
                <a:lnTo>
                  <a:pt x="13235" y="4496"/>
                </a:lnTo>
                <a:lnTo>
                  <a:pt x="13188" y="4511"/>
                </a:lnTo>
                <a:lnTo>
                  <a:pt x="13154" y="4527"/>
                </a:lnTo>
                <a:lnTo>
                  <a:pt x="13120" y="4557"/>
                </a:lnTo>
                <a:lnTo>
                  <a:pt x="13086" y="4572"/>
                </a:lnTo>
                <a:lnTo>
                  <a:pt x="13086" y="4588"/>
                </a:lnTo>
                <a:lnTo>
                  <a:pt x="13062" y="4664"/>
                </a:lnTo>
                <a:lnTo>
                  <a:pt x="13062" y="4725"/>
                </a:lnTo>
                <a:lnTo>
                  <a:pt x="13074" y="4786"/>
                </a:lnTo>
                <a:lnTo>
                  <a:pt x="13086" y="4832"/>
                </a:lnTo>
                <a:lnTo>
                  <a:pt x="13097" y="4847"/>
                </a:lnTo>
                <a:close/>
                <a:moveTo>
                  <a:pt x="5843" y="4847"/>
                </a:moveTo>
                <a:lnTo>
                  <a:pt x="5843" y="4847"/>
                </a:lnTo>
                <a:lnTo>
                  <a:pt x="5924" y="4755"/>
                </a:lnTo>
                <a:lnTo>
                  <a:pt x="6015" y="4694"/>
                </a:lnTo>
                <a:lnTo>
                  <a:pt x="6164" y="4588"/>
                </a:lnTo>
                <a:lnTo>
                  <a:pt x="6290" y="4542"/>
                </a:lnTo>
                <a:lnTo>
                  <a:pt x="6394" y="4481"/>
                </a:lnTo>
                <a:lnTo>
                  <a:pt x="6439" y="4450"/>
                </a:lnTo>
                <a:lnTo>
                  <a:pt x="6485" y="4405"/>
                </a:lnTo>
                <a:lnTo>
                  <a:pt x="6508" y="4359"/>
                </a:lnTo>
                <a:lnTo>
                  <a:pt x="6543" y="4313"/>
                </a:lnTo>
                <a:lnTo>
                  <a:pt x="6577" y="4222"/>
                </a:lnTo>
                <a:lnTo>
                  <a:pt x="6611" y="4130"/>
                </a:lnTo>
                <a:lnTo>
                  <a:pt x="6668" y="3886"/>
                </a:lnTo>
                <a:lnTo>
                  <a:pt x="6668" y="3886"/>
                </a:lnTo>
                <a:lnTo>
                  <a:pt x="6680" y="3841"/>
                </a:lnTo>
                <a:lnTo>
                  <a:pt x="6703" y="3795"/>
                </a:lnTo>
                <a:lnTo>
                  <a:pt x="6772" y="3688"/>
                </a:lnTo>
                <a:lnTo>
                  <a:pt x="6921" y="3444"/>
                </a:lnTo>
                <a:lnTo>
                  <a:pt x="6989" y="3322"/>
                </a:lnTo>
                <a:lnTo>
                  <a:pt x="7024" y="3246"/>
                </a:lnTo>
                <a:lnTo>
                  <a:pt x="7035" y="3200"/>
                </a:lnTo>
                <a:lnTo>
                  <a:pt x="7024" y="3185"/>
                </a:lnTo>
                <a:lnTo>
                  <a:pt x="7001" y="3155"/>
                </a:lnTo>
                <a:lnTo>
                  <a:pt x="6966" y="3155"/>
                </a:lnTo>
                <a:lnTo>
                  <a:pt x="6966" y="3155"/>
                </a:lnTo>
                <a:lnTo>
                  <a:pt x="6806" y="3140"/>
                </a:lnTo>
                <a:lnTo>
                  <a:pt x="6806" y="3140"/>
                </a:lnTo>
                <a:lnTo>
                  <a:pt x="6634" y="3155"/>
                </a:lnTo>
                <a:lnTo>
                  <a:pt x="6439" y="3185"/>
                </a:lnTo>
                <a:lnTo>
                  <a:pt x="6279" y="3200"/>
                </a:lnTo>
                <a:lnTo>
                  <a:pt x="6096" y="3261"/>
                </a:lnTo>
                <a:lnTo>
                  <a:pt x="5924" y="3307"/>
                </a:lnTo>
                <a:lnTo>
                  <a:pt x="5786" y="3399"/>
                </a:lnTo>
                <a:lnTo>
                  <a:pt x="5660" y="3490"/>
                </a:lnTo>
                <a:lnTo>
                  <a:pt x="5546" y="3581"/>
                </a:lnTo>
                <a:lnTo>
                  <a:pt x="5511" y="3627"/>
                </a:lnTo>
                <a:lnTo>
                  <a:pt x="5465" y="3703"/>
                </a:lnTo>
                <a:lnTo>
                  <a:pt x="5431" y="3764"/>
                </a:lnTo>
                <a:lnTo>
                  <a:pt x="5408" y="3825"/>
                </a:lnTo>
                <a:lnTo>
                  <a:pt x="5385" y="3886"/>
                </a:lnTo>
                <a:lnTo>
                  <a:pt x="5373" y="3962"/>
                </a:lnTo>
                <a:lnTo>
                  <a:pt x="5373" y="4054"/>
                </a:lnTo>
                <a:lnTo>
                  <a:pt x="5385" y="4115"/>
                </a:lnTo>
                <a:lnTo>
                  <a:pt x="5408" y="4206"/>
                </a:lnTo>
                <a:lnTo>
                  <a:pt x="5431" y="4283"/>
                </a:lnTo>
                <a:lnTo>
                  <a:pt x="5477" y="4359"/>
                </a:lnTo>
                <a:lnTo>
                  <a:pt x="5522" y="4466"/>
                </a:lnTo>
                <a:lnTo>
                  <a:pt x="5580" y="4557"/>
                </a:lnTo>
                <a:lnTo>
                  <a:pt x="5649" y="4649"/>
                </a:lnTo>
                <a:lnTo>
                  <a:pt x="5729" y="4740"/>
                </a:lnTo>
                <a:lnTo>
                  <a:pt x="5843" y="4847"/>
                </a:lnTo>
                <a:close/>
                <a:moveTo>
                  <a:pt x="17944" y="4771"/>
                </a:moveTo>
                <a:lnTo>
                  <a:pt x="17944" y="4771"/>
                </a:lnTo>
                <a:lnTo>
                  <a:pt x="17875" y="4710"/>
                </a:lnTo>
                <a:lnTo>
                  <a:pt x="17829" y="4664"/>
                </a:lnTo>
                <a:lnTo>
                  <a:pt x="17749" y="4649"/>
                </a:lnTo>
                <a:lnTo>
                  <a:pt x="17635" y="4633"/>
                </a:lnTo>
                <a:lnTo>
                  <a:pt x="17635" y="4633"/>
                </a:lnTo>
                <a:lnTo>
                  <a:pt x="17944" y="4771"/>
                </a:lnTo>
                <a:close/>
                <a:moveTo>
                  <a:pt x="17589" y="4710"/>
                </a:moveTo>
                <a:lnTo>
                  <a:pt x="17589" y="4710"/>
                </a:lnTo>
                <a:lnTo>
                  <a:pt x="16752" y="4237"/>
                </a:lnTo>
                <a:lnTo>
                  <a:pt x="16752" y="4237"/>
                </a:lnTo>
                <a:lnTo>
                  <a:pt x="16832" y="4328"/>
                </a:lnTo>
                <a:lnTo>
                  <a:pt x="16913" y="4405"/>
                </a:lnTo>
                <a:lnTo>
                  <a:pt x="17016" y="4481"/>
                </a:lnTo>
                <a:lnTo>
                  <a:pt x="17108" y="4557"/>
                </a:lnTo>
                <a:lnTo>
                  <a:pt x="17222" y="4603"/>
                </a:lnTo>
                <a:lnTo>
                  <a:pt x="17325" y="4649"/>
                </a:lnTo>
                <a:lnTo>
                  <a:pt x="17451" y="4679"/>
                </a:lnTo>
                <a:lnTo>
                  <a:pt x="17589" y="4710"/>
                </a:lnTo>
                <a:close/>
                <a:moveTo>
                  <a:pt x="3254" y="4710"/>
                </a:moveTo>
                <a:lnTo>
                  <a:pt x="3254" y="4710"/>
                </a:lnTo>
                <a:lnTo>
                  <a:pt x="3288" y="4710"/>
                </a:lnTo>
                <a:lnTo>
                  <a:pt x="3299" y="4694"/>
                </a:lnTo>
                <a:lnTo>
                  <a:pt x="3345" y="4649"/>
                </a:lnTo>
                <a:lnTo>
                  <a:pt x="3357" y="4588"/>
                </a:lnTo>
                <a:lnTo>
                  <a:pt x="3380" y="4527"/>
                </a:lnTo>
                <a:lnTo>
                  <a:pt x="3380" y="4435"/>
                </a:lnTo>
                <a:lnTo>
                  <a:pt x="3380" y="4359"/>
                </a:lnTo>
                <a:lnTo>
                  <a:pt x="3357" y="4237"/>
                </a:lnTo>
                <a:lnTo>
                  <a:pt x="3357" y="4237"/>
                </a:lnTo>
                <a:lnTo>
                  <a:pt x="3254" y="4710"/>
                </a:lnTo>
                <a:close/>
                <a:moveTo>
                  <a:pt x="18299" y="4511"/>
                </a:moveTo>
                <a:lnTo>
                  <a:pt x="18299" y="4511"/>
                </a:lnTo>
                <a:lnTo>
                  <a:pt x="17841" y="4435"/>
                </a:lnTo>
                <a:lnTo>
                  <a:pt x="17841" y="4435"/>
                </a:lnTo>
                <a:lnTo>
                  <a:pt x="17944" y="4511"/>
                </a:lnTo>
                <a:lnTo>
                  <a:pt x="18013" y="4542"/>
                </a:lnTo>
                <a:lnTo>
                  <a:pt x="18058" y="4557"/>
                </a:lnTo>
                <a:lnTo>
                  <a:pt x="18116" y="4572"/>
                </a:lnTo>
                <a:lnTo>
                  <a:pt x="18173" y="4557"/>
                </a:lnTo>
                <a:lnTo>
                  <a:pt x="18242" y="4542"/>
                </a:lnTo>
                <a:lnTo>
                  <a:pt x="18299" y="4511"/>
                </a:lnTo>
                <a:close/>
                <a:moveTo>
                  <a:pt x="17726" y="4511"/>
                </a:moveTo>
                <a:lnTo>
                  <a:pt x="17726" y="4511"/>
                </a:lnTo>
                <a:lnTo>
                  <a:pt x="17108" y="4237"/>
                </a:lnTo>
                <a:lnTo>
                  <a:pt x="17108" y="4237"/>
                </a:lnTo>
                <a:lnTo>
                  <a:pt x="17176" y="4313"/>
                </a:lnTo>
                <a:lnTo>
                  <a:pt x="17233" y="4344"/>
                </a:lnTo>
                <a:lnTo>
                  <a:pt x="17302" y="4389"/>
                </a:lnTo>
                <a:lnTo>
                  <a:pt x="17371" y="4420"/>
                </a:lnTo>
                <a:lnTo>
                  <a:pt x="17463" y="4466"/>
                </a:lnTo>
                <a:lnTo>
                  <a:pt x="17543" y="4481"/>
                </a:lnTo>
                <a:lnTo>
                  <a:pt x="17726" y="4511"/>
                </a:lnTo>
                <a:close/>
                <a:moveTo>
                  <a:pt x="4652" y="4313"/>
                </a:moveTo>
                <a:lnTo>
                  <a:pt x="4652" y="4313"/>
                </a:lnTo>
                <a:lnTo>
                  <a:pt x="4640" y="4176"/>
                </a:lnTo>
                <a:lnTo>
                  <a:pt x="4640" y="4084"/>
                </a:lnTo>
                <a:lnTo>
                  <a:pt x="4606" y="4008"/>
                </a:lnTo>
                <a:lnTo>
                  <a:pt x="4572" y="3962"/>
                </a:lnTo>
                <a:lnTo>
                  <a:pt x="4526" y="3917"/>
                </a:lnTo>
                <a:lnTo>
                  <a:pt x="4457" y="3871"/>
                </a:lnTo>
                <a:lnTo>
                  <a:pt x="4285" y="3825"/>
                </a:lnTo>
                <a:lnTo>
                  <a:pt x="4285" y="3825"/>
                </a:lnTo>
                <a:lnTo>
                  <a:pt x="4308" y="4039"/>
                </a:lnTo>
                <a:lnTo>
                  <a:pt x="4331" y="4206"/>
                </a:lnTo>
                <a:lnTo>
                  <a:pt x="4365" y="4313"/>
                </a:lnTo>
                <a:lnTo>
                  <a:pt x="4377" y="4359"/>
                </a:lnTo>
                <a:lnTo>
                  <a:pt x="4388" y="4389"/>
                </a:lnTo>
                <a:lnTo>
                  <a:pt x="4423" y="4420"/>
                </a:lnTo>
                <a:lnTo>
                  <a:pt x="4445" y="4435"/>
                </a:lnTo>
                <a:lnTo>
                  <a:pt x="4480" y="4435"/>
                </a:lnTo>
                <a:lnTo>
                  <a:pt x="4503" y="4435"/>
                </a:lnTo>
                <a:lnTo>
                  <a:pt x="4548" y="4405"/>
                </a:lnTo>
                <a:lnTo>
                  <a:pt x="4572" y="4389"/>
                </a:lnTo>
                <a:lnTo>
                  <a:pt x="4652" y="4313"/>
                </a:lnTo>
                <a:close/>
                <a:moveTo>
                  <a:pt x="3666" y="4374"/>
                </a:moveTo>
                <a:lnTo>
                  <a:pt x="3666" y="4374"/>
                </a:lnTo>
                <a:lnTo>
                  <a:pt x="3792" y="4313"/>
                </a:lnTo>
                <a:lnTo>
                  <a:pt x="3930" y="4283"/>
                </a:lnTo>
                <a:lnTo>
                  <a:pt x="4056" y="4283"/>
                </a:lnTo>
                <a:lnTo>
                  <a:pt x="4182" y="4313"/>
                </a:lnTo>
                <a:lnTo>
                  <a:pt x="4182" y="4313"/>
                </a:lnTo>
                <a:lnTo>
                  <a:pt x="4170" y="4222"/>
                </a:lnTo>
                <a:lnTo>
                  <a:pt x="4136" y="4130"/>
                </a:lnTo>
                <a:lnTo>
                  <a:pt x="4090" y="4069"/>
                </a:lnTo>
                <a:lnTo>
                  <a:pt x="4044" y="4023"/>
                </a:lnTo>
                <a:lnTo>
                  <a:pt x="3998" y="3978"/>
                </a:lnTo>
                <a:lnTo>
                  <a:pt x="3953" y="3947"/>
                </a:lnTo>
                <a:lnTo>
                  <a:pt x="3907" y="3932"/>
                </a:lnTo>
                <a:lnTo>
                  <a:pt x="3861" y="3917"/>
                </a:lnTo>
                <a:lnTo>
                  <a:pt x="3861" y="3917"/>
                </a:lnTo>
                <a:lnTo>
                  <a:pt x="3792" y="3932"/>
                </a:lnTo>
                <a:lnTo>
                  <a:pt x="3758" y="3962"/>
                </a:lnTo>
                <a:lnTo>
                  <a:pt x="3712" y="3978"/>
                </a:lnTo>
                <a:lnTo>
                  <a:pt x="3678" y="4054"/>
                </a:lnTo>
                <a:lnTo>
                  <a:pt x="3655" y="4100"/>
                </a:lnTo>
                <a:lnTo>
                  <a:pt x="3643" y="4176"/>
                </a:lnTo>
                <a:lnTo>
                  <a:pt x="3643" y="4267"/>
                </a:lnTo>
                <a:lnTo>
                  <a:pt x="3666" y="4374"/>
                </a:lnTo>
                <a:close/>
                <a:moveTo>
                  <a:pt x="17726" y="4313"/>
                </a:moveTo>
                <a:lnTo>
                  <a:pt x="17726" y="4313"/>
                </a:lnTo>
                <a:lnTo>
                  <a:pt x="16752" y="3825"/>
                </a:lnTo>
                <a:lnTo>
                  <a:pt x="16752" y="3825"/>
                </a:lnTo>
                <a:lnTo>
                  <a:pt x="16855" y="3917"/>
                </a:lnTo>
                <a:lnTo>
                  <a:pt x="16959" y="3993"/>
                </a:lnTo>
                <a:lnTo>
                  <a:pt x="17084" y="4069"/>
                </a:lnTo>
                <a:lnTo>
                  <a:pt x="17199" y="4130"/>
                </a:lnTo>
                <a:lnTo>
                  <a:pt x="17314" y="4191"/>
                </a:lnTo>
                <a:lnTo>
                  <a:pt x="17463" y="4222"/>
                </a:lnTo>
                <a:lnTo>
                  <a:pt x="17589" y="4267"/>
                </a:lnTo>
                <a:lnTo>
                  <a:pt x="17726" y="4313"/>
                </a:lnTo>
                <a:close/>
                <a:moveTo>
                  <a:pt x="12283" y="4313"/>
                </a:moveTo>
                <a:lnTo>
                  <a:pt x="12283" y="4313"/>
                </a:lnTo>
                <a:lnTo>
                  <a:pt x="12432" y="4100"/>
                </a:lnTo>
                <a:lnTo>
                  <a:pt x="12432" y="4100"/>
                </a:lnTo>
                <a:lnTo>
                  <a:pt x="12363" y="4084"/>
                </a:lnTo>
                <a:lnTo>
                  <a:pt x="12363" y="4084"/>
                </a:lnTo>
                <a:lnTo>
                  <a:pt x="12352" y="4084"/>
                </a:lnTo>
                <a:lnTo>
                  <a:pt x="12318" y="4100"/>
                </a:lnTo>
                <a:lnTo>
                  <a:pt x="12295" y="4115"/>
                </a:lnTo>
                <a:lnTo>
                  <a:pt x="12295" y="4130"/>
                </a:lnTo>
                <a:lnTo>
                  <a:pt x="12283" y="4206"/>
                </a:lnTo>
                <a:lnTo>
                  <a:pt x="12283" y="4313"/>
                </a:lnTo>
                <a:close/>
                <a:moveTo>
                  <a:pt x="3414" y="4161"/>
                </a:moveTo>
                <a:lnTo>
                  <a:pt x="3414" y="4161"/>
                </a:lnTo>
                <a:lnTo>
                  <a:pt x="3426" y="4130"/>
                </a:lnTo>
                <a:lnTo>
                  <a:pt x="3460" y="4100"/>
                </a:lnTo>
                <a:lnTo>
                  <a:pt x="3540" y="3993"/>
                </a:lnTo>
                <a:lnTo>
                  <a:pt x="3700" y="3627"/>
                </a:lnTo>
                <a:lnTo>
                  <a:pt x="3873" y="3246"/>
                </a:lnTo>
                <a:lnTo>
                  <a:pt x="4010" y="2926"/>
                </a:lnTo>
                <a:lnTo>
                  <a:pt x="4010" y="2926"/>
                </a:lnTo>
                <a:lnTo>
                  <a:pt x="3838" y="3216"/>
                </a:lnTo>
                <a:lnTo>
                  <a:pt x="3746" y="3353"/>
                </a:lnTo>
                <a:lnTo>
                  <a:pt x="3655" y="3505"/>
                </a:lnTo>
                <a:lnTo>
                  <a:pt x="3586" y="3658"/>
                </a:lnTo>
                <a:lnTo>
                  <a:pt x="3517" y="3825"/>
                </a:lnTo>
                <a:lnTo>
                  <a:pt x="3460" y="3978"/>
                </a:lnTo>
                <a:lnTo>
                  <a:pt x="3414" y="4161"/>
                </a:lnTo>
                <a:close/>
                <a:moveTo>
                  <a:pt x="14598" y="4100"/>
                </a:moveTo>
                <a:lnTo>
                  <a:pt x="14598" y="4100"/>
                </a:lnTo>
                <a:lnTo>
                  <a:pt x="14586" y="3962"/>
                </a:lnTo>
                <a:lnTo>
                  <a:pt x="14586" y="3810"/>
                </a:lnTo>
                <a:lnTo>
                  <a:pt x="14563" y="3612"/>
                </a:lnTo>
                <a:lnTo>
                  <a:pt x="14518" y="3429"/>
                </a:lnTo>
                <a:lnTo>
                  <a:pt x="14472" y="3246"/>
                </a:lnTo>
                <a:lnTo>
                  <a:pt x="14438" y="3170"/>
                </a:lnTo>
                <a:lnTo>
                  <a:pt x="14403" y="3094"/>
                </a:lnTo>
                <a:lnTo>
                  <a:pt x="14369" y="3033"/>
                </a:lnTo>
                <a:lnTo>
                  <a:pt x="14334" y="3002"/>
                </a:lnTo>
                <a:lnTo>
                  <a:pt x="14289" y="2957"/>
                </a:lnTo>
                <a:lnTo>
                  <a:pt x="14220" y="2941"/>
                </a:lnTo>
                <a:lnTo>
                  <a:pt x="14220" y="2941"/>
                </a:lnTo>
                <a:lnTo>
                  <a:pt x="14105" y="2865"/>
                </a:lnTo>
                <a:lnTo>
                  <a:pt x="13968" y="2804"/>
                </a:lnTo>
                <a:lnTo>
                  <a:pt x="13830" y="2758"/>
                </a:lnTo>
                <a:lnTo>
                  <a:pt x="13693" y="2743"/>
                </a:lnTo>
                <a:lnTo>
                  <a:pt x="13555" y="2728"/>
                </a:lnTo>
                <a:lnTo>
                  <a:pt x="13406" y="2713"/>
                </a:lnTo>
                <a:lnTo>
                  <a:pt x="13108" y="2728"/>
                </a:lnTo>
                <a:lnTo>
                  <a:pt x="12822" y="2728"/>
                </a:lnTo>
                <a:lnTo>
                  <a:pt x="12673" y="2713"/>
                </a:lnTo>
                <a:lnTo>
                  <a:pt x="12524" y="2698"/>
                </a:lnTo>
                <a:lnTo>
                  <a:pt x="12386" y="2667"/>
                </a:lnTo>
                <a:lnTo>
                  <a:pt x="12249" y="2637"/>
                </a:lnTo>
                <a:lnTo>
                  <a:pt x="12100" y="2576"/>
                </a:lnTo>
                <a:lnTo>
                  <a:pt x="11974" y="2499"/>
                </a:lnTo>
                <a:lnTo>
                  <a:pt x="11974" y="2499"/>
                </a:lnTo>
                <a:lnTo>
                  <a:pt x="11722" y="2332"/>
                </a:lnTo>
                <a:lnTo>
                  <a:pt x="11504" y="2225"/>
                </a:lnTo>
                <a:lnTo>
                  <a:pt x="11401" y="2164"/>
                </a:lnTo>
                <a:lnTo>
                  <a:pt x="11298" y="2133"/>
                </a:lnTo>
                <a:lnTo>
                  <a:pt x="11206" y="2103"/>
                </a:lnTo>
                <a:lnTo>
                  <a:pt x="11115" y="2072"/>
                </a:lnTo>
                <a:lnTo>
                  <a:pt x="11011" y="2072"/>
                </a:lnTo>
                <a:lnTo>
                  <a:pt x="10931" y="2088"/>
                </a:lnTo>
                <a:lnTo>
                  <a:pt x="10817" y="2103"/>
                </a:lnTo>
                <a:lnTo>
                  <a:pt x="10725" y="2149"/>
                </a:lnTo>
                <a:lnTo>
                  <a:pt x="10599" y="2194"/>
                </a:lnTo>
                <a:lnTo>
                  <a:pt x="10484" y="2240"/>
                </a:lnTo>
                <a:lnTo>
                  <a:pt x="10221" y="2408"/>
                </a:lnTo>
                <a:lnTo>
                  <a:pt x="10221" y="2408"/>
                </a:lnTo>
                <a:lnTo>
                  <a:pt x="10243" y="2515"/>
                </a:lnTo>
                <a:lnTo>
                  <a:pt x="10301" y="2591"/>
                </a:lnTo>
                <a:lnTo>
                  <a:pt x="10347" y="2667"/>
                </a:lnTo>
                <a:lnTo>
                  <a:pt x="10381" y="2698"/>
                </a:lnTo>
                <a:lnTo>
                  <a:pt x="10438" y="2743"/>
                </a:lnTo>
                <a:lnTo>
                  <a:pt x="10507" y="2758"/>
                </a:lnTo>
                <a:lnTo>
                  <a:pt x="10565" y="2774"/>
                </a:lnTo>
                <a:lnTo>
                  <a:pt x="10633" y="2774"/>
                </a:lnTo>
                <a:lnTo>
                  <a:pt x="10771" y="2774"/>
                </a:lnTo>
                <a:lnTo>
                  <a:pt x="10920" y="2758"/>
                </a:lnTo>
                <a:lnTo>
                  <a:pt x="11057" y="2774"/>
                </a:lnTo>
                <a:lnTo>
                  <a:pt x="11126" y="2789"/>
                </a:lnTo>
                <a:lnTo>
                  <a:pt x="11195" y="2804"/>
                </a:lnTo>
                <a:lnTo>
                  <a:pt x="11195" y="2804"/>
                </a:lnTo>
                <a:lnTo>
                  <a:pt x="11344" y="3094"/>
                </a:lnTo>
                <a:lnTo>
                  <a:pt x="11424" y="3246"/>
                </a:lnTo>
                <a:lnTo>
                  <a:pt x="11504" y="3353"/>
                </a:lnTo>
                <a:lnTo>
                  <a:pt x="11584" y="3475"/>
                </a:lnTo>
                <a:lnTo>
                  <a:pt x="11676" y="3566"/>
                </a:lnTo>
                <a:lnTo>
                  <a:pt x="11722" y="3612"/>
                </a:lnTo>
                <a:lnTo>
                  <a:pt x="11779" y="3642"/>
                </a:lnTo>
                <a:lnTo>
                  <a:pt x="11848" y="3673"/>
                </a:lnTo>
                <a:lnTo>
                  <a:pt x="11916" y="3703"/>
                </a:lnTo>
                <a:lnTo>
                  <a:pt x="11916" y="3703"/>
                </a:lnTo>
                <a:lnTo>
                  <a:pt x="12008" y="3612"/>
                </a:lnTo>
                <a:lnTo>
                  <a:pt x="12089" y="3566"/>
                </a:lnTo>
                <a:lnTo>
                  <a:pt x="12169" y="3521"/>
                </a:lnTo>
                <a:lnTo>
                  <a:pt x="12272" y="3475"/>
                </a:lnTo>
                <a:lnTo>
                  <a:pt x="12352" y="3444"/>
                </a:lnTo>
                <a:lnTo>
                  <a:pt x="12444" y="3414"/>
                </a:lnTo>
                <a:lnTo>
                  <a:pt x="12535" y="3414"/>
                </a:lnTo>
                <a:lnTo>
                  <a:pt x="12627" y="3399"/>
                </a:lnTo>
                <a:lnTo>
                  <a:pt x="12627" y="3399"/>
                </a:lnTo>
                <a:lnTo>
                  <a:pt x="12742" y="3414"/>
                </a:lnTo>
                <a:lnTo>
                  <a:pt x="12868" y="3429"/>
                </a:lnTo>
                <a:lnTo>
                  <a:pt x="13005" y="3460"/>
                </a:lnTo>
                <a:lnTo>
                  <a:pt x="13120" y="3505"/>
                </a:lnTo>
                <a:lnTo>
                  <a:pt x="13372" y="3581"/>
                </a:lnTo>
                <a:lnTo>
                  <a:pt x="13624" y="3703"/>
                </a:lnTo>
                <a:lnTo>
                  <a:pt x="14117" y="3932"/>
                </a:lnTo>
                <a:lnTo>
                  <a:pt x="14369" y="4039"/>
                </a:lnTo>
                <a:lnTo>
                  <a:pt x="14472" y="4069"/>
                </a:lnTo>
                <a:lnTo>
                  <a:pt x="14598" y="4100"/>
                </a:lnTo>
                <a:close/>
                <a:moveTo>
                  <a:pt x="4858" y="4039"/>
                </a:moveTo>
                <a:lnTo>
                  <a:pt x="4858" y="4039"/>
                </a:lnTo>
                <a:lnTo>
                  <a:pt x="4823" y="3932"/>
                </a:lnTo>
                <a:lnTo>
                  <a:pt x="4823" y="3886"/>
                </a:lnTo>
                <a:lnTo>
                  <a:pt x="4755" y="3825"/>
                </a:lnTo>
                <a:lnTo>
                  <a:pt x="4755" y="3825"/>
                </a:lnTo>
                <a:lnTo>
                  <a:pt x="4858" y="4039"/>
                </a:lnTo>
                <a:close/>
                <a:moveTo>
                  <a:pt x="15526" y="3886"/>
                </a:moveTo>
                <a:lnTo>
                  <a:pt x="15526" y="3886"/>
                </a:lnTo>
                <a:lnTo>
                  <a:pt x="15595" y="3841"/>
                </a:lnTo>
                <a:lnTo>
                  <a:pt x="15618" y="3825"/>
                </a:lnTo>
                <a:lnTo>
                  <a:pt x="15629" y="3795"/>
                </a:lnTo>
                <a:lnTo>
                  <a:pt x="15618" y="3780"/>
                </a:lnTo>
                <a:lnTo>
                  <a:pt x="15606" y="3734"/>
                </a:lnTo>
                <a:lnTo>
                  <a:pt x="15572" y="3612"/>
                </a:lnTo>
                <a:lnTo>
                  <a:pt x="15572" y="3612"/>
                </a:lnTo>
                <a:lnTo>
                  <a:pt x="15366" y="3566"/>
                </a:lnTo>
                <a:lnTo>
                  <a:pt x="15366" y="3566"/>
                </a:lnTo>
                <a:lnTo>
                  <a:pt x="15366" y="3612"/>
                </a:lnTo>
                <a:lnTo>
                  <a:pt x="15366" y="3673"/>
                </a:lnTo>
                <a:lnTo>
                  <a:pt x="15366" y="3719"/>
                </a:lnTo>
                <a:lnTo>
                  <a:pt x="15377" y="3780"/>
                </a:lnTo>
                <a:lnTo>
                  <a:pt x="15411" y="3810"/>
                </a:lnTo>
                <a:lnTo>
                  <a:pt x="15446" y="3841"/>
                </a:lnTo>
                <a:lnTo>
                  <a:pt x="15480" y="3871"/>
                </a:lnTo>
                <a:lnTo>
                  <a:pt x="15526" y="3886"/>
                </a:lnTo>
                <a:close/>
                <a:moveTo>
                  <a:pt x="17428" y="3825"/>
                </a:moveTo>
                <a:lnTo>
                  <a:pt x="17428" y="3825"/>
                </a:lnTo>
                <a:lnTo>
                  <a:pt x="16546" y="3490"/>
                </a:lnTo>
                <a:lnTo>
                  <a:pt x="16546" y="3490"/>
                </a:lnTo>
                <a:lnTo>
                  <a:pt x="16581" y="3536"/>
                </a:lnTo>
                <a:lnTo>
                  <a:pt x="16626" y="3566"/>
                </a:lnTo>
                <a:lnTo>
                  <a:pt x="16718" y="3642"/>
                </a:lnTo>
                <a:lnTo>
                  <a:pt x="16832" y="3719"/>
                </a:lnTo>
                <a:lnTo>
                  <a:pt x="16959" y="3795"/>
                </a:lnTo>
                <a:lnTo>
                  <a:pt x="17096" y="3825"/>
                </a:lnTo>
                <a:lnTo>
                  <a:pt x="17222" y="3856"/>
                </a:lnTo>
                <a:lnTo>
                  <a:pt x="17325" y="3856"/>
                </a:lnTo>
                <a:lnTo>
                  <a:pt x="17382" y="3841"/>
                </a:lnTo>
                <a:lnTo>
                  <a:pt x="17428" y="3825"/>
                </a:lnTo>
                <a:close/>
                <a:moveTo>
                  <a:pt x="3827" y="3764"/>
                </a:moveTo>
                <a:lnTo>
                  <a:pt x="3827" y="3764"/>
                </a:lnTo>
                <a:lnTo>
                  <a:pt x="3895" y="3795"/>
                </a:lnTo>
                <a:lnTo>
                  <a:pt x="3941" y="3795"/>
                </a:lnTo>
                <a:lnTo>
                  <a:pt x="3987" y="3795"/>
                </a:lnTo>
                <a:lnTo>
                  <a:pt x="4010" y="3795"/>
                </a:lnTo>
                <a:lnTo>
                  <a:pt x="4033" y="3749"/>
                </a:lnTo>
                <a:lnTo>
                  <a:pt x="4044" y="3703"/>
                </a:lnTo>
                <a:lnTo>
                  <a:pt x="4044" y="3627"/>
                </a:lnTo>
                <a:lnTo>
                  <a:pt x="4033" y="3566"/>
                </a:lnTo>
                <a:lnTo>
                  <a:pt x="4033" y="3566"/>
                </a:lnTo>
                <a:lnTo>
                  <a:pt x="3987" y="3551"/>
                </a:lnTo>
                <a:lnTo>
                  <a:pt x="3987" y="3551"/>
                </a:lnTo>
                <a:lnTo>
                  <a:pt x="3930" y="3566"/>
                </a:lnTo>
                <a:lnTo>
                  <a:pt x="3907" y="3566"/>
                </a:lnTo>
                <a:lnTo>
                  <a:pt x="3873" y="3597"/>
                </a:lnTo>
                <a:lnTo>
                  <a:pt x="3849" y="3673"/>
                </a:lnTo>
                <a:lnTo>
                  <a:pt x="3827" y="3764"/>
                </a:lnTo>
                <a:close/>
                <a:moveTo>
                  <a:pt x="4950" y="3764"/>
                </a:moveTo>
                <a:lnTo>
                  <a:pt x="4950" y="3764"/>
                </a:lnTo>
                <a:lnTo>
                  <a:pt x="5007" y="3673"/>
                </a:lnTo>
                <a:lnTo>
                  <a:pt x="5041" y="3566"/>
                </a:lnTo>
                <a:lnTo>
                  <a:pt x="5064" y="3475"/>
                </a:lnTo>
                <a:lnTo>
                  <a:pt x="5064" y="3353"/>
                </a:lnTo>
                <a:lnTo>
                  <a:pt x="5064" y="3353"/>
                </a:lnTo>
                <a:lnTo>
                  <a:pt x="5121" y="3383"/>
                </a:lnTo>
                <a:lnTo>
                  <a:pt x="5156" y="3414"/>
                </a:lnTo>
                <a:lnTo>
                  <a:pt x="5213" y="3429"/>
                </a:lnTo>
                <a:lnTo>
                  <a:pt x="5270" y="3429"/>
                </a:lnTo>
                <a:lnTo>
                  <a:pt x="5270" y="3429"/>
                </a:lnTo>
                <a:lnTo>
                  <a:pt x="5064" y="3216"/>
                </a:lnTo>
                <a:lnTo>
                  <a:pt x="5064" y="3216"/>
                </a:lnTo>
                <a:lnTo>
                  <a:pt x="5007" y="3261"/>
                </a:lnTo>
                <a:lnTo>
                  <a:pt x="4961" y="3277"/>
                </a:lnTo>
                <a:lnTo>
                  <a:pt x="4915" y="3292"/>
                </a:lnTo>
                <a:lnTo>
                  <a:pt x="4858" y="3307"/>
                </a:lnTo>
                <a:lnTo>
                  <a:pt x="4812" y="3292"/>
                </a:lnTo>
                <a:lnTo>
                  <a:pt x="4755" y="3277"/>
                </a:lnTo>
                <a:lnTo>
                  <a:pt x="4709" y="3261"/>
                </a:lnTo>
                <a:lnTo>
                  <a:pt x="4652" y="3216"/>
                </a:lnTo>
                <a:lnTo>
                  <a:pt x="4652" y="3216"/>
                </a:lnTo>
                <a:lnTo>
                  <a:pt x="4674" y="3307"/>
                </a:lnTo>
                <a:lnTo>
                  <a:pt x="4709" y="3383"/>
                </a:lnTo>
                <a:lnTo>
                  <a:pt x="4732" y="3460"/>
                </a:lnTo>
                <a:lnTo>
                  <a:pt x="4766" y="3536"/>
                </a:lnTo>
                <a:lnTo>
                  <a:pt x="4801" y="3597"/>
                </a:lnTo>
                <a:lnTo>
                  <a:pt x="4858" y="3658"/>
                </a:lnTo>
                <a:lnTo>
                  <a:pt x="4915" y="3703"/>
                </a:lnTo>
                <a:lnTo>
                  <a:pt x="4950" y="3764"/>
                </a:lnTo>
                <a:close/>
                <a:moveTo>
                  <a:pt x="18001" y="3703"/>
                </a:moveTo>
                <a:lnTo>
                  <a:pt x="18001" y="3703"/>
                </a:lnTo>
                <a:lnTo>
                  <a:pt x="17864" y="3536"/>
                </a:lnTo>
                <a:lnTo>
                  <a:pt x="17703" y="3353"/>
                </a:lnTo>
                <a:lnTo>
                  <a:pt x="17531" y="3216"/>
                </a:lnTo>
                <a:lnTo>
                  <a:pt x="17348" y="3079"/>
                </a:lnTo>
                <a:lnTo>
                  <a:pt x="17142" y="2957"/>
                </a:lnTo>
                <a:lnTo>
                  <a:pt x="16935" y="2850"/>
                </a:lnTo>
                <a:lnTo>
                  <a:pt x="16832" y="2819"/>
                </a:lnTo>
                <a:lnTo>
                  <a:pt x="16718" y="2789"/>
                </a:lnTo>
                <a:lnTo>
                  <a:pt x="16603" y="2758"/>
                </a:lnTo>
                <a:lnTo>
                  <a:pt x="16512" y="2758"/>
                </a:lnTo>
                <a:lnTo>
                  <a:pt x="16512" y="2758"/>
                </a:lnTo>
                <a:lnTo>
                  <a:pt x="18001" y="3703"/>
                </a:lnTo>
                <a:close/>
                <a:moveTo>
                  <a:pt x="17635" y="3703"/>
                </a:moveTo>
                <a:lnTo>
                  <a:pt x="17635" y="3703"/>
                </a:lnTo>
                <a:lnTo>
                  <a:pt x="17543" y="3566"/>
                </a:lnTo>
                <a:lnTo>
                  <a:pt x="17451" y="3475"/>
                </a:lnTo>
                <a:lnTo>
                  <a:pt x="17337" y="3368"/>
                </a:lnTo>
                <a:lnTo>
                  <a:pt x="17222" y="3292"/>
                </a:lnTo>
                <a:lnTo>
                  <a:pt x="17096" y="3200"/>
                </a:lnTo>
                <a:lnTo>
                  <a:pt x="16970" y="3124"/>
                </a:lnTo>
                <a:lnTo>
                  <a:pt x="16844" y="3063"/>
                </a:lnTo>
                <a:lnTo>
                  <a:pt x="16718" y="3018"/>
                </a:lnTo>
                <a:lnTo>
                  <a:pt x="16718" y="3018"/>
                </a:lnTo>
                <a:lnTo>
                  <a:pt x="17635" y="3703"/>
                </a:lnTo>
                <a:close/>
                <a:moveTo>
                  <a:pt x="4033" y="3490"/>
                </a:moveTo>
                <a:lnTo>
                  <a:pt x="4033" y="3490"/>
                </a:lnTo>
                <a:lnTo>
                  <a:pt x="4170" y="3536"/>
                </a:lnTo>
                <a:lnTo>
                  <a:pt x="4296" y="3566"/>
                </a:lnTo>
                <a:lnTo>
                  <a:pt x="4423" y="3612"/>
                </a:lnTo>
                <a:lnTo>
                  <a:pt x="4560" y="3703"/>
                </a:lnTo>
                <a:lnTo>
                  <a:pt x="4560" y="3703"/>
                </a:lnTo>
                <a:lnTo>
                  <a:pt x="4560" y="3627"/>
                </a:lnTo>
                <a:lnTo>
                  <a:pt x="4560" y="3566"/>
                </a:lnTo>
                <a:lnTo>
                  <a:pt x="4560" y="3536"/>
                </a:lnTo>
                <a:lnTo>
                  <a:pt x="4548" y="3475"/>
                </a:lnTo>
                <a:lnTo>
                  <a:pt x="4526" y="3429"/>
                </a:lnTo>
                <a:lnTo>
                  <a:pt x="4503" y="3368"/>
                </a:lnTo>
                <a:lnTo>
                  <a:pt x="4445" y="3292"/>
                </a:lnTo>
                <a:lnTo>
                  <a:pt x="4445" y="3292"/>
                </a:lnTo>
                <a:lnTo>
                  <a:pt x="4377" y="3277"/>
                </a:lnTo>
                <a:lnTo>
                  <a:pt x="4308" y="3261"/>
                </a:lnTo>
                <a:lnTo>
                  <a:pt x="4308" y="3261"/>
                </a:lnTo>
                <a:lnTo>
                  <a:pt x="4262" y="3261"/>
                </a:lnTo>
                <a:lnTo>
                  <a:pt x="4216" y="3277"/>
                </a:lnTo>
                <a:lnTo>
                  <a:pt x="4182" y="3292"/>
                </a:lnTo>
                <a:lnTo>
                  <a:pt x="4147" y="3307"/>
                </a:lnTo>
                <a:lnTo>
                  <a:pt x="4125" y="3353"/>
                </a:lnTo>
                <a:lnTo>
                  <a:pt x="4090" y="3383"/>
                </a:lnTo>
                <a:lnTo>
                  <a:pt x="4033" y="3490"/>
                </a:lnTo>
                <a:close/>
                <a:moveTo>
                  <a:pt x="17165" y="3566"/>
                </a:moveTo>
                <a:lnTo>
                  <a:pt x="17165" y="3566"/>
                </a:lnTo>
                <a:lnTo>
                  <a:pt x="17096" y="3475"/>
                </a:lnTo>
                <a:lnTo>
                  <a:pt x="17016" y="3414"/>
                </a:lnTo>
                <a:lnTo>
                  <a:pt x="16935" y="3353"/>
                </a:lnTo>
                <a:lnTo>
                  <a:pt x="16844" y="3307"/>
                </a:lnTo>
                <a:lnTo>
                  <a:pt x="16729" y="3277"/>
                </a:lnTo>
                <a:lnTo>
                  <a:pt x="16638" y="3261"/>
                </a:lnTo>
                <a:lnTo>
                  <a:pt x="16397" y="3216"/>
                </a:lnTo>
                <a:lnTo>
                  <a:pt x="16397" y="3216"/>
                </a:lnTo>
                <a:lnTo>
                  <a:pt x="17165" y="3566"/>
                </a:lnTo>
                <a:close/>
                <a:moveTo>
                  <a:pt x="15010" y="3490"/>
                </a:moveTo>
                <a:lnTo>
                  <a:pt x="15010" y="3490"/>
                </a:lnTo>
                <a:lnTo>
                  <a:pt x="15079" y="3536"/>
                </a:lnTo>
                <a:lnTo>
                  <a:pt x="15102" y="3536"/>
                </a:lnTo>
                <a:lnTo>
                  <a:pt x="15148" y="3551"/>
                </a:lnTo>
                <a:lnTo>
                  <a:pt x="15171" y="3536"/>
                </a:lnTo>
                <a:lnTo>
                  <a:pt x="15182" y="3536"/>
                </a:lnTo>
                <a:lnTo>
                  <a:pt x="15205" y="3490"/>
                </a:lnTo>
                <a:lnTo>
                  <a:pt x="15217" y="3429"/>
                </a:lnTo>
                <a:lnTo>
                  <a:pt x="15217" y="3429"/>
                </a:lnTo>
                <a:lnTo>
                  <a:pt x="15159" y="3277"/>
                </a:lnTo>
                <a:lnTo>
                  <a:pt x="15148" y="3261"/>
                </a:lnTo>
                <a:lnTo>
                  <a:pt x="15137" y="3246"/>
                </a:lnTo>
                <a:lnTo>
                  <a:pt x="15137" y="3246"/>
                </a:lnTo>
                <a:lnTo>
                  <a:pt x="15102" y="3261"/>
                </a:lnTo>
                <a:lnTo>
                  <a:pt x="15091" y="3307"/>
                </a:lnTo>
                <a:lnTo>
                  <a:pt x="15010" y="3490"/>
                </a:lnTo>
                <a:close/>
                <a:moveTo>
                  <a:pt x="8777" y="3155"/>
                </a:moveTo>
                <a:lnTo>
                  <a:pt x="8777" y="3155"/>
                </a:lnTo>
                <a:lnTo>
                  <a:pt x="8800" y="3063"/>
                </a:lnTo>
                <a:lnTo>
                  <a:pt x="8800" y="3033"/>
                </a:lnTo>
                <a:lnTo>
                  <a:pt x="8800" y="3002"/>
                </a:lnTo>
                <a:lnTo>
                  <a:pt x="8800" y="2972"/>
                </a:lnTo>
                <a:lnTo>
                  <a:pt x="8777" y="2926"/>
                </a:lnTo>
                <a:lnTo>
                  <a:pt x="8719" y="2880"/>
                </a:lnTo>
                <a:lnTo>
                  <a:pt x="8719" y="2880"/>
                </a:lnTo>
                <a:lnTo>
                  <a:pt x="8662" y="3002"/>
                </a:lnTo>
                <a:lnTo>
                  <a:pt x="8616" y="3079"/>
                </a:lnTo>
                <a:lnTo>
                  <a:pt x="8605" y="3155"/>
                </a:lnTo>
                <a:lnTo>
                  <a:pt x="8605" y="3185"/>
                </a:lnTo>
                <a:lnTo>
                  <a:pt x="8616" y="3216"/>
                </a:lnTo>
                <a:lnTo>
                  <a:pt x="8616" y="3216"/>
                </a:lnTo>
                <a:lnTo>
                  <a:pt x="8651" y="3216"/>
                </a:lnTo>
                <a:lnTo>
                  <a:pt x="8708" y="3185"/>
                </a:lnTo>
                <a:lnTo>
                  <a:pt x="8777" y="3155"/>
                </a:lnTo>
                <a:close/>
                <a:moveTo>
                  <a:pt x="5328" y="3216"/>
                </a:moveTo>
                <a:lnTo>
                  <a:pt x="5328" y="3216"/>
                </a:lnTo>
                <a:lnTo>
                  <a:pt x="5362" y="3155"/>
                </a:lnTo>
                <a:lnTo>
                  <a:pt x="5397" y="3094"/>
                </a:lnTo>
                <a:lnTo>
                  <a:pt x="5419" y="3033"/>
                </a:lnTo>
                <a:lnTo>
                  <a:pt x="5419" y="2987"/>
                </a:lnTo>
                <a:lnTo>
                  <a:pt x="5408" y="2941"/>
                </a:lnTo>
                <a:lnTo>
                  <a:pt x="5385" y="2896"/>
                </a:lnTo>
                <a:lnTo>
                  <a:pt x="5362" y="2865"/>
                </a:lnTo>
                <a:lnTo>
                  <a:pt x="5339" y="2835"/>
                </a:lnTo>
                <a:lnTo>
                  <a:pt x="5248" y="2789"/>
                </a:lnTo>
                <a:lnTo>
                  <a:pt x="5144" y="2774"/>
                </a:lnTo>
                <a:lnTo>
                  <a:pt x="5053" y="2758"/>
                </a:lnTo>
                <a:lnTo>
                  <a:pt x="4950" y="2758"/>
                </a:lnTo>
                <a:lnTo>
                  <a:pt x="4950" y="2758"/>
                </a:lnTo>
                <a:lnTo>
                  <a:pt x="5328" y="3216"/>
                </a:lnTo>
                <a:close/>
                <a:moveTo>
                  <a:pt x="8307" y="3155"/>
                </a:moveTo>
                <a:lnTo>
                  <a:pt x="8307" y="3155"/>
                </a:lnTo>
                <a:lnTo>
                  <a:pt x="8318" y="3079"/>
                </a:lnTo>
                <a:lnTo>
                  <a:pt x="8330" y="3018"/>
                </a:lnTo>
                <a:lnTo>
                  <a:pt x="8318" y="2926"/>
                </a:lnTo>
                <a:lnTo>
                  <a:pt x="8307" y="2865"/>
                </a:lnTo>
                <a:lnTo>
                  <a:pt x="8284" y="2819"/>
                </a:lnTo>
                <a:lnTo>
                  <a:pt x="8238" y="2774"/>
                </a:lnTo>
                <a:lnTo>
                  <a:pt x="8216" y="2728"/>
                </a:lnTo>
                <a:lnTo>
                  <a:pt x="8147" y="2667"/>
                </a:lnTo>
                <a:lnTo>
                  <a:pt x="8147" y="2667"/>
                </a:lnTo>
                <a:lnTo>
                  <a:pt x="8147" y="2819"/>
                </a:lnTo>
                <a:lnTo>
                  <a:pt x="8147" y="2911"/>
                </a:lnTo>
                <a:lnTo>
                  <a:pt x="8147" y="2987"/>
                </a:lnTo>
                <a:lnTo>
                  <a:pt x="8158" y="3048"/>
                </a:lnTo>
                <a:lnTo>
                  <a:pt x="8204" y="3094"/>
                </a:lnTo>
                <a:lnTo>
                  <a:pt x="8227" y="3124"/>
                </a:lnTo>
                <a:lnTo>
                  <a:pt x="8227" y="3140"/>
                </a:lnTo>
                <a:lnTo>
                  <a:pt x="8273" y="3155"/>
                </a:lnTo>
                <a:lnTo>
                  <a:pt x="8307" y="3155"/>
                </a:lnTo>
                <a:close/>
                <a:moveTo>
                  <a:pt x="14793" y="3079"/>
                </a:moveTo>
                <a:lnTo>
                  <a:pt x="14793" y="3079"/>
                </a:lnTo>
                <a:lnTo>
                  <a:pt x="14884" y="3124"/>
                </a:lnTo>
                <a:lnTo>
                  <a:pt x="14942" y="3140"/>
                </a:lnTo>
                <a:lnTo>
                  <a:pt x="14953" y="3140"/>
                </a:lnTo>
                <a:lnTo>
                  <a:pt x="14976" y="3109"/>
                </a:lnTo>
                <a:lnTo>
                  <a:pt x="14976" y="3094"/>
                </a:lnTo>
                <a:lnTo>
                  <a:pt x="14976" y="3079"/>
                </a:lnTo>
                <a:lnTo>
                  <a:pt x="14976" y="3018"/>
                </a:lnTo>
                <a:lnTo>
                  <a:pt x="14965" y="2926"/>
                </a:lnTo>
                <a:lnTo>
                  <a:pt x="14908" y="2758"/>
                </a:lnTo>
                <a:lnTo>
                  <a:pt x="14908" y="2758"/>
                </a:lnTo>
                <a:lnTo>
                  <a:pt x="14793" y="3079"/>
                </a:lnTo>
                <a:close/>
                <a:moveTo>
                  <a:pt x="7746" y="3079"/>
                </a:moveTo>
                <a:lnTo>
                  <a:pt x="7746" y="3079"/>
                </a:lnTo>
                <a:lnTo>
                  <a:pt x="7803" y="3079"/>
                </a:lnTo>
                <a:lnTo>
                  <a:pt x="7837" y="3063"/>
                </a:lnTo>
                <a:lnTo>
                  <a:pt x="7849" y="3048"/>
                </a:lnTo>
                <a:lnTo>
                  <a:pt x="7860" y="3018"/>
                </a:lnTo>
                <a:lnTo>
                  <a:pt x="7860" y="2972"/>
                </a:lnTo>
                <a:lnTo>
                  <a:pt x="7837" y="2880"/>
                </a:lnTo>
                <a:lnTo>
                  <a:pt x="7791" y="2789"/>
                </a:lnTo>
                <a:lnTo>
                  <a:pt x="7723" y="2667"/>
                </a:lnTo>
                <a:lnTo>
                  <a:pt x="7654" y="2530"/>
                </a:lnTo>
                <a:lnTo>
                  <a:pt x="7654" y="2530"/>
                </a:lnTo>
                <a:lnTo>
                  <a:pt x="7620" y="2621"/>
                </a:lnTo>
                <a:lnTo>
                  <a:pt x="7608" y="2713"/>
                </a:lnTo>
                <a:lnTo>
                  <a:pt x="7608" y="2774"/>
                </a:lnTo>
                <a:lnTo>
                  <a:pt x="7620" y="2835"/>
                </a:lnTo>
                <a:lnTo>
                  <a:pt x="7642" y="2911"/>
                </a:lnTo>
                <a:lnTo>
                  <a:pt x="7654" y="2972"/>
                </a:lnTo>
                <a:lnTo>
                  <a:pt x="7688" y="3033"/>
                </a:lnTo>
                <a:lnTo>
                  <a:pt x="7746" y="3079"/>
                </a:lnTo>
                <a:close/>
                <a:moveTo>
                  <a:pt x="4285" y="3079"/>
                </a:moveTo>
                <a:lnTo>
                  <a:pt x="4285" y="3079"/>
                </a:lnTo>
                <a:lnTo>
                  <a:pt x="4411" y="3079"/>
                </a:lnTo>
                <a:lnTo>
                  <a:pt x="4526" y="3063"/>
                </a:lnTo>
                <a:lnTo>
                  <a:pt x="4617" y="3048"/>
                </a:lnTo>
                <a:lnTo>
                  <a:pt x="4697" y="3033"/>
                </a:lnTo>
                <a:lnTo>
                  <a:pt x="4755" y="3018"/>
                </a:lnTo>
                <a:lnTo>
                  <a:pt x="4801" y="2987"/>
                </a:lnTo>
                <a:lnTo>
                  <a:pt x="4846" y="2941"/>
                </a:lnTo>
                <a:lnTo>
                  <a:pt x="4858" y="2926"/>
                </a:lnTo>
                <a:lnTo>
                  <a:pt x="4858" y="2880"/>
                </a:lnTo>
                <a:lnTo>
                  <a:pt x="4858" y="2850"/>
                </a:lnTo>
                <a:lnTo>
                  <a:pt x="4835" y="2819"/>
                </a:lnTo>
                <a:lnTo>
                  <a:pt x="4789" y="2789"/>
                </a:lnTo>
                <a:lnTo>
                  <a:pt x="4743" y="2774"/>
                </a:lnTo>
                <a:lnTo>
                  <a:pt x="4674" y="2758"/>
                </a:lnTo>
                <a:lnTo>
                  <a:pt x="4583" y="2758"/>
                </a:lnTo>
                <a:lnTo>
                  <a:pt x="4503" y="2758"/>
                </a:lnTo>
                <a:lnTo>
                  <a:pt x="4503" y="2758"/>
                </a:lnTo>
                <a:lnTo>
                  <a:pt x="4285" y="3079"/>
                </a:lnTo>
                <a:close/>
                <a:moveTo>
                  <a:pt x="14644" y="3018"/>
                </a:moveTo>
                <a:lnTo>
                  <a:pt x="14644" y="3018"/>
                </a:lnTo>
                <a:lnTo>
                  <a:pt x="14655" y="2926"/>
                </a:lnTo>
                <a:lnTo>
                  <a:pt x="14655" y="2865"/>
                </a:lnTo>
                <a:lnTo>
                  <a:pt x="14667" y="2743"/>
                </a:lnTo>
                <a:lnTo>
                  <a:pt x="14667" y="2667"/>
                </a:lnTo>
                <a:lnTo>
                  <a:pt x="14655" y="2606"/>
                </a:lnTo>
                <a:lnTo>
                  <a:pt x="14632" y="2530"/>
                </a:lnTo>
                <a:lnTo>
                  <a:pt x="14598" y="2484"/>
                </a:lnTo>
                <a:lnTo>
                  <a:pt x="14598" y="2484"/>
                </a:lnTo>
                <a:lnTo>
                  <a:pt x="14575" y="2545"/>
                </a:lnTo>
                <a:lnTo>
                  <a:pt x="14563" y="2621"/>
                </a:lnTo>
                <a:lnTo>
                  <a:pt x="14552" y="2682"/>
                </a:lnTo>
                <a:lnTo>
                  <a:pt x="14563" y="2758"/>
                </a:lnTo>
                <a:lnTo>
                  <a:pt x="14575" y="2819"/>
                </a:lnTo>
                <a:lnTo>
                  <a:pt x="14586" y="2896"/>
                </a:lnTo>
                <a:lnTo>
                  <a:pt x="14610" y="2957"/>
                </a:lnTo>
                <a:lnTo>
                  <a:pt x="14644" y="3018"/>
                </a:lnTo>
                <a:close/>
                <a:moveTo>
                  <a:pt x="8983" y="3018"/>
                </a:moveTo>
                <a:lnTo>
                  <a:pt x="8983" y="3018"/>
                </a:lnTo>
                <a:lnTo>
                  <a:pt x="9040" y="3018"/>
                </a:lnTo>
                <a:lnTo>
                  <a:pt x="9098" y="3002"/>
                </a:lnTo>
                <a:lnTo>
                  <a:pt x="9144" y="2957"/>
                </a:lnTo>
                <a:lnTo>
                  <a:pt x="9178" y="2926"/>
                </a:lnTo>
                <a:lnTo>
                  <a:pt x="9201" y="2865"/>
                </a:lnTo>
                <a:lnTo>
                  <a:pt x="9212" y="2804"/>
                </a:lnTo>
                <a:lnTo>
                  <a:pt x="9212" y="2758"/>
                </a:lnTo>
                <a:lnTo>
                  <a:pt x="9212" y="2682"/>
                </a:lnTo>
                <a:lnTo>
                  <a:pt x="9212" y="2621"/>
                </a:lnTo>
                <a:lnTo>
                  <a:pt x="9212" y="2545"/>
                </a:lnTo>
                <a:lnTo>
                  <a:pt x="9189" y="2484"/>
                </a:lnTo>
                <a:lnTo>
                  <a:pt x="9166" y="2408"/>
                </a:lnTo>
                <a:lnTo>
                  <a:pt x="9144" y="2347"/>
                </a:lnTo>
                <a:lnTo>
                  <a:pt x="9109" y="2301"/>
                </a:lnTo>
                <a:lnTo>
                  <a:pt x="9075" y="2240"/>
                </a:lnTo>
                <a:lnTo>
                  <a:pt x="9029" y="2210"/>
                </a:lnTo>
                <a:lnTo>
                  <a:pt x="9029" y="2210"/>
                </a:lnTo>
                <a:lnTo>
                  <a:pt x="8983" y="3018"/>
                </a:lnTo>
                <a:close/>
                <a:moveTo>
                  <a:pt x="5477" y="3018"/>
                </a:moveTo>
                <a:lnTo>
                  <a:pt x="5477" y="3018"/>
                </a:lnTo>
                <a:lnTo>
                  <a:pt x="5683" y="2941"/>
                </a:lnTo>
                <a:lnTo>
                  <a:pt x="5683" y="2941"/>
                </a:lnTo>
                <a:lnTo>
                  <a:pt x="5568" y="2835"/>
                </a:lnTo>
                <a:lnTo>
                  <a:pt x="5522" y="2804"/>
                </a:lnTo>
                <a:lnTo>
                  <a:pt x="5511" y="2789"/>
                </a:lnTo>
                <a:lnTo>
                  <a:pt x="5511" y="2789"/>
                </a:lnTo>
                <a:lnTo>
                  <a:pt x="5500" y="2789"/>
                </a:lnTo>
                <a:lnTo>
                  <a:pt x="5477" y="2804"/>
                </a:lnTo>
                <a:lnTo>
                  <a:pt x="5465" y="2850"/>
                </a:lnTo>
                <a:lnTo>
                  <a:pt x="5465" y="2926"/>
                </a:lnTo>
                <a:lnTo>
                  <a:pt x="5477" y="3018"/>
                </a:lnTo>
                <a:close/>
                <a:moveTo>
                  <a:pt x="9235" y="2941"/>
                </a:moveTo>
                <a:lnTo>
                  <a:pt x="9235" y="2941"/>
                </a:lnTo>
                <a:lnTo>
                  <a:pt x="9293" y="2880"/>
                </a:lnTo>
                <a:lnTo>
                  <a:pt x="9304" y="2850"/>
                </a:lnTo>
                <a:lnTo>
                  <a:pt x="9293" y="2835"/>
                </a:lnTo>
                <a:lnTo>
                  <a:pt x="9293" y="2758"/>
                </a:lnTo>
                <a:lnTo>
                  <a:pt x="9293" y="2758"/>
                </a:lnTo>
                <a:lnTo>
                  <a:pt x="9235" y="2941"/>
                </a:lnTo>
                <a:close/>
                <a:moveTo>
                  <a:pt x="8662" y="2484"/>
                </a:moveTo>
                <a:lnTo>
                  <a:pt x="8662" y="2484"/>
                </a:lnTo>
                <a:lnTo>
                  <a:pt x="8616" y="2393"/>
                </a:lnTo>
                <a:lnTo>
                  <a:pt x="8559" y="2316"/>
                </a:lnTo>
                <a:lnTo>
                  <a:pt x="8490" y="2255"/>
                </a:lnTo>
                <a:lnTo>
                  <a:pt x="8422" y="2210"/>
                </a:lnTo>
                <a:lnTo>
                  <a:pt x="8422" y="2210"/>
                </a:lnTo>
                <a:lnTo>
                  <a:pt x="8422" y="2499"/>
                </a:lnTo>
                <a:lnTo>
                  <a:pt x="8433" y="2728"/>
                </a:lnTo>
                <a:lnTo>
                  <a:pt x="8445" y="2789"/>
                </a:lnTo>
                <a:lnTo>
                  <a:pt x="8467" y="2850"/>
                </a:lnTo>
                <a:lnTo>
                  <a:pt x="8490" y="2911"/>
                </a:lnTo>
                <a:lnTo>
                  <a:pt x="8502" y="2926"/>
                </a:lnTo>
                <a:lnTo>
                  <a:pt x="8525" y="2926"/>
                </a:lnTo>
                <a:lnTo>
                  <a:pt x="8548" y="2926"/>
                </a:lnTo>
                <a:lnTo>
                  <a:pt x="8570" y="2880"/>
                </a:lnTo>
                <a:lnTo>
                  <a:pt x="8594" y="2835"/>
                </a:lnTo>
                <a:lnTo>
                  <a:pt x="8628" y="2682"/>
                </a:lnTo>
                <a:lnTo>
                  <a:pt x="8662" y="2484"/>
                </a:lnTo>
                <a:close/>
                <a:moveTo>
                  <a:pt x="15159" y="2804"/>
                </a:moveTo>
                <a:lnTo>
                  <a:pt x="15159" y="2804"/>
                </a:lnTo>
                <a:lnTo>
                  <a:pt x="15091" y="2621"/>
                </a:lnTo>
                <a:lnTo>
                  <a:pt x="15010" y="2438"/>
                </a:lnTo>
                <a:lnTo>
                  <a:pt x="14919" y="2271"/>
                </a:lnTo>
                <a:lnTo>
                  <a:pt x="14793" y="2103"/>
                </a:lnTo>
                <a:lnTo>
                  <a:pt x="14667" y="1966"/>
                </a:lnTo>
                <a:lnTo>
                  <a:pt x="14541" y="1828"/>
                </a:lnTo>
                <a:lnTo>
                  <a:pt x="14392" y="1737"/>
                </a:lnTo>
                <a:lnTo>
                  <a:pt x="14220" y="1661"/>
                </a:lnTo>
                <a:lnTo>
                  <a:pt x="14220" y="1661"/>
                </a:lnTo>
                <a:lnTo>
                  <a:pt x="15159" y="2804"/>
                </a:lnTo>
                <a:close/>
                <a:moveTo>
                  <a:pt x="7127" y="2408"/>
                </a:moveTo>
                <a:lnTo>
                  <a:pt x="7127" y="2408"/>
                </a:lnTo>
                <a:lnTo>
                  <a:pt x="7276" y="2804"/>
                </a:lnTo>
                <a:lnTo>
                  <a:pt x="7276" y="2804"/>
                </a:lnTo>
                <a:lnTo>
                  <a:pt x="7333" y="2789"/>
                </a:lnTo>
                <a:lnTo>
                  <a:pt x="7379" y="2758"/>
                </a:lnTo>
                <a:lnTo>
                  <a:pt x="7413" y="2713"/>
                </a:lnTo>
                <a:lnTo>
                  <a:pt x="7436" y="2667"/>
                </a:lnTo>
                <a:lnTo>
                  <a:pt x="7459" y="2621"/>
                </a:lnTo>
                <a:lnTo>
                  <a:pt x="7459" y="2576"/>
                </a:lnTo>
                <a:lnTo>
                  <a:pt x="7471" y="2530"/>
                </a:lnTo>
                <a:lnTo>
                  <a:pt x="7471" y="2484"/>
                </a:lnTo>
                <a:lnTo>
                  <a:pt x="7459" y="2393"/>
                </a:lnTo>
                <a:lnTo>
                  <a:pt x="7425" y="2316"/>
                </a:lnTo>
                <a:lnTo>
                  <a:pt x="7390" y="2286"/>
                </a:lnTo>
                <a:lnTo>
                  <a:pt x="7356" y="2271"/>
                </a:lnTo>
                <a:lnTo>
                  <a:pt x="7333" y="2255"/>
                </a:lnTo>
                <a:lnTo>
                  <a:pt x="7299" y="2240"/>
                </a:lnTo>
                <a:lnTo>
                  <a:pt x="7299" y="2240"/>
                </a:lnTo>
                <a:lnTo>
                  <a:pt x="7264" y="2255"/>
                </a:lnTo>
                <a:lnTo>
                  <a:pt x="7219" y="2271"/>
                </a:lnTo>
                <a:lnTo>
                  <a:pt x="7173" y="2332"/>
                </a:lnTo>
                <a:lnTo>
                  <a:pt x="7127" y="2408"/>
                </a:lnTo>
                <a:close/>
                <a:moveTo>
                  <a:pt x="6921" y="2530"/>
                </a:moveTo>
                <a:lnTo>
                  <a:pt x="6921" y="2530"/>
                </a:lnTo>
                <a:lnTo>
                  <a:pt x="6657" y="2271"/>
                </a:lnTo>
                <a:lnTo>
                  <a:pt x="6657" y="2271"/>
                </a:lnTo>
                <a:lnTo>
                  <a:pt x="6680" y="2362"/>
                </a:lnTo>
                <a:lnTo>
                  <a:pt x="6714" y="2484"/>
                </a:lnTo>
                <a:lnTo>
                  <a:pt x="6749" y="2576"/>
                </a:lnTo>
                <a:lnTo>
                  <a:pt x="6794" y="2682"/>
                </a:lnTo>
                <a:lnTo>
                  <a:pt x="6852" y="2758"/>
                </a:lnTo>
                <a:lnTo>
                  <a:pt x="6863" y="2758"/>
                </a:lnTo>
                <a:lnTo>
                  <a:pt x="6875" y="2758"/>
                </a:lnTo>
                <a:lnTo>
                  <a:pt x="6897" y="2743"/>
                </a:lnTo>
                <a:lnTo>
                  <a:pt x="6909" y="2698"/>
                </a:lnTo>
                <a:lnTo>
                  <a:pt x="6921" y="2637"/>
                </a:lnTo>
                <a:lnTo>
                  <a:pt x="6921" y="2530"/>
                </a:lnTo>
                <a:close/>
                <a:moveTo>
                  <a:pt x="7837" y="2758"/>
                </a:moveTo>
                <a:lnTo>
                  <a:pt x="7837" y="2758"/>
                </a:lnTo>
                <a:lnTo>
                  <a:pt x="7929" y="2667"/>
                </a:lnTo>
                <a:lnTo>
                  <a:pt x="7986" y="2576"/>
                </a:lnTo>
                <a:lnTo>
                  <a:pt x="8032" y="2515"/>
                </a:lnTo>
                <a:lnTo>
                  <a:pt x="8032" y="2484"/>
                </a:lnTo>
                <a:lnTo>
                  <a:pt x="8043" y="2438"/>
                </a:lnTo>
                <a:lnTo>
                  <a:pt x="8043" y="2408"/>
                </a:lnTo>
                <a:lnTo>
                  <a:pt x="8032" y="2377"/>
                </a:lnTo>
                <a:lnTo>
                  <a:pt x="8020" y="2332"/>
                </a:lnTo>
                <a:lnTo>
                  <a:pt x="8009" y="2301"/>
                </a:lnTo>
                <a:lnTo>
                  <a:pt x="7940" y="2225"/>
                </a:lnTo>
                <a:lnTo>
                  <a:pt x="7837" y="2149"/>
                </a:lnTo>
                <a:lnTo>
                  <a:pt x="7837" y="2149"/>
                </a:lnTo>
                <a:lnTo>
                  <a:pt x="7837" y="2758"/>
                </a:lnTo>
                <a:close/>
                <a:moveTo>
                  <a:pt x="5889" y="2332"/>
                </a:moveTo>
                <a:lnTo>
                  <a:pt x="5889" y="2332"/>
                </a:lnTo>
                <a:lnTo>
                  <a:pt x="5901" y="2408"/>
                </a:lnTo>
                <a:lnTo>
                  <a:pt x="5912" y="2499"/>
                </a:lnTo>
                <a:lnTo>
                  <a:pt x="5924" y="2545"/>
                </a:lnTo>
                <a:lnTo>
                  <a:pt x="5958" y="2591"/>
                </a:lnTo>
                <a:lnTo>
                  <a:pt x="6004" y="2652"/>
                </a:lnTo>
                <a:lnTo>
                  <a:pt x="6050" y="2682"/>
                </a:lnTo>
                <a:lnTo>
                  <a:pt x="6096" y="2728"/>
                </a:lnTo>
                <a:lnTo>
                  <a:pt x="6141" y="2758"/>
                </a:lnTo>
                <a:lnTo>
                  <a:pt x="6141" y="2758"/>
                </a:lnTo>
                <a:lnTo>
                  <a:pt x="6141" y="2652"/>
                </a:lnTo>
                <a:lnTo>
                  <a:pt x="6141" y="2560"/>
                </a:lnTo>
                <a:lnTo>
                  <a:pt x="6141" y="2499"/>
                </a:lnTo>
                <a:lnTo>
                  <a:pt x="6107" y="2438"/>
                </a:lnTo>
                <a:lnTo>
                  <a:pt x="6084" y="2408"/>
                </a:lnTo>
                <a:lnTo>
                  <a:pt x="6038" y="2362"/>
                </a:lnTo>
                <a:lnTo>
                  <a:pt x="5992" y="2332"/>
                </a:lnTo>
                <a:lnTo>
                  <a:pt x="5924" y="2332"/>
                </a:lnTo>
                <a:lnTo>
                  <a:pt x="5924" y="2332"/>
                </a:lnTo>
                <a:lnTo>
                  <a:pt x="5889" y="2332"/>
                </a:lnTo>
                <a:close/>
                <a:moveTo>
                  <a:pt x="9591" y="2667"/>
                </a:moveTo>
                <a:lnTo>
                  <a:pt x="9591" y="2667"/>
                </a:lnTo>
                <a:lnTo>
                  <a:pt x="9591" y="2515"/>
                </a:lnTo>
                <a:lnTo>
                  <a:pt x="9591" y="2438"/>
                </a:lnTo>
                <a:lnTo>
                  <a:pt x="9579" y="2393"/>
                </a:lnTo>
                <a:lnTo>
                  <a:pt x="9579" y="2332"/>
                </a:lnTo>
                <a:lnTo>
                  <a:pt x="9556" y="2286"/>
                </a:lnTo>
                <a:lnTo>
                  <a:pt x="9510" y="2240"/>
                </a:lnTo>
                <a:lnTo>
                  <a:pt x="9430" y="2210"/>
                </a:lnTo>
                <a:lnTo>
                  <a:pt x="9430" y="2210"/>
                </a:lnTo>
                <a:lnTo>
                  <a:pt x="9407" y="2332"/>
                </a:lnTo>
                <a:lnTo>
                  <a:pt x="9384" y="2454"/>
                </a:lnTo>
                <a:lnTo>
                  <a:pt x="9384" y="2530"/>
                </a:lnTo>
                <a:lnTo>
                  <a:pt x="9384" y="2606"/>
                </a:lnTo>
                <a:lnTo>
                  <a:pt x="9419" y="2667"/>
                </a:lnTo>
                <a:lnTo>
                  <a:pt x="9464" y="2682"/>
                </a:lnTo>
                <a:lnTo>
                  <a:pt x="9522" y="2698"/>
                </a:lnTo>
                <a:lnTo>
                  <a:pt x="9591" y="2667"/>
                </a:lnTo>
                <a:close/>
                <a:moveTo>
                  <a:pt x="6302" y="2667"/>
                </a:moveTo>
                <a:lnTo>
                  <a:pt x="6302" y="2667"/>
                </a:lnTo>
                <a:lnTo>
                  <a:pt x="6370" y="2667"/>
                </a:lnTo>
                <a:lnTo>
                  <a:pt x="6428" y="2652"/>
                </a:lnTo>
                <a:lnTo>
                  <a:pt x="6485" y="2621"/>
                </a:lnTo>
                <a:lnTo>
                  <a:pt x="6508" y="2576"/>
                </a:lnTo>
                <a:lnTo>
                  <a:pt x="6543" y="2545"/>
                </a:lnTo>
                <a:lnTo>
                  <a:pt x="6565" y="2499"/>
                </a:lnTo>
                <a:lnTo>
                  <a:pt x="6577" y="2438"/>
                </a:lnTo>
                <a:lnTo>
                  <a:pt x="6577" y="2377"/>
                </a:lnTo>
                <a:lnTo>
                  <a:pt x="6577" y="2316"/>
                </a:lnTo>
                <a:lnTo>
                  <a:pt x="6554" y="2271"/>
                </a:lnTo>
                <a:lnTo>
                  <a:pt x="6531" y="2210"/>
                </a:lnTo>
                <a:lnTo>
                  <a:pt x="6496" y="2149"/>
                </a:lnTo>
                <a:lnTo>
                  <a:pt x="6462" y="2103"/>
                </a:lnTo>
                <a:lnTo>
                  <a:pt x="6416" y="2057"/>
                </a:lnTo>
                <a:lnTo>
                  <a:pt x="6359" y="2027"/>
                </a:lnTo>
                <a:lnTo>
                  <a:pt x="6302" y="2011"/>
                </a:lnTo>
                <a:lnTo>
                  <a:pt x="6302" y="2011"/>
                </a:lnTo>
                <a:lnTo>
                  <a:pt x="6313" y="2088"/>
                </a:lnTo>
                <a:lnTo>
                  <a:pt x="6336" y="2164"/>
                </a:lnTo>
                <a:lnTo>
                  <a:pt x="6347" y="2255"/>
                </a:lnTo>
                <a:lnTo>
                  <a:pt x="6347" y="2332"/>
                </a:lnTo>
                <a:lnTo>
                  <a:pt x="6347" y="2423"/>
                </a:lnTo>
                <a:lnTo>
                  <a:pt x="6336" y="2515"/>
                </a:lnTo>
                <a:lnTo>
                  <a:pt x="6313" y="2591"/>
                </a:lnTo>
                <a:lnTo>
                  <a:pt x="6302" y="2667"/>
                </a:lnTo>
                <a:close/>
                <a:moveTo>
                  <a:pt x="5729" y="2667"/>
                </a:moveTo>
                <a:lnTo>
                  <a:pt x="5729" y="2667"/>
                </a:lnTo>
                <a:lnTo>
                  <a:pt x="5717" y="2530"/>
                </a:lnTo>
                <a:lnTo>
                  <a:pt x="5717" y="2438"/>
                </a:lnTo>
                <a:lnTo>
                  <a:pt x="5694" y="2377"/>
                </a:lnTo>
                <a:lnTo>
                  <a:pt x="5660" y="2316"/>
                </a:lnTo>
                <a:lnTo>
                  <a:pt x="5626" y="2286"/>
                </a:lnTo>
                <a:lnTo>
                  <a:pt x="5568" y="2271"/>
                </a:lnTo>
                <a:lnTo>
                  <a:pt x="5431" y="2210"/>
                </a:lnTo>
                <a:lnTo>
                  <a:pt x="5431" y="2210"/>
                </a:lnTo>
                <a:lnTo>
                  <a:pt x="5729" y="2667"/>
                </a:lnTo>
                <a:close/>
                <a:moveTo>
                  <a:pt x="4354" y="2530"/>
                </a:moveTo>
                <a:lnTo>
                  <a:pt x="4354" y="2530"/>
                </a:lnTo>
                <a:lnTo>
                  <a:pt x="4354" y="2576"/>
                </a:lnTo>
                <a:lnTo>
                  <a:pt x="4365" y="2591"/>
                </a:lnTo>
                <a:lnTo>
                  <a:pt x="4388" y="2606"/>
                </a:lnTo>
                <a:lnTo>
                  <a:pt x="4423" y="2591"/>
                </a:lnTo>
                <a:lnTo>
                  <a:pt x="4503" y="2545"/>
                </a:lnTo>
                <a:lnTo>
                  <a:pt x="4583" y="2469"/>
                </a:lnTo>
                <a:lnTo>
                  <a:pt x="4674" y="2362"/>
                </a:lnTo>
                <a:lnTo>
                  <a:pt x="4743" y="2271"/>
                </a:lnTo>
                <a:lnTo>
                  <a:pt x="4755" y="2225"/>
                </a:lnTo>
                <a:lnTo>
                  <a:pt x="4766" y="2179"/>
                </a:lnTo>
                <a:lnTo>
                  <a:pt x="4766" y="2149"/>
                </a:lnTo>
                <a:lnTo>
                  <a:pt x="4755" y="2149"/>
                </a:lnTo>
                <a:lnTo>
                  <a:pt x="4755" y="2149"/>
                </a:lnTo>
                <a:lnTo>
                  <a:pt x="4354" y="2530"/>
                </a:lnTo>
                <a:close/>
                <a:moveTo>
                  <a:pt x="14128" y="2530"/>
                </a:moveTo>
                <a:lnTo>
                  <a:pt x="14128" y="2530"/>
                </a:lnTo>
                <a:lnTo>
                  <a:pt x="14174" y="2530"/>
                </a:lnTo>
                <a:lnTo>
                  <a:pt x="14208" y="2499"/>
                </a:lnTo>
                <a:lnTo>
                  <a:pt x="14231" y="2484"/>
                </a:lnTo>
                <a:lnTo>
                  <a:pt x="14254" y="2438"/>
                </a:lnTo>
                <a:lnTo>
                  <a:pt x="14254" y="2393"/>
                </a:lnTo>
                <a:lnTo>
                  <a:pt x="14254" y="2316"/>
                </a:lnTo>
                <a:lnTo>
                  <a:pt x="14243" y="2271"/>
                </a:lnTo>
                <a:lnTo>
                  <a:pt x="14220" y="2210"/>
                </a:lnTo>
                <a:lnTo>
                  <a:pt x="14220" y="2210"/>
                </a:lnTo>
                <a:lnTo>
                  <a:pt x="14140" y="2103"/>
                </a:lnTo>
                <a:lnTo>
                  <a:pt x="14105" y="2072"/>
                </a:lnTo>
                <a:lnTo>
                  <a:pt x="14082" y="2057"/>
                </a:lnTo>
                <a:lnTo>
                  <a:pt x="14082" y="2057"/>
                </a:lnTo>
                <a:lnTo>
                  <a:pt x="14059" y="2072"/>
                </a:lnTo>
                <a:lnTo>
                  <a:pt x="14048" y="2103"/>
                </a:lnTo>
                <a:lnTo>
                  <a:pt x="14036" y="2149"/>
                </a:lnTo>
                <a:lnTo>
                  <a:pt x="14036" y="2194"/>
                </a:lnTo>
                <a:lnTo>
                  <a:pt x="14071" y="2332"/>
                </a:lnTo>
                <a:lnTo>
                  <a:pt x="14128" y="2530"/>
                </a:lnTo>
                <a:close/>
                <a:moveTo>
                  <a:pt x="4915" y="2484"/>
                </a:moveTo>
                <a:lnTo>
                  <a:pt x="4915" y="2484"/>
                </a:lnTo>
                <a:lnTo>
                  <a:pt x="4995" y="2515"/>
                </a:lnTo>
                <a:lnTo>
                  <a:pt x="5087" y="2530"/>
                </a:lnTo>
                <a:lnTo>
                  <a:pt x="5144" y="2530"/>
                </a:lnTo>
                <a:lnTo>
                  <a:pt x="5213" y="2530"/>
                </a:lnTo>
                <a:lnTo>
                  <a:pt x="5259" y="2530"/>
                </a:lnTo>
                <a:lnTo>
                  <a:pt x="5293" y="2499"/>
                </a:lnTo>
                <a:lnTo>
                  <a:pt x="5305" y="2484"/>
                </a:lnTo>
                <a:lnTo>
                  <a:pt x="5316" y="2454"/>
                </a:lnTo>
                <a:lnTo>
                  <a:pt x="5305" y="2423"/>
                </a:lnTo>
                <a:lnTo>
                  <a:pt x="5293" y="2393"/>
                </a:lnTo>
                <a:lnTo>
                  <a:pt x="5282" y="2362"/>
                </a:lnTo>
                <a:lnTo>
                  <a:pt x="5248" y="2332"/>
                </a:lnTo>
                <a:lnTo>
                  <a:pt x="5213" y="2316"/>
                </a:lnTo>
                <a:lnTo>
                  <a:pt x="5156" y="2286"/>
                </a:lnTo>
                <a:lnTo>
                  <a:pt x="5121" y="2271"/>
                </a:lnTo>
                <a:lnTo>
                  <a:pt x="5064" y="2271"/>
                </a:lnTo>
                <a:lnTo>
                  <a:pt x="5064" y="2271"/>
                </a:lnTo>
                <a:lnTo>
                  <a:pt x="4915" y="2484"/>
                </a:lnTo>
                <a:close/>
                <a:moveTo>
                  <a:pt x="14541" y="2408"/>
                </a:moveTo>
                <a:lnTo>
                  <a:pt x="14541" y="2408"/>
                </a:lnTo>
                <a:lnTo>
                  <a:pt x="14541" y="2316"/>
                </a:lnTo>
                <a:lnTo>
                  <a:pt x="14541" y="2271"/>
                </a:lnTo>
                <a:lnTo>
                  <a:pt x="14518" y="2210"/>
                </a:lnTo>
                <a:lnTo>
                  <a:pt x="14506" y="2149"/>
                </a:lnTo>
                <a:lnTo>
                  <a:pt x="14472" y="2088"/>
                </a:lnTo>
                <a:lnTo>
                  <a:pt x="14438" y="2057"/>
                </a:lnTo>
                <a:lnTo>
                  <a:pt x="14392" y="2027"/>
                </a:lnTo>
                <a:lnTo>
                  <a:pt x="14334" y="2011"/>
                </a:lnTo>
                <a:lnTo>
                  <a:pt x="14334" y="2011"/>
                </a:lnTo>
                <a:lnTo>
                  <a:pt x="14312" y="2149"/>
                </a:lnTo>
                <a:lnTo>
                  <a:pt x="14300" y="2271"/>
                </a:lnTo>
                <a:lnTo>
                  <a:pt x="14312" y="2362"/>
                </a:lnTo>
                <a:lnTo>
                  <a:pt x="14334" y="2423"/>
                </a:lnTo>
                <a:lnTo>
                  <a:pt x="14357" y="2454"/>
                </a:lnTo>
                <a:lnTo>
                  <a:pt x="14369" y="2469"/>
                </a:lnTo>
                <a:lnTo>
                  <a:pt x="14392" y="2484"/>
                </a:lnTo>
                <a:lnTo>
                  <a:pt x="14403" y="2484"/>
                </a:lnTo>
                <a:lnTo>
                  <a:pt x="14472" y="2454"/>
                </a:lnTo>
                <a:lnTo>
                  <a:pt x="14541" y="2408"/>
                </a:lnTo>
                <a:close/>
                <a:moveTo>
                  <a:pt x="17165" y="2484"/>
                </a:moveTo>
                <a:lnTo>
                  <a:pt x="17165" y="2484"/>
                </a:lnTo>
                <a:lnTo>
                  <a:pt x="17050" y="2347"/>
                </a:lnTo>
                <a:lnTo>
                  <a:pt x="16993" y="2301"/>
                </a:lnTo>
                <a:lnTo>
                  <a:pt x="16935" y="2255"/>
                </a:lnTo>
                <a:lnTo>
                  <a:pt x="16878" y="2225"/>
                </a:lnTo>
                <a:lnTo>
                  <a:pt x="16798" y="2179"/>
                </a:lnTo>
                <a:lnTo>
                  <a:pt x="16706" y="2149"/>
                </a:lnTo>
                <a:lnTo>
                  <a:pt x="16603" y="2149"/>
                </a:lnTo>
                <a:lnTo>
                  <a:pt x="16603" y="2149"/>
                </a:lnTo>
                <a:lnTo>
                  <a:pt x="17165" y="2484"/>
                </a:lnTo>
                <a:close/>
                <a:moveTo>
                  <a:pt x="12581" y="2484"/>
                </a:moveTo>
                <a:lnTo>
                  <a:pt x="12581" y="2484"/>
                </a:lnTo>
                <a:lnTo>
                  <a:pt x="12937" y="2484"/>
                </a:lnTo>
                <a:lnTo>
                  <a:pt x="12937" y="2484"/>
                </a:lnTo>
                <a:lnTo>
                  <a:pt x="12925" y="2408"/>
                </a:lnTo>
                <a:lnTo>
                  <a:pt x="12902" y="2362"/>
                </a:lnTo>
                <a:lnTo>
                  <a:pt x="12868" y="2316"/>
                </a:lnTo>
                <a:lnTo>
                  <a:pt x="12856" y="2271"/>
                </a:lnTo>
                <a:lnTo>
                  <a:pt x="12810" y="2240"/>
                </a:lnTo>
                <a:lnTo>
                  <a:pt x="12788" y="2240"/>
                </a:lnTo>
                <a:lnTo>
                  <a:pt x="12742" y="2210"/>
                </a:lnTo>
                <a:lnTo>
                  <a:pt x="12719" y="2210"/>
                </a:lnTo>
                <a:lnTo>
                  <a:pt x="12719" y="2210"/>
                </a:lnTo>
                <a:lnTo>
                  <a:pt x="12684" y="2210"/>
                </a:lnTo>
                <a:lnTo>
                  <a:pt x="12661" y="2225"/>
                </a:lnTo>
                <a:lnTo>
                  <a:pt x="12650" y="2240"/>
                </a:lnTo>
                <a:lnTo>
                  <a:pt x="12627" y="2271"/>
                </a:lnTo>
                <a:lnTo>
                  <a:pt x="12604" y="2301"/>
                </a:lnTo>
                <a:lnTo>
                  <a:pt x="12593" y="2347"/>
                </a:lnTo>
                <a:lnTo>
                  <a:pt x="12581" y="2408"/>
                </a:lnTo>
                <a:lnTo>
                  <a:pt x="12581" y="2484"/>
                </a:lnTo>
                <a:close/>
                <a:moveTo>
                  <a:pt x="13360" y="2408"/>
                </a:moveTo>
                <a:lnTo>
                  <a:pt x="13360" y="2408"/>
                </a:lnTo>
                <a:lnTo>
                  <a:pt x="13441" y="2423"/>
                </a:lnTo>
                <a:lnTo>
                  <a:pt x="13509" y="2438"/>
                </a:lnTo>
                <a:lnTo>
                  <a:pt x="13544" y="2423"/>
                </a:lnTo>
                <a:lnTo>
                  <a:pt x="13567" y="2408"/>
                </a:lnTo>
                <a:lnTo>
                  <a:pt x="13578" y="2362"/>
                </a:lnTo>
                <a:lnTo>
                  <a:pt x="13555" y="2301"/>
                </a:lnTo>
                <a:lnTo>
                  <a:pt x="13509" y="2240"/>
                </a:lnTo>
                <a:lnTo>
                  <a:pt x="13452" y="2149"/>
                </a:lnTo>
                <a:lnTo>
                  <a:pt x="13452" y="2149"/>
                </a:lnTo>
                <a:lnTo>
                  <a:pt x="13360" y="2408"/>
                </a:lnTo>
                <a:close/>
                <a:moveTo>
                  <a:pt x="12123" y="2210"/>
                </a:moveTo>
                <a:lnTo>
                  <a:pt x="12123" y="2210"/>
                </a:lnTo>
                <a:lnTo>
                  <a:pt x="12157" y="2271"/>
                </a:lnTo>
                <a:lnTo>
                  <a:pt x="12192" y="2332"/>
                </a:lnTo>
                <a:lnTo>
                  <a:pt x="12226" y="2377"/>
                </a:lnTo>
                <a:lnTo>
                  <a:pt x="12272" y="2408"/>
                </a:lnTo>
                <a:lnTo>
                  <a:pt x="12295" y="2408"/>
                </a:lnTo>
                <a:lnTo>
                  <a:pt x="12352" y="2408"/>
                </a:lnTo>
                <a:lnTo>
                  <a:pt x="12386" y="2377"/>
                </a:lnTo>
                <a:lnTo>
                  <a:pt x="12432" y="2332"/>
                </a:lnTo>
                <a:lnTo>
                  <a:pt x="12432" y="2332"/>
                </a:lnTo>
                <a:lnTo>
                  <a:pt x="12432" y="2240"/>
                </a:lnTo>
                <a:lnTo>
                  <a:pt x="12409" y="2149"/>
                </a:lnTo>
                <a:lnTo>
                  <a:pt x="12363" y="2072"/>
                </a:lnTo>
                <a:lnTo>
                  <a:pt x="12329" y="2011"/>
                </a:lnTo>
                <a:lnTo>
                  <a:pt x="12329" y="2011"/>
                </a:lnTo>
                <a:lnTo>
                  <a:pt x="12123" y="2210"/>
                </a:lnTo>
                <a:close/>
                <a:moveTo>
                  <a:pt x="13727" y="2332"/>
                </a:moveTo>
                <a:lnTo>
                  <a:pt x="13727" y="2332"/>
                </a:lnTo>
                <a:lnTo>
                  <a:pt x="13784" y="2332"/>
                </a:lnTo>
                <a:lnTo>
                  <a:pt x="13830" y="2316"/>
                </a:lnTo>
                <a:lnTo>
                  <a:pt x="13876" y="2301"/>
                </a:lnTo>
                <a:lnTo>
                  <a:pt x="13922" y="2271"/>
                </a:lnTo>
                <a:lnTo>
                  <a:pt x="13945" y="2240"/>
                </a:lnTo>
                <a:lnTo>
                  <a:pt x="13968" y="2194"/>
                </a:lnTo>
                <a:lnTo>
                  <a:pt x="13979" y="2149"/>
                </a:lnTo>
                <a:lnTo>
                  <a:pt x="13991" y="2103"/>
                </a:lnTo>
                <a:lnTo>
                  <a:pt x="13979" y="2057"/>
                </a:lnTo>
                <a:lnTo>
                  <a:pt x="13968" y="2011"/>
                </a:lnTo>
                <a:lnTo>
                  <a:pt x="13945" y="1981"/>
                </a:lnTo>
                <a:lnTo>
                  <a:pt x="13922" y="1950"/>
                </a:lnTo>
                <a:lnTo>
                  <a:pt x="13876" y="1905"/>
                </a:lnTo>
                <a:lnTo>
                  <a:pt x="13830" y="1889"/>
                </a:lnTo>
                <a:lnTo>
                  <a:pt x="13784" y="1874"/>
                </a:lnTo>
                <a:lnTo>
                  <a:pt x="13727" y="1874"/>
                </a:lnTo>
                <a:lnTo>
                  <a:pt x="13727" y="1874"/>
                </a:lnTo>
                <a:lnTo>
                  <a:pt x="13727" y="2332"/>
                </a:lnTo>
                <a:close/>
                <a:moveTo>
                  <a:pt x="8823" y="2332"/>
                </a:moveTo>
                <a:lnTo>
                  <a:pt x="8823" y="2332"/>
                </a:lnTo>
                <a:lnTo>
                  <a:pt x="8857" y="2057"/>
                </a:lnTo>
                <a:lnTo>
                  <a:pt x="8857" y="1981"/>
                </a:lnTo>
                <a:lnTo>
                  <a:pt x="8857" y="1966"/>
                </a:lnTo>
                <a:lnTo>
                  <a:pt x="8846" y="1950"/>
                </a:lnTo>
                <a:lnTo>
                  <a:pt x="8811" y="1920"/>
                </a:lnTo>
                <a:lnTo>
                  <a:pt x="8765" y="1905"/>
                </a:lnTo>
                <a:lnTo>
                  <a:pt x="8674" y="1889"/>
                </a:lnTo>
                <a:lnTo>
                  <a:pt x="8570" y="1874"/>
                </a:lnTo>
                <a:lnTo>
                  <a:pt x="8570" y="1874"/>
                </a:lnTo>
                <a:lnTo>
                  <a:pt x="8823" y="2332"/>
                </a:lnTo>
                <a:close/>
                <a:moveTo>
                  <a:pt x="7070" y="1935"/>
                </a:moveTo>
                <a:lnTo>
                  <a:pt x="7070" y="1935"/>
                </a:lnTo>
                <a:lnTo>
                  <a:pt x="6817" y="1737"/>
                </a:lnTo>
                <a:lnTo>
                  <a:pt x="6817" y="1737"/>
                </a:lnTo>
                <a:lnTo>
                  <a:pt x="6863" y="1981"/>
                </a:lnTo>
                <a:lnTo>
                  <a:pt x="6909" y="2149"/>
                </a:lnTo>
                <a:lnTo>
                  <a:pt x="6943" y="2271"/>
                </a:lnTo>
                <a:lnTo>
                  <a:pt x="6978" y="2286"/>
                </a:lnTo>
                <a:lnTo>
                  <a:pt x="7001" y="2301"/>
                </a:lnTo>
                <a:lnTo>
                  <a:pt x="7001" y="2301"/>
                </a:lnTo>
                <a:lnTo>
                  <a:pt x="7024" y="2286"/>
                </a:lnTo>
                <a:lnTo>
                  <a:pt x="7046" y="2271"/>
                </a:lnTo>
                <a:lnTo>
                  <a:pt x="7058" y="2240"/>
                </a:lnTo>
                <a:lnTo>
                  <a:pt x="7070" y="2103"/>
                </a:lnTo>
                <a:lnTo>
                  <a:pt x="7070" y="1935"/>
                </a:lnTo>
                <a:close/>
                <a:moveTo>
                  <a:pt x="10152" y="2210"/>
                </a:moveTo>
                <a:lnTo>
                  <a:pt x="10152" y="2210"/>
                </a:lnTo>
                <a:lnTo>
                  <a:pt x="10140" y="2149"/>
                </a:lnTo>
                <a:lnTo>
                  <a:pt x="10095" y="2088"/>
                </a:lnTo>
                <a:lnTo>
                  <a:pt x="10060" y="2042"/>
                </a:lnTo>
                <a:lnTo>
                  <a:pt x="10003" y="2011"/>
                </a:lnTo>
                <a:lnTo>
                  <a:pt x="10003" y="2011"/>
                </a:lnTo>
                <a:lnTo>
                  <a:pt x="10003" y="2072"/>
                </a:lnTo>
                <a:lnTo>
                  <a:pt x="10026" y="2149"/>
                </a:lnTo>
                <a:lnTo>
                  <a:pt x="10060" y="2240"/>
                </a:lnTo>
                <a:lnTo>
                  <a:pt x="10083" y="2271"/>
                </a:lnTo>
                <a:lnTo>
                  <a:pt x="10118" y="2301"/>
                </a:lnTo>
                <a:lnTo>
                  <a:pt x="10129" y="2301"/>
                </a:lnTo>
                <a:lnTo>
                  <a:pt x="10152" y="2301"/>
                </a:lnTo>
                <a:lnTo>
                  <a:pt x="10152" y="2286"/>
                </a:lnTo>
                <a:lnTo>
                  <a:pt x="10152" y="2271"/>
                </a:lnTo>
                <a:lnTo>
                  <a:pt x="10152" y="2210"/>
                </a:lnTo>
                <a:close/>
                <a:moveTo>
                  <a:pt x="13051" y="2271"/>
                </a:moveTo>
                <a:lnTo>
                  <a:pt x="13051" y="2271"/>
                </a:lnTo>
                <a:lnTo>
                  <a:pt x="13108" y="2271"/>
                </a:lnTo>
                <a:lnTo>
                  <a:pt x="13154" y="2271"/>
                </a:lnTo>
                <a:lnTo>
                  <a:pt x="13211" y="2255"/>
                </a:lnTo>
                <a:lnTo>
                  <a:pt x="13246" y="2240"/>
                </a:lnTo>
                <a:lnTo>
                  <a:pt x="13269" y="2179"/>
                </a:lnTo>
                <a:lnTo>
                  <a:pt x="13292" y="2133"/>
                </a:lnTo>
                <a:lnTo>
                  <a:pt x="13292" y="2057"/>
                </a:lnTo>
                <a:lnTo>
                  <a:pt x="13303" y="2011"/>
                </a:lnTo>
                <a:lnTo>
                  <a:pt x="13303" y="2011"/>
                </a:lnTo>
                <a:lnTo>
                  <a:pt x="13097" y="1874"/>
                </a:lnTo>
                <a:lnTo>
                  <a:pt x="13097" y="1874"/>
                </a:lnTo>
                <a:lnTo>
                  <a:pt x="13051" y="2271"/>
                </a:lnTo>
                <a:close/>
                <a:moveTo>
                  <a:pt x="9957" y="2057"/>
                </a:moveTo>
                <a:lnTo>
                  <a:pt x="9957" y="2057"/>
                </a:lnTo>
                <a:lnTo>
                  <a:pt x="9751" y="1661"/>
                </a:lnTo>
                <a:lnTo>
                  <a:pt x="9751" y="1661"/>
                </a:lnTo>
                <a:lnTo>
                  <a:pt x="9785" y="1859"/>
                </a:lnTo>
                <a:lnTo>
                  <a:pt x="9820" y="1996"/>
                </a:lnTo>
                <a:lnTo>
                  <a:pt x="9865" y="2133"/>
                </a:lnTo>
                <a:lnTo>
                  <a:pt x="9900" y="2240"/>
                </a:lnTo>
                <a:lnTo>
                  <a:pt x="9911" y="2271"/>
                </a:lnTo>
                <a:lnTo>
                  <a:pt x="9934" y="2271"/>
                </a:lnTo>
                <a:lnTo>
                  <a:pt x="9934" y="2271"/>
                </a:lnTo>
                <a:lnTo>
                  <a:pt x="9946" y="2240"/>
                </a:lnTo>
                <a:lnTo>
                  <a:pt x="9957" y="2164"/>
                </a:lnTo>
                <a:lnTo>
                  <a:pt x="9957" y="2057"/>
                </a:lnTo>
                <a:close/>
                <a:moveTo>
                  <a:pt x="6141" y="2271"/>
                </a:moveTo>
                <a:lnTo>
                  <a:pt x="6141" y="2271"/>
                </a:lnTo>
                <a:lnTo>
                  <a:pt x="6164" y="2164"/>
                </a:lnTo>
                <a:lnTo>
                  <a:pt x="6164" y="2057"/>
                </a:lnTo>
                <a:lnTo>
                  <a:pt x="6153" y="1996"/>
                </a:lnTo>
                <a:lnTo>
                  <a:pt x="6141" y="1920"/>
                </a:lnTo>
                <a:lnTo>
                  <a:pt x="6096" y="1859"/>
                </a:lnTo>
                <a:lnTo>
                  <a:pt x="6038" y="1798"/>
                </a:lnTo>
                <a:lnTo>
                  <a:pt x="5969" y="1767"/>
                </a:lnTo>
                <a:lnTo>
                  <a:pt x="5889" y="1737"/>
                </a:lnTo>
                <a:lnTo>
                  <a:pt x="5889" y="1737"/>
                </a:lnTo>
                <a:lnTo>
                  <a:pt x="5798" y="1813"/>
                </a:lnTo>
                <a:lnTo>
                  <a:pt x="5775" y="1859"/>
                </a:lnTo>
                <a:lnTo>
                  <a:pt x="5763" y="1889"/>
                </a:lnTo>
                <a:lnTo>
                  <a:pt x="5752" y="1935"/>
                </a:lnTo>
                <a:lnTo>
                  <a:pt x="5763" y="1981"/>
                </a:lnTo>
                <a:lnTo>
                  <a:pt x="5775" y="1996"/>
                </a:lnTo>
                <a:lnTo>
                  <a:pt x="5798" y="2011"/>
                </a:lnTo>
                <a:lnTo>
                  <a:pt x="5866" y="2072"/>
                </a:lnTo>
                <a:lnTo>
                  <a:pt x="5935" y="2149"/>
                </a:lnTo>
                <a:lnTo>
                  <a:pt x="6141" y="2271"/>
                </a:lnTo>
                <a:close/>
                <a:moveTo>
                  <a:pt x="7654" y="1737"/>
                </a:moveTo>
                <a:lnTo>
                  <a:pt x="7654" y="1737"/>
                </a:lnTo>
                <a:lnTo>
                  <a:pt x="7436" y="1661"/>
                </a:lnTo>
                <a:lnTo>
                  <a:pt x="7436" y="1661"/>
                </a:lnTo>
                <a:lnTo>
                  <a:pt x="7505" y="1950"/>
                </a:lnTo>
                <a:lnTo>
                  <a:pt x="7551" y="2057"/>
                </a:lnTo>
                <a:lnTo>
                  <a:pt x="7585" y="2133"/>
                </a:lnTo>
                <a:lnTo>
                  <a:pt x="7620" y="2194"/>
                </a:lnTo>
                <a:lnTo>
                  <a:pt x="7654" y="2225"/>
                </a:lnTo>
                <a:lnTo>
                  <a:pt x="7654" y="2240"/>
                </a:lnTo>
                <a:lnTo>
                  <a:pt x="7677" y="2240"/>
                </a:lnTo>
                <a:lnTo>
                  <a:pt x="7700" y="2225"/>
                </a:lnTo>
                <a:lnTo>
                  <a:pt x="7700" y="2179"/>
                </a:lnTo>
                <a:lnTo>
                  <a:pt x="7711" y="2133"/>
                </a:lnTo>
                <a:lnTo>
                  <a:pt x="7711" y="2057"/>
                </a:lnTo>
                <a:lnTo>
                  <a:pt x="7677" y="1905"/>
                </a:lnTo>
                <a:lnTo>
                  <a:pt x="7654" y="1737"/>
                </a:lnTo>
                <a:close/>
                <a:moveTo>
                  <a:pt x="8364" y="1874"/>
                </a:moveTo>
                <a:lnTo>
                  <a:pt x="8364" y="1874"/>
                </a:lnTo>
                <a:lnTo>
                  <a:pt x="7791" y="1661"/>
                </a:lnTo>
                <a:lnTo>
                  <a:pt x="7791" y="1661"/>
                </a:lnTo>
                <a:lnTo>
                  <a:pt x="8009" y="1981"/>
                </a:lnTo>
                <a:lnTo>
                  <a:pt x="8089" y="2088"/>
                </a:lnTo>
                <a:lnTo>
                  <a:pt x="8192" y="2179"/>
                </a:lnTo>
                <a:lnTo>
                  <a:pt x="8227" y="2210"/>
                </a:lnTo>
                <a:lnTo>
                  <a:pt x="8250" y="2225"/>
                </a:lnTo>
                <a:lnTo>
                  <a:pt x="8284" y="2225"/>
                </a:lnTo>
                <a:lnTo>
                  <a:pt x="8307" y="2194"/>
                </a:lnTo>
                <a:lnTo>
                  <a:pt x="8330" y="2149"/>
                </a:lnTo>
                <a:lnTo>
                  <a:pt x="8353" y="2072"/>
                </a:lnTo>
                <a:lnTo>
                  <a:pt x="8364" y="1981"/>
                </a:lnTo>
                <a:lnTo>
                  <a:pt x="8364" y="1874"/>
                </a:lnTo>
                <a:close/>
                <a:moveTo>
                  <a:pt x="5362" y="1935"/>
                </a:moveTo>
                <a:lnTo>
                  <a:pt x="5362" y="1935"/>
                </a:lnTo>
                <a:lnTo>
                  <a:pt x="5339" y="2011"/>
                </a:lnTo>
                <a:lnTo>
                  <a:pt x="5328" y="2057"/>
                </a:lnTo>
                <a:lnTo>
                  <a:pt x="5328" y="2103"/>
                </a:lnTo>
                <a:lnTo>
                  <a:pt x="5351" y="2149"/>
                </a:lnTo>
                <a:lnTo>
                  <a:pt x="5385" y="2149"/>
                </a:lnTo>
                <a:lnTo>
                  <a:pt x="5454" y="2164"/>
                </a:lnTo>
                <a:lnTo>
                  <a:pt x="5522" y="2149"/>
                </a:lnTo>
                <a:lnTo>
                  <a:pt x="5637" y="2149"/>
                </a:lnTo>
                <a:lnTo>
                  <a:pt x="5637" y="2149"/>
                </a:lnTo>
                <a:lnTo>
                  <a:pt x="5591" y="2042"/>
                </a:lnTo>
                <a:lnTo>
                  <a:pt x="5568" y="2011"/>
                </a:lnTo>
                <a:lnTo>
                  <a:pt x="5546" y="1981"/>
                </a:lnTo>
                <a:lnTo>
                  <a:pt x="5522" y="1966"/>
                </a:lnTo>
                <a:lnTo>
                  <a:pt x="5500" y="1950"/>
                </a:lnTo>
                <a:lnTo>
                  <a:pt x="5419" y="1935"/>
                </a:lnTo>
                <a:lnTo>
                  <a:pt x="5419" y="1935"/>
                </a:lnTo>
                <a:lnTo>
                  <a:pt x="5362" y="1935"/>
                </a:lnTo>
                <a:close/>
                <a:moveTo>
                  <a:pt x="12524" y="2149"/>
                </a:moveTo>
                <a:lnTo>
                  <a:pt x="12524" y="2149"/>
                </a:lnTo>
                <a:lnTo>
                  <a:pt x="12673" y="2072"/>
                </a:lnTo>
                <a:lnTo>
                  <a:pt x="12799" y="2011"/>
                </a:lnTo>
                <a:lnTo>
                  <a:pt x="12856" y="1981"/>
                </a:lnTo>
                <a:lnTo>
                  <a:pt x="12879" y="1935"/>
                </a:lnTo>
                <a:lnTo>
                  <a:pt x="12890" y="1905"/>
                </a:lnTo>
                <a:lnTo>
                  <a:pt x="12890" y="1874"/>
                </a:lnTo>
                <a:lnTo>
                  <a:pt x="12879" y="1844"/>
                </a:lnTo>
                <a:lnTo>
                  <a:pt x="12868" y="1813"/>
                </a:lnTo>
                <a:lnTo>
                  <a:pt x="12845" y="1783"/>
                </a:lnTo>
                <a:lnTo>
                  <a:pt x="12753" y="1722"/>
                </a:lnTo>
                <a:lnTo>
                  <a:pt x="12639" y="1661"/>
                </a:lnTo>
                <a:lnTo>
                  <a:pt x="12639" y="1661"/>
                </a:lnTo>
                <a:lnTo>
                  <a:pt x="12524" y="2149"/>
                </a:lnTo>
                <a:close/>
                <a:moveTo>
                  <a:pt x="9189" y="2149"/>
                </a:moveTo>
                <a:lnTo>
                  <a:pt x="9189" y="2149"/>
                </a:lnTo>
                <a:lnTo>
                  <a:pt x="9270" y="2088"/>
                </a:lnTo>
                <a:lnTo>
                  <a:pt x="9327" y="2057"/>
                </a:lnTo>
                <a:lnTo>
                  <a:pt x="9373" y="2027"/>
                </a:lnTo>
                <a:lnTo>
                  <a:pt x="9373" y="1996"/>
                </a:lnTo>
                <a:lnTo>
                  <a:pt x="9373" y="1966"/>
                </a:lnTo>
                <a:lnTo>
                  <a:pt x="9327" y="1905"/>
                </a:lnTo>
                <a:lnTo>
                  <a:pt x="9270" y="1859"/>
                </a:lnTo>
                <a:lnTo>
                  <a:pt x="9189" y="1798"/>
                </a:lnTo>
                <a:lnTo>
                  <a:pt x="9189" y="1798"/>
                </a:lnTo>
                <a:lnTo>
                  <a:pt x="9189" y="2149"/>
                </a:lnTo>
                <a:close/>
                <a:moveTo>
                  <a:pt x="15790" y="2027"/>
                </a:moveTo>
                <a:lnTo>
                  <a:pt x="15790" y="2027"/>
                </a:lnTo>
                <a:close/>
                <a:moveTo>
                  <a:pt x="11756" y="2011"/>
                </a:moveTo>
                <a:lnTo>
                  <a:pt x="11756" y="2011"/>
                </a:lnTo>
                <a:lnTo>
                  <a:pt x="11871" y="2011"/>
                </a:lnTo>
                <a:lnTo>
                  <a:pt x="11940" y="2027"/>
                </a:lnTo>
                <a:lnTo>
                  <a:pt x="12008" y="2042"/>
                </a:lnTo>
                <a:lnTo>
                  <a:pt x="12043" y="2027"/>
                </a:lnTo>
                <a:lnTo>
                  <a:pt x="12054" y="2011"/>
                </a:lnTo>
                <a:lnTo>
                  <a:pt x="12065" y="1996"/>
                </a:lnTo>
                <a:lnTo>
                  <a:pt x="12065" y="1920"/>
                </a:lnTo>
                <a:lnTo>
                  <a:pt x="12020" y="1600"/>
                </a:lnTo>
                <a:lnTo>
                  <a:pt x="12020" y="1600"/>
                </a:lnTo>
                <a:lnTo>
                  <a:pt x="11756" y="2011"/>
                </a:lnTo>
                <a:close/>
                <a:moveTo>
                  <a:pt x="16191" y="2011"/>
                </a:moveTo>
                <a:lnTo>
                  <a:pt x="16191" y="2011"/>
                </a:lnTo>
                <a:lnTo>
                  <a:pt x="15985" y="1935"/>
                </a:lnTo>
                <a:lnTo>
                  <a:pt x="15985" y="1935"/>
                </a:lnTo>
                <a:lnTo>
                  <a:pt x="15927" y="1981"/>
                </a:lnTo>
                <a:lnTo>
                  <a:pt x="15881" y="1996"/>
                </a:lnTo>
                <a:lnTo>
                  <a:pt x="15870" y="2011"/>
                </a:lnTo>
                <a:lnTo>
                  <a:pt x="15881" y="2027"/>
                </a:lnTo>
                <a:lnTo>
                  <a:pt x="15927" y="2027"/>
                </a:lnTo>
                <a:lnTo>
                  <a:pt x="15985" y="2027"/>
                </a:lnTo>
                <a:lnTo>
                  <a:pt x="16191" y="2011"/>
                </a:lnTo>
                <a:close/>
                <a:moveTo>
                  <a:pt x="10473" y="1798"/>
                </a:moveTo>
                <a:lnTo>
                  <a:pt x="10473" y="1798"/>
                </a:lnTo>
                <a:lnTo>
                  <a:pt x="10427" y="1706"/>
                </a:lnTo>
                <a:lnTo>
                  <a:pt x="10358" y="1600"/>
                </a:lnTo>
                <a:lnTo>
                  <a:pt x="10301" y="1524"/>
                </a:lnTo>
                <a:lnTo>
                  <a:pt x="10221" y="1463"/>
                </a:lnTo>
                <a:lnTo>
                  <a:pt x="10221" y="1463"/>
                </a:lnTo>
                <a:lnTo>
                  <a:pt x="10221" y="1798"/>
                </a:lnTo>
                <a:lnTo>
                  <a:pt x="10221" y="1905"/>
                </a:lnTo>
                <a:lnTo>
                  <a:pt x="10243" y="1981"/>
                </a:lnTo>
                <a:lnTo>
                  <a:pt x="10255" y="1996"/>
                </a:lnTo>
                <a:lnTo>
                  <a:pt x="10278" y="1996"/>
                </a:lnTo>
                <a:lnTo>
                  <a:pt x="10301" y="1996"/>
                </a:lnTo>
                <a:lnTo>
                  <a:pt x="10324" y="1981"/>
                </a:lnTo>
                <a:lnTo>
                  <a:pt x="10381" y="1920"/>
                </a:lnTo>
                <a:lnTo>
                  <a:pt x="10473" y="1798"/>
                </a:lnTo>
                <a:close/>
                <a:moveTo>
                  <a:pt x="6611" y="1737"/>
                </a:moveTo>
                <a:lnTo>
                  <a:pt x="6611" y="1737"/>
                </a:lnTo>
                <a:lnTo>
                  <a:pt x="6405" y="1661"/>
                </a:lnTo>
                <a:lnTo>
                  <a:pt x="6405" y="1661"/>
                </a:lnTo>
                <a:lnTo>
                  <a:pt x="6496" y="1844"/>
                </a:lnTo>
                <a:lnTo>
                  <a:pt x="6531" y="1905"/>
                </a:lnTo>
                <a:lnTo>
                  <a:pt x="6565" y="1950"/>
                </a:lnTo>
                <a:lnTo>
                  <a:pt x="6588" y="1966"/>
                </a:lnTo>
                <a:lnTo>
                  <a:pt x="6611" y="1966"/>
                </a:lnTo>
                <a:lnTo>
                  <a:pt x="6634" y="1966"/>
                </a:lnTo>
                <a:lnTo>
                  <a:pt x="6645" y="1935"/>
                </a:lnTo>
                <a:lnTo>
                  <a:pt x="6645" y="1874"/>
                </a:lnTo>
                <a:lnTo>
                  <a:pt x="6645" y="1798"/>
                </a:lnTo>
                <a:lnTo>
                  <a:pt x="6634" y="1767"/>
                </a:lnTo>
                <a:lnTo>
                  <a:pt x="6623" y="1737"/>
                </a:lnTo>
                <a:lnTo>
                  <a:pt x="6611" y="1737"/>
                </a:lnTo>
                <a:close/>
                <a:moveTo>
                  <a:pt x="7230" y="1524"/>
                </a:moveTo>
                <a:lnTo>
                  <a:pt x="7230" y="1524"/>
                </a:lnTo>
                <a:lnTo>
                  <a:pt x="6966" y="1524"/>
                </a:lnTo>
                <a:lnTo>
                  <a:pt x="6966" y="1524"/>
                </a:lnTo>
                <a:lnTo>
                  <a:pt x="7046" y="1706"/>
                </a:lnTo>
                <a:lnTo>
                  <a:pt x="7104" y="1798"/>
                </a:lnTo>
                <a:lnTo>
                  <a:pt x="7138" y="1844"/>
                </a:lnTo>
                <a:lnTo>
                  <a:pt x="7161" y="1874"/>
                </a:lnTo>
                <a:lnTo>
                  <a:pt x="7195" y="1889"/>
                </a:lnTo>
                <a:lnTo>
                  <a:pt x="7219" y="1889"/>
                </a:lnTo>
                <a:lnTo>
                  <a:pt x="7230" y="1874"/>
                </a:lnTo>
                <a:lnTo>
                  <a:pt x="7253" y="1844"/>
                </a:lnTo>
                <a:lnTo>
                  <a:pt x="7264" y="1813"/>
                </a:lnTo>
                <a:lnTo>
                  <a:pt x="7264" y="1783"/>
                </a:lnTo>
                <a:lnTo>
                  <a:pt x="7264" y="1676"/>
                </a:lnTo>
                <a:lnTo>
                  <a:pt x="7230" y="1524"/>
                </a:lnTo>
                <a:close/>
                <a:moveTo>
                  <a:pt x="11653" y="1874"/>
                </a:moveTo>
                <a:lnTo>
                  <a:pt x="11653" y="1874"/>
                </a:lnTo>
                <a:lnTo>
                  <a:pt x="11607" y="1325"/>
                </a:lnTo>
                <a:lnTo>
                  <a:pt x="11607" y="1325"/>
                </a:lnTo>
                <a:lnTo>
                  <a:pt x="11538" y="1524"/>
                </a:lnTo>
                <a:lnTo>
                  <a:pt x="11504" y="1676"/>
                </a:lnTo>
                <a:lnTo>
                  <a:pt x="11458" y="1767"/>
                </a:lnTo>
                <a:lnTo>
                  <a:pt x="11435" y="1828"/>
                </a:lnTo>
                <a:lnTo>
                  <a:pt x="11435" y="1844"/>
                </a:lnTo>
                <a:lnTo>
                  <a:pt x="11447" y="1859"/>
                </a:lnTo>
                <a:lnTo>
                  <a:pt x="11493" y="1874"/>
                </a:lnTo>
                <a:lnTo>
                  <a:pt x="11653" y="1874"/>
                </a:lnTo>
                <a:close/>
                <a:moveTo>
                  <a:pt x="9591" y="1798"/>
                </a:moveTo>
                <a:lnTo>
                  <a:pt x="9591" y="1798"/>
                </a:lnTo>
                <a:lnTo>
                  <a:pt x="9591" y="1463"/>
                </a:lnTo>
                <a:lnTo>
                  <a:pt x="9591" y="1463"/>
                </a:lnTo>
                <a:lnTo>
                  <a:pt x="9556" y="1508"/>
                </a:lnTo>
                <a:lnTo>
                  <a:pt x="9522" y="1539"/>
                </a:lnTo>
                <a:lnTo>
                  <a:pt x="9499" y="1600"/>
                </a:lnTo>
                <a:lnTo>
                  <a:pt x="9499" y="1645"/>
                </a:lnTo>
                <a:lnTo>
                  <a:pt x="9499" y="1691"/>
                </a:lnTo>
                <a:lnTo>
                  <a:pt x="9522" y="1722"/>
                </a:lnTo>
                <a:lnTo>
                  <a:pt x="9556" y="1767"/>
                </a:lnTo>
                <a:lnTo>
                  <a:pt x="9591" y="1798"/>
                </a:lnTo>
                <a:close/>
                <a:moveTo>
                  <a:pt x="12226" y="1737"/>
                </a:moveTo>
                <a:lnTo>
                  <a:pt x="12226" y="1737"/>
                </a:lnTo>
                <a:lnTo>
                  <a:pt x="12329" y="1706"/>
                </a:lnTo>
                <a:lnTo>
                  <a:pt x="12409" y="1645"/>
                </a:lnTo>
                <a:lnTo>
                  <a:pt x="12467" y="1615"/>
                </a:lnTo>
                <a:lnTo>
                  <a:pt x="12467" y="1569"/>
                </a:lnTo>
                <a:lnTo>
                  <a:pt x="12478" y="1539"/>
                </a:lnTo>
                <a:lnTo>
                  <a:pt x="12478" y="1524"/>
                </a:lnTo>
                <a:lnTo>
                  <a:pt x="12467" y="1508"/>
                </a:lnTo>
                <a:lnTo>
                  <a:pt x="12467" y="1478"/>
                </a:lnTo>
                <a:lnTo>
                  <a:pt x="12444" y="1447"/>
                </a:lnTo>
                <a:lnTo>
                  <a:pt x="12363" y="1371"/>
                </a:lnTo>
                <a:lnTo>
                  <a:pt x="12283" y="1325"/>
                </a:lnTo>
                <a:lnTo>
                  <a:pt x="12283" y="1325"/>
                </a:lnTo>
                <a:lnTo>
                  <a:pt x="12226" y="1737"/>
                </a:lnTo>
                <a:close/>
                <a:moveTo>
                  <a:pt x="11034" y="1737"/>
                </a:moveTo>
                <a:lnTo>
                  <a:pt x="11034" y="1737"/>
                </a:lnTo>
                <a:lnTo>
                  <a:pt x="11149" y="1722"/>
                </a:lnTo>
                <a:lnTo>
                  <a:pt x="11229" y="1706"/>
                </a:lnTo>
                <a:lnTo>
                  <a:pt x="11298" y="1661"/>
                </a:lnTo>
                <a:lnTo>
                  <a:pt x="11309" y="1630"/>
                </a:lnTo>
                <a:lnTo>
                  <a:pt x="11332" y="1600"/>
                </a:lnTo>
                <a:lnTo>
                  <a:pt x="11344" y="1554"/>
                </a:lnTo>
                <a:lnTo>
                  <a:pt x="11355" y="1524"/>
                </a:lnTo>
                <a:lnTo>
                  <a:pt x="11344" y="1478"/>
                </a:lnTo>
                <a:lnTo>
                  <a:pt x="11332" y="1432"/>
                </a:lnTo>
                <a:lnTo>
                  <a:pt x="11309" y="1371"/>
                </a:lnTo>
                <a:lnTo>
                  <a:pt x="11286" y="1310"/>
                </a:lnTo>
                <a:lnTo>
                  <a:pt x="11195" y="1203"/>
                </a:lnTo>
                <a:lnTo>
                  <a:pt x="11195" y="1203"/>
                </a:lnTo>
                <a:lnTo>
                  <a:pt x="11137" y="1219"/>
                </a:lnTo>
                <a:lnTo>
                  <a:pt x="11092" y="1264"/>
                </a:lnTo>
                <a:lnTo>
                  <a:pt x="11057" y="1310"/>
                </a:lnTo>
                <a:lnTo>
                  <a:pt x="11023" y="1371"/>
                </a:lnTo>
                <a:lnTo>
                  <a:pt x="11011" y="1463"/>
                </a:lnTo>
                <a:lnTo>
                  <a:pt x="11011" y="1539"/>
                </a:lnTo>
                <a:lnTo>
                  <a:pt x="11011" y="1630"/>
                </a:lnTo>
                <a:lnTo>
                  <a:pt x="11034" y="1737"/>
                </a:lnTo>
                <a:close/>
                <a:moveTo>
                  <a:pt x="10782" y="1737"/>
                </a:moveTo>
                <a:lnTo>
                  <a:pt x="10782" y="1737"/>
                </a:lnTo>
                <a:lnTo>
                  <a:pt x="10817" y="1722"/>
                </a:lnTo>
                <a:lnTo>
                  <a:pt x="10839" y="1676"/>
                </a:lnTo>
                <a:lnTo>
                  <a:pt x="10862" y="1645"/>
                </a:lnTo>
                <a:lnTo>
                  <a:pt x="10862" y="1630"/>
                </a:lnTo>
                <a:lnTo>
                  <a:pt x="10874" y="1584"/>
                </a:lnTo>
                <a:lnTo>
                  <a:pt x="10874" y="1539"/>
                </a:lnTo>
                <a:lnTo>
                  <a:pt x="10862" y="1493"/>
                </a:lnTo>
                <a:lnTo>
                  <a:pt x="10828" y="1432"/>
                </a:lnTo>
                <a:lnTo>
                  <a:pt x="10782" y="1371"/>
                </a:lnTo>
                <a:lnTo>
                  <a:pt x="10736" y="1295"/>
                </a:lnTo>
                <a:lnTo>
                  <a:pt x="10679" y="1249"/>
                </a:lnTo>
                <a:lnTo>
                  <a:pt x="10679" y="1249"/>
                </a:lnTo>
                <a:lnTo>
                  <a:pt x="10702" y="1386"/>
                </a:lnTo>
                <a:lnTo>
                  <a:pt x="10725" y="1493"/>
                </a:lnTo>
                <a:lnTo>
                  <a:pt x="10782" y="1737"/>
                </a:lnTo>
                <a:close/>
                <a:moveTo>
                  <a:pt x="9911" y="1203"/>
                </a:moveTo>
                <a:lnTo>
                  <a:pt x="9911" y="1203"/>
                </a:lnTo>
                <a:lnTo>
                  <a:pt x="9842" y="1234"/>
                </a:lnTo>
                <a:lnTo>
                  <a:pt x="9785" y="1264"/>
                </a:lnTo>
                <a:lnTo>
                  <a:pt x="9774" y="1280"/>
                </a:lnTo>
                <a:lnTo>
                  <a:pt x="9774" y="1325"/>
                </a:lnTo>
                <a:lnTo>
                  <a:pt x="9774" y="1356"/>
                </a:lnTo>
                <a:lnTo>
                  <a:pt x="9774" y="1386"/>
                </a:lnTo>
                <a:lnTo>
                  <a:pt x="9785" y="1463"/>
                </a:lnTo>
                <a:lnTo>
                  <a:pt x="9842" y="1539"/>
                </a:lnTo>
                <a:lnTo>
                  <a:pt x="9923" y="1630"/>
                </a:lnTo>
                <a:lnTo>
                  <a:pt x="10003" y="1737"/>
                </a:lnTo>
                <a:lnTo>
                  <a:pt x="10003" y="1737"/>
                </a:lnTo>
                <a:lnTo>
                  <a:pt x="10060" y="1600"/>
                </a:lnTo>
                <a:lnTo>
                  <a:pt x="10095" y="1493"/>
                </a:lnTo>
                <a:lnTo>
                  <a:pt x="10118" y="1386"/>
                </a:lnTo>
                <a:lnTo>
                  <a:pt x="10129" y="1310"/>
                </a:lnTo>
                <a:lnTo>
                  <a:pt x="10118" y="1249"/>
                </a:lnTo>
                <a:lnTo>
                  <a:pt x="10083" y="1219"/>
                </a:lnTo>
                <a:lnTo>
                  <a:pt x="10049" y="1188"/>
                </a:lnTo>
                <a:lnTo>
                  <a:pt x="9991" y="1188"/>
                </a:lnTo>
                <a:lnTo>
                  <a:pt x="9991" y="1188"/>
                </a:lnTo>
                <a:lnTo>
                  <a:pt x="9911" y="1203"/>
                </a:lnTo>
                <a:close/>
                <a:moveTo>
                  <a:pt x="5694" y="1539"/>
                </a:moveTo>
                <a:lnTo>
                  <a:pt x="5694" y="1539"/>
                </a:lnTo>
                <a:close/>
                <a:moveTo>
                  <a:pt x="8043" y="1524"/>
                </a:moveTo>
                <a:lnTo>
                  <a:pt x="8043" y="1524"/>
                </a:lnTo>
                <a:lnTo>
                  <a:pt x="8204" y="1539"/>
                </a:lnTo>
                <a:lnTo>
                  <a:pt x="8376" y="1569"/>
                </a:lnTo>
                <a:lnTo>
                  <a:pt x="8594" y="1615"/>
                </a:lnTo>
                <a:lnTo>
                  <a:pt x="8697" y="1615"/>
                </a:lnTo>
                <a:lnTo>
                  <a:pt x="8811" y="1630"/>
                </a:lnTo>
                <a:lnTo>
                  <a:pt x="8914" y="1615"/>
                </a:lnTo>
                <a:lnTo>
                  <a:pt x="9006" y="1600"/>
                </a:lnTo>
                <a:lnTo>
                  <a:pt x="9109" y="1554"/>
                </a:lnTo>
                <a:lnTo>
                  <a:pt x="9189" y="1508"/>
                </a:lnTo>
                <a:lnTo>
                  <a:pt x="9270" y="1463"/>
                </a:lnTo>
                <a:lnTo>
                  <a:pt x="9293" y="1417"/>
                </a:lnTo>
                <a:lnTo>
                  <a:pt x="9327" y="1371"/>
                </a:lnTo>
                <a:lnTo>
                  <a:pt x="9350" y="1310"/>
                </a:lnTo>
                <a:lnTo>
                  <a:pt x="9373" y="1249"/>
                </a:lnTo>
                <a:lnTo>
                  <a:pt x="9384" y="1203"/>
                </a:lnTo>
                <a:lnTo>
                  <a:pt x="9384" y="1112"/>
                </a:lnTo>
                <a:lnTo>
                  <a:pt x="9384" y="1112"/>
                </a:lnTo>
                <a:lnTo>
                  <a:pt x="9350" y="1203"/>
                </a:lnTo>
                <a:lnTo>
                  <a:pt x="9293" y="1249"/>
                </a:lnTo>
                <a:lnTo>
                  <a:pt x="9247" y="1295"/>
                </a:lnTo>
                <a:lnTo>
                  <a:pt x="9189" y="1356"/>
                </a:lnTo>
                <a:lnTo>
                  <a:pt x="9144" y="1371"/>
                </a:lnTo>
                <a:lnTo>
                  <a:pt x="9075" y="1417"/>
                </a:lnTo>
                <a:lnTo>
                  <a:pt x="8960" y="1463"/>
                </a:lnTo>
                <a:lnTo>
                  <a:pt x="8834" y="1463"/>
                </a:lnTo>
                <a:lnTo>
                  <a:pt x="8708" y="1478"/>
                </a:lnTo>
                <a:lnTo>
                  <a:pt x="8433" y="1478"/>
                </a:lnTo>
                <a:lnTo>
                  <a:pt x="8433" y="1478"/>
                </a:lnTo>
                <a:lnTo>
                  <a:pt x="8238" y="1478"/>
                </a:lnTo>
                <a:lnTo>
                  <a:pt x="8147" y="1508"/>
                </a:lnTo>
                <a:lnTo>
                  <a:pt x="8043" y="1524"/>
                </a:lnTo>
                <a:close/>
                <a:moveTo>
                  <a:pt x="6096" y="1386"/>
                </a:moveTo>
                <a:lnTo>
                  <a:pt x="6096" y="1386"/>
                </a:lnTo>
                <a:lnTo>
                  <a:pt x="6073" y="1493"/>
                </a:lnTo>
                <a:lnTo>
                  <a:pt x="6061" y="1539"/>
                </a:lnTo>
                <a:lnTo>
                  <a:pt x="6073" y="1539"/>
                </a:lnTo>
                <a:lnTo>
                  <a:pt x="6073" y="1539"/>
                </a:lnTo>
                <a:lnTo>
                  <a:pt x="6096" y="1508"/>
                </a:lnTo>
                <a:lnTo>
                  <a:pt x="6107" y="1478"/>
                </a:lnTo>
                <a:lnTo>
                  <a:pt x="6118" y="1447"/>
                </a:lnTo>
                <a:lnTo>
                  <a:pt x="6130" y="1432"/>
                </a:lnTo>
                <a:lnTo>
                  <a:pt x="6118" y="1402"/>
                </a:lnTo>
                <a:lnTo>
                  <a:pt x="6107" y="1402"/>
                </a:lnTo>
                <a:lnTo>
                  <a:pt x="6096" y="1386"/>
                </a:lnTo>
                <a:close/>
                <a:moveTo>
                  <a:pt x="12077" y="1325"/>
                </a:moveTo>
                <a:lnTo>
                  <a:pt x="12077" y="1325"/>
                </a:lnTo>
                <a:lnTo>
                  <a:pt x="12054" y="1249"/>
                </a:lnTo>
                <a:lnTo>
                  <a:pt x="12031" y="1173"/>
                </a:lnTo>
                <a:lnTo>
                  <a:pt x="12008" y="1112"/>
                </a:lnTo>
                <a:lnTo>
                  <a:pt x="11962" y="1051"/>
                </a:lnTo>
                <a:lnTo>
                  <a:pt x="11928" y="1005"/>
                </a:lnTo>
                <a:lnTo>
                  <a:pt x="11882" y="975"/>
                </a:lnTo>
                <a:lnTo>
                  <a:pt x="11825" y="944"/>
                </a:lnTo>
                <a:lnTo>
                  <a:pt x="11756" y="929"/>
                </a:lnTo>
                <a:lnTo>
                  <a:pt x="11756" y="929"/>
                </a:lnTo>
                <a:lnTo>
                  <a:pt x="11791" y="1203"/>
                </a:lnTo>
                <a:lnTo>
                  <a:pt x="11791" y="1371"/>
                </a:lnTo>
                <a:lnTo>
                  <a:pt x="11802" y="1463"/>
                </a:lnTo>
                <a:lnTo>
                  <a:pt x="11802" y="1478"/>
                </a:lnTo>
                <a:lnTo>
                  <a:pt x="11813" y="1478"/>
                </a:lnTo>
                <a:lnTo>
                  <a:pt x="11848" y="1447"/>
                </a:lnTo>
                <a:lnTo>
                  <a:pt x="11882" y="1386"/>
                </a:lnTo>
                <a:lnTo>
                  <a:pt x="11916" y="1371"/>
                </a:lnTo>
                <a:lnTo>
                  <a:pt x="11951" y="1341"/>
                </a:lnTo>
                <a:lnTo>
                  <a:pt x="12008" y="1325"/>
                </a:lnTo>
                <a:lnTo>
                  <a:pt x="12077" y="1325"/>
                </a:lnTo>
                <a:close/>
                <a:moveTo>
                  <a:pt x="10221" y="990"/>
                </a:moveTo>
                <a:lnTo>
                  <a:pt x="10221" y="990"/>
                </a:lnTo>
                <a:lnTo>
                  <a:pt x="10301" y="1082"/>
                </a:lnTo>
                <a:lnTo>
                  <a:pt x="10347" y="1203"/>
                </a:lnTo>
                <a:lnTo>
                  <a:pt x="10392" y="1310"/>
                </a:lnTo>
                <a:lnTo>
                  <a:pt x="10427" y="1463"/>
                </a:lnTo>
                <a:lnTo>
                  <a:pt x="10427" y="1463"/>
                </a:lnTo>
                <a:lnTo>
                  <a:pt x="10496" y="1341"/>
                </a:lnTo>
                <a:lnTo>
                  <a:pt x="10541" y="1219"/>
                </a:lnTo>
                <a:lnTo>
                  <a:pt x="10565" y="1066"/>
                </a:lnTo>
                <a:lnTo>
                  <a:pt x="10576" y="929"/>
                </a:lnTo>
                <a:lnTo>
                  <a:pt x="10576" y="929"/>
                </a:lnTo>
                <a:lnTo>
                  <a:pt x="10473" y="868"/>
                </a:lnTo>
                <a:lnTo>
                  <a:pt x="10404" y="853"/>
                </a:lnTo>
                <a:lnTo>
                  <a:pt x="10335" y="853"/>
                </a:lnTo>
                <a:lnTo>
                  <a:pt x="10335" y="853"/>
                </a:lnTo>
                <a:lnTo>
                  <a:pt x="10289" y="853"/>
                </a:lnTo>
                <a:lnTo>
                  <a:pt x="10243" y="868"/>
                </a:lnTo>
                <a:lnTo>
                  <a:pt x="10232" y="899"/>
                </a:lnTo>
                <a:lnTo>
                  <a:pt x="10221" y="929"/>
                </a:lnTo>
                <a:lnTo>
                  <a:pt x="10221" y="990"/>
                </a:lnTo>
                <a:close/>
                <a:moveTo>
                  <a:pt x="10931" y="777"/>
                </a:moveTo>
                <a:lnTo>
                  <a:pt x="10931" y="777"/>
                </a:lnTo>
                <a:lnTo>
                  <a:pt x="10679" y="716"/>
                </a:lnTo>
                <a:lnTo>
                  <a:pt x="10679" y="716"/>
                </a:lnTo>
                <a:lnTo>
                  <a:pt x="10828" y="1082"/>
                </a:lnTo>
                <a:lnTo>
                  <a:pt x="10874" y="1203"/>
                </a:lnTo>
                <a:lnTo>
                  <a:pt x="10931" y="1249"/>
                </a:lnTo>
                <a:lnTo>
                  <a:pt x="10943" y="1280"/>
                </a:lnTo>
                <a:lnTo>
                  <a:pt x="10966" y="1280"/>
                </a:lnTo>
                <a:lnTo>
                  <a:pt x="10977" y="1264"/>
                </a:lnTo>
                <a:lnTo>
                  <a:pt x="10988" y="1219"/>
                </a:lnTo>
                <a:lnTo>
                  <a:pt x="10977" y="1097"/>
                </a:lnTo>
                <a:lnTo>
                  <a:pt x="10954" y="944"/>
                </a:lnTo>
                <a:lnTo>
                  <a:pt x="10931" y="777"/>
                </a:lnTo>
                <a:close/>
                <a:moveTo>
                  <a:pt x="11447" y="1249"/>
                </a:moveTo>
                <a:lnTo>
                  <a:pt x="11447" y="1249"/>
                </a:lnTo>
                <a:lnTo>
                  <a:pt x="11481" y="1203"/>
                </a:lnTo>
                <a:lnTo>
                  <a:pt x="11504" y="1112"/>
                </a:lnTo>
                <a:lnTo>
                  <a:pt x="11504" y="1051"/>
                </a:lnTo>
                <a:lnTo>
                  <a:pt x="11504" y="990"/>
                </a:lnTo>
                <a:lnTo>
                  <a:pt x="11493" y="929"/>
                </a:lnTo>
                <a:lnTo>
                  <a:pt x="11470" y="853"/>
                </a:lnTo>
                <a:lnTo>
                  <a:pt x="11435" y="777"/>
                </a:lnTo>
                <a:lnTo>
                  <a:pt x="11401" y="716"/>
                </a:lnTo>
                <a:lnTo>
                  <a:pt x="11401" y="716"/>
                </a:lnTo>
                <a:lnTo>
                  <a:pt x="11344" y="731"/>
                </a:lnTo>
                <a:lnTo>
                  <a:pt x="11298" y="731"/>
                </a:lnTo>
                <a:lnTo>
                  <a:pt x="11275" y="762"/>
                </a:lnTo>
                <a:lnTo>
                  <a:pt x="11252" y="792"/>
                </a:lnTo>
                <a:lnTo>
                  <a:pt x="11240" y="853"/>
                </a:lnTo>
                <a:lnTo>
                  <a:pt x="11229" y="883"/>
                </a:lnTo>
                <a:lnTo>
                  <a:pt x="11240" y="944"/>
                </a:lnTo>
                <a:lnTo>
                  <a:pt x="11252" y="990"/>
                </a:lnTo>
                <a:lnTo>
                  <a:pt x="11298" y="1082"/>
                </a:lnTo>
                <a:lnTo>
                  <a:pt x="11332" y="1173"/>
                </a:lnTo>
                <a:lnTo>
                  <a:pt x="11389" y="1234"/>
                </a:lnTo>
                <a:lnTo>
                  <a:pt x="11424" y="1249"/>
                </a:lnTo>
                <a:lnTo>
                  <a:pt x="11447" y="1249"/>
                </a:lnTo>
                <a:close/>
                <a:moveTo>
                  <a:pt x="9499" y="1112"/>
                </a:moveTo>
                <a:lnTo>
                  <a:pt x="9499" y="1112"/>
                </a:lnTo>
                <a:lnTo>
                  <a:pt x="9716" y="1021"/>
                </a:lnTo>
                <a:lnTo>
                  <a:pt x="9934" y="944"/>
                </a:lnTo>
                <a:lnTo>
                  <a:pt x="10163" y="822"/>
                </a:lnTo>
                <a:lnTo>
                  <a:pt x="10370" y="716"/>
                </a:lnTo>
                <a:lnTo>
                  <a:pt x="10461" y="670"/>
                </a:lnTo>
                <a:lnTo>
                  <a:pt x="10530" y="609"/>
                </a:lnTo>
                <a:lnTo>
                  <a:pt x="10553" y="579"/>
                </a:lnTo>
                <a:lnTo>
                  <a:pt x="10553" y="548"/>
                </a:lnTo>
                <a:lnTo>
                  <a:pt x="10553" y="533"/>
                </a:lnTo>
                <a:lnTo>
                  <a:pt x="10541" y="518"/>
                </a:lnTo>
                <a:lnTo>
                  <a:pt x="10507" y="518"/>
                </a:lnTo>
                <a:lnTo>
                  <a:pt x="10427" y="502"/>
                </a:lnTo>
                <a:lnTo>
                  <a:pt x="10427" y="502"/>
                </a:lnTo>
                <a:lnTo>
                  <a:pt x="10301" y="563"/>
                </a:lnTo>
                <a:lnTo>
                  <a:pt x="10163" y="624"/>
                </a:lnTo>
                <a:lnTo>
                  <a:pt x="10049" y="685"/>
                </a:lnTo>
                <a:lnTo>
                  <a:pt x="9934" y="762"/>
                </a:lnTo>
                <a:lnTo>
                  <a:pt x="9820" y="853"/>
                </a:lnTo>
                <a:lnTo>
                  <a:pt x="9716" y="944"/>
                </a:lnTo>
                <a:lnTo>
                  <a:pt x="9591" y="1021"/>
                </a:lnTo>
                <a:lnTo>
                  <a:pt x="9499" y="1112"/>
                </a:lnTo>
                <a:close/>
                <a:moveTo>
                  <a:pt x="18162" y="14877"/>
                </a:moveTo>
                <a:lnTo>
                  <a:pt x="18162" y="14877"/>
                </a:lnTo>
                <a:lnTo>
                  <a:pt x="18081" y="14938"/>
                </a:lnTo>
                <a:lnTo>
                  <a:pt x="18013" y="14999"/>
                </a:lnTo>
                <a:lnTo>
                  <a:pt x="17909" y="15045"/>
                </a:lnTo>
                <a:lnTo>
                  <a:pt x="17807" y="15060"/>
                </a:lnTo>
                <a:lnTo>
                  <a:pt x="17807" y="15060"/>
                </a:lnTo>
                <a:lnTo>
                  <a:pt x="18162" y="14877"/>
                </a:lnTo>
                <a:close/>
                <a:moveTo>
                  <a:pt x="19078" y="12331"/>
                </a:moveTo>
                <a:lnTo>
                  <a:pt x="19078" y="12331"/>
                </a:lnTo>
                <a:lnTo>
                  <a:pt x="19010" y="12423"/>
                </a:lnTo>
                <a:lnTo>
                  <a:pt x="19010" y="12423"/>
                </a:lnTo>
                <a:lnTo>
                  <a:pt x="19021" y="12392"/>
                </a:lnTo>
                <a:lnTo>
                  <a:pt x="19033" y="12362"/>
                </a:lnTo>
                <a:lnTo>
                  <a:pt x="19055" y="12347"/>
                </a:lnTo>
                <a:lnTo>
                  <a:pt x="19078" y="12331"/>
                </a:lnTo>
                <a:close/>
                <a:moveTo>
                  <a:pt x="8788" y="5838"/>
                </a:moveTo>
                <a:lnTo>
                  <a:pt x="8788" y="5838"/>
                </a:lnTo>
                <a:lnTo>
                  <a:pt x="8868" y="5853"/>
                </a:lnTo>
                <a:lnTo>
                  <a:pt x="8868" y="5853"/>
                </a:lnTo>
                <a:lnTo>
                  <a:pt x="8834" y="5868"/>
                </a:lnTo>
                <a:lnTo>
                  <a:pt x="8834" y="5868"/>
                </a:lnTo>
                <a:lnTo>
                  <a:pt x="8788" y="5838"/>
                </a:lnTo>
                <a:close/>
                <a:moveTo>
                  <a:pt x="8307" y="5670"/>
                </a:moveTo>
                <a:lnTo>
                  <a:pt x="8307" y="5670"/>
                </a:lnTo>
                <a:lnTo>
                  <a:pt x="8445" y="5685"/>
                </a:lnTo>
                <a:lnTo>
                  <a:pt x="8582" y="5731"/>
                </a:lnTo>
                <a:lnTo>
                  <a:pt x="8685" y="5777"/>
                </a:lnTo>
                <a:lnTo>
                  <a:pt x="8788" y="5838"/>
                </a:lnTo>
                <a:lnTo>
                  <a:pt x="8788" y="5838"/>
                </a:lnTo>
                <a:lnTo>
                  <a:pt x="8559" y="5761"/>
                </a:lnTo>
                <a:lnTo>
                  <a:pt x="8307" y="5670"/>
                </a:lnTo>
                <a:close/>
                <a:moveTo>
                  <a:pt x="8204" y="5639"/>
                </a:moveTo>
                <a:lnTo>
                  <a:pt x="8204" y="5639"/>
                </a:lnTo>
                <a:lnTo>
                  <a:pt x="8009" y="5609"/>
                </a:lnTo>
                <a:lnTo>
                  <a:pt x="7814" y="5578"/>
                </a:lnTo>
                <a:lnTo>
                  <a:pt x="7631" y="5502"/>
                </a:lnTo>
                <a:lnTo>
                  <a:pt x="7516" y="5457"/>
                </a:lnTo>
                <a:lnTo>
                  <a:pt x="7436" y="5411"/>
                </a:lnTo>
                <a:lnTo>
                  <a:pt x="7436" y="5411"/>
                </a:lnTo>
                <a:lnTo>
                  <a:pt x="7539" y="5411"/>
                </a:lnTo>
                <a:lnTo>
                  <a:pt x="7654" y="5426"/>
                </a:lnTo>
                <a:lnTo>
                  <a:pt x="7860" y="5502"/>
                </a:lnTo>
                <a:lnTo>
                  <a:pt x="8078" y="5594"/>
                </a:lnTo>
                <a:lnTo>
                  <a:pt x="8307" y="5670"/>
                </a:lnTo>
                <a:lnTo>
                  <a:pt x="8307" y="5670"/>
                </a:lnTo>
                <a:lnTo>
                  <a:pt x="8204" y="5639"/>
                </a:lnTo>
                <a:close/>
                <a:moveTo>
                  <a:pt x="17589" y="5106"/>
                </a:moveTo>
                <a:lnTo>
                  <a:pt x="17589" y="5106"/>
                </a:lnTo>
                <a:lnTo>
                  <a:pt x="17669" y="5106"/>
                </a:lnTo>
                <a:lnTo>
                  <a:pt x="17669" y="5106"/>
                </a:lnTo>
                <a:lnTo>
                  <a:pt x="17680" y="5106"/>
                </a:lnTo>
                <a:lnTo>
                  <a:pt x="17680" y="5106"/>
                </a:lnTo>
                <a:lnTo>
                  <a:pt x="17589" y="5106"/>
                </a:lnTo>
              </a:path>
            </a:pathLst>
          </a:custGeom>
          <a:solidFill>
            <a:srgbClr val="d3cb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Text Box 45"/>
          <p:cNvSpPr/>
          <p:nvPr/>
        </p:nvSpPr>
        <p:spPr>
          <a:xfrm>
            <a:off x="8221680" y="0"/>
            <a:ext cx="930240" cy="6858000"/>
          </a:xfrm>
          <a:prstGeom prst="rect">
            <a:avLst/>
          </a:prstGeom>
          <a:solidFill>
            <a:srgbClr val="b5a8a1"/>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body"/>
          </p:nvPr>
        </p:nvSpPr>
        <p:spPr>
          <a:xfrm>
            <a:off x="504360" y="1131480"/>
            <a:ext cx="7472520" cy="5133960"/>
          </a:xfrm>
          <a:prstGeom prst="rect">
            <a:avLst/>
          </a:prstGeom>
          <a:noFill/>
          <a:ln w="0">
            <a:noFill/>
          </a:ln>
        </p:spPr>
        <p:txBody>
          <a:bodyPr lIns="90000" rIns="90000" tIns="46800" bIns="46800" anchor="t">
            <a:normAutofit/>
          </a:bodyPr>
          <a:p>
            <a:pPr marL="357120" indent="-357120">
              <a:lnSpc>
                <a:spcPct val="110000"/>
              </a:lnSpc>
              <a:spcBef>
                <a:spcPts val="1800"/>
              </a:spcBef>
              <a:buClr>
                <a:srgbClr val="8f7c7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Click to edit the outline text format</a:t>
            </a:r>
            <a:endParaRPr b="0" lang="en-US" sz="2000" spc="-1" strike="noStrike">
              <a:solidFill>
                <a:srgbClr val="60524b"/>
              </a:solidFill>
              <a:latin typeface="Calibri"/>
            </a:endParaRPr>
          </a:p>
          <a:p>
            <a:pPr lvl="1" marL="357120" indent="-357120">
              <a:lnSpc>
                <a:spcPct val="110000"/>
              </a:lnSpc>
              <a:spcBef>
                <a:spcPts val="1800"/>
              </a:spcBef>
              <a:buClr>
                <a:srgbClr val="7f7f7f"/>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Second Outline Level</a:t>
            </a:r>
            <a:endParaRPr b="0" lang="en-US" sz="2000" spc="-1" strike="noStrike">
              <a:solidFill>
                <a:srgbClr val="60524b"/>
              </a:solidFill>
              <a:latin typeface="Calibri"/>
            </a:endParaRPr>
          </a:p>
          <a:p>
            <a:pPr lvl="2" marL="1143000" indent="-228600">
              <a:lnSpc>
                <a:spcPct val="11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Third Outline Level</a:t>
            </a:r>
            <a:endParaRPr b="0" lang="en-US" sz="2000" spc="-1" strike="noStrike">
              <a:solidFill>
                <a:srgbClr val="60524b"/>
              </a:solidFill>
              <a:latin typeface="Calibri"/>
            </a:endParaRPr>
          </a:p>
          <a:p>
            <a:pPr lvl="3" marL="1600200" indent="-228600">
              <a:lnSpc>
                <a:spcPct val="11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Fourth Outline Level</a:t>
            </a:r>
            <a:endParaRPr b="0" lang="en-US" sz="2000" spc="-1" strike="noStrike">
              <a:solidFill>
                <a:srgbClr val="60524b"/>
              </a:solidFill>
              <a:latin typeface="Calibri"/>
            </a:endParaRPr>
          </a:p>
          <a:p>
            <a:pPr lvl="4" marL="2057400" indent="-228600">
              <a:lnSpc>
                <a:spcPct val="11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Fifth Outline Level</a:t>
            </a:r>
            <a:endParaRPr b="0" lang="en-US" sz="2000" spc="-1" strike="noStrike">
              <a:solidFill>
                <a:srgbClr val="60524b"/>
              </a:solidFill>
              <a:latin typeface="Calibri"/>
            </a:endParaRPr>
          </a:p>
          <a:p>
            <a:pPr lvl="5" marL="2057400" indent="-228600">
              <a:lnSpc>
                <a:spcPct val="11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Sixth Outline Level</a:t>
            </a:r>
            <a:endParaRPr b="0" lang="en-US" sz="2000" spc="-1" strike="noStrike">
              <a:solidFill>
                <a:srgbClr val="60524b"/>
              </a:solidFill>
              <a:latin typeface="Calibri"/>
            </a:endParaRPr>
          </a:p>
          <a:p>
            <a:pPr lvl="6" marL="2057400" indent="-228600">
              <a:lnSpc>
                <a:spcPct val="11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524b"/>
                </a:solidFill>
                <a:latin typeface="Calibri"/>
              </a:rPr>
              <a:t>Seventh Outline Level</a:t>
            </a:r>
            <a:endParaRPr b="0" lang="en-US" sz="2000" spc="-1" strike="noStrike">
              <a:solidFill>
                <a:srgbClr val="60524b"/>
              </a:solidFill>
              <a:latin typeface="Calibri"/>
            </a:endParaRPr>
          </a:p>
        </p:txBody>
      </p:sp>
      <p:sp>
        <p:nvSpPr>
          <p:cNvPr id="45"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192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19293"/>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1929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19293"/>
                </a:solidFill>
                <a:latin typeface="Times New Roman"/>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192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0030-82A2-4AB6-911A-278E58046DBB}" type="slidenum">
              <a:rPr b="0" lang="zh-CN" sz="1200" spc="-1" strike="noStrike">
                <a:solidFill>
                  <a:srgbClr val="919293"/>
                </a:solidFill>
                <a:latin typeface="Times New Roman"/>
              </a:rPr>
              <a:t>&lt;number&gt;</a:t>
            </a:fld>
            <a:endParaRPr b="0" lang="en-US" sz="1200" spc="-1" strike="noStrike">
              <a:solidFill>
                <a:srgbClr val="000000"/>
              </a:solidFill>
              <a:latin typeface="Times New Roman"/>
            </a:endParaRPr>
          </a:p>
        </p:txBody>
      </p:sp>
      <p:sp>
        <p:nvSpPr>
          <p:cNvPr id="48" name="PlaceHolder 5"/>
          <p:cNvSpPr>
            <a:spLocks noGrp="1"/>
          </p:cNvSpPr>
          <p:nvPr>
            <p:ph type="title"/>
          </p:nvPr>
        </p:nvSpPr>
        <p:spPr>
          <a:xfrm>
            <a:off x="504360" y="320760"/>
            <a:ext cx="7472520" cy="59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24b"/>
                </a:solidFill>
                <a:latin typeface="comic"/>
              </a:rPr>
              <a:t>Click to edit the title text format</a:t>
            </a:r>
            <a:endParaRPr b="1" lang="en-US" sz="3200" spc="-1" strike="noStrike">
              <a:solidFill>
                <a:srgbClr val="60524b"/>
              </a:solidFill>
              <a:latin typeface="com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9"/>
          <p:cNvSpPr/>
          <p:nvPr/>
        </p:nvSpPr>
        <p:spPr>
          <a:xfrm>
            <a:off x="0" y="0"/>
            <a:ext cx="9144000" cy="6858000"/>
          </a:xfrm>
          <a:prstGeom prst="rect">
            <a:avLst/>
          </a:prstGeom>
          <a:solidFill>
            <a:srgbClr val="dcd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4"/>
          <p:cNvSpPr/>
          <p:nvPr/>
        </p:nvSpPr>
        <p:spPr>
          <a:xfrm>
            <a:off x="0" y="0"/>
            <a:ext cx="712800" cy="6858000"/>
          </a:xfrm>
          <a:prstGeom prst="rect">
            <a:avLst/>
          </a:prstGeom>
          <a:solidFill>
            <a:srgbClr val="b5a8a1"/>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5"/>
          <p:cNvSpPr/>
          <p:nvPr/>
        </p:nvSpPr>
        <p:spPr>
          <a:xfrm>
            <a:off x="8532720" y="0"/>
            <a:ext cx="619200" cy="6858000"/>
          </a:xfrm>
          <a:prstGeom prst="rect">
            <a:avLst/>
          </a:prstGeom>
          <a:solidFill>
            <a:srgbClr val="b5a8a1"/>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Unknown Shape"/>
          <p:cNvSpPr/>
          <p:nvPr/>
        </p:nvSpPr>
        <p:spPr>
          <a:xfrm>
            <a:off x="1414440" y="1073160"/>
            <a:ext cx="6265800" cy="4711680"/>
          </a:xfrm>
          <a:custGeom>
            <a:avLst/>
            <a:gdLst/>
            <a:ahLst/>
            <a:rect l="l" t="t" r="r" b="b"/>
            <a:pathLst>
              <a:path w="21600" h="21600">
                <a:moveTo>
                  <a:pt x="11034" y="20471"/>
                </a:moveTo>
                <a:lnTo>
                  <a:pt x="11034" y="20471"/>
                </a:lnTo>
                <a:lnTo>
                  <a:pt x="9911" y="20669"/>
                </a:lnTo>
                <a:lnTo>
                  <a:pt x="9911" y="20669"/>
                </a:lnTo>
                <a:lnTo>
                  <a:pt x="9693" y="20532"/>
                </a:lnTo>
                <a:lnTo>
                  <a:pt x="9476" y="20410"/>
                </a:lnTo>
                <a:lnTo>
                  <a:pt x="9258" y="20319"/>
                </a:lnTo>
                <a:lnTo>
                  <a:pt x="9029" y="20258"/>
                </a:lnTo>
                <a:lnTo>
                  <a:pt x="9029" y="20258"/>
                </a:lnTo>
                <a:lnTo>
                  <a:pt x="8926" y="20471"/>
                </a:lnTo>
                <a:lnTo>
                  <a:pt x="8834" y="20654"/>
                </a:lnTo>
                <a:lnTo>
                  <a:pt x="8754" y="20807"/>
                </a:lnTo>
                <a:lnTo>
                  <a:pt x="8651" y="20959"/>
                </a:lnTo>
                <a:lnTo>
                  <a:pt x="8616" y="21020"/>
                </a:lnTo>
                <a:lnTo>
                  <a:pt x="8570" y="21066"/>
                </a:lnTo>
                <a:lnTo>
                  <a:pt x="8502" y="21096"/>
                </a:lnTo>
                <a:lnTo>
                  <a:pt x="8433" y="21142"/>
                </a:lnTo>
                <a:lnTo>
                  <a:pt x="8376" y="21173"/>
                </a:lnTo>
                <a:lnTo>
                  <a:pt x="8296" y="21173"/>
                </a:lnTo>
                <a:lnTo>
                  <a:pt x="8216" y="21188"/>
                </a:lnTo>
                <a:lnTo>
                  <a:pt x="8112" y="21173"/>
                </a:lnTo>
                <a:lnTo>
                  <a:pt x="8112" y="21173"/>
                </a:lnTo>
                <a:lnTo>
                  <a:pt x="7814" y="21142"/>
                </a:lnTo>
                <a:lnTo>
                  <a:pt x="7505" y="21096"/>
                </a:lnTo>
                <a:lnTo>
                  <a:pt x="6909" y="21005"/>
                </a:lnTo>
                <a:lnTo>
                  <a:pt x="6313" y="20868"/>
                </a:lnTo>
                <a:lnTo>
                  <a:pt x="5717" y="20730"/>
                </a:lnTo>
                <a:lnTo>
                  <a:pt x="5717" y="20730"/>
                </a:lnTo>
                <a:lnTo>
                  <a:pt x="5511" y="20669"/>
                </a:lnTo>
                <a:lnTo>
                  <a:pt x="5328" y="20578"/>
                </a:lnTo>
                <a:lnTo>
                  <a:pt x="5144" y="20502"/>
                </a:lnTo>
                <a:lnTo>
                  <a:pt x="4995" y="20410"/>
                </a:lnTo>
                <a:lnTo>
                  <a:pt x="4858" y="20319"/>
                </a:lnTo>
                <a:lnTo>
                  <a:pt x="4732" y="20212"/>
                </a:lnTo>
                <a:lnTo>
                  <a:pt x="4617" y="20060"/>
                </a:lnTo>
                <a:lnTo>
                  <a:pt x="4503" y="19938"/>
                </a:lnTo>
                <a:lnTo>
                  <a:pt x="4400" y="19785"/>
                </a:lnTo>
                <a:lnTo>
                  <a:pt x="4308" y="19633"/>
                </a:lnTo>
                <a:lnTo>
                  <a:pt x="4216" y="19465"/>
                </a:lnTo>
                <a:lnTo>
                  <a:pt x="4113" y="19267"/>
                </a:lnTo>
                <a:lnTo>
                  <a:pt x="3666" y="18368"/>
                </a:lnTo>
                <a:lnTo>
                  <a:pt x="3666" y="18368"/>
                </a:lnTo>
                <a:lnTo>
                  <a:pt x="3620" y="18368"/>
                </a:lnTo>
                <a:lnTo>
                  <a:pt x="3575" y="18383"/>
                </a:lnTo>
                <a:lnTo>
                  <a:pt x="3529" y="18413"/>
                </a:lnTo>
                <a:lnTo>
                  <a:pt x="3483" y="18429"/>
                </a:lnTo>
                <a:lnTo>
                  <a:pt x="3403" y="18505"/>
                </a:lnTo>
                <a:lnTo>
                  <a:pt x="3322" y="18596"/>
                </a:lnTo>
                <a:lnTo>
                  <a:pt x="3231" y="18718"/>
                </a:lnTo>
                <a:lnTo>
                  <a:pt x="3162" y="18840"/>
                </a:lnTo>
                <a:lnTo>
                  <a:pt x="3001" y="19084"/>
                </a:lnTo>
                <a:lnTo>
                  <a:pt x="2910" y="19206"/>
                </a:lnTo>
                <a:lnTo>
                  <a:pt x="2818" y="19282"/>
                </a:lnTo>
                <a:lnTo>
                  <a:pt x="2715" y="19374"/>
                </a:lnTo>
                <a:lnTo>
                  <a:pt x="2658" y="19389"/>
                </a:lnTo>
                <a:lnTo>
                  <a:pt x="2612" y="19420"/>
                </a:lnTo>
                <a:lnTo>
                  <a:pt x="2555" y="19435"/>
                </a:lnTo>
                <a:lnTo>
                  <a:pt x="2497" y="19450"/>
                </a:lnTo>
                <a:lnTo>
                  <a:pt x="2429" y="19435"/>
                </a:lnTo>
                <a:lnTo>
                  <a:pt x="2371" y="19420"/>
                </a:lnTo>
                <a:lnTo>
                  <a:pt x="2291" y="19389"/>
                </a:lnTo>
                <a:lnTo>
                  <a:pt x="2234" y="19359"/>
                </a:lnTo>
                <a:lnTo>
                  <a:pt x="2154" y="19298"/>
                </a:lnTo>
                <a:lnTo>
                  <a:pt x="2062" y="19252"/>
                </a:lnTo>
                <a:lnTo>
                  <a:pt x="2062" y="19252"/>
                </a:lnTo>
                <a:lnTo>
                  <a:pt x="2119" y="19222"/>
                </a:lnTo>
                <a:lnTo>
                  <a:pt x="2154" y="19206"/>
                </a:lnTo>
                <a:lnTo>
                  <a:pt x="2188" y="19176"/>
                </a:lnTo>
                <a:lnTo>
                  <a:pt x="2200" y="19130"/>
                </a:lnTo>
                <a:lnTo>
                  <a:pt x="2200" y="19084"/>
                </a:lnTo>
                <a:lnTo>
                  <a:pt x="2188" y="19023"/>
                </a:lnTo>
                <a:lnTo>
                  <a:pt x="2154" y="18978"/>
                </a:lnTo>
                <a:lnTo>
                  <a:pt x="2131" y="18932"/>
                </a:lnTo>
                <a:lnTo>
                  <a:pt x="2062" y="18779"/>
                </a:lnTo>
                <a:lnTo>
                  <a:pt x="1936" y="18657"/>
                </a:lnTo>
                <a:lnTo>
                  <a:pt x="1810" y="18505"/>
                </a:lnTo>
                <a:lnTo>
                  <a:pt x="1661" y="18337"/>
                </a:lnTo>
                <a:lnTo>
                  <a:pt x="1328" y="18032"/>
                </a:lnTo>
                <a:lnTo>
                  <a:pt x="1008" y="17758"/>
                </a:lnTo>
                <a:lnTo>
                  <a:pt x="721" y="17545"/>
                </a:lnTo>
                <a:lnTo>
                  <a:pt x="618" y="17468"/>
                </a:lnTo>
                <a:lnTo>
                  <a:pt x="527" y="17423"/>
                </a:lnTo>
                <a:lnTo>
                  <a:pt x="527" y="17423"/>
                </a:lnTo>
                <a:lnTo>
                  <a:pt x="515" y="17529"/>
                </a:lnTo>
                <a:lnTo>
                  <a:pt x="503" y="17636"/>
                </a:lnTo>
                <a:lnTo>
                  <a:pt x="481" y="17682"/>
                </a:lnTo>
                <a:lnTo>
                  <a:pt x="458" y="17712"/>
                </a:lnTo>
                <a:lnTo>
                  <a:pt x="423" y="17727"/>
                </a:lnTo>
                <a:lnTo>
                  <a:pt x="366" y="17743"/>
                </a:lnTo>
                <a:lnTo>
                  <a:pt x="366" y="17743"/>
                </a:lnTo>
                <a:lnTo>
                  <a:pt x="297" y="17423"/>
                </a:lnTo>
                <a:lnTo>
                  <a:pt x="240" y="17133"/>
                </a:lnTo>
                <a:lnTo>
                  <a:pt x="217" y="17011"/>
                </a:lnTo>
                <a:lnTo>
                  <a:pt x="217" y="16904"/>
                </a:lnTo>
                <a:lnTo>
                  <a:pt x="217" y="16813"/>
                </a:lnTo>
                <a:lnTo>
                  <a:pt x="240" y="16737"/>
                </a:lnTo>
                <a:lnTo>
                  <a:pt x="274" y="16691"/>
                </a:lnTo>
                <a:lnTo>
                  <a:pt x="320" y="16630"/>
                </a:lnTo>
                <a:lnTo>
                  <a:pt x="378" y="16615"/>
                </a:lnTo>
                <a:lnTo>
                  <a:pt x="469" y="16600"/>
                </a:lnTo>
                <a:lnTo>
                  <a:pt x="561" y="16615"/>
                </a:lnTo>
                <a:lnTo>
                  <a:pt x="687" y="16630"/>
                </a:lnTo>
                <a:lnTo>
                  <a:pt x="836" y="16691"/>
                </a:lnTo>
                <a:lnTo>
                  <a:pt x="996" y="16737"/>
                </a:lnTo>
                <a:lnTo>
                  <a:pt x="996" y="16737"/>
                </a:lnTo>
                <a:lnTo>
                  <a:pt x="939" y="16615"/>
                </a:lnTo>
                <a:lnTo>
                  <a:pt x="905" y="16478"/>
                </a:lnTo>
                <a:lnTo>
                  <a:pt x="779" y="16234"/>
                </a:lnTo>
                <a:lnTo>
                  <a:pt x="641" y="16005"/>
                </a:lnTo>
                <a:lnTo>
                  <a:pt x="503" y="15761"/>
                </a:lnTo>
                <a:lnTo>
                  <a:pt x="366" y="15532"/>
                </a:lnTo>
                <a:lnTo>
                  <a:pt x="309" y="15410"/>
                </a:lnTo>
                <a:lnTo>
                  <a:pt x="263" y="15304"/>
                </a:lnTo>
                <a:lnTo>
                  <a:pt x="205" y="15151"/>
                </a:lnTo>
                <a:lnTo>
                  <a:pt x="160" y="15029"/>
                </a:lnTo>
                <a:lnTo>
                  <a:pt x="125" y="14892"/>
                </a:lnTo>
                <a:lnTo>
                  <a:pt x="102" y="14740"/>
                </a:lnTo>
                <a:lnTo>
                  <a:pt x="102" y="14740"/>
                </a:lnTo>
                <a:lnTo>
                  <a:pt x="80" y="14542"/>
                </a:lnTo>
                <a:lnTo>
                  <a:pt x="80" y="14374"/>
                </a:lnTo>
                <a:lnTo>
                  <a:pt x="91" y="14222"/>
                </a:lnTo>
                <a:lnTo>
                  <a:pt x="114" y="14115"/>
                </a:lnTo>
                <a:lnTo>
                  <a:pt x="137" y="14023"/>
                </a:lnTo>
                <a:lnTo>
                  <a:pt x="194" y="13947"/>
                </a:lnTo>
                <a:lnTo>
                  <a:pt x="251" y="13886"/>
                </a:lnTo>
                <a:lnTo>
                  <a:pt x="320" y="13856"/>
                </a:lnTo>
                <a:lnTo>
                  <a:pt x="469" y="13779"/>
                </a:lnTo>
                <a:lnTo>
                  <a:pt x="630" y="13688"/>
                </a:lnTo>
                <a:lnTo>
                  <a:pt x="710" y="13657"/>
                </a:lnTo>
                <a:lnTo>
                  <a:pt x="779" y="13596"/>
                </a:lnTo>
                <a:lnTo>
                  <a:pt x="870" y="13520"/>
                </a:lnTo>
                <a:lnTo>
                  <a:pt x="939" y="13429"/>
                </a:lnTo>
                <a:lnTo>
                  <a:pt x="939" y="13429"/>
                </a:lnTo>
                <a:lnTo>
                  <a:pt x="824" y="13337"/>
                </a:lnTo>
                <a:lnTo>
                  <a:pt x="710" y="13246"/>
                </a:lnTo>
                <a:lnTo>
                  <a:pt x="618" y="13124"/>
                </a:lnTo>
                <a:lnTo>
                  <a:pt x="538" y="13032"/>
                </a:lnTo>
                <a:lnTo>
                  <a:pt x="469" y="12911"/>
                </a:lnTo>
                <a:lnTo>
                  <a:pt x="412" y="12804"/>
                </a:lnTo>
                <a:lnTo>
                  <a:pt x="354" y="12667"/>
                </a:lnTo>
                <a:lnTo>
                  <a:pt x="320" y="12545"/>
                </a:lnTo>
                <a:lnTo>
                  <a:pt x="286" y="12408"/>
                </a:lnTo>
                <a:lnTo>
                  <a:pt x="263" y="12286"/>
                </a:lnTo>
                <a:lnTo>
                  <a:pt x="240" y="12133"/>
                </a:lnTo>
                <a:lnTo>
                  <a:pt x="229" y="11996"/>
                </a:lnTo>
                <a:lnTo>
                  <a:pt x="229" y="11706"/>
                </a:lnTo>
                <a:lnTo>
                  <a:pt x="240" y="11432"/>
                </a:lnTo>
                <a:lnTo>
                  <a:pt x="263" y="11127"/>
                </a:lnTo>
                <a:lnTo>
                  <a:pt x="286" y="10837"/>
                </a:lnTo>
                <a:lnTo>
                  <a:pt x="309" y="10548"/>
                </a:lnTo>
                <a:lnTo>
                  <a:pt x="320" y="10258"/>
                </a:lnTo>
                <a:lnTo>
                  <a:pt x="320" y="9999"/>
                </a:lnTo>
                <a:lnTo>
                  <a:pt x="320" y="9862"/>
                </a:lnTo>
                <a:lnTo>
                  <a:pt x="320" y="9740"/>
                </a:lnTo>
                <a:lnTo>
                  <a:pt x="297" y="9618"/>
                </a:lnTo>
                <a:lnTo>
                  <a:pt x="274" y="9481"/>
                </a:lnTo>
                <a:lnTo>
                  <a:pt x="240" y="9374"/>
                </a:lnTo>
                <a:lnTo>
                  <a:pt x="205" y="9252"/>
                </a:lnTo>
                <a:lnTo>
                  <a:pt x="205" y="9252"/>
                </a:lnTo>
                <a:lnTo>
                  <a:pt x="137" y="9100"/>
                </a:lnTo>
                <a:lnTo>
                  <a:pt x="91" y="8947"/>
                </a:lnTo>
                <a:lnTo>
                  <a:pt x="57" y="8795"/>
                </a:lnTo>
                <a:lnTo>
                  <a:pt x="22" y="8673"/>
                </a:lnTo>
                <a:lnTo>
                  <a:pt x="0" y="8551"/>
                </a:lnTo>
                <a:lnTo>
                  <a:pt x="0" y="8444"/>
                </a:lnTo>
                <a:lnTo>
                  <a:pt x="0" y="8353"/>
                </a:lnTo>
                <a:lnTo>
                  <a:pt x="11" y="8261"/>
                </a:lnTo>
                <a:lnTo>
                  <a:pt x="34" y="8200"/>
                </a:lnTo>
                <a:lnTo>
                  <a:pt x="57" y="8124"/>
                </a:lnTo>
                <a:lnTo>
                  <a:pt x="80" y="8078"/>
                </a:lnTo>
                <a:lnTo>
                  <a:pt x="125" y="8033"/>
                </a:lnTo>
                <a:lnTo>
                  <a:pt x="137" y="8002"/>
                </a:lnTo>
                <a:lnTo>
                  <a:pt x="194" y="7972"/>
                </a:lnTo>
                <a:lnTo>
                  <a:pt x="229" y="7941"/>
                </a:lnTo>
                <a:lnTo>
                  <a:pt x="274" y="7941"/>
                </a:lnTo>
                <a:lnTo>
                  <a:pt x="320" y="7941"/>
                </a:lnTo>
                <a:lnTo>
                  <a:pt x="354" y="7941"/>
                </a:lnTo>
                <a:lnTo>
                  <a:pt x="389" y="7956"/>
                </a:lnTo>
                <a:lnTo>
                  <a:pt x="423" y="7987"/>
                </a:lnTo>
                <a:lnTo>
                  <a:pt x="458" y="8017"/>
                </a:lnTo>
                <a:lnTo>
                  <a:pt x="492" y="8063"/>
                </a:lnTo>
                <a:lnTo>
                  <a:pt x="515" y="8109"/>
                </a:lnTo>
                <a:lnTo>
                  <a:pt x="515" y="8170"/>
                </a:lnTo>
                <a:lnTo>
                  <a:pt x="527" y="8200"/>
                </a:lnTo>
                <a:lnTo>
                  <a:pt x="527" y="8261"/>
                </a:lnTo>
                <a:lnTo>
                  <a:pt x="527" y="8353"/>
                </a:lnTo>
                <a:lnTo>
                  <a:pt x="515" y="8429"/>
                </a:lnTo>
                <a:lnTo>
                  <a:pt x="492" y="8490"/>
                </a:lnTo>
                <a:lnTo>
                  <a:pt x="435" y="8581"/>
                </a:lnTo>
                <a:lnTo>
                  <a:pt x="389" y="8673"/>
                </a:lnTo>
                <a:lnTo>
                  <a:pt x="320" y="8764"/>
                </a:lnTo>
                <a:lnTo>
                  <a:pt x="320" y="8764"/>
                </a:lnTo>
                <a:lnTo>
                  <a:pt x="412" y="8764"/>
                </a:lnTo>
                <a:lnTo>
                  <a:pt x="492" y="8749"/>
                </a:lnTo>
                <a:lnTo>
                  <a:pt x="549" y="8718"/>
                </a:lnTo>
                <a:lnTo>
                  <a:pt x="595" y="8703"/>
                </a:lnTo>
                <a:lnTo>
                  <a:pt x="641" y="8688"/>
                </a:lnTo>
                <a:lnTo>
                  <a:pt x="675" y="8627"/>
                </a:lnTo>
                <a:lnTo>
                  <a:pt x="710" y="8597"/>
                </a:lnTo>
                <a:lnTo>
                  <a:pt x="710" y="8536"/>
                </a:lnTo>
                <a:lnTo>
                  <a:pt x="744" y="8429"/>
                </a:lnTo>
                <a:lnTo>
                  <a:pt x="779" y="8261"/>
                </a:lnTo>
                <a:lnTo>
                  <a:pt x="801" y="8109"/>
                </a:lnTo>
                <a:lnTo>
                  <a:pt x="859" y="7926"/>
                </a:lnTo>
                <a:lnTo>
                  <a:pt x="859" y="7926"/>
                </a:lnTo>
                <a:lnTo>
                  <a:pt x="905" y="7804"/>
                </a:lnTo>
                <a:lnTo>
                  <a:pt x="916" y="7697"/>
                </a:lnTo>
                <a:lnTo>
                  <a:pt x="928" y="7621"/>
                </a:lnTo>
                <a:lnTo>
                  <a:pt x="928" y="7545"/>
                </a:lnTo>
                <a:lnTo>
                  <a:pt x="928" y="7469"/>
                </a:lnTo>
                <a:lnTo>
                  <a:pt x="916" y="7408"/>
                </a:lnTo>
                <a:lnTo>
                  <a:pt x="893" y="7362"/>
                </a:lnTo>
                <a:lnTo>
                  <a:pt x="859" y="7316"/>
                </a:lnTo>
                <a:lnTo>
                  <a:pt x="779" y="7210"/>
                </a:lnTo>
                <a:lnTo>
                  <a:pt x="664" y="7118"/>
                </a:lnTo>
                <a:lnTo>
                  <a:pt x="527" y="6996"/>
                </a:lnTo>
                <a:lnTo>
                  <a:pt x="366" y="6874"/>
                </a:lnTo>
                <a:lnTo>
                  <a:pt x="366" y="6874"/>
                </a:lnTo>
                <a:lnTo>
                  <a:pt x="664" y="6874"/>
                </a:lnTo>
                <a:lnTo>
                  <a:pt x="996" y="6844"/>
                </a:lnTo>
                <a:lnTo>
                  <a:pt x="1317" y="6798"/>
                </a:lnTo>
                <a:lnTo>
                  <a:pt x="1477" y="6767"/>
                </a:lnTo>
                <a:lnTo>
                  <a:pt x="1615" y="6722"/>
                </a:lnTo>
                <a:lnTo>
                  <a:pt x="1615" y="6722"/>
                </a:lnTo>
                <a:lnTo>
                  <a:pt x="1615" y="6615"/>
                </a:lnTo>
                <a:lnTo>
                  <a:pt x="1592" y="6478"/>
                </a:lnTo>
                <a:lnTo>
                  <a:pt x="1558" y="6264"/>
                </a:lnTo>
                <a:lnTo>
                  <a:pt x="1524" y="6066"/>
                </a:lnTo>
                <a:lnTo>
                  <a:pt x="1512" y="5975"/>
                </a:lnTo>
                <a:lnTo>
                  <a:pt x="1500" y="5883"/>
                </a:lnTo>
                <a:lnTo>
                  <a:pt x="1512" y="5822"/>
                </a:lnTo>
                <a:lnTo>
                  <a:pt x="1535" y="5746"/>
                </a:lnTo>
                <a:lnTo>
                  <a:pt x="1569" y="5670"/>
                </a:lnTo>
                <a:lnTo>
                  <a:pt x="1638" y="5624"/>
                </a:lnTo>
                <a:lnTo>
                  <a:pt x="1707" y="5578"/>
                </a:lnTo>
                <a:lnTo>
                  <a:pt x="1798" y="5517"/>
                </a:lnTo>
                <a:lnTo>
                  <a:pt x="1924" y="5487"/>
                </a:lnTo>
                <a:lnTo>
                  <a:pt x="2062" y="5441"/>
                </a:lnTo>
                <a:lnTo>
                  <a:pt x="2062" y="5441"/>
                </a:lnTo>
                <a:lnTo>
                  <a:pt x="2211" y="5411"/>
                </a:lnTo>
                <a:lnTo>
                  <a:pt x="2337" y="5380"/>
                </a:lnTo>
                <a:lnTo>
                  <a:pt x="2440" y="5350"/>
                </a:lnTo>
                <a:lnTo>
                  <a:pt x="2532" y="5304"/>
                </a:lnTo>
                <a:lnTo>
                  <a:pt x="2612" y="5258"/>
                </a:lnTo>
                <a:lnTo>
                  <a:pt x="2658" y="5197"/>
                </a:lnTo>
                <a:lnTo>
                  <a:pt x="2715" y="5121"/>
                </a:lnTo>
                <a:lnTo>
                  <a:pt x="2750" y="5060"/>
                </a:lnTo>
                <a:lnTo>
                  <a:pt x="2784" y="4969"/>
                </a:lnTo>
                <a:lnTo>
                  <a:pt x="2807" y="4862"/>
                </a:lnTo>
                <a:lnTo>
                  <a:pt x="2830" y="4633"/>
                </a:lnTo>
                <a:lnTo>
                  <a:pt x="2853" y="4328"/>
                </a:lnTo>
                <a:lnTo>
                  <a:pt x="2899" y="3962"/>
                </a:lnTo>
                <a:lnTo>
                  <a:pt x="2899" y="3962"/>
                </a:lnTo>
                <a:lnTo>
                  <a:pt x="3001" y="3993"/>
                </a:lnTo>
                <a:lnTo>
                  <a:pt x="3082" y="4008"/>
                </a:lnTo>
                <a:lnTo>
                  <a:pt x="3128" y="3993"/>
                </a:lnTo>
                <a:lnTo>
                  <a:pt x="3150" y="3978"/>
                </a:lnTo>
                <a:lnTo>
                  <a:pt x="3219" y="3947"/>
                </a:lnTo>
                <a:lnTo>
                  <a:pt x="3231" y="3871"/>
                </a:lnTo>
                <a:lnTo>
                  <a:pt x="3265" y="3795"/>
                </a:lnTo>
                <a:lnTo>
                  <a:pt x="3288" y="3703"/>
                </a:lnTo>
                <a:lnTo>
                  <a:pt x="3299" y="3612"/>
                </a:lnTo>
                <a:lnTo>
                  <a:pt x="3334" y="3414"/>
                </a:lnTo>
                <a:lnTo>
                  <a:pt x="3357" y="3307"/>
                </a:lnTo>
                <a:lnTo>
                  <a:pt x="3380" y="3216"/>
                </a:lnTo>
                <a:lnTo>
                  <a:pt x="3426" y="3124"/>
                </a:lnTo>
                <a:lnTo>
                  <a:pt x="3471" y="3063"/>
                </a:lnTo>
                <a:lnTo>
                  <a:pt x="3551" y="3018"/>
                </a:lnTo>
                <a:lnTo>
                  <a:pt x="3586" y="3002"/>
                </a:lnTo>
                <a:lnTo>
                  <a:pt x="3632" y="2987"/>
                </a:lnTo>
                <a:lnTo>
                  <a:pt x="3632" y="2987"/>
                </a:lnTo>
                <a:lnTo>
                  <a:pt x="3735" y="2941"/>
                </a:lnTo>
                <a:lnTo>
                  <a:pt x="3827" y="2880"/>
                </a:lnTo>
                <a:lnTo>
                  <a:pt x="3907" y="2804"/>
                </a:lnTo>
                <a:lnTo>
                  <a:pt x="3976" y="2713"/>
                </a:lnTo>
                <a:lnTo>
                  <a:pt x="4010" y="2591"/>
                </a:lnTo>
                <a:lnTo>
                  <a:pt x="4056" y="2469"/>
                </a:lnTo>
                <a:lnTo>
                  <a:pt x="4067" y="2301"/>
                </a:lnTo>
                <a:lnTo>
                  <a:pt x="4079" y="2149"/>
                </a:lnTo>
                <a:lnTo>
                  <a:pt x="4079" y="2149"/>
                </a:lnTo>
                <a:lnTo>
                  <a:pt x="4182" y="2164"/>
                </a:lnTo>
                <a:lnTo>
                  <a:pt x="4262" y="2194"/>
                </a:lnTo>
                <a:lnTo>
                  <a:pt x="4354" y="2179"/>
                </a:lnTo>
                <a:lnTo>
                  <a:pt x="4423" y="2149"/>
                </a:lnTo>
                <a:lnTo>
                  <a:pt x="4491" y="2118"/>
                </a:lnTo>
                <a:lnTo>
                  <a:pt x="4560" y="2057"/>
                </a:lnTo>
                <a:lnTo>
                  <a:pt x="4617" y="1981"/>
                </a:lnTo>
                <a:lnTo>
                  <a:pt x="4674" y="1889"/>
                </a:lnTo>
                <a:lnTo>
                  <a:pt x="4674" y="1889"/>
                </a:lnTo>
                <a:lnTo>
                  <a:pt x="4778" y="1737"/>
                </a:lnTo>
                <a:lnTo>
                  <a:pt x="4892" y="1600"/>
                </a:lnTo>
                <a:lnTo>
                  <a:pt x="5007" y="1493"/>
                </a:lnTo>
                <a:lnTo>
                  <a:pt x="5144" y="1402"/>
                </a:lnTo>
                <a:lnTo>
                  <a:pt x="5293" y="1310"/>
                </a:lnTo>
                <a:lnTo>
                  <a:pt x="5431" y="1249"/>
                </a:lnTo>
                <a:lnTo>
                  <a:pt x="5568" y="1203"/>
                </a:lnTo>
                <a:lnTo>
                  <a:pt x="5717" y="1158"/>
                </a:lnTo>
                <a:lnTo>
                  <a:pt x="6038" y="1082"/>
                </a:lnTo>
                <a:lnTo>
                  <a:pt x="6359" y="1005"/>
                </a:lnTo>
                <a:lnTo>
                  <a:pt x="6508" y="960"/>
                </a:lnTo>
                <a:lnTo>
                  <a:pt x="6668" y="914"/>
                </a:lnTo>
                <a:lnTo>
                  <a:pt x="6817" y="853"/>
                </a:lnTo>
                <a:lnTo>
                  <a:pt x="6966" y="777"/>
                </a:lnTo>
                <a:lnTo>
                  <a:pt x="6966" y="777"/>
                </a:lnTo>
                <a:lnTo>
                  <a:pt x="6978" y="807"/>
                </a:lnTo>
                <a:lnTo>
                  <a:pt x="7001" y="838"/>
                </a:lnTo>
                <a:lnTo>
                  <a:pt x="7046" y="883"/>
                </a:lnTo>
                <a:lnTo>
                  <a:pt x="7104" y="929"/>
                </a:lnTo>
                <a:lnTo>
                  <a:pt x="7207" y="944"/>
                </a:lnTo>
                <a:lnTo>
                  <a:pt x="7299" y="975"/>
                </a:lnTo>
                <a:lnTo>
                  <a:pt x="7425" y="990"/>
                </a:lnTo>
                <a:lnTo>
                  <a:pt x="7677" y="1005"/>
                </a:lnTo>
                <a:lnTo>
                  <a:pt x="7952" y="990"/>
                </a:lnTo>
                <a:lnTo>
                  <a:pt x="8216" y="990"/>
                </a:lnTo>
                <a:lnTo>
                  <a:pt x="8422" y="960"/>
                </a:lnTo>
                <a:lnTo>
                  <a:pt x="8570" y="929"/>
                </a:lnTo>
                <a:lnTo>
                  <a:pt x="8570" y="929"/>
                </a:lnTo>
                <a:lnTo>
                  <a:pt x="8628" y="944"/>
                </a:lnTo>
                <a:lnTo>
                  <a:pt x="8708" y="975"/>
                </a:lnTo>
                <a:lnTo>
                  <a:pt x="8777" y="990"/>
                </a:lnTo>
                <a:lnTo>
                  <a:pt x="8834" y="990"/>
                </a:lnTo>
                <a:lnTo>
                  <a:pt x="8995" y="990"/>
                </a:lnTo>
                <a:lnTo>
                  <a:pt x="9132" y="960"/>
                </a:lnTo>
                <a:lnTo>
                  <a:pt x="9270" y="899"/>
                </a:lnTo>
                <a:lnTo>
                  <a:pt x="9396" y="822"/>
                </a:lnTo>
                <a:lnTo>
                  <a:pt x="9533" y="731"/>
                </a:lnTo>
                <a:lnTo>
                  <a:pt x="9648" y="655"/>
                </a:lnTo>
                <a:lnTo>
                  <a:pt x="9648" y="655"/>
                </a:lnTo>
                <a:lnTo>
                  <a:pt x="9820" y="518"/>
                </a:lnTo>
                <a:lnTo>
                  <a:pt x="10003" y="426"/>
                </a:lnTo>
                <a:lnTo>
                  <a:pt x="10209" y="304"/>
                </a:lnTo>
                <a:lnTo>
                  <a:pt x="10416" y="213"/>
                </a:lnTo>
                <a:lnTo>
                  <a:pt x="10622" y="152"/>
                </a:lnTo>
                <a:lnTo>
                  <a:pt x="10828" y="76"/>
                </a:lnTo>
                <a:lnTo>
                  <a:pt x="11023" y="30"/>
                </a:lnTo>
                <a:lnTo>
                  <a:pt x="11229" y="0"/>
                </a:lnTo>
                <a:lnTo>
                  <a:pt x="11229" y="0"/>
                </a:lnTo>
                <a:lnTo>
                  <a:pt x="11332" y="0"/>
                </a:lnTo>
                <a:lnTo>
                  <a:pt x="11435" y="0"/>
                </a:lnTo>
                <a:lnTo>
                  <a:pt x="11515" y="15"/>
                </a:lnTo>
                <a:lnTo>
                  <a:pt x="11596" y="60"/>
                </a:lnTo>
                <a:lnTo>
                  <a:pt x="11664" y="91"/>
                </a:lnTo>
                <a:lnTo>
                  <a:pt x="11722" y="137"/>
                </a:lnTo>
                <a:lnTo>
                  <a:pt x="11848" y="228"/>
                </a:lnTo>
                <a:lnTo>
                  <a:pt x="11962" y="335"/>
                </a:lnTo>
                <a:lnTo>
                  <a:pt x="12031" y="381"/>
                </a:lnTo>
                <a:lnTo>
                  <a:pt x="12100" y="426"/>
                </a:lnTo>
                <a:lnTo>
                  <a:pt x="12192" y="472"/>
                </a:lnTo>
                <a:lnTo>
                  <a:pt x="12295" y="487"/>
                </a:lnTo>
                <a:lnTo>
                  <a:pt x="12409" y="502"/>
                </a:lnTo>
                <a:lnTo>
                  <a:pt x="12524" y="502"/>
                </a:lnTo>
                <a:lnTo>
                  <a:pt x="12524" y="502"/>
                </a:lnTo>
                <a:lnTo>
                  <a:pt x="12535" y="594"/>
                </a:lnTo>
                <a:lnTo>
                  <a:pt x="12547" y="685"/>
                </a:lnTo>
                <a:lnTo>
                  <a:pt x="12570" y="746"/>
                </a:lnTo>
                <a:lnTo>
                  <a:pt x="12604" y="807"/>
                </a:lnTo>
                <a:lnTo>
                  <a:pt x="12650" y="883"/>
                </a:lnTo>
                <a:lnTo>
                  <a:pt x="12684" y="944"/>
                </a:lnTo>
                <a:lnTo>
                  <a:pt x="12730" y="1005"/>
                </a:lnTo>
                <a:lnTo>
                  <a:pt x="12799" y="1051"/>
                </a:lnTo>
                <a:lnTo>
                  <a:pt x="12937" y="1173"/>
                </a:lnTo>
                <a:lnTo>
                  <a:pt x="13086" y="1249"/>
                </a:lnTo>
                <a:lnTo>
                  <a:pt x="13269" y="1341"/>
                </a:lnTo>
                <a:lnTo>
                  <a:pt x="13441" y="1417"/>
                </a:lnTo>
                <a:lnTo>
                  <a:pt x="13647" y="1493"/>
                </a:lnTo>
                <a:lnTo>
                  <a:pt x="13842" y="1539"/>
                </a:lnTo>
                <a:lnTo>
                  <a:pt x="14220" y="1645"/>
                </a:lnTo>
                <a:lnTo>
                  <a:pt x="14586" y="1752"/>
                </a:lnTo>
                <a:lnTo>
                  <a:pt x="14861" y="1828"/>
                </a:lnTo>
                <a:lnTo>
                  <a:pt x="14861" y="1828"/>
                </a:lnTo>
                <a:lnTo>
                  <a:pt x="14976" y="1874"/>
                </a:lnTo>
                <a:lnTo>
                  <a:pt x="15091" y="1889"/>
                </a:lnTo>
                <a:lnTo>
                  <a:pt x="15217" y="1920"/>
                </a:lnTo>
                <a:lnTo>
                  <a:pt x="15343" y="1935"/>
                </a:lnTo>
                <a:lnTo>
                  <a:pt x="15583" y="1935"/>
                </a:lnTo>
                <a:lnTo>
                  <a:pt x="15824" y="1920"/>
                </a:lnTo>
                <a:lnTo>
                  <a:pt x="16088" y="1889"/>
                </a:lnTo>
                <a:lnTo>
                  <a:pt x="16328" y="1859"/>
                </a:lnTo>
                <a:lnTo>
                  <a:pt x="16569" y="1813"/>
                </a:lnTo>
                <a:lnTo>
                  <a:pt x="16810" y="1798"/>
                </a:lnTo>
                <a:lnTo>
                  <a:pt x="16810" y="1798"/>
                </a:lnTo>
                <a:lnTo>
                  <a:pt x="18299" y="2606"/>
                </a:lnTo>
                <a:lnTo>
                  <a:pt x="18299" y="2606"/>
                </a:lnTo>
                <a:lnTo>
                  <a:pt x="18299" y="2667"/>
                </a:lnTo>
                <a:lnTo>
                  <a:pt x="18276" y="2713"/>
                </a:lnTo>
                <a:lnTo>
                  <a:pt x="18254" y="2758"/>
                </a:lnTo>
                <a:lnTo>
                  <a:pt x="18219" y="2789"/>
                </a:lnTo>
                <a:lnTo>
                  <a:pt x="18162" y="2804"/>
                </a:lnTo>
                <a:lnTo>
                  <a:pt x="18105" y="2835"/>
                </a:lnTo>
                <a:lnTo>
                  <a:pt x="18013" y="2850"/>
                </a:lnTo>
                <a:lnTo>
                  <a:pt x="17887" y="2880"/>
                </a:lnTo>
                <a:lnTo>
                  <a:pt x="17795" y="2880"/>
                </a:lnTo>
                <a:lnTo>
                  <a:pt x="17680" y="2880"/>
                </a:lnTo>
                <a:lnTo>
                  <a:pt x="17680" y="2880"/>
                </a:lnTo>
                <a:lnTo>
                  <a:pt x="18024" y="3079"/>
                </a:lnTo>
                <a:lnTo>
                  <a:pt x="18254" y="3200"/>
                </a:lnTo>
                <a:lnTo>
                  <a:pt x="18505" y="3353"/>
                </a:lnTo>
                <a:lnTo>
                  <a:pt x="18735" y="3536"/>
                </a:lnTo>
                <a:lnTo>
                  <a:pt x="18838" y="3612"/>
                </a:lnTo>
                <a:lnTo>
                  <a:pt x="18941" y="3703"/>
                </a:lnTo>
                <a:lnTo>
                  <a:pt x="19021" y="3795"/>
                </a:lnTo>
                <a:lnTo>
                  <a:pt x="19078" y="3871"/>
                </a:lnTo>
                <a:lnTo>
                  <a:pt x="19113" y="3962"/>
                </a:lnTo>
                <a:lnTo>
                  <a:pt x="19124" y="3993"/>
                </a:lnTo>
                <a:lnTo>
                  <a:pt x="19124" y="4039"/>
                </a:lnTo>
                <a:lnTo>
                  <a:pt x="19124" y="4039"/>
                </a:lnTo>
                <a:lnTo>
                  <a:pt x="18047" y="4100"/>
                </a:lnTo>
                <a:lnTo>
                  <a:pt x="18047" y="4100"/>
                </a:lnTo>
                <a:lnTo>
                  <a:pt x="18139" y="4115"/>
                </a:lnTo>
                <a:lnTo>
                  <a:pt x="18242" y="4130"/>
                </a:lnTo>
                <a:lnTo>
                  <a:pt x="18334" y="4191"/>
                </a:lnTo>
                <a:lnTo>
                  <a:pt x="18448" y="4267"/>
                </a:lnTo>
                <a:lnTo>
                  <a:pt x="18563" y="4328"/>
                </a:lnTo>
                <a:lnTo>
                  <a:pt x="18666" y="4435"/>
                </a:lnTo>
                <a:lnTo>
                  <a:pt x="18792" y="4557"/>
                </a:lnTo>
                <a:lnTo>
                  <a:pt x="18895" y="4649"/>
                </a:lnTo>
                <a:lnTo>
                  <a:pt x="19124" y="4893"/>
                </a:lnTo>
                <a:lnTo>
                  <a:pt x="19308" y="5136"/>
                </a:lnTo>
                <a:lnTo>
                  <a:pt x="19468" y="5365"/>
                </a:lnTo>
                <a:lnTo>
                  <a:pt x="19537" y="5487"/>
                </a:lnTo>
                <a:lnTo>
                  <a:pt x="19594" y="5594"/>
                </a:lnTo>
                <a:lnTo>
                  <a:pt x="19594" y="5594"/>
                </a:lnTo>
                <a:lnTo>
                  <a:pt x="19376" y="5517"/>
                </a:lnTo>
                <a:lnTo>
                  <a:pt x="19136" y="5441"/>
                </a:lnTo>
                <a:lnTo>
                  <a:pt x="18654" y="5304"/>
                </a:lnTo>
                <a:lnTo>
                  <a:pt x="18414" y="5228"/>
                </a:lnTo>
                <a:lnTo>
                  <a:pt x="18162" y="5152"/>
                </a:lnTo>
                <a:lnTo>
                  <a:pt x="17909" y="5121"/>
                </a:lnTo>
                <a:lnTo>
                  <a:pt x="17669" y="5106"/>
                </a:lnTo>
                <a:lnTo>
                  <a:pt x="17669" y="5106"/>
                </a:lnTo>
                <a:lnTo>
                  <a:pt x="16546" y="4572"/>
                </a:lnTo>
                <a:lnTo>
                  <a:pt x="16546" y="4572"/>
                </a:lnTo>
                <a:lnTo>
                  <a:pt x="16649" y="4694"/>
                </a:lnTo>
                <a:lnTo>
                  <a:pt x="16729" y="4801"/>
                </a:lnTo>
                <a:lnTo>
                  <a:pt x="16867" y="4877"/>
                </a:lnTo>
                <a:lnTo>
                  <a:pt x="16981" y="4954"/>
                </a:lnTo>
                <a:lnTo>
                  <a:pt x="17119" y="4999"/>
                </a:lnTo>
                <a:lnTo>
                  <a:pt x="17268" y="5060"/>
                </a:lnTo>
                <a:lnTo>
                  <a:pt x="17428" y="5091"/>
                </a:lnTo>
                <a:lnTo>
                  <a:pt x="17589" y="5106"/>
                </a:lnTo>
                <a:lnTo>
                  <a:pt x="17589" y="5106"/>
                </a:lnTo>
                <a:lnTo>
                  <a:pt x="17417" y="5106"/>
                </a:lnTo>
                <a:lnTo>
                  <a:pt x="17245" y="5136"/>
                </a:lnTo>
                <a:lnTo>
                  <a:pt x="17084" y="5182"/>
                </a:lnTo>
                <a:lnTo>
                  <a:pt x="16913" y="5258"/>
                </a:lnTo>
                <a:lnTo>
                  <a:pt x="16913" y="5258"/>
                </a:lnTo>
                <a:lnTo>
                  <a:pt x="18254" y="6462"/>
                </a:lnTo>
                <a:lnTo>
                  <a:pt x="18254" y="6462"/>
                </a:lnTo>
                <a:lnTo>
                  <a:pt x="18379" y="6386"/>
                </a:lnTo>
                <a:lnTo>
                  <a:pt x="18494" y="6340"/>
                </a:lnTo>
                <a:lnTo>
                  <a:pt x="18608" y="6310"/>
                </a:lnTo>
                <a:lnTo>
                  <a:pt x="18654" y="6295"/>
                </a:lnTo>
                <a:lnTo>
                  <a:pt x="18700" y="6310"/>
                </a:lnTo>
                <a:lnTo>
                  <a:pt x="18735" y="6325"/>
                </a:lnTo>
                <a:lnTo>
                  <a:pt x="18792" y="6340"/>
                </a:lnTo>
                <a:lnTo>
                  <a:pt x="18826" y="6371"/>
                </a:lnTo>
                <a:lnTo>
                  <a:pt x="18872" y="6401"/>
                </a:lnTo>
                <a:lnTo>
                  <a:pt x="18906" y="6447"/>
                </a:lnTo>
                <a:lnTo>
                  <a:pt x="18952" y="6523"/>
                </a:lnTo>
                <a:lnTo>
                  <a:pt x="19021" y="6661"/>
                </a:lnTo>
                <a:lnTo>
                  <a:pt x="19021" y="6661"/>
                </a:lnTo>
                <a:lnTo>
                  <a:pt x="19055" y="6767"/>
                </a:lnTo>
                <a:lnTo>
                  <a:pt x="19078" y="6859"/>
                </a:lnTo>
                <a:lnTo>
                  <a:pt x="19090" y="6935"/>
                </a:lnTo>
                <a:lnTo>
                  <a:pt x="19090" y="7027"/>
                </a:lnTo>
                <a:lnTo>
                  <a:pt x="19078" y="7103"/>
                </a:lnTo>
                <a:lnTo>
                  <a:pt x="19055" y="7164"/>
                </a:lnTo>
                <a:lnTo>
                  <a:pt x="19033" y="7225"/>
                </a:lnTo>
                <a:lnTo>
                  <a:pt x="19010" y="7271"/>
                </a:lnTo>
                <a:lnTo>
                  <a:pt x="18964" y="7316"/>
                </a:lnTo>
                <a:lnTo>
                  <a:pt x="18918" y="7332"/>
                </a:lnTo>
                <a:lnTo>
                  <a:pt x="18872" y="7347"/>
                </a:lnTo>
                <a:lnTo>
                  <a:pt x="18826" y="7347"/>
                </a:lnTo>
                <a:lnTo>
                  <a:pt x="18781" y="7316"/>
                </a:lnTo>
                <a:lnTo>
                  <a:pt x="18723" y="7286"/>
                </a:lnTo>
                <a:lnTo>
                  <a:pt x="18654" y="7225"/>
                </a:lnTo>
                <a:lnTo>
                  <a:pt x="18608" y="7149"/>
                </a:lnTo>
                <a:lnTo>
                  <a:pt x="18608" y="7149"/>
                </a:lnTo>
                <a:lnTo>
                  <a:pt x="18551" y="7194"/>
                </a:lnTo>
                <a:lnTo>
                  <a:pt x="18517" y="7240"/>
                </a:lnTo>
                <a:lnTo>
                  <a:pt x="18494" y="7301"/>
                </a:lnTo>
                <a:lnTo>
                  <a:pt x="18494" y="7377"/>
                </a:lnTo>
                <a:lnTo>
                  <a:pt x="18517" y="7438"/>
                </a:lnTo>
                <a:lnTo>
                  <a:pt x="18540" y="7530"/>
                </a:lnTo>
                <a:lnTo>
                  <a:pt x="18574" y="7652"/>
                </a:lnTo>
                <a:lnTo>
                  <a:pt x="18608" y="7758"/>
                </a:lnTo>
                <a:lnTo>
                  <a:pt x="18608" y="7758"/>
                </a:lnTo>
                <a:lnTo>
                  <a:pt x="18654" y="8033"/>
                </a:lnTo>
                <a:lnTo>
                  <a:pt x="18689" y="8139"/>
                </a:lnTo>
                <a:lnTo>
                  <a:pt x="18723" y="8216"/>
                </a:lnTo>
                <a:lnTo>
                  <a:pt x="18757" y="8261"/>
                </a:lnTo>
                <a:lnTo>
                  <a:pt x="18792" y="8322"/>
                </a:lnTo>
                <a:lnTo>
                  <a:pt x="18826" y="8353"/>
                </a:lnTo>
                <a:lnTo>
                  <a:pt x="18872" y="8353"/>
                </a:lnTo>
                <a:lnTo>
                  <a:pt x="18918" y="8353"/>
                </a:lnTo>
                <a:lnTo>
                  <a:pt x="18964" y="8353"/>
                </a:lnTo>
                <a:lnTo>
                  <a:pt x="19090" y="8322"/>
                </a:lnTo>
                <a:lnTo>
                  <a:pt x="19273" y="8261"/>
                </a:lnTo>
                <a:lnTo>
                  <a:pt x="19491" y="8216"/>
                </a:lnTo>
                <a:lnTo>
                  <a:pt x="19491" y="8216"/>
                </a:lnTo>
                <a:lnTo>
                  <a:pt x="19480" y="8261"/>
                </a:lnTo>
                <a:lnTo>
                  <a:pt x="19468" y="8276"/>
                </a:lnTo>
                <a:lnTo>
                  <a:pt x="19445" y="8322"/>
                </a:lnTo>
                <a:lnTo>
                  <a:pt x="19353" y="8398"/>
                </a:lnTo>
                <a:lnTo>
                  <a:pt x="19308" y="8444"/>
                </a:lnTo>
                <a:lnTo>
                  <a:pt x="19296" y="8475"/>
                </a:lnTo>
                <a:lnTo>
                  <a:pt x="19273" y="8520"/>
                </a:lnTo>
                <a:lnTo>
                  <a:pt x="19262" y="8566"/>
                </a:lnTo>
                <a:lnTo>
                  <a:pt x="19262" y="8612"/>
                </a:lnTo>
                <a:lnTo>
                  <a:pt x="19262" y="8703"/>
                </a:lnTo>
                <a:lnTo>
                  <a:pt x="19285" y="8764"/>
                </a:lnTo>
                <a:lnTo>
                  <a:pt x="19285" y="8764"/>
                </a:lnTo>
                <a:lnTo>
                  <a:pt x="19617" y="8932"/>
                </a:lnTo>
                <a:lnTo>
                  <a:pt x="19731" y="8962"/>
                </a:lnTo>
                <a:lnTo>
                  <a:pt x="19800" y="9023"/>
                </a:lnTo>
                <a:lnTo>
                  <a:pt x="19858" y="9069"/>
                </a:lnTo>
                <a:lnTo>
                  <a:pt x="19880" y="9115"/>
                </a:lnTo>
                <a:lnTo>
                  <a:pt x="19892" y="9145"/>
                </a:lnTo>
                <a:lnTo>
                  <a:pt x="19880" y="9191"/>
                </a:lnTo>
                <a:lnTo>
                  <a:pt x="19858" y="9267"/>
                </a:lnTo>
                <a:lnTo>
                  <a:pt x="19846" y="9328"/>
                </a:lnTo>
                <a:lnTo>
                  <a:pt x="19835" y="9389"/>
                </a:lnTo>
                <a:lnTo>
                  <a:pt x="19846" y="9481"/>
                </a:lnTo>
                <a:lnTo>
                  <a:pt x="19880" y="9572"/>
                </a:lnTo>
                <a:lnTo>
                  <a:pt x="19927" y="9710"/>
                </a:lnTo>
                <a:lnTo>
                  <a:pt x="20007" y="9847"/>
                </a:lnTo>
                <a:lnTo>
                  <a:pt x="20007" y="9847"/>
                </a:lnTo>
                <a:lnTo>
                  <a:pt x="20041" y="9801"/>
                </a:lnTo>
                <a:lnTo>
                  <a:pt x="20087" y="9740"/>
                </a:lnTo>
                <a:lnTo>
                  <a:pt x="20110" y="9694"/>
                </a:lnTo>
                <a:lnTo>
                  <a:pt x="20132" y="9618"/>
                </a:lnTo>
                <a:lnTo>
                  <a:pt x="20144" y="9527"/>
                </a:lnTo>
                <a:lnTo>
                  <a:pt x="20156" y="9450"/>
                </a:lnTo>
                <a:lnTo>
                  <a:pt x="20144" y="9237"/>
                </a:lnTo>
                <a:lnTo>
                  <a:pt x="20121" y="9039"/>
                </a:lnTo>
                <a:lnTo>
                  <a:pt x="20087" y="8810"/>
                </a:lnTo>
                <a:lnTo>
                  <a:pt x="20064" y="8612"/>
                </a:lnTo>
                <a:lnTo>
                  <a:pt x="20029" y="8414"/>
                </a:lnTo>
                <a:lnTo>
                  <a:pt x="20018" y="8231"/>
                </a:lnTo>
                <a:lnTo>
                  <a:pt x="20018" y="8170"/>
                </a:lnTo>
                <a:lnTo>
                  <a:pt x="20029" y="8094"/>
                </a:lnTo>
                <a:lnTo>
                  <a:pt x="20052" y="8033"/>
                </a:lnTo>
                <a:lnTo>
                  <a:pt x="20075" y="8002"/>
                </a:lnTo>
                <a:lnTo>
                  <a:pt x="20110" y="7956"/>
                </a:lnTo>
                <a:lnTo>
                  <a:pt x="20156" y="7941"/>
                </a:lnTo>
                <a:lnTo>
                  <a:pt x="20190" y="7941"/>
                </a:lnTo>
                <a:lnTo>
                  <a:pt x="20259" y="7956"/>
                </a:lnTo>
                <a:lnTo>
                  <a:pt x="20339" y="8002"/>
                </a:lnTo>
                <a:lnTo>
                  <a:pt x="20430" y="8063"/>
                </a:lnTo>
                <a:lnTo>
                  <a:pt x="20534" y="8139"/>
                </a:lnTo>
                <a:lnTo>
                  <a:pt x="20648" y="8231"/>
                </a:lnTo>
                <a:lnTo>
                  <a:pt x="20935" y="8490"/>
                </a:lnTo>
                <a:lnTo>
                  <a:pt x="20935" y="8490"/>
                </a:lnTo>
                <a:lnTo>
                  <a:pt x="20832" y="8520"/>
                </a:lnTo>
                <a:lnTo>
                  <a:pt x="20751" y="8551"/>
                </a:lnTo>
                <a:lnTo>
                  <a:pt x="20671" y="8612"/>
                </a:lnTo>
                <a:lnTo>
                  <a:pt x="20614" y="8688"/>
                </a:lnTo>
                <a:lnTo>
                  <a:pt x="20568" y="8764"/>
                </a:lnTo>
                <a:lnTo>
                  <a:pt x="20534" y="8856"/>
                </a:lnTo>
                <a:lnTo>
                  <a:pt x="20522" y="8962"/>
                </a:lnTo>
                <a:lnTo>
                  <a:pt x="20499" y="9054"/>
                </a:lnTo>
                <a:lnTo>
                  <a:pt x="20488" y="9191"/>
                </a:lnTo>
                <a:lnTo>
                  <a:pt x="20488" y="9298"/>
                </a:lnTo>
                <a:lnTo>
                  <a:pt x="20499" y="9450"/>
                </a:lnTo>
                <a:lnTo>
                  <a:pt x="20522" y="9588"/>
                </a:lnTo>
                <a:lnTo>
                  <a:pt x="20568" y="9892"/>
                </a:lnTo>
                <a:lnTo>
                  <a:pt x="20625" y="10213"/>
                </a:lnTo>
                <a:lnTo>
                  <a:pt x="20717" y="10517"/>
                </a:lnTo>
                <a:lnTo>
                  <a:pt x="20809" y="10837"/>
                </a:lnTo>
                <a:lnTo>
                  <a:pt x="20992" y="11462"/>
                </a:lnTo>
                <a:lnTo>
                  <a:pt x="21153" y="12011"/>
                </a:lnTo>
                <a:lnTo>
                  <a:pt x="21210" y="12225"/>
                </a:lnTo>
                <a:lnTo>
                  <a:pt x="21233" y="12408"/>
                </a:lnTo>
                <a:lnTo>
                  <a:pt x="21233" y="12408"/>
                </a:lnTo>
                <a:lnTo>
                  <a:pt x="21600" y="12484"/>
                </a:lnTo>
                <a:lnTo>
                  <a:pt x="21600" y="12484"/>
                </a:lnTo>
                <a:lnTo>
                  <a:pt x="21565" y="12575"/>
                </a:lnTo>
                <a:lnTo>
                  <a:pt x="21531" y="12636"/>
                </a:lnTo>
                <a:lnTo>
                  <a:pt x="21462" y="12712"/>
                </a:lnTo>
                <a:lnTo>
                  <a:pt x="21404" y="12789"/>
                </a:lnTo>
                <a:lnTo>
                  <a:pt x="21347" y="12819"/>
                </a:lnTo>
                <a:lnTo>
                  <a:pt x="21278" y="12895"/>
                </a:lnTo>
                <a:lnTo>
                  <a:pt x="21198" y="12941"/>
                </a:lnTo>
                <a:lnTo>
                  <a:pt x="21130" y="12987"/>
                </a:lnTo>
                <a:lnTo>
                  <a:pt x="21038" y="13002"/>
                </a:lnTo>
                <a:lnTo>
                  <a:pt x="20958" y="13032"/>
                </a:lnTo>
                <a:lnTo>
                  <a:pt x="20877" y="13048"/>
                </a:lnTo>
                <a:lnTo>
                  <a:pt x="20809" y="13048"/>
                </a:lnTo>
                <a:lnTo>
                  <a:pt x="20740" y="13048"/>
                </a:lnTo>
                <a:lnTo>
                  <a:pt x="20660" y="13017"/>
                </a:lnTo>
                <a:lnTo>
                  <a:pt x="20579" y="13002"/>
                </a:lnTo>
                <a:lnTo>
                  <a:pt x="20522" y="12956"/>
                </a:lnTo>
                <a:lnTo>
                  <a:pt x="20522" y="12956"/>
                </a:lnTo>
                <a:lnTo>
                  <a:pt x="20522" y="12682"/>
                </a:lnTo>
                <a:lnTo>
                  <a:pt x="20522" y="12575"/>
                </a:lnTo>
                <a:lnTo>
                  <a:pt x="20511" y="12438"/>
                </a:lnTo>
                <a:lnTo>
                  <a:pt x="20476" y="12331"/>
                </a:lnTo>
                <a:lnTo>
                  <a:pt x="20419" y="12240"/>
                </a:lnTo>
                <a:lnTo>
                  <a:pt x="20385" y="12194"/>
                </a:lnTo>
                <a:lnTo>
                  <a:pt x="20362" y="12149"/>
                </a:lnTo>
                <a:lnTo>
                  <a:pt x="20305" y="12118"/>
                </a:lnTo>
                <a:lnTo>
                  <a:pt x="20259" y="12072"/>
                </a:lnTo>
                <a:lnTo>
                  <a:pt x="20259" y="12072"/>
                </a:lnTo>
                <a:lnTo>
                  <a:pt x="20201" y="12255"/>
                </a:lnTo>
                <a:lnTo>
                  <a:pt x="20144" y="12438"/>
                </a:lnTo>
                <a:lnTo>
                  <a:pt x="19995" y="12804"/>
                </a:lnTo>
                <a:lnTo>
                  <a:pt x="19880" y="13154"/>
                </a:lnTo>
                <a:lnTo>
                  <a:pt x="19812" y="13337"/>
                </a:lnTo>
                <a:lnTo>
                  <a:pt x="19778" y="13520"/>
                </a:lnTo>
                <a:lnTo>
                  <a:pt x="19778" y="13520"/>
                </a:lnTo>
                <a:lnTo>
                  <a:pt x="19731" y="13688"/>
                </a:lnTo>
                <a:lnTo>
                  <a:pt x="19720" y="13856"/>
                </a:lnTo>
                <a:lnTo>
                  <a:pt x="19709" y="13947"/>
                </a:lnTo>
                <a:lnTo>
                  <a:pt x="19709" y="14039"/>
                </a:lnTo>
                <a:lnTo>
                  <a:pt x="19720" y="14084"/>
                </a:lnTo>
                <a:lnTo>
                  <a:pt x="19743" y="14115"/>
                </a:lnTo>
                <a:lnTo>
                  <a:pt x="19778" y="14145"/>
                </a:lnTo>
                <a:lnTo>
                  <a:pt x="19800" y="14161"/>
                </a:lnTo>
                <a:lnTo>
                  <a:pt x="19892" y="14191"/>
                </a:lnTo>
                <a:lnTo>
                  <a:pt x="19949" y="14206"/>
                </a:lnTo>
                <a:lnTo>
                  <a:pt x="19995" y="14237"/>
                </a:lnTo>
                <a:lnTo>
                  <a:pt x="20052" y="14298"/>
                </a:lnTo>
                <a:lnTo>
                  <a:pt x="20098" y="14359"/>
                </a:lnTo>
                <a:lnTo>
                  <a:pt x="20156" y="14450"/>
                </a:lnTo>
                <a:lnTo>
                  <a:pt x="20190" y="14557"/>
                </a:lnTo>
                <a:lnTo>
                  <a:pt x="20190" y="14557"/>
                </a:lnTo>
                <a:lnTo>
                  <a:pt x="20236" y="14740"/>
                </a:lnTo>
                <a:lnTo>
                  <a:pt x="20247" y="14831"/>
                </a:lnTo>
                <a:lnTo>
                  <a:pt x="20259" y="14908"/>
                </a:lnTo>
                <a:lnTo>
                  <a:pt x="20259" y="14984"/>
                </a:lnTo>
                <a:lnTo>
                  <a:pt x="20259" y="15075"/>
                </a:lnTo>
                <a:lnTo>
                  <a:pt x="20247" y="15136"/>
                </a:lnTo>
                <a:lnTo>
                  <a:pt x="20236" y="15182"/>
                </a:lnTo>
                <a:lnTo>
                  <a:pt x="20213" y="15243"/>
                </a:lnTo>
                <a:lnTo>
                  <a:pt x="20190" y="15304"/>
                </a:lnTo>
                <a:lnTo>
                  <a:pt x="20132" y="15395"/>
                </a:lnTo>
                <a:lnTo>
                  <a:pt x="20041" y="15471"/>
                </a:lnTo>
                <a:lnTo>
                  <a:pt x="19961" y="15532"/>
                </a:lnTo>
                <a:lnTo>
                  <a:pt x="19858" y="15593"/>
                </a:lnTo>
                <a:lnTo>
                  <a:pt x="19754" y="15624"/>
                </a:lnTo>
                <a:lnTo>
                  <a:pt x="19640" y="15654"/>
                </a:lnTo>
                <a:lnTo>
                  <a:pt x="19525" y="15654"/>
                </a:lnTo>
                <a:lnTo>
                  <a:pt x="19411" y="15654"/>
                </a:lnTo>
                <a:lnTo>
                  <a:pt x="19296" y="15654"/>
                </a:lnTo>
                <a:lnTo>
                  <a:pt x="19182" y="15624"/>
                </a:lnTo>
                <a:lnTo>
                  <a:pt x="19078" y="15593"/>
                </a:lnTo>
                <a:lnTo>
                  <a:pt x="19078" y="15593"/>
                </a:lnTo>
                <a:lnTo>
                  <a:pt x="19033" y="16035"/>
                </a:lnTo>
                <a:lnTo>
                  <a:pt x="19021" y="16264"/>
                </a:lnTo>
                <a:lnTo>
                  <a:pt x="18975" y="16462"/>
                </a:lnTo>
                <a:lnTo>
                  <a:pt x="18941" y="16691"/>
                </a:lnTo>
                <a:lnTo>
                  <a:pt x="18895" y="16874"/>
                </a:lnTo>
                <a:lnTo>
                  <a:pt x="18838" y="17057"/>
                </a:lnTo>
                <a:lnTo>
                  <a:pt x="18781" y="17240"/>
                </a:lnTo>
                <a:lnTo>
                  <a:pt x="18712" y="17407"/>
                </a:lnTo>
                <a:lnTo>
                  <a:pt x="18632" y="17560"/>
                </a:lnTo>
                <a:lnTo>
                  <a:pt x="18528" y="17712"/>
                </a:lnTo>
                <a:lnTo>
                  <a:pt x="18425" y="17819"/>
                </a:lnTo>
                <a:lnTo>
                  <a:pt x="18299" y="17941"/>
                </a:lnTo>
                <a:lnTo>
                  <a:pt x="18162" y="18032"/>
                </a:lnTo>
                <a:lnTo>
                  <a:pt x="18013" y="18108"/>
                </a:lnTo>
                <a:lnTo>
                  <a:pt x="17841" y="18169"/>
                </a:lnTo>
                <a:lnTo>
                  <a:pt x="17841" y="18169"/>
                </a:lnTo>
                <a:lnTo>
                  <a:pt x="17807" y="18230"/>
                </a:lnTo>
                <a:lnTo>
                  <a:pt x="17761" y="18261"/>
                </a:lnTo>
                <a:lnTo>
                  <a:pt x="17726" y="18337"/>
                </a:lnTo>
                <a:lnTo>
                  <a:pt x="17715" y="18398"/>
                </a:lnTo>
                <a:lnTo>
                  <a:pt x="17692" y="18505"/>
                </a:lnTo>
                <a:lnTo>
                  <a:pt x="17680" y="18642"/>
                </a:lnTo>
                <a:lnTo>
                  <a:pt x="17658" y="18764"/>
                </a:lnTo>
                <a:lnTo>
                  <a:pt x="17635" y="18825"/>
                </a:lnTo>
                <a:lnTo>
                  <a:pt x="17612" y="18886"/>
                </a:lnTo>
                <a:lnTo>
                  <a:pt x="17589" y="18947"/>
                </a:lnTo>
                <a:lnTo>
                  <a:pt x="17531" y="19008"/>
                </a:lnTo>
                <a:lnTo>
                  <a:pt x="17486" y="19054"/>
                </a:lnTo>
                <a:lnTo>
                  <a:pt x="17428" y="19115"/>
                </a:lnTo>
                <a:lnTo>
                  <a:pt x="17428" y="19115"/>
                </a:lnTo>
                <a:lnTo>
                  <a:pt x="17188" y="18947"/>
                </a:lnTo>
                <a:lnTo>
                  <a:pt x="17130" y="18901"/>
                </a:lnTo>
                <a:lnTo>
                  <a:pt x="17119" y="18871"/>
                </a:lnTo>
                <a:lnTo>
                  <a:pt x="17108" y="18856"/>
                </a:lnTo>
                <a:lnTo>
                  <a:pt x="17119" y="18825"/>
                </a:lnTo>
                <a:lnTo>
                  <a:pt x="17130" y="18795"/>
                </a:lnTo>
                <a:lnTo>
                  <a:pt x="17188" y="18718"/>
                </a:lnTo>
                <a:lnTo>
                  <a:pt x="17268" y="18596"/>
                </a:lnTo>
                <a:lnTo>
                  <a:pt x="17371" y="18429"/>
                </a:lnTo>
                <a:lnTo>
                  <a:pt x="17371" y="18429"/>
                </a:lnTo>
                <a:lnTo>
                  <a:pt x="17291" y="18459"/>
                </a:lnTo>
                <a:lnTo>
                  <a:pt x="17222" y="18490"/>
                </a:lnTo>
                <a:lnTo>
                  <a:pt x="17165" y="18505"/>
                </a:lnTo>
                <a:lnTo>
                  <a:pt x="17096" y="18551"/>
                </a:lnTo>
                <a:lnTo>
                  <a:pt x="17073" y="18596"/>
                </a:lnTo>
                <a:lnTo>
                  <a:pt x="17027" y="18657"/>
                </a:lnTo>
                <a:lnTo>
                  <a:pt x="16970" y="18749"/>
                </a:lnTo>
                <a:lnTo>
                  <a:pt x="16924" y="18871"/>
                </a:lnTo>
                <a:lnTo>
                  <a:pt x="16878" y="19008"/>
                </a:lnTo>
                <a:lnTo>
                  <a:pt x="16832" y="19069"/>
                </a:lnTo>
                <a:lnTo>
                  <a:pt x="16786" y="19130"/>
                </a:lnTo>
                <a:lnTo>
                  <a:pt x="16729" y="19206"/>
                </a:lnTo>
                <a:lnTo>
                  <a:pt x="16661" y="19267"/>
                </a:lnTo>
                <a:lnTo>
                  <a:pt x="16661" y="19267"/>
                </a:lnTo>
                <a:lnTo>
                  <a:pt x="16592" y="19328"/>
                </a:lnTo>
                <a:lnTo>
                  <a:pt x="16523" y="19374"/>
                </a:lnTo>
                <a:lnTo>
                  <a:pt x="16454" y="19420"/>
                </a:lnTo>
                <a:lnTo>
                  <a:pt x="16397" y="19435"/>
                </a:lnTo>
                <a:lnTo>
                  <a:pt x="16340" y="19435"/>
                </a:lnTo>
                <a:lnTo>
                  <a:pt x="16305" y="19435"/>
                </a:lnTo>
                <a:lnTo>
                  <a:pt x="16248" y="19404"/>
                </a:lnTo>
                <a:lnTo>
                  <a:pt x="16202" y="19374"/>
                </a:lnTo>
                <a:lnTo>
                  <a:pt x="16111" y="19313"/>
                </a:lnTo>
                <a:lnTo>
                  <a:pt x="16007" y="19252"/>
                </a:lnTo>
                <a:lnTo>
                  <a:pt x="15893" y="19176"/>
                </a:lnTo>
                <a:lnTo>
                  <a:pt x="15836" y="19145"/>
                </a:lnTo>
                <a:lnTo>
                  <a:pt x="15755" y="19115"/>
                </a:lnTo>
                <a:lnTo>
                  <a:pt x="15755" y="19115"/>
                </a:lnTo>
                <a:lnTo>
                  <a:pt x="15687" y="19115"/>
                </a:lnTo>
                <a:lnTo>
                  <a:pt x="15606" y="19115"/>
                </a:lnTo>
                <a:lnTo>
                  <a:pt x="15560" y="19115"/>
                </a:lnTo>
                <a:lnTo>
                  <a:pt x="15503" y="19130"/>
                </a:lnTo>
                <a:lnTo>
                  <a:pt x="15457" y="19145"/>
                </a:lnTo>
                <a:lnTo>
                  <a:pt x="15411" y="19191"/>
                </a:lnTo>
                <a:lnTo>
                  <a:pt x="15377" y="19222"/>
                </a:lnTo>
                <a:lnTo>
                  <a:pt x="15366" y="19267"/>
                </a:lnTo>
                <a:lnTo>
                  <a:pt x="15331" y="19313"/>
                </a:lnTo>
                <a:lnTo>
                  <a:pt x="15308" y="19374"/>
                </a:lnTo>
                <a:lnTo>
                  <a:pt x="15297" y="19496"/>
                </a:lnTo>
                <a:lnTo>
                  <a:pt x="15274" y="19633"/>
                </a:lnTo>
                <a:lnTo>
                  <a:pt x="15262" y="19770"/>
                </a:lnTo>
                <a:lnTo>
                  <a:pt x="15251" y="20029"/>
                </a:lnTo>
                <a:lnTo>
                  <a:pt x="15228" y="20166"/>
                </a:lnTo>
                <a:lnTo>
                  <a:pt x="15217" y="20288"/>
                </a:lnTo>
                <a:lnTo>
                  <a:pt x="15194" y="20319"/>
                </a:lnTo>
                <a:lnTo>
                  <a:pt x="15171" y="20365"/>
                </a:lnTo>
                <a:lnTo>
                  <a:pt x="15159" y="20410"/>
                </a:lnTo>
                <a:lnTo>
                  <a:pt x="15114" y="20441"/>
                </a:lnTo>
                <a:lnTo>
                  <a:pt x="15079" y="20471"/>
                </a:lnTo>
                <a:lnTo>
                  <a:pt x="15033" y="20486"/>
                </a:lnTo>
                <a:lnTo>
                  <a:pt x="14976" y="20486"/>
                </a:lnTo>
                <a:lnTo>
                  <a:pt x="14930" y="20486"/>
                </a:lnTo>
                <a:lnTo>
                  <a:pt x="14930" y="20486"/>
                </a:lnTo>
                <a:lnTo>
                  <a:pt x="14724" y="20471"/>
                </a:lnTo>
                <a:lnTo>
                  <a:pt x="14518" y="20471"/>
                </a:lnTo>
                <a:lnTo>
                  <a:pt x="14312" y="20486"/>
                </a:lnTo>
                <a:lnTo>
                  <a:pt x="14105" y="20517"/>
                </a:lnTo>
                <a:lnTo>
                  <a:pt x="13899" y="20547"/>
                </a:lnTo>
                <a:lnTo>
                  <a:pt x="13704" y="20593"/>
                </a:lnTo>
                <a:lnTo>
                  <a:pt x="13292" y="20700"/>
                </a:lnTo>
                <a:lnTo>
                  <a:pt x="13292" y="20700"/>
                </a:lnTo>
                <a:lnTo>
                  <a:pt x="13154" y="20746"/>
                </a:lnTo>
                <a:lnTo>
                  <a:pt x="13051" y="20776"/>
                </a:lnTo>
                <a:lnTo>
                  <a:pt x="12959" y="20822"/>
                </a:lnTo>
                <a:lnTo>
                  <a:pt x="12879" y="20868"/>
                </a:lnTo>
                <a:lnTo>
                  <a:pt x="12822" y="20944"/>
                </a:lnTo>
                <a:lnTo>
                  <a:pt x="12753" y="21035"/>
                </a:lnTo>
                <a:lnTo>
                  <a:pt x="12581" y="21340"/>
                </a:lnTo>
                <a:lnTo>
                  <a:pt x="12581" y="21340"/>
                </a:lnTo>
                <a:lnTo>
                  <a:pt x="12432" y="21203"/>
                </a:lnTo>
                <a:lnTo>
                  <a:pt x="12295" y="21112"/>
                </a:lnTo>
                <a:lnTo>
                  <a:pt x="12238" y="21081"/>
                </a:lnTo>
                <a:lnTo>
                  <a:pt x="12192" y="21081"/>
                </a:lnTo>
                <a:lnTo>
                  <a:pt x="12146" y="21081"/>
                </a:lnTo>
                <a:lnTo>
                  <a:pt x="12111" y="21081"/>
                </a:lnTo>
                <a:lnTo>
                  <a:pt x="12089" y="21112"/>
                </a:lnTo>
                <a:lnTo>
                  <a:pt x="12065" y="21157"/>
                </a:lnTo>
                <a:lnTo>
                  <a:pt x="12054" y="21188"/>
                </a:lnTo>
                <a:lnTo>
                  <a:pt x="12043" y="21264"/>
                </a:lnTo>
                <a:lnTo>
                  <a:pt x="12031" y="21325"/>
                </a:lnTo>
                <a:lnTo>
                  <a:pt x="12043" y="21417"/>
                </a:lnTo>
                <a:lnTo>
                  <a:pt x="12077" y="21600"/>
                </a:lnTo>
                <a:lnTo>
                  <a:pt x="12077" y="21600"/>
                </a:lnTo>
                <a:lnTo>
                  <a:pt x="11997" y="21600"/>
                </a:lnTo>
                <a:lnTo>
                  <a:pt x="11905" y="21569"/>
                </a:lnTo>
                <a:lnTo>
                  <a:pt x="11825" y="21539"/>
                </a:lnTo>
                <a:lnTo>
                  <a:pt x="11722" y="21493"/>
                </a:lnTo>
                <a:lnTo>
                  <a:pt x="11642" y="21432"/>
                </a:lnTo>
                <a:lnTo>
                  <a:pt x="11550" y="21340"/>
                </a:lnTo>
                <a:lnTo>
                  <a:pt x="11458" y="21279"/>
                </a:lnTo>
                <a:lnTo>
                  <a:pt x="11366" y="21188"/>
                </a:lnTo>
                <a:lnTo>
                  <a:pt x="11298" y="21096"/>
                </a:lnTo>
                <a:lnTo>
                  <a:pt x="11217" y="21020"/>
                </a:lnTo>
                <a:lnTo>
                  <a:pt x="11149" y="20913"/>
                </a:lnTo>
                <a:lnTo>
                  <a:pt x="11103" y="20822"/>
                </a:lnTo>
                <a:lnTo>
                  <a:pt x="11069" y="20730"/>
                </a:lnTo>
                <a:lnTo>
                  <a:pt x="11034" y="20624"/>
                </a:lnTo>
                <a:lnTo>
                  <a:pt x="11023" y="20547"/>
                </a:lnTo>
                <a:lnTo>
                  <a:pt x="11034" y="20471"/>
                </a:lnTo>
                <a:close/>
                <a:moveTo>
                  <a:pt x="8513" y="20929"/>
                </a:moveTo>
                <a:lnTo>
                  <a:pt x="8513" y="20929"/>
                </a:lnTo>
                <a:lnTo>
                  <a:pt x="8662" y="20471"/>
                </a:lnTo>
                <a:lnTo>
                  <a:pt x="8662" y="20471"/>
                </a:lnTo>
                <a:lnTo>
                  <a:pt x="8559" y="20502"/>
                </a:lnTo>
                <a:lnTo>
                  <a:pt x="8433" y="20502"/>
                </a:lnTo>
                <a:lnTo>
                  <a:pt x="8330" y="20502"/>
                </a:lnTo>
                <a:lnTo>
                  <a:pt x="8227" y="20486"/>
                </a:lnTo>
                <a:lnTo>
                  <a:pt x="8101" y="20456"/>
                </a:lnTo>
                <a:lnTo>
                  <a:pt x="8009" y="20426"/>
                </a:lnTo>
                <a:lnTo>
                  <a:pt x="7791" y="20334"/>
                </a:lnTo>
                <a:lnTo>
                  <a:pt x="7574" y="20243"/>
                </a:lnTo>
                <a:lnTo>
                  <a:pt x="7356" y="20151"/>
                </a:lnTo>
                <a:lnTo>
                  <a:pt x="7264" y="20121"/>
                </a:lnTo>
                <a:lnTo>
                  <a:pt x="7150" y="20090"/>
                </a:lnTo>
                <a:lnTo>
                  <a:pt x="7035" y="20060"/>
                </a:lnTo>
                <a:lnTo>
                  <a:pt x="6921" y="20060"/>
                </a:lnTo>
                <a:lnTo>
                  <a:pt x="6921" y="20060"/>
                </a:lnTo>
                <a:lnTo>
                  <a:pt x="6921" y="20136"/>
                </a:lnTo>
                <a:lnTo>
                  <a:pt x="6932" y="20212"/>
                </a:lnTo>
                <a:lnTo>
                  <a:pt x="6932" y="20288"/>
                </a:lnTo>
                <a:lnTo>
                  <a:pt x="6955" y="20334"/>
                </a:lnTo>
                <a:lnTo>
                  <a:pt x="7012" y="20471"/>
                </a:lnTo>
                <a:lnTo>
                  <a:pt x="7070" y="20563"/>
                </a:lnTo>
                <a:lnTo>
                  <a:pt x="7161" y="20669"/>
                </a:lnTo>
                <a:lnTo>
                  <a:pt x="7264" y="20746"/>
                </a:lnTo>
                <a:lnTo>
                  <a:pt x="7367" y="20807"/>
                </a:lnTo>
                <a:lnTo>
                  <a:pt x="7493" y="20837"/>
                </a:lnTo>
                <a:lnTo>
                  <a:pt x="7620" y="20898"/>
                </a:lnTo>
                <a:lnTo>
                  <a:pt x="7746" y="20929"/>
                </a:lnTo>
                <a:lnTo>
                  <a:pt x="7872" y="20944"/>
                </a:lnTo>
                <a:lnTo>
                  <a:pt x="8009" y="20959"/>
                </a:lnTo>
                <a:lnTo>
                  <a:pt x="8273" y="20959"/>
                </a:lnTo>
                <a:lnTo>
                  <a:pt x="8513" y="20929"/>
                </a:lnTo>
                <a:close/>
                <a:moveTo>
                  <a:pt x="12581" y="20471"/>
                </a:moveTo>
                <a:lnTo>
                  <a:pt x="12581" y="20471"/>
                </a:lnTo>
                <a:lnTo>
                  <a:pt x="12581" y="20410"/>
                </a:lnTo>
                <a:lnTo>
                  <a:pt x="12570" y="20380"/>
                </a:lnTo>
                <a:lnTo>
                  <a:pt x="12524" y="20319"/>
                </a:lnTo>
                <a:lnTo>
                  <a:pt x="12455" y="20243"/>
                </a:lnTo>
                <a:lnTo>
                  <a:pt x="12363" y="20166"/>
                </a:lnTo>
                <a:lnTo>
                  <a:pt x="12272" y="20105"/>
                </a:lnTo>
                <a:lnTo>
                  <a:pt x="12146" y="20029"/>
                </a:lnTo>
                <a:lnTo>
                  <a:pt x="11871" y="19923"/>
                </a:lnTo>
                <a:lnTo>
                  <a:pt x="11584" y="19801"/>
                </a:lnTo>
                <a:lnTo>
                  <a:pt x="11309" y="19724"/>
                </a:lnTo>
                <a:lnTo>
                  <a:pt x="11092" y="19633"/>
                </a:lnTo>
                <a:lnTo>
                  <a:pt x="10931" y="19572"/>
                </a:lnTo>
                <a:lnTo>
                  <a:pt x="10931" y="19572"/>
                </a:lnTo>
                <a:lnTo>
                  <a:pt x="10954" y="19755"/>
                </a:lnTo>
                <a:lnTo>
                  <a:pt x="11011" y="19892"/>
                </a:lnTo>
                <a:lnTo>
                  <a:pt x="11057" y="20029"/>
                </a:lnTo>
                <a:lnTo>
                  <a:pt x="11126" y="20136"/>
                </a:lnTo>
                <a:lnTo>
                  <a:pt x="11195" y="20227"/>
                </a:lnTo>
                <a:lnTo>
                  <a:pt x="11286" y="20288"/>
                </a:lnTo>
                <a:lnTo>
                  <a:pt x="11366" y="20334"/>
                </a:lnTo>
                <a:lnTo>
                  <a:pt x="11481" y="20395"/>
                </a:lnTo>
                <a:lnTo>
                  <a:pt x="11584" y="20410"/>
                </a:lnTo>
                <a:lnTo>
                  <a:pt x="11699" y="20441"/>
                </a:lnTo>
                <a:lnTo>
                  <a:pt x="11916" y="20456"/>
                </a:lnTo>
                <a:lnTo>
                  <a:pt x="12157" y="20456"/>
                </a:lnTo>
                <a:lnTo>
                  <a:pt x="12398" y="20456"/>
                </a:lnTo>
                <a:lnTo>
                  <a:pt x="12398" y="20456"/>
                </a:lnTo>
                <a:lnTo>
                  <a:pt x="12581" y="20471"/>
                </a:lnTo>
                <a:close/>
                <a:moveTo>
                  <a:pt x="9487" y="19892"/>
                </a:moveTo>
                <a:lnTo>
                  <a:pt x="9487" y="19892"/>
                </a:lnTo>
                <a:lnTo>
                  <a:pt x="9591" y="19968"/>
                </a:lnTo>
                <a:lnTo>
                  <a:pt x="9751" y="20044"/>
                </a:lnTo>
                <a:lnTo>
                  <a:pt x="9911" y="20136"/>
                </a:lnTo>
                <a:lnTo>
                  <a:pt x="10083" y="20227"/>
                </a:lnTo>
                <a:lnTo>
                  <a:pt x="10163" y="20258"/>
                </a:lnTo>
                <a:lnTo>
                  <a:pt x="10255" y="20288"/>
                </a:lnTo>
                <a:lnTo>
                  <a:pt x="10347" y="20288"/>
                </a:lnTo>
                <a:lnTo>
                  <a:pt x="10416" y="20288"/>
                </a:lnTo>
                <a:lnTo>
                  <a:pt x="10484" y="20288"/>
                </a:lnTo>
                <a:lnTo>
                  <a:pt x="10541" y="20243"/>
                </a:lnTo>
                <a:lnTo>
                  <a:pt x="10587" y="20197"/>
                </a:lnTo>
                <a:lnTo>
                  <a:pt x="10633" y="20121"/>
                </a:lnTo>
                <a:lnTo>
                  <a:pt x="10633" y="20121"/>
                </a:lnTo>
                <a:lnTo>
                  <a:pt x="10645" y="19984"/>
                </a:lnTo>
                <a:lnTo>
                  <a:pt x="10645" y="19801"/>
                </a:lnTo>
                <a:lnTo>
                  <a:pt x="10622" y="19633"/>
                </a:lnTo>
                <a:lnTo>
                  <a:pt x="10599" y="19542"/>
                </a:lnTo>
                <a:lnTo>
                  <a:pt x="10576" y="19481"/>
                </a:lnTo>
                <a:lnTo>
                  <a:pt x="10553" y="19420"/>
                </a:lnTo>
                <a:lnTo>
                  <a:pt x="10519" y="19374"/>
                </a:lnTo>
                <a:lnTo>
                  <a:pt x="10473" y="19328"/>
                </a:lnTo>
                <a:lnTo>
                  <a:pt x="10427" y="19313"/>
                </a:lnTo>
                <a:lnTo>
                  <a:pt x="10358" y="19313"/>
                </a:lnTo>
                <a:lnTo>
                  <a:pt x="10312" y="19328"/>
                </a:lnTo>
                <a:lnTo>
                  <a:pt x="10232" y="19374"/>
                </a:lnTo>
                <a:lnTo>
                  <a:pt x="10152" y="19450"/>
                </a:lnTo>
                <a:lnTo>
                  <a:pt x="10152" y="19450"/>
                </a:lnTo>
                <a:lnTo>
                  <a:pt x="10186" y="19542"/>
                </a:lnTo>
                <a:lnTo>
                  <a:pt x="10198" y="19663"/>
                </a:lnTo>
                <a:lnTo>
                  <a:pt x="10186" y="19770"/>
                </a:lnTo>
                <a:lnTo>
                  <a:pt x="10163" y="19846"/>
                </a:lnTo>
                <a:lnTo>
                  <a:pt x="10152" y="19923"/>
                </a:lnTo>
                <a:lnTo>
                  <a:pt x="10118" y="19984"/>
                </a:lnTo>
                <a:lnTo>
                  <a:pt x="10083" y="20029"/>
                </a:lnTo>
                <a:lnTo>
                  <a:pt x="10026" y="20044"/>
                </a:lnTo>
                <a:lnTo>
                  <a:pt x="9991" y="20044"/>
                </a:lnTo>
                <a:lnTo>
                  <a:pt x="9957" y="20014"/>
                </a:lnTo>
                <a:lnTo>
                  <a:pt x="9923" y="19968"/>
                </a:lnTo>
                <a:lnTo>
                  <a:pt x="9889" y="19877"/>
                </a:lnTo>
                <a:lnTo>
                  <a:pt x="9877" y="19755"/>
                </a:lnTo>
                <a:lnTo>
                  <a:pt x="9865" y="19603"/>
                </a:lnTo>
                <a:lnTo>
                  <a:pt x="9877" y="19404"/>
                </a:lnTo>
                <a:lnTo>
                  <a:pt x="9911" y="19176"/>
                </a:lnTo>
                <a:lnTo>
                  <a:pt x="9911" y="19176"/>
                </a:lnTo>
                <a:lnTo>
                  <a:pt x="9820" y="19145"/>
                </a:lnTo>
                <a:lnTo>
                  <a:pt x="9740" y="19130"/>
                </a:lnTo>
                <a:lnTo>
                  <a:pt x="9648" y="19115"/>
                </a:lnTo>
                <a:lnTo>
                  <a:pt x="9567" y="19130"/>
                </a:lnTo>
                <a:lnTo>
                  <a:pt x="9361" y="19161"/>
                </a:lnTo>
                <a:lnTo>
                  <a:pt x="9155" y="19206"/>
                </a:lnTo>
                <a:lnTo>
                  <a:pt x="8960" y="19237"/>
                </a:lnTo>
                <a:lnTo>
                  <a:pt x="8788" y="19252"/>
                </a:lnTo>
                <a:lnTo>
                  <a:pt x="8697" y="19252"/>
                </a:lnTo>
                <a:lnTo>
                  <a:pt x="8616" y="19237"/>
                </a:lnTo>
                <a:lnTo>
                  <a:pt x="8559" y="19206"/>
                </a:lnTo>
                <a:lnTo>
                  <a:pt x="8502" y="19176"/>
                </a:lnTo>
                <a:lnTo>
                  <a:pt x="8502" y="19176"/>
                </a:lnTo>
                <a:lnTo>
                  <a:pt x="7963" y="18688"/>
                </a:lnTo>
                <a:lnTo>
                  <a:pt x="7654" y="18413"/>
                </a:lnTo>
                <a:lnTo>
                  <a:pt x="7344" y="18139"/>
                </a:lnTo>
                <a:lnTo>
                  <a:pt x="7024" y="17895"/>
                </a:lnTo>
                <a:lnTo>
                  <a:pt x="6863" y="17773"/>
                </a:lnTo>
                <a:lnTo>
                  <a:pt x="6703" y="17682"/>
                </a:lnTo>
                <a:lnTo>
                  <a:pt x="6543" y="17590"/>
                </a:lnTo>
                <a:lnTo>
                  <a:pt x="6394" y="17514"/>
                </a:lnTo>
                <a:lnTo>
                  <a:pt x="6245" y="17453"/>
                </a:lnTo>
                <a:lnTo>
                  <a:pt x="6096" y="17423"/>
                </a:lnTo>
                <a:lnTo>
                  <a:pt x="6096" y="17423"/>
                </a:lnTo>
                <a:lnTo>
                  <a:pt x="6107" y="17590"/>
                </a:lnTo>
                <a:lnTo>
                  <a:pt x="6130" y="17727"/>
                </a:lnTo>
                <a:lnTo>
                  <a:pt x="6164" y="17865"/>
                </a:lnTo>
                <a:lnTo>
                  <a:pt x="6221" y="17987"/>
                </a:lnTo>
                <a:lnTo>
                  <a:pt x="6267" y="18093"/>
                </a:lnTo>
                <a:lnTo>
                  <a:pt x="6313" y="18200"/>
                </a:lnTo>
                <a:lnTo>
                  <a:pt x="6428" y="18368"/>
                </a:lnTo>
                <a:lnTo>
                  <a:pt x="6474" y="18474"/>
                </a:lnTo>
                <a:lnTo>
                  <a:pt x="6496" y="18551"/>
                </a:lnTo>
                <a:lnTo>
                  <a:pt x="6519" y="18657"/>
                </a:lnTo>
                <a:lnTo>
                  <a:pt x="6519" y="18749"/>
                </a:lnTo>
                <a:lnTo>
                  <a:pt x="6496" y="18871"/>
                </a:lnTo>
                <a:lnTo>
                  <a:pt x="6474" y="19008"/>
                </a:lnTo>
                <a:lnTo>
                  <a:pt x="6394" y="19145"/>
                </a:lnTo>
                <a:lnTo>
                  <a:pt x="6302" y="19298"/>
                </a:lnTo>
                <a:lnTo>
                  <a:pt x="6302" y="19298"/>
                </a:lnTo>
                <a:lnTo>
                  <a:pt x="6394" y="19450"/>
                </a:lnTo>
                <a:lnTo>
                  <a:pt x="6496" y="19542"/>
                </a:lnTo>
                <a:lnTo>
                  <a:pt x="6577" y="19633"/>
                </a:lnTo>
                <a:lnTo>
                  <a:pt x="6657" y="19724"/>
                </a:lnTo>
                <a:lnTo>
                  <a:pt x="6737" y="19770"/>
                </a:lnTo>
                <a:lnTo>
                  <a:pt x="6829" y="19801"/>
                </a:lnTo>
                <a:lnTo>
                  <a:pt x="6909" y="19846"/>
                </a:lnTo>
                <a:lnTo>
                  <a:pt x="7001" y="19877"/>
                </a:lnTo>
                <a:lnTo>
                  <a:pt x="7173" y="19892"/>
                </a:lnTo>
                <a:lnTo>
                  <a:pt x="7367" y="19938"/>
                </a:lnTo>
                <a:lnTo>
                  <a:pt x="7585" y="19984"/>
                </a:lnTo>
                <a:lnTo>
                  <a:pt x="7711" y="20014"/>
                </a:lnTo>
                <a:lnTo>
                  <a:pt x="7837" y="20060"/>
                </a:lnTo>
                <a:lnTo>
                  <a:pt x="7837" y="20060"/>
                </a:lnTo>
                <a:lnTo>
                  <a:pt x="7929" y="20075"/>
                </a:lnTo>
                <a:lnTo>
                  <a:pt x="8032" y="20105"/>
                </a:lnTo>
                <a:lnTo>
                  <a:pt x="8124" y="20105"/>
                </a:lnTo>
                <a:lnTo>
                  <a:pt x="8227" y="20105"/>
                </a:lnTo>
                <a:lnTo>
                  <a:pt x="8296" y="20090"/>
                </a:lnTo>
                <a:lnTo>
                  <a:pt x="8387" y="20060"/>
                </a:lnTo>
                <a:lnTo>
                  <a:pt x="8548" y="20029"/>
                </a:lnTo>
                <a:lnTo>
                  <a:pt x="8857" y="19892"/>
                </a:lnTo>
                <a:lnTo>
                  <a:pt x="9006" y="19831"/>
                </a:lnTo>
                <a:lnTo>
                  <a:pt x="9098" y="19816"/>
                </a:lnTo>
                <a:lnTo>
                  <a:pt x="9189" y="19816"/>
                </a:lnTo>
                <a:lnTo>
                  <a:pt x="9189" y="19816"/>
                </a:lnTo>
                <a:lnTo>
                  <a:pt x="9258" y="19816"/>
                </a:lnTo>
                <a:lnTo>
                  <a:pt x="9338" y="19831"/>
                </a:lnTo>
                <a:lnTo>
                  <a:pt x="9407" y="19862"/>
                </a:lnTo>
                <a:lnTo>
                  <a:pt x="9487" y="19892"/>
                </a:lnTo>
                <a:close/>
                <a:moveTo>
                  <a:pt x="13509" y="20121"/>
                </a:moveTo>
                <a:lnTo>
                  <a:pt x="13509" y="20121"/>
                </a:lnTo>
                <a:lnTo>
                  <a:pt x="13544" y="20060"/>
                </a:lnTo>
                <a:lnTo>
                  <a:pt x="13555" y="20060"/>
                </a:lnTo>
                <a:lnTo>
                  <a:pt x="13532" y="20044"/>
                </a:lnTo>
                <a:lnTo>
                  <a:pt x="13509" y="19984"/>
                </a:lnTo>
                <a:lnTo>
                  <a:pt x="13509" y="19984"/>
                </a:lnTo>
                <a:lnTo>
                  <a:pt x="13509" y="20121"/>
                </a:lnTo>
                <a:close/>
                <a:moveTo>
                  <a:pt x="5568" y="20121"/>
                </a:moveTo>
                <a:lnTo>
                  <a:pt x="5568" y="20121"/>
                </a:lnTo>
                <a:lnTo>
                  <a:pt x="5637" y="20075"/>
                </a:lnTo>
                <a:lnTo>
                  <a:pt x="5649" y="20060"/>
                </a:lnTo>
                <a:lnTo>
                  <a:pt x="5649" y="20060"/>
                </a:lnTo>
                <a:lnTo>
                  <a:pt x="5637" y="19984"/>
                </a:lnTo>
                <a:lnTo>
                  <a:pt x="5637" y="19984"/>
                </a:lnTo>
                <a:lnTo>
                  <a:pt x="5568" y="20121"/>
                </a:lnTo>
                <a:close/>
                <a:moveTo>
                  <a:pt x="13979" y="20060"/>
                </a:moveTo>
                <a:lnTo>
                  <a:pt x="13979" y="20060"/>
                </a:lnTo>
                <a:lnTo>
                  <a:pt x="14082" y="20029"/>
                </a:lnTo>
                <a:lnTo>
                  <a:pt x="14197" y="19984"/>
                </a:lnTo>
                <a:lnTo>
                  <a:pt x="14289" y="19923"/>
                </a:lnTo>
                <a:lnTo>
                  <a:pt x="14392" y="19862"/>
                </a:lnTo>
                <a:lnTo>
                  <a:pt x="14483" y="19785"/>
                </a:lnTo>
                <a:lnTo>
                  <a:pt x="14563" y="19709"/>
                </a:lnTo>
                <a:lnTo>
                  <a:pt x="14632" y="19618"/>
                </a:lnTo>
                <a:lnTo>
                  <a:pt x="14701" y="19526"/>
                </a:lnTo>
                <a:lnTo>
                  <a:pt x="14759" y="19435"/>
                </a:lnTo>
                <a:lnTo>
                  <a:pt x="14793" y="19313"/>
                </a:lnTo>
                <a:lnTo>
                  <a:pt x="14816" y="19206"/>
                </a:lnTo>
                <a:lnTo>
                  <a:pt x="14827" y="19100"/>
                </a:lnTo>
                <a:lnTo>
                  <a:pt x="14827" y="18993"/>
                </a:lnTo>
                <a:lnTo>
                  <a:pt x="14793" y="18871"/>
                </a:lnTo>
                <a:lnTo>
                  <a:pt x="14770" y="18749"/>
                </a:lnTo>
                <a:lnTo>
                  <a:pt x="14701" y="18627"/>
                </a:lnTo>
                <a:lnTo>
                  <a:pt x="14701" y="18627"/>
                </a:lnTo>
                <a:lnTo>
                  <a:pt x="14678" y="18749"/>
                </a:lnTo>
                <a:lnTo>
                  <a:pt x="14655" y="18856"/>
                </a:lnTo>
                <a:lnTo>
                  <a:pt x="14632" y="18962"/>
                </a:lnTo>
                <a:lnTo>
                  <a:pt x="14598" y="19054"/>
                </a:lnTo>
                <a:lnTo>
                  <a:pt x="14518" y="19252"/>
                </a:lnTo>
                <a:lnTo>
                  <a:pt x="14415" y="19404"/>
                </a:lnTo>
                <a:lnTo>
                  <a:pt x="14300" y="19557"/>
                </a:lnTo>
                <a:lnTo>
                  <a:pt x="14208" y="19724"/>
                </a:lnTo>
                <a:lnTo>
                  <a:pt x="14082" y="19892"/>
                </a:lnTo>
                <a:lnTo>
                  <a:pt x="13979" y="20060"/>
                </a:lnTo>
                <a:close/>
                <a:moveTo>
                  <a:pt x="13246" y="19984"/>
                </a:moveTo>
                <a:lnTo>
                  <a:pt x="13246" y="19984"/>
                </a:lnTo>
                <a:lnTo>
                  <a:pt x="13337" y="19877"/>
                </a:lnTo>
                <a:lnTo>
                  <a:pt x="13349" y="19846"/>
                </a:lnTo>
                <a:lnTo>
                  <a:pt x="13349" y="19831"/>
                </a:lnTo>
                <a:lnTo>
                  <a:pt x="13349" y="19831"/>
                </a:lnTo>
                <a:lnTo>
                  <a:pt x="13303" y="19892"/>
                </a:lnTo>
                <a:lnTo>
                  <a:pt x="13280" y="19938"/>
                </a:lnTo>
                <a:lnTo>
                  <a:pt x="13246" y="19984"/>
                </a:lnTo>
                <a:close/>
                <a:moveTo>
                  <a:pt x="4445" y="18764"/>
                </a:moveTo>
                <a:lnTo>
                  <a:pt x="4445" y="18764"/>
                </a:lnTo>
                <a:lnTo>
                  <a:pt x="4445" y="19298"/>
                </a:lnTo>
                <a:lnTo>
                  <a:pt x="4445" y="19298"/>
                </a:lnTo>
                <a:lnTo>
                  <a:pt x="4503" y="19328"/>
                </a:lnTo>
                <a:lnTo>
                  <a:pt x="4560" y="19374"/>
                </a:lnTo>
                <a:lnTo>
                  <a:pt x="4721" y="19526"/>
                </a:lnTo>
                <a:lnTo>
                  <a:pt x="4915" y="19694"/>
                </a:lnTo>
                <a:lnTo>
                  <a:pt x="4995" y="19770"/>
                </a:lnTo>
                <a:lnTo>
                  <a:pt x="5099" y="19846"/>
                </a:lnTo>
                <a:lnTo>
                  <a:pt x="5190" y="19892"/>
                </a:lnTo>
                <a:lnTo>
                  <a:pt x="5293" y="19953"/>
                </a:lnTo>
                <a:lnTo>
                  <a:pt x="5351" y="19968"/>
                </a:lnTo>
                <a:lnTo>
                  <a:pt x="5397" y="19968"/>
                </a:lnTo>
                <a:lnTo>
                  <a:pt x="5431" y="19953"/>
                </a:lnTo>
                <a:lnTo>
                  <a:pt x="5465" y="19923"/>
                </a:lnTo>
                <a:lnTo>
                  <a:pt x="5500" y="19892"/>
                </a:lnTo>
                <a:lnTo>
                  <a:pt x="5522" y="19862"/>
                </a:lnTo>
                <a:lnTo>
                  <a:pt x="5534" y="19801"/>
                </a:lnTo>
                <a:lnTo>
                  <a:pt x="5557" y="19770"/>
                </a:lnTo>
                <a:lnTo>
                  <a:pt x="5568" y="19694"/>
                </a:lnTo>
                <a:lnTo>
                  <a:pt x="5568" y="19603"/>
                </a:lnTo>
                <a:lnTo>
                  <a:pt x="5568" y="19511"/>
                </a:lnTo>
                <a:lnTo>
                  <a:pt x="5568" y="19511"/>
                </a:lnTo>
                <a:lnTo>
                  <a:pt x="5546" y="19481"/>
                </a:lnTo>
                <a:lnTo>
                  <a:pt x="5522" y="19465"/>
                </a:lnTo>
                <a:lnTo>
                  <a:pt x="5500" y="19465"/>
                </a:lnTo>
                <a:lnTo>
                  <a:pt x="5454" y="19465"/>
                </a:lnTo>
                <a:lnTo>
                  <a:pt x="5397" y="19511"/>
                </a:lnTo>
                <a:lnTo>
                  <a:pt x="5328" y="19542"/>
                </a:lnTo>
                <a:lnTo>
                  <a:pt x="5248" y="19587"/>
                </a:lnTo>
                <a:lnTo>
                  <a:pt x="5213" y="19603"/>
                </a:lnTo>
                <a:lnTo>
                  <a:pt x="5156" y="19618"/>
                </a:lnTo>
                <a:lnTo>
                  <a:pt x="5121" y="19618"/>
                </a:lnTo>
                <a:lnTo>
                  <a:pt x="5076" y="19587"/>
                </a:lnTo>
                <a:lnTo>
                  <a:pt x="5007" y="19557"/>
                </a:lnTo>
                <a:lnTo>
                  <a:pt x="4950" y="19511"/>
                </a:lnTo>
                <a:lnTo>
                  <a:pt x="4950" y="19511"/>
                </a:lnTo>
                <a:lnTo>
                  <a:pt x="5007" y="19328"/>
                </a:lnTo>
                <a:lnTo>
                  <a:pt x="5041" y="19176"/>
                </a:lnTo>
                <a:lnTo>
                  <a:pt x="5053" y="19115"/>
                </a:lnTo>
                <a:lnTo>
                  <a:pt x="5041" y="19039"/>
                </a:lnTo>
                <a:lnTo>
                  <a:pt x="5041" y="18993"/>
                </a:lnTo>
                <a:lnTo>
                  <a:pt x="5018" y="18947"/>
                </a:lnTo>
                <a:lnTo>
                  <a:pt x="4995" y="18886"/>
                </a:lnTo>
                <a:lnTo>
                  <a:pt x="4972" y="18856"/>
                </a:lnTo>
                <a:lnTo>
                  <a:pt x="4950" y="18810"/>
                </a:lnTo>
                <a:lnTo>
                  <a:pt x="4915" y="18779"/>
                </a:lnTo>
                <a:lnTo>
                  <a:pt x="4858" y="18764"/>
                </a:lnTo>
                <a:lnTo>
                  <a:pt x="4801" y="18749"/>
                </a:lnTo>
                <a:lnTo>
                  <a:pt x="4697" y="18749"/>
                </a:lnTo>
                <a:lnTo>
                  <a:pt x="4697" y="18749"/>
                </a:lnTo>
                <a:lnTo>
                  <a:pt x="4572" y="18749"/>
                </a:lnTo>
                <a:lnTo>
                  <a:pt x="4445" y="18764"/>
                </a:lnTo>
                <a:close/>
                <a:moveTo>
                  <a:pt x="12283" y="19648"/>
                </a:moveTo>
                <a:lnTo>
                  <a:pt x="12283" y="19648"/>
                </a:lnTo>
                <a:lnTo>
                  <a:pt x="12157" y="19679"/>
                </a:lnTo>
                <a:lnTo>
                  <a:pt x="12043" y="19679"/>
                </a:lnTo>
                <a:lnTo>
                  <a:pt x="11928" y="19633"/>
                </a:lnTo>
                <a:lnTo>
                  <a:pt x="11813" y="19572"/>
                </a:lnTo>
                <a:lnTo>
                  <a:pt x="11813" y="19572"/>
                </a:lnTo>
                <a:lnTo>
                  <a:pt x="11768" y="19648"/>
                </a:lnTo>
                <a:lnTo>
                  <a:pt x="11745" y="19724"/>
                </a:lnTo>
                <a:lnTo>
                  <a:pt x="11745" y="19770"/>
                </a:lnTo>
                <a:lnTo>
                  <a:pt x="11768" y="19801"/>
                </a:lnTo>
                <a:lnTo>
                  <a:pt x="11791" y="19846"/>
                </a:lnTo>
                <a:lnTo>
                  <a:pt x="11836" y="19892"/>
                </a:lnTo>
                <a:lnTo>
                  <a:pt x="11882" y="19907"/>
                </a:lnTo>
                <a:lnTo>
                  <a:pt x="11940" y="19923"/>
                </a:lnTo>
                <a:lnTo>
                  <a:pt x="11997" y="19923"/>
                </a:lnTo>
                <a:lnTo>
                  <a:pt x="12065" y="19923"/>
                </a:lnTo>
                <a:lnTo>
                  <a:pt x="12111" y="19907"/>
                </a:lnTo>
                <a:lnTo>
                  <a:pt x="12157" y="19892"/>
                </a:lnTo>
                <a:lnTo>
                  <a:pt x="12214" y="19831"/>
                </a:lnTo>
                <a:lnTo>
                  <a:pt x="12249" y="19785"/>
                </a:lnTo>
                <a:lnTo>
                  <a:pt x="12272" y="19724"/>
                </a:lnTo>
                <a:lnTo>
                  <a:pt x="12283" y="19648"/>
                </a:lnTo>
                <a:close/>
                <a:moveTo>
                  <a:pt x="12375" y="19846"/>
                </a:moveTo>
                <a:lnTo>
                  <a:pt x="12375" y="19846"/>
                </a:lnTo>
                <a:lnTo>
                  <a:pt x="12444" y="19877"/>
                </a:lnTo>
                <a:lnTo>
                  <a:pt x="12490" y="19877"/>
                </a:lnTo>
                <a:lnTo>
                  <a:pt x="12535" y="19877"/>
                </a:lnTo>
                <a:lnTo>
                  <a:pt x="12593" y="19846"/>
                </a:lnTo>
                <a:lnTo>
                  <a:pt x="12639" y="19801"/>
                </a:lnTo>
                <a:lnTo>
                  <a:pt x="12661" y="19770"/>
                </a:lnTo>
                <a:lnTo>
                  <a:pt x="12707" y="19724"/>
                </a:lnTo>
                <a:lnTo>
                  <a:pt x="12730" y="19648"/>
                </a:lnTo>
                <a:lnTo>
                  <a:pt x="12730" y="19648"/>
                </a:lnTo>
                <a:lnTo>
                  <a:pt x="12753" y="19557"/>
                </a:lnTo>
                <a:lnTo>
                  <a:pt x="12753" y="19481"/>
                </a:lnTo>
                <a:lnTo>
                  <a:pt x="12742" y="19420"/>
                </a:lnTo>
                <a:lnTo>
                  <a:pt x="12730" y="19359"/>
                </a:lnTo>
                <a:lnTo>
                  <a:pt x="12696" y="19282"/>
                </a:lnTo>
                <a:lnTo>
                  <a:pt x="12661" y="19252"/>
                </a:lnTo>
                <a:lnTo>
                  <a:pt x="12604" y="19206"/>
                </a:lnTo>
                <a:lnTo>
                  <a:pt x="12524" y="19176"/>
                </a:lnTo>
                <a:lnTo>
                  <a:pt x="12524" y="19176"/>
                </a:lnTo>
                <a:lnTo>
                  <a:pt x="12512" y="19359"/>
                </a:lnTo>
                <a:lnTo>
                  <a:pt x="12467" y="19511"/>
                </a:lnTo>
                <a:lnTo>
                  <a:pt x="12444" y="19694"/>
                </a:lnTo>
                <a:lnTo>
                  <a:pt x="12375" y="19846"/>
                </a:lnTo>
                <a:close/>
                <a:moveTo>
                  <a:pt x="12890" y="19846"/>
                </a:moveTo>
                <a:lnTo>
                  <a:pt x="12890" y="19846"/>
                </a:lnTo>
                <a:lnTo>
                  <a:pt x="12937" y="19801"/>
                </a:lnTo>
                <a:lnTo>
                  <a:pt x="12937" y="19785"/>
                </a:lnTo>
                <a:lnTo>
                  <a:pt x="12937" y="19770"/>
                </a:lnTo>
                <a:lnTo>
                  <a:pt x="12937" y="19770"/>
                </a:lnTo>
                <a:lnTo>
                  <a:pt x="12937" y="19724"/>
                </a:lnTo>
                <a:lnTo>
                  <a:pt x="12937" y="19724"/>
                </a:lnTo>
                <a:lnTo>
                  <a:pt x="12890" y="19846"/>
                </a:lnTo>
                <a:close/>
                <a:moveTo>
                  <a:pt x="11756" y="19298"/>
                </a:moveTo>
                <a:lnTo>
                  <a:pt x="11756" y="19298"/>
                </a:lnTo>
                <a:lnTo>
                  <a:pt x="11137" y="19252"/>
                </a:lnTo>
                <a:lnTo>
                  <a:pt x="11137" y="19252"/>
                </a:lnTo>
                <a:lnTo>
                  <a:pt x="11298" y="19420"/>
                </a:lnTo>
                <a:lnTo>
                  <a:pt x="11401" y="19511"/>
                </a:lnTo>
                <a:lnTo>
                  <a:pt x="11504" y="19587"/>
                </a:lnTo>
                <a:lnTo>
                  <a:pt x="11562" y="19633"/>
                </a:lnTo>
                <a:lnTo>
                  <a:pt x="11607" y="19633"/>
                </a:lnTo>
                <a:lnTo>
                  <a:pt x="11653" y="19633"/>
                </a:lnTo>
                <a:lnTo>
                  <a:pt x="11687" y="19618"/>
                </a:lnTo>
                <a:lnTo>
                  <a:pt x="11722" y="19572"/>
                </a:lnTo>
                <a:lnTo>
                  <a:pt x="11733" y="19511"/>
                </a:lnTo>
                <a:lnTo>
                  <a:pt x="11756" y="19435"/>
                </a:lnTo>
                <a:lnTo>
                  <a:pt x="11756" y="19298"/>
                </a:lnTo>
                <a:close/>
                <a:moveTo>
                  <a:pt x="13773" y="19572"/>
                </a:moveTo>
                <a:lnTo>
                  <a:pt x="13773" y="19572"/>
                </a:lnTo>
                <a:lnTo>
                  <a:pt x="13819" y="19526"/>
                </a:lnTo>
                <a:lnTo>
                  <a:pt x="13865" y="19481"/>
                </a:lnTo>
                <a:lnTo>
                  <a:pt x="13945" y="19328"/>
                </a:lnTo>
                <a:lnTo>
                  <a:pt x="14014" y="19176"/>
                </a:lnTo>
                <a:lnTo>
                  <a:pt x="14048" y="19084"/>
                </a:lnTo>
                <a:lnTo>
                  <a:pt x="14082" y="18993"/>
                </a:lnTo>
                <a:lnTo>
                  <a:pt x="14082" y="18901"/>
                </a:lnTo>
                <a:lnTo>
                  <a:pt x="14094" y="18810"/>
                </a:lnTo>
                <a:lnTo>
                  <a:pt x="14094" y="18734"/>
                </a:lnTo>
                <a:lnTo>
                  <a:pt x="14082" y="18642"/>
                </a:lnTo>
                <a:lnTo>
                  <a:pt x="14071" y="18551"/>
                </a:lnTo>
                <a:lnTo>
                  <a:pt x="14025" y="18490"/>
                </a:lnTo>
                <a:lnTo>
                  <a:pt x="13991" y="18429"/>
                </a:lnTo>
                <a:lnTo>
                  <a:pt x="13933" y="18368"/>
                </a:lnTo>
                <a:lnTo>
                  <a:pt x="13933" y="18368"/>
                </a:lnTo>
                <a:lnTo>
                  <a:pt x="13910" y="18490"/>
                </a:lnTo>
                <a:lnTo>
                  <a:pt x="13876" y="18673"/>
                </a:lnTo>
                <a:lnTo>
                  <a:pt x="13807" y="19039"/>
                </a:lnTo>
                <a:lnTo>
                  <a:pt x="13773" y="19237"/>
                </a:lnTo>
                <a:lnTo>
                  <a:pt x="13738" y="19389"/>
                </a:lnTo>
                <a:lnTo>
                  <a:pt x="13738" y="19465"/>
                </a:lnTo>
                <a:lnTo>
                  <a:pt x="13738" y="19511"/>
                </a:lnTo>
                <a:lnTo>
                  <a:pt x="13750" y="19542"/>
                </a:lnTo>
                <a:lnTo>
                  <a:pt x="13773" y="19572"/>
                </a:lnTo>
                <a:close/>
                <a:moveTo>
                  <a:pt x="12226" y="19450"/>
                </a:moveTo>
                <a:lnTo>
                  <a:pt x="12226" y="19450"/>
                </a:lnTo>
                <a:lnTo>
                  <a:pt x="12295" y="19282"/>
                </a:lnTo>
                <a:lnTo>
                  <a:pt x="12329" y="19222"/>
                </a:lnTo>
                <a:lnTo>
                  <a:pt x="12341" y="19161"/>
                </a:lnTo>
                <a:lnTo>
                  <a:pt x="12352" y="19115"/>
                </a:lnTo>
                <a:lnTo>
                  <a:pt x="12341" y="19084"/>
                </a:lnTo>
                <a:lnTo>
                  <a:pt x="12329" y="19054"/>
                </a:lnTo>
                <a:lnTo>
                  <a:pt x="12306" y="19039"/>
                </a:lnTo>
                <a:lnTo>
                  <a:pt x="12283" y="19039"/>
                </a:lnTo>
                <a:lnTo>
                  <a:pt x="12260" y="19054"/>
                </a:lnTo>
                <a:lnTo>
                  <a:pt x="12226" y="19084"/>
                </a:lnTo>
                <a:lnTo>
                  <a:pt x="12169" y="19115"/>
                </a:lnTo>
                <a:lnTo>
                  <a:pt x="12089" y="19222"/>
                </a:lnTo>
                <a:lnTo>
                  <a:pt x="11962" y="19374"/>
                </a:lnTo>
                <a:lnTo>
                  <a:pt x="11962" y="19374"/>
                </a:lnTo>
                <a:lnTo>
                  <a:pt x="12020" y="19374"/>
                </a:lnTo>
                <a:lnTo>
                  <a:pt x="12020" y="19374"/>
                </a:lnTo>
                <a:lnTo>
                  <a:pt x="12077" y="19374"/>
                </a:lnTo>
                <a:lnTo>
                  <a:pt x="12123" y="19389"/>
                </a:lnTo>
                <a:lnTo>
                  <a:pt x="12169" y="19420"/>
                </a:lnTo>
                <a:lnTo>
                  <a:pt x="12226" y="19450"/>
                </a:lnTo>
                <a:close/>
                <a:moveTo>
                  <a:pt x="12478" y="18703"/>
                </a:moveTo>
                <a:lnTo>
                  <a:pt x="12478" y="18703"/>
                </a:lnTo>
                <a:lnTo>
                  <a:pt x="12512" y="18764"/>
                </a:lnTo>
                <a:lnTo>
                  <a:pt x="12547" y="18825"/>
                </a:lnTo>
                <a:lnTo>
                  <a:pt x="12627" y="18947"/>
                </a:lnTo>
                <a:lnTo>
                  <a:pt x="12730" y="19054"/>
                </a:lnTo>
                <a:lnTo>
                  <a:pt x="12845" y="19161"/>
                </a:lnTo>
                <a:lnTo>
                  <a:pt x="12948" y="19237"/>
                </a:lnTo>
                <a:lnTo>
                  <a:pt x="13074" y="19298"/>
                </a:lnTo>
                <a:lnTo>
                  <a:pt x="13200" y="19359"/>
                </a:lnTo>
                <a:lnTo>
                  <a:pt x="13303" y="19374"/>
                </a:lnTo>
                <a:lnTo>
                  <a:pt x="13303" y="19374"/>
                </a:lnTo>
                <a:lnTo>
                  <a:pt x="13372" y="19313"/>
                </a:lnTo>
                <a:lnTo>
                  <a:pt x="13441" y="19267"/>
                </a:lnTo>
                <a:lnTo>
                  <a:pt x="13475" y="19191"/>
                </a:lnTo>
                <a:lnTo>
                  <a:pt x="13509" y="19115"/>
                </a:lnTo>
                <a:lnTo>
                  <a:pt x="13532" y="19023"/>
                </a:lnTo>
                <a:lnTo>
                  <a:pt x="13544" y="18947"/>
                </a:lnTo>
                <a:lnTo>
                  <a:pt x="13532" y="18871"/>
                </a:lnTo>
                <a:lnTo>
                  <a:pt x="13521" y="18795"/>
                </a:lnTo>
                <a:lnTo>
                  <a:pt x="13498" y="18734"/>
                </a:lnTo>
                <a:lnTo>
                  <a:pt x="13452" y="18657"/>
                </a:lnTo>
                <a:lnTo>
                  <a:pt x="13418" y="18596"/>
                </a:lnTo>
                <a:lnTo>
                  <a:pt x="13372" y="18520"/>
                </a:lnTo>
                <a:lnTo>
                  <a:pt x="13292" y="18490"/>
                </a:lnTo>
                <a:lnTo>
                  <a:pt x="13235" y="18459"/>
                </a:lnTo>
                <a:lnTo>
                  <a:pt x="13154" y="18429"/>
                </a:lnTo>
                <a:lnTo>
                  <a:pt x="13062" y="18429"/>
                </a:lnTo>
                <a:lnTo>
                  <a:pt x="13062" y="18429"/>
                </a:lnTo>
                <a:lnTo>
                  <a:pt x="13005" y="18429"/>
                </a:lnTo>
                <a:lnTo>
                  <a:pt x="12937" y="18444"/>
                </a:lnTo>
                <a:lnTo>
                  <a:pt x="12868" y="18459"/>
                </a:lnTo>
                <a:lnTo>
                  <a:pt x="12799" y="18490"/>
                </a:lnTo>
                <a:lnTo>
                  <a:pt x="12719" y="18520"/>
                </a:lnTo>
                <a:lnTo>
                  <a:pt x="12650" y="18581"/>
                </a:lnTo>
                <a:lnTo>
                  <a:pt x="12570" y="18627"/>
                </a:lnTo>
                <a:lnTo>
                  <a:pt x="12478" y="18703"/>
                </a:lnTo>
                <a:close/>
                <a:moveTo>
                  <a:pt x="12020" y="18840"/>
                </a:moveTo>
                <a:lnTo>
                  <a:pt x="12020" y="18840"/>
                </a:lnTo>
                <a:lnTo>
                  <a:pt x="11607" y="18764"/>
                </a:lnTo>
                <a:lnTo>
                  <a:pt x="11607" y="18764"/>
                </a:lnTo>
                <a:lnTo>
                  <a:pt x="11664" y="18917"/>
                </a:lnTo>
                <a:lnTo>
                  <a:pt x="11710" y="19023"/>
                </a:lnTo>
                <a:lnTo>
                  <a:pt x="11756" y="19100"/>
                </a:lnTo>
                <a:lnTo>
                  <a:pt x="11791" y="19145"/>
                </a:lnTo>
                <a:lnTo>
                  <a:pt x="11825" y="19176"/>
                </a:lnTo>
                <a:lnTo>
                  <a:pt x="11859" y="19176"/>
                </a:lnTo>
                <a:lnTo>
                  <a:pt x="11882" y="19161"/>
                </a:lnTo>
                <a:lnTo>
                  <a:pt x="11894" y="19130"/>
                </a:lnTo>
                <a:lnTo>
                  <a:pt x="11928" y="19039"/>
                </a:lnTo>
                <a:lnTo>
                  <a:pt x="11951" y="18947"/>
                </a:lnTo>
                <a:lnTo>
                  <a:pt x="11985" y="18871"/>
                </a:lnTo>
                <a:lnTo>
                  <a:pt x="12008" y="18856"/>
                </a:lnTo>
                <a:lnTo>
                  <a:pt x="12020" y="18840"/>
                </a:lnTo>
                <a:close/>
                <a:moveTo>
                  <a:pt x="6096" y="19176"/>
                </a:moveTo>
                <a:lnTo>
                  <a:pt x="6096" y="19176"/>
                </a:lnTo>
                <a:lnTo>
                  <a:pt x="6153" y="19039"/>
                </a:lnTo>
                <a:lnTo>
                  <a:pt x="6199" y="18917"/>
                </a:lnTo>
                <a:lnTo>
                  <a:pt x="6221" y="18856"/>
                </a:lnTo>
                <a:lnTo>
                  <a:pt x="6221" y="18779"/>
                </a:lnTo>
                <a:lnTo>
                  <a:pt x="6221" y="18734"/>
                </a:lnTo>
                <a:lnTo>
                  <a:pt x="6221" y="18673"/>
                </a:lnTo>
                <a:lnTo>
                  <a:pt x="6210" y="18596"/>
                </a:lnTo>
                <a:lnTo>
                  <a:pt x="6187" y="18535"/>
                </a:lnTo>
                <a:lnTo>
                  <a:pt x="6153" y="18490"/>
                </a:lnTo>
                <a:lnTo>
                  <a:pt x="6130" y="18429"/>
                </a:lnTo>
                <a:lnTo>
                  <a:pt x="6096" y="18383"/>
                </a:lnTo>
                <a:lnTo>
                  <a:pt x="6050" y="18322"/>
                </a:lnTo>
                <a:lnTo>
                  <a:pt x="5935" y="18230"/>
                </a:lnTo>
                <a:lnTo>
                  <a:pt x="5935" y="18230"/>
                </a:lnTo>
                <a:lnTo>
                  <a:pt x="5798" y="18566"/>
                </a:lnTo>
                <a:lnTo>
                  <a:pt x="5740" y="18718"/>
                </a:lnTo>
                <a:lnTo>
                  <a:pt x="5729" y="18764"/>
                </a:lnTo>
                <a:lnTo>
                  <a:pt x="5717" y="18840"/>
                </a:lnTo>
                <a:lnTo>
                  <a:pt x="5717" y="18886"/>
                </a:lnTo>
                <a:lnTo>
                  <a:pt x="5729" y="18947"/>
                </a:lnTo>
                <a:lnTo>
                  <a:pt x="5752" y="18993"/>
                </a:lnTo>
                <a:lnTo>
                  <a:pt x="5786" y="19023"/>
                </a:lnTo>
                <a:lnTo>
                  <a:pt x="5855" y="19069"/>
                </a:lnTo>
                <a:lnTo>
                  <a:pt x="5912" y="19115"/>
                </a:lnTo>
                <a:lnTo>
                  <a:pt x="5992" y="19145"/>
                </a:lnTo>
                <a:lnTo>
                  <a:pt x="6096" y="19176"/>
                </a:lnTo>
                <a:close/>
                <a:moveTo>
                  <a:pt x="11401" y="19115"/>
                </a:moveTo>
                <a:lnTo>
                  <a:pt x="11401" y="19115"/>
                </a:lnTo>
                <a:lnTo>
                  <a:pt x="11435" y="19008"/>
                </a:lnTo>
                <a:lnTo>
                  <a:pt x="11458" y="18932"/>
                </a:lnTo>
                <a:lnTo>
                  <a:pt x="11458" y="18840"/>
                </a:lnTo>
                <a:lnTo>
                  <a:pt x="11435" y="18749"/>
                </a:lnTo>
                <a:lnTo>
                  <a:pt x="11389" y="18673"/>
                </a:lnTo>
                <a:lnTo>
                  <a:pt x="11321" y="18596"/>
                </a:lnTo>
                <a:lnTo>
                  <a:pt x="11252" y="18505"/>
                </a:lnTo>
                <a:lnTo>
                  <a:pt x="11137" y="18429"/>
                </a:lnTo>
                <a:lnTo>
                  <a:pt x="11137" y="18429"/>
                </a:lnTo>
                <a:lnTo>
                  <a:pt x="11092" y="18596"/>
                </a:lnTo>
                <a:lnTo>
                  <a:pt x="11057" y="18718"/>
                </a:lnTo>
                <a:lnTo>
                  <a:pt x="11057" y="18764"/>
                </a:lnTo>
                <a:lnTo>
                  <a:pt x="11057" y="18825"/>
                </a:lnTo>
                <a:lnTo>
                  <a:pt x="11057" y="18871"/>
                </a:lnTo>
                <a:lnTo>
                  <a:pt x="11080" y="18917"/>
                </a:lnTo>
                <a:lnTo>
                  <a:pt x="11080" y="18947"/>
                </a:lnTo>
                <a:lnTo>
                  <a:pt x="11115" y="18993"/>
                </a:lnTo>
                <a:lnTo>
                  <a:pt x="11183" y="19023"/>
                </a:lnTo>
                <a:lnTo>
                  <a:pt x="11286" y="19069"/>
                </a:lnTo>
                <a:lnTo>
                  <a:pt x="11401" y="19115"/>
                </a:lnTo>
                <a:close/>
                <a:moveTo>
                  <a:pt x="10358" y="18901"/>
                </a:moveTo>
                <a:lnTo>
                  <a:pt x="10358" y="18901"/>
                </a:lnTo>
                <a:lnTo>
                  <a:pt x="10438" y="18947"/>
                </a:lnTo>
                <a:lnTo>
                  <a:pt x="10507" y="18947"/>
                </a:lnTo>
                <a:lnTo>
                  <a:pt x="10565" y="18962"/>
                </a:lnTo>
                <a:lnTo>
                  <a:pt x="10622" y="18947"/>
                </a:lnTo>
                <a:lnTo>
                  <a:pt x="10668" y="18932"/>
                </a:lnTo>
                <a:lnTo>
                  <a:pt x="10713" y="18886"/>
                </a:lnTo>
                <a:lnTo>
                  <a:pt x="10736" y="18856"/>
                </a:lnTo>
                <a:lnTo>
                  <a:pt x="10771" y="18795"/>
                </a:lnTo>
                <a:lnTo>
                  <a:pt x="10817" y="18688"/>
                </a:lnTo>
                <a:lnTo>
                  <a:pt x="10862" y="18535"/>
                </a:lnTo>
                <a:lnTo>
                  <a:pt x="10931" y="18230"/>
                </a:lnTo>
                <a:lnTo>
                  <a:pt x="10931" y="18230"/>
                </a:lnTo>
                <a:lnTo>
                  <a:pt x="10851" y="18230"/>
                </a:lnTo>
                <a:lnTo>
                  <a:pt x="10851" y="18230"/>
                </a:lnTo>
                <a:lnTo>
                  <a:pt x="10771" y="18230"/>
                </a:lnTo>
                <a:lnTo>
                  <a:pt x="10702" y="18246"/>
                </a:lnTo>
                <a:lnTo>
                  <a:pt x="10622" y="18276"/>
                </a:lnTo>
                <a:lnTo>
                  <a:pt x="10553" y="18337"/>
                </a:lnTo>
                <a:lnTo>
                  <a:pt x="10496" y="18383"/>
                </a:lnTo>
                <a:lnTo>
                  <a:pt x="10438" y="18429"/>
                </a:lnTo>
                <a:lnTo>
                  <a:pt x="10381" y="18490"/>
                </a:lnTo>
                <a:lnTo>
                  <a:pt x="10347" y="18566"/>
                </a:lnTo>
                <a:lnTo>
                  <a:pt x="10312" y="18627"/>
                </a:lnTo>
                <a:lnTo>
                  <a:pt x="10289" y="18688"/>
                </a:lnTo>
                <a:lnTo>
                  <a:pt x="10278" y="18749"/>
                </a:lnTo>
                <a:lnTo>
                  <a:pt x="10267" y="18795"/>
                </a:lnTo>
                <a:lnTo>
                  <a:pt x="10278" y="18840"/>
                </a:lnTo>
                <a:lnTo>
                  <a:pt x="10301" y="18871"/>
                </a:lnTo>
                <a:lnTo>
                  <a:pt x="10324" y="18901"/>
                </a:lnTo>
                <a:lnTo>
                  <a:pt x="10358" y="18901"/>
                </a:lnTo>
                <a:close/>
                <a:moveTo>
                  <a:pt x="13979" y="17971"/>
                </a:moveTo>
                <a:lnTo>
                  <a:pt x="13979" y="17971"/>
                </a:lnTo>
                <a:lnTo>
                  <a:pt x="14014" y="18002"/>
                </a:lnTo>
                <a:lnTo>
                  <a:pt x="14025" y="18048"/>
                </a:lnTo>
                <a:lnTo>
                  <a:pt x="14071" y="18078"/>
                </a:lnTo>
                <a:lnTo>
                  <a:pt x="14105" y="18108"/>
                </a:lnTo>
                <a:lnTo>
                  <a:pt x="14208" y="18139"/>
                </a:lnTo>
                <a:lnTo>
                  <a:pt x="14312" y="18154"/>
                </a:lnTo>
                <a:lnTo>
                  <a:pt x="14541" y="18169"/>
                </a:lnTo>
                <a:lnTo>
                  <a:pt x="14655" y="18185"/>
                </a:lnTo>
                <a:lnTo>
                  <a:pt x="14701" y="18215"/>
                </a:lnTo>
                <a:lnTo>
                  <a:pt x="14747" y="18230"/>
                </a:lnTo>
                <a:lnTo>
                  <a:pt x="14747" y="18230"/>
                </a:lnTo>
                <a:lnTo>
                  <a:pt x="15056" y="18840"/>
                </a:lnTo>
                <a:lnTo>
                  <a:pt x="15056" y="18840"/>
                </a:lnTo>
                <a:lnTo>
                  <a:pt x="14942" y="18383"/>
                </a:lnTo>
                <a:lnTo>
                  <a:pt x="14884" y="18215"/>
                </a:lnTo>
                <a:lnTo>
                  <a:pt x="14827" y="18063"/>
                </a:lnTo>
                <a:lnTo>
                  <a:pt x="14770" y="17956"/>
                </a:lnTo>
                <a:lnTo>
                  <a:pt x="14724" y="17910"/>
                </a:lnTo>
                <a:lnTo>
                  <a:pt x="14690" y="17865"/>
                </a:lnTo>
                <a:lnTo>
                  <a:pt x="14655" y="17834"/>
                </a:lnTo>
                <a:lnTo>
                  <a:pt x="14598" y="17819"/>
                </a:lnTo>
                <a:lnTo>
                  <a:pt x="14552" y="17804"/>
                </a:lnTo>
                <a:lnTo>
                  <a:pt x="14495" y="17804"/>
                </a:lnTo>
                <a:lnTo>
                  <a:pt x="14495" y="17804"/>
                </a:lnTo>
                <a:lnTo>
                  <a:pt x="14392" y="17804"/>
                </a:lnTo>
                <a:lnTo>
                  <a:pt x="14277" y="17834"/>
                </a:lnTo>
                <a:lnTo>
                  <a:pt x="14140" y="17895"/>
                </a:lnTo>
                <a:lnTo>
                  <a:pt x="13979" y="17971"/>
                </a:lnTo>
                <a:close/>
                <a:moveTo>
                  <a:pt x="12283" y="18703"/>
                </a:moveTo>
                <a:lnTo>
                  <a:pt x="12283" y="18703"/>
                </a:lnTo>
                <a:lnTo>
                  <a:pt x="12295" y="18642"/>
                </a:lnTo>
                <a:lnTo>
                  <a:pt x="12318" y="18581"/>
                </a:lnTo>
                <a:lnTo>
                  <a:pt x="12318" y="18535"/>
                </a:lnTo>
                <a:lnTo>
                  <a:pt x="12318" y="18490"/>
                </a:lnTo>
                <a:lnTo>
                  <a:pt x="12306" y="18474"/>
                </a:lnTo>
                <a:lnTo>
                  <a:pt x="12283" y="18429"/>
                </a:lnTo>
                <a:lnTo>
                  <a:pt x="12226" y="18398"/>
                </a:lnTo>
                <a:lnTo>
                  <a:pt x="12146" y="18352"/>
                </a:lnTo>
                <a:lnTo>
                  <a:pt x="12054" y="18322"/>
                </a:lnTo>
                <a:lnTo>
                  <a:pt x="11951" y="18276"/>
                </a:lnTo>
                <a:lnTo>
                  <a:pt x="11871" y="18230"/>
                </a:lnTo>
                <a:lnTo>
                  <a:pt x="11871" y="18230"/>
                </a:lnTo>
                <a:lnTo>
                  <a:pt x="11882" y="18352"/>
                </a:lnTo>
                <a:lnTo>
                  <a:pt x="11905" y="18474"/>
                </a:lnTo>
                <a:lnTo>
                  <a:pt x="11940" y="18535"/>
                </a:lnTo>
                <a:lnTo>
                  <a:pt x="11985" y="18596"/>
                </a:lnTo>
                <a:lnTo>
                  <a:pt x="12043" y="18657"/>
                </a:lnTo>
                <a:lnTo>
                  <a:pt x="12089" y="18688"/>
                </a:lnTo>
                <a:lnTo>
                  <a:pt x="12180" y="18703"/>
                </a:lnTo>
                <a:lnTo>
                  <a:pt x="12283" y="18703"/>
                </a:lnTo>
                <a:close/>
                <a:moveTo>
                  <a:pt x="3105" y="18566"/>
                </a:moveTo>
                <a:lnTo>
                  <a:pt x="3105" y="18566"/>
                </a:lnTo>
                <a:lnTo>
                  <a:pt x="3150" y="18505"/>
                </a:lnTo>
                <a:lnTo>
                  <a:pt x="3197" y="18459"/>
                </a:lnTo>
                <a:lnTo>
                  <a:pt x="3219" y="18383"/>
                </a:lnTo>
                <a:lnTo>
                  <a:pt x="3219" y="18291"/>
                </a:lnTo>
                <a:lnTo>
                  <a:pt x="3219" y="18291"/>
                </a:lnTo>
                <a:lnTo>
                  <a:pt x="3059" y="18291"/>
                </a:lnTo>
                <a:lnTo>
                  <a:pt x="2921" y="18261"/>
                </a:lnTo>
                <a:lnTo>
                  <a:pt x="2818" y="18230"/>
                </a:lnTo>
                <a:lnTo>
                  <a:pt x="2715" y="18169"/>
                </a:lnTo>
                <a:lnTo>
                  <a:pt x="2623" y="18078"/>
                </a:lnTo>
                <a:lnTo>
                  <a:pt x="2509" y="17987"/>
                </a:lnTo>
                <a:lnTo>
                  <a:pt x="2417" y="17910"/>
                </a:lnTo>
                <a:lnTo>
                  <a:pt x="2280" y="17819"/>
                </a:lnTo>
                <a:lnTo>
                  <a:pt x="2280" y="17819"/>
                </a:lnTo>
                <a:lnTo>
                  <a:pt x="2337" y="17956"/>
                </a:lnTo>
                <a:lnTo>
                  <a:pt x="2429" y="18108"/>
                </a:lnTo>
                <a:lnTo>
                  <a:pt x="2520" y="18261"/>
                </a:lnTo>
                <a:lnTo>
                  <a:pt x="2635" y="18429"/>
                </a:lnTo>
                <a:lnTo>
                  <a:pt x="2704" y="18490"/>
                </a:lnTo>
                <a:lnTo>
                  <a:pt x="2772" y="18535"/>
                </a:lnTo>
                <a:lnTo>
                  <a:pt x="2830" y="18596"/>
                </a:lnTo>
                <a:lnTo>
                  <a:pt x="2887" y="18627"/>
                </a:lnTo>
                <a:lnTo>
                  <a:pt x="2956" y="18642"/>
                </a:lnTo>
                <a:lnTo>
                  <a:pt x="3001" y="18642"/>
                </a:lnTo>
                <a:lnTo>
                  <a:pt x="3059" y="18612"/>
                </a:lnTo>
                <a:lnTo>
                  <a:pt x="3105" y="18566"/>
                </a:lnTo>
                <a:close/>
                <a:moveTo>
                  <a:pt x="15526" y="18627"/>
                </a:moveTo>
                <a:lnTo>
                  <a:pt x="15526" y="18627"/>
                </a:lnTo>
                <a:lnTo>
                  <a:pt x="15549" y="18596"/>
                </a:lnTo>
                <a:lnTo>
                  <a:pt x="15560" y="18596"/>
                </a:lnTo>
                <a:lnTo>
                  <a:pt x="15583" y="18581"/>
                </a:lnTo>
                <a:lnTo>
                  <a:pt x="15583" y="18566"/>
                </a:lnTo>
                <a:lnTo>
                  <a:pt x="15572" y="18505"/>
                </a:lnTo>
                <a:lnTo>
                  <a:pt x="15572" y="18505"/>
                </a:lnTo>
                <a:lnTo>
                  <a:pt x="15526" y="18627"/>
                </a:lnTo>
                <a:close/>
                <a:moveTo>
                  <a:pt x="11756" y="18627"/>
                </a:moveTo>
                <a:lnTo>
                  <a:pt x="11756" y="18627"/>
                </a:lnTo>
                <a:lnTo>
                  <a:pt x="11733" y="18520"/>
                </a:lnTo>
                <a:lnTo>
                  <a:pt x="11722" y="18429"/>
                </a:lnTo>
                <a:lnTo>
                  <a:pt x="11687" y="18337"/>
                </a:lnTo>
                <a:lnTo>
                  <a:pt x="11653" y="18246"/>
                </a:lnTo>
                <a:lnTo>
                  <a:pt x="11596" y="18185"/>
                </a:lnTo>
                <a:lnTo>
                  <a:pt x="11538" y="18124"/>
                </a:lnTo>
                <a:lnTo>
                  <a:pt x="11481" y="18078"/>
                </a:lnTo>
                <a:lnTo>
                  <a:pt x="11401" y="18017"/>
                </a:lnTo>
                <a:lnTo>
                  <a:pt x="11401" y="18017"/>
                </a:lnTo>
                <a:lnTo>
                  <a:pt x="11389" y="18169"/>
                </a:lnTo>
                <a:lnTo>
                  <a:pt x="11401" y="18276"/>
                </a:lnTo>
                <a:lnTo>
                  <a:pt x="11424" y="18383"/>
                </a:lnTo>
                <a:lnTo>
                  <a:pt x="11458" y="18474"/>
                </a:lnTo>
                <a:lnTo>
                  <a:pt x="11504" y="18535"/>
                </a:lnTo>
                <a:lnTo>
                  <a:pt x="11573" y="18596"/>
                </a:lnTo>
                <a:lnTo>
                  <a:pt x="11653" y="18627"/>
                </a:lnTo>
                <a:lnTo>
                  <a:pt x="11756" y="18627"/>
                </a:lnTo>
                <a:close/>
                <a:moveTo>
                  <a:pt x="16546" y="18566"/>
                </a:moveTo>
                <a:lnTo>
                  <a:pt x="16546" y="18566"/>
                </a:lnTo>
                <a:lnTo>
                  <a:pt x="16661" y="18505"/>
                </a:lnTo>
                <a:lnTo>
                  <a:pt x="16718" y="18490"/>
                </a:lnTo>
                <a:lnTo>
                  <a:pt x="16729" y="18474"/>
                </a:lnTo>
                <a:lnTo>
                  <a:pt x="16729" y="18444"/>
                </a:lnTo>
                <a:lnTo>
                  <a:pt x="16718" y="18368"/>
                </a:lnTo>
                <a:lnTo>
                  <a:pt x="16718" y="18368"/>
                </a:lnTo>
                <a:lnTo>
                  <a:pt x="16546" y="18566"/>
                </a:lnTo>
                <a:close/>
                <a:moveTo>
                  <a:pt x="3781" y="16539"/>
                </a:moveTo>
                <a:lnTo>
                  <a:pt x="3781" y="16539"/>
                </a:lnTo>
                <a:lnTo>
                  <a:pt x="3758" y="16859"/>
                </a:lnTo>
                <a:lnTo>
                  <a:pt x="3746" y="17133"/>
                </a:lnTo>
                <a:lnTo>
                  <a:pt x="3758" y="17392"/>
                </a:lnTo>
                <a:lnTo>
                  <a:pt x="3792" y="17590"/>
                </a:lnTo>
                <a:lnTo>
                  <a:pt x="3827" y="17773"/>
                </a:lnTo>
                <a:lnTo>
                  <a:pt x="3849" y="17849"/>
                </a:lnTo>
                <a:lnTo>
                  <a:pt x="3884" y="17926"/>
                </a:lnTo>
                <a:lnTo>
                  <a:pt x="3918" y="17987"/>
                </a:lnTo>
                <a:lnTo>
                  <a:pt x="3953" y="18063"/>
                </a:lnTo>
                <a:lnTo>
                  <a:pt x="3998" y="18124"/>
                </a:lnTo>
                <a:lnTo>
                  <a:pt x="4044" y="18169"/>
                </a:lnTo>
                <a:lnTo>
                  <a:pt x="4147" y="18246"/>
                </a:lnTo>
                <a:lnTo>
                  <a:pt x="4262" y="18322"/>
                </a:lnTo>
                <a:lnTo>
                  <a:pt x="4388" y="18368"/>
                </a:lnTo>
                <a:lnTo>
                  <a:pt x="4548" y="18413"/>
                </a:lnTo>
                <a:lnTo>
                  <a:pt x="4709" y="18429"/>
                </a:lnTo>
                <a:lnTo>
                  <a:pt x="4870" y="18429"/>
                </a:lnTo>
                <a:lnTo>
                  <a:pt x="5270" y="18429"/>
                </a:lnTo>
                <a:lnTo>
                  <a:pt x="5270" y="18429"/>
                </a:lnTo>
                <a:lnTo>
                  <a:pt x="5282" y="18307"/>
                </a:lnTo>
                <a:lnTo>
                  <a:pt x="5282" y="18185"/>
                </a:lnTo>
                <a:lnTo>
                  <a:pt x="5259" y="18078"/>
                </a:lnTo>
                <a:lnTo>
                  <a:pt x="5224" y="17987"/>
                </a:lnTo>
                <a:lnTo>
                  <a:pt x="5190" y="17910"/>
                </a:lnTo>
                <a:lnTo>
                  <a:pt x="5144" y="17819"/>
                </a:lnTo>
                <a:lnTo>
                  <a:pt x="5087" y="17727"/>
                </a:lnTo>
                <a:lnTo>
                  <a:pt x="5018" y="17667"/>
                </a:lnTo>
                <a:lnTo>
                  <a:pt x="4892" y="17529"/>
                </a:lnTo>
                <a:lnTo>
                  <a:pt x="4743" y="17392"/>
                </a:lnTo>
                <a:lnTo>
                  <a:pt x="4583" y="17240"/>
                </a:lnTo>
                <a:lnTo>
                  <a:pt x="4514" y="17179"/>
                </a:lnTo>
                <a:lnTo>
                  <a:pt x="4445" y="17072"/>
                </a:lnTo>
                <a:lnTo>
                  <a:pt x="4445" y="17072"/>
                </a:lnTo>
                <a:lnTo>
                  <a:pt x="4480" y="16935"/>
                </a:lnTo>
                <a:lnTo>
                  <a:pt x="4491" y="16783"/>
                </a:lnTo>
                <a:lnTo>
                  <a:pt x="4480" y="16676"/>
                </a:lnTo>
                <a:lnTo>
                  <a:pt x="4457" y="16569"/>
                </a:lnTo>
                <a:lnTo>
                  <a:pt x="4423" y="16493"/>
                </a:lnTo>
                <a:lnTo>
                  <a:pt x="4388" y="16462"/>
                </a:lnTo>
                <a:lnTo>
                  <a:pt x="4365" y="16432"/>
                </a:lnTo>
                <a:lnTo>
                  <a:pt x="4296" y="16417"/>
                </a:lnTo>
                <a:lnTo>
                  <a:pt x="4216" y="16417"/>
                </a:lnTo>
                <a:lnTo>
                  <a:pt x="4216" y="16417"/>
                </a:lnTo>
                <a:lnTo>
                  <a:pt x="4125" y="16417"/>
                </a:lnTo>
                <a:lnTo>
                  <a:pt x="4010" y="16432"/>
                </a:lnTo>
                <a:lnTo>
                  <a:pt x="3907" y="16478"/>
                </a:lnTo>
                <a:lnTo>
                  <a:pt x="3781" y="16539"/>
                </a:lnTo>
                <a:close/>
                <a:moveTo>
                  <a:pt x="9384" y="18230"/>
                </a:moveTo>
                <a:lnTo>
                  <a:pt x="9384" y="18230"/>
                </a:lnTo>
                <a:lnTo>
                  <a:pt x="9373" y="18322"/>
                </a:lnTo>
                <a:lnTo>
                  <a:pt x="9361" y="18368"/>
                </a:lnTo>
                <a:lnTo>
                  <a:pt x="9373" y="18383"/>
                </a:lnTo>
                <a:lnTo>
                  <a:pt x="9373" y="18368"/>
                </a:lnTo>
                <a:lnTo>
                  <a:pt x="9384" y="18352"/>
                </a:lnTo>
                <a:lnTo>
                  <a:pt x="9407" y="18322"/>
                </a:lnTo>
                <a:lnTo>
                  <a:pt x="9419" y="18261"/>
                </a:lnTo>
                <a:lnTo>
                  <a:pt x="9419" y="18246"/>
                </a:lnTo>
                <a:lnTo>
                  <a:pt x="9419" y="18246"/>
                </a:lnTo>
                <a:lnTo>
                  <a:pt x="9407" y="18230"/>
                </a:lnTo>
                <a:lnTo>
                  <a:pt x="9384" y="18230"/>
                </a:lnTo>
                <a:close/>
                <a:moveTo>
                  <a:pt x="12581" y="18368"/>
                </a:moveTo>
                <a:lnTo>
                  <a:pt x="12581" y="18368"/>
                </a:lnTo>
                <a:lnTo>
                  <a:pt x="12581" y="18291"/>
                </a:lnTo>
                <a:lnTo>
                  <a:pt x="12558" y="18230"/>
                </a:lnTo>
                <a:lnTo>
                  <a:pt x="12524" y="18169"/>
                </a:lnTo>
                <a:lnTo>
                  <a:pt x="12490" y="18093"/>
                </a:lnTo>
                <a:lnTo>
                  <a:pt x="12421" y="17971"/>
                </a:lnTo>
                <a:lnTo>
                  <a:pt x="12329" y="17895"/>
                </a:lnTo>
                <a:lnTo>
                  <a:pt x="12329" y="17895"/>
                </a:lnTo>
                <a:lnTo>
                  <a:pt x="12318" y="17987"/>
                </a:lnTo>
                <a:lnTo>
                  <a:pt x="12318" y="18078"/>
                </a:lnTo>
                <a:lnTo>
                  <a:pt x="12329" y="18169"/>
                </a:lnTo>
                <a:lnTo>
                  <a:pt x="12363" y="18230"/>
                </a:lnTo>
                <a:lnTo>
                  <a:pt x="12398" y="18261"/>
                </a:lnTo>
                <a:lnTo>
                  <a:pt x="12455" y="18322"/>
                </a:lnTo>
                <a:lnTo>
                  <a:pt x="12512" y="18337"/>
                </a:lnTo>
                <a:lnTo>
                  <a:pt x="12581" y="18368"/>
                </a:lnTo>
                <a:close/>
                <a:moveTo>
                  <a:pt x="9591" y="17971"/>
                </a:moveTo>
                <a:lnTo>
                  <a:pt x="9591" y="17971"/>
                </a:lnTo>
                <a:lnTo>
                  <a:pt x="9579" y="17971"/>
                </a:lnTo>
                <a:lnTo>
                  <a:pt x="9579" y="17971"/>
                </a:lnTo>
                <a:lnTo>
                  <a:pt x="9533" y="18017"/>
                </a:lnTo>
                <a:lnTo>
                  <a:pt x="9510" y="18078"/>
                </a:lnTo>
                <a:lnTo>
                  <a:pt x="9487" y="18139"/>
                </a:lnTo>
                <a:lnTo>
                  <a:pt x="9476" y="18169"/>
                </a:lnTo>
                <a:lnTo>
                  <a:pt x="9476" y="18169"/>
                </a:lnTo>
                <a:lnTo>
                  <a:pt x="9487" y="18169"/>
                </a:lnTo>
                <a:lnTo>
                  <a:pt x="9522" y="18093"/>
                </a:lnTo>
                <a:lnTo>
                  <a:pt x="9591" y="17971"/>
                </a:lnTo>
                <a:close/>
                <a:moveTo>
                  <a:pt x="12169" y="18169"/>
                </a:moveTo>
                <a:lnTo>
                  <a:pt x="12169" y="18169"/>
                </a:lnTo>
                <a:lnTo>
                  <a:pt x="12123" y="18078"/>
                </a:lnTo>
                <a:lnTo>
                  <a:pt x="12089" y="17987"/>
                </a:lnTo>
                <a:lnTo>
                  <a:pt x="12031" y="17819"/>
                </a:lnTo>
                <a:lnTo>
                  <a:pt x="12008" y="17743"/>
                </a:lnTo>
                <a:lnTo>
                  <a:pt x="11962" y="17682"/>
                </a:lnTo>
                <a:lnTo>
                  <a:pt x="11916" y="17606"/>
                </a:lnTo>
                <a:lnTo>
                  <a:pt x="11871" y="17560"/>
                </a:lnTo>
                <a:lnTo>
                  <a:pt x="11871" y="17560"/>
                </a:lnTo>
                <a:lnTo>
                  <a:pt x="11848" y="17682"/>
                </a:lnTo>
                <a:lnTo>
                  <a:pt x="11836" y="17788"/>
                </a:lnTo>
                <a:lnTo>
                  <a:pt x="11848" y="17895"/>
                </a:lnTo>
                <a:lnTo>
                  <a:pt x="11871" y="17971"/>
                </a:lnTo>
                <a:lnTo>
                  <a:pt x="11916" y="18048"/>
                </a:lnTo>
                <a:lnTo>
                  <a:pt x="11985" y="18093"/>
                </a:lnTo>
                <a:lnTo>
                  <a:pt x="12077" y="18139"/>
                </a:lnTo>
                <a:lnTo>
                  <a:pt x="12169" y="18169"/>
                </a:lnTo>
                <a:close/>
                <a:moveTo>
                  <a:pt x="15985" y="17895"/>
                </a:moveTo>
                <a:lnTo>
                  <a:pt x="15985" y="17895"/>
                </a:lnTo>
                <a:lnTo>
                  <a:pt x="16065" y="18017"/>
                </a:lnTo>
                <a:lnTo>
                  <a:pt x="16088" y="18048"/>
                </a:lnTo>
                <a:lnTo>
                  <a:pt x="16088" y="18032"/>
                </a:lnTo>
                <a:lnTo>
                  <a:pt x="16042" y="17880"/>
                </a:lnTo>
                <a:lnTo>
                  <a:pt x="15939" y="17560"/>
                </a:lnTo>
                <a:lnTo>
                  <a:pt x="15939" y="17560"/>
                </a:lnTo>
                <a:lnTo>
                  <a:pt x="15916" y="17651"/>
                </a:lnTo>
                <a:lnTo>
                  <a:pt x="15927" y="17727"/>
                </a:lnTo>
                <a:lnTo>
                  <a:pt x="15939" y="17819"/>
                </a:lnTo>
                <a:lnTo>
                  <a:pt x="15985" y="17895"/>
                </a:lnTo>
                <a:close/>
                <a:moveTo>
                  <a:pt x="16134" y="18017"/>
                </a:moveTo>
                <a:lnTo>
                  <a:pt x="16134" y="18017"/>
                </a:lnTo>
                <a:lnTo>
                  <a:pt x="16283" y="17910"/>
                </a:lnTo>
                <a:lnTo>
                  <a:pt x="16374" y="17788"/>
                </a:lnTo>
                <a:lnTo>
                  <a:pt x="16466" y="17682"/>
                </a:lnTo>
                <a:lnTo>
                  <a:pt x="16523" y="17560"/>
                </a:lnTo>
                <a:lnTo>
                  <a:pt x="16534" y="17453"/>
                </a:lnTo>
                <a:lnTo>
                  <a:pt x="16546" y="17346"/>
                </a:lnTo>
                <a:lnTo>
                  <a:pt x="16523" y="17240"/>
                </a:lnTo>
                <a:lnTo>
                  <a:pt x="16512" y="17164"/>
                </a:lnTo>
                <a:lnTo>
                  <a:pt x="16443" y="17087"/>
                </a:lnTo>
                <a:lnTo>
                  <a:pt x="16374" y="17026"/>
                </a:lnTo>
                <a:lnTo>
                  <a:pt x="16305" y="16981"/>
                </a:lnTo>
                <a:lnTo>
                  <a:pt x="16214" y="16950"/>
                </a:lnTo>
                <a:lnTo>
                  <a:pt x="16122" y="16965"/>
                </a:lnTo>
                <a:lnTo>
                  <a:pt x="16007" y="16996"/>
                </a:lnTo>
                <a:lnTo>
                  <a:pt x="15893" y="17057"/>
                </a:lnTo>
                <a:lnTo>
                  <a:pt x="15778" y="17148"/>
                </a:lnTo>
                <a:lnTo>
                  <a:pt x="15778" y="17148"/>
                </a:lnTo>
                <a:lnTo>
                  <a:pt x="15881" y="17103"/>
                </a:lnTo>
                <a:lnTo>
                  <a:pt x="15962" y="17057"/>
                </a:lnTo>
                <a:lnTo>
                  <a:pt x="16053" y="17042"/>
                </a:lnTo>
                <a:lnTo>
                  <a:pt x="16134" y="17042"/>
                </a:lnTo>
                <a:lnTo>
                  <a:pt x="16134" y="17042"/>
                </a:lnTo>
                <a:lnTo>
                  <a:pt x="16202" y="17042"/>
                </a:lnTo>
                <a:lnTo>
                  <a:pt x="16271" y="17057"/>
                </a:lnTo>
                <a:lnTo>
                  <a:pt x="16328" y="17103"/>
                </a:lnTo>
                <a:lnTo>
                  <a:pt x="16374" y="17133"/>
                </a:lnTo>
                <a:lnTo>
                  <a:pt x="16397" y="17179"/>
                </a:lnTo>
                <a:lnTo>
                  <a:pt x="16432" y="17225"/>
                </a:lnTo>
                <a:lnTo>
                  <a:pt x="16443" y="17301"/>
                </a:lnTo>
                <a:lnTo>
                  <a:pt x="16454" y="17362"/>
                </a:lnTo>
                <a:lnTo>
                  <a:pt x="16454" y="17438"/>
                </a:lnTo>
                <a:lnTo>
                  <a:pt x="16443" y="17514"/>
                </a:lnTo>
                <a:lnTo>
                  <a:pt x="16420" y="17590"/>
                </a:lnTo>
                <a:lnTo>
                  <a:pt x="16385" y="17682"/>
                </a:lnTo>
                <a:lnTo>
                  <a:pt x="16340" y="17758"/>
                </a:lnTo>
                <a:lnTo>
                  <a:pt x="16294" y="17849"/>
                </a:lnTo>
                <a:lnTo>
                  <a:pt x="16225" y="17941"/>
                </a:lnTo>
                <a:lnTo>
                  <a:pt x="16134" y="18017"/>
                </a:lnTo>
                <a:close/>
                <a:moveTo>
                  <a:pt x="13097" y="18017"/>
                </a:moveTo>
                <a:lnTo>
                  <a:pt x="13097" y="18017"/>
                </a:lnTo>
                <a:lnTo>
                  <a:pt x="13086" y="17956"/>
                </a:lnTo>
                <a:lnTo>
                  <a:pt x="13086" y="17895"/>
                </a:lnTo>
                <a:lnTo>
                  <a:pt x="13074" y="17819"/>
                </a:lnTo>
                <a:lnTo>
                  <a:pt x="13051" y="17773"/>
                </a:lnTo>
                <a:lnTo>
                  <a:pt x="13017" y="17727"/>
                </a:lnTo>
                <a:lnTo>
                  <a:pt x="12994" y="17697"/>
                </a:lnTo>
                <a:lnTo>
                  <a:pt x="12937" y="17651"/>
                </a:lnTo>
                <a:lnTo>
                  <a:pt x="12890" y="17621"/>
                </a:lnTo>
                <a:lnTo>
                  <a:pt x="12890" y="17621"/>
                </a:lnTo>
                <a:lnTo>
                  <a:pt x="12879" y="17819"/>
                </a:lnTo>
                <a:lnTo>
                  <a:pt x="12890" y="17895"/>
                </a:lnTo>
                <a:lnTo>
                  <a:pt x="12902" y="17941"/>
                </a:lnTo>
                <a:lnTo>
                  <a:pt x="12925" y="17987"/>
                </a:lnTo>
                <a:lnTo>
                  <a:pt x="12959" y="18002"/>
                </a:lnTo>
                <a:lnTo>
                  <a:pt x="13017" y="18017"/>
                </a:lnTo>
                <a:lnTo>
                  <a:pt x="13097" y="18017"/>
                </a:lnTo>
                <a:close/>
                <a:moveTo>
                  <a:pt x="12524" y="17895"/>
                </a:moveTo>
                <a:lnTo>
                  <a:pt x="12524" y="17895"/>
                </a:lnTo>
                <a:lnTo>
                  <a:pt x="12581" y="17926"/>
                </a:lnTo>
                <a:lnTo>
                  <a:pt x="12639" y="17956"/>
                </a:lnTo>
                <a:lnTo>
                  <a:pt x="12684" y="17971"/>
                </a:lnTo>
                <a:lnTo>
                  <a:pt x="12730" y="17971"/>
                </a:lnTo>
                <a:lnTo>
                  <a:pt x="12730" y="17971"/>
                </a:lnTo>
                <a:lnTo>
                  <a:pt x="12719" y="17819"/>
                </a:lnTo>
                <a:lnTo>
                  <a:pt x="12696" y="17697"/>
                </a:lnTo>
                <a:lnTo>
                  <a:pt x="12661" y="17575"/>
                </a:lnTo>
                <a:lnTo>
                  <a:pt x="12616" y="17468"/>
                </a:lnTo>
                <a:lnTo>
                  <a:pt x="12558" y="17392"/>
                </a:lnTo>
                <a:lnTo>
                  <a:pt x="12490" y="17301"/>
                </a:lnTo>
                <a:lnTo>
                  <a:pt x="12329" y="17148"/>
                </a:lnTo>
                <a:lnTo>
                  <a:pt x="12329" y="17148"/>
                </a:lnTo>
                <a:lnTo>
                  <a:pt x="12306" y="17255"/>
                </a:lnTo>
                <a:lnTo>
                  <a:pt x="12306" y="17362"/>
                </a:lnTo>
                <a:lnTo>
                  <a:pt x="12318" y="17468"/>
                </a:lnTo>
                <a:lnTo>
                  <a:pt x="12352" y="17560"/>
                </a:lnTo>
                <a:lnTo>
                  <a:pt x="12375" y="17651"/>
                </a:lnTo>
                <a:lnTo>
                  <a:pt x="12421" y="17727"/>
                </a:lnTo>
                <a:lnTo>
                  <a:pt x="12467" y="17819"/>
                </a:lnTo>
                <a:lnTo>
                  <a:pt x="12524" y="17895"/>
                </a:lnTo>
                <a:close/>
                <a:moveTo>
                  <a:pt x="17635" y="17895"/>
                </a:moveTo>
                <a:lnTo>
                  <a:pt x="17635" y="17895"/>
                </a:lnTo>
                <a:lnTo>
                  <a:pt x="17818" y="17880"/>
                </a:lnTo>
                <a:lnTo>
                  <a:pt x="17978" y="17834"/>
                </a:lnTo>
                <a:lnTo>
                  <a:pt x="18105" y="17788"/>
                </a:lnTo>
                <a:lnTo>
                  <a:pt x="18230" y="17712"/>
                </a:lnTo>
                <a:lnTo>
                  <a:pt x="18311" y="17621"/>
                </a:lnTo>
                <a:lnTo>
                  <a:pt x="18402" y="17499"/>
                </a:lnTo>
                <a:lnTo>
                  <a:pt x="18459" y="17392"/>
                </a:lnTo>
                <a:lnTo>
                  <a:pt x="18517" y="17225"/>
                </a:lnTo>
                <a:lnTo>
                  <a:pt x="18563" y="17072"/>
                </a:lnTo>
                <a:lnTo>
                  <a:pt x="18597" y="16920"/>
                </a:lnTo>
                <a:lnTo>
                  <a:pt x="18620" y="16722"/>
                </a:lnTo>
                <a:lnTo>
                  <a:pt x="18643" y="16539"/>
                </a:lnTo>
                <a:lnTo>
                  <a:pt x="18666" y="16157"/>
                </a:lnTo>
                <a:lnTo>
                  <a:pt x="18712" y="15730"/>
                </a:lnTo>
                <a:lnTo>
                  <a:pt x="18712" y="15730"/>
                </a:lnTo>
                <a:lnTo>
                  <a:pt x="18643" y="15730"/>
                </a:lnTo>
                <a:lnTo>
                  <a:pt x="18586" y="15761"/>
                </a:lnTo>
                <a:lnTo>
                  <a:pt x="18517" y="15807"/>
                </a:lnTo>
                <a:lnTo>
                  <a:pt x="18459" y="15852"/>
                </a:lnTo>
                <a:lnTo>
                  <a:pt x="18414" y="15913"/>
                </a:lnTo>
                <a:lnTo>
                  <a:pt x="18368" y="15990"/>
                </a:lnTo>
                <a:lnTo>
                  <a:pt x="18276" y="16173"/>
                </a:lnTo>
                <a:lnTo>
                  <a:pt x="18207" y="16356"/>
                </a:lnTo>
                <a:lnTo>
                  <a:pt x="18127" y="16539"/>
                </a:lnTo>
                <a:lnTo>
                  <a:pt x="18058" y="16737"/>
                </a:lnTo>
                <a:lnTo>
                  <a:pt x="18013" y="16904"/>
                </a:lnTo>
                <a:lnTo>
                  <a:pt x="18013" y="16904"/>
                </a:lnTo>
                <a:lnTo>
                  <a:pt x="18036" y="16722"/>
                </a:lnTo>
                <a:lnTo>
                  <a:pt x="18058" y="16523"/>
                </a:lnTo>
                <a:lnTo>
                  <a:pt x="18081" y="16310"/>
                </a:lnTo>
                <a:lnTo>
                  <a:pt x="18139" y="16096"/>
                </a:lnTo>
                <a:lnTo>
                  <a:pt x="18196" y="15898"/>
                </a:lnTo>
                <a:lnTo>
                  <a:pt x="18230" y="15791"/>
                </a:lnTo>
                <a:lnTo>
                  <a:pt x="18265" y="15700"/>
                </a:lnTo>
                <a:lnTo>
                  <a:pt x="18311" y="15639"/>
                </a:lnTo>
                <a:lnTo>
                  <a:pt x="18368" y="15563"/>
                </a:lnTo>
                <a:lnTo>
                  <a:pt x="18437" y="15502"/>
                </a:lnTo>
                <a:lnTo>
                  <a:pt x="18494" y="15471"/>
                </a:lnTo>
                <a:lnTo>
                  <a:pt x="18494" y="15471"/>
                </a:lnTo>
                <a:lnTo>
                  <a:pt x="18540" y="15471"/>
                </a:lnTo>
                <a:lnTo>
                  <a:pt x="18597" y="15471"/>
                </a:lnTo>
                <a:lnTo>
                  <a:pt x="18643" y="15441"/>
                </a:lnTo>
                <a:lnTo>
                  <a:pt x="18677" y="15426"/>
                </a:lnTo>
                <a:lnTo>
                  <a:pt x="18723" y="15395"/>
                </a:lnTo>
                <a:lnTo>
                  <a:pt x="18757" y="15365"/>
                </a:lnTo>
                <a:lnTo>
                  <a:pt x="18792" y="15319"/>
                </a:lnTo>
                <a:lnTo>
                  <a:pt x="18815" y="15243"/>
                </a:lnTo>
                <a:lnTo>
                  <a:pt x="18815" y="15243"/>
                </a:lnTo>
                <a:lnTo>
                  <a:pt x="18906" y="15075"/>
                </a:lnTo>
                <a:lnTo>
                  <a:pt x="18975" y="14923"/>
                </a:lnTo>
                <a:lnTo>
                  <a:pt x="19033" y="14801"/>
                </a:lnTo>
                <a:lnTo>
                  <a:pt x="19078" y="14633"/>
                </a:lnTo>
                <a:lnTo>
                  <a:pt x="19090" y="14587"/>
                </a:lnTo>
                <a:lnTo>
                  <a:pt x="19101" y="14511"/>
                </a:lnTo>
                <a:lnTo>
                  <a:pt x="19090" y="14450"/>
                </a:lnTo>
                <a:lnTo>
                  <a:pt x="19090" y="14389"/>
                </a:lnTo>
                <a:lnTo>
                  <a:pt x="19055" y="14359"/>
                </a:lnTo>
                <a:lnTo>
                  <a:pt x="19021" y="14313"/>
                </a:lnTo>
                <a:lnTo>
                  <a:pt x="19021" y="14313"/>
                </a:lnTo>
                <a:lnTo>
                  <a:pt x="18941" y="14374"/>
                </a:lnTo>
                <a:lnTo>
                  <a:pt x="18838" y="14466"/>
                </a:lnTo>
                <a:lnTo>
                  <a:pt x="18643" y="14618"/>
                </a:lnTo>
                <a:lnTo>
                  <a:pt x="18414" y="14740"/>
                </a:lnTo>
                <a:lnTo>
                  <a:pt x="18162" y="14877"/>
                </a:lnTo>
                <a:lnTo>
                  <a:pt x="18162" y="14877"/>
                </a:lnTo>
                <a:lnTo>
                  <a:pt x="18219" y="14801"/>
                </a:lnTo>
                <a:lnTo>
                  <a:pt x="18254" y="14709"/>
                </a:lnTo>
                <a:lnTo>
                  <a:pt x="18254" y="14709"/>
                </a:lnTo>
                <a:lnTo>
                  <a:pt x="18173" y="14572"/>
                </a:lnTo>
                <a:lnTo>
                  <a:pt x="18139" y="14527"/>
                </a:lnTo>
                <a:lnTo>
                  <a:pt x="18093" y="14466"/>
                </a:lnTo>
                <a:lnTo>
                  <a:pt x="18070" y="14450"/>
                </a:lnTo>
                <a:lnTo>
                  <a:pt x="18036" y="14435"/>
                </a:lnTo>
                <a:lnTo>
                  <a:pt x="18013" y="14435"/>
                </a:lnTo>
                <a:lnTo>
                  <a:pt x="17978" y="14466"/>
                </a:lnTo>
                <a:lnTo>
                  <a:pt x="17944" y="14481"/>
                </a:lnTo>
                <a:lnTo>
                  <a:pt x="17921" y="14527"/>
                </a:lnTo>
                <a:lnTo>
                  <a:pt x="17887" y="14587"/>
                </a:lnTo>
                <a:lnTo>
                  <a:pt x="17875" y="14633"/>
                </a:lnTo>
                <a:lnTo>
                  <a:pt x="17829" y="14816"/>
                </a:lnTo>
                <a:lnTo>
                  <a:pt x="17795" y="15060"/>
                </a:lnTo>
                <a:lnTo>
                  <a:pt x="17795" y="15060"/>
                </a:lnTo>
                <a:lnTo>
                  <a:pt x="17807" y="15060"/>
                </a:lnTo>
                <a:lnTo>
                  <a:pt x="17807" y="15060"/>
                </a:lnTo>
                <a:lnTo>
                  <a:pt x="17337" y="15289"/>
                </a:lnTo>
                <a:lnTo>
                  <a:pt x="17119" y="15410"/>
                </a:lnTo>
                <a:lnTo>
                  <a:pt x="16924" y="15548"/>
                </a:lnTo>
                <a:lnTo>
                  <a:pt x="16741" y="15670"/>
                </a:lnTo>
                <a:lnTo>
                  <a:pt x="16661" y="15746"/>
                </a:lnTo>
                <a:lnTo>
                  <a:pt x="16592" y="15822"/>
                </a:lnTo>
                <a:lnTo>
                  <a:pt x="16523" y="15898"/>
                </a:lnTo>
                <a:lnTo>
                  <a:pt x="16477" y="15959"/>
                </a:lnTo>
                <a:lnTo>
                  <a:pt x="16432" y="16051"/>
                </a:lnTo>
                <a:lnTo>
                  <a:pt x="16397" y="16142"/>
                </a:lnTo>
                <a:lnTo>
                  <a:pt x="16397" y="16142"/>
                </a:lnTo>
                <a:lnTo>
                  <a:pt x="16500" y="16157"/>
                </a:lnTo>
                <a:lnTo>
                  <a:pt x="16592" y="16173"/>
                </a:lnTo>
                <a:lnTo>
                  <a:pt x="16706" y="16234"/>
                </a:lnTo>
                <a:lnTo>
                  <a:pt x="16798" y="16295"/>
                </a:lnTo>
                <a:lnTo>
                  <a:pt x="17004" y="16432"/>
                </a:lnTo>
                <a:lnTo>
                  <a:pt x="17199" y="16600"/>
                </a:lnTo>
                <a:lnTo>
                  <a:pt x="17394" y="16752"/>
                </a:lnTo>
                <a:lnTo>
                  <a:pt x="17497" y="16813"/>
                </a:lnTo>
                <a:lnTo>
                  <a:pt x="17589" y="16874"/>
                </a:lnTo>
                <a:lnTo>
                  <a:pt x="17692" y="16920"/>
                </a:lnTo>
                <a:lnTo>
                  <a:pt x="17795" y="16950"/>
                </a:lnTo>
                <a:lnTo>
                  <a:pt x="17875" y="16950"/>
                </a:lnTo>
                <a:lnTo>
                  <a:pt x="17990" y="16950"/>
                </a:lnTo>
                <a:lnTo>
                  <a:pt x="17990" y="16950"/>
                </a:lnTo>
                <a:lnTo>
                  <a:pt x="17875" y="17179"/>
                </a:lnTo>
                <a:lnTo>
                  <a:pt x="17795" y="17407"/>
                </a:lnTo>
                <a:lnTo>
                  <a:pt x="17703" y="17651"/>
                </a:lnTo>
                <a:lnTo>
                  <a:pt x="17635" y="17895"/>
                </a:lnTo>
                <a:close/>
                <a:moveTo>
                  <a:pt x="11653" y="17895"/>
                </a:moveTo>
                <a:lnTo>
                  <a:pt x="11653" y="17895"/>
                </a:lnTo>
                <a:lnTo>
                  <a:pt x="11653" y="16950"/>
                </a:lnTo>
                <a:lnTo>
                  <a:pt x="11653" y="16950"/>
                </a:lnTo>
                <a:lnTo>
                  <a:pt x="11584" y="17179"/>
                </a:lnTo>
                <a:lnTo>
                  <a:pt x="11527" y="17331"/>
                </a:lnTo>
                <a:lnTo>
                  <a:pt x="11504" y="17484"/>
                </a:lnTo>
                <a:lnTo>
                  <a:pt x="11504" y="17560"/>
                </a:lnTo>
                <a:lnTo>
                  <a:pt x="11493" y="17651"/>
                </a:lnTo>
                <a:lnTo>
                  <a:pt x="11493" y="17712"/>
                </a:lnTo>
                <a:lnTo>
                  <a:pt x="11504" y="17758"/>
                </a:lnTo>
                <a:lnTo>
                  <a:pt x="11515" y="17819"/>
                </a:lnTo>
                <a:lnTo>
                  <a:pt x="11550" y="17865"/>
                </a:lnTo>
                <a:lnTo>
                  <a:pt x="11596" y="17895"/>
                </a:lnTo>
                <a:lnTo>
                  <a:pt x="11653" y="17895"/>
                </a:lnTo>
                <a:close/>
                <a:moveTo>
                  <a:pt x="15159" y="17819"/>
                </a:moveTo>
                <a:lnTo>
                  <a:pt x="15159" y="17819"/>
                </a:lnTo>
                <a:lnTo>
                  <a:pt x="15228" y="17758"/>
                </a:lnTo>
                <a:lnTo>
                  <a:pt x="15251" y="17727"/>
                </a:lnTo>
                <a:lnTo>
                  <a:pt x="15262" y="17712"/>
                </a:lnTo>
                <a:lnTo>
                  <a:pt x="15251" y="17712"/>
                </a:lnTo>
                <a:lnTo>
                  <a:pt x="15251" y="17712"/>
                </a:lnTo>
                <a:lnTo>
                  <a:pt x="15228" y="17712"/>
                </a:lnTo>
                <a:lnTo>
                  <a:pt x="15194" y="17727"/>
                </a:lnTo>
                <a:lnTo>
                  <a:pt x="15171" y="17773"/>
                </a:lnTo>
                <a:lnTo>
                  <a:pt x="15159" y="17804"/>
                </a:lnTo>
                <a:lnTo>
                  <a:pt x="15159" y="17819"/>
                </a:lnTo>
                <a:close/>
                <a:moveTo>
                  <a:pt x="5522" y="17209"/>
                </a:moveTo>
                <a:lnTo>
                  <a:pt x="5522" y="17209"/>
                </a:lnTo>
                <a:lnTo>
                  <a:pt x="5511" y="17362"/>
                </a:lnTo>
                <a:lnTo>
                  <a:pt x="5500" y="17468"/>
                </a:lnTo>
                <a:lnTo>
                  <a:pt x="5500" y="17529"/>
                </a:lnTo>
                <a:lnTo>
                  <a:pt x="5511" y="17575"/>
                </a:lnTo>
                <a:lnTo>
                  <a:pt x="5522" y="17636"/>
                </a:lnTo>
                <a:lnTo>
                  <a:pt x="5534" y="17667"/>
                </a:lnTo>
                <a:lnTo>
                  <a:pt x="5580" y="17727"/>
                </a:lnTo>
                <a:lnTo>
                  <a:pt x="5660" y="17773"/>
                </a:lnTo>
                <a:lnTo>
                  <a:pt x="5729" y="17819"/>
                </a:lnTo>
                <a:lnTo>
                  <a:pt x="5843" y="17819"/>
                </a:lnTo>
                <a:lnTo>
                  <a:pt x="5843" y="17819"/>
                </a:lnTo>
                <a:lnTo>
                  <a:pt x="5866" y="17606"/>
                </a:lnTo>
                <a:lnTo>
                  <a:pt x="5866" y="17453"/>
                </a:lnTo>
                <a:lnTo>
                  <a:pt x="5866" y="17301"/>
                </a:lnTo>
                <a:lnTo>
                  <a:pt x="5866" y="17164"/>
                </a:lnTo>
                <a:lnTo>
                  <a:pt x="5843" y="17042"/>
                </a:lnTo>
                <a:lnTo>
                  <a:pt x="5832" y="16996"/>
                </a:lnTo>
                <a:lnTo>
                  <a:pt x="5809" y="16950"/>
                </a:lnTo>
                <a:lnTo>
                  <a:pt x="5786" y="16950"/>
                </a:lnTo>
                <a:lnTo>
                  <a:pt x="5763" y="16935"/>
                </a:lnTo>
                <a:lnTo>
                  <a:pt x="5763" y="16935"/>
                </a:lnTo>
                <a:lnTo>
                  <a:pt x="5717" y="16950"/>
                </a:lnTo>
                <a:lnTo>
                  <a:pt x="5671" y="16996"/>
                </a:lnTo>
                <a:lnTo>
                  <a:pt x="5603" y="17087"/>
                </a:lnTo>
                <a:lnTo>
                  <a:pt x="5522" y="17209"/>
                </a:lnTo>
                <a:close/>
                <a:moveTo>
                  <a:pt x="13303" y="17743"/>
                </a:moveTo>
                <a:lnTo>
                  <a:pt x="13303" y="17743"/>
                </a:lnTo>
                <a:lnTo>
                  <a:pt x="13372" y="17743"/>
                </a:lnTo>
                <a:lnTo>
                  <a:pt x="13441" y="17743"/>
                </a:lnTo>
                <a:lnTo>
                  <a:pt x="13498" y="17727"/>
                </a:lnTo>
                <a:lnTo>
                  <a:pt x="13544" y="17712"/>
                </a:lnTo>
                <a:lnTo>
                  <a:pt x="13589" y="17667"/>
                </a:lnTo>
                <a:lnTo>
                  <a:pt x="13624" y="17621"/>
                </a:lnTo>
                <a:lnTo>
                  <a:pt x="13647" y="17560"/>
                </a:lnTo>
                <a:lnTo>
                  <a:pt x="13658" y="17468"/>
                </a:lnTo>
                <a:lnTo>
                  <a:pt x="13658" y="17468"/>
                </a:lnTo>
                <a:lnTo>
                  <a:pt x="13613" y="17423"/>
                </a:lnTo>
                <a:lnTo>
                  <a:pt x="13544" y="17362"/>
                </a:lnTo>
                <a:lnTo>
                  <a:pt x="13372" y="17240"/>
                </a:lnTo>
                <a:lnTo>
                  <a:pt x="13200" y="17148"/>
                </a:lnTo>
                <a:lnTo>
                  <a:pt x="13051" y="17072"/>
                </a:lnTo>
                <a:lnTo>
                  <a:pt x="13051" y="17072"/>
                </a:lnTo>
                <a:lnTo>
                  <a:pt x="13039" y="17194"/>
                </a:lnTo>
                <a:lnTo>
                  <a:pt x="13051" y="17301"/>
                </a:lnTo>
                <a:lnTo>
                  <a:pt x="13051" y="17392"/>
                </a:lnTo>
                <a:lnTo>
                  <a:pt x="13086" y="17468"/>
                </a:lnTo>
                <a:lnTo>
                  <a:pt x="13131" y="17545"/>
                </a:lnTo>
                <a:lnTo>
                  <a:pt x="13188" y="17621"/>
                </a:lnTo>
                <a:lnTo>
                  <a:pt x="13303" y="17743"/>
                </a:lnTo>
                <a:close/>
                <a:moveTo>
                  <a:pt x="11137" y="17743"/>
                </a:moveTo>
                <a:lnTo>
                  <a:pt x="11137" y="17743"/>
                </a:lnTo>
                <a:lnTo>
                  <a:pt x="11183" y="17667"/>
                </a:lnTo>
                <a:lnTo>
                  <a:pt x="11206" y="17560"/>
                </a:lnTo>
                <a:lnTo>
                  <a:pt x="11217" y="17468"/>
                </a:lnTo>
                <a:lnTo>
                  <a:pt x="11217" y="17392"/>
                </a:lnTo>
                <a:lnTo>
                  <a:pt x="11183" y="17301"/>
                </a:lnTo>
                <a:lnTo>
                  <a:pt x="11149" y="17209"/>
                </a:lnTo>
                <a:lnTo>
                  <a:pt x="11103" y="17133"/>
                </a:lnTo>
                <a:lnTo>
                  <a:pt x="11034" y="17072"/>
                </a:lnTo>
                <a:lnTo>
                  <a:pt x="11034" y="17072"/>
                </a:lnTo>
                <a:lnTo>
                  <a:pt x="10988" y="17179"/>
                </a:lnTo>
                <a:lnTo>
                  <a:pt x="10943" y="17255"/>
                </a:lnTo>
                <a:lnTo>
                  <a:pt x="10931" y="17346"/>
                </a:lnTo>
                <a:lnTo>
                  <a:pt x="10931" y="17438"/>
                </a:lnTo>
                <a:lnTo>
                  <a:pt x="10954" y="17514"/>
                </a:lnTo>
                <a:lnTo>
                  <a:pt x="11011" y="17590"/>
                </a:lnTo>
                <a:lnTo>
                  <a:pt x="11069" y="17682"/>
                </a:lnTo>
                <a:lnTo>
                  <a:pt x="11137" y="17743"/>
                </a:lnTo>
                <a:close/>
                <a:moveTo>
                  <a:pt x="2383" y="17468"/>
                </a:moveTo>
                <a:lnTo>
                  <a:pt x="2383" y="17468"/>
                </a:lnTo>
                <a:lnTo>
                  <a:pt x="2440" y="17514"/>
                </a:lnTo>
                <a:lnTo>
                  <a:pt x="2497" y="17529"/>
                </a:lnTo>
                <a:lnTo>
                  <a:pt x="2566" y="17545"/>
                </a:lnTo>
                <a:lnTo>
                  <a:pt x="2635" y="17560"/>
                </a:lnTo>
                <a:lnTo>
                  <a:pt x="2784" y="17560"/>
                </a:lnTo>
                <a:lnTo>
                  <a:pt x="2944" y="17529"/>
                </a:lnTo>
                <a:lnTo>
                  <a:pt x="3254" y="17468"/>
                </a:lnTo>
                <a:lnTo>
                  <a:pt x="3517" y="17423"/>
                </a:lnTo>
                <a:lnTo>
                  <a:pt x="3517" y="17423"/>
                </a:lnTo>
                <a:lnTo>
                  <a:pt x="3506" y="17255"/>
                </a:lnTo>
                <a:lnTo>
                  <a:pt x="3494" y="17194"/>
                </a:lnTo>
                <a:lnTo>
                  <a:pt x="3483" y="17164"/>
                </a:lnTo>
                <a:lnTo>
                  <a:pt x="3448" y="17118"/>
                </a:lnTo>
                <a:lnTo>
                  <a:pt x="3426" y="17072"/>
                </a:lnTo>
                <a:lnTo>
                  <a:pt x="3311" y="17011"/>
                </a:lnTo>
                <a:lnTo>
                  <a:pt x="3311" y="17011"/>
                </a:lnTo>
                <a:lnTo>
                  <a:pt x="3254" y="17057"/>
                </a:lnTo>
                <a:lnTo>
                  <a:pt x="3208" y="17118"/>
                </a:lnTo>
                <a:lnTo>
                  <a:pt x="3139" y="17148"/>
                </a:lnTo>
                <a:lnTo>
                  <a:pt x="3070" y="17179"/>
                </a:lnTo>
                <a:lnTo>
                  <a:pt x="2921" y="17209"/>
                </a:lnTo>
                <a:lnTo>
                  <a:pt x="2795" y="17255"/>
                </a:lnTo>
                <a:lnTo>
                  <a:pt x="2658" y="17301"/>
                </a:lnTo>
                <a:lnTo>
                  <a:pt x="2555" y="17331"/>
                </a:lnTo>
                <a:lnTo>
                  <a:pt x="2497" y="17362"/>
                </a:lnTo>
                <a:lnTo>
                  <a:pt x="2440" y="17392"/>
                </a:lnTo>
                <a:lnTo>
                  <a:pt x="2417" y="17438"/>
                </a:lnTo>
                <a:lnTo>
                  <a:pt x="2383" y="17468"/>
                </a:lnTo>
                <a:close/>
                <a:moveTo>
                  <a:pt x="12123" y="17560"/>
                </a:moveTo>
                <a:lnTo>
                  <a:pt x="12123" y="17560"/>
                </a:lnTo>
                <a:lnTo>
                  <a:pt x="12157" y="17545"/>
                </a:lnTo>
                <a:lnTo>
                  <a:pt x="12180" y="17514"/>
                </a:lnTo>
                <a:lnTo>
                  <a:pt x="12203" y="17468"/>
                </a:lnTo>
                <a:lnTo>
                  <a:pt x="12214" y="17423"/>
                </a:lnTo>
                <a:lnTo>
                  <a:pt x="12214" y="17362"/>
                </a:lnTo>
                <a:lnTo>
                  <a:pt x="12203" y="17285"/>
                </a:lnTo>
                <a:lnTo>
                  <a:pt x="12180" y="17133"/>
                </a:lnTo>
                <a:lnTo>
                  <a:pt x="12134" y="16950"/>
                </a:lnTo>
                <a:lnTo>
                  <a:pt x="12089" y="16798"/>
                </a:lnTo>
                <a:lnTo>
                  <a:pt x="12020" y="16691"/>
                </a:lnTo>
                <a:lnTo>
                  <a:pt x="11997" y="16630"/>
                </a:lnTo>
                <a:lnTo>
                  <a:pt x="11962" y="16615"/>
                </a:lnTo>
                <a:lnTo>
                  <a:pt x="11962" y="16615"/>
                </a:lnTo>
                <a:lnTo>
                  <a:pt x="11916" y="16737"/>
                </a:lnTo>
                <a:lnTo>
                  <a:pt x="11894" y="16874"/>
                </a:lnTo>
                <a:lnTo>
                  <a:pt x="11882" y="16996"/>
                </a:lnTo>
                <a:lnTo>
                  <a:pt x="11894" y="17133"/>
                </a:lnTo>
                <a:lnTo>
                  <a:pt x="11916" y="17240"/>
                </a:lnTo>
                <a:lnTo>
                  <a:pt x="11962" y="17346"/>
                </a:lnTo>
                <a:lnTo>
                  <a:pt x="12031" y="17453"/>
                </a:lnTo>
                <a:lnTo>
                  <a:pt x="12123" y="17560"/>
                </a:lnTo>
                <a:close/>
                <a:moveTo>
                  <a:pt x="10576" y="17072"/>
                </a:moveTo>
                <a:lnTo>
                  <a:pt x="10576" y="17072"/>
                </a:lnTo>
                <a:lnTo>
                  <a:pt x="10530" y="17560"/>
                </a:lnTo>
                <a:lnTo>
                  <a:pt x="10530" y="17560"/>
                </a:lnTo>
                <a:lnTo>
                  <a:pt x="10599" y="17545"/>
                </a:lnTo>
                <a:lnTo>
                  <a:pt x="10656" y="17529"/>
                </a:lnTo>
                <a:lnTo>
                  <a:pt x="10679" y="17499"/>
                </a:lnTo>
                <a:lnTo>
                  <a:pt x="10690" y="17468"/>
                </a:lnTo>
                <a:lnTo>
                  <a:pt x="10713" y="17438"/>
                </a:lnTo>
                <a:lnTo>
                  <a:pt x="10725" y="17392"/>
                </a:lnTo>
                <a:lnTo>
                  <a:pt x="10759" y="17331"/>
                </a:lnTo>
                <a:lnTo>
                  <a:pt x="10839" y="17285"/>
                </a:lnTo>
                <a:lnTo>
                  <a:pt x="10839" y="17285"/>
                </a:lnTo>
                <a:lnTo>
                  <a:pt x="10805" y="17194"/>
                </a:lnTo>
                <a:lnTo>
                  <a:pt x="10794" y="17164"/>
                </a:lnTo>
                <a:lnTo>
                  <a:pt x="10759" y="17133"/>
                </a:lnTo>
                <a:lnTo>
                  <a:pt x="10736" y="17103"/>
                </a:lnTo>
                <a:lnTo>
                  <a:pt x="10713" y="17087"/>
                </a:lnTo>
                <a:lnTo>
                  <a:pt x="10633" y="17072"/>
                </a:lnTo>
                <a:lnTo>
                  <a:pt x="10633" y="17072"/>
                </a:lnTo>
                <a:lnTo>
                  <a:pt x="10576" y="17072"/>
                </a:lnTo>
                <a:close/>
                <a:moveTo>
                  <a:pt x="10267" y="17560"/>
                </a:moveTo>
                <a:lnTo>
                  <a:pt x="10267" y="17560"/>
                </a:lnTo>
                <a:lnTo>
                  <a:pt x="10358" y="17560"/>
                </a:lnTo>
                <a:lnTo>
                  <a:pt x="10358" y="17560"/>
                </a:lnTo>
                <a:lnTo>
                  <a:pt x="10358" y="17011"/>
                </a:lnTo>
                <a:lnTo>
                  <a:pt x="10358" y="17011"/>
                </a:lnTo>
                <a:lnTo>
                  <a:pt x="10267" y="17560"/>
                </a:lnTo>
                <a:close/>
                <a:moveTo>
                  <a:pt x="5213" y="17468"/>
                </a:moveTo>
                <a:lnTo>
                  <a:pt x="5213" y="17468"/>
                </a:lnTo>
                <a:lnTo>
                  <a:pt x="5224" y="17316"/>
                </a:lnTo>
                <a:lnTo>
                  <a:pt x="5248" y="17194"/>
                </a:lnTo>
                <a:lnTo>
                  <a:pt x="5282" y="17072"/>
                </a:lnTo>
                <a:lnTo>
                  <a:pt x="5328" y="16965"/>
                </a:lnTo>
                <a:lnTo>
                  <a:pt x="5385" y="16889"/>
                </a:lnTo>
                <a:lnTo>
                  <a:pt x="5465" y="16828"/>
                </a:lnTo>
                <a:lnTo>
                  <a:pt x="5557" y="16783"/>
                </a:lnTo>
                <a:lnTo>
                  <a:pt x="5683" y="16737"/>
                </a:lnTo>
                <a:lnTo>
                  <a:pt x="5683" y="16737"/>
                </a:lnTo>
                <a:lnTo>
                  <a:pt x="5637" y="16691"/>
                </a:lnTo>
                <a:lnTo>
                  <a:pt x="5580" y="16630"/>
                </a:lnTo>
                <a:lnTo>
                  <a:pt x="5522" y="16600"/>
                </a:lnTo>
                <a:lnTo>
                  <a:pt x="5488" y="16554"/>
                </a:lnTo>
                <a:lnTo>
                  <a:pt x="5373" y="16523"/>
                </a:lnTo>
                <a:lnTo>
                  <a:pt x="5293" y="16508"/>
                </a:lnTo>
                <a:lnTo>
                  <a:pt x="5293" y="16508"/>
                </a:lnTo>
                <a:lnTo>
                  <a:pt x="5213" y="16508"/>
                </a:lnTo>
                <a:lnTo>
                  <a:pt x="5156" y="16523"/>
                </a:lnTo>
                <a:lnTo>
                  <a:pt x="5110" y="16554"/>
                </a:lnTo>
                <a:lnTo>
                  <a:pt x="5064" y="16600"/>
                </a:lnTo>
                <a:lnTo>
                  <a:pt x="5007" y="16645"/>
                </a:lnTo>
                <a:lnTo>
                  <a:pt x="4972" y="16691"/>
                </a:lnTo>
                <a:lnTo>
                  <a:pt x="4950" y="16767"/>
                </a:lnTo>
                <a:lnTo>
                  <a:pt x="4938" y="16828"/>
                </a:lnTo>
                <a:lnTo>
                  <a:pt x="4938" y="16904"/>
                </a:lnTo>
                <a:lnTo>
                  <a:pt x="4938" y="16981"/>
                </a:lnTo>
                <a:lnTo>
                  <a:pt x="4950" y="17057"/>
                </a:lnTo>
                <a:lnTo>
                  <a:pt x="4961" y="17148"/>
                </a:lnTo>
                <a:lnTo>
                  <a:pt x="5007" y="17225"/>
                </a:lnTo>
                <a:lnTo>
                  <a:pt x="5064" y="17316"/>
                </a:lnTo>
                <a:lnTo>
                  <a:pt x="5144" y="17407"/>
                </a:lnTo>
                <a:lnTo>
                  <a:pt x="5213" y="17468"/>
                </a:lnTo>
                <a:close/>
                <a:moveTo>
                  <a:pt x="10060" y="17423"/>
                </a:moveTo>
                <a:lnTo>
                  <a:pt x="10060" y="17423"/>
                </a:lnTo>
                <a:lnTo>
                  <a:pt x="10060" y="17316"/>
                </a:lnTo>
                <a:lnTo>
                  <a:pt x="10049" y="17225"/>
                </a:lnTo>
                <a:lnTo>
                  <a:pt x="10014" y="17148"/>
                </a:lnTo>
                <a:lnTo>
                  <a:pt x="10003" y="17057"/>
                </a:lnTo>
                <a:lnTo>
                  <a:pt x="9969" y="16981"/>
                </a:lnTo>
                <a:lnTo>
                  <a:pt x="9923" y="16935"/>
                </a:lnTo>
                <a:lnTo>
                  <a:pt x="9865" y="16874"/>
                </a:lnTo>
                <a:lnTo>
                  <a:pt x="9797" y="16798"/>
                </a:lnTo>
                <a:lnTo>
                  <a:pt x="9797" y="16798"/>
                </a:lnTo>
                <a:lnTo>
                  <a:pt x="9774" y="16950"/>
                </a:lnTo>
                <a:lnTo>
                  <a:pt x="9751" y="17057"/>
                </a:lnTo>
                <a:lnTo>
                  <a:pt x="9751" y="17164"/>
                </a:lnTo>
                <a:lnTo>
                  <a:pt x="9751" y="17194"/>
                </a:lnTo>
                <a:lnTo>
                  <a:pt x="9774" y="17225"/>
                </a:lnTo>
                <a:lnTo>
                  <a:pt x="9785" y="17270"/>
                </a:lnTo>
                <a:lnTo>
                  <a:pt x="9797" y="17301"/>
                </a:lnTo>
                <a:lnTo>
                  <a:pt x="9865" y="17346"/>
                </a:lnTo>
                <a:lnTo>
                  <a:pt x="9957" y="17392"/>
                </a:lnTo>
                <a:lnTo>
                  <a:pt x="10060" y="17423"/>
                </a:lnTo>
                <a:close/>
                <a:moveTo>
                  <a:pt x="14438" y="17209"/>
                </a:moveTo>
                <a:lnTo>
                  <a:pt x="14438" y="17209"/>
                </a:lnTo>
                <a:lnTo>
                  <a:pt x="14082" y="16950"/>
                </a:lnTo>
                <a:lnTo>
                  <a:pt x="14082" y="16950"/>
                </a:lnTo>
                <a:lnTo>
                  <a:pt x="14014" y="17087"/>
                </a:lnTo>
                <a:lnTo>
                  <a:pt x="13979" y="17194"/>
                </a:lnTo>
                <a:lnTo>
                  <a:pt x="13979" y="17240"/>
                </a:lnTo>
                <a:lnTo>
                  <a:pt x="13979" y="17285"/>
                </a:lnTo>
                <a:lnTo>
                  <a:pt x="13991" y="17301"/>
                </a:lnTo>
                <a:lnTo>
                  <a:pt x="14014" y="17331"/>
                </a:lnTo>
                <a:lnTo>
                  <a:pt x="14025" y="17346"/>
                </a:lnTo>
                <a:lnTo>
                  <a:pt x="14071" y="17346"/>
                </a:lnTo>
                <a:lnTo>
                  <a:pt x="14163" y="17331"/>
                </a:lnTo>
                <a:lnTo>
                  <a:pt x="14289" y="17301"/>
                </a:lnTo>
                <a:lnTo>
                  <a:pt x="14438" y="17209"/>
                </a:lnTo>
                <a:close/>
                <a:moveTo>
                  <a:pt x="12375" y="16950"/>
                </a:moveTo>
                <a:lnTo>
                  <a:pt x="12375" y="16950"/>
                </a:lnTo>
                <a:lnTo>
                  <a:pt x="12845" y="17285"/>
                </a:lnTo>
                <a:lnTo>
                  <a:pt x="12845" y="17285"/>
                </a:lnTo>
                <a:lnTo>
                  <a:pt x="12845" y="17164"/>
                </a:lnTo>
                <a:lnTo>
                  <a:pt x="12833" y="17026"/>
                </a:lnTo>
                <a:lnTo>
                  <a:pt x="12810" y="16904"/>
                </a:lnTo>
                <a:lnTo>
                  <a:pt x="12788" y="16783"/>
                </a:lnTo>
                <a:lnTo>
                  <a:pt x="12742" y="16676"/>
                </a:lnTo>
                <a:lnTo>
                  <a:pt x="12684" y="16569"/>
                </a:lnTo>
                <a:lnTo>
                  <a:pt x="12627" y="16478"/>
                </a:lnTo>
                <a:lnTo>
                  <a:pt x="12524" y="16417"/>
                </a:lnTo>
                <a:lnTo>
                  <a:pt x="12524" y="16417"/>
                </a:lnTo>
                <a:lnTo>
                  <a:pt x="12375" y="16950"/>
                </a:lnTo>
                <a:close/>
                <a:moveTo>
                  <a:pt x="13727" y="17209"/>
                </a:moveTo>
                <a:lnTo>
                  <a:pt x="13727" y="17209"/>
                </a:lnTo>
                <a:lnTo>
                  <a:pt x="13716" y="17133"/>
                </a:lnTo>
                <a:lnTo>
                  <a:pt x="13727" y="17026"/>
                </a:lnTo>
                <a:lnTo>
                  <a:pt x="13773" y="16950"/>
                </a:lnTo>
                <a:lnTo>
                  <a:pt x="13819" y="16874"/>
                </a:lnTo>
                <a:lnTo>
                  <a:pt x="13819" y="16874"/>
                </a:lnTo>
                <a:lnTo>
                  <a:pt x="13624" y="16798"/>
                </a:lnTo>
                <a:lnTo>
                  <a:pt x="13624" y="16798"/>
                </a:lnTo>
                <a:lnTo>
                  <a:pt x="13624" y="16935"/>
                </a:lnTo>
                <a:lnTo>
                  <a:pt x="13624" y="17026"/>
                </a:lnTo>
                <a:lnTo>
                  <a:pt x="13658" y="17133"/>
                </a:lnTo>
                <a:lnTo>
                  <a:pt x="13727" y="17209"/>
                </a:lnTo>
                <a:close/>
                <a:moveTo>
                  <a:pt x="11298" y="17148"/>
                </a:moveTo>
                <a:lnTo>
                  <a:pt x="11298" y="17148"/>
                </a:lnTo>
                <a:lnTo>
                  <a:pt x="11332" y="17133"/>
                </a:lnTo>
                <a:lnTo>
                  <a:pt x="11366" y="17133"/>
                </a:lnTo>
                <a:lnTo>
                  <a:pt x="11389" y="17103"/>
                </a:lnTo>
                <a:lnTo>
                  <a:pt x="11413" y="17057"/>
                </a:lnTo>
                <a:lnTo>
                  <a:pt x="11435" y="17026"/>
                </a:lnTo>
                <a:lnTo>
                  <a:pt x="11435" y="16965"/>
                </a:lnTo>
                <a:lnTo>
                  <a:pt x="11447" y="16874"/>
                </a:lnTo>
                <a:lnTo>
                  <a:pt x="11435" y="16752"/>
                </a:lnTo>
                <a:lnTo>
                  <a:pt x="11413" y="16645"/>
                </a:lnTo>
                <a:lnTo>
                  <a:pt x="11378" y="16539"/>
                </a:lnTo>
                <a:lnTo>
                  <a:pt x="11344" y="16462"/>
                </a:lnTo>
                <a:lnTo>
                  <a:pt x="11344" y="16462"/>
                </a:lnTo>
                <a:lnTo>
                  <a:pt x="11309" y="16554"/>
                </a:lnTo>
                <a:lnTo>
                  <a:pt x="11298" y="16630"/>
                </a:lnTo>
                <a:lnTo>
                  <a:pt x="11275" y="16706"/>
                </a:lnTo>
                <a:lnTo>
                  <a:pt x="11264" y="16798"/>
                </a:lnTo>
                <a:lnTo>
                  <a:pt x="11264" y="16889"/>
                </a:lnTo>
                <a:lnTo>
                  <a:pt x="11264" y="16965"/>
                </a:lnTo>
                <a:lnTo>
                  <a:pt x="11286" y="17057"/>
                </a:lnTo>
                <a:lnTo>
                  <a:pt x="11298" y="17148"/>
                </a:lnTo>
                <a:close/>
                <a:moveTo>
                  <a:pt x="13452" y="17011"/>
                </a:moveTo>
                <a:lnTo>
                  <a:pt x="13452" y="17011"/>
                </a:lnTo>
                <a:lnTo>
                  <a:pt x="13395" y="16798"/>
                </a:lnTo>
                <a:lnTo>
                  <a:pt x="13303" y="16615"/>
                </a:lnTo>
                <a:lnTo>
                  <a:pt x="13223" y="16432"/>
                </a:lnTo>
                <a:lnTo>
                  <a:pt x="13097" y="16264"/>
                </a:lnTo>
                <a:lnTo>
                  <a:pt x="13097" y="16264"/>
                </a:lnTo>
                <a:lnTo>
                  <a:pt x="13086" y="16371"/>
                </a:lnTo>
                <a:lnTo>
                  <a:pt x="13086" y="16447"/>
                </a:lnTo>
                <a:lnTo>
                  <a:pt x="13086" y="16539"/>
                </a:lnTo>
                <a:lnTo>
                  <a:pt x="13108" y="16615"/>
                </a:lnTo>
                <a:lnTo>
                  <a:pt x="13143" y="16691"/>
                </a:lnTo>
                <a:lnTo>
                  <a:pt x="13166" y="16752"/>
                </a:lnTo>
                <a:lnTo>
                  <a:pt x="13211" y="16798"/>
                </a:lnTo>
                <a:lnTo>
                  <a:pt x="13246" y="16859"/>
                </a:lnTo>
                <a:lnTo>
                  <a:pt x="13315" y="16935"/>
                </a:lnTo>
                <a:lnTo>
                  <a:pt x="13395" y="16981"/>
                </a:lnTo>
                <a:lnTo>
                  <a:pt x="13441" y="17011"/>
                </a:lnTo>
                <a:lnTo>
                  <a:pt x="13452" y="17011"/>
                </a:lnTo>
                <a:close/>
                <a:moveTo>
                  <a:pt x="10152" y="17011"/>
                </a:moveTo>
                <a:lnTo>
                  <a:pt x="10152" y="17011"/>
                </a:lnTo>
                <a:lnTo>
                  <a:pt x="10221" y="16920"/>
                </a:lnTo>
                <a:lnTo>
                  <a:pt x="10289" y="16813"/>
                </a:lnTo>
                <a:lnTo>
                  <a:pt x="10335" y="16691"/>
                </a:lnTo>
                <a:lnTo>
                  <a:pt x="10358" y="16600"/>
                </a:lnTo>
                <a:lnTo>
                  <a:pt x="10358" y="16539"/>
                </a:lnTo>
                <a:lnTo>
                  <a:pt x="10358" y="16493"/>
                </a:lnTo>
                <a:lnTo>
                  <a:pt x="10347" y="16432"/>
                </a:lnTo>
                <a:lnTo>
                  <a:pt x="10335" y="16417"/>
                </a:lnTo>
                <a:lnTo>
                  <a:pt x="10301" y="16386"/>
                </a:lnTo>
                <a:lnTo>
                  <a:pt x="10278" y="16356"/>
                </a:lnTo>
                <a:lnTo>
                  <a:pt x="10221" y="16356"/>
                </a:lnTo>
                <a:lnTo>
                  <a:pt x="10152" y="16340"/>
                </a:lnTo>
                <a:lnTo>
                  <a:pt x="10152" y="16340"/>
                </a:lnTo>
                <a:lnTo>
                  <a:pt x="10140" y="16432"/>
                </a:lnTo>
                <a:lnTo>
                  <a:pt x="10118" y="16508"/>
                </a:lnTo>
                <a:lnTo>
                  <a:pt x="10095" y="16600"/>
                </a:lnTo>
                <a:lnTo>
                  <a:pt x="10095" y="16676"/>
                </a:lnTo>
                <a:lnTo>
                  <a:pt x="10095" y="16752"/>
                </a:lnTo>
                <a:lnTo>
                  <a:pt x="10118" y="16844"/>
                </a:lnTo>
                <a:lnTo>
                  <a:pt x="10140" y="16935"/>
                </a:lnTo>
                <a:lnTo>
                  <a:pt x="10152" y="17011"/>
                </a:lnTo>
                <a:close/>
                <a:moveTo>
                  <a:pt x="9545" y="16874"/>
                </a:moveTo>
                <a:lnTo>
                  <a:pt x="9545" y="16874"/>
                </a:lnTo>
                <a:lnTo>
                  <a:pt x="9579" y="16783"/>
                </a:lnTo>
                <a:lnTo>
                  <a:pt x="9636" y="16691"/>
                </a:lnTo>
                <a:lnTo>
                  <a:pt x="9659" y="16615"/>
                </a:lnTo>
                <a:lnTo>
                  <a:pt x="9682" y="16523"/>
                </a:lnTo>
                <a:lnTo>
                  <a:pt x="9705" y="16432"/>
                </a:lnTo>
                <a:lnTo>
                  <a:pt x="9716" y="16340"/>
                </a:lnTo>
                <a:lnTo>
                  <a:pt x="9716" y="16234"/>
                </a:lnTo>
                <a:lnTo>
                  <a:pt x="9705" y="16142"/>
                </a:lnTo>
                <a:lnTo>
                  <a:pt x="9705" y="16142"/>
                </a:lnTo>
                <a:lnTo>
                  <a:pt x="9648" y="16157"/>
                </a:lnTo>
                <a:lnTo>
                  <a:pt x="9579" y="16173"/>
                </a:lnTo>
                <a:lnTo>
                  <a:pt x="9556" y="16234"/>
                </a:lnTo>
                <a:lnTo>
                  <a:pt x="9510" y="16310"/>
                </a:lnTo>
                <a:lnTo>
                  <a:pt x="9487" y="16401"/>
                </a:lnTo>
                <a:lnTo>
                  <a:pt x="9453" y="16493"/>
                </a:lnTo>
                <a:lnTo>
                  <a:pt x="9430" y="16600"/>
                </a:lnTo>
                <a:lnTo>
                  <a:pt x="9430" y="16691"/>
                </a:lnTo>
                <a:lnTo>
                  <a:pt x="9430" y="16767"/>
                </a:lnTo>
                <a:lnTo>
                  <a:pt x="9430" y="16859"/>
                </a:lnTo>
                <a:lnTo>
                  <a:pt x="9430" y="16920"/>
                </a:lnTo>
                <a:lnTo>
                  <a:pt x="9442" y="16950"/>
                </a:lnTo>
                <a:lnTo>
                  <a:pt x="9464" y="16981"/>
                </a:lnTo>
                <a:lnTo>
                  <a:pt x="9487" y="16965"/>
                </a:lnTo>
                <a:lnTo>
                  <a:pt x="9510" y="16950"/>
                </a:lnTo>
                <a:lnTo>
                  <a:pt x="9545" y="16874"/>
                </a:lnTo>
                <a:close/>
                <a:moveTo>
                  <a:pt x="10736" y="16950"/>
                </a:moveTo>
                <a:lnTo>
                  <a:pt x="10736" y="16950"/>
                </a:lnTo>
                <a:lnTo>
                  <a:pt x="10771" y="16950"/>
                </a:lnTo>
                <a:lnTo>
                  <a:pt x="10805" y="16965"/>
                </a:lnTo>
                <a:lnTo>
                  <a:pt x="10839" y="16965"/>
                </a:lnTo>
                <a:lnTo>
                  <a:pt x="10862" y="16950"/>
                </a:lnTo>
                <a:lnTo>
                  <a:pt x="10874" y="16950"/>
                </a:lnTo>
                <a:lnTo>
                  <a:pt x="10885" y="16920"/>
                </a:lnTo>
                <a:lnTo>
                  <a:pt x="10908" y="16828"/>
                </a:lnTo>
                <a:lnTo>
                  <a:pt x="10897" y="16722"/>
                </a:lnTo>
                <a:lnTo>
                  <a:pt x="10885" y="16630"/>
                </a:lnTo>
                <a:lnTo>
                  <a:pt x="10862" y="16539"/>
                </a:lnTo>
                <a:lnTo>
                  <a:pt x="10839" y="16462"/>
                </a:lnTo>
                <a:lnTo>
                  <a:pt x="10839" y="16462"/>
                </a:lnTo>
                <a:lnTo>
                  <a:pt x="10736" y="16950"/>
                </a:lnTo>
                <a:close/>
                <a:moveTo>
                  <a:pt x="14953" y="16874"/>
                </a:moveTo>
                <a:lnTo>
                  <a:pt x="14953" y="16874"/>
                </a:lnTo>
                <a:lnTo>
                  <a:pt x="14942" y="16844"/>
                </a:lnTo>
                <a:lnTo>
                  <a:pt x="14919" y="16798"/>
                </a:lnTo>
                <a:lnTo>
                  <a:pt x="14861" y="16737"/>
                </a:lnTo>
                <a:lnTo>
                  <a:pt x="14781" y="16691"/>
                </a:lnTo>
                <a:lnTo>
                  <a:pt x="14712" y="16661"/>
                </a:lnTo>
                <a:lnTo>
                  <a:pt x="14541" y="16600"/>
                </a:lnTo>
                <a:lnTo>
                  <a:pt x="14392" y="16539"/>
                </a:lnTo>
                <a:lnTo>
                  <a:pt x="14392" y="16539"/>
                </a:lnTo>
                <a:lnTo>
                  <a:pt x="14415" y="16706"/>
                </a:lnTo>
                <a:lnTo>
                  <a:pt x="14449" y="16844"/>
                </a:lnTo>
                <a:lnTo>
                  <a:pt x="14472" y="16889"/>
                </a:lnTo>
                <a:lnTo>
                  <a:pt x="14506" y="16920"/>
                </a:lnTo>
                <a:lnTo>
                  <a:pt x="14529" y="16950"/>
                </a:lnTo>
                <a:lnTo>
                  <a:pt x="14563" y="16950"/>
                </a:lnTo>
                <a:lnTo>
                  <a:pt x="14598" y="16965"/>
                </a:lnTo>
                <a:lnTo>
                  <a:pt x="14632" y="16965"/>
                </a:lnTo>
                <a:lnTo>
                  <a:pt x="14724" y="16950"/>
                </a:lnTo>
                <a:lnTo>
                  <a:pt x="14827" y="16935"/>
                </a:lnTo>
                <a:lnTo>
                  <a:pt x="14953" y="16874"/>
                </a:lnTo>
                <a:close/>
                <a:moveTo>
                  <a:pt x="2383" y="16798"/>
                </a:moveTo>
                <a:lnTo>
                  <a:pt x="2383" y="16798"/>
                </a:lnTo>
                <a:lnTo>
                  <a:pt x="2532" y="16661"/>
                </a:lnTo>
                <a:lnTo>
                  <a:pt x="2692" y="16523"/>
                </a:lnTo>
                <a:lnTo>
                  <a:pt x="2853" y="16432"/>
                </a:lnTo>
                <a:lnTo>
                  <a:pt x="3013" y="16356"/>
                </a:lnTo>
                <a:lnTo>
                  <a:pt x="3185" y="16264"/>
                </a:lnTo>
                <a:lnTo>
                  <a:pt x="3357" y="16234"/>
                </a:lnTo>
                <a:lnTo>
                  <a:pt x="3540" y="16203"/>
                </a:lnTo>
                <a:lnTo>
                  <a:pt x="3724" y="16188"/>
                </a:lnTo>
                <a:lnTo>
                  <a:pt x="3724" y="16188"/>
                </a:lnTo>
                <a:lnTo>
                  <a:pt x="3712" y="16173"/>
                </a:lnTo>
                <a:lnTo>
                  <a:pt x="3689" y="16142"/>
                </a:lnTo>
                <a:lnTo>
                  <a:pt x="3620" y="16081"/>
                </a:lnTo>
                <a:lnTo>
                  <a:pt x="3517" y="16005"/>
                </a:lnTo>
                <a:lnTo>
                  <a:pt x="3403" y="15913"/>
                </a:lnTo>
                <a:lnTo>
                  <a:pt x="3070" y="15761"/>
                </a:lnTo>
                <a:lnTo>
                  <a:pt x="2715" y="15593"/>
                </a:lnTo>
                <a:lnTo>
                  <a:pt x="2337" y="15441"/>
                </a:lnTo>
                <a:lnTo>
                  <a:pt x="1982" y="15334"/>
                </a:lnTo>
                <a:lnTo>
                  <a:pt x="1672" y="15228"/>
                </a:lnTo>
                <a:lnTo>
                  <a:pt x="1558" y="15197"/>
                </a:lnTo>
                <a:lnTo>
                  <a:pt x="1466" y="15182"/>
                </a:lnTo>
                <a:lnTo>
                  <a:pt x="1466" y="15182"/>
                </a:lnTo>
                <a:lnTo>
                  <a:pt x="1489" y="15502"/>
                </a:lnTo>
                <a:lnTo>
                  <a:pt x="1500" y="15654"/>
                </a:lnTo>
                <a:lnTo>
                  <a:pt x="1535" y="15791"/>
                </a:lnTo>
                <a:lnTo>
                  <a:pt x="1569" y="15913"/>
                </a:lnTo>
                <a:lnTo>
                  <a:pt x="1604" y="16020"/>
                </a:lnTo>
                <a:lnTo>
                  <a:pt x="1649" y="16142"/>
                </a:lnTo>
                <a:lnTo>
                  <a:pt x="1695" y="16234"/>
                </a:lnTo>
                <a:lnTo>
                  <a:pt x="1753" y="16325"/>
                </a:lnTo>
                <a:lnTo>
                  <a:pt x="1821" y="16417"/>
                </a:lnTo>
                <a:lnTo>
                  <a:pt x="1890" y="16493"/>
                </a:lnTo>
                <a:lnTo>
                  <a:pt x="1970" y="16569"/>
                </a:lnTo>
                <a:lnTo>
                  <a:pt x="2062" y="16630"/>
                </a:lnTo>
                <a:lnTo>
                  <a:pt x="2154" y="16691"/>
                </a:lnTo>
                <a:lnTo>
                  <a:pt x="2268" y="16752"/>
                </a:lnTo>
                <a:lnTo>
                  <a:pt x="2383" y="16798"/>
                </a:lnTo>
                <a:close/>
                <a:moveTo>
                  <a:pt x="14289" y="16737"/>
                </a:moveTo>
                <a:lnTo>
                  <a:pt x="14289" y="16737"/>
                </a:lnTo>
                <a:lnTo>
                  <a:pt x="14220" y="16462"/>
                </a:lnTo>
                <a:lnTo>
                  <a:pt x="14220" y="16462"/>
                </a:lnTo>
                <a:lnTo>
                  <a:pt x="13933" y="16340"/>
                </a:lnTo>
                <a:lnTo>
                  <a:pt x="13933" y="16340"/>
                </a:lnTo>
                <a:lnTo>
                  <a:pt x="13910" y="16462"/>
                </a:lnTo>
                <a:lnTo>
                  <a:pt x="13922" y="16600"/>
                </a:lnTo>
                <a:lnTo>
                  <a:pt x="13945" y="16691"/>
                </a:lnTo>
                <a:lnTo>
                  <a:pt x="13956" y="16706"/>
                </a:lnTo>
                <a:lnTo>
                  <a:pt x="13979" y="16737"/>
                </a:lnTo>
                <a:lnTo>
                  <a:pt x="14002" y="16767"/>
                </a:lnTo>
                <a:lnTo>
                  <a:pt x="14025" y="16783"/>
                </a:lnTo>
                <a:lnTo>
                  <a:pt x="14094" y="16783"/>
                </a:lnTo>
                <a:lnTo>
                  <a:pt x="14185" y="16783"/>
                </a:lnTo>
                <a:lnTo>
                  <a:pt x="14289" y="16737"/>
                </a:lnTo>
                <a:close/>
                <a:moveTo>
                  <a:pt x="15217" y="16539"/>
                </a:moveTo>
                <a:lnTo>
                  <a:pt x="15217" y="16539"/>
                </a:lnTo>
                <a:lnTo>
                  <a:pt x="14953" y="16539"/>
                </a:lnTo>
                <a:lnTo>
                  <a:pt x="14953" y="16539"/>
                </a:lnTo>
                <a:lnTo>
                  <a:pt x="14976" y="16630"/>
                </a:lnTo>
                <a:lnTo>
                  <a:pt x="15010" y="16691"/>
                </a:lnTo>
                <a:lnTo>
                  <a:pt x="15033" y="16722"/>
                </a:lnTo>
                <a:lnTo>
                  <a:pt x="15068" y="16737"/>
                </a:lnTo>
                <a:lnTo>
                  <a:pt x="15102" y="16722"/>
                </a:lnTo>
                <a:lnTo>
                  <a:pt x="15148" y="16691"/>
                </a:lnTo>
                <a:lnTo>
                  <a:pt x="15171" y="16630"/>
                </a:lnTo>
                <a:lnTo>
                  <a:pt x="15217" y="16539"/>
                </a:lnTo>
                <a:close/>
                <a:moveTo>
                  <a:pt x="13773" y="16676"/>
                </a:moveTo>
                <a:lnTo>
                  <a:pt x="13773" y="16676"/>
                </a:lnTo>
                <a:lnTo>
                  <a:pt x="13842" y="16676"/>
                </a:lnTo>
                <a:lnTo>
                  <a:pt x="13865" y="16661"/>
                </a:lnTo>
                <a:lnTo>
                  <a:pt x="13876" y="16645"/>
                </a:lnTo>
                <a:lnTo>
                  <a:pt x="13899" y="16615"/>
                </a:lnTo>
                <a:lnTo>
                  <a:pt x="13910" y="16600"/>
                </a:lnTo>
                <a:lnTo>
                  <a:pt x="13910" y="16554"/>
                </a:lnTo>
                <a:lnTo>
                  <a:pt x="13910" y="16523"/>
                </a:lnTo>
                <a:lnTo>
                  <a:pt x="13876" y="16432"/>
                </a:lnTo>
                <a:lnTo>
                  <a:pt x="13830" y="16310"/>
                </a:lnTo>
                <a:lnTo>
                  <a:pt x="13762" y="16173"/>
                </a:lnTo>
                <a:lnTo>
                  <a:pt x="13658" y="16005"/>
                </a:lnTo>
                <a:lnTo>
                  <a:pt x="13658" y="16005"/>
                </a:lnTo>
                <a:lnTo>
                  <a:pt x="13647" y="16096"/>
                </a:lnTo>
                <a:lnTo>
                  <a:pt x="13647" y="16173"/>
                </a:lnTo>
                <a:lnTo>
                  <a:pt x="13647" y="16264"/>
                </a:lnTo>
                <a:lnTo>
                  <a:pt x="13647" y="16356"/>
                </a:lnTo>
                <a:lnTo>
                  <a:pt x="13670" y="16432"/>
                </a:lnTo>
                <a:lnTo>
                  <a:pt x="13704" y="16523"/>
                </a:lnTo>
                <a:lnTo>
                  <a:pt x="13727" y="16600"/>
                </a:lnTo>
                <a:lnTo>
                  <a:pt x="13773" y="16676"/>
                </a:lnTo>
                <a:close/>
                <a:moveTo>
                  <a:pt x="12226" y="16615"/>
                </a:moveTo>
                <a:lnTo>
                  <a:pt x="12226" y="16615"/>
                </a:lnTo>
                <a:lnTo>
                  <a:pt x="12249" y="16523"/>
                </a:lnTo>
                <a:lnTo>
                  <a:pt x="12283" y="16447"/>
                </a:lnTo>
                <a:lnTo>
                  <a:pt x="12329" y="16401"/>
                </a:lnTo>
                <a:lnTo>
                  <a:pt x="12375" y="16340"/>
                </a:lnTo>
                <a:lnTo>
                  <a:pt x="12375" y="16340"/>
                </a:lnTo>
                <a:lnTo>
                  <a:pt x="12306" y="16173"/>
                </a:lnTo>
                <a:lnTo>
                  <a:pt x="12283" y="16157"/>
                </a:lnTo>
                <a:lnTo>
                  <a:pt x="12272" y="16142"/>
                </a:lnTo>
                <a:lnTo>
                  <a:pt x="12272" y="16142"/>
                </a:lnTo>
                <a:lnTo>
                  <a:pt x="12260" y="16157"/>
                </a:lnTo>
                <a:lnTo>
                  <a:pt x="12249" y="16173"/>
                </a:lnTo>
                <a:lnTo>
                  <a:pt x="12226" y="16264"/>
                </a:lnTo>
                <a:lnTo>
                  <a:pt x="12226" y="16417"/>
                </a:lnTo>
                <a:lnTo>
                  <a:pt x="12226" y="16615"/>
                </a:lnTo>
                <a:close/>
                <a:moveTo>
                  <a:pt x="11653" y="16615"/>
                </a:moveTo>
                <a:lnTo>
                  <a:pt x="11653" y="16615"/>
                </a:lnTo>
                <a:lnTo>
                  <a:pt x="11779" y="16493"/>
                </a:lnTo>
                <a:lnTo>
                  <a:pt x="11894" y="16371"/>
                </a:lnTo>
                <a:lnTo>
                  <a:pt x="11985" y="16218"/>
                </a:lnTo>
                <a:lnTo>
                  <a:pt x="12077" y="16066"/>
                </a:lnTo>
                <a:lnTo>
                  <a:pt x="12077" y="16066"/>
                </a:lnTo>
                <a:lnTo>
                  <a:pt x="11974" y="16035"/>
                </a:lnTo>
                <a:lnTo>
                  <a:pt x="11894" y="16020"/>
                </a:lnTo>
                <a:lnTo>
                  <a:pt x="11894" y="16020"/>
                </a:lnTo>
                <a:lnTo>
                  <a:pt x="11825" y="16035"/>
                </a:lnTo>
                <a:lnTo>
                  <a:pt x="11768" y="16066"/>
                </a:lnTo>
                <a:lnTo>
                  <a:pt x="11722" y="16112"/>
                </a:lnTo>
                <a:lnTo>
                  <a:pt x="11699" y="16173"/>
                </a:lnTo>
                <a:lnTo>
                  <a:pt x="11676" y="16264"/>
                </a:lnTo>
                <a:lnTo>
                  <a:pt x="11664" y="16356"/>
                </a:lnTo>
                <a:lnTo>
                  <a:pt x="11653" y="16615"/>
                </a:lnTo>
                <a:close/>
                <a:moveTo>
                  <a:pt x="1351" y="16615"/>
                </a:moveTo>
                <a:lnTo>
                  <a:pt x="1351" y="16615"/>
                </a:lnTo>
                <a:lnTo>
                  <a:pt x="1569" y="16462"/>
                </a:lnTo>
                <a:lnTo>
                  <a:pt x="1569" y="16462"/>
                </a:lnTo>
                <a:lnTo>
                  <a:pt x="1500" y="16432"/>
                </a:lnTo>
                <a:lnTo>
                  <a:pt x="1477" y="16432"/>
                </a:lnTo>
                <a:lnTo>
                  <a:pt x="1477" y="16432"/>
                </a:lnTo>
                <a:lnTo>
                  <a:pt x="1432" y="16447"/>
                </a:lnTo>
                <a:lnTo>
                  <a:pt x="1397" y="16478"/>
                </a:lnTo>
                <a:lnTo>
                  <a:pt x="1363" y="16523"/>
                </a:lnTo>
                <a:lnTo>
                  <a:pt x="1351" y="16615"/>
                </a:lnTo>
                <a:close/>
                <a:moveTo>
                  <a:pt x="12730" y="16188"/>
                </a:moveTo>
                <a:lnTo>
                  <a:pt x="12730" y="16188"/>
                </a:lnTo>
                <a:lnTo>
                  <a:pt x="12890" y="16539"/>
                </a:lnTo>
                <a:lnTo>
                  <a:pt x="12890" y="16539"/>
                </a:lnTo>
                <a:lnTo>
                  <a:pt x="12913" y="16447"/>
                </a:lnTo>
                <a:lnTo>
                  <a:pt x="12937" y="16386"/>
                </a:lnTo>
                <a:lnTo>
                  <a:pt x="12937" y="16325"/>
                </a:lnTo>
                <a:lnTo>
                  <a:pt x="12937" y="16264"/>
                </a:lnTo>
                <a:lnTo>
                  <a:pt x="12913" y="16234"/>
                </a:lnTo>
                <a:lnTo>
                  <a:pt x="12890" y="16188"/>
                </a:lnTo>
                <a:lnTo>
                  <a:pt x="12868" y="16173"/>
                </a:lnTo>
                <a:lnTo>
                  <a:pt x="12833" y="16173"/>
                </a:lnTo>
                <a:lnTo>
                  <a:pt x="12833" y="16173"/>
                </a:lnTo>
                <a:lnTo>
                  <a:pt x="12799" y="16173"/>
                </a:lnTo>
                <a:lnTo>
                  <a:pt x="12730" y="16188"/>
                </a:lnTo>
                <a:close/>
                <a:moveTo>
                  <a:pt x="11034" y="16539"/>
                </a:moveTo>
                <a:lnTo>
                  <a:pt x="11034" y="16539"/>
                </a:lnTo>
                <a:lnTo>
                  <a:pt x="11160" y="16508"/>
                </a:lnTo>
                <a:lnTo>
                  <a:pt x="11275" y="16462"/>
                </a:lnTo>
                <a:lnTo>
                  <a:pt x="11366" y="16432"/>
                </a:lnTo>
                <a:lnTo>
                  <a:pt x="11435" y="16356"/>
                </a:lnTo>
                <a:lnTo>
                  <a:pt x="11504" y="16279"/>
                </a:lnTo>
                <a:lnTo>
                  <a:pt x="11527" y="16188"/>
                </a:lnTo>
                <a:lnTo>
                  <a:pt x="11550" y="16112"/>
                </a:lnTo>
                <a:lnTo>
                  <a:pt x="11550" y="16005"/>
                </a:lnTo>
                <a:lnTo>
                  <a:pt x="11550" y="16005"/>
                </a:lnTo>
                <a:lnTo>
                  <a:pt x="11298" y="16005"/>
                </a:lnTo>
                <a:lnTo>
                  <a:pt x="11298" y="16005"/>
                </a:lnTo>
                <a:lnTo>
                  <a:pt x="11034" y="16539"/>
                </a:lnTo>
                <a:close/>
                <a:moveTo>
                  <a:pt x="10576" y="16539"/>
                </a:moveTo>
                <a:lnTo>
                  <a:pt x="10576" y="16539"/>
                </a:lnTo>
                <a:lnTo>
                  <a:pt x="10622" y="16432"/>
                </a:lnTo>
                <a:lnTo>
                  <a:pt x="10679" y="16340"/>
                </a:lnTo>
                <a:lnTo>
                  <a:pt x="10725" y="16249"/>
                </a:lnTo>
                <a:lnTo>
                  <a:pt x="10771" y="16173"/>
                </a:lnTo>
                <a:lnTo>
                  <a:pt x="10794" y="16096"/>
                </a:lnTo>
                <a:lnTo>
                  <a:pt x="10794" y="16066"/>
                </a:lnTo>
                <a:lnTo>
                  <a:pt x="10794" y="16020"/>
                </a:lnTo>
                <a:lnTo>
                  <a:pt x="10782" y="15990"/>
                </a:lnTo>
                <a:lnTo>
                  <a:pt x="10759" y="15944"/>
                </a:lnTo>
                <a:lnTo>
                  <a:pt x="10725" y="15913"/>
                </a:lnTo>
                <a:lnTo>
                  <a:pt x="10679" y="15868"/>
                </a:lnTo>
                <a:lnTo>
                  <a:pt x="10679" y="15868"/>
                </a:lnTo>
                <a:lnTo>
                  <a:pt x="10599" y="15929"/>
                </a:lnTo>
                <a:lnTo>
                  <a:pt x="10541" y="16020"/>
                </a:lnTo>
                <a:lnTo>
                  <a:pt x="10507" y="16096"/>
                </a:lnTo>
                <a:lnTo>
                  <a:pt x="10473" y="16173"/>
                </a:lnTo>
                <a:lnTo>
                  <a:pt x="10473" y="16249"/>
                </a:lnTo>
                <a:lnTo>
                  <a:pt x="10484" y="16340"/>
                </a:lnTo>
                <a:lnTo>
                  <a:pt x="10519" y="16432"/>
                </a:lnTo>
                <a:lnTo>
                  <a:pt x="10576" y="16539"/>
                </a:lnTo>
                <a:close/>
                <a:moveTo>
                  <a:pt x="13246" y="16188"/>
                </a:moveTo>
                <a:lnTo>
                  <a:pt x="13246" y="16188"/>
                </a:lnTo>
                <a:lnTo>
                  <a:pt x="13269" y="16264"/>
                </a:lnTo>
                <a:lnTo>
                  <a:pt x="13292" y="16325"/>
                </a:lnTo>
                <a:lnTo>
                  <a:pt x="13326" y="16371"/>
                </a:lnTo>
                <a:lnTo>
                  <a:pt x="13360" y="16432"/>
                </a:lnTo>
                <a:lnTo>
                  <a:pt x="13395" y="16432"/>
                </a:lnTo>
                <a:lnTo>
                  <a:pt x="13441" y="16447"/>
                </a:lnTo>
                <a:lnTo>
                  <a:pt x="13464" y="16462"/>
                </a:lnTo>
                <a:lnTo>
                  <a:pt x="13509" y="16462"/>
                </a:lnTo>
                <a:lnTo>
                  <a:pt x="13509" y="16462"/>
                </a:lnTo>
                <a:lnTo>
                  <a:pt x="13498" y="16356"/>
                </a:lnTo>
                <a:lnTo>
                  <a:pt x="13464" y="16203"/>
                </a:lnTo>
                <a:lnTo>
                  <a:pt x="13441" y="16157"/>
                </a:lnTo>
                <a:lnTo>
                  <a:pt x="13429" y="16096"/>
                </a:lnTo>
                <a:lnTo>
                  <a:pt x="13395" y="16081"/>
                </a:lnTo>
                <a:lnTo>
                  <a:pt x="13372" y="16066"/>
                </a:lnTo>
                <a:lnTo>
                  <a:pt x="13372" y="16066"/>
                </a:lnTo>
                <a:lnTo>
                  <a:pt x="13337" y="16066"/>
                </a:lnTo>
                <a:lnTo>
                  <a:pt x="13303" y="16096"/>
                </a:lnTo>
                <a:lnTo>
                  <a:pt x="13280" y="16142"/>
                </a:lnTo>
                <a:lnTo>
                  <a:pt x="13246" y="16188"/>
                </a:lnTo>
                <a:close/>
                <a:moveTo>
                  <a:pt x="14701" y="16417"/>
                </a:moveTo>
                <a:lnTo>
                  <a:pt x="14701" y="16417"/>
                </a:lnTo>
                <a:lnTo>
                  <a:pt x="14701" y="16310"/>
                </a:lnTo>
                <a:lnTo>
                  <a:pt x="14678" y="16218"/>
                </a:lnTo>
                <a:lnTo>
                  <a:pt x="14655" y="16173"/>
                </a:lnTo>
                <a:lnTo>
                  <a:pt x="14598" y="16096"/>
                </a:lnTo>
                <a:lnTo>
                  <a:pt x="14552" y="16035"/>
                </a:lnTo>
                <a:lnTo>
                  <a:pt x="14472" y="15990"/>
                </a:lnTo>
                <a:lnTo>
                  <a:pt x="14392" y="15944"/>
                </a:lnTo>
                <a:lnTo>
                  <a:pt x="14289" y="15913"/>
                </a:lnTo>
                <a:lnTo>
                  <a:pt x="14289" y="15913"/>
                </a:lnTo>
                <a:lnTo>
                  <a:pt x="14277" y="16081"/>
                </a:lnTo>
                <a:lnTo>
                  <a:pt x="14289" y="16173"/>
                </a:lnTo>
                <a:lnTo>
                  <a:pt x="14300" y="16279"/>
                </a:lnTo>
                <a:lnTo>
                  <a:pt x="14323" y="16325"/>
                </a:lnTo>
                <a:lnTo>
                  <a:pt x="14357" y="16356"/>
                </a:lnTo>
                <a:lnTo>
                  <a:pt x="14380" y="16386"/>
                </a:lnTo>
                <a:lnTo>
                  <a:pt x="14403" y="16401"/>
                </a:lnTo>
                <a:lnTo>
                  <a:pt x="14495" y="16432"/>
                </a:lnTo>
                <a:lnTo>
                  <a:pt x="14586" y="16432"/>
                </a:lnTo>
                <a:lnTo>
                  <a:pt x="14701" y="16417"/>
                </a:lnTo>
                <a:close/>
                <a:moveTo>
                  <a:pt x="15114" y="16417"/>
                </a:moveTo>
                <a:lnTo>
                  <a:pt x="15114" y="16417"/>
                </a:lnTo>
                <a:lnTo>
                  <a:pt x="15423" y="16264"/>
                </a:lnTo>
                <a:lnTo>
                  <a:pt x="15423" y="16264"/>
                </a:lnTo>
                <a:lnTo>
                  <a:pt x="15354" y="16173"/>
                </a:lnTo>
                <a:lnTo>
                  <a:pt x="15274" y="16127"/>
                </a:lnTo>
                <a:lnTo>
                  <a:pt x="15205" y="16096"/>
                </a:lnTo>
                <a:lnTo>
                  <a:pt x="15148" y="16066"/>
                </a:lnTo>
                <a:lnTo>
                  <a:pt x="14976" y="16035"/>
                </a:lnTo>
                <a:lnTo>
                  <a:pt x="14896" y="16020"/>
                </a:lnTo>
                <a:lnTo>
                  <a:pt x="14793" y="16005"/>
                </a:lnTo>
                <a:lnTo>
                  <a:pt x="14793" y="16005"/>
                </a:lnTo>
                <a:lnTo>
                  <a:pt x="14850" y="16127"/>
                </a:lnTo>
                <a:lnTo>
                  <a:pt x="14930" y="16249"/>
                </a:lnTo>
                <a:lnTo>
                  <a:pt x="14965" y="16279"/>
                </a:lnTo>
                <a:lnTo>
                  <a:pt x="15010" y="16340"/>
                </a:lnTo>
                <a:lnTo>
                  <a:pt x="15114" y="16417"/>
                </a:lnTo>
                <a:close/>
                <a:moveTo>
                  <a:pt x="10003" y="16340"/>
                </a:moveTo>
                <a:lnTo>
                  <a:pt x="10003" y="16340"/>
                </a:lnTo>
                <a:lnTo>
                  <a:pt x="10060" y="16173"/>
                </a:lnTo>
                <a:lnTo>
                  <a:pt x="10106" y="16035"/>
                </a:lnTo>
                <a:lnTo>
                  <a:pt x="10140" y="15883"/>
                </a:lnTo>
                <a:lnTo>
                  <a:pt x="10152" y="15730"/>
                </a:lnTo>
                <a:lnTo>
                  <a:pt x="10152" y="15730"/>
                </a:lnTo>
                <a:lnTo>
                  <a:pt x="10106" y="15730"/>
                </a:lnTo>
                <a:lnTo>
                  <a:pt x="10049" y="15746"/>
                </a:lnTo>
                <a:lnTo>
                  <a:pt x="9991" y="15761"/>
                </a:lnTo>
                <a:lnTo>
                  <a:pt x="9946" y="15807"/>
                </a:lnTo>
                <a:lnTo>
                  <a:pt x="9911" y="15837"/>
                </a:lnTo>
                <a:lnTo>
                  <a:pt x="9865" y="15883"/>
                </a:lnTo>
                <a:lnTo>
                  <a:pt x="9854" y="15913"/>
                </a:lnTo>
                <a:lnTo>
                  <a:pt x="9820" y="15974"/>
                </a:lnTo>
                <a:lnTo>
                  <a:pt x="9808" y="16020"/>
                </a:lnTo>
                <a:lnTo>
                  <a:pt x="9808" y="16081"/>
                </a:lnTo>
                <a:lnTo>
                  <a:pt x="9808" y="16127"/>
                </a:lnTo>
                <a:lnTo>
                  <a:pt x="9831" y="16173"/>
                </a:lnTo>
                <a:lnTo>
                  <a:pt x="9865" y="16218"/>
                </a:lnTo>
                <a:lnTo>
                  <a:pt x="9900" y="16264"/>
                </a:lnTo>
                <a:lnTo>
                  <a:pt x="9946" y="16295"/>
                </a:lnTo>
                <a:lnTo>
                  <a:pt x="10003" y="16340"/>
                </a:lnTo>
                <a:close/>
                <a:moveTo>
                  <a:pt x="13773" y="15868"/>
                </a:moveTo>
                <a:lnTo>
                  <a:pt x="13773" y="15868"/>
                </a:lnTo>
                <a:lnTo>
                  <a:pt x="14185" y="16264"/>
                </a:lnTo>
                <a:lnTo>
                  <a:pt x="14185" y="16264"/>
                </a:lnTo>
                <a:lnTo>
                  <a:pt x="14140" y="16142"/>
                </a:lnTo>
                <a:lnTo>
                  <a:pt x="14059" y="15990"/>
                </a:lnTo>
                <a:lnTo>
                  <a:pt x="14014" y="15913"/>
                </a:lnTo>
                <a:lnTo>
                  <a:pt x="13979" y="15852"/>
                </a:lnTo>
                <a:lnTo>
                  <a:pt x="13922" y="15822"/>
                </a:lnTo>
                <a:lnTo>
                  <a:pt x="13899" y="15807"/>
                </a:lnTo>
                <a:lnTo>
                  <a:pt x="13865" y="15807"/>
                </a:lnTo>
                <a:lnTo>
                  <a:pt x="13865" y="15807"/>
                </a:lnTo>
                <a:lnTo>
                  <a:pt x="13842" y="15807"/>
                </a:lnTo>
                <a:lnTo>
                  <a:pt x="13819" y="15822"/>
                </a:lnTo>
                <a:lnTo>
                  <a:pt x="13807" y="15837"/>
                </a:lnTo>
                <a:lnTo>
                  <a:pt x="13773" y="15868"/>
                </a:lnTo>
                <a:close/>
                <a:moveTo>
                  <a:pt x="10988" y="16188"/>
                </a:moveTo>
                <a:lnTo>
                  <a:pt x="10988" y="16188"/>
                </a:lnTo>
                <a:lnTo>
                  <a:pt x="11034" y="16142"/>
                </a:lnTo>
                <a:lnTo>
                  <a:pt x="11080" y="16096"/>
                </a:lnTo>
                <a:lnTo>
                  <a:pt x="11092" y="16035"/>
                </a:lnTo>
                <a:lnTo>
                  <a:pt x="11092" y="16005"/>
                </a:lnTo>
                <a:lnTo>
                  <a:pt x="11080" y="15944"/>
                </a:lnTo>
                <a:lnTo>
                  <a:pt x="11046" y="15913"/>
                </a:lnTo>
                <a:lnTo>
                  <a:pt x="11000" y="15898"/>
                </a:lnTo>
                <a:lnTo>
                  <a:pt x="10931" y="15868"/>
                </a:lnTo>
                <a:lnTo>
                  <a:pt x="10931" y="15868"/>
                </a:lnTo>
                <a:lnTo>
                  <a:pt x="10988" y="16188"/>
                </a:lnTo>
                <a:close/>
                <a:moveTo>
                  <a:pt x="4445" y="14709"/>
                </a:moveTo>
                <a:lnTo>
                  <a:pt x="4445" y="14709"/>
                </a:lnTo>
                <a:lnTo>
                  <a:pt x="4503" y="14892"/>
                </a:lnTo>
                <a:lnTo>
                  <a:pt x="4560" y="15060"/>
                </a:lnTo>
                <a:lnTo>
                  <a:pt x="4583" y="15243"/>
                </a:lnTo>
                <a:lnTo>
                  <a:pt x="4617" y="15410"/>
                </a:lnTo>
                <a:lnTo>
                  <a:pt x="4686" y="15776"/>
                </a:lnTo>
                <a:lnTo>
                  <a:pt x="4721" y="15944"/>
                </a:lnTo>
                <a:lnTo>
                  <a:pt x="4755" y="16142"/>
                </a:lnTo>
                <a:lnTo>
                  <a:pt x="4755" y="16142"/>
                </a:lnTo>
                <a:lnTo>
                  <a:pt x="4972" y="16157"/>
                </a:lnTo>
                <a:lnTo>
                  <a:pt x="5339" y="16173"/>
                </a:lnTo>
                <a:lnTo>
                  <a:pt x="5786" y="16173"/>
                </a:lnTo>
                <a:lnTo>
                  <a:pt x="6004" y="16142"/>
                </a:lnTo>
                <a:lnTo>
                  <a:pt x="6221" y="16112"/>
                </a:lnTo>
                <a:lnTo>
                  <a:pt x="6405" y="16081"/>
                </a:lnTo>
                <a:lnTo>
                  <a:pt x="6565" y="16020"/>
                </a:lnTo>
                <a:lnTo>
                  <a:pt x="6634" y="15990"/>
                </a:lnTo>
                <a:lnTo>
                  <a:pt x="6680" y="15944"/>
                </a:lnTo>
                <a:lnTo>
                  <a:pt x="6714" y="15913"/>
                </a:lnTo>
                <a:lnTo>
                  <a:pt x="6760" y="15852"/>
                </a:lnTo>
                <a:lnTo>
                  <a:pt x="6772" y="15791"/>
                </a:lnTo>
                <a:lnTo>
                  <a:pt x="6772" y="15730"/>
                </a:lnTo>
                <a:lnTo>
                  <a:pt x="6760" y="15670"/>
                </a:lnTo>
                <a:lnTo>
                  <a:pt x="6714" y="15593"/>
                </a:lnTo>
                <a:lnTo>
                  <a:pt x="6668" y="15502"/>
                </a:lnTo>
                <a:lnTo>
                  <a:pt x="6588" y="15410"/>
                </a:lnTo>
                <a:lnTo>
                  <a:pt x="6496" y="15319"/>
                </a:lnTo>
                <a:lnTo>
                  <a:pt x="6382" y="15212"/>
                </a:lnTo>
                <a:lnTo>
                  <a:pt x="6382" y="15212"/>
                </a:lnTo>
                <a:lnTo>
                  <a:pt x="6221" y="15075"/>
                </a:lnTo>
                <a:lnTo>
                  <a:pt x="6061" y="14938"/>
                </a:lnTo>
                <a:lnTo>
                  <a:pt x="5901" y="14831"/>
                </a:lnTo>
                <a:lnTo>
                  <a:pt x="5729" y="14725"/>
                </a:lnTo>
                <a:lnTo>
                  <a:pt x="5568" y="14648"/>
                </a:lnTo>
                <a:lnTo>
                  <a:pt x="5419" y="14618"/>
                </a:lnTo>
                <a:lnTo>
                  <a:pt x="5259" y="14572"/>
                </a:lnTo>
                <a:lnTo>
                  <a:pt x="5087" y="14557"/>
                </a:lnTo>
                <a:lnTo>
                  <a:pt x="5087" y="14557"/>
                </a:lnTo>
                <a:lnTo>
                  <a:pt x="4938" y="14572"/>
                </a:lnTo>
                <a:lnTo>
                  <a:pt x="4778" y="14603"/>
                </a:lnTo>
                <a:lnTo>
                  <a:pt x="4617" y="14633"/>
                </a:lnTo>
                <a:lnTo>
                  <a:pt x="4445" y="14709"/>
                </a:lnTo>
                <a:close/>
                <a:moveTo>
                  <a:pt x="4239" y="16066"/>
                </a:moveTo>
                <a:lnTo>
                  <a:pt x="4239" y="16066"/>
                </a:lnTo>
                <a:lnTo>
                  <a:pt x="4239" y="15944"/>
                </a:lnTo>
                <a:lnTo>
                  <a:pt x="4251" y="15868"/>
                </a:lnTo>
                <a:lnTo>
                  <a:pt x="4262" y="15776"/>
                </a:lnTo>
                <a:lnTo>
                  <a:pt x="4262" y="15715"/>
                </a:lnTo>
                <a:lnTo>
                  <a:pt x="4239" y="15654"/>
                </a:lnTo>
                <a:lnTo>
                  <a:pt x="4216" y="15654"/>
                </a:lnTo>
                <a:lnTo>
                  <a:pt x="4205" y="15624"/>
                </a:lnTo>
                <a:lnTo>
                  <a:pt x="4147" y="15593"/>
                </a:lnTo>
                <a:lnTo>
                  <a:pt x="4033" y="15593"/>
                </a:lnTo>
                <a:lnTo>
                  <a:pt x="4033" y="15593"/>
                </a:lnTo>
                <a:lnTo>
                  <a:pt x="3998" y="15730"/>
                </a:lnTo>
                <a:lnTo>
                  <a:pt x="3987" y="15852"/>
                </a:lnTo>
                <a:lnTo>
                  <a:pt x="3987" y="15929"/>
                </a:lnTo>
                <a:lnTo>
                  <a:pt x="3998" y="16020"/>
                </a:lnTo>
                <a:lnTo>
                  <a:pt x="3998" y="16035"/>
                </a:lnTo>
                <a:lnTo>
                  <a:pt x="4021" y="16066"/>
                </a:lnTo>
                <a:lnTo>
                  <a:pt x="4056" y="16081"/>
                </a:lnTo>
                <a:lnTo>
                  <a:pt x="4079" y="16096"/>
                </a:lnTo>
                <a:lnTo>
                  <a:pt x="4147" y="16096"/>
                </a:lnTo>
                <a:lnTo>
                  <a:pt x="4239" y="16066"/>
                </a:lnTo>
                <a:close/>
                <a:moveTo>
                  <a:pt x="1088" y="16066"/>
                </a:moveTo>
                <a:lnTo>
                  <a:pt x="1088" y="16066"/>
                </a:lnTo>
                <a:lnTo>
                  <a:pt x="1168" y="16020"/>
                </a:lnTo>
                <a:lnTo>
                  <a:pt x="1237" y="15959"/>
                </a:lnTo>
                <a:lnTo>
                  <a:pt x="1283" y="15913"/>
                </a:lnTo>
                <a:lnTo>
                  <a:pt x="1306" y="15837"/>
                </a:lnTo>
                <a:lnTo>
                  <a:pt x="1328" y="15761"/>
                </a:lnTo>
                <a:lnTo>
                  <a:pt x="1340" y="15654"/>
                </a:lnTo>
                <a:lnTo>
                  <a:pt x="1328" y="15563"/>
                </a:lnTo>
                <a:lnTo>
                  <a:pt x="1294" y="15456"/>
                </a:lnTo>
                <a:lnTo>
                  <a:pt x="1294" y="15456"/>
                </a:lnTo>
                <a:lnTo>
                  <a:pt x="1306" y="15426"/>
                </a:lnTo>
                <a:lnTo>
                  <a:pt x="1306" y="15426"/>
                </a:lnTo>
                <a:lnTo>
                  <a:pt x="1306" y="15426"/>
                </a:lnTo>
                <a:lnTo>
                  <a:pt x="1283" y="15456"/>
                </a:lnTo>
                <a:lnTo>
                  <a:pt x="1214" y="15532"/>
                </a:lnTo>
                <a:lnTo>
                  <a:pt x="1145" y="15639"/>
                </a:lnTo>
                <a:lnTo>
                  <a:pt x="1077" y="15746"/>
                </a:lnTo>
                <a:lnTo>
                  <a:pt x="1019" y="15868"/>
                </a:lnTo>
                <a:lnTo>
                  <a:pt x="996" y="15913"/>
                </a:lnTo>
                <a:lnTo>
                  <a:pt x="996" y="15959"/>
                </a:lnTo>
                <a:lnTo>
                  <a:pt x="996" y="16005"/>
                </a:lnTo>
                <a:lnTo>
                  <a:pt x="1019" y="16035"/>
                </a:lnTo>
                <a:lnTo>
                  <a:pt x="1054" y="16066"/>
                </a:lnTo>
                <a:lnTo>
                  <a:pt x="1088" y="16066"/>
                </a:lnTo>
                <a:close/>
                <a:moveTo>
                  <a:pt x="15526" y="16005"/>
                </a:moveTo>
                <a:lnTo>
                  <a:pt x="15526" y="16005"/>
                </a:lnTo>
                <a:lnTo>
                  <a:pt x="15595" y="15990"/>
                </a:lnTo>
                <a:lnTo>
                  <a:pt x="15675" y="15959"/>
                </a:lnTo>
                <a:lnTo>
                  <a:pt x="15755" y="15913"/>
                </a:lnTo>
                <a:lnTo>
                  <a:pt x="15813" y="15852"/>
                </a:lnTo>
                <a:lnTo>
                  <a:pt x="15847" y="15822"/>
                </a:lnTo>
                <a:lnTo>
                  <a:pt x="15870" y="15761"/>
                </a:lnTo>
                <a:lnTo>
                  <a:pt x="15870" y="15730"/>
                </a:lnTo>
                <a:lnTo>
                  <a:pt x="15881" y="15670"/>
                </a:lnTo>
                <a:lnTo>
                  <a:pt x="15881" y="15639"/>
                </a:lnTo>
                <a:lnTo>
                  <a:pt x="15870" y="15578"/>
                </a:lnTo>
                <a:lnTo>
                  <a:pt x="15858" y="15517"/>
                </a:lnTo>
                <a:lnTo>
                  <a:pt x="15824" y="15456"/>
                </a:lnTo>
                <a:lnTo>
                  <a:pt x="15824" y="15456"/>
                </a:lnTo>
                <a:lnTo>
                  <a:pt x="15813" y="15563"/>
                </a:lnTo>
                <a:lnTo>
                  <a:pt x="15790" y="15654"/>
                </a:lnTo>
                <a:lnTo>
                  <a:pt x="15744" y="15700"/>
                </a:lnTo>
                <a:lnTo>
                  <a:pt x="15698" y="15761"/>
                </a:lnTo>
                <a:lnTo>
                  <a:pt x="15629" y="15791"/>
                </a:lnTo>
                <a:lnTo>
                  <a:pt x="15560" y="15822"/>
                </a:lnTo>
                <a:lnTo>
                  <a:pt x="15469" y="15822"/>
                </a:lnTo>
                <a:lnTo>
                  <a:pt x="15366" y="15791"/>
                </a:lnTo>
                <a:lnTo>
                  <a:pt x="15366" y="15791"/>
                </a:lnTo>
                <a:lnTo>
                  <a:pt x="15377" y="15898"/>
                </a:lnTo>
                <a:lnTo>
                  <a:pt x="15400" y="15913"/>
                </a:lnTo>
                <a:lnTo>
                  <a:pt x="15411" y="15959"/>
                </a:lnTo>
                <a:lnTo>
                  <a:pt x="15446" y="15974"/>
                </a:lnTo>
                <a:lnTo>
                  <a:pt x="15457" y="15990"/>
                </a:lnTo>
                <a:lnTo>
                  <a:pt x="15492" y="16005"/>
                </a:lnTo>
                <a:lnTo>
                  <a:pt x="15526" y="16005"/>
                </a:lnTo>
                <a:close/>
                <a:moveTo>
                  <a:pt x="12684" y="15913"/>
                </a:moveTo>
                <a:lnTo>
                  <a:pt x="12684" y="15913"/>
                </a:lnTo>
                <a:lnTo>
                  <a:pt x="12833" y="15913"/>
                </a:lnTo>
                <a:lnTo>
                  <a:pt x="12994" y="15898"/>
                </a:lnTo>
                <a:lnTo>
                  <a:pt x="13166" y="15852"/>
                </a:lnTo>
                <a:lnTo>
                  <a:pt x="13360" y="15791"/>
                </a:lnTo>
                <a:lnTo>
                  <a:pt x="13544" y="15730"/>
                </a:lnTo>
                <a:lnTo>
                  <a:pt x="13738" y="15654"/>
                </a:lnTo>
                <a:lnTo>
                  <a:pt x="13933" y="15563"/>
                </a:lnTo>
                <a:lnTo>
                  <a:pt x="14117" y="15456"/>
                </a:lnTo>
                <a:lnTo>
                  <a:pt x="14289" y="15349"/>
                </a:lnTo>
                <a:lnTo>
                  <a:pt x="14438" y="15228"/>
                </a:lnTo>
                <a:lnTo>
                  <a:pt x="14598" y="15106"/>
                </a:lnTo>
                <a:lnTo>
                  <a:pt x="14724" y="14984"/>
                </a:lnTo>
                <a:lnTo>
                  <a:pt x="14804" y="14847"/>
                </a:lnTo>
                <a:lnTo>
                  <a:pt x="14850" y="14786"/>
                </a:lnTo>
                <a:lnTo>
                  <a:pt x="14873" y="14709"/>
                </a:lnTo>
                <a:lnTo>
                  <a:pt x="14896" y="14633"/>
                </a:lnTo>
                <a:lnTo>
                  <a:pt x="14908" y="14587"/>
                </a:lnTo>
                <a:lnTo>
                  <a:pt x="14919" y="14511"/>
                </a:lnTo>
                <a:lnTo>
                  <a:pt x="14908" y="14450"/>
                </a:lnTo>
                <a:lnTo>
                  <a:pt x="14908" y="14450"/>
                </a:lnTo>
                <a:lnTo>
                  <a:pt x="14759" y="14633"/>
                </a:lnTo>
                <a:lnTo>
                  <a:pt x="14610" y="14816"/>
                </a:lnTo>
                <a:lnTo>
                  <a:pt x="14472" y="14938"/>
                </a:lnTo>
                <a:lnTo>
                  <a:pt x="14346" y="15060"/>
                </a:lnTo>
                <a:lnTo>
                  <a:pt x="14208" y="15151"/>
                </a:lnTo>
                <a:lnTo>
                  <a:pt x="14059" y="15228"/>
                </a:lnTo>
                <a:lnTo>
                  <a:pt x="13933" y="15289"/>
                </a:lnTo>
                <a:lnTo>
                  <a:pt x="13796" y="15349"/>
                </a:lnTo>
                <a:lnTo>
                  <a:pt x="13509" y="15426"/>
                </a:lnTo>
                <a:lnTo>
                  <a:pt x="13383" y="15502"/>
                </a:lnTo>
                <a:lnTo>
                  <a:pt x="13246" y="15548"/>
                </a:lnTo>
                <a:lnTo>
                  <a:pt x="13108" y="15624"/>
                </a:lnTo>
                <a:lnTo>
                  <a:pt x="12971" y="15700"/>
                </a:lnTo>
                <a:lnTo>
                  <a:pt x="12833" y="15807"/>
                </a:lnTo>
                <a:lnTo>
                  <a:pt x="12684" y="15913"/>
                </a:lnTo>
                <a:close/>
                <a:moveTo>
                  <a:pt x="10324" y="15913"/>
                </a:moveTo>
                <a:lnTo>
                  <a:pt x="10324" y="15913"/>
                </a:lnTo>
                <a:lnTo>
                  <a:pt x="10370" y="15913"/>
                </a:lnTo>
                <a:lnTo>
                  <a:pt x="10427" y="15913"/>
                </a:lnTo>
                <a:lnTo>
                  <a:pt x="10438" y="15883"/>
                </a:lnTo>
                <a:lnTo>
                  <a:pt x="10450" y="15837"/>
                </a:lnTo>
                <a:lnTo>
                  <a:pt x="10450" y="15807"/>
                </a:lnTo>
                <a:lnTo>
                  <a:pt x="10438" y="15761"/>
                </a:lnTo>
                <a:lnTo>
                  <a:pt x="10404" y="15700"/>
                </a:lnTo>
                <a:lnTo>
                  <a:pt x="10358" y="15654"/>
                </a:lnTo>
                <a:lnTo>
                  <a:pt x="10358" y="15654"/>
                </a:lnTo>
                <a:lnTo>
                  <a:pt x="10324" y="15913"/>
                </a:lnTo>
                <a:close/>
                <a:moveTo>
                  <a:pt x="14541" y="15791"/>
                </a:moveTo>
                <a:lnTo>
                  <a:pt x="14541" y="15791"/>
                </a:lnTo>
                <a:lnTo>
                  <a:pt x="14495" y="15700"/>
                </a:lnTo>
                <a:lnTo>
                  <a:pt x="14426" y="15639"/>
                </a:lnTo>
                <a:lnTo>
                  <a:pt x="14369" y="15578"/>
                </a:lnTo>
                <a:lnTo>
                  <a:pt x="14289" y="15517"/>
                </a:lnTo>
                <a:lnTo>
                  <a:pt x="14289" y="15517"/>
                </a:lnTo>
                <a:lnTo>
                  <a:pt x="14300" y="15593"/>
                </a:lnTo>
                <a:lnTo>
                  <a:pt x="14334" y="15670"/>
                </a:lnTo>
                <a:lnTo>
                  <a:pt x="14369" y="15761"/>
                </a:lnTo>
                <a:lnTo>
                  <a:pt x="14415" y="15837"/>
                </a:lnTo>
                <a:lnTo>
                  <a:pt x="14461" y="15883"/>
                </a:lnTo>
                <a:lnTo>
                  <a:pt x="14483" y="15898"/>
                </a:lnTo>
                <a:lnTo>
                  <a:pt x="14506" y="15913"/>
                </a:lnTo>
                <a:lnTo>
                  <a:pt x="14518" y="15898"/>
                </a:lnTo>
                <a:lnTo>
                  <a:pt x="14529" y="15883"/>
                </a:lnTo>
                <a:lnTo>
                  <a:pt x="14541" y="15837"/>
                </a:lnTo>
                <a:lnTo>
                  <a:pt x="14541" y="15791"/>
                </a:lnTo>
                <a:close/>
                <a:moveTo>
                  <a:pt x="9338" y="15395"/>
                </a:moveTo>
                <a:lnTo>
                  <a:pt x="9338" y="15395"/>
                </a:lnTo>
                <a:lnTo>
                  <a:pt x="9224" y="15517"/>
                </a:lnTo>
                <a:lnTo>
                  <a:pt x="9178" y="15639"/>
                </a:lnTo>
                <a:lnTo>
                  <a:pt x="9155" y="15670"/>
                </a:lnTo>
                <a:lnTo>
                  <a:pt x="9155" y="15715"/>
                </a:lnTo>
                <a:lnTo>
                  <a:pt x="9155" y="15761"/>
                </a:lnTo>
                <a:lnTo>
                  <a:pt x="9155" y="15791"/>
                </a:lnTo>
                <a:lnTo>
                  <a:pt x="9155" y="15822"/>
                </a:lnTo>
                <a:lnTo>
                  <a:pt x="9178" y="15837"/>
                </a:lnTo>
                <a:lnTo>
                  <a:pt x="9212" y="15852"/>
                </a:lnTo>
                <a:lnTo>
                  <a:pt x="9270" y="15868"/>
                </a:lnTo>
                <a:lnTo>
                  <a:pt x="9338" y="15852"/>
                </a:lnTo>
                <a:lnTo>
                  <a:pt x="9384" y="15837"/>
                </a:lnTo>
                <a:lnTo>
                  <a:pt x="9442" y="15807"/>
                </a:lnTo>
                <a:lnTo>
                  <a:pt x="9499" y="15761"/>
                </a:lnTo>
                <a:lnTo>
                  <a:pt x="9522" y="15685"/>
                </a:lnTo>
                <a:lnTo>
                  <a:pt x="9522" y="15670"/>
                </a:lnTo>
                <a:lnTo>
                  <a:pt x="9522" y="15639"/>
                </a:lnTo>
                <a:lnTo>
                  <a:pt x="9510" y="15593"/>
                </a:lnTo>
                <a:lnTo>
                  <a:pt x="9499" y="15563"/>
                </a:lnTo>
                <a:lnTo>
                  <a:pt x="9476" y="15517"/>
                </a:lnTo>
                <a:lnTo>
                  <a:pt x="9430" y="15471"/>
                </a:lnTo>
                <a:lnTo>
                  <a:pt x="9338" y="15395"/>
                </a:lnTo>
                <a:close/>
                <a:moveTo>
                  <a:pt x="14598" y="15654"/>
                </a:moveTo>
                <a:lnTo>
                  <a:pt x="14598" y="15654"/>
                </a:lnTo>
                <a:lnTo>
                  <a:pt x="14667" y="15746"/>
                </a:lnTo>
                <a:lnTo>
                  <a:pt x="14735" y="15822"/>
                </a:lnTo>
                <a:lnTo>
                  <a:pt x="14804" y="15852"/>
                </a:lnTo>
                <a:lnTo>
                  <a:pt x="14884" y="15868"/>
                </a:lnTo>
                <a:lnTo>
                  <a:pt x="14953" y="15852"/>
                </a:lnTo>
                <a:lnTo>
                  <a:pt x="15010" y="15822"/>
                </a:lnTo>
                <a:lnTo>
                  <a:pt x="15091" y="15746"/>
                </a:lnTo>
                <a:lnTo>
                  <a:pt x="15159" y="15654"/>
                </a:lnTo>
                <a:lnTo>
                  <a:pt x="15159" y="15654"/>
                </a:lnTo>
                <a:lnTo>
                  <a:pt x="14850" y="15365"/>
                </a:lnTo>
                <a:lnTo>
                  <a:pt x="14735" y="15258"/>
                </a:lnTo>
                <a:lnTo>
                  <a:pt x="14690" y="15243"/>
                </a:lnTo>
                <a:lnTo>
                  <a:pt x="14655" y="15228"/>
                </a:lnTo>
                <a:lnTo>
                  <a:pt x="14655" y="15228"/>
                </a:lnTo>
                <a:lnTo>
                  <a:pt x="14632" y="15243"/>
                </a:lnTo>
                <a:lnTo>
                  <a:pt x="14610" y="15243"/>
                </a:lnTo>
                <a:lnTo>
                  <a:pt x="14598" y="15289"/>
                </a:lnTo>
                <a:lnTo>
                  <a:pt x="14586" y="15334"/>
                </a:lnTo>
                <a:lnTo>
                  <a:pt x="14586" y="15456"/>
                </a:lnTo>
                <a:lnTo>
                  <a:pt x="14598" y="15654"/>
                </a:lnTo>
                <a:close/>
                <a:moveTo>
                  <a:pt x="893" y="15868"/>
                </a:moveTo>
                <a:lnTo>
                  <a:pt x="893" y="15868"/>
                </a:lnTo>
                <a:lnTo>
                  <a:pt x="916" y="15791"/>
                </a:lnTo>
                <a:lnTo>
                  <a:pt x="928" y="15746"/>
                </a:lnTo>
                <a:lnTo>
                  <a:pt x="939" y="15685"/>
                </a:lnTo>
                <a:lnTo>
                  <a:pt x="939" y="15654"/>
                </a:lnTo>
                <a:lnTo>
                  <a:pt x="928" y="15639"/>
                </a:lnTo>
                <a:lnTo>
                  <a:pt x="916" y="15593"/>
                </a:lnTo>
                <a:lnTo>
                  <a:pt x="859" y="15563"/>
                </a:lnTo>
                <a:lnTo>
                  <a:pt x="710" y="15502"/>
                </a:lnTo>
                <a:lnTo>
                  <a:pt x="618" y="15441"/>
                </a:lnTo>
                <a:lnTo>
                  <a:pt x="527" y="15395"/>
                </a:lnTo>
                <a:lnTo>
                  <a:pt x="527" y="15395"/>
                </a:lnTo>
                <a:lnTo>
                  <a:pt x="527" y="15502"/>
                </a:lnTo>
                <a:lnTo>
                  <a:pt x="549" y="15593"/>
                </a:lnTo>
                <a:lnTo>
                  <a:pt x="572" y="15670"/>
                </a:lnTo>
                <a:lnTo>
                  <a:pt x="618" y="15746"/>
                </a:lnTo>
                <a:lnTo>
                  <a:pt x="675" y="15791"/>
                </a:lnTo>
                <a:lnTo>
                  <a:pt x="721" y="15837"/>
                </a:lnTo>
                <a:lnTo>
                  <a:pt x="801" y="15852"/>
                </a:lnTo>
                <a:lnTo>
                  <a:pt x="893" y="15868"/>
                </a:lnTo>
                <a:close/>
                <a:moveTo>
                  <a:pt x="11504" y="15791"/>
                </a:moveTo>
                <a:lnTo>
                  <a:pt x="11504" y="15791"/>
                </a:lnTo>
                <a:lnTo>
                  <a:pt x="8662" y="13962"/>
                </a:lnTo>
                <a:lnTo>
                  <a:pt x="8662" y="13962"/>
                </a:lnTo>
                <a:lnTo>
                  <a:pt x="8788" y="14115"/>
                </a:lnTo>
                <a:lnTo>
                  <a:pt x="8914" y="14283"/>
                </a:lnTo>
                <a:lnTo>
                  <a:pt x="9063" y="14420"/>
                </a:lnTo>
                <a:lnTo>
                  <a:pt x="9212" y="14557"/>
                </a:lnTo>
                <a:lnTo>
                  <a:pt x="9384" y="14709"/>
                </a:lnTo>
                <a:lnTo>
                  <a:pt x="9567" y="14847"/>
                </a:lnTo>
                <a:lnTo>
                  <a:pt x="9751" y="14984"/>
                </a:lnTo>
                <a:lnTo>
                  <a:pt x="9946" y="15106"/>
                </a:lnTo>
                <a:lnTo>
                  <a:pt x="10152" y="15228"/>
                </a:lnTo>
                <a:lnTo>
                  <a:pt x="10347" y="15334"/>
                </a:lnTo>
                <a:lnTo>
                  <a:pt x="10541" y="15426"/>
                </a:lnTo>
                <a:lnTo>
                  <a:pt x="10736" y="15532"/>
                </a:lnTo>
                <a:lnTo>
                  <a:pt x="10931" y="15609"/>
                </a:lnTo>
                <a:lnTo>
                  <a:pt x="11126" y="15670"/>
                </a:lnTo>
                <a:lnTo>
                  <a:pt x="11309" y="15746"/>
                </a:lnTo>
                <a:lnTo>
                  <a:pt x="11504" y="15791"/>
                </a:lnTo>
                <a:close/>
                <a:moveTo>
                  <a:pt x="9705" y="15730"/>
                </a:moveTo>
                <a:lnTo>
                  <a:pt x="9705" y="15730"/>
                </a:lnTo>
                <a:lnTo>
                  <a:pt x="9785" y="15654"/>
                </a:lnTo>
                <a:lnTo>
                  <a:pt x="9865" y="15563"/>
                </a:lnTo>
                <a:lnTo>
                  <a:pt x="9911" y="15487"/>
                </a:lnTo>
                <a:lnTo>
                  <a:pt x="9934" y="15441"/>
                </a:lnTo>
                <a:lnTo>
                  <a:pt x="9934" y="15410"/>
                </a:lnTo>
                <a:lnTo>
                  <a:pt x="9934" y="15395"/>
                </a:lnTo>
                <a:lnTo>
                  <a:pt x="9934" y="15349"/>
                </a:lnTo>
                <a:lnTo>
                  <a:pt x="9923" y="15334"/>
                </a:lnTo>
                <a:lnTo>
                  <a:pt x="9889" y="15289"/>
                </a:lnTo>
                <a:lnTo>
                  <a:pt x="9865" y="15258"/>
                </a:lnTo>
                <a:lnTo>
                  <a:pt x="9808" y="15243"/>
                </a:lnTo>
                <a:lnTo>
                  <a:pt x="9705" y="15182"/>
                </a:lnTo>
                <a:lnTo>
                  <a:pt x="9705" y="15182"/>
                </a:lnTo>
                <a:lnTo>
                  <a:pt x="9659" y="15273"/>
                </a:lnTo>
                <a:lnTo>
                  <a:pt x="9625" y="15349"/>
                </a:lnTo>
                <a:lnTo>
                  <a:pt x="9613" y="15410"/>
                </a:lnTo>
                <a:lnTo>
                  <a:pt x="9602" y="15502"/>
                </a:lnTo>
                <a:lnTo>
                  <a:pt x="9613" y="15563"/>
                </a:lnTo>
                <a:lnTo>
                  <a:pt x="9625" y="15624"/>
                </a:lnTo>
                <a:lnTo>
                  <a:pt x="9659" y="15670"/>
                </a:lnTo>
                <a:lnTo>
                  <a:pt x="9705" y="15730"/>
                </a:lnTo>
                <a:close/>
                <a:moveTo>
                  <a:pt x="7746" y="15243"/>
                </a:moveTo>
                <a:lnTo>
                  <a:pt x="7746" y="15243"/>
                </a:lnTo>
                <a:lnTo>
                  <a:pt x="7654" y="15517"/>
                </a:lnTo>
                <a:lnTo>
                  <a:pt x="7654" y="15517"/>
                </a:lnTo>
                <a:lnTo>
                  <a:pt x="7688" y="15563"/>
                </a:lnTo>
                <a:lnTo>
                  <a:pt x="7734" y="15593"/>
                </a:lnTo>
                <a:lnTo>
                  <a:pt x="7791" y="15593"/>
                </a:lnTo>
                <a:lnTo>
                  <a:pt x="7837" y="15593"/>
                </a:lnTo>
                <a:lnTo>
                  <a:pt x="7837" y="15593"/>
                </a:lnTo>
                <a:lnTo>
                  <a:pt x="7883" y="15426"/>
                </a:lnTo>
                <a:lnTo>
                  <a:pt x="7883" y="15395"/>
                </a:lnTo>
                <a:lnTo>
                  <a:pt x="7883" y="15334"/>
                </a:lnTo>
                <a:lnTo>
                  <a:pt x="7872" y="15304"/>
                </a:lnTo>
                <a:lnTo>
                  <a:pt x="7860" y="15258"/>
                </a:lnTo>
                <a:lnTo>
                  <a:pt x="7837" y="15243"/>
                </a:lnTo>
                <a:lnTo>
                  <a:pt x="7803" y="15243"/>
                </a:lnTo>
                <a:lnTo>
                  <a:pt x="7803" y="15243"/>
                </a:lnTo>
                <a:lnTo>
                  <a:pt x="7746" y="15243"/>
                </a:lnTo>
                <a:close/>
                <a:moveTo>
                  <a:pt x="15675" y="15334"/>
                </a:moveTo>
                <a:lnTo>
                  <a:pt x="15675" y="15334"/>
                </a:lnTo>
                <a:lnTo>
                  <a:pt x="15159" y="15334"/>
                </a:lnTo>
                <a:lnTo>
                  <a:pt x="15159" y="15334"/>
                </a:lnTo>
                <a:lnTo>
                  <a:pt x="15171" y="15380"/>
                </a:lnTo>
                <a:lnTo>
                  <a:pt x="15217" y="15410"/>
                </a:lnTo>
                <a:lnTo>
                  <a:pt x="15286" y="15502"/>
                </a:lnTo>
                <a:lnTo>
                  <a:pt x="15366" y="15563"/>
                </a:lnTo>
                <a:lnTo>
                  <a:pt x="15457" y="15593"/>
                </a:lnTo>
                <a:lnTo>
                  <a:pt x="15503" y="15593"/>
                </a:lnTo>
                <a:lnTo>
                  <a:pt x="15538" y="15593"/>
                </a:lnTo>
                <a:lnTo>
                  <a:pt x="15572" y="15578"/>
                </a:lnTo>
                <a:lnTo>
                  <a:pt x="15606" y="15548"/>
                </a:lnTo>
                <a:lnTo>
                  <a:pt x="15641" y="15502"/>
                </a:lnTo>
                <a:lnTo>
                  <a:pt x="15664" y="15456"/>
                </a:lnTo>
                <a:lnTo>
                  <a:pt x="15664" y="15395"/>
                </a:lnTo>
                <a:lnTo>
                  <a:pt x="15675" y="15334"/>
                </a:lnTo>
                <a:close/>
                <a:moveTo>
                  <a:pt x="12581" y="15121"/>
                </a:moveTo>
                <a:lnTo>
                  <a:pt x="12581" y="15121"/>
                </a:lnTo>
                <a:lnTo>
                  <a:pt x="13567" y="15334"/>
                </a:lnTo>
                <a:lnTo>
                  <a:pt x="13567" y="15334"/>
                </a:lnTo>
                <a:lnTo>
                  <a:pt x="13567" y="15228"/>
                </a:lnTo>
                <a:lnTo>
                  <a:pt x="13578" y="15136"/>
                </a:lnTo>
                <a:lnTo>
                  <a:pt x="13589" y="15045"/>
                </a:lnTo>
                <a:lnTo>
                  <a:pt x="13613" y="14968"/>
                </a:lnTo>
                <a:lnTo>
                  <a:pt x="13635" y="14892"/>
                </a:lnTo>
                <a:lnTo>
                  <a:pt x="13658" y="14862"/>
                </a:lnTo>
                <a:lnTo>
                  <a:pt x="13704" y="14816"/>
                </a:lnTo>
                <a:lnTo>
                  <a:pt x="13738" y="14770"/>
                </a:lnTo>
                <a:lnTo>
                  <a:pt x="13796" y="14725"/>
                </a:lnTo>
                <a:lnTo>
                  <a:pt x="13842" y="14725"/>
                </a:lnTo>
                <a:lnTo>
                  <a:pt x="13899" y="14709"/>
                </a:lnTo>
                <a:lnTo>
                  <a:pt x="13968" y="14694"/>
                </a:lnTo>
                <a:lnTo>
                  <a:pt x="14036" y="14709"/>
                </a:lnTo>
                <a:lnTo>
                  <a:pt x="14117" y="14725"/>
                </a:lnTo>
                <a:lnTo>
                  <a:pt x="14289" y="14786"/>
                </a:lnTo>
                <a:lnTo>
                  <a:pt x="14289" y="14786"/>
                </a:lnTo>
                <a:lnTo>
                  <a:pt x="14312" y="14679"/>
                </a:lnTo>
                <a:lnTo>
                  <a:pt x="14334" y="14618"/>
                </a:lnTo>
                <a:lnTo>
                  <a:pt x="14334" y="14542"/>
                </a:lnTo>
                <a:lnTo>
                  <a:pt x="14323" y="14481"/>
                </a:lnTo>
                <a:lnTo>
                  <a:pt x="14300" y="14435"/>
                </a:lnTo>
                <a:lnTo>
                  <a:pt x="14254" y="14405"/>
                </a:lnTo>
                <a:lnTo>
                  <a:pt x="14208" y="14374"/>
                </a:lnTo>
                <a:lnTo>
                  <a:pt x="14117" y="14374"/>
                </a:lnTo>
                <a:lnTo>
                  <a:pt x="14117" y="14374"/>
                </a:lnTo>
                <a:lnTo>
                  <a:pt x="14128" y="14374"/>
                </a:lnTo>
                <a:lnTo>
                  <a:pt x="14128" y="14374"/>
                </a:lnTo>
                <a:lnTo>
                  <a:pt x="14105" y="14328"/>
                </a:lnTo>
                <a:lnTo>
                  <a:pt x="14002" y="14176"/>
                </a:lnTo>
                <a:lnTo>
                  <a:pt x="13807" y="13947"/>
                </a:lnTo>
                <a:lnTo>
                  <a:pt x="13555" y="13688"/>
                </a:lnTo>
                <a:lnTo>
                  <a:pt x="13051" y="13154"/>
                </a:lnTo>
                <a:lnTo>
                  <a:pt x="12845" y="12941"/>
                </a:lnTo>
                <a:lnTo>
                  <a:pt x="12684" y="12819"/>
                </a:lnTo>
                <a:lnTo>
                  <a:pt x="12684" y="12819"/>
                </a:lnTo>
                <a:lnTo>
                  <a:pt x="12478" y="14313"/>
                </a:lnTo>
                <a:lnTo>
                  <a:pt x="12478" y="14313"/>
                </a:lnTo>
                <a:lnTo>
                  <a:pt x="11092" y="12011"/>
                </a:lnTo>
                <a:lnTo>
                  <a:pt x="11092" y="12011"/>
                </a:lnTo>
                <a:lnTo>
                  <a:pt x="11080" y="12133"/>
                </a:lnTo>
                <a:lnTo>
                  <a:pt x="11080" y="12225"/>
                </a:lnTo>
                <a:lnTo>
                  <a:pt x="11046" y="12286"/>
                </a:lnTo>
                <a:lnTo>
                  <a:pt x="11023" y="12301"/>
                </a:lnTo>
                <a:lnTo>
                  <a:pt x="11011" y="12301"/>
                </a:lnTo>
                <a:lnTo>
                  <a:pt x="10988" y="12301"/>
                </a:lnTo>
                <a:lnTo>
                  <a:pt x="10966" y="12286"/>
                </a:lnTo>
                <a:lnTo>
                  <a:pt x="10920" y="12225"/>
                </a:lnTo>
                <a:lnTo>
                  <a:pt x="10862" y="12133"/>
                </a:lnTo>
                <a:lnTo>
                  <a:pt x="10782" y="12011"/>
                </a:lnTo>
                <a:lnTo>
                  <a:pt x="10782" y="12011"/>
                </a:lnTo>
                <a:lnTo>
                  <a:pt x="10736" y="12316"/>
                </a:lnTo>
                <a:lnTo>
                  <a:pt x="10725" y="12423"/>
                </a:lnTo>
                <a:lnTo>
                  <a:pt x="10668" y="12560"/>
                </a:lnTo>
                <a:lnTo>
                  <a:pt x="10645" y="12590"/>
                </a:lnTo>
                <a:lnTo>
                  <a:pt x="10610" y="12636"/>
                </a:lnTo>
                <a:lnTo>
                  <a:pt x="10576" y="12667"/>
                </a:lnTo>
                <a:lnTo>
                  <a:pt x="10541" y="12697"/>
                </a:lnTo>
                <a:lnTo>
                  <a:pt x="10496" y="12712"/>
                </a:lnTo>
                <a:lnTo>
                  <a:pt x="10438" y="12728"/>
                </a:lnTo>
                <a:lnTo>
                  <a:pt x="10381" y="12712"/>
                </a:lnTo>
                <a:lnTo>
                  <a:pt x="10324" y="12682"/>
                </a:lnTo>
                <a:lnTo>
                  <a:pt x="10324" y="12682"/>
                </a:lnTo>
                <a:lnTo>
                  <a:pt x="10392" y="13017"/>
                </a:lnTo>
                <a:lnTo>
                  <a:pt x="10416" y="13093"/>
                </a:lnTo>
                <a:lnTo>
                  <a:pt x="10416" y="13124"/>
                </a:lnTo>
                <a:lnTo>
                  <a:pt x="10404" y="13154"/>
                </a:lnTo>
                <a:lnTo>
                  <a:pt x="10392" y="13170"/>
                </a:lnTo>
                <a:lnTo>
                  <a:pt x="10370" y="13170"/>
                </a:lnTo>
                <a:lnTo>
                  <a:pt x="10324" y="13139"/>
                </a:lnTo>
                <a:lnTo>
                  <a:pt x="10118" y="13017"/>
                </a:lnTo>
                <a:lnTo>
                  <a:pt x="10118" y="13017"/>
                </a:lnTo>
                <a:lnTo>
                  <a:pt x="10175" y="13170"/>
                </a:lnTo>
                <a:lnTo>
                  <a:pt x="10267" y="13322"/>
                </a:lnTo>
                <a:lnTo>
                  <a:pt x="10358" y="13429"/>
                </a:lnTo>
                <a:lnTo>
                  <a:pt x="10450" y="13551"/>
                </a:lnTo>
                <a:lnTo>
                  <a:pt x="10656" y="13779"/>
                </a:lnTo>
                <a:lnTo>
                  <a:pt x="10736" y="13901"/>
                </a:lnTo>
                <a:lnTo>
                  <a:pt x="10839" y="14039"/>
                </a:lnTo>
                <a:lnTo>
                  <a:pt x="10839" y="14039"/>
                </a:lnTo>
                <a:lnTo>
                  <a:pt x="10713" y="13993"/>
                </a:lnTo>
                <a:lnTo>
                  <a:pt x="10576" y="13947"/>
                </a:lnTo>
                <a:lnTo>
                  <a:pt x="10335" y="13856"/>
                </a:lnTo>
                <a:lnTo>
                  <a:pt x="10198" y="13795"/>
                </a:lnTo>
                <a:lnTo>
                  <a:pt x="10083" y="13779"/>
                </a:lnTo>
                <a:lnTo>
                  <a:pt x="9946" y="13764"/>
                </a:lnTo>
                <a:lnTo>
                  <a:pt x="9797" y="13779"/>
                </a:lnTo>
                <a:lnTo>
                  <a:pt x="9797" y="13779"/>
                </a:lnTo>
                <a:lnTo>
                  <a:pt x="9808" y="13932"/>
                </a:lnTo>
                <a:lnTo>
                  <a:pt x="9842" y="14084"/>
                </a:lnTo>
                <a:lnTo>
                  <a:pt x="9900" y="14206"/>
                </a:lnTo>
                <a:lnTo>
                  <a:pt x="9969" y="14359"/>
                </a:lnTo>
                <a:lnTo>
                  <a:pt x="10049" y="14466"/>
                </a:lnTo>
                <a:lnTo>
                  <a:pt x="10152" y="14572"/>
                </a:lnTo>
                <a:lnTo>
                  <a:pt x="10255" y="14633"/>
                </a:lnTo>
                <a:lnTo>
                  <a:pt x="10358" y="14709"/>
                </a:lnTo>
                <a:lnTo>
                  <a:pt x="10358" y="14709"/>
                </a:lnTo>
                <a:lnTo>
                  <a:pt x="10381" y="14618"/>
                </a:lnTo>
                <a:lnTo>
                  <a:pt x="10404" y="14542"/>
                </a:lnTo>
                <a:lnTo>
                  <a:pt x="10438" y="14481"/>
                </a:lnTo>
                <a:lnTo>
                  <a:pt x="10461" y="14450"/>
                </a:lnTo>
                <a:lnTo>
                  <a:pt x="10496" y="14420"/>
                </a:lnTo>
                <a:lnTo>
                  <a:pt x="10530" y="14420"/>
                </a:lnTo>
                <a:lnTo>
                  <a:pt x="10565" y="14435"/>
                </a:lnTo>
                <a:lnTo>
                  <a:pt x="10599" y="14466"/>
                </a:lnTo>
                <a:lnTo>
                  <a:pt x="10679" y="14557"/>
                </a:lnTo>
                <a:lnTo>
                  <a:pt x="10759" y="14664"/>
                </a:lnTo>
                <a:lnTo>
                  <a:pt x="10931" y="14968"/>
                </a:lnTo>
                <a:lnTo>
                  <a:pt x="11023" y="15121"/>
                </a:lnTo>
                <a:lnTo>
                  <a:pt x="11126" y="15243"/>
                </a:lnTo>
                <a:lnTo>
                  <a:pt x="11206" y="15334"/>
                </a:lnTo>
                <a:lnTo>
                  <a:pt x="11240" y="15380"/>
                </a:lnTo>
                <a:lnTo>
                  <a:pt x="11286" y="15395"/>
                </a:lnTo>
                <a:lnTo>
                  <a:pt x="11309" y="15395"/>
                </a:lnTo>
                <a:lnTo>
                  <a:pt x="11344" y="15395"/>
                </a:lnTo>
                <a:lnTo>
                  <a:pt x="11378" y="15365"/>
                </a:lnTo>
                <a:lnTo>
                  <a:pt x="11413" y="15319"/>
                </a:lnTo>
                <a:lnTo>
                  <a:pt x="11435" y="15243"/>
                </a:lnTo>
                <a:lnTo>
                  <a:pt x="11470" y="15151"/>
                </a:lnTo>
                <a:lnTo>
                  <a:pt x="11493" y="15060"/>
                </a:lnTo>
                <a:lnTo>
                  <a:pt x="11504" y="14908"/>
                </a:lnTo>
                <a:lnTo>
                  <a:pt x="11504" y="14908"/>
                </a:lnTo>
                <a:lnTo>
                  <a:pt x="11630" y="15029"/>
                </a:lnTo>
                <a:lnTo>
                  <a:pt x="11791" y="15167"/>
                </a:lnTo>
                <a:lnTo>
                  <a:pt x="11962" y="15334"/>
                </a:lnTo>
                <a:lnTo>
                  <a:pt x="12065" y="15395"/>
                </a:lnTo>
                <a:lnTo>
                  <a:pt x="12146" y="15441"/>
                </a:lnTo>
                <a:lnTo>
                  <a:pt x="12238" y="15502"/>
                </a:lnTo>
                <a:lnTo>
                  <a:pt x="12306" y="15517"/>
                </a:lnTo>
                <a:lnTo>
                  <a:pt x="12386" y="15532"/>
                </a:lnTo>
                <a:lnTo>
                  <a:pt x="12455" y="15502"/>
                </a:lnTo>
                <a:lnTo>
                  <a:pt x="12478" y="15502"/>
                </a:lnTo>
                <a:lnTo>
                  <a:pt x="12512" y="15456"/>
                </a:lnTo>
                <a:lnTo>
                  <a:pt x="12524" y="15426"/>
                </a:lnTo>
                <a:lnTo>
                  <a:pt x="12547" y="15395"/>
                </a:lnTo>
                <a:lnTo>
                  <a:pt x="12570" y="15334"/>
                </a:lnTo>
                <a:lnTo>
                  <a:pt x="12581" y="15273"/>
                </a:lnTo>
                <a:lnTo>
                  <a:pt x="12581" y="15121"/>
                </a:lnTo>
                <a:close/>
                <a:moveTo>
                  <a:pt x="19227" y="14709"/>
                </a:moveTo>
                <a:lnTo>
                  <a:pt x="19227" y="14709"/>
                </a:lnTo>
                <a:lnTo>
                  <a:pt x="19308" y="14740"/>
                </a:lnTo>
                <a:lnTo>
                  <a:pt x="19376" y="14801"/>
                </a:lnTo>
                <a:lnTo>
                  <a:pt x="19411" y="14847"/>
                </a:lnTo>
                <a:lnTo>
                  <a:pt x="19445" y="14892"/>
                </a:lnTo>
                <a:lnTo>
                  <a:pt x="19457" y="14968"/>
                </a:lnTo>
                <a:lnTo>
                  <a:pt x="19457" y="15045"/>
                </a:lnTo>
                <a:lnTo>
                  <a:pt x="19457" y="15167"/>
                </a:lnTo>
                <a:lnTo>
                  <a:pt x="19457" y="15319"/>
                </a:lnTo>
                <a:lnTo>
                  <a:pt x="19468" y="15365"/>
                </a:lnTo>
                <a:lnTo>
                  <a:pt x="19491" y="15410"/>
                </a:lnTo>
                <a:lnTo>
                  <a:pt x="19525" y="15441"/>
                </a:lnTo>
                <a:lnTo>
                  <a:pt x="19571" y="15456"/>
                </a:lnTo>
                <a:lnTo>
                  <a:pt x="19629" y="15471"/>
                </a:lnTo>
                <a:lnTo>
                  <a:pt x="19731" y="15456"/>
                </a:lnTo>
                <a:lnTo>
                  <a:pt x="19731" y="15456"/>
                </a:lnTo>
                <a:lnTo>
                  <a:pt x="19800" y="15410"/>
                </a:lnTo>
                <a:lnTo>
                  <a:pt x="19858" y="15395"/>
                </a:lnTo>
                <a:lnTo>
                  <a:pt x="19915" y="15334"/>
                </a:lnTo>
                <a:lnTo>
                  <a:pt x="19949" y="15289"/>
                </a:lnTo>
                <a:lnTo>
                  <a:pt x="19984" y="15212"/>
                </a:lnTo>
                <a:lnTo>
                  <a:pt x="19995" y="15136"/>
                </a:lnTo>
                <a:lnTo>
                  <a:pt x="19995" y="15075"/>
                </a:lnTo>
                <a:lnTo>
                  <a:pt x="19995" y="14984"/>
                </a:lnTo>
                <a:lnTo>
                  <a:pt x="19995" y="14892"/>
                </a:lnTo>
                <a:lnTo>
                  <a:pt x="19984" y="14831"/>
                </a:lnTo>
                <a:lnTo>
                  <a:pt x="19949" y="14740"/>
                </a:lnTo>
                <a:lnTo>
                  <a:pt x="19927" y="14664"/>
                </a:lnTo>
                <a:lnTo>
                  <a:pt x="19880" y="14618"/>
                </a:lnTo>
                <a:lnTo>
                  <a:pt x="19835" y="14542"/>
                </a:lnTo>
                <a:lnTo>
                  <a:pt x="19800" y="14481"/>
                </a:lnTo>
                <a:lnTo>
                  <a:pt x="19743" y="14450"/>
                </a:lnTo>
                <a:lnTo>
                  <a:pt x="19743" y="14450"/>
                </a:lnTo>
                <a:lnTo>
                  <a:pt x="19686" y="14405"/>
                </a:lnTo>
                <a:lnTo>
                  <a:pt x="19640" y="14374"/>
                </a:lnTo>
                <a:lnTo>
                  <a:pt x="19594" y="14374"/>
                </a:lnTo>
                <a:lnTo>
                  <a:pt x="19548" y="14374"/>
                </a:lnTo>
                <a:lnTo>
                  <a:pt x="19548" y="14374"/>
                </a:lnTo>
                <a:lnTo>
                  <a:pt x="19502" y="14374"/>
                </a:lnTo>
                <a:lnTo>
                  <a:pt x="19445" y="14374"/>
                </a:lnTo>
                <a:lnTo>
                  <a:pt x="19411" y="14405"/>
                </a:lnTo>
                <a:lnTo>
                  <a:pt x="19376" y="14450"/>
                </a:lnTo>
                <a:lnTo>
                  <a:pt x="19331" y="14496"/>
                </a:lnTo>
                <a:lnTo>
                  <a:pt x="19296" y="14557"/>
                </a:lnTo>
                <a:lnTo>
                  <a:pt x="19262" y="14633"/>
                </a:lnTo>
                <a:lnTo>
                  <a:pt x="19227" y="14709"/>
                </a:lnTo>
                <a:close/>
                <a:moveTo>
                  <a:pt x="8937" y="15456"/>
                </a:moveTo>
                <a:lnTo>
                  <a:pt x="8937" y="15456"/>
                </a:lnTo>
                <a:lnTo>
                  <a:pt x="8903" y="15289"/>
                </a:lnTo>
                <a:lnTo>
                  <a:pt x="8857" y="15121"/>
                </a:lnTo>
                <a:lnTo>
                  <a:pt x="8811" y="14938"/>
                </a:lnTo>
                <a:lnTo>
                  <a:pt x="8777" y="14786"/>
                </a:lnTo>
                <a:lnTo>
                  <a:pt x="8777" y="14786"/>
                </a:lnTo>
                <a:lnTo>
                  <a:pt x="8513" y="14984"/>
                </a:lnTo>
                <a:lnTo>
                  <a:pt x="8513" y="14984"/>
                </a:lnTo>
                <a:lnTo>
                  <a:pt x="8456" y="15395"/>
                </a:lnTo>
                <a:lnTo>
                  <a:pt x="8456" y="15395"/>
                </a:lnTo>
                <a:lnTo>
                  <a:pt x="8513" y="15395"/>
                </a:lnTo>
                <a:lnTo>
                  <a:pt x="8513" y="15395"/>
                </a:lnTo>
                <a:lnTo>
                  <a:pt x="8616" y="15395"/>
                </a:lnTo>
                <a:lnTo>
                  <a:pt x="8719" y="15410"/>
                </a:lnTo>
                <a:lnTo>
                  <a:pt x="8823" y="15410"/>
                </a:lnTo>
                <a:lnTo>
                  <a:pt x="8937" y="15456"/>
                </a:lnTo>
                <a:close/>
                <a:moveTo>
                  <a:pt x="8009" y="15456"/>
                </a:moveTo>
                <a:lnTo>
                  <a:pt x="8009" y="15456"/>
                </a:lnTo>
                <a:lnTo>
                  <a:pt x="8032" y="15441"/>
                </a:lnTo>
                <a:lnTo>
                  <a:pt x="8067" y="15441"/>
                </a:lnTo>
                <a:lnTo>
                  <a:pt x="8135" y="15395"/>
                </a:lnTo>
                <a:lnTo>
                  <a:pt x="8181" y="15334"/>
                </a:lnTo>
                <a:lnTo>
                  <a:pt x="8216" y="15273"/>
                </a:lnTo>
                <a:lnTo>
                  <a:pt x="8227" y="15182"/>
                </a:lnTo>
                <a:lnTo>
                  <a:pt x="8227" y="15121"/>
                </a:lnTo>
                <a:lnTo>
                  <a:pt x="8227" y="15075"/>
                </a:lnTo>
                <a:lnTo>
                  <a:pt x="8204" y="15045"/>
                </a:lnTo>
                <a:lnTo>
                  <a:pt x="8181" y="15014"/>
                </a:lnTo>
                <a:lnTo>
                  <a:pt x="8147" y="14984"/>
                </a:lnTo>
                <a:lnTo>
                  <a:pt x="8147" y="14984"/>
                </a:lnTo>
                <a:lnTo>
                  <a:pt x="8078" y="15075"/>
                </a:lnTo>
                <a:lnTo>
                  <a:pt x="8055" y="15136"/>
                </a:lnTo>
                <a:lnTo>
                  <a:pt x="8032" y="15182"/>
                </a:lnTo>
                <a:lnTo>
                  <a:pt x="8020" y="15243"/>
                </a:lnTo>
                <a:lnTo>
                  <a:pt x="8009" y="15334"/>
                </a:lnTo>
                <a:lnTo>
                  <a:pt x="8009" y="15456"/>
                </a:lnTo>
                <a:close/>
                <a:moveTo>
                  <a:pt x="733" y="15243"/>
                </a:moveTo>
                <a:lnTo>
                  <a:pt x="733" y="15243"/>
                </a:lnTo>
                <a:lnTo>
                  <a:pt x="847" y="15334"/>
                </a:lnTo>
                <a:lnTo>
                  <a:pt x="916" y="15380"/>
                </a:lnTo>
                <a:lnTo>
                  <a:pt x="996" y="15410"/>
                </a:lnTo>
                <a:lnTo>
                  <a:pt x="1077" y="15410"/>
                </a:lnTo>
                <a:lnTo>
                  <a:pt x="1099" y="15410"/>
                </a:lnTo>
                <a:lnTo>
                  <a:pt x="1134" y="15410"/>
                </a:lnTo>
                <a:lnTo>
                  <a:pt x="1157" y="15395"/>
                </a:lnTo>
                <a:lnTo>
                  <a:pt x="1180" y="15349"/>
                </a:lnTo>
                <a:lnTo>
                  <a:pt x="1203" y="15319"/>
                </a:lnTo>
                <a:lnTo>
                  <a:pt x="1203" y="15243"/>
                </a:lnTo>
                <a:lnTo>
                  <a:pt x="1203" y="15243"/>
                </a:lnTo>
                <a:lnTo>
                  <a:pt x="1157" y="15151"/>
                </a:lnTo>
                <a:lnTo>
                  <a:pt x="1122" y="15075"/>
                </a:lnTo>
                <a:lnTo>
                  <a:pt x="1077" y="15045"/>
                </a:lnTo>
                <a:lnTo>
                  <a:pt x="1054" y="15029"/>
                </a:lnTo>
                <a:lnTo>
                  <a:pt x="1019" y="15014"/>
                </a:lnTo>
                <a:lnTo>
                  <a:pt x="1019" y="15014"/>
                </a:lnTo>
                <a:lnTo>
                  <a:pt x="962" y="15045"/>
                </a:lnTo>
                <a:lnTo>
                  <a:pt x="893" y="15075"/>
                </a:lnTo>
                <a:lnTo>
                  <a:pt x="813" y="15151"/>
                </a:lnTo>
                <a:lnTo>
                  <a:pt x="733" y="15243"/>
                </a:lnTo>
                <a:close/>
                <a:moveTo>
                  <a:pt x="9075" y="15334"/>
                </a:moveTo>
                <a:lnTo>
                  <a:pt x="9075" y="15334"/>
                </a:lnTo>
                <a:lnTo>
                  <a:pt x="9144" y="15319"/>
                </a:lnTo>
                <a:lnTo>
                  <a:pt x="9189" y="15304"/>
                </a:lnTo>
                <a:lnTo>
                  <a:pt x="9224" y="15273"/>
                </a:lnTo>
                <a:lnTo>
                  <a:pt x="9258" y="15243"/>
                </a:lnTo>
                <a:lnTo>
                  <a:pt x="9293" y="15197"/>
                </a:lnTo>
                <a:lnTo>
                  <a:pt x="9304" y="15151"/>
                </a:lnTo>
                <a:lnTo>
                  <a:pt x="9315" y="15106"/>
                </a:lnTo>
                <a:lnTo>
                  <a:pt x="9315" y="15060"/>
                </a:lnTo>
                <a:lnTo>
                  <a:pt x="9315" y="14999"/>
                </a:lnTo>
                <a:lnTo>
                  <a:pt x="9304" y="14953"/>
                </a:lnTo>
                <a:lnTo>
                  <a:pt x="9293" y="14892"/>
                </a:lnTo>
                <a:lnTo>
                  <a:pt x="9258" y="14862"/>
                </a:lnTo>
                <a:lnTo>
                  <a:pt x="9212" y="14816"/>
                </a:lnTo>
                <a:lnTo>
                  <a:pt x="9189" y="14770"/>
                </a:lnTo>
                <a:lnTo>
                  <a:pt x="9144" y="14725"/>
                </a:lnTo>
                <a:lnTo>
                  <a:pt x="9075" y="14709"/>
                </a:lnTo>
                <a:lnTo>
                  <a:pt x="9075" y="14709"/>
                </a:lnTo>
                <a:lnTo>
                  <a:pt x="9075" y="15334"/>
                </a:lnTo>
                <a:close/>
                <a:moveTo>
                  <a:pt x="7482" y="15243"/>
                </a:moveTo>
                <a:lnTo>
                  <a:pt x="7482" y="15243"/>
                </a:lnTo>
                <a:lnTo>
                  <a:pt x="7574" y="15151"/>
                </a:lnTo>
                <a:lnTo>
                  <a:pt x="7654" y="15060"/>
                </a:lnTo>
                <a:lnTo>
                  <a:pt x="7723" y="14923"/>
                </a:lnTo>
                <a:lnTo>
                  <a:pt x="7746" y="14877"/>
                </a:lnTo>
                <a:lnTo>
                  <a:pt x="7769" y="14816"/>
                </a:lnTo>
                <a:lnTo>
                  <a:pt x="7780" y="14740"/>
                </a:lnTo>
                <a:lnTo>
                  <a:pt x="7780" y="14694"/>
                </a:lnTo>
                <a:lnTo>
                  <a:pt x="7769" y="14633"/>
                </a:lnTo>
                <a:lnTo>
                  <a:pt x="7746" y="14603"/>
                </a:lnTo>
                <a:lnTo>
                  <a:pt x="7723" y="14557"/>
                </a:lnTo>
                <a:lnTo>
                  <a:pt x="7665" y="14542"/>
                </a:lnTo>
                <a:lnTo>
                  <a:pt x="7620" y="14527"/>
                </a:lnTo>
                <a:lnTo>
                  <a:pt x="7539" y="14511"/>
                </a:lnTo>
                <a:lnTo>
                  <a:pt x="7539" y="14511"/>
                </a:lnTo>
                <a:lnTo>
                  <a:pt x="7493" y="14694"/>
                </a:lnTo>
                <a:lnTo>
                  <a:pt x="7471" y="14892"/>
                </a:lnTo>
                <a:lnTo>
                  <a:pt x="7459" y="15075"/>
                </a:lnTo>
                <a:lnTo>
                  <a:pt x="7482" y="15243"/>
                </a:lnTo>
                <a:close/>
                <a:moveTo>
                  <a:pt x="15010" y="15182"/>
                </a:moveTo>
                <a:lnTo>
                  <a:pt x="15010" y="15182"/>
                </a:lnTo>
                <a:lnTo>
                  <a:pt x="15091" y="15197"/>
                </a:lnTo>
                <a:lnTo>
                  <a:pt x="15159" y="15197"/>
                </a:lnTo>
                <a:lnTo>
                  <a:pt x="15205" y="15182"/>
                </a:lnTo>
                <a:lnTo>
                  <a:pt x="15251" y="15151"/>
                </a:lnTo>
                <a:lnTo>
                  <a:pt x="15286" y="15136"/>
                </a:lnTo>
                <a:lnTo>
                  <a:pt x="15297" y="15106"/>
                </a:lnTo>
                <a:lnTo>
                  <a:pt x="15320" y="15045"/>
                </a:lnTo>
                <a:lnTo>
                  <a:pt x="15320" y="14984"/>
                </a:lnTo>
                <a:lnTo>
                  <a:pt x="15320" y="14984"/>
                </a:lnTo>
                <a:lnTo>
                  <a:pt x="15159" y="14968"/>
                </a:lnTo>
                <a:lnTo>
                  <a:pt x="15022" y="14953"/>
                </a:lnTo>
                <a:lnTo>
                  <a:pt x="15022" y="14953"/>
                </a:lnTo>
                <a:lnTo>
                  <a:pt x="14919" y="14968"/>
                </a:lnTo>
                <a:lnTo>
                  <a:pt x="14884" y="14984"/>
                </a:lnTo>
                <a:lnTo>
                  <a:pt x="14873" y="14984"/>
                </a:lnTo>
                <a:lnTo>
                  <a:pt x="14850" y="14999"/>
                </a:lnTo>
                <a:lnTo>
                  <a:pt x="14850" y="15029"/>
                </a:lnTo>
                <a:lnTo>
                  <a:pt x="14873" y="15075"/>
                </a:lnTo>
                <a:lnTo>
                  <a:pt x="14896" y="15121"/>
                </a:lnTo>
                <a:lnTo>
                  <a:pt x="14942" y="15151"/>
                </a:lnTo>
                <a:lnTo>
                  <a:pt x="14976" y="15167"/>
                </a:lnTo>
                <a:lnTo>
                  <a:pt x="15010" y="15182"/>
                </a:lnTo>
                <a:close/>
                <a:moveTo>
                  <a:pt x="7276" y="15182"/>
                </a:moveTo>
                <a:lnTo>
                  <a:pt x="7276" y="15182"/>
                </a:lnTo>
                <a:lnTo>
                  <a:pt x="7230" y="14908"/>
                </a:lnTo>
                <a:lnTo>
                  <a:pt x="7230" y="14908"/>
                </a:lnTo>
                <a:lnTo>
                  <a:pt x="7219" y="15014"/>
                </a:lnTo>
                <a:lnTo>
                  <a:pt x="7219" y="15075"/>
                </a:lnTo>
                <a:lnTo>
                  <a:pt x="7230" y="15106"/>
                </a:lnTo>
                <a:lnTo>
                  <a:pt x="7276" y="15182"/>
                </a:lnTo>
                <a:close/>
                <a:moveTo>
                  <a:pt x="16134" y="14633"/>
                </a:moveTo>
                <a:lnTo>
                  <a:pt x="16134" y="14633"/>
                </a:lnTo>
                <a:lnTo>
                  <a:pt x="16088" y="14709"/>
                </a:lnTo>
                <a:lnTo>
                  <a:pt x="15939" y="14862"/>
                </a:lnTo>
                <a:lnTo>
                  <a:pt x="15790" y="15014"/>
                </a:lnTo>
                <a:lnTo>
                  <a:pt x="15732" y="15075"/>
                </a:lnTo>
                <a:lnTo>
                  <a:pt x="15664" y="15121"/>
                </a:lnTo>
                <a:lnTo>
                  <a:pt x="15664" y="15121"/>
                </a:lnTo>
                <a:lnTo>
                  <a:pt x="15870" y="15136"/>
                </a:lnTo>
                <a:lnTo>
                  <a:pt x="15939" y="15121"/>
                </a:lnTo>
                <a:lnTo>
                  <a:pt x="16007" y="15090"/>
                </a:lnTo>
                <a:lnTo>
                  <a:pt x="16019" y="15075"/>
                </a:lnTo>
                <a:lnTo>
                  <a:pt x="16053" y="15029"/>
                </a:lnTo>
                <a:lnTo>
                  <a:pt x="16076" y="14984"/>
                </a:lnTo>
                <a:lnTo>
                  <a:pt x="16088" y="14938"/>
                </a:lnTo>
                <a:lnTo>
                  <a:pt x="16122" y="14816"/>
                </a:lnTo>
                <a:lnTo>
                  <a:pt x="16134" y="14633"/>
                </a:lnTo>
                <a:close/>
                <a:moveTo>
                  <a:pt x="687" y="15060"/>
                </a:moveTo>
                <a:lnTo>
                  <a:pt x="687" y="15060"/>
                </a:lnTo>
                <a:lnTo>
                  <a:pt x="687" y="14999"/>
                </a:lnTo>
                <a:lnTo>
                  <a:pt x="675" y="14968"/>
                </a:lnTo>
                <a:lnTo>
                  <a:pt x="641" y="14892"/>
                </a:lnTo>
                <a:lnTo>
                  <a:pt x="595" y="14801"/>
                </a:lnTo>
                <a:lnTo>
                  <a:pt x="527" y="14725"/>
                </a:lnTo>
                <a:lnTo>
                  <a:pt x="469" y="14648"/>
                </a:lnTo>
                <a:lnTo>
                  <a:pt x="400" y="14603"/>
                </a:lnTo>
                <a:lnTo>
                  <a:pt x="274" y="14511"/>
                </a:lnTo>
                <a:lnTo>
                  <a:pt x="274" y="14511"/>
                </a:lnTo>
                <a:lnTo>
                  <a:pt x="263" y="14679"/>
                </a:lnTo>
                <a:lnTo>
                  <a:pt x="274" y="14816"/>
                </a:lnTo>
                <a:lnTo>
                  <a:pt x="286" y="14892"/>
                </a:lnTo>
                <a:lnTo>
                  <a:pt x="297" y="14923"/>
                </a:lnTo>
                <a:lnTo>
                  <a:pt x="320" y="14984"/>
                </a:lnTo>
                <a:lnTo>
                  <a:pt x="343" y="15014"/>
                </a:lnTo>
                <a:lnTo>
                  <a:pt x="366" y="15045"/>
                </a:lnTo>
                <a:lnTo>
                  <a:pt x="400" y="15075"/>
                </a:lnTo>
                <a:lnTo>
                  <a:pt x="435" y="15075"/>
                </a:lnTo>
                <a:lnTo>
                  <a:pt x="481" y="15090"/>
                </a:lnTo>
                <a:lnTo>
                  <a:pt x="561" y="15090"/>
                </a:lnTo>
                <a:lnTo>
                  <a:pt x="687" y="15060"/>
                </a:lnTo>
                <a:close/>
                <a:moveTo>
                  <a:pt x="16867" y="14847"/>
                </a:moveTo>
                <a:lnTo>
                  <a:pt x="16867" y="14847"/>
                </a:lnTo>
                <a:lnTo>
                  <a:pt x="16901" y="14938"/>
                </a:lnTo>
                <a:lnTo>
                  <a:pt x="16935" y="14968"/>
                </a:lnTo>
                <a:lnTo>
                  <a:pt x="16959" y="14999"/>
                </a:lnTo>
                <a:lnTo>
                  <a:pt x="17004" y="15029"/>
                </a:lnTo>
                <a:lnTo>
                  <a:pt x="17039" y="15045"/>
                </a:lnTo>
                <a:lnTo>
                  <a:pt x="17108" y="15060"/>
                </a:lnTo>
                <a:lnTo>
                  <a:pt x="17108" y="15060"/>
                </a:lnTo>
                <a:lnTo>
                  <a:pt x="17096" y="14953"/>
                </a:lnTo>
                <a:lnTo>
                  <a:pt x="17062" y="14892"/>
                </a:lnTo>
                <a:lnTo>
                  <a:pt x="17027" y="14862"/>
                </a:lnTo>
                <a:lnTo>
                  <a:pt x="17016" y="14847"/>
                </a:lnTo>
                <a:lnTo>
                  <a:pt x="16970" y="14831"/>
                </a:lnTo>
                <a:lnTo>
                  <a:pt x="16947" y="14831"/>
                </a:lnTo>
                <a:lnTo>
                  <a:pt x="16947" y="14831"/>
                </a:lnTo>
                <a:lnTo>
                  <a:pt x="16901" y="14831"/>
                </a:lnTo>
                <a:lnTo>
                  <a:pt x="16867" y="14847"/>
                </a:lnTo>
                <a:close/>
                <a:moveTo>
                  <a:pt x="1970" y="15060"/>
                </a:moveTo>
                <a:lnTo>
                  <a:pt x="1970" y="15060"/>
                </a:lnTo>
                <a:lnTo>
                  <a:pt x="1924" y="14938"/>
                </a:lnTo>
                <a:lnTo>
                  <a:pt x="1867" y="14831"/>
                </a:lnTo>
                <a:lnTo>
                  <a:pt x="1810" y="14725"/>
                </a:lnTo>
                <a:lnTo>
                  <a:pt x="1753" y="14618"/>
                </a:lnTo>
                <a:lnTo>
                  <a:pt x="1615" y="14405"/>
                </a:lnTo>
                <a:lnTo>
                  <a:pt x="1466" y="14237"/>
                </a:lnTo>
                <a:lnTo>
                  <a:pt x="1466" y="14237"/>
                </a:lnTo>
                <a:lnTo>
                  <a:pt x="1432" y="14344"/>
                </a:lnTo>
                <a:lnTo>
                  <a:pt x="1409" y="14420"/>
                </a:lnTo>
                <a:lnTo>
                  <a:pt x="1397" y="14511"/>
                </a:lnTo>
                <a:lnTo>
                  <a:pt x="1397" y="14587"/>
                </a:lnTo>
                <a:lnTo>
                  <a:pt x="1409" y="14648"/>
                </a:lnTo>
                <a:lnTo>
                  <a:pt x="1432" y="14725"/>
                </a:lnTo>
                <a:lnTo>
                  <a:pt x="1455" y="14786"/>
                </a:lnTo>
                <a:lnTo>
                  <a:pt x="1489" y="14847"/>
                </a:lnTo>
                <a:lnTo>
                  <a:pt x="1535" y="14892"/>
                </a:lnTo>
                <a:lnTo>
                  <a:pt x="1581" y="14923"/>
                </a:lnTo>
                <a:lnTo>
                  <a:pt x="1638" y="14968"/>
                </a:lnTo>
                <a:lnTo>
                  <a:pt x="1695" y="14984"/>
                </a:lnTo>
                <a:lnTo>
                  <a:pt x="1833" y="15029"/>
                </a:lnTo>
                <a:lnTo>
                  <a:pt x="1970" y="15060"/>
                </a:lnTo>
                <a:close/>
                <a:moveTo>
                  <a:pt x="996" y="14633"/>
                </a:moveTo>
                <a:lnTo>
                  <a:pt x="996" y="14633"/>
                </a:lnTo>
                <a:lnTo>
                  <a:pt x="687" y="14587"/>
                </a:lnTo>
                <a:lnTo>
                  <a:pt x="687" y="14587"/>
                </a:lnTo>
                <a:lnTo>
                  <a:pt x="721" y="14664"/>
                </a:lnTo>
                <a:lnTo>
                  <a:pt x="779" y="14755"/>
                </a:lnTo>
                <a:lnTo>
                  <a:pt x="859" y="14831"/>
                </a:lnTo>
                <a:lnTo>
                  <a:pt x="916" y="14892"/>
                </a:lnTo>
                <a:lnTo>
                  <a:pt x="950" y="14892"/>
                </a:lnTo>
                <a:lnTo>
                  <a:pt x="973" y="14892"/>
                </a:lnTo>
                <a:lnTo>
                  <a:pt x="996" y="14892"/>
                </a:lnTo>
                <a:lnTo>
                  <a:pt x="1008" y="14892"/>
                </a:lnTo>
                <a:lnTo>
                  <a:pt x="1019" y="14847"/>
                </a:lnTo>
                <a:lnTo>
                  <a:pt x="1019" y="14801"/>
                </a:lnTo>
                <a:lnTo>
                  <a:pt x="1008" y="14725"/>
                </a:lnTo>
                <a:lnTo>
                  <a:pt x="996" y="14633"/>
                </a:lnTo>
                <a:close/>
                <a:moveTo>
                  <a:pt x="15159" y="14450"/>
                </a:moveTo>
                <a:lnTo>
                  <a:pt x="15159" y="14450"/>
                </a:lnTo>
                <a:lnTo>
                  <a:pt x="15171" y="14542"/>
                </a:lnTo>
                <a:lnTo>
                  <a:pt x="15205" y="14618"/>
                </a:lnTo>
                <a:lnTo>
                  <a:pt x="15251" y="14679"/>
                </a:lnTo>
                <a:lnTo>
                  <a:pt x="15297" y="14740"/>
                </a:lnTo>
                <a:lnTo>
                  <a:pt x="15354" y="14801"/>
                </a:lnTo>
                <a:lnTo>
                  <a:pt x="15389" y="14831"/>
                </a:lnTo>
                <a:lnTo>
                  <a:pt x="15446" y="14862"/>
                </a:lnTo>
                <a:lnTo>
                  <a:pt x="15515" y="14892"/>
                </a:lnTo>
                <a:lnTo>
                  <a:pt x="15560" y="14892"/>
                </a:lnTo>
                <a:lnTo>
                  <a:pt x="15595" y="14892"/>
                </a:lnTo>
                <a:lnTo>
                  <a:pt x="15641" y="14877"/>
                </a:lnTo>
                <a:lnTo>
                  <a:pt x="15664" y="14862"/>
                </a:lnTo>
                <a:lnTo>
                  <a:pt x="15687" y="14816"/>
                </a:lnTo>
                <a:lnTo>
                  <a:pt x="15698" y="14770"/>
                </a:lnTo>
                <a:lnTo>
                  <a:pt x="15698" y="14709"/>
                </a:lnTo>
                <a:lnTo>
                  <a:pt x="15675" y="14633"/>
                </a:lnTo>
                <a:lnTo>
                  <a:pt x="15675" y="14633"/>
                </a:lnTo>
                <a:lnTo>
                  <a:pt x="15583" y="14527"/>
                </a:lnTo>
                <a:lnTo>
                  <a:pt x="15515" y="14435"/>
                </a:lnTo>
                <a:lnTo>
                  <a:pt x="15469" y="14389"/>
                </a:lnTo>
                <a:lnTo>
                  <a:pt x="15423" y="14374"/>
                </a:lnTo>
                <a:lnTo>
                  <a:pt x="15377" y="14374"/>
                </a:lnTo>
                <a:lnTo>
                  <a:pt x="15343" y="14374"/>
                </a:lnTo>
                <a:lnTo>
                  <a:pt x="15343" y="14374"/>
                </a:lnTo>
                <a:lnTo>
                  <a:pt x="15297" y="14374"/>
                </a:lnTo>
                <a:lnTo>
                  <a:pt x="15251" y="14374"/>
                </a:lnTo>
                <a:lnTo>
                  <a:pt x="15205" y="14405"/>
                </a:lnTo>
                <a:lnTo>
                  <a:pt x="15159" y="14450"/>
                </a:lnTo>
                <a:close/>
                <a:moveTo>
                  <a:pt x="2440" y="14847"/>
                </a:moveTo>
                <a:lnTo>
                  <a:pt x="2440" y="14847"/>
                </a:lnTo>
                <a:lnTo>
                  <a:pt x="2429" y="14786"/>
                </a:lnTo>
                <a:lnTo>
                  <a:pt x="2383" y="14694"/>
                </a:lnTo>
                <a:lnTo>
                  <a:pt x="2325" y="14603"/>
                </a:lnTo>
                <a:lnTo>
                  <a:pt x="2257" y="14496"/>
                </a:lnTo>
                <a:lnTo>
                  <a:pt x="2131" y="14298"/>
                </a:lnTo>
                <a:lnTo>
                  <a:pt x="2027" y="14176"/>
                </a:lnTo>
                <a:lnTo>
                  <a:pt x="2027" y="14176"/>
                </a:lnTo>
                <a:lnTo>
                  <a:pt x="2005" y="14374"/>
                </a:lnTo>
                <a:lnTo>
                  <a:pt x="1993" y="14542"/>
                </a:lnTo>
                <a:lnTo>
                  <a:pt x="2005" y="14618"/>
                </a:lnTo>
                <a:lnTo>
                  <a:pt x="2016" y="14664"/>
                </a:lnTo>
                <a:lnTo>
                  <a:pt x="2039" y="14725"/>
                </a:lnTo>
                <a:lnTo>
                  <a:pt x="2062" y="14770"/>
                </a:lnTo>
                <a:lnTo>
                  <a:pt x="2073" y="14816"/>
                </a:lnTo>
                <a:lnTo>
                  <a:pt x="2108" y="14831"/>
                </a:lnTo>
                <a:lnTo>
                  <a:pt x="2142" y="14862"/>
                </a:lnTo>
                <a:lnTo>
                  <a:pt x="2200" y="14877"/>
                </a:lnTo>
                <a:lnTo>
                  <a:pt x="2245" y="14892"/>
                </a:lnTo>
                <a:lnTo>
                  <a:pt x="2291" y="14877"/>
                </a:lnTo>
                <a:lnTo>
                  <a:pt x="2440" y="14847"/>
                </a:lnTo>
                <a:close/>
                <a:moveTo>
                  <a:pt x="7940" y="14847"/>
                </a:moveTo>
                <a:lnTo>
                  <a:pt x="7940" y="14847"/>
                </a:lnTo>
                <a:lnTo>
                  <a:pt x="8032" y="14801"/>
                </a:lnTo>
                <a:lnTo>
                  <a:pt x="8124" y="14725"/>
                </a:lnTo>
                <a:lnTo>
                  <a:pt x="8204" y="14633"/>
                </a:lnTo>
                <a:lnTo>
                  <a:pt x="8250" y="14542"/>
                </a:lnTo>
                <a:lnTo>
                  <a:pt x="8261" y="14496"/>
                </a:lnTo>
                <a:lnTo>
                  <a:pt x="8273" y="14450"/>
                </a:lnTo>
                <a:lnTo>
                  <a:pt x="8261" y="14405"/>
                </a:lnTo>
                <a:lnTo>
                  <a:pt x="8250" y="14374"/>
                </a:lnTo>
                <a:lnTo>
                  <a:pt x="8227" y="14359"/>
                </a:lnTo>
                <a:lnTo>
                  <a:pt x="8181" y="14328"/>
                </a:lnTo>
                <a:lnTo>
                  <a:pt x="8124" y="14313"/>
                </a:lnTo>
                <a:lnTo>
                  <a:pt x="8043" y="14313"/>
                </a:lnTo>
                <a:lnTo>
                  <a:pt x="8043" y="14313"/>
                </a:lnTo>
                <a:lnTo>
                  <a:pt x="8009" y="14435"/>
                </a:lnTo>
                <a:lnTo>
                  <a:pt x="7963" y="14572"/>
                </a:lnTo>
                <a:lnTo>
                  <a:pt x="7940" y="14709"/>
                </a:lnTo>
                <a:lnTo>
                  <a:pt x="7940" y="14847"/>
                </a:lnTo>
                <a:close/>
                <a:moveTo>
                  <a:pt x="6921" y="14847"/>
                </a:moveTo>
                <a:lnTo>
                  <a:pt x="6921" y="14847"/>
                </a:lnTo>
                <a:lnTo>
                  <a:pt x="6966" y="14847"/>
                </a:lnTo>
                <a:lnTo>
                  <a:pt x="7012" y="14831"/>
                </a:lnTo>
                <a:lnTo>
                  <a:pt x="7058" y="14816"/>
                </a:lnTo>
                <a:lnTo>
                  <a:pt x="7070" y="14786"/>
                </a:lnTo>
                <a:lnTo>
                  <a:pt x="7104" y="14740"/>
                </a:lnTo>
                <a:lnTo>
                  <a:pt x="7115" y="14709"/>
                </a:lnTo>
                <a:lnTo>
                  <a:pt x="7138" y="14618"/>
                </a:lnTo>
                <a:lnTo>
                  <a:pt x="7138" y="14511"/>
                </a:lnTo>
                <a:lnTo>
                  <a:pt x="7138" y="14389"/>
                </a:lnTo>
                <a:lnTo>
                  <a:pt x="7127" y="14176"/>
                </a:lnTo>
                <a:lnTo>
                  <a:pt x="7127" y="14176"/>
                </a:lnTo>
                <a:lnTo>
                  <a:pt x="7070" y="14161"/>
                </a:lnTo>
                <a:lnTo>
                  <a:pt x="7070" y="14161"/>
                </a:lnTo>
                <a:lnTo>
                  <a:pt x="7001" y="14176"/>
                </a:lnTo>
                <a:lnTo>
                  <a:pt x="6943" y="14206"/>
                </a:lnTo>
                <a:lnTo>
                  <a:pt x="6909" y="14267"/>
                </a:lnTo>
                <a:lnTo>
                  <a:pt x="6886" y="14344"/>
                </a:lnTo>
                <a:lnTo>
                  <a:pt x="6875" y="14435"/>
                </a:lnTo>
                <a:lnTo>
                  <a:pt x="6875" y="14557"/>
                </a:lnTo>
                <a:lnTo>
                  <a:pt x="6886" y="14694"/>
                </a:lnTo>
                <a:lnTo>
                  <a:pt x="6921" y="14847"/>
                </a:lnTo>
                <a:close/>
                <a:moveTo>
                  <a:pt x="17520" y="14557"/>
                </a:moveTo>
                <a:lnTo>
                  <a:pt x="17520" y="14557"/>
                </a:lnTo>
                <a:close/>
                <a:moveTo>
                  <a:pt x="2750" y="14786"/>
                </a:moveTo>
                <a:lnTo>
                  <a:pt x="2750" y="14786"/>
                </a:lnTo>
                <a:lnTo>
                  <a:pt x="2761" y="14664"/>
                </a:lnTo>
                <a:lnTo>
                  <a:pt x="2772" y="14572"/>
                </a:lnTo>
                <a:lnTo>
                  <a:pt x="2750" y="14466"/>
                </a:lnTo>
                <a:lnTo>
                  <a:pt x="2727" y="14374"/>
                </a:lnTo>
                <a:lnTo>
                  <a:pt x="2681" y="14313"/>
                </a:lnTo>
                <a:lnTo>
                  <a:pt x="2635" y="14237"/>
                </a:lnTo>
                <a:lnTo>
                  <a:pt x="2566" y="14161"/>
                </a:lnTo>
                <a:lnTo>
                  <a:pt x="2486" y="14115"/>
                </a:lnTo>
                <a:lnTo>
                  <a:pt x="2486" y="14115"/>
                </a:lnTo>
                <a:lnTo>
                  <a:pt x="2463" y="14222"/>
                </a:lnTo>
                <a:lnTo>
                  <a:pt x="2452" y="14344"/>
                </a:lnTo>
                <a:lnTo>
                  <a:pt x="2463" y="14435"/>
                </a:lnTo>
                <a:lnTo>
                  <a:pt x="2486" y="14527"/>
                </a:lnTo>
                <a:lnTo>
                  <a:pt x="2532" y="14618"/>
                </a:lnTo>
                <a:lnTo>
                  <a:pt x="2589" y="14664"/>
                </a:lnTo>
                <a:lnTo>
                  <a:pt x="2646" y="14725"/>
                </a:lnTo>
                <a:lnTo>
                  <a:pt x="2750" y="14786"/>
                </a:lnTo>
                <a:close/>
                <a:moveTo>
                  <a:pt x="8364" y="14709"/>
                </a:moveTo>
                <a:lnTo>
                  <a:pt x="8364" y="14709"/>
                </a:lnTo>
                <a:lnTo>
                  <a:pt x="8433" y="14725"/>
                </a:lnTo>
                <a:lnTo>
                  <a:pt x="8490" y="14725"/>
                </a:lnTo>
                <a:lnTo>
                  <a:pt x="8548" y="14709"/>
                </a:lnTo>
                <a:lnTo>
                  <a:pt x="8582" y="14679"/>
                </a:lnTo>
                <a:lnTo>
                  <a:pt x="8616" y="14633"/>
                </a:lnTo>
                <a:lnTo>
                  <a:pt x="8651" y="14587"/>
                </a:lnTo>
                <a:lnTo>
                  <a:pt x="8651" y="14527"/>
                </a:lnTo>
                <a:lnTo>
                  <a:pt x="8662" y="14450"/>
                </a:lnTo>
                <a:lnTo>
                  <a:pt x="8662" y="14450"/>
                </a:lnTo>
                <a:lnTo>
                  <a:pt x="8456" y="14237"/>
                </a:lnTo>
                <a:lnTo>
                  <a:pt x="8456" y="14237"/>
                </a:lnTo>
                <a:lnTo>
                  <a:pt x="8364" y="14709"/>
                </a:lnTo>
                <a:close/>
                <a:moveTo>
                  <a:pt x="3105" y="14709"/>
                </a:moveTo>
                <a:lnTo>
                  <a:pt x="3105" y="14709"/>
                </a:lnTo>
                <a:lnTo>
                  <a:pt x="2956" y="14511"/>
                </a:lnTo>
                <a:lnTo>
                  <a:pt x="2956" y="14511"/>
                </a:lnTo>
                <a:lnTo>
                  <a:pt x="2921" y="14572"/>
                </a:lnTo>
                <a:lnTo>
                  <a:pt x="2899" y="14618"/>
                </a:lnTo>
                <a:lnTo>
                  <a:pt x="2899" y="14648"/>
                </a:lnTo>
                <a:lnTo>
                  <a:pt x="2910" y="14679"/>
                </a:lnTo>
                <a:lnTo>
                  <a:pt x="2933" y="14709"/>
                </a:lnTo>
                <a:lnTo>
                  <a:pt x="2990" y="14725"/>
                </a:lnTo>
                <a:lnTo>
                  <a:pt x="3036" y="14725"/>
                </a:lnTo>
                <a:lnTo>
                  <a:pt x="3105" y="14709"/>
                </a:lnTo>
                <a:close/>
                <a:moveTo>
                  <a:pt x="17016" y="14709"/>
                </a:moveTo>
                <a:lnTo>
                  <a:pt x="17016" y="14709"/>
                </a:lnTo>
                <a:lnTo>
                  <a:pt x="17153" y="14587"/>
                </a:lnTo>
                <a:lnTo>
                  <a:pt x="17188" y="14557"/>
                </a:lnTo>
                <a:lnTo>
                  <a:pt x="17211" y="14511"/>
                </a:lnTo>
                <a:lnTo>
                  <a:pt x="17222" y="14466"/>
                </a:lnTo>
                <a:lnTo>
                  <a:pt x="17233" y="14420"/>
                </a:lnTo>
                <a:lnTo>
                  <a:pt x="17222" y="14237"/>
                </a:lnTo>
                <a:lnTo>
                  <a:pt x="17222" y="14237"/>
                </a:lnTo>
                <a:lnTo>
                  <a:pt x="17016" y="14115"/>
                </a:lnTo>
                <a:lnTo>
                  <a:pt x="17016" y="14115"/>
                </a:lnTo>
                <a:lnTo>
                  <a:pt x="16981" y="14252"/>
                </a:lnTo>
                <a:lnTo>
                  <a:pt x="16970" y="14405"/>
                </a:lnTo>
                <a:lnTo>
                  <a:pt x="16981" y="14557"/>
                </a:lnTo>
                <a:lnTo>
                  <a:pt x="17016" y="14709"/>
                </a:lnTo>
                <a:close/>
                <a:moveTo>
                  <a:pt x="996" y="13962"/>
                </a:moveTo>
                <a:lnTo>
                  <a:pt x="996" y="13962"/>
                </a:lnTo>
                <a:lnTo>
                  <a:pt x="996" y="14084"/>
                </a:lnTo>
                <a:lnTo>
                  <a:pt x="1008" y="14191"/>
                </a:lnTo>
                <a:lnTo>
                  <a:pt x="1031" y="14298"/>
                </a:lnTo>
                <a:lnTo>
                  <a:pt x="1065" y="14374"/>
                </a:lnTo>
                <a:lnTo>
                  <a:pt x="1088" y="14466"/>
                </a:lnTo>
                <a:lnTo>
                  <a:pt x="1134" y="14557"/>
                </a:lnTo>
                <a:lnTo>
                  <a:pt x="1191" y="14633"/>
                </a:lnTo>
                <a:lnTo>
                  <a:pt x="1260" y="14709"/>
                </a:lnTo>
                <a:lnTo>
                  <a:pt x="1260" y="14709"/>
                </a:lnTo>
                <a:lnTo>
                  <a:pt x="1271" y="14633"/>
                </a:lnTo>
                <a:lnTo>
                  <a:pt x="1283" y="14511"/>
                </a:lnTo>
                <a:lnTo>
                  <a:pt x="1283" y="14374"/>
                </a:lnTo>
                <a:lnTo>
                  <a:pt x="1271" y="14252"/>
                </a:lnTo>
                <a:lnTo>
                  <a:pt x="1248" y="14115"/>
                </a:lnTo>
                <a:lnTo>
                  <a:pt x="1237" y="14084"/>
                </a:lnTo>
                <a:lnTo>
                  <a:pt x="1214" y="14039"/>
                </a:lnTo>
                <a:lnTo>
                  <a:pt x="1191" y="13993"/>
                </a:lnTo>
                <a:lnTo>
                  <a:pt x="1157" y="13947"/>
                </a:lnTo>
                <a:lnTo>
                  <a:pt x="1134" y="13947"/>
                </a:lnTo>
                <a:lnTo>
                  <a:pt x="1088" y="13932"/>
                </a:lnTo>
                <a:lnTo>
                  <a:pt x="1088" y="13932"/>
                </a:lnTo>
                <a:lnTo>
                  <a:pt x="1054" y="13947"/>
                </a:lnTo>
                <a:lnTo>
                  <a:pt x="996" y="13962"/>
                </a:lnTo>
                <a:close/>
                <a:moveTo>
                  <a:pt x="3357" y="14587"/>
                </a:moveTo>
                <a:lnTo>
                  <a:pt x="3357" y="14587"/>
                </a:lnTo>
                <a:lnTo>
                  <a:pt x="3357" y="14496"/>
                </a:lnTo>
                <a:lnTo>
                  <a:pt x="3357" y="14420"/>
                </a:lnTo>
                <a:lnTo>
                  <a:pt x="3345" y="14374"/>
                </a:lnTo>
                <a:lnTo>
                  <a:pt x="3322" y="14298"/>
                </a:lnTo>
                <a:lnTo>
                  <a:pt x="3288" y="14222"/>
                </a:lnTo>
                <a:lnTo>
                  <a:pt x="3254" y="14145"/>
                </a:lnTo>
                <a:lnTo>
                  <a:pt x="3219" y="14100"/>
                </a:lnTo>
                <a:lnTo>
                  <a:pt x="3162" y="14039"/>
                </a:lnTo>
                <a:lnTo>
                  <a:pt x="3162" y="14039"/>
                </a:lnTo>
                <a:lnTo>
                  <a:pt x="3139" y="14267"/>
                </a:lnTo>
                <a:lnTo>
                  <a:pt x="3139" y="14374"/>
                </a:lnTo>
                <a:lnTo>
                  <a:pt x="3139" y="14466"/>
                </a:lnTo>
                <a:lnTo>
                  <a:pt x="3150" y="14496"/>
                </a:lnTo>
                <a:lnTo>
                  <a:pt x="3173" y="14542"/>
                </a:lnTo>
                <a:lnTo>
                  <a:pt x="3185" y="14572"/>
                </a:lnTo>
                <a:lnTo>
                  <a:pt x="3219" y="14587"/>
                </a:lnTo>
                <a:lnTo>
                  <a:pt x="3231" y="14603"/>
                </a:lnTo>
                <a:lnTo>
                  <a:pt x="3277" y="14603"/>
                </a:lnTo>
                <a:lnTo>
                  <a:pt x="3311" y="14603"/>
                </a:lnTo>
                <a:lnTo>
                  <a:pt x="3357" y="14587"/>
                </a:lnTo>
                <a:close/>
                <a:moveTo>
                  <a:pt x="15618" y="14374"/>
                </a:moveTo>
                <a:lnTo>
                  <a:pt x="15618" y="14374"/>
                </a:lnTo>
                <a:lnTo>
                  <a:pt x="15664" y="14450"/>
                </a:lnTo>
                <a:lnTo>
                  <a:pt x="15698" y="14511"/>
                </a:lnTo>
                <a:lnTo>
                  <a:pt x="15732" y="14557"/>
                </a:lnTo>
                <a:lnTo>
                  <a:pt x="15778" y="14572"/>
                </a:lnTo>
                <a:lnTo>
                  <a:pt x="15824" y="14587"/>
                </a:lnTo>
                <a:lnTo>
                  <a:pt x="15870" y="14572"/>
                </a:lnTo>
                <a:lnTo>
                  <a:pt x="15939" y="14557"/>
                </a:lnTo>
                <a:lnTo>
                  <a:pt x="15985" y="14511"/>
                </a:lnTo>
                <a:lnTo>
                  <a:pt x="15985" y="14511"/>
                </a:lnTo>
                <a:lnTo>
                  <a:pt x="16065" y="14466"/>
                </a:lnTo>
                <a:lnTo>
                  <a:pt x="16088" y="14435"/>
                </a:lnTo>
                <a:lnTo>
                  <a:pt x="16111" y="14389"/>
                </a:lnTo>
                <a:lnTo>
                  <a:pt x="16134" y="14374"/>
                </a:lnTo>
                <a:lnTo>
                  <a:pt x="16134" y="14328"/>
                </a:lnTo>
                <a:lnTo>
                  <a:pt x="16134" y="14298"/>
                </a:lnTo>
                <a:lnTo>
                  <a:pt x="16134" y="14237"/>
                </a:lnTo>
                <a:lnTo>
                  <a:pt x="16134" y="14237"/>
                </a:lnTo>
                <a:lnTo>
                  <a:pt x="16088" y="14206"/>
                </a:lnTo>
                <a:lnTo>
                  <a:pt x="16019" y="14176"/>
                </a:lnTo>
                <a:lnTo>
                  <a:pt x="15962" y="14161"/>
                </a:lnTo>
                <a:lnTo>
                  <a:pt x="15927" y="14145"/>
                </a:lnTo>
                <a:lnTo>
                  <a:pt x="15927" y="14145"/>
                </a:lnTo>
                <a:lnTo>
                  <a:pt x="15836" y="14161"/>
                </a:lnTo>
                <a:lnTo>
                  <a:pt x="15755" y="14206"/>
                </a:lnTo>
                <a:lnTo>
                  <a:pt x="15687" y="14283"/>
                </a:lnTo>
                <a:lnTo>
                  <a:pt x="15618" y="14374"/>
                </a:lnTo>
                <a:close/>
                <a:moveTo>
                  <a:pt x="17635" y="13901"/>
                </a:moveTo>
                <a:lnTo>
                  <a:pt x="17635" y="13901"/>
                </a:lnTo>
                <a:lnTo>
                  <a:pt x="17623" y="14008"/>
                </a:lnTo>
                <a:lnTo>
                  <a:pt x="17623" y="14115"/>
                </a:lnTo>
                <a:lnTo>
                  <a:pt x="17646" y="14206"/>
                </a:lnTo>
                <a:lnTo>
                  <a:pt x="17669" y="14298"/>
                </a:lnTo>
                <a:lnTo>
                  <a:pt x="17680" y="14374"/>
                </a:lnTo>
                <a:lnTo>
                  <a:pt x="17726" y="14450"/>
                </a:lnTo>
                <a:lnTo>
                  <a:pt x="17784" y="14511"/>
                </a:lnTo>
                <a:lnTo>
                  <a:pt x="17841" y="14587"/>
                </a:lnTo>
                <a:lnTo>
                  <a:pt x="17841" y="14587"/>
                </a:lnTo>
                <a:lnTo>
                  <a:pt x="17875" y="14527"/>
                </a:lnTo>
                <a:lnTo>
                  <a:pt x="17921" y="14450"/>
                </a:lnTo>
                <a:lnTo>
                  <a:pt x="17944" y="14374"/>
                </a:lnTo>
                <a:lnTo>
                  <a:pt x="17944" y="14328"/>
                </a:lnTo>
                <a:lnTo>
                  <a:pt x="17944" y="14252"/>
                </a:lnTo>
                <a:lnTo>
                  <a:pt x="17921" y="14176"/>
                </a:lnTo>
                <a:lnTo>
                  <a:pt x="17875" y="14115"/>
                </a:lnTo>
                <a:lnTo>
                  <a:pt x="17841" y="14039"/>
                </a:lnTo>
                <a:lnTo>
                  <a:pt x="17841" y="14039"/>
                </a:lnTo>
                <a:lnTo>
                  <a:pt x="17807" y="13978"/>
                </a:lnTo>
                <a:lnTo>
                  <a:pt x="17761" y="13932"/>
                </a:lnTo>
                <a:lnTo>
                  <a:pt x="17703" y="13901"/>
                </a:lnTo>
                <a:lnTo>
                  <a:pt x="17658" y="13901"/>
                </a:lnTo>
                <a:lnTo>
                  <a:pt x="17658" y="13901"/>
                </a:lnTo>
                <a:lnTo>
                  <a:pt x="17635" y="13901"/>
                </a:lnTo>
                <a:close/>
                <a:moveTo>
                  <a:pt x="3517" y="14587"/>
                </a:moveTo>
                <a:lnTo>
                  <a:pt x="3517" y="14587"/>
                </a:lnTo>
                <a:lnTo>
                  <a:pt x="3620" y="14542"/>
                </a:lnTo>
                <a:lnTo>
                  <a:pt x="3712" y="14466"/>
                </a:lnTo>
                <a:lnTo>
                  <a:pt x="3781" y="14405"/>
                </a:lnTo>
                <a:lnTo>
                  <a:pt x="3792" y="14374"/>
                </a:lnTo>
                <a:lnTo>
                  <a:pt x="3792" y="14344"/>
                </a:lnTo>
                <a:lnTo>
                  <a:pt x="3804" y="14298"/>
                </a:lnTo>
                <a:lnTo>
                  <a:pt x="3804" y="14252"/>
                </a:lnTo>
                <a:lnTo>
                  <a:pt x="3792" y="14206"/>
                </a:lnTo>
                <a:lnTo>
                  <a:pt x="3792" y="14161"/>
                </a:lnTo>
                <a:lnTo>
                  <a:pt x="3758" y="14115"/>
                </a:lnTo>
                <a:lnTo>
                  <a:pt x="3712" y="14069"/>
                </a:lnTo>
                <a:lnTo>
                  <a:pt x="3620" y="13962"/>
                </a:lnTo>
                <a:lnTo>
                  <a:pt x="3620" y="13962"/>
                </a:lnTo>
                <a:lnTo>
                  <a:pt x="3517" y="14587"/>
                </a:lnTo>
                <a:close/>
                <a:moveTo>
                  <a:pt x="18356" y="14511"/>
                </a:moveTo>
                <a:lnTo>
                  <a:pt x="18356" y="14511"/>
                </a:lnTo>
                <a:lnTo>
                  <a:pt x="18448" y="14389"/>
                </a:lnTo>
                <a:lnTo>
                  <a:pt x="18517" y="14313"/>
                </a:lnTo>
                <a:lnTo>
                  <a:pt x="18586" y="14252"/>
                </a:lnTo>
                <a:lnTo>
                  <a:pt x="18597" y="14222"/>
                </a:lnTo>
                <a:lnTo>
                  <a:pt x="18608" y="14206"/>
                </a:lnTo>
                <a:lnTo>
                  <a:pt x="18608" y="14161"/>
                </a:lnTo>
                <a:lnTo>
                  <a:pt x="18597" y="14130"/>
                </a:lnTo>
                <a:lnTo>
                  <a:pt x="18586" y="14115"/>
                </a:lnTo>
                <a:lnTo>
                  <a:pt x="18551" y="14069"/>
                </a:lnTo>
                <a:lnTo>
                  <a:pt x="18448" y="13962"/>
                </a:lnTo>
                <a:lnTo>
                  <a:pt x="18299" y="13840"/>
                </a:lnTo>
                <a:lnTo>
                  <a:pt x="18299" y="13840"/>
                </a:lnTo>
                <a:lnTo>
                  <a:pt x="18242" y="13962"/>
                </a:lnTo>
                <a:lnTo>
                  <a:pt x="18207" y="14084"/>
                </a:lnTo>
                <a:lnTo>
                  <a:pt x="18185" y="14191"/>
                </a:lnTo>
                <a:lnTo>
                  <a:pt x="18185" y="14283"/>
                </a:lnTo>
                <a:lnTo>
                  <a:pt x="18196" y="14359"/>
                </a:lnTo>
                <a:lnTo>
                  <a:pt x="18242" y="14420"/>
                </a:lnTo>
                <a:lnTo>
                  <a:pt x="18288" y="14466"/>
                </a:lnTo>
                <a:lnTo>
                  <a:pt x="18356" y="14511"/>
                </a:lnTo>
                <a:close/>
                <a:moveTo>
                  <a:pt x="7333" y="14450"/>
                </a:moveTo>
                <a:lnTo>
                  <a:pt x="7333" y="14450"/>
                </a:lnTo>
                <a:lnTo>
                  <a:pt x="7425" y="14405"/>
                </a:lnTo>
                <a:lnTo>
                  <a:pt x="7505" y="14374"/>
                </a:lnTo>
                <a:lnTo>
                  <a:pt x="7574" y="14298"/>
                </a:lnTo>
                <a:lnTo>
                  <a:pt x="7642" y="14222"/>
                </a:lnTo>
                <a:lnTo>
                  <a:pt x="7677" y="14145"/>
                </a:lnTo>
                <a:lnTo>
                  <a:pt x="7723" y="14054"/>
                </a:lnTo>
                <a:lnTo>
                  <a:pt x="7769" y="13947"/>
                </a:lnTo>
                <a:lnTo>
                  <a:pt x="7791" y="13840"/>
                </a:lnTo>
                <a:lnTo>
                  <a:pt x="7791" y="13840"/>
                </a:lnTo>
                <a:lnTo>
                  <a:pt x="7539" y="13840"/>
                </a:lnTo>
                <a:lnTo>
                  <a:pt x="7539" y="13840"/>
                </a:lnTo>
                <a:lnTo>
                  <a:pt x="7528" y="13840"/>
                </a:lnTo>
                <a:lnTo>
                  <a:pt x="7528" y="13840"/>
                </a:lnTo>
                <a:lnTo>
                  <a:pt x="7436" y="13856"/>
                </a:lnTo>
                <a:lnTo>
                  <a:pt x="7367" y="13856"/>
                </a:lnTo>
                <a:lnTo>
                  <a:pt x="7310" y="13917"/>
                </a:lnTo>
                <a:lnTo>
                  <a:pt x="7287" y="13947"/>
                </a:lnTo>
                <a:lnTo>
                  <a:pt x="7276" y="13993"/>
                </a:lnTo>
                <a:lnTo>
                  <a:pt x="7264" y="14069"/>
                </a:lnTo>
                <a:lnTo>
                  <a:pt x="7264" y="14176"/>
                </a:lnTo>
                <a:lnTo>
                  <a:pt x="7287" y="14298"/>
                </a:lnTo>
                <a:lnTo>
                  <a:pt x="7333" y="14450"/>
                </a:lnTo>
                <a:close/>
                <a:moveTo>
                  <a:pt x="320" y="14176"/>
                </a:moveTo>
                <a:lnTo>
                  <a:pt x="320" y="14176"/>
                </a:lnTo>
                <a:lnTo>
                  <a:pt x="389" y="14283"/>
                </a:lnTo>
                <a:lnTo>
                  <a:pt x="458" y="14374"/>
                </a:lnTo>
                <a:lnTo>
                  <a:pt x="515" y="14405"/>
                </a:lnTo>
                <a:lnTo>
                  <a:pt x="561" y="14420"/>
                </a:lnTo>
                <a:lnTo>
                  <a:pt x="584" y="14435"/>
                </a:lnTo>
                <a:lnTo>
                  <a:pt x="630" y="14435"/>
                </a:lnTo>
                <a:lnTo>
                  <a:pt x="664" y="14420"/>
                </a:lnTo>
                <a:lnTo>
                  <a:pt x="698" y="14405"/>
                </a:lnTo>
                <a:lnTo>
                  <a:pt x="721" y="14374"/>
                </a:lnTo>
                <a:lnTo>
                  <a:pt x="756" y="14344"/>
                </a:lnTo>
                <a:lnTo>
                  <a:pt x="779" y="14298"/>
                </a:lnTo>
                <a:lnTo>
                  <a:pt x="813" y="14237"/>
                </a:lnTo>
                <a:lnTo>
                  <a:pt x="847" y="14176"/>
                </a:lnTo>
                <a:lnTo>
                  <a:pt x="847" y="14176"/>
                </a:lnTo>
                <a:lnTo>
                  <a:pt x="527" y="13962"/>
                </a:lnTo>
                <a:lnTo>
                  <a:pt x="527" y="13962"/>
                </a:lnTo>
                <a:lnTo>
                  <a:pt x="320" y="14176"/>
                </a:lnTo>
                <a:close/>
                <a:moveTo>
                  <a:pt x="1821" y="14176"/>
                </a:moveTo>
                <a:lnTo>
                  <a:pt x="1821" y="14176"/>
                </a:lnTo>
                <a:lnTo>
                  <a:pt x="1672" y="13627"/>
                </a:lnTo>
                <a:lnTo>
                  <a:pt x="1672" y="13627"/>
                </a:lnTo>
                <a:lnTo>
                  <a:pt x="1638" y="13703"/>
                </a:lnTo>
                <a:lnTo>
                  <a:pt x="1626" y="13779"/>
                </a:lnTo>
                <a:lnTo>
                  <a:pt x="1615" y="13856"/>
                </a:lnTo>
                <a:lnTo>
                  <a:pt x="1615" y="13947"/>
                </a:lnTo>
                <a:lnTo>
                  <a:pt x="1626" y="14039"/>
                </a:lnTo>
                <a:lnTo>
                  <a:pt x="1638" y="14115"/>
                </a:lnTo>
                <a:lnTo>
                  <a:pt x="1649" y="14161"/>
                </a:lnTo>
                <a:lnTo>
                  <a:pt x="1672" y="14222"/>
                </a:lnTo>
                <a:lnTo>
                  <a:pt x="1695" y="14283"/>
                </a:lnTo>
                <a:lnTo>
                  <a:pt x="1718" y="14313"/>
                </a:lnTo>
                <a:lnTo>
                  <a:pt x="1741" y="14344"/>
                </a:lnTo>
                <a:lnTo>
                  <a:pt x="1775" y="14359"/>
                </a:lnTo>
                <a:lnTo>
                  <a:pt x="1787" y="14344"/>
                </a:lnTo>
                <a:lnTo>
                  <a:pt x="1798" y="14298"/>
                </a:lnTo>
                <a:lnTo>
                  <a:pt x="1821" y="14252"/>
                </a:lnTo>
                <a:lnTo>
                  <a:pt x="1821" y="14176"/>
                </a:lnTo>
                <a:close/>
                <a:moveTo>
                  <a:pt x="6496" y="14313"/>
                </a:moveTo>
                <a:lnTo>
                  <a:pt x="6496" y="14313"/>
                </a:lnTo>
                <a:lnTo>
                  <a:pt x="6565" y="14161"/>
                </a:lnTo>
                <a:lnTo>
                  <a:pt x="6623" y="14008"/>
                </a:lnTo>
                <a:lnTo>
                  <a:pt x="6668" y="13856"/>
                </a:lnTo>
                <a:lnTo>
                  <a:pt x="6714" y="13688"/>
                </a:lnTo>
                <a:lnTo>
                  <a:pt x="6714" y="13688"/>
                </a:lnTo>
                <a:lnTo>
                  <a:pt x="6645" y="13718"/>
                </a:lnTo>
                <a:lnTo>
                  <a:pt x="6577" y="13749"/>
                </a:lnTo>
                <a:lnTo>
                  <a:pt x="6496" y="13779"/>
                </a:lnTo>
                <a:lnTo>
                  <a:pt x="6451" y="13825"/>
                </a:lnTo>
                <a:lnTo>
                  <a:pt x="6394" y="13856"/>
                </a:lnTo>
                <a:lnTo>
                  <a:pt x="6347" y="13917"/>
                </a:lnTo>
                <a:lnTo>
                  <a:pt x="6302" y="13962"/>
                </a:lnTo>
                <a:lnTo>
                  <a:pt x="6290" y="14039"/>
                </a:lnTo>
                <a:lnTo>
                  <a:pt x="6267" y="14084"/>
                </a:lnTo>
                <a:lnTo>
                  <a:pt x="6256" y="14115"/>
                </a:lnTo>
                <a:lnTo>
                  <a:pt x="6256" y="14176"/>
                </a:lnTo>
                <a:lnTo>
                  <a:pt x="6279" y="14222"/>
                </a:lnTo>
                <a:lnTo>
                  <a:pt x="6302" y="14252"/>
                </a:lnTo>
                <a:lnTo>
                  <a:pt x="6359" y="14298"/>
                </a:lnTo>
                <a:lnTo>
                  <a:pt x="6428" y="14298"/>
                </a:lnTo>
                <a:lnTo>
                  <a:pt x="6496" y="14313"/>
                </a:lnTo>
                <a:close/>
                <a:moveTo>
                  <a:pt x="2692" y="13779"/>
                </a:moveTo>
                <a:lnTo>
                  <a:pt x="2692" y="13779"/>
                </a:lnTo>
                <a:lnTo>
                  <a:pt x="2715" y="13932"/>
                </a:lnTo>
                <a:lnTo>
                  <a:pt x="2750" y="14008"/>
                </a:lnTo>
                <a:lnTo>
                  <a:pt x="2772" y="14054"/>
                </a:lnTo>
                <a:lnTo>
                  <a:pt x="2807" y="14115"/>
                </a:lnTo>
                <a:lnTo>
                  <a:pt x="2841" y="14161"/>
                </a:lnTo>
                <a:lnTo>
                  <a:pt x="2887" y="14206"/>
                </a:lnTo>
                <a:lnTo>
                  <a:pt x="2956" y="14237"/>
                </a:lnTo>
                <a:lnTo>
                  <a:pt x="2956" y="14237"/>
                </a:lnTo>
                <a:lnTo>
                  <a:pt x="2990" y="14130"/>
                </a:lnTo>
                <a:lnTo>
                  <a:pt x="3001" y="14054"/>
                </a:lnTo>
                <a:lnTo>
                  <a:pt x="3013" y="13947"/>
                </a:lnTo>
                <a:lnTo>
                  <a:pt x="3001" y="13856"/>
                </a:lnTo>
                <a:lnTo>
                  <a:pt x="2990" y="13779"/>
                </a:lnTo>
                <a:lnTo>
                  <a:pt x="2944" y="13688"/>
                </a:lnTo>
                <a:lnTo>
                  <a:pt x="2910" y="13596"/>
                </a:lnTo>
                <a:lnTo>
                  <a:pt x="2853" y="13505"/>
                </a:lnTo>
                <a:lnTo>
                  <a:pt x="2853" y="13505"/>
                </a:lnTo>
                <a:lnTo>
                  <a:pt x="2692" y="13779"/>
                </a:lnTo>
                <a:close/>
                <a:moveTo>
                  <a:pt x="2337" y="14237"/>
                </a:moveTo>
                <a:lnTo>
                  <a:pt x="2337" y="14237"/>
                </a:lnTo>
                <a:lnTo>
                  <a:pt x="2337" y="13840"/>
                </a:lnTo>
                <a:lnTo>
                  <a:pt x="2337" y="13840"/>
                </a:lnTo>
                <a:lnTo>
                  <a:pt x="2360" y="13779"/>
                </a:lnTo>
                <a:lnTo>
                  <a:pt x="2371" y="13703"/>
                </a:lnTo>
                <a:lnTo>
                  <a:pt x="2371" y="13642"/>
                </a:lnTo>
                <a:lnTo>
                  <a:pt x="2360" y="13596"/>
                </a:lnTo>
                <a:lnTo>
                  <a:pt x="2348" y="13551"/>
                </a:lnTo>
                <a:lnTo>
                  <a:pt x="2314" y="13505"/>
                </a:lnTo>
                <a:lnTo>
                  <a:pt x="2280" y="13459"/>
                </a:lnTo>
                <a:lnTo>
                  <a:pt x="2234" y="13429"/>
                </a:lnTo>
                <a:lnTo>
                  <a:pt x="2234" y="13429"/>
                </a:lnTo>
                <a:lnTo>
                  <a:pt x="2188" y="13551"/>
                </a:lnTo>
                <a:lnTo>
                  <a:pt x="2154" y="13657"/>
                </a:lnTo>
                <a:lnTo>
                  <a:pt x="2142" y="13779"/>
                </a:lnTo>
                <a:lnTo>
                  <a:pt x="2142" y="13856"/>
                </a:lnTo>
                <a:lnTo>
                  <a:pt x="2154" y="13962"/>
                </a:lnTo>
                <a:lnTo>
                  <a:pt x="2200" y="14054"/>
                </a:lnTo>
                <a:lnTo>
                  <a:pt x="2245" y="14145"/>
                </a:lnTo>
                <a:lnTo>
                  <a:pt x="2337" y="14237"/>
                </a:lnTo>
                <a:close/>
                <a:moveTo>
                  <a:pt x="15366" y="14176"/>
                </a:moveTo>
                <a:lnTo>
                  <a:pt x="15366" y="14176"/>
                </a:lnTo>
                <a:lnTo>
                  <a:pt x="15503" y="14161"/>
                </a:lnTo>
                <a:lnTo>
                  <a:pt x="15560" y="14161"/>
                </a:lnTo>
                <a:lnTo>
                  <a:pt x="15618" y="14130"/>
                </a:lnTo>
                <a:lnTo>
                  <a:pt x="15664" y="14115"/>
                </a:lnTo>
                <a:lnTo>
                  <a:pt x="15687" y="14100"/>
                </a:lnTo>
                <a:lnTo>
                  <a:pt x="15698" y="14069"/>
                </a:lnTo>
                <a:lnTo>
                  <a:pt x="15709" y="14039"/>
                </a:lnTo>
                <a:lnTo>
                  <a:pt x="15709" y="13993"/>
                </a:lnTo>
                <a:lnTo>
                  <a:pt x="15698" y="13947"/>
                </a:lnTo>
                <a:lnTo>
                  <a:pt x="15675" y="13901"/>
                </a:lnTo>
                <a:lnTo>
                  <a:pt x="15675" y="13901"/>
                </a:lnTo>
                <a:lnTo>
                  <a:pt x="15560" y="13840"/>
                </a:lnTo>
                <a:lnTo>
                  <a:pt x="15515" y="13825"/>
                </a:lnTo>
                <a:lnTo>
                  <a:pt x="15480" y="13810"/>
                </a:lnTo>
                <a:lnTo>
                  <a:pt x="15480" y="13810"/>
                </a:lnTo>
                <a:lnTo>
                  <a:pt x="15446" y="13825"/>
                </a:lnTo>
                <a:lnTo>
                  <a:pt x="15423" y="13840"/>
                </a:lnTo>
                <a:lnTo>
                  <a:pt x="15389" y="13856"/>
                </a:lnTo>
                <a:lnTo>
                  <a:pt x="15366" y="13901"/>
                </a:lnTo>
                <a:lnTo>
                  <a:pt x="15366" y="13947"/>
                </a:lnTo>
                <a:lnTo>
                  <a:pt x="15366" y="14023"/>
                </a:lnTo>
                <a:lnTo>
                  <a:pt x="15366" y="14176"/>
                </a:lnTo>
                <a:close/>
                <a:moveTo>
                  <a:pt x="7940" y="14176"/>
                </a:moveTo>
                <a:lnTo>
                  <a:pt x="7940" y="14176"/>
                </a:lnTo>
                <a:lnTo>
                  <a:pt x="8020" y="14161"/>
                </a:lnTo>
                <a:lnTo>
                  <a:pt x="8067" y="14115"/>
                </a:lnTo>
                <a:lnTo>
                  <a:pt x="8112" y="14100"/>
                </a:lnTo>
                <a:lnTo>
                  <a:pt x="8135" y="14039"/>
                </a:lnTo>
                <a:lnTo>
                  <a:pt x="8135" y="13978"/>
                </a:lnTo>
                <a:lnTo>
                  <a:pt x="8112" y="13932"/>
                </a:lnTo>
                <a:lnTo>
                  <a:pt x="8067" y="13871"/>
                </a:lnTo>
                <a:lnTo>
                  <a:pt x="8009" y="13840"/>
                </a:lnTo>
                <a:lnTo>
                  <a:pt x="8009" y="13840"/>
                </a:lnTo>
                <a:lnTo>
                  <a:pt x="7940" y="14176"/>
                </a:lnTo>
                <a:close/>
                <a:moveTo>
                  <a:pt x="4033" y="14176"/>
                </a:moveTo>
                <a:lnTo>
                  <a:pt x="4033" y="14176"/>
                </a:lnTo>
                <a:lnTo>
                  <a:pt x="4113" y="14130"/>
                </a:lnTo>
                <a:lnTo>
                  <a:pt x="4182" y="14115"/>
                </a:lnTo>
                <a:lnTo>
                  <a:pt x="4216" y="14054"/>
                </a:lnTo>
                <a:lnTo>
                  <a:pt x="4239" y="14008"/>
                </a:lnTo>
                <a:lnTo>
                  <a:pt x="4239" y="13962"/>
                </a:lnTo>
                <a:lnTo>
                  <a:pt x="4239" y="13932"/>
                </a:lnTo>
                <a:lnTo>
                  <a:pt x="4216" y="13856"/>
                </a:lnTo>
                <a:lnTo>
                  <a:pt x="4159" y="13779"/>
                </a:lnTo>
                <a:lnTo>
                  <a:pt x="4079" y="13688"/>
                </a:lnTo>
                <a:lnTo>
                  <a:pt x="4079" y="13688"/>
                </a:lnTo>
                <a:lnTo>
                  <a:pt x="4033" y="14176"/>
                </a:lnTo>
                <a:close/>
                <a:moveTo>
                  <a:pt x="17428" y="13840"/>
                </a:moveTo>
                <a:lnTo>
                  <a:pt x="17428" y="13840"/>
                </a:lnTo>
                <a:lnTo>
                  <a:pt x="17108" y="13566"/>
                </a:lnTo>
                <a:lnTo>
                  <a:pt x="17108" y="13566"/>
                </a:lnTo>
                <a:lnTo>
                  <a:pt x="17256" y="13856"/>
                </a:lnTo>
                <a:lnTo>
                  <a:pt x="17302" y="13993"/>
                </a:lnTo>
                <a:lnTo>
                  <a:pt x="17348" y="14069"/>
                </a:lnTo>
                <a:lnTo>
                  <a:pt x="17371" y="14115"/>
                </a:lnTo>
                <a:lnTo>
                  <a:pt x="17382" y="14115"/>
                </a:lnTo>
                <a:lnTo>
                  <a:pt x="17394" y="14115"/>
                </a:lnTo>
                <a:lnTo>
                  <a:pt x="17405" y="14100"/>
                </a:lnTo>
                <a:lnTo>
                  <a:pt x="17428" y="14008"/>
                </a:lnTo>
                <a:lnTo>
                  <a:pt x="17428" y="13840"/>
                </a:lnTo>
                <a:close/>
                <a:moveTo>
                  <a:pt x="14082" y="13886"/>
                </a:moveTo>
                <a:lnTo>
                  <a:pt x="14082" y="13886"/>
                </a:lnTo>
                <a:lnTo>
                  <a:pt x="14151" y="13947"/>
                </a:lnTo>
                <a:lnTo>
                  <a:pt x="14220" y="14008"/>
                </a:lnTo>
                <a:lnTo>
                  <a:pt x="14312" y="14039"/>
                </a:lnTo>
                <a:lnTo>
                  <a:pt x="14403" y="14069"/>
                </a:lnTo>
                <a:lnTo>
                  <a:pt x="14506" y="14084"/>
                </a:lnTo>
                <a:lnTo>
                  <a:pt x="14598" y="14084"/>
                </a:lnTo>
                <a:lnTo>
                  <a:pt x="14690" y="14069"/>
                </a:lnTo>
                <a:lnTo>
                  <a:pt x="14781" y="14039"/>
                </a:lnTo>
                <a:lnTo>
                  <a:pt x="14873" y="14008"/>
                </a:lnTo>
                <a:lnTo>
                  <a:pt x="14953" y="13947"/>
                </a:lnTo>
                <a:lnTo>
                  <a:pt x="15010" y="13871"/>
                </a:lnTo>
                <a:lnTo>
                  <a:pt x="15079" y="13810"/>
                </a:lnTo>
                <a:lnTo>
                  <a:pt x="15114" y="13703"/>
                </a:lnTo>
                <a:lnTo>
                  <a:pt x="15137" y="13596"/>
                </a:lnTo>
                <a:lnTo>
                  <a:pt x="15137" y="13490"/>
                </a:lnTo>
                <a:lnTo>
                  <a:pt x="15114" y="13353"/>
                </a:lnTo>
                <a:lnTo>
                  <a:pt x="15114" y="13353"/>
                </a:lnTo>
                <a:lnTo>
                  <a:pt x="14976" y="13322"/>
                </a:lnTo>
                <a:lnTo>
                  <a:pt x="14861" y="13261"/>
                </a:lnTo>
                <a:lnTo>
                  <a:pt x="14735" y="13170"/>
                </a:lnTo>
                <a:lnTo>
                  <a:pt x="14621" y="13078"/>
                </a:lnTo>
                <a:lnTo>
                  <a:pt x="14518" y="13002"/>
                </a:lnTo>
                <a:lnTo>
                  <a:pt x="14403" y="12911"/>
                </a:lnTo>
                <a:lnTo>
                  <a:pt x="14208" y="12682"/>
                </a:lnTo>
                <a:lnTo>
                  <a:pt x="14014" y="12484"/>
                </a:lnTo>
                <a:lnTo>
                  <a:pt x="13887" y="12377"/>
                </a:lnTo>
                <a:lnTo>
                  <a:pt x="13796" y="12286"/>
                </a:lnTo>
                <a:lnTo>
                  <a:pt x="13670" y="12194"/>
                </a:lnTo>
                <a:lnTo>
                  <a:pt x="13567" y="12118"/>
                </a:lnTo>
                <a:lnTo>
                  <a:pt x="13441" y="12057"/>
                </a:lnTo>
                <a:lnTo>
                  <a:pt x="13303" y="12011"/>
                </a:lnTo>
                <a:lnTo>
                  <a:pt x="13303" y="12011"/>
                </a:lnTo>
                <a:lnTo>
                  <a:pt x="13315" y="12149"/>
                </a:lnTo>
                <a:lnTo>
                  <a:pt x="13326" y="12316"/>
                </a:lnTo>
                <a:lnTo>
                  <a:pt x="13349" y="12438"/>
                </a:lnTo>
                <a:lnTo>
                  <a:pt x="13372" y="12575"/>
                </a:lnTo>
                <a:lnTo>
                  <a:pt x="13406" y="12712"/>
                </a:lnTo>
                <a:lnTo>
                  <a:pt x="13441" y="12819"/>
                </a:lnTo>
                <a:lnTo>
                  <a:pt x="13486" y="12941"/>
                </a:lnTo>
                <a:lnTo>
                  <a:pt x="13532" y="13078"/>
                </a:lnTo>
                <a:lnTo>
                  <a:pt x="13647" y="13292"/>
                </a:lnTo>
                <a:lnTo>
                  <a:pt x="13773" y="13505"/>
                </a:lnTo>
                <a:lnTo>
                  <a:pt x="13922" y="13688"/>
                </a:lnTo>
                <a:lnTo>
                  <a:pt x="14082" y="13886"/>
                </a:lnTo>
                <a:close/>
                <a:moveTo>
                  <a:pt x="16088" y="14039"/>
                </a:moveTo>
                <a:lnTo>
                  <a:pt x="16088" y="14039"/>
                </a:lnTo>
                <a:lnTo>
                  <a:pt x="16134" y="14039"/>
                </a:lnTo>
                <a:lnTo>
                  <a:pt x="16168" y="14039"/>
                </a:lnTo>
                <a:lnTo>
                  <a:pt x="16202" y="14039"/>
                </a:lnTo>
                <a:lnTo>
                  <a:pt x="16225" y="14008"/>
                </a:lnTo>
                <a:lnTo>
                  <a:pt x="16236" y="13962"/>
                </a:lnTo>
                <a:lnTo>
                  <a:pt x="16248" y="13901"/>
                </a:lnTo>
                <a:lnTo>
                  <a:pt x="16248" y="13856"/>
                </a:lnTo>
                <a:lnTo>
                  <a:pt x="16236" y="13779"/>
                </a:lnTo>
                <a:lnTo>
                  <a:pt x="16236" y="13779"/>
                </a:lnTo>
                <a:lnTo>
                  <a:pt x="16099" y="13779"/>
                </a:lnTo>
                <a:lnTo>
                  <a:pt x="16053" y="13779"/>
                </a:lnTo>
                <a:lnTo>
                  <a:pt x="16019" y="13810"/>
                </a:lnTo>
                <a:lnTo>
                  <a:pt x="15996" y="13856"/>
                </a:lnTo>
                <a:lnTo>
                  <a:pt x="16007" y="13886"/>
                </a:lnTo>
                <a:lnTo>
                  <a:pt x="16030" y="13947"/>
                </a:lnTo>
                <a:lnTo>
                  <a:pt x="16088" y="14039"/>
                </a:lnTo>
                <a:close/>
                <a:moveTo>
                  <a:pt x="18207" y="13901"/>
                </a:moveTo>
                <a:lnTo>
                  <a:pt x="18207" y="13901"/>
                </a:lnTo>
                <a:lnTo>
                  <a:pt x="18196" y="13779"/>
                </a:lnTo>
                <a:lnTo>
                  <a:pt x="18173" y="13657"/>
                </a:lnTo>
                <a:lnTo>
                  <a:pt x="18150" y="13581"/>
                </a:lnTo>
                <a:lnTo>
                  <a:pt x="18093" y="13505"/>
                </a:lnTo>
                <a:lnTo>
                  <a:pt x="18047" y="13429"/>
                </a:lnTo>
                <a:lnTo>
                  <a:pt x="17967" y="13383"/>
                </a:lnTo>
                <a:lnTo>
                  <a:pt x="17875" y="13337"/>
                </a:lnTo>
                <a:lnTo>
                  <a:pt x="17795" y="13292"/>
                </a:lnTo>
                <a:lnTo>
                  <a:pt x="17795" y="13292"/>
                </a:lnTo>
                <a:lnTo>
                  <a:pt x="17807" y="13535"/>
                </a:lnTo>
                <a:lnTo>
                  <a:pt x="17829" y="13734"/>
                </a:lnTo>
                <a:lnTo>
                  <a:pt x="17875" y="13871"/>
                </a:lnTo>
                <a:lnTo>
                  <a:pt x="17875" y="13947"/>
                </a:lnTo>
                <a:lnTo>
                  <a:pt x="17909" y="13993"/>
                </a:lnTo>
                <a:lnTo>
                  <a:pt x="17944" y="14023"/>
                </a:lnTo>
                <a:lnTo>
                  <a:pt x="17967" y="14039"/>
                </a:lnTo>
                <a:lnTo>
                  <a:pt x="18001" y="14039"/>
                </a:lnTo>
                <a:lnTo>
                  <a:pt x="18036" y="14039"/>
                </a:lnTo>
                <a:lnTo>
                  <a:pt x="18070" y="14039"/>
                </a:lnTo>
                <a:lnTo>
                  <a:pt x="18105" y="13993"/>
                </a:lnTo>
                <a:lnTo>
                  <a:pt x="18207" y="13901"/>
                </a:lnTo>
                <a:close/>
                <a:moveTo>
                  <a:pt x="3219" y="13840"/>
                </a:moveTo>
                <a:lnTo>
                  <a:pt x="3219" y="13840"/>
                </a:lnTo>
                <a:lnTo>
                  <a:pt x="3265" y="13932"/>
                </a:lnTo>
                <a:lnTo>
                  <a:pt x="3288" y="13962"/>
                </a:lnTo>
                <a:lnTo>
                  <a:pt x="3322" y="13993"/>
                </a:lnTo>
                <a:lnTo>
                  <a:pt x="3357" y="14023"/>
                </a:lnTo>
                <a:lnTo>
                  <a:pt x="3391" y="14039"/>
                </a:lnTo>
                <a:lnTo>
                  <a:pt x="3426" y="14039"/>
                </a:lnTo>
                <a:lnTo>
                  <a:pt x="3460" y="14039"/>
                </a:lnTo>
                <a:lnTo>
                  <a:pt x="3460" y="14039"/>
                </a:lnTo>
                <a:lnTo>
                  <a:pt x="3471" y="13825"/>
                </a:lnTo>
                <a:lnTo>
                  <a:pt x="3471" y="13734"/>
                </a:lnTo>
                <a:lnTo>
                  <a:pt x="3460" y="13673"/>
                </a:lnTo>
                <a:lnTo>
                  <a:pt x="3448" y="13596"/>
                </a:lnTo>
                <a:lnTo>
                  <a:pt x="3426" y="13551"/>
                </a:lnTo>
                <a:lnTo>
                  <a:pt x="3380" y="13490"/>
                </a:lnTo>
                <a:lnTo>
                  <a:pt x="3311" y="13429"/>
                </a:lnTo>
                <a:lnTo>
                  <a:pt x="3311" y="13429"/>
                </a:lnTo>
                <a:lnTo>
                  <a:pt x="3219" y="13840"/>
                </a:lnTo>
                <a:close/>
                <a:moveTo>
                  <a:pt x="6863" y="14039"/>
                </a:moveTo>
                <a:lnTo>
                  <a:pt x="6863" y="14039"/>
                </a:lnTo>
                <a:lnTo>
                  <a:pt x="7070" y="13962"/>
                </a:lnTo>
                <a:lnTo>
                  <a:pt x="7070" y="13962"/>
                </a:lnTo>
                <a:lnTo>
                  <a:pt x="7230" y="13505"/>
                </a:lnTo>
                <a:lnTo>
                  <a:pt x="7230" y="13505"/>
                </a:lnTo>
                <a:lnTo>
                  <a:pt x="7150" y="13474"/>
                </a:lnTo>
                <a:lnTo>
                  <a:pt x="7070" y="13459"/>
                </a:lnTo>
                <a:lnTo>
                  <a:pt x="7070" y="13459"/>
                </a:lnTo>
                <a:lnTo>
                  <a:pt x="7012" y="13474"/>
                </a:lnTo>
                <a:lnTo>
                  <a:pt x="6966" y="13505"/>
                </a:lnTo>
                <a:lnTo>
                  <a:pt x="6921" y="13551"/>
                </a:lnTo>
                <a:lnTo>
                  <a:pt x="6886" y="13596"/>
                </a:lnTo>
                <a:lnTo>
                  <a:pt x="6863" y="13688"/>
                </a:lnTo>
                <a:lnTo>
                  <a:pt x="6863" y="13779"/>
                </a:lnTo>
                <a:lnTo>
                  <a:pt x="6863" y="13901"/>
                </a:lnTo>
                <a:lnTo>
                  <a:pt x="6863" y="14039"/>
                </a:lnTo>
                <a:close/>
                <a:moveTo>
                  <a:pt x="4652" y="14039"/>
                </a:moveTo>
                <a:lnTo>
                  <a:pt x="4652" y="14039"/>
                </a:lnTo>
                <a:lnTo>
                  <a:pt x="4652" y="13688"/>
                </a:lnTo>
                <a:lnTo>
                  <a:pt x="4652" y="13688"/>
                </a:lnTo>
                <a:lnTo>
                  <a:pt x="4629" y="13596"/>
                </a:lnTo>
                <a:lnTo>
                  <a:pt x="4606" y="13535"/>
                </a:lnTo>
                <a:lnTo>
                  <a:pt x="4594" y="13429"/>
                </a:lnTo>
                <a:lnTo>
                  <a:pt x="4572" y="13368"/>
                </a:lnTo>
                <a:lnTo>
                  <a:pt x="4560" y="13337"/>
                </a:lnTo>
                <a:lnTo>
                  <a:pt x="4514" y="13276"/>
                </a:lnTo>
                <a:lnTo>
                  <a:pt x="4445" y="13231"/>
                </a:lnTo>
                <a:lnTo>
                  <a:pt x="4445" y="13231"/>
                </a:lnTo>
                <a:lnTo>
                  <a:pt x="4434" y="13413"/>
                </a:lnTo>
                <a:lnTo>
                  <a:pt x="4423" y="13551"/>
                </a:lnTo>
                <a:lnTo>
                  <a:pt x="4434" y="13688"/>
                </a:lnTo>
                <a:lnTo>
                  <a:pt x="4457" y="13825"/>
                </a:lnTo>
                <a:lnTo>
                  <a:pt x="4480" y="13871"/>
                </a:lnTo>
                <a:lnTo>
                  <a:pt x="4503" y="13932"/>
                </a:lnTo>
                <a:lnTo>
                  <a:pt x="4526" y="13978"/>
                </a:lnTo>
                <a:lnTo>
                  <a:pt x="4560" y="14008"/>
                </a:lnTo>
                <a:lnTo>
                  <a:pt x="4594" y="14039"/>
                </a:lnTo>
                <a:lnTo>
                  <a:pt x="4652" y="14039"/>
                </a:lnTo>
                <a:close/>
                <a:moveTo>
                  <a:pt x="18254" y="13292"/>
                </a:moveTo>
                <a:lnTo>
                  <a:pt x="18254" y="13292"/>
                </a:lnTo>
                <a:lnTo>
                  <a:pt x="18299" y="13520"/>
                </a:lnTo>
                <a:lnTo>
                  <a:pt x="18356" y="13688"/>
                </a:lnTo>
                <a:lnTo>
                  <a:pt x="18414" y="13810"/>
                </a:lnTo>
                <a:lnTo>
                  <a:pt x="18448" y="13856"/>
                </a:lnTo>
                <a:lnTo>
                  <a:pt x="18459" y="13886"/>
                </a:lnTo>
                <a:lnTo>
                  <a:pt x="18494" y="13917"/>
                </a:lnTo>
                <a:lnTo>
                  <a:pt x="18517" y="13932"/>
                </a:lnTo>
                <a:lnTo>
                  <a:pt x="18551" y="13932"/>
                </a:lnTo>
                <a:lnTo>
                  <a:pt x="18597" y="13917"/>
                </a:lnTo>
                <a:lnTo>
                  <a:pt x="18620" y="13886"/>
                </a:lnTo>
                <a:lnTo>
                  <a:pt x="18643" y="13856"/>
                </a:lnTo>
                <a:lnTo>
                  <a:pt x="18712" y="13779"/>
                </a:lnTo>
                <a:lnTo>
                  <a:pt x="18712" y="13779"/>
                </a:lnTo>
                <a:lnTo>
                  <a:pt x="18700" y="13657"/>
                </a:lnTo>
                <a:lnTo>
                  <a:pt x="18666" y="13566"/>
                </a:lnTo>
                <a:lnTo>
                  <a:pt x="18643" y="13474"/>
                </a:lnTo>
                <a:lnTo>
                  <a:pt x="18597" y="13398"/>
                </a:lnTo>
                <a:lnTo>
                  <a:pt x="18551" y="13337"/>
                </a:lnTo>
                <a:lnTo>
                  <a:pt x="18494" y="13322"/>
                </a:lnTo>
                <a:lnTo>
                  <a:pt x="18425" y="13292"/>
                </a:lnTo>
                <a:lnTo>
                  <a:pt x="18345" y="13292"/>
                </a:lnTo>
                <a:lnTo>
                  <a:pt x="18345" y="13292"/>
                </a:lnTo>
                <a:lnTo>
                  <a:pt x="18254" y="13292"/>
                </a:lnTo>
                <a:close/>
                <a:moveTo>
                  <a:pt x="9384" y="13901"/>
                </a:moveTo>
                <a:lnTo>
                  <a:pt x="9384" y="13901"/>
                </a:lnTo>
                <a:lnTo>
                  <a:pt x="9384" y="13825"/>
                </a:lnTo>
                <a:lnTo>
                  <a:pt x="9373" y="13734"/>
                </a:lnTo>
                <a:lnTo>
                  <a:pt x="9361" y="13657"/>
                </a:lnTo>
                <a:lnTo>
                  <a:pt x="9338" y="13596"/>
                </a:lnTo>
                <a:lnTo>
                  <a:pt x="9293" y="13535"/>
                </a:lnTo>
                <a:lnTo>
                  <a:pt x="9258" y="13474"/>
                </a:lnTo>
                <a:lnTo>
                  <a:pt x="9178" y="13353"/>
                </a:lnTo>
                <a:lnTo>
                  <a:pt x="9075" y="13261"/>
                </a:lnTo>
                <a:lnTo>
                  <a:pt x="8983" y="13154"/>
                </a:lnTo>
                <a:lnTo>
                  <a:pt x="8868" y="13063"/>
                </a:lnTo>
                <a:lnTo>
                  <a:pt x="8777" y="12956"/>
                </a:lnTo>
                <a:lnTo>
                  <a:pt x="8777" y="12956"/>
                </a:lnTo>
                <a:lnTo>
                  <a:pt x="8846" y="12392"/>
                </a:lnTo>
                <a:lnTo>
                  <a:pt x="8937" y="11844"/>
                </a:lnTo>
                <a:lnTo>
                  <a:pt x="8937" y="11844"/>
                </a:lnTo>
                <a:lnTo>
                  <a:pt x="8949" y="11630"/>
                </a:lnTo>
                <a:lnTo>
                  <a:pt x="8960" y="11462"/>
                </a:lnTo>
                <a:lnTo>
                  <a:pt x="8949" y="11325"/>
                </a:lnTo>
                <a:lnTo>
                  <a:pt x="8926" y="11203"/>
                </a:lnTo>
                <a:lnTo>
                  <a:pt x="8880" y="11112"/>
                </a:lnTo>
                <a:lnTo>
                  <a:pt x="8846" y="11035"/>
                </a:lnTo>
                <a:lnTo>
                  <a:pt x="8800" y="10990"/>
                </a:lnTo>
                <a:lnTo>
                  <a:pt x="8719" y="10929"/>
                </a:lnTo>
                <a:lnTo>
                  <a:pt x="8594" y="10822"/>
                </a:lnTo>
                <a:lnTo>
                  <a:pt x="8513" y="10761"/>
                </a:lnTo>
                <a:lnTo>
                  <a:pt x="8433" y="10700"/>
                </a:lnTo>
                <a:lnTo>
                  <a:pt x="8364" y="10624"/>
                </a:lnTo>
                <a:lnTo>
                  <a:pt x="8296" y="10517"/>
                </a:lnTo>
                <a:lnTo>
                  <a:pt x="8227" y="10411"/>
                </a:lnTo>
                <a:lnTo>
                  <a:pt x="8147" y="10258"/>
                </a:lnTo>
                <a:lnTo>
                  <a:pt x="8147" y="10258"/>
                </a:lnTo>
                <a:lnTo>
                  <a:pt x="8318" y="10243"/>
                </a:lnTo>
                <a:lnTo>
                  <a:pt x="8467" y="10243"/>
                </a:lnTo>
                <a:lnTo>
                  <a:pt x="8616" y="10258"/>
                </a:lnTo>
                <a:lnTo>
                  <a:pt x="8731" y="10304"/>
                </a:lnTo>
                <a:lnTo>
                  <a:pt x="8846" y="10350"/>
                </a:lnTo>
                <a:lnTo>
                  <a:pt x="8937" y="10411"/>
                </a:lnTo>
                <a:lnTo>
                  <a:pt x="9040" y="10456"/>
                </a:lnTo>
                <a:lnTo>
                  <a:pt x="9144" y="10517"/>
                </a:lnTo>
                <a:lnTo>
                  <a:pt x="9212" y="10517"/>
                </a:lnTo>
                <a:lnTo>
                  <a:pt x="9315" y="10533"/>
                </a:lnTo>
                <a:lnTo>
                  <a:pt x="9407" y="10517"/>
                </a:lnTo>
                <a:lnTo>
                  <a:pt x="9510" y="10487"/>
                </a:lnTo>
                <a:lnTo>
                  <a:pt x="9613" y="10411"/>
                </a:lnTo>
                <a:lnTo>
                  <a:pt x="9740" y="10273"/>
                </a:lnTo>
                <a:lnTo>
                  <a:pt x="9865" y="10121"/>
                </a:lnTo>
                <a:lnTo>
                  <a:pt x="10003" y="9908"/>
                </a:lnTo>
                <a:lnTo>
                  <a:pt x="10003" y="9908"/>
                </a:lnTo>
                <a:lnTo>
                  <a:pt x="9865" y="9679"/>
                </a:lnTo>
                <a:lnTo>
                  <a:pt x="9740" y="9481"/>
                </a:lnTo>
                <a:lnTo>
                  <a:pt x="9682" y="9420"/>
                </a:lnTo>
                <a:lnTo>
                  <a:pt x="9625" y="9359"/>
                </a:lnTo>
                <a:lnTo>
                  <a:pt x="9579" y="9298"/>
                </a:lnTo>
                <a:lnTo>
                  <a:pt x="9510" y="9267"/>
                </a:lnTo>
                <a:lnTo>
                  <a:pt x="9453" y="9252"/>
                </a:lnTo>
                <a:lnTo>
                  <a:pt x="9396" y="9237"/>
                </a:lnTo>
                <a:lnTo>
                  <a:pt x="9350" y="9222"/>
                </a:lnTo>
                <a:lnTo>
                  <a:pt x="9293" y="9237"/>
                </a:lnTo>
                <a:lnTo>
                  <a:pt x="9224" y="9267"/>
                </a:lnTo>
                <a:lnTo>
                  <a:pt x="9166" y="9298"/>
                </a:lnTo>
                <a:lnTo>
                  <a:pt x="9029" y="9374"/>
                </a:lnTo>
                <a:lnTo>
                  <a:pt x="9029" y="9374"/>
                </a:lnTo>
                <a:lnTo>
                  <a:pt x="9017" y="9252"/>
                </a:lnTo>
                <a:lnTo>
                  <a:pt x="9006" y="9145"/>
                </a:lnTo>
                <a:lnTo>
                  <a:pt x="8972" y="9054"/>
                </a:lnTo>
                <a:lnTo>
                  <a:pt x="8937" y="8978"/>
                </a:lnTo>
                <a:lnTo>
                  <a:pt x="8868" y="8917"/>
                </a:lnTo>
                <a:lnTo>
                  <a:pt x="8811" y="8871"/>
                </a:lnTo>
                <a:lnTo>
                  <a:pt x="8754" y="8810"/>
                </a:lnTo>
                <a:lnTo>
                  <a:pt x="8662" y="8779"/>
                </a:lnTo>
                <a:lnTo>
                  <a:pt x="8594" y="8749"/>
                </a:lnTo>
                <a:lnTo>
                  <a:pt x="8502" y="8734"/>
                </a:lnTo>
                <a:lnTo>
                  <a:pt x="8422" y="8734"/>
                </a:lnTo>
                <a:lnTo>
                  <a:pt x="8318" y="8734"/>
                </a:lnTo>
                <a:lnTo>
                  <a:pt x="8227" y="8749"/>
                </a:lnTo>
                <a:lnTo>
                  <a:pt x="8135" y="8779"/>
                </a:lnTo>
                <a:lnTo>
                  <a:pt x="8032" y="8795"/>
                </a:lnTo>
                <a:lnTo>
                  <a:pt x="7940" y="8840"/>
                </a:lnTo>
                <a:lnTo>
                  <a:pt x="7849" y="8886"/>
                </a:lnTo>
                <a:lnTo>
                  <a:pt x="7757" y="8947"/>
                </a:lnTo>
                <a:lnTo>
                  <a:pt x="7677" y="8978"/>
                </a:lnTo>
                <a:lnTo>
                  <a:pt x="7597" y="9039"/>
                </a:lnTo>
                <a:lnTo>
                  <a:pt x="7516" y="9130"/>
                </a:lnTo>
                <a:lnTo>
                  <a:pt x="7459" y="9191"/>
                </a:lnTo>
                <a:lnTo>
                  <a:pt x="7402" y="9267"/>
                </a:lnTo>
                <a:lnTo>
                  <a:pt x="7356" y="9344"/>
                </a:lnTo>
                <a:lnTo>
                  <a:pt x="7310" y="9435"/>
                </a:lnTo>
                <a:lnTo>
                  <a:pt x="7287" y="9511"/>
                </a:lnTo>
                <a:lnTo>
                  <a:pt x="7276" y="9618"/>
                </a:lnTo>
                <a:lnTo>
                  <a:pt x="7276" y="9710"/>
                </a:lnTo>
                <a:lnTo>
                  <a:pt x="7287" y="9801"/>
                </a:lnTo>
                <a:lnTo>
                  <a:pt x="7322" y="9908"/>
                </a:lnTo>
                <a:lnTo>
                  <a:pt x="7367" y="9999"/>
                </a:lnTo>
                <a:lnTo>
                  <a:pt x="7436" y="10091"/>
                </a:lnTo>
                <a:lnTo>
                  <a:pt x="7436" y="10091"/>
                </a:lnTo>
                <a:lnTo>
                  <a:pt x="7562" y="10273"/>
                </a:lnTo>
                <a:lnTo>
                  <a:pt x="7700" y="10456"/>
                </a:lnTo>
                <a:lnTo>
                  <a:pt x="7837" y="10639"/>
                </a:lnTo>
                <a:lnTo>
                  <a:pt x="7986" y="10822"/>
                </a:lnTo>
                <a:lnTo>
                  <a:pt x="8112" y="11020"/>
                </a:lnTo>
                <a:lnTo>
                  <a:pt x="8227" y="11218"/>
                </a:lnTo>
                <a:lnTo>
                  <a:pt x="8284" y="11325"/>
                </a:lnTo>
                <a:lnTo>
                  <a:pt x="8330" y="11447"/>
                </a:lnTo>
                <a:lnTo>
                  <a:pt x="8364" y="11539"/>
                </a:lnTo>
                <a:lnTo>
                  <a:pt x="8399" y="11676"/>
                </a:lnTo>
                <a:lnTo>
                  <a:pt x="8399" y="11676"/>
                </a:lnTo>
                <a:lnTo>
                  <a:pt x="8433" y="11844"/>
                </a:lnTo>
                <a:lnTo>
                  <a:pt x="8433" y="11981"/>
                </a:lnTo>
                <a:lnTo>
                  <a:pt x="8433" y="12088"/>
                </a:lnTo>
                <a:lnTo>
                  <a:pt x="8422" y="12179"/>
                </a:lnTo>
                <a:lnTo>
                  <a:pt x="8387" y="12255"/>
                </a:lnTo>
                <a:lnTo>
                  <a:pt x="8353" y="12316"/>
                </a:lnTo>
                <a:lnTo>
                  <a:pt x="8261" y="12438"/>
                </a:lnTo>
                <a:lnTo>
                  <a:pt x="8227" y="12499"/>
                </a:lnTo>
                <a:lnTo>
                  <a:pt x="8181" y="12575"/>
                </a:lnTo>
                <a:lnTo>
                  <a:pt x="8147" y="12636"/>
                </a:lnTo>
                <a:lnTo>
                  <a:pt x="8135" y="12743"/>
                </a:lnTo>
                <a:lnTo>
                  <a:pt x="8124" y="12834"/>
                </a:lnTo>
                <a:lnTo>
                  <a:pt x="8135" y="12987"/>
                </a:lnTo>
                <a:lnTo>
                  <a:pt x="8158" y="13154"/>
                </a:lnTo>
                <a:lnTo>
                  <a:pt x="8216" y="13353"/>
                </a:lnTo>
                <a:lnTo>
                  <a:pt x="8216" y="13353"/>
                </a:lnTo>
                <a:lnTo>
                  <a:pt x="8273" y="13383"/>
                </a:lnTo>
                <a:lnTo>
                  <a:pt x="8330" y="13383"/>
                </a:lnTo>
                <a:lnTo>
                  <a:pt x="8376" y="13368"/>
                </a:lnTo>
                <a:lnTo>
                  <a:pt x="8422" y="13337"/>
                </a:lnTo>
                <a:lnTo>
                  <a:pt x="8445" y="13322"/>
                </a:lnTo>
                <a:lnTo>
                  <a:pt x="8479" y="13261"/>
                </a:lnTo>
                <a:lnTo>
                  <a:pt x="8502" y="13170"/>
                </a:lnTo>
                <a:lnTo>
                  <a:pt x="8513" y="13078"/>
                </a:lnTo>
                <a:lnTo>
                  <a:pt x="8513" y="13078"/>
                </a:lnTo>
                <a:lnTo>
                  <a:pt x="8697" y="13322"/>
                </a:lnTo>
                <a:lnTo>
                  <a:pt x="8811" y="13474"/>
                </a:lnTo>
                <a:lnTo>
                  <a:pt x="8937" y="13612"/>
                </a:lnTo>
                <a:lnTo>
                  <a:pt x="9063" y="13764"/>
                </a:lnTo>
                <a:lnTo>
                  <a:pt x="9121" y="13825"/>
                </a:lnTo>
                <a:lnTo>
                  <a:pt x="9189" y="13856"/>
                </a:lnTo>
                <a:lnTo>
                  <a:pt x="9235" y="13886"/>
                </a:lnTo>
                <a:lnTo>
                  <a:pt x="9293" y="13917"/>
                </a:lnTo>
                <a:lnTo>
                  <a:pt x="9350" y="13917"/>
                </a:lnTo>
                <a:lnTo>
                  <a:pt x="9384" y="13901"/>
                </a:lnTo>
                <a:close/>
                <a:moveTo>
                  <a:pt x="5843" y="13901"/>
                </a:moveTo>
                <a:lnTo>
                  <a:pt x="5843" y="13901"/>
                </a:lnTo>
                <a:lnTo>
                  <a:pt x="5855" y="13886"/>
                </a:lnTo>
                <a:lnTo>
                  <a:pt x="5866" y="13871"/>
                </a:lnTo>
                <a:lnTo>
                  <a:pt x="5912" y="13825"/>
                </a:lnTo>
                <a:lnTo>
                  <a:pt x="5947" y="13749"/>
                </a:lnTo>
                <a:lnTo>
                  <a:pt x="5992" y="13642"/>
                </a:lnTo>
                <a:lnTo>
                  <a:pt x="6061" y="13429"/>
                </a:lnTo>
                <a:lnTo>
                  <a:pt x="6096" y="13292"/>
                </a:lnTo>
                <a:lnTo>
                  <a:pt x="6096" y="13292"/>
                </a:lnTo>
                <a:lnTo>
                  <a:pt x="6027" y="13276"/>
                </a:lnTo>
                <a:lnTo>
                  <a:pt x="5981" y="13276"/>
                </a:lnTo>
                <a:lnTo>
                  <a:pt x="5981" y="13276"/>
                </a:lnTo>
                <a:lnTo>
                  <a:pt x="5912" y="13276"/>
                </a:lnTo>
                <a:lnTo>
                  <a:pt x="5866" y="13322"/>
                </a:lnTo>
                <a:lnTo>
                  <a:pt x="5820" y="13353"/>
                </a:lnTo>
                <a:lnTo>
                  <a:pt x="5798" y="13429"/>
                </a:lnTo>
                <a:lnTo>
                  <a:pt x="5786" y="13520"/>
                </a:lnTo>
                <a:lnTo>
                  <a:pt x="5786" y="13612"/>
                </a:lnTo>
                <a:lnTo>
                  <a:pt x="5809" y="13764"/>
                </a:lnTo>
                <a:lnTo>
                  <a:pt x="5843" y="13901"/>
                </a:lnTo>
                <a:close/>
                <a:moveTo>
                  <a:pt x="5522" y="13627"/>
                </a:moveTo>
                <a:lnTo>
                  <a:pt x="5522" y="13627"/>
                </a:lnTo>
                <a:lnTo>
                  <a:pt x="5522" y="13718"/>
                </a:lnTo>
                <a:lnTo>
                  <a:pt x="5522" y="13810"/>
                </a:lnTo>
                <a:lnTo>
                  <a:pt x="5534" y="13856"/>
                </a:lnTo>
                <a:lnTo>
                  <a:pt x="5557" y="13871"/>
                </a:lnTo>
                <a:lnTo>
                  <a:pt x="5580" y="13886"/>
                </a:lnTo>
                <a:lnTo>
                  <a:pt x="5637" y="13901"/>
                </a:lnTo>
                <a:lnTo>
                  <a:pt x="5637" y="13901"/>
                </a:lnTo>
                <a:lnTo>
                  <a:pt x="5660" y="13779"/>
                </a:lnTo>
                <a:lnTo>
                  <a:pt x="5660" y="13734"/>
                </a:lnTo>
                <a:lnTo>
                  <a:pt x="5660" y="13688"/>
                </a:lnTo>
                <a:lnTo>
                  <a:pt x="5649" y="13657"/>
                </a:lnTo>
                <a:lnTo>
                  <a:pt x="5649" y="13627"/>
                </a:lnTo>
                <a:lnTo>
                  <a:pt x="5614" y="13612"/>
                </a:lnTo>
                <a:lnTo>
                  <a:pt x="5580" y="13612"/>
                </a:lnTo>
                <a:lnTo>
                  <a:pt x="5580" y="13612"/>
                </a:lnTo>
                <a:lnTo>
                  <a:pt x="5522" y="13627"/>
                </a:lnTo>
                <a:close/>
                <a:moveTo>
                  <a:pt x="18872" y="13429"/>
                </a:moveTo>
                <a:lnTo>
                  <a:pt x="18872" y="13429"/>
                </a:lnTo>
                <a:lnTo>
                  <a:pt x="18872" y="13490"/>
                </a:lnTo>
                <a:lnTo>
                  <a:pt x="18872" y="13551"/>
                </a:lnTo>
                <a:lnTo>
                  <a:pt x="18872" y="13596"/>
                </a:lnTo>
                <a:lnTo>
                  <a:pt x="18895" y="13642"/>
                </a:lnTo>
                <a:lnTo>
                  <a:pt x="18918" y="13688"/>
                </a:lnTo>
                <a:lnTo>
                  <a:pt x="18952" y="13718"/>
                </a:lnTo>
                <a:lnTo>
                  <a:pt x="18987" y="13749"/>
                </a:lnTo>
                <a:lnTo>
                  <a:pt x="19021" y="13779"/>
                </a:lnTo>
                <a:lnTo>
                  <a:pt x="19021" y="13779"/>
                </a:lnTo>
                <a:lnTo>
                  <a:pt x="19044" y="13810"/>
                </a:lnTo>
                <a:lnTo>
                  <a:pt x="19078" y="13840"/>
                </a:lnTo>
                <a:lnTo>
                  <a:pt x="19101" y="13856"/>
                </a:lnTo>
                <a:lnTo>
                  <a:pt x="19147" y="13856"/>
                </a:lnTo>
                <a:lnTo>
                  <a:pt x="19170" y="13856"/>
                </a:lnTo>
                <a:lnTo>
                  <a:pt x="19216" y="13856"/>
                </a:lnTo>
                <a:lnTo>
                  <a:pt x="19239" y="13856"/>
                </a:lnTo>
                <a:lnTo>
                  <a:pt x="19285" y="13840"/>
                </a:lnTo>
                <a:lnTo>
                  <a:pt x="19285" y="13840"/>
                </a:lnTo>
                <a:lnTo>
                  <a:pt x="19273" y="13734"/>
                </a:lnTo>
                <a:lnTo>
                  <a:pt x="19250" y="13642"/>
                </a:lnTo>
                <a:lnTo>
                  <a:pt x="19227" y="13581"/>
                </a:lnTo>
                <a:lnTo>
                  <a:pt x="19204" y="13520"/>
                </a:lnTo>
                <a:lnTo>
                  <a:pt x="19159" y="13459"/>
                </a:lnTo>
                <a:lnTo>
                  <a:pt x="19113" y="13429"/>
                </a:lnTo>
                <a:lnTo>
                  <a:pt x="19067" y="13398"/>
                </a:lnTo>
                <a:lnTo>
                  <a:pt x="19021" y="13398"/>
                </a:lnTo>
                <a:lnTo>
                  <a:pt x="19021" y="13398"/>
                </a:lnTo>
                <a:lnTo>
                  <a:pt x="18952" y="13398"/>
                </a:lnTo>
                <a:lnTo>
                  <a:pt x="18872" y="13429"/>
                </a:lnTo>
                <a:close/>
                <a:moveTo>
                  <a:pt x="5007" y="13840"/>
                </a:moveTo>
                <a:lnTo>
                  <a:pt x="5007" y="13840"/>
                </a:lnTo>
                <a:lnTo>
                  <a:pt x="5030" y="13764"/>
                </a:lnTo>
                <a:lnTo>
                  <a:pt x="5053" y="13688"/>
                </a:lnTo>
                <a:lnTo>
                  <a:pt x="5064" y="13612"/>
                </a:lnTo>
                <a:lnTo>
                  <a:pt x="5053" y="13551"/>
                </a:lnTo>
                <a:lnTo>
                  <a:pt x="5041" y="13490"/>
                </a:lnTo>
                <a:lnTo>
                  <a:pt x="5018" y="13413"/>
                </a:lnTo>
                <a:lnTo>
                  <a:pt x="4995" y="13337"/>
                </a:lnTo>
                <a:lnTo>
                  <a:pt x="4950" y="13292"/>
                </a:lnTo>
                <a:lnTo>
                  <a:pt x="4950" y="13292"/>
                </a:lnTo>
                <a:lnTo>
                  <a:pt x="4892" y="13474"/>
                </a:lnTo>
                <a:lnTo>
                  <a:pt x="4858" y="13581"/>
                </a:lnTo>
                <a:lnTo>
                  <a:pt x="4846" y="13657"/>
                </a:lnTo>
                <a:lnTo>
                  <a:pt x="4846" y="13718"/>
                </a:lnTo>
                <a:lnTo>
                  <a:pt x="4858" y="13764"/>
                </a:lnTo>
                <a:lnTo>
                  <a:pt x="4870" y="13779"/>
                </a:lnTo>
                <a:lnTo>
                  <a:pt x="4892" y="13810"/>
                </a:lnTo>
                <a:lnTo>
                  <a:pt x="4927" y="13825"/>
                </a:lnTo>
                <a:lnTo>
                  <a:pt x="4961" y="13840"/>
                </a:lnTo>
                <a:lnTo>
                  <a:pt x="5007" y="13840"/>
                </a:lnTo>
                <a:close/>
                <a:moveTo>
                  <a:pt x="1821" y="13688"/>
                </a:moveTo>
                <a:lnTo>
                  <a:pt x="1821" y="13688"/>
                </a:lnTo>
                <a:lnTo>
                  <a:pt x="1867" y="13749"/>
                </a:lnTo>
                <a:lnTo>
                  <a:pt x="1924" y="13779"/>
                </a:lnTo>
                <a:lnTo>
                  <a:pt x="1970" y="13779"/>
                </a:lnTo>
                <a:lnTo>
                  <a:pt x="1993" y="13749"/>
                </a:lnTo>
                <a:lnTo>
                  <a:pt x="2027" y="13688"/>
                </a:lnTo>
                <a:lnTo>
                  <a:pt x="2039" y="13627"/>
                </a:lnTo>
                <a:lnTo>
                  <a:pt x="2039" y="13535"/>
                </a:lnTo>
                <a:lnTo>
                  <a:pt x="2027" y="13429"/>
                </a:lnTo>
                <a:lnTo>
                  <a:pt x="2027" y="13429"/>
                </a:lnTo>
                <a:lnTo>
                  <a:pt x="1947" y="13398"/>
                </a:lnTo>
                <a:lnTo>
                  <a:pt x="1890" y="13398"/>
                </a:lnTo>
                <a:lnTo>
                  <a:pt x="1890" y="13398"/>
                </a:lnTo>
                <a:lnTo>
                  <a:pt x="1856" y="13398"/>
                </a:lnTo>
                <a:lnTo>
                  <a:pt x="1844" y="13413"/>
                </a:lnTo>
                <a:lnTo>
                  <a:pt x="1810" y="13429"/>
                </a:lnTo>
                <a:lnTo>
                  <a:pt x="1798" y="13474"/>
                </a:lnTo>
                <a:lnTo>
                  <a:pt x="1787" y="13520"/>
                </a:lnTo>
                <a:lnTo>
                  <a:pt x="1787" y="13566"/>
                </a:lnTo>
                <a:lnTo>
                  <a:pt x="1821" y="13688"/>
                </a:lnTo>
                <a:close/>
                <a:moveTo>
                  <a:pt x="3724" y="13779"/>
                </a:moveTo>
                <a:lnTo>
                  <a:pt x="3724" y="13779"/>
                </a:lnTo>
                <a:lnTo>
                  <a:pt x="3792" y="13779"/>
                </a:lnTo>
                <a:lnTo>
                  <a:pt x="3838" y="13749"/>
                </a:lnTo>
                <a:lnTo>
                  <a:pt x="3884" y="13688"/>
                </a:lnTo>
                <a:lnTo>
                  <a:pt x="3930" y="13627"/>
                </a:lnTo>
                <a:lnTo>
                  <a:pt x="3930" y="13627"/>
                </a:lnTo>
                <a:lnTo>
                  <a:pt x="3987" y="13535"/>
                </a:lnTo>
                <a:lnTo>
                  <a:pt x="4021" y="13444"/>
                </a:lnTo>
                <a:lnTo>
                  <a:pt x="4044" y="13353"/>
                </a:lnTo>
                <a:lnTo>
                  <a:pt x="4044" y="13292"/>
                </a:lnTo>
                <a:lnTo>
                  <a:pt x="4021" y="13215"/>
                </a:lnTo>
                <a:lnTo>
                  <a:pt x="3998" y="13139"/>
                </a:lnTo>
                <a:lnTo>
                  <a:pt x="3941" y="13078"/>
                </a:lnTo>
                <a:lnTo>
                  <a:pt x="3873" y="13017"/>
                </a:lnTo>
                <a:lnTo>
                  <a:pt x="3873" y="13017"/>
                </a:lnTo>
                <a:lnTo>
                  <a:pt x="3827" y="13093"/>
                </a:lnTo>
                <a:lnTo>
                  <a:pt x="3792" y="13185"/>
                </a:lnTo>
                <a:lnTo>
                  <a:pt x="3769" y="13276"/>
                </a:lnTo>
                <a:lnTo>
                  <a:pt x="3746" y="13368"/>
                </a:lnTo>
                <a:lnTo>
                  <a:pt x="3724" y="13459"/>
                </a:lnTo>
                <a:lnTo>
                  <a:pt x="3712" y="13566"/>
                </a:lnTo>
                <a:lnTo>
                  <a:pt x="3712" y="13657"/>
                </a:lnTo>
                <a:lnTo>
                  <a:pt x="3724" y="13779"/>
                </a:lnTo>
                <a:close/>
                <a:moveTo>
                  <a:pt x="16030" y="13429"/>
                </a:moveTo>
                <a:lnTo>
                  <a:pt x="16030" y="13429"/>
                </a:lnTo>
                <a:lnTo>
                  <a:pt x="15950" y="13444"/>
                </a:lnTo>
                <a:lnTo>
                  <a:pt x="15881" y="13444"/>
                </a:lnTo>
                <a:lnTo>
                  <a:pt x="15813" y="13444"/>
                </a:lnTo>
                <a:lnTo>
                  <a:pt x="15744" y="13429"/>
                </a:lnTo>
                <a:lnTo>
                  <a:pt x="15664" y="13413"/>
                </a:lnTo>
                <a:lnTo>
                  <a:pt x="15595" y="13383"/>
                </a:lnTo>
                <a:lnTo>
                  <a:pt x="15538" y="13337"/>
                </a:lnTo>
                <a:lnTo>
                  <a:pt x="15469" y="13292"/>
                </a:lnTo>
                <a:lnTo>
                  <a:pt x="15469" y="13292"/>
                </a:lnTo>
                <a:lnTo>
                  <a:pt x="15480" y="13398"/>
                </a:lnTo>
                <a:lnTo>
                  <a:pt x="15503" y="13505"/>
                </a:lnTo>
                <a:lnTo>
                  <a:pt x="15526" y="13581"/>
                </a:lnTo>
                <a:lnTo>
                  <a:pt x="15560" y="13642"/>
                </a:lnTo>
                <a:lnTo>
                  <a:pt x="15595" y="13688"/>
                </a:lnTo>
                <a:lnTo>
                  <a:pt x="15652" y="13734"/>
                </a:lnTo>
                <a:lnTo>
                  <a:pt x="15709" y="13764"/>
                </a:lnTo>
                <a:lnTo>
                  <a:pt x="15755" y="13779"/>
                </a:lnTo>
                <a:lnTo>
                  <a:pt x="15801" y="13764"/>
                </a:lnTo>
                <a:lnTo>
                  <a:pt x="15858" y="13749"/>
                </a:lnTo>
                <a:lnTo>
                  <a:pt x="15904" y="13718"/>
                </a:lnTo>
                <a:lnTo>
                  <a:pt x="15939" y="13688"/>
                </a:lnTo>
                <a:lnTo>
                  <a:pt x="15985" y="13627"/>
                </a:lnTo>
                <a:lnTo>
                  <a:pt x="16019" y="13581"/>
                </a:lnTo>
                <a:lnTo>
                  <a:pt x="16030" y="13520"/>
                </a:lnTo>
                <a:lnTo>
                  <a:pt x="16030" y="13429"/>
                </a:lnTo>
                <a:close/>
                <a:moveTo>
                  <a:pt x="7379" y="13688"/>
                </a:moveTo>
                <a:lnTo>
                  <a:pt x="7379" y="13688"/>
                </a:lnTo>
                <a:lnTo>
                  <a:pt x="7459" y="13673"/>
                </a:lnTo>
                <a:lnTo>
                  <a:pt x="7528" y="13627"/>
                </a:lnTo>
                <a:lnTo>
                  <a:pt x="7585" y="13581"/>
                </a:lnTo>
                <a:lnTo>
                  <a:pt x="7654" y="13505"/>
                </a:lnTo>
                <a:lnTo>
                  <a:pt x="7654" y="13505"/>
                </a:lnTo>
                <a:lnTo>
                  <a:pt x="7597" y="13429"/>
                </a:lnTo>
                <a:lnTo>
                  <a:pt x="7562" y="13398"/>
                </a:lnTo>
                <a:lnTo>
                  <a:pt x="7516" y="13353"/>
                </a:lnTo>
                <a:lnTo>
                  <a:pt x="7493" y="13353"/>
                </a:lnTo>
                <a:lnTo>
                  <a:pt x="7493" y="13353"/>
                </a:lnTo>
                <a:lnTo>
                  <a:pt x="7459" y="13353"/>
                </a:lnTo>
                <a:lnTo>
                  <a:pt x="7448" y="13383"/>
                </a:lnTo>
                <a:lnTo>
                  <a:pt x="7436" y="13413"/>
                </a:lnTo>
                <a:lnTo>
                  <a:pt x="7425" y="13444"/>
                </a:lnTo>
                <a:lnTo>
                  <a:pt x="7390" y="13551"/>
                </a:lnTo>
                <a:lnTo>
                  <a:pt x="7379" y="13688"/>
                </a:lnTo>
                <a:close/>
                <a:moveTo>
                  <a:pt x="3059" y="13566"/>
                </a:moveTo>
                <a:lnTo>
                  <a:pt x="3059" y="13566"/>
                </a:lnTo>
                <a:lnTo>
                  <a:pt x="3162" y="13078"/>
                </a:lnTo>
                <a:lnTo>
                  <a:pt x="3162" y="13078"/>
                </a:lnTo>
                <a:lnTo>
                  <a:pt x="3139" y="13124"/>
                </a:lnTo>
                <a:lnTo>
                  <a:pt x="3105" y="13185"/>
                </a:lnTo>
                <a:lnTo>
                  <a:pt x="3070" y="13322"/>
                </a:lnTo>
                <a:lnTo>
                  <a:pt x="3059" y="13429"/>
                </a:lnTo>
                <a:lnTo>
                  <a:pt x="3048" y="13551"/>
                </a:lnTo>
                <a:lnTo>
                  <a:pt x="3048" y="13688"/>
                </a:lnTo>
                <a:lnTo>
                  <a:pt x="3048" y="13657"/>
                </a:lnTo>
                <a:lnTo>
                  <a:pt x="3059" y="13566"/>
                </a:lnTo>
                <a:close/>
                <a:moveTo>
                  <a:pt x="17222" y="13231"/>
                </a:moveTo>
                <a:lnTo>
                  <a:pt x="17222" y="13231"/>
                </a:lnTo>
                <a:lnTo>
                  <a:pt x="17222" y="13337"/>
                </a:lnTo>
                <a:lnTo>
                  <a:pt x="17233" y="13398"/>
                </a:lnTo>
                <a:lnTo>
                  <a:pt x="17256" y="13474"/>
                </a:lnTo>
                <a:lnTo>
                  <a:pt x="17302" y="13535"/>
                </a:lnTo>
                <a:lnTo>
                  <a:pt x="17360" y="13581"/>
                </a:lnTo>
                <a:lnTo>
                  <a:pt x="17440" y="13596"/>
                </a:lnTo>
                <a:lnTo>
                  <a:pt x="17520" y="13612"/>
                </a:lnTo>
                <a:lnTo>
                  <a:pt x="17635" y="13627"/>
                </a:lnTo>
                <a:lnTo>
                  <a:pt x="17635" y="13627"/>
                </a:lnTo>
                <a:lnTo>
                  <a:pt x="17635" y="13535"/>
                </a:lnTo>
                <a:lnTo>
                  <a:pt x="17623" y="13429"/>
                </a:lnTo>
                <a:lnTo>
                  <a:pt x="17600" y="13353"/>
                </a:lnTo>
                <a:lnTo>
                  <a:pt x="17577" y="13307"/>
                </a:lnTo>
                <a:lnTo>
                  <a:pt x="17531" y="13261"/>
                </a:lnTo>
                <a:lnTo>
                  <a:pt x="17497" y="13215"/>
                </a:lnTo>
                <a:lnTo>
                  <a:pt x="17451" y="13185"/>
                </a:lnTo>
                <a:lnTo>
                  <a:pt x="17382" y="13185"/>
                </a:lnTo>
                <a:lnTo>
                  <a:pt x="17382" y="13185"/>
                </a:lnTo>
                <a:lnTo>
                  <a:pt x="17302" y="13185"/>
                </a:lnTo>
                <a:lnTo>
                  <a:pt x="17222" y="13231"/>
                </a:lnTo>
                <a:close/>
                <a:moveTo>
                  <a:pt x="12283" y="13627"/>
                </a:moveTo>
                <a:lnTo>
                  <a:pt x="12283" y="13627"/>
                </a:lnTo>
                <a:lnTo>
                  <a:pt x="12077" y="13353"/>
                </a:lnTo>
                <a:lnTo>
                  <a:pt x="12077" y="13353"/>
                </a:lnTo>
                <a:lnTo>
                  <a:pt x="12111" y="13459"/>
                </a:lnTo>
                <a:lnTo>
                  <a:pt x="12157" y="13520"/>
                </a:lnTo>
                <a:lnTo>
                  <a:pt x="12203" y="13581"/>
                </a:lnTo>
                <a:lnTo>
                  <a:pt x="12283" y="13627"/>
                </a:lnTo>
                <a:close/>
                <a:moveTo>
                  <a:pt x="2383" y="13078"/>
                </a:moveTo>
                <a:lnTo>
                  <a:pt x="2383" y="13078"/>
                </a:lnTo>
                <a:lnTo>
                  <a:pt x="2417" y="13246"/>
                </a:lnTo>
                <a:lnTo>
                  <a:pt x="2452" y="13353"/>
                </a:lnTo>
                <a:lnTo>
                  <a:pt x="2497" y="13490"/>
                </a:lnTo>
                <a:lnTo>
                  <a:pt x="2543" y="13627"/>
                </a:lnTo>
                <a:lnTo>
                  <a:pt x="2543" y="13627"/>
                </a:lnTo>
                <a:lnTo>
                  <a:pt x="2589" y="13596"/>
                </a:lnTo>
                <a:lnTo>
                  <a:pt x="2635" y="13520"/>
                </a:lnTo>
                <a:lnTo>
                  <a:pt x="2646" y="13474"/>
                </a:lnTo>
                <a:lnTo>
                  <a:pt x="2681" y="13413"/>
                </a:lnTo>
                <a:lnTo>
                  <a:pt x="2715" y="13307"/>
                </a:lnTo>
                <a:lnTo>
                  <a:pt x="2727" y="13185"/>
                </a:lnTo>
                <a:lnTo>
                  <a:pt x="2715" y="13078"/>
                </a:lnTo>
                <a:lnTo>
                  <a:pt x="2715" y="13063"/>
                </a:lnTo>
                <a:lnTo>
                  <a:pt x="2692" y="13017"/>
                </a:lnTo>
                <a:lnTo>
                  <a:pt x="2669" y="12987"/>
                </a:lnTo>
                <a:lnTo>
                  <a:pt x="2646" y="12956"/>
                </a:lnTo>
                <a:lnTo>
                  <a:pt x="2635" y="12941"/>
                </a:lnTo>
                <a:lnTo>
                  <a:pt x="2589" y="12941"/>
                </a:lnTo>
                <a:lnTo>
                  <a:pt x="2589" y="12941"/>
                </a:lnTo>
                <a:lnTo>
                  <a:pt x="2555" y="12941"/>
                </a:lnTo>
                <a:lnTo>
                  <a:pt x="2497" y="12987"/>
                </a:lnTo>
                <a:lnTo>
                  <a:pt x="2440" y="13017"/>
                </a:lnTo>
                <a:lnTo>
                  <a:pt x="2383" y="13078"/>
                </a:lnTo>
                <a:close/>
                <a:moveTo>
                  <a:pt x="19594" y="13154"/>
                </a:moveTo>
                <a:lnTo>
                  <a:pt x="19594" y="13154"/>
                </a:lnTo>
                <a:lnTo>
                  <a:pt x="19514" y="13078"/>
                </a:lnTo>
                <a:lnTo>
                  <a:pt x="19422" y="13017"/>
                </a:lnTo>
                <a:lnTo>
                  <a:pt x="19331" y="12987"/>
                </a:lnTo>
                <a:lnTo>
                  <a:pt x="19227" y="12956"/>
                </a:lnTo>
                <a:lnTo>
                  <a:pt x="19227" y="12956"/>
                </a:lnTo>
                <a:lnTo>
                  <a:pt x="19331" y="13398"/>
                </a:lnTo>
                <a:lnTo>
                  <a:pt x="19376" y="13535"/>
                </a:lnTo>
                <a:lnTo>
                  <a:pt x="19388" y="13581"/>
                </a:lnTo>
                <a:lnTo>
                  <a:pt x="19411" y="13596"/>
                </a:lnTo>
                <a:lnTo>
                  <a:pt x="19422" y="13596"/>
                </a:lnTo>
                <a:lnTo>
                  <a:pt x="19445" y="13596"/>
                </a:lnTo>
                <a:lnTo>
                  <a:pt x="19457" y="13581"/>
                </a:lnTo>
                <a:lnTo>
                  <a:pt x="19480" y="13520"/>
                </a:lnTo>
                <a:lnTo>
                  <a:pt x="19525" y="13368"/>
                </a:lnTo>
                <a:lnTo>
                  <a:pt x="19594" y="13154"/>
                </a:lnTo>
                <a:close/>
                <a:moveTo>
                  <a:pt x="5431" y="13505"/>
                </a:moveTo>
                <a:lnTo>
                  <a:pt x="5431" y="13505"/>
                </a:lnTo>
                <a:lnTo>
                  <a:pt x="5442" y="13368"/>
                </a:lnTo>
                <a:lnTo>
                  <a:pt x="5488" y="13292"/>
                </a:lnTo>
                <a:lnTo>
                  <a:pt x="5534" y="13139"/>
                </a:lnTo>
                <a:lnTo>
                  <a:pt x="5546" y="13078"/>
                </a:lnTo>
                <a:lnTo>
                  <a:pt x="5546" y="13063"/>
                </a:lnTo>
                <a:lnTo>
                  <a:pt x="5534" y="13032"/>
                </a:lnTo>
                <a:lnTo>
                  <a:pt x="5511" y="12971"/>
                </a:lnTo>
                <a:lnTo>
                  <a:pt x="5431" y="12880"/>
                </a:lnTo>
                <a:lnTo>
                  <a:pt x="5431" y="12880"/>
                </a:lnTo>
                <a:lnTo>
                  <a:pt x="5373" y="12971"/>
                </a:lnTo>
                <a:lnTo>
                  <a:pt x="5328" y="13078"/>
                </a:lnTo>
                <a:lnTo>
                  <a:pt x="5270" y="13246"/>
                </a:lnTo>
                <a:lnTo>
                  <a:pt x="5224" y="13383"/>
                </a:lnTo>
                <a:lnTo>
                  <a:pt x="5213" y="13444"/>
                </a:lnTo>
                <a:lnTo>
                  <a:pt x="5213" y="13505"/>
                </a:lnTo>
                <a:lnTo>
                  <a:pt x="5213" y="13551"/>
                </a:lnTo>
                <a:lnTo>
                  <a:pt x="5236" y="13581"/>
                </a:lnTo>
                <a:lnTo>
                  <a:pt x="5270" y="13596"/>
                </a:lnTo>
                <a:lnTo>
                  <a:pt x="5305" y="13581"/>
                </a:lnTo>
                <a:lnTo>
                  <a:pt x="5351" y="13551"/>
                </a:lnTo>
                <a:lnTo>
                  <a:pt x="5431" y="13505"/>
                </a:lnTo>
                <a:close/>
                <a:moveTo>
                  <a:pt x="6496" y="13566"/>
                </a:moveTo>
                <a:lnTo>
                  <a:pt x="6496" y="13566"/>
                </a:lnTo>
                <a:lnTo>
                  <a:pt x="6760" y="13017"/>
                </a:lnTo>
                <a:lnTo>
                  <a:pt x="6760" y="13017"/>
                </a:lnTo>
                <a:lnTo>
                  <a:pt x="6691" y="13032"/>
                </a:lnTo>
                <a:lnTo>
                  <a:pt x="6634" y="13048"/>
                </a:lnTo>
                <a:lnTo>
                  <a:pt x="6565" y="13078"/>
                </a:lnTo>
                <a:lnTo>
                  <a:pt x="6496" y="13093"/>
                </a:lnTo>
                <a:lnTo>
                  <a:pt x="6439" y="13154"/>
                </a:lnTo>
                <a:lnTo>
                  <a:pt x="6394" y="13185"/>
                </a:lnTo>
                <a:lnTo>
                  <a:pt x="6347" y="13246"/>
                </a:lnTo>
                <a:lnTo>
                  <a:pt x="6302" y="13292"/>
                </a:lnTo>
                <a:lnTo>
                  <a:pt x="6290" y="13337"/>
                </a:lnTo>
                <a:lnTo>
                  <a:pt x="6267" y="13383"/>
                </a:lnTo>
                <a:lnTo>
                  <a:pt x="6267" y="13429"/>
                </a:lnTo>
                <a:lnTo>
                  <a:pt x="6279" y="13474"/>
                </a:lnTo>
                <a:lnTo>
                  <a:pt x="6302" y="13520"/>
                </a:lnTo>
                <a:lnTo>
                  <a:pt x="6347" y="13535"/>
                </a:lnTo>
                <a:lnTo>
                  <a:pt x="6416" y="13566"/>
                </a:lnTo>
                <a:lnTo>
                  <a:pt x="6496" y="13566"/>
                </a:lnTo>
                <a:close/>
                <a:moveTo>
                  <a:pt x="1409" y="13353"/>
                </a:moveTo>
                <a:lnTo>
                  <a:pt x="1409" y="13353"/>
                </a:lnTo>
                <a:lnTo>
                  <a:pt x="1489" y="13413"/>
                </a:lnTo>
                <a:lnTo>
                  <a:pt x="1535" y="13429"/>
                </a:lnTo>
                <a:lnTo>
                  <a:pt x="1569" y="13429"/>
                </a:lnTo>
                <a:lnTo>
                  <a:pt x="1615" y="13429"/>
                </a:lnTo>
                <a:lnTo>
                  <a:pt x="1649" y="13413"/>
                </a:lnTo>
                <a:lnTo>
                  <a:pt x="1672" y="13383"/>
                </a:lnTo>
                <a:lnTo>
                  <a:pt x="1707" y="13353"/>
                </a:lnTo>
                <a:lnTo>
                  <a:pt x="1730" y="13337"/>
                </a:lnTo>
                <a:lnTo>
                  <a:pt x="1764" y="13276"/>
                </a:lnTo>
                <a:lnTo>
                  <a:pt x="1810" y="13154"/>
                </a:lnTo>
                <a:lnTo>
                  <a:pt x="1856" y="13002"/>
                </a:lnTo>
                <a:lnTo>
                  <a:pt x="1867" y="12819"/>
                </a:lnTo>
                <a:lnTo>
                  <a:pt x="1867" y="12819"/>
                </a:lnTo>
                <a:lnTo>
                  <a:pt x="1569" y="12819"/>
                </a:lnTo>
                <a:lnTo>
                  <a:pt x="1569" y="12819"/>
                </a:lnTo>
                <a:lnTo>
                  <a:pt x="1409" y="13353"/>
                </a:lnTo>
                <a:close/>
                <a:moveTo>
                  <a:pt x="1260" y="13429"/>
                </a:moveTo>
                <a:lnTo>
                  <a:pt x="1260" y="13429"/>
                </a:lnTo>
                <a:lnTo>
                  <a:pt x="1248" y="13337"/>
                </a:lnTo>
                <a:lnTo>
                  <a:pt x="1248" y="13261"/>
                </a:lnTo>
                <a:lnTo>
                  <a:pt x="1260" y="13170"/>
                </a:lnTo>
                <a:lnTo>
                  <a:pt x="1283" y="13093"/>
                </a:lnTo>
                <a:lnTo>
                  <a:pt x="1283" y="13032"/>
                </a:lnTo>
                <a:lnTo>
                  <a:pt x="1328" y="12956"/>
                </a:lnTo>
                <a:lnTo>
                  <a:pt x="1351" y="12880"/>
                </a:lnTo>
                <a:lnTo>
                  <a:pt x="1409" y="12819"/>
                </a:lnTo>
                <a:lnTo>
                  <a:pt x="1409" y="12819"/>
                </a:lnTo>
                <a:lnTo>
                  <a:pt x="1340" y="12819"/>
                </a:lnTo>
                <a:lnTo>
                  <a:pt x="1283" y="12834"/>
                </a:lnTo>
                <a:lnTo>
                  <a:pt x="1214" y="12865"/>
                </a:lnTo>
                <a:lnTo>
                  <a:pt x="1145" y="12911"/>
                </a:lnTo>
                <a:lnTo>
                  <a:pt x="1088" y="12956"/>
                </a:lnTo>
                <a:lnTo>
                  <a:pt x="1054" y="13017"/>
                </a:lnTo>
                <a:lnTo>
                  <a:pt x="1008" y="13078"/>
                </a:lnTo>
                <a:lnTo>
                  <a:pt x="985" y="13124"/>
                </a:lnTo>
                <a:lnTo>
                  <a:pt x="962" y="13170"/>
                </a:lnTo>
                <a:lnTo>
                  <a:pt x="950" y="13246"/>
                </a:lnTo>
                <a:lnTo>
                  <a:pt x="950" y="13292"/>
                </a:lnTo>
                <a:lnTo>
                  <a:pt x="985" y="13337"/>
                </a:lnTo>
                <a:lnTo>
                  <a:pt x="1019" y="13368"/>
                </a:lnTo>
                <a:lnTo>
                  <a:pt x="1077" y="13398"/>
                </a:lnTo>
                <a:lnTo>
                  <a:pt x="1145" y="13429"/>
                </a:lnTo>
                <a:lnTo>
                  <a:pt x="1260" y="13429"/>
                </a:lnTo>
                <a:close/>
                <a:moveTo>
                  <a:pt x="6921" y="13353"/>
                </a:moveTo>
                <a:lnTo>
                  <a:pt x="6921" y="13353"/>
                </a:lnTo>
                <a:lnTo>
                  <a:pt x="7024" y="13322"/>
                </a:lnTo>
                <a:lnTo>
                  <a:pt x="7070" y="13276"/>
                </a:lnTo>
                <a:lnTo>
                  <a:pt x="7104" y="13246"/>
                </a:lnTo>
                <a:lnTo>
                  <a:pt x="7115" y="13215"/>
                </a:lnTo>
                <a:lnTo>
                  <a:pt x="7115" y="13170"/>
                </a:lnTo>
                <a:lnTo>
                  <a:pt x="7127" y="13124"/>
                </a:lnTo>
                <a:lnTo>
                  <a:pt x="7150" y="13078"/>
                </a:lnTo>
                <a:lnTo>
                  <a:pt x="7230" y="13017"/>
                </a:lnTo>
                <a:lnTo>
                  <a:pt x="7230" y="13017"/>
                </a:lnTo>
                <a:lnTo>
                  <a:pt x="7150" y="13002"/>
                </a:lnTo>
                <a:lnTo>
                  <a:pt x="7092" y="12987"/>
                </a:lnTo>
                <a:lnTo>
                  <a:pt x="7046" y="12926"/>
                </a:lnTo>
                <a:lnTo>
                  <a:pt x="6966" y="12880"/>
                </a:lnTo>
                <a:lnTo>
                  <a:pt x="6966" y="12880"/>
                </a:lnTo>
                <a:lnTo>
                  <a:pt x="6921" y="13353"/>
                </a:lnTo>
                <a:close/>
                <a:moveTo>
                  <a:pt x="15778" y="13231"/>
                </a:moveTo>
                <a:lnTo>
                  <a:pt x="15778" y="13231"/>
                </a:lnTo>
                <a:lnTo>
                  <a:pt x="15847" y="13231"/>
                </a:lnTo>
                <a:lnTo>
                  <a:pt x="15893" y="13246"/>
                </a:lnTo>
                <a:lnTo>
                  <a:pt x="15985" y="13261"/>
                </a:lnTo>
                <a:lnTo>
                  <a:pt x="16019" y="13261"/>
                </a:lnTo>
                <a:lnTo>
                  <a:pt x="16065" y="13215"/>
                </a:lnTo>
                <a:lnTo>
                  <a:pt x="16099" y="13170"/>
                </a:lnTo>
                <a:lnTo>
                  <a:pt x="16134" y="13078"/>
                </a:lnTo>
                <a:lnTo>
                  <a:pt x="16134" y="13078"/>
                </a:lnTo>
                <a:lnTo>
                  <a:pt x="16088" y="13032"/>
                </a:lnTo>
                <a:lnTo>
                  <a:pt x="16042" y="12987"/>
                </a:lnTo>
                <a:lnTo>
                  <a:pt x="15996" y="12956"/>
                </a:lnTo>
                <a:lnTo>
                  <a:pt x="15950" y="12956"/>
                </a:lnTo>
                <a:lnTo>
                  <a:pt x="15950" y="12956"/>
                </a:lnTo>
                <a:lnTo>
                  <a:pt x="15939" y="12956"/>
                </a:lnTo>
                <a:lnTo>
                  <a:pt x="15904" y="12971"/>
                </a:lnTo>
                <a:lnTo>
                  <a:pt x="15870" y="13002"/>
                </a:lnTo>
                <a:lnTo>
                  <a:pt x="15858" y="13017"/>
                </a:lnTo>
                <a:lnTo>
                  <a:pt x="15813" y="13093"/>
                </a:lnTo>
                <a:lnTo>
                  <a:pt x="15778" y="13231"/>
                </a:lnTo>
                <a:close/>
                <a:moveTo>
                  <a:pt x="4182" y="13231"/>
                </a:moveTo>
                <a:lnTo>
                  <a:pt x="4182" y="13231"/>
                </a:lnTo>
                <a:lnTo>
                  <a:pt x="4228" y="13154"/>
                </a:lnTo>
                <a:lnTo>
                  <a:pt x="4274" y="13078"/>
                </a:lnTo>
                <a:lnTo>
                  <a:pt x="4296" y="13017"/>
                </a:lnTo>
                <a:lnTo>
                  <a:pt x="4319" y="12956"/>
                </a:lnTo>
                <a:lnTo>
                  <a:pt x="4331" y="12880"/>
                </a:lnTo>
                <a:lnTo>
                  <a:pt x="4342" y="12804"/>
                </a:lnTo>
                <a:lnTo>
                  <a:pt x="4354" y="12606"/>
                </a:lnTo>
                <a:lnTo>
                  <a:pt x="4354" y="12606"/>
                </a:lnTo>
                <a:lnTo>
                  <a:pt x="4296" y="12621"/>
                </a:lnTo>
                <a:lnTo>
                  <a:pt x="4262" y="12636"/>
                </a:lnTo>
                <a:lnTo>
                  <a:pt x="4216" y="12651"/>
                </a:lnTo>
                <a:lnTo>
                  <a:pt x="4205" y="12682"/>
                </a:lnTo>
                <a:lnTo>
                  <a:pt x="4182" y="12712"/>
                </a:lnTo>
                <a:lnTo>
                  <a:pt x="4170" y="12743"/>
                </a:lnTo>
                <a:lnTo>
                  <a:pt x="4147" y="12819"/>
                </a:lnTo>
                <a:lnTo>
                  <a:pt x="4147" y="12926"/>
                </a:lnTo>
                <a:lnTo>
                  <a:pt x="4147" y="13032"/>
                </a:lnTo>
                <a:lnTo>
                  <a:pt x="4170" y="13124"/>
                </a:lnTo>
                <a:lnTo>
                  <a:pt x="4182" y="13231"/>
                </a:lnTo>
                <a:close/>
                <a:moveTo>
                  <a:pt x="3517" y="13231"/>
                </a:moveTo>
                <a:lnTo>
                  <a:pt x="3517" y="13231"/>
                </a:lnTo>
                <a:lnTo>
                  <a:pt x="3666" y="12956"/>
                </a:lnTo>
                <a:lnTo>
                  <a:pt x="3666" y="12956"/>
                </a:lnTo>
                <a:lnTo>
                  <a:pt x="3620" y="12956"/>
                </a:lnTo>
                <a:lnTo>
                  <a:pt x="3586" y="12971"/>
                </a:lnTo>
                <a:lnTo>
                  <a:pt x="3563" y="13002"/>
                </a:lnTo>
                <a:lnTo>
                  <a:pt x="3540" y="13017"/>
                </a:lnTo>
                <a:lnTo>
                  <a:pt x="3529" y="13063"/>
                </a:lnTo>
                <a:lnTo>
                  <a:pt x="3529" y="13093"/>
                </a:lnTo>
                <a:lnTo>
                  <a:pt x="3517" y="13231"/>
                </a:lnTo>
                <a:close/>
                <a:moveTo>
                  <a:pt x="1924" y="13231"/>
                </a:moveTo>
                <a:lnTo>
                  <a:pt x="1924" y="13231"/>
                </a:lnTo>
                <a:lnTo>
                  <a:pt x="2062" y="13170"/>
                </a:lnTo>
                <a:lnTo>
                  <a:pt x="2119" y="13154"/>
                </a:lnTo>
                <a:lnTo>
                  <a:pt x="2176" y="13093"/>
                </a:lnTo>
                <a:lnTo>
                  <a:pt x="2234" y="13078"/>
                </a:lnTo>
                <a:lnTo>
                  <a:pt x="2280" y="13017"/>
                </a:lnTo>
                <a:lnTo>
                  <a:pt x="2337" y="12956"/>
                </a:lnTo>
                <a:lnTo>
                  <a:pt x="2383" y="12880"/>
                </a:lnTo>
                <a:lnTo>
                  <a:pt x="2383" y="12880"/>
                </a:lnTo>
                <a:lnTo>
                  <a:pt x="2303" y="12819"/>
                </a:lnTo>
                <a:lnTo>
                  <a:pt x="2245" y="12773"/>
                </a:lnTo>
                <a:lnTo>
                  <a:pt x="2188" y="12743"/>
                </a:lnTo>
                <a:lnTo>
                  <a:pt x="2142" y="12743"/>
                </a:lnTo>
                <a:lnTo>
                  <a:pt x="2142" y="12743"/>
                </a:lnTo>
                <a:lnTo>
                  <a:pt x="2096" y="12743"/>
                </a:lnTo>
                <a:lnTo>
                  <a:pt x="2062" y="12773"/>
                </a:lnTo>
                <a:lnTo>
                  <a:pt x="2027" y="12819"/>
                </a:lnTo>
                <a:lnTo>
                  <a:pt x="1993" y="12865"/>
                </a:lnTo>
                <a:lnTo>
                  <a:pt x="1982" y="12941"/>
                </a:lnTo>
                <a:lnTo>
                  <a:pt x="1959" y="13017"/>
                </a:lnTo>
                <a:lnTo>
                  <a:pt x="1924" y="13231"/>
                </a:lnTo>
                <a:close/>
                <a:moveTo>
                  <a:pt x="4950" y="13078"/>
                </a:moveTo>
                <a:lnTo>
                  <a:pt x="4950" y="13078"/>
                </a:lnTo>
                <a:lnTo>
                  <a:pt x="5018" y="12926"/>
                </a:lnTo>
                <a:lnTo>
                  <a:pt x="5041" y="12865"/>
                </a:lnTo>
                <a:lnTo>
                  <a:pt x="5053" y="12819"/>
                </a:lnTo>
                <a:lnTo>
                  <a:pt x="5053" y="12789"/>
                </a:lnTo>
                <a:lnTo>
                  <a:pt x="5041" y="12743"/>
                </a:lnTo>
                <a:lnTo>
                  <a:pt x="5007" y="12667"/>
                </a:lnTo>
                <a:lnTo>
                  <a:pt x="4950" y="12606"/>
                </a:lnTo>
                <a:lnTo>
                  <a:pt x="4950" y="12606"/>
                </a:lnTo>
                <a:lnTo>
                  <a:pt x="4915" y="12697"/>
                </a:lnTo>
                <a:lnTo>
                  <a:pt x="4858" y="12819"/>
                </a:lnTo>
                <a:lnTo>
                  <a:pt x="4801" y="12926"/>
                </a:lnTo>
                <a:lnTo>
                  <a:pt x="4766" y="13048"/>
                </a:lnTo>
                <a:lnTo>
                  <a:pt x="4755" y="13078"/>
                </a:lnTo>
                <a:lnTo>
                  <a:pt x="4755" y="13124"/>
                </a:lnTo>
                <a:lnTo>
                  <a:pt x="4755" y="13170"/>
                </a:lnTo>
                <a:lnTo>
                  <a:pt x="4778" y="13185"/>
                </a:lnTo>
                <a:lnTo>
                  <a:pt x="4801" y="13185"/>
                </a:lnTo>
                <a:lnTo>
                  <a:pt x="4846" y="13170"/>
                </a:lnTo>
                <a:lnTo>
                  <a:pt x="4892" y="13139"/>
                </a:lnTo>
                <a:lnTo>
                  <a:pt x="4950" y="13078"/>
                </a:lnTo>
                <a:close/>
                <a:moveTo>
                  <a:pt x="15469" y="13154"/>
                </a:moveTo>
                <a:lnTo>
                  <a:pt x="15469" y="13154"/>
                </a:lnTo>
                <a:lnTo>
                  <a:pt x="15538" y="13139"/>
                </a:lnTo>
                <a:lnTo>
                  <a:pt x="15583" y="13109"/>
                </a:lnTo>
                <a:lnTo>
                  <a:pt x="15664" y="13078"/>
                </a:lnTo>
                <a:lnTo>
                  <a:pt x="15721" y="13002"/>
                </a:lnTo>
                <a:lnTo>
                  <a:pt x="15755" y="12926"/>
                </a:lnTo>
                <a:lnTo>
                  <a:pt x="15801" y="12834"/>
                </a:lnTo>
                <a:lnTo>
                  <a:pt x="15813" y="12773"/>
                </a:lnTo>
                <a:lnTo>
                  <a:pt x="15824" y="12682"/>
                </a:lnTo>
                <a:lnTo>
                  <a:pt x="15824" y="12682"/>
                </a:lnTo>
                <a:lnTo>
                  <a:pt x="15572" y="12682"/>
                </a:lnTo>
                <a:lnTo>
                  <a:pt x="15572" y="12682"/>
                </a:lnTo>
                <a:lnTo>
                  <a:pt x="15492" y="12804"/>
                </a:lnTo>
                <a:lnTo>
                  <a:pt x="15457" y="12834"/>
                </a:lnTo>
                <a:lnTo>
                  <a:pt x="15446" y="12895"/>
                </a:lnTo>
                <a:lnTo>
                  <a:pt x="15446" y="12941"/>
                </a:lnTo>
                <a:lnTo>
                  <a:pt x="15446" y="13002"/>
                </a:lnTo>
                <a:lnTo>
                  <a:pt x="15446" y="13078"/>
                </a:lnTo>
                <a:lnTo>
                  <a:pt x="15469" y="13154"/>
                </a:lnTo>
                <a:close/>
                <a:moveTo>
                  <a:pt x="15114" y="13154"/>
                </a:moveTo>
                <a:lnTo>
                  <a:pt x="15114" y="13154"/>
                </a:lnTo>
                <a:lnTo>
                  <a:pt x="15114" y="12743"/>
                </a:lnTo>
                <a:lnTo>
                  <a:pt x="15114" y="12743"/>
                </a:lnTo>
                <a:lnTo>
                  <a:pt x="15056" y="12514"/>
                </a:lnTo>
                <a:lnTo>
                  <a:pt x="14999" y="12270"/>
                </a:lnTo>
                <a:lnTo>
                  <a:pt x="14930" y="12042"/>
                </a:lnTo>
                <a:lnTo>
                  <a:pt x="14839" y="11798"/>
                </a:lnTo>
                <a:lnTo>
                  <a:pt x="14793" y="11706"/>
                </a:lnTo>
                <a:lnTo>
                  <a:pt x="14735" y="11584"/>
                </a:lnTo>
                <a:lnTo>
                  <a:pt x="14678" y="11493"/>
                </a:lnTo>
                <a:lnTo>
                  <a:pt x="14610" y="11401"/>
                </a:lnTo>
                <a:lnTo>
                  <a:pt x="14541" y="11310"/>
                </a:lnTo>
                <a:lnTo>
                  <a:pt x="14461" y="11249"/>
                </a:lnTo>
                <a:lnTo>
                  <a:pt x="14380" y="11188"/>
                </a:lnTo>
                <a:lnTo>
                  <a:pt x="14289" y="11127"/>
                </a:lnTo>
                <a:lnTo>
                  <a:pt x="14289" y="11127"/>
                </a:lnTo>
                <a:lnTo>
                  <a:pt x="14300" y="11447"/>
                </a:lnTo>
                <a:lnTo>
                  <a:pt x="14323" y="11767"/>
                </a:lnTo>
                <a:lnTo>
                  <a:pt x="14346" y="11920"/>
                </a:lnTo>
                <a:lnTo>
                  <a:pt x="14369" y="12072"/>
                </a:lnTo>
                <a:lnTo>
                  <a:pt x="14392" y="12240"/>
                </a:lnTo>
                <a:lnTo>
                  <a:pt x="14426" y="12392"/>
                </a:lnTo>
                <a:lnTo>
                  <a:pt x="14472" y="12530"/>
                </a:lnTo>
                <a:lnTo>
                  <a:pt x="14518" y="12651"/>
                </a:lnTo>
                <a:lnTo>
                  <a:pt x="14586" y="12773"/>
                </a:lnTo>
                <a:lnTo>
                  <a:pt x="14655" y="12880"/>
                </a:lnTo>
                <a:lnTo>
                  <a:pt x="14759" y="12987"/>
                </a:lnTo>
                <a:lnTo>
                  <a:pt x="14861" y="13063"/>
                </a:lnTo>
                <a:lnTo>
                  <a:pt x="14976" y="13109"/>
                </a:lnTo>
                <a:lnTo>
                  <a:pt x="15114" y="13154"/>
                </a:lnTo>
                <a:close/>
                <a:moveTo>
                  <a:pt x="5935" y="13078"/>
                </a:moveTo>
                <a:lnTo>
                  <a:pt x="5935" y="13078"/>
                </a:lnTo>
                <a:lnTo>
                  <a:pt x="5958" y="13017"/>
                </a:lnTo>
                <a:lnTo>
                  <a:pt x="6004" y="12956"/>
                </a:lnTo>
                <a:lnTo>
                  <a:pt x="6084" y="12819"/>
                </a:lnTo>
                <a:lnTo>
                  <a:pt x="6130" y="12743"/>
                </a:lnTo>
                <a:lnTo>
                  <a:pt x="6153" y="12682"/>
                </a:lnTo>
                <a:lnTo>
                  <a:pt x="6187" y="12606"/>
                </a:lnTo>
                <a:lnTo>
                  <a:pt x="6199" y="12560"/>
                </a:lnTo>
                <a:lnTo>
                  <a:pt x="6199" y="12560"/>
                </a:lnTo>
                <a:lnTo>
                  <a:pt x="6118" y="12575"/>
                </a:lnTo>
                <a:lnTo>
                  <a:pt x="6061" y="12575"/>
                </a:lnTo>
                <a:lnTo>
                  <a:pt x="6004" y="12621"/>
                </a:lnTo>
                <a:lnTo>
                  <a:pt x="5935" y="12667"/>
                </a:lnTo>
                <a:lnTo>
                  <a:pt x="5901" y="12728"/>
                </a:lnTo>
                <a:lnTo>
                  <a:pt x="5866" y="12789"/>
                </a:lnTo>
                <a:lnTo>
                  <a:pt x="5832" y="12850"/>
                </a:lnTo>
                <a:lnTo>
                  <a:pt x="5798" y="12911"/>
                </a:lnTo>
                <a:lnTo>
                  <a:pt x="5786" y="12987"/>
                </a:lnTo>
                <a:lnTo>
                  <a:pt x="5786" y="13032"/>
                </a:lnTo>
                <a:lnTo>
                  <a:pt x="5786" y="13078"/>
                </a:lnTo>
                <a:lnTo>
                  <a:pt x="5798" y="13109"/>
                </a:lnTo>
                <a:lnTo>
                  <a:pt x="5820" y="13139"/>
                </a:lnTo>
                <a:lnTo>
                  <a:pt x="5855" y="13139"/>
                </a:lnTo>
                <a:lnTo>
                  <a:pt x="5889" y="13124"/>
                </a:lnTo>
                <a:lnTo>
                  <a:pt x="5935" y="13078"/>
                </a:lnTo>
                <a:close/>
                <a:moveTo>
                  <a:pt x="16959" y="8901"/>
                </a:moveTo>
                <a:lnTo>
                  <a:pt x="16959" y="8901"/>
                </a:lnTo>
                <a:lnTo>
                  <a:pt x="17050" y="9039"/>
                </a:lnTo>
                <a:lnTo>
                  <a:pt x="17153" y="9161"/>
                </a:lnTo>
                <a:lnTo>
                  <a:pt x="17256" y="9252"/>
                </a:lnTo>
                <a:lnTo>
                  <a:pt x="17371" y="9359"/>
                </a:lnTo>
                <a:lnTo>
                  <a:pt x="17612" y="9527"/>
                </a:lnTo>
                <a:lnTo>
                  <a:pt x="17726" y="9618"/>
                </a:lnTo>
                <a:lnTo>
                  <a:pt x="17841" y="9725"/>
                </a:lnTo>
                <a:lnTo>
                  <a:pt x="17841" y="9725"/>
                </a:lnTo>
                <a:lnTo>
                  <a:pt x="17807" y="9908"/>
                </a:lnTo>
                <a:lnTo>
                  <a:pt x="17772" y="10106"/>
                </a:lnTo>
                <a:lnTo>
                  <a:pt x="17726" y="10319"/>
                </a:lnTo>
                <a:lnTo>
                  <a:pt x="17703" y="10517"/>
                </a:lnTo>
                <a:lnTo>
                  <a:pt x="17680" y="10746"/>
                </a:lnTo>
                <a:lnTo>
                  <a:pt x="17692" y="10837"/>
                </a:lnTo>
                <a:lnTo>
                  <a:pt x="17703" y="10929"/>
                </a:lnTo>
                <a:lnTo>
                  <a:pt x="17715" y="11020"/>
                </a:lnTo>
                <a:lnTo>
                  <a:pt x="17738" y="11112"/>
                </a:lnTo>
                <a:lnTo>
                  <a:pt x="17784" y="11203"/>
                </a:lnTo>
                <a:lnTo>
                  <a:pt x="17829" y="11279"/>
                </a:lnTo>
                <a:lnTo>
                  <a:pt x="17829" y="11279"/>
                </a:lnTo>
                <a:lnTo>
                  <a:pt x="17875" y="11356"/>
                </a:lnTo>
                <a:lnTo>
                  <a:pt x="17921" y="11447"/>
                </a:lnTo>
                <a:lnTo>
                  <a:pt x="17956" y="11539"/>
                </a:lnTo>
                <a:lnTo>
                  <a:pt x="17990" y="11600"/>
                </a:lnTo>
                <a:lnTo>
                  <a:pt x="18001" y="11676"/>
                </a:lnTo>
                <a:lnTo>
                  <a:pt x="18013" y="11737"/>
                </a:lnTo>
                <a:lnTo>
                  <a:pt x="18013" y="11798"/>
                </a:lnTo>
                <a:lnTo>
                  <a:pt x="18001" y="11859"/>
                </a:lnTo>
                <a:lnTo>
                  <a:pt x="17978" y="11905"/>
                </a:lnTo>
                <a:lnTo>
                  <a:pt x="17944" y="11966"/>
                </a:lnTo>
                <a:lnTo>
                  <a:pt x="17887" y="12057"/>
                </a:lnTo>
                <a:lnTo>
                  <a:pt x="17818" y="12164"/>
                </a:lnTo>
                <a:lnTo>
                  <a:pt x="17726" y="12255"/>
                </a:lnTo>
                <a:lnTo>
                  <a:pt x="17520" y="12423"/>
                </a:lnTo>
                <a:lnTo>
                  <a:pt x="17417" y="12514"/>
                </a:lnTo>
                <a:lnTo>
                  <a:pt x="17302" y="12590"/>
                </a:lnTo>
                <a:lnTo>
                  <a:pt x="17233" y="12682"/>
                </a:lnTo>
                <a:lnTo>
                  <a:pt x="17153" y="12804"/>
                </a:lnTo>
                <a:lnTo>
                  <a:pt x="17119" y="12834"/>
                </a:lnTo>
                <a:lnTo>
                  <a:pt x="17096" y="12911"/>
                </a:lnTo>
                <a:lnTo>
                  <a:pt x="17084" y="12956"/>
                </a:lnTo>
                <a:lnTo>
                  <a:pt x="17073" y="13017"/>
                </a:lnTo>
                <a:lnTo>
                  <a:pt x="17073" y="13017"/>
                </a:lnTo>
                <a:lnTo>
                  <a:pt x="17302" y="13032"/>
                </a:lnTo>
                <a:lnTo>
                  <a:pt x="17566" y="13002"/>
                </a:lnTo>
                <a:lnTo>
                  <a:pt x="17818" y="12971"/>
                </a:lnTo>
                <a:lnTo>
                  <a:pt x="18070" y="12911"/>
                </a:lnTo>
                <a:lnTo>
                  <a:pt x="18311" y="12819"/>
                </a:lnTo>
                <a:lnTo>
                  <a:pt x="18448" y="12789"/>
                </a:lnTo>
                <a:lnTo>
                  <a:pt x="18563" y="12728"/>
                </a:lnTo>
                <a:lnTo>
                  <a:pt x="18666" y="12651"/>
                </a:lnTo>
                <a:lnTo>
                  <a:pt x="18792" y="12575"/>
                </a:lnTo>
                <a:lnTo>
                  <a:pt x="18895" y="12514"/>
                </a:lnTo>
                <a:lnTo>
                  <a:pt x="19010" y="12423"/>
                </a:lnTo>
                <a:lnTo>
                  <a:pt x="19010" y="12423"/>
                </a:lnTo>
                <a:lnTo>
                  <a:pt x="18987" y="12499"/>
                </a:lnTo>
                <a:lnTo>
                  <a:pt x="18975" y="12590"/>
                </a:lnTo>
                <a:lnTo>
                  <a:pt x="18998" y="12682"/>
                </a:lnTo>
                <a:lnTo>
                  <a:pt x="19010" y="12728"/>
                </a:lnTo>
                <a:lnTo>
                  <a:pt x="19021" y="12743"/>
                </a:lnTo>
                <a:lnTo>
                  <a:pt x="19021" y="12743"/>
                </a:lnTo>
                <a:lnTo>
                  <a:pt x="19113" y="12743"/>
                </a:lnTo>
                <a:lnTo>
                  <a:pt x="19216" y="12743"/>
                </a:lnTo>
                <a:lnTo>
                  <a:pt x="19296" y="12773"/>
                </a:lnTo>
                <a:lnTo>
                  <a:pt x="19388" y="12819"/>
                </a:lnTo>
                <a:lnTo>
                  <a:pt x="19388" y="12819"/>
                </a:lnTo>
                <a:lnTo>
                  <a:pt x="19296" y="12590"/>
                </a:lnTo>
                <a:lnTo>
                  <a:pt x="19239" y="12514"/>
                </a:lnTo>
                <a:lnTo>
                  <a:pt x="19216" y="12453"/>
                </a:lnTo>
                <a:lnTo>
                  <a:pt x="19170" y="12392"/>
                </a:lnTo>
                <a:lnTo>
                  <a:pt x="19147" y="12377"/>
                </a:lnTo>
                <a:lnTo>
                  <a:pt x="19101" y="12347"/>
                </a:lnTo>
                <a:lnTo>
                  <a:pt x="19078" y="12331"/>
                </a:lnTo>
                <a:lnTo>
                  <a:pt x="19078" y="12331"/>
                </a:lnTo>
                <a:lnTo>
                  <a:pt x="19204" y="12225"/>
                </a:lnTo>
                <a:lnTo>
                  <a:pt x="19308" y="12072"/>
                </a:lnTo>
                <a:lnTo>
                  <a:pt x="19411" y="11920"/>
                </a:lnTo>
                <a:lnTo>
                  <a:pt x="19491" y="11752"/>
                </a:lnTo>
                <a:lnTo>
                  <a:pt x="19571" y="11554"/>
                </a:lnTo>
                <a:lnTo>
                  <a:pt x="19617" y="11356"/>
                </a:lnTo>
                <a:lnTo>
                  <a:pt x="19663" y="11157"/>
                </a:lnTo>
                <a:lnTo>
                  <a:pt x="19697" y="10929"/>
                </a:lnTo>
                <a:lnTo>
                  <a:pt x="19697" y="10929"/>
                </a:lnTo>
                <a:lnTo>
                  <a:pt x="19525" y="10944"/>
                </a:lnTo>
                <a:lnTo>
                  <a:pt x="19342" y="10990"/>
                </a:lnTo>
                <a:lnTo>
                  <a:pt x="19136" y="11020"/>
                </a:lnTo>
                <a:lnTo>
                  <a:pt x="18918" y="11066"/>
                </a:lnTo>
                <a:lnTo>
                  <a:pt x="18815" y="11081"/>
                </a:lnTo>
                <a:lnTo>
                  <a:pt x="18712" y="11081"/>
                </a:lnTo>
                <a:lnTo>
                  <a:pt x="18620" y="11081"/>
                </a:lnTo>
                <a:lnTo>
                  <a:pt x="18528" y="11066"/>
                </a:lnTo>
                <a:lnTo>
                  <a:pt x="18448" y="11020"/>
                </a:lnTo>
                <a:lnTo>
                  <a:pt x="18379" y="11005"/>
                </a:lnTo>
                <a:lnTo>
                  <a:pt x="18299" y="10929"/>
                </a:lnTo>
                <a:lnTo>
                  <a:pt x="18254" y="10853"/>
                </a:lnTo>
                <a:lnTo>
                  <a:pt x="18254" y="10853"/>
                </a:lnTo>
                <a:lnTo>
                  <a:pt x="18242" y="10746"/>
                </a:lnTo>
                <a:lnTo>
                  <a:pt x="18219" y="10624"/>
                </a:lnTo>
                <a:lnTo>
                  <a:pt x="18219" y="10517"/>
                </a:lnTo>
                <a:lnTo>
                  <a:pt x="18219" y="10426"/>
                </a:lnTo>
                <a:lnTo>
                  <a:pt x="18230" y="10334"/>
                </a:lnTo>
                <a:lnTo>
                  <a:pt x="18242" y="10258"/>
                </a:lnTo>
                <a:lnTo>
                  <a:pt x="18254" y="10182"/>
                </a:lnTo>
                <a:lnTo>
                  <a:pt x="18288" y="10091"/>
                </a:lnTo>
                <a:lnTo>
                  <a:pt x="18368" y="9953"/>
                </a:lnTo>
                <a:lnTo>
                  <a:pt x="18448" y="9801"/>
                </a:lnTo>
                <a:lnTo>
                  <a:pt x="18551" y="9633"/>
                </a:lnTo>
                <a:lnTo>
                  <a:pt x="18654" y="9450"/>
                </a:lnTo>
                <a:lnTo>
                  <a:pt x="18654" y="9450"/>
                </a:lnTo>
                <a:lnTo>
                  <a:pt x="18620" y="9344"/>
                </a:lnTo>
                <a:lnTo>
                  <a:pt x="18574" y="9252"/>
                </a:lnTo>
                <a:lnTo>
                  <a:pt x="18540" y="9161"/>
                </a:lnTo>
                <a:lnTo>
                  <a:pt x="18517" y="9054"/>
                </a:lnTo>
                <a:lnTo>
                  <a:pt x="18483" y="8962"/>
                </a:lnTo>
                <a:lnTo>
                  <a:pt x="18459" y="8856"/>
                </a:lnTo>
                <a:lnTo>
                  <a:pt x="18448" y="8734"/>
                </a:lnTo>
                <a:lnTo>
                  <a:pt x="18448" y="8627"/>
                </a:lnTo>
                <a:lnTo>
                  <a:pt x="18448" y="8627"/>
                </a:lnTo>
                <a:lnTo>
                  <a:pt x="18368" y="8657"/>
                </a:lnTo>
                <a:lnTo>
                  <a:pt x="18276" y="8688"/>
                </a:lnTo>
                <a:lnTo>
                  <a:pt x="18207" y="8703"/>
                </a:lnTo>
                <a:lnTo>
                  <a:pt x="18150" y="8764"/>
                </a:lnTo>
                <a:lnTo>
                  <a:pt x="18093" y="8795"/>
                </a:lnTo>
                <a:lnTo>
                  <a:pt x="18058" y="8856"/>
                </a:lnTo>
                <a:lnTo>
                  <a:pt x="18001" y="8962"/>
                </a:lnTo>
                <a:lnTo>
                  <a:pt x="17956" y="8978"/>
                </a:lnTo>
                <a:lnTo>
                  <a:pt x="17921" y="9023"/>
                </a:lnTo>
                <a:lnTo>
                  <a:pt x="17875" y="9039"/>
                </a:lnTo>
                <a:lnTo>
                  <a:pt x="17829" y="9054"/>
                </a:lnTo>
                <a:lnTo>
                  <a:pt x="17772" y="9054"/>
                </a:lnTo>
                <a:lnTo>
                  <a:pt x="17692" y="9039"/>
                </a:lnTo>
                <a:lnTo>
                  <a:pt x="17600" y="8993"/>
                </a:lnTo>
                <a:lnTo>
                  <a:pt x="17497" y="8947"/>
                </a:lnTo>
                <a:lnTo>
                  <a:pt x="17497" y="8947"/>
                </a:lnTo>
                <a:lnTo>
                  <a:pt x="17440" y="8871"/>
                </a:lnTo>
                <a:lnTo>
                  <a:pt x="17360" y="8825"/>
                </a:lnTo>
                <a:lnTo>
                  <a:pt x="17291" y="8795"/>
                </a:lnTo>
                <a:lnTo>
                  <a:pt x="17222" y="8779"/>
                </a:lnTo>
                <a:lnTo>
                  <a:pt x="17222" y="8779"/>
                </a:lnTo>
                <a:lnTo>
                  <a:pt x="17153" y="8779"/>
                </a:lnTo>
                <a:lnTo>
                  <a:pt x="17096" y="8810"/>
                </a:lnTo>
                <a:lnTo>
                  <a:pt x="17027" y="8856"/>
                </a:lnTo>
                <a:lnTo>
                  <a:pt x="16959" y="8901"/>
                </a:lnTo>
                <a:close/>
                <a:moveTo>
                  <a:pt x="19697" y="13017"/>
                </a:moveTo>
                <a:lnTo>
                  <a:pt x="19697" y="13017"/>
                </a:lnTo>
                <a:lnTo>
                  <a:pt x="19754" y="12804"/>
                </a:lnTo>
                <a:lnTo>
                  <a:pt x="19778" y="12697"/>
                </a:lnTo>
                <a:lnTo>
                  <a:pt x="19789" y="12606"/>
                </a:lnTo>
                <a:lnTo>
                  <a:pt x="19789" y="12530"/>
                </a:lnTo>
                <a:lnTo>
                  <a:pt x="19789" y="12453"/>
                </a:lnTo>
                <a:lnTo>
                  <a:pt x="19778" y="12377"/>
                </a:lnTo>
                <a:lnTo>
                  <a:pt x="19754" y="12316"/>
                </a:lnTo>
                <a:lnTo>
                  <a:pt x="19731" y="12255"/>
                </a:lnTo>
                <a:lnTo>
                  <a:pt x="19686" y="12209"/>
                </a:lnTo>
                <a:lnTo>
                  <a:pt x="19651" y="12164"/>
                </a:lnTo>
                <a:lnTo>
                  <a:pt x="19605" y="12133"/>
                </a:lnTo>
                <a:lnTo>
                  <a:pt x="19548" y="12103"/>
                </a:lnTo>
                <a:lnTo>
                  <a:pt x="19480" y="12088"/>
                </a:lnTo>
                <a:lnTo>
                  <a:pt x="19411" y="12072"/>
                </a:lnTo>
                <a:lnTo>
                  <a:pt x="19331" y="12072"/>
                </a:lnTo>
                <a:lnTo>
                  <a:pt x="19331" y="12072"/>
                </a:lnTo>
                <a:lnTo>
                  <a:pt x="19697" y="13017"/>
                </a:lnTo>
                <a:close/>
                <a:moveTo>
                  <a:pt x="18803" y="12850"/>
                </a:moveTo>
                <a:lnTo>
                  <a:pt x="18803" y="12850"/>
                </a:lnTo>
                <a:close/>
                <a:moveTo>
                  <a:pt x="16603" y="12880"/>
                </a:moveTo>
                <a:lnTo>
                  <a:pt x="16603" y="12880"/>
                </a:lnTo>
                <a:lnTo>
                  <a:pt x="16661" y="12880"/>
                </a:lnTo>
                <a:lnTo>
                  <a:pt x="16695" y="12865"/>
                </a:lnTo>
                <a:lnTo>
                  <a:pt x="16729" y="12834"/>
                </a:lnTo>
                <a:lnTo>
                  <a:pt x="16741" y="12819"/>
                </a:lnTo>
                <a:lnTo>
                  <a:pt x="16764" y="12789"/>
                </a:lnTo>
                <a:lnTo>
                  <a:pt x="16775" y="12743"/>
                </a:lnTo>
                <a:lnTo>
                  <a:pt x="16810" y="12606"/>
                </a:lnTo>
                <a:lnTo>
                  <a:pt x="16810" y="12606"/>
                </a:lnTo>
                <a:lnTo>
                  <a:pt x="16729" y="12575"/>
                </a:lnTo>
                <a:lnTo>
                  <a:pt x="16706" y="12560"/>
                </a:lnTo>
                <a:lnTo>
                  <a:pt x="16672" y="12560"/>
                </a:lnTo>
                <a:lnTo>
                  <a:pt x="16672" y="12560"/>
                </a:lnTo>
                <a:lnTo>
                  <a:pt x="16661" y="12560"/>
                </a:lnTo>
                <a:lnTo>
                  <a:pt x="16626" y="12575"/>
                </a:lnTo>
                <a:lnTo>
                  <a:pt x="16615" y="12590"/>
                </a:lnTo>
                <a:lnTo>
                  <a:pt x="16592" y="12636"/>
                </a:lnTo>
                <a:lnTo>
                  <a:pt x="16592" y="12743"/>
                </a:lnTo>
                <a:lnTo>
                  <a:pt x="16603" y="12880"/>
                </a:lnTo>
                <a:close/>
                <a:moveTo>
                  <a:pt x="12020" y="12880"/>
                </a:moveTo>
                <a:lnTo>
                  <a:pt x="12020" y="12880"/>
                </a:lnTo>
                <a:lnTo>
                  <a:pt x="11871" y="12682"/>
                </a:lnTo>
                <a:lnTo>
                  <a:pt x="11871" y="12682"/>
                </a:lnTo>
                <a:lnTo>
                  <a:pt x="11928" y="12804"/>
                </a:lnTo>
                <a:lnTo>
                  <a:pt x="11951" y="12819"/>
                </a:lnTo>
                <a:lnTo>
                  <a:pt x="12020" y="12880"/>
                </a:lnTo>
                <a:close/>
                <a:moveTo>
                  <a:pt x="6302" y="12880"/>
                </a:moveTo>
                <a:lnTo>
                  <a:pt x="6302" y="12880"/>
                </a:lnTo>
                <a:lnTo>
                  <a:pt x="6428" y="12850"/>
                </a:lnTo>
                <a:lnTo>
                  <a:pt x="6485" y="12834"/>
                </a:lnTo>
                <a:lnTo>
                  <a:pt x="6519" y="12819"/>
                </a:lnTo>
                <a:lnTo>
                  <a:pt x="6565" y="12819"/>
                </a:lnTo>
                <a:lnTo>
                  <a:pt x="6588" y="12758"/>
                </a:lnTo>
                <a:lnTo>
                  <a:pt x="6600" y="12697"/>
                </a:lnTo>
                <a:lnTo>
                  <a:pt x="6611" y="12606"/>
                </a:lnTo>
                <a:lnTo>
                  <a:pt x="6611" y="12606"/>
                </a:lnTo>
                <a:lnTo>
                  <a:pt x="6508" y="12575"/>
                </a:lnTo>
                <a:lnTo>
                  <a:pt x="6485" y="12560"/>
                </a:lnTo>
                <a:lnTo>
                  <a:pt x="6451" y="12545"/>
                </a:lnTo>
                <a:lnTo>
                  <a:pt x="6451" y="12545"/>
                </a:lnTo>
                <a:lnTo>
                  <a:pt x="6416" y="12560"/>
                </a:lnTo>
                <a:lnTo>
                  <a:pt x="6382" y="12575"/>
                </a:lnTo>
                <a:lnTo>
                  <a:pt x="6359" y="12575"/>
                </a:lnTo>
                <a:lnTo>
                  <a:pt x="6336" y="12621"/>
                </a:lnTo>
                <a:lnTo>
                  <a:pt x="6313" y="12667"/>
                </a:lnTo>
                <a:lnTo>
                  <a:pt x="6302" y="12743"/>
                </a:lnTo>
                <a:lnTo>
                  <a:pt x="6302" y="12880"/>
                </a:lnTo>
                <a:close/>
                <a:moveTo>
                  <a:pt x="6302" y="11127"/>
                </a:moveTo>
                <a:lnTo>
                  <a:pt x="6302" y="11127"/>
                </a:lnTo>
                <a:lnTo>
                  <a:pt x="6416" y="11203"/>
                </a:lnTo>
                <a:lnTo>
                  <a:pt x="6508" y="11279"/>
                </a:lnTo>
                <a:lnTo>
                  <a:pt x="6600" y="11401"/>
                </a:lnTo>
                <a:lnTo>
                  <a:pt x="6680" y="11523"/>
                </a:lnTo>
                <a:lnTo>
                  <a:pt x="6760" y="11630"/>
                </a:lnTo>
                <a:lnTo>
                  <a:pt x="6840" y="11767"/>
                </a:lnTo>
                <a:lnTo>
                  <a:pt x="6966" y="12027"/>
                </a:lnTo>
                <a:lnTo>
                  <a:pt x="7104" y="12286"/>
                </a:lnTo>
                <a:lnTo>
                  <a:pt x="7184" y="12392"/>
                </a:lnTo>
                <a:lnTo>
                  <a:pt x="7264" y="12514"/>
                </a:lnTo>
                <a:lnTo>
                  <a:pt x="7356" y="12606"/>
                </a:lnTo>
                <a:lnTo>
                  <a:pt x="7459" y="12697"/>
                </a:lnTo>
                <a:lnTo>
                  <a:pt x="7574" y="12773"/>
                </a:lnTo>
                <a:lnTo>
                  <a:pt x="7688" y="12819"/>
                </a:lnTo>
                <a:lnTo>
                  <a:pt x="7688" y="12819"/>
                </a:lnTo>
                <a:lnTo>
                  <a:pt x="7677" y="12651"/>
                </a:lnTo>
                <a:lnTo>
                  <a:pt x="7654" y="12499"/>
                </a:lnTo>
                <a:lnTo>
                  <a:pt x="7642" y="12392"/>
                </a:lnTo>
                <a:lnTo>
                  <a:pt x="7597" y="12301"/>
                </a:lnTo>
                <a:lnTo>
                  <a:pt x="7551" y="12225"/>
                </a:lnTo>
                <a:lnTo>
                  <a:pt x="7505" y="12164"/>
                </a:lnTo>
                <a:lnTo>
                  <a:pt x="7436" y="12088"/>
                </a:lnTo>
                <a:lnTo>
                  <a:pt x="7413" y="12057"/>
                </a:lnTo>
                <a:lnTo>
                  <a:pt x="7390" y="12057"/>
                </a:lnTo>
                <a:lnTo>
                  <a:pt x="7402" y="12042"/>
                </a:lnTo>
                <a:lnTo>
                  <a:pt x="7425" y="12011"/>
                </a:lnTo>
                <a:lnTo>
                  <a:pt x="7516" y="11935"/>
                </a:lnTo>
                <a:lnTo>
                  <a:pt x="7746" y="11798"/>
                </a:lnTo>
                <a:lnTo>
                  <a:pt x="7746" y="11798"/>
                </a:lnTo>
                <a:lnTo>
                  <a:pt x="7746" y="12286"/>
                </a:lnTo>
                <a:lnTo>
                  <a:pt x="7746" y="12286"/>
                </a:lnTo>
                <a:lnTo>
                  <a:pt x="7860" y="12316"/>
                </a:lnTo>
                <a:lnTo>
                  <a:pt x="7975" y="12331"/>
                </a:lnTo>
                <a:lnTo>
                  <a:pt x="8055" y="12347"/>
                </a:lnTo>
                <a:lnTo>
                  <a:pt x="8135" y="12331"/>
                </a:lnTo>
                <a:lnTo>
                  <a:pt x="8181" y="12316"/>
                </a:lnTo>
                <a:lnTo>
                  <a:pt x="8227" y="12286"/>
                </a:lnTo>
                <a:lnTo>
                  <a:pt x="8227" y="12225"/>
                </a:lnTo>
                <a:lnTo>
                  <a:pt x="8238" y="12164"/>
                </a:lnTo>
                <a:lnTo>
                  <a:pt x="8238" y="12088"/>
                </a:lnTo>
                <a:lnTo>
                  <a:pt x="8227" y="12011"/>
                </a:lnTo>
                <a:lnTo>
                  <a:pt x="8204" y="11920"/>
                </a:lnTo>
                <a:lnTo>
                  <a:pt x="8169" y="11813"/>
                </a:lnTo>
                <a:lnTo>
                  <a:pt x="8067" y="11615"/>
                </a:lnTo>
                <a:lnTo>
                  <a:pt x="7952" y="11371"/>
                </a:lnTo>
                <a:lnTo>
                  <a:pt x="7814" y="11127"/>
                </a:lnTo>
                <a:lnTo>
                  <a:pt x="7654" y="10883"/>
                </a:lnTo>
                <a:lnTo>
                  <a:pt x="7379" y="10426"/>
                </a:lnTo>
                <a:lnTo>
                  <a:pt x="7264" y="10243"/>
                </a:lnTo>
                <a:lnTo>
                  <a:pt x="7150" y="10060"/>
                </a:lnTo>
                <a:lnTo>
                  <a:pt x="7081" y="9923"/>
                </a:lnTo>
                <a:lnTo>
                  <a:pt x="7070" y="9877"/>
                </a:lnTo>
                <a:lnTo>
                  <a:pt x="7070" y="9831"/>
                </a:lnTo>
                <a:lnTo>
                  <a:pt x="7070" y="9831"/>
                </a:lnTo>
                <a:lnTo>
                  <a:pt x="7070" y="9725"/>
                </a:lnTo>
                <a:lnTo>
                  <a:pt x="7046" y="9649"/>
                </a:lnTo>
                <a:lnTo>
                  <a:pt x="7024" y="9588"/>
                </a:lnTo>
                <a:lnTo>
                  <a:pt x="7001" y="9572"/>
                </a:lnTo>
                <a:lnTo>
                  <a:pt x="7001" y="9557"/>
                </a:lnTo>
                <a:lnTo>
                  <a:pt x="7001" y="9557"/>
                </a:lnTo>
                <a:lnTo>
                  <a:pt x="6978" y="9572"/>
                </a:lnTo>
                <a:lnTo>
                  <a:pt x="6955" y="9588"/>
                </a:lnTo>
                <a:lnTo>
                  <a:pt x="6909" y="9649"/>
                </a:lnTo>
                <a:lnTo>
                  <a:pt x="6863" y="9725"/>
                </a:lnTo>
                <a:lnTo>
                  <a:pt x="6806" y="9816"/>
                </a:lnTo>
                <a:lnTo>
                  <a:pt x="6691" y="10060"/>
                </a:lnTo>
                <a:lnTo>
                  <a:pt x="6577" y="10334"/>
                </a:lnTo>
                <a:lnTo>
                  <a:pt x="6474" y="10624"/>
                </a:lnTo>
                <a:lnTo>
                  <a:pt x="6382" y="10883"/>
                </a:lnTo>
                <a:lnTo>
                  <a:pt x="6302" y="11127"/>
                </a:lnTo>
                <a:close/>
                <a:moveTo>
                  <a:pt x="4560" y="12819"/>
                </a:moveTo>
                <a:lnTo>
                  <a:pt x="4560" y="12819"/>
                </a:lnTo>
                <a:lnTo>
                  <a:pt x="4709" y="12606"/>
                </a:lnTo>
                <a:lnTo>
                  <a:pt x="4709" y="12606"/>
                </a:lnTo>
                <a:lnTo>
                  <a:pt x="5064" y="12484"/>
                </a:lnTo>
                <a:lnTo>
                  <a:pt x="5064" y="12484"/>
                </a:lnTo>
                <a:lnTo>
                  <a:pt x="4995" y="12423"/>
                </a:lnTo>
                <a:lnTo>
                  <a:pt x="4927" y="12392"/>
                </a:lnTo>
                <a:lnTo>
                  <a:pt x="4846" y="12362"/>
                </a:lnTo>
                <a:lnTo>
                  <a:pt x="4778" y="12347"/>
                </a:lnTo>
                <a:lnTo>
                  <a:pt x="4778" y="12347"/>
                </a:lnTo>
                <a:lnTo>
                  <a:pt x="4721" y="12362"/>
                </a:lnTo>
                <a:lnTo>
                  <a:pt x="4663" y="12392"/>
                </a:lnTo>
                <a:lnTo>
                  <a:pt x="4617" y="12423"/>
                </a:lnTo>
                <a:lnTo>
                  <a:pt x="4572" y="12484"/>
                </a:lnTo>
                <a:lnTo>
                  <a:pt x="4560" y="12545"/>
                </a:lnTo>
                <a:lnTo>
                  <a:pt x="4537" y="12606"/>
                </a:lnTo>
                <a:lnTo>
                  <a:pt x="4537" y="12712"/>
                </a:lnTo>
                <a:lnTo>
                  <a:pt x="4560" y="12819"/>
                </a:lnTo>
                <a:close/>
                <a:moveTo>
                  <a:pt x="847" y="12682"/>
                </a:moveTo>
                <a:lnTo>
                  <a:pt x="847" y="12682"/>
                </a:lnTo>
                <a:lnTo>
                  <a:pt x="847" y="12286"/>
                </a:lnTo>
                <a:lnTo>
                  <a:pt x="847" y="12286"/>
                </a:lnTo>
                <a:lnTo>
                  <a:pt x="813" y="12331"/>
                </a:lnTo>
                <a:lnTo>
                  <a:pt x="779" y="12392"/>
                </a:lnTo>
                <a:lnTo>
                  <a:pt x="767" y="12469"/>
                </a:lnTo>
                <a:lnTo>
                  <a:pt x="756" y="12530"/>
                </a:lnTo>
                <a:lnTo>
                  <a:pt x="756" y="12636"/>
                </a:lnTo>
                <a:lnTo>
                  <a:pt x="767" y="12743"/>
                </a:lnTo>
                <a:lnTo>
                  <a:pt x="790" y="12804"/>
                </a:lnTo>
                <a:lnTo>
                  <a:pt x="801" y="12819"/>
                </a:lnTo>
                <a:lnTo>
                  <a:pt x="813" y="12819"/>
                </a:lnTo>
                <a:lnTo>
                  <a:pt x="824" y="12819"/>
                </a:lnTo>
                <a:lnTo>
                  <a:pt x="836" y="12789"/>
                </a:lnTo>
                <a:lnTo>
                  <a:pt x="847" y="12682"/>
                </a:lnTo>
                <a:close/>
                <a:moveTo>
                  <a:pt x="5328" y="12743"/>
                </a:moveTo>
                <a:lnTo>
                  <a:pt x="5328" y="12743"/>
                </a:lnTo>
                <a:lnTo>
                  <a:pt x="5442" y="12743"/>
                </a:lnTo>
                <a:lnTo>
                  <a:pt x="5557" y="12743"/>
                </a:lnTo>
                <a:lnTo>
                  <a:pt x="5649" y="12712"/>
                </a:lnTo>
                <a:lnTo>
                  <a:pt x="5717" y="12651"/>
                </a:lnTo>
                <a:lnTo>
                  <a:pt x="5775" y="12606"/>
                </a:lnTo>
                <a:lnTo>
                  <a:pt x="5809" y="12545"/>
                </a:lnTo>
                <a:lnTo>
                  <a:pt x="5832" y="12453"/>
                </a:lnTo>
                <a:lnTo>
                  <a:pt x="5843" y="12347"/>
                </a:lnTo>
                <a:lnTo>
                  <a:pt x="5843" y="12347"/>
                </a:lnTo>
                <a:lnTo>
                  <a:pt x="5752" y="12362"/>
                </a:lnTo>
                <a:lnTo>
                  <a:pt x="5649" y="12408"/>
                </a:lnTo>
                <a:lnTo>
                  <a:pt x="5534" y="12484"/>
                </a:lnTo>
                <a:lnTo>
                  <a:pt x="5431" y="12560"/>
                </a:lnTo>
                <a:lnTo>
                  <a:pt x="5351" y="12621"/>
                </a:lnTo>
                <a:lnTo>
                  <a:pt x="5293" y="12682"/>
                </a:lnTo>
                <a:lnTo>
                  <a:pt x="5282" y="12712"/>
                </a:lnTo>
                <a:lnTo>
                  <a:pt x="5282" y="12743"/>
                </a:lnTo>
                <a:lnTo>
                  <a:pt x="5293" y="12743"/>
                </a:lnTo>
                <a:lnTo>
                  <a:pt x="5328" y="12743"/>
                </a:lnTo>
                <a:close/>
                <a:moveTo>
                  <a:pt x="996" y="12743"/>
                </a:moveTo>
                <a:lnTo>
                  <a:pt x="996" y="12743"/>
                </a:lnTo>
                <a:lnTo>
                  <a:pt x="1180" y="12606"/>
                </a:lnTo>
                <a:lnTo>
                  <a:pt x="1317" y="12499"/>
                </a:lnTo>
                <a:lnTo>
                  <a:pt x="1432" y="12392"/>
                </a:lnTo>
                <a:lnTo>
                  <a:pt x="1489" y="12316"/>
                </a:lnTo>
                <a:lnTo>
                  <a:pt x="1500" y="12301"/>
                </a:lnTo>
                <a:lnTo>
                  <a:pt x="1512" y="12270"/>
                </a:lnTo>
                <a:lnTo>
                  <a:pt x="1512" y="12240"/>
                </a:lnTo>
                <a:lnTo>
                  <a:pt x="1489" y="12225"/>
                </a:lnTo>
                <a:lnTo>
                  <a:pt x="1477" y="12225"/>
                </a:lnTo>
                <a:lnTo>
                  <a:pt x="1455" y="12209"/>
                </a:lnTo>
                <a:lnTo>
                  <a:pt x="1351" y="12225"/>
                </a:lnTo>
                <a:lnTo>
                  <a:pt x="1351" y="12225"/>
                </a:lnTo>
                <a:lnTo>
                  <a:pt x="1248" y="12149"/>
                </a:lnTo>
                <a:lnTo>
                  <a:pt x="1203" y="12133"/>
                </a:lnTo>
                <a:lnTo>
                  <a:pt x="1145" y="12133"/>
                </a:lnTo>
                <a:lnTo>
                  <a:pt x="1145" y="12133"/>
                </a:lnTo>
                <a:lnTo>
                  <a:pt x="1088" y="12133"/>
                </a:lnTo>
                <a:lnTo>
                  <a:pt x="1065" y="12164"/>
                </a:lnTo>
                <a:lnTo>
                  <a:pt x="1019" y="12225"/>
                </a:lnTo>
                <a:lnTo>
                  <a:pt x="996" y="12301"/>
                </a:lnTo>
                <a:lnTo>
                  <a:pt x="985" y="12377"/>
                </a:lnTo>
                <a:lnTo>
                  <a:pt x="973" y="12484"/>
                </a:lnTo>
                <a:lnTo>
                  <a:pt x="985" y="12606"/>
                </a:lnTo>
                <a:lnTo>
                  <a:pt x="996" y="12743"/>
                </a:lnTo>
                <a:close/>
                <a:moveTo>
                  <a:pt x="3700" y="12728"/>
                </a:moveTo>
                <a:lnTo>
                  <a:pt x="3700" y="12728"/>
                </a:lnTo>
                <a:lnTo>
                  <a:pt x="5431" y="12072"/>
                </a:lnTo>
                <a:lnTo>
                  <a:pt x="5431" y="12072"/>
                </a:lnTo>
                <a:lnTo>
                  <a:pt x="5282" y="12057"/>
                </a:lnTo>
                <a:lnTo>
                  <a:pt x="5282" y="12057"/>
                </a:lnTo>
                <a:lnTo>
                  <a:pt x="5179" y="12057"/>
                </a:lnTo>
                <a:lnTo>
                  <a:pt x="5076" y="12072"/>
                </a:lnTo>
                <a:lnTo>
                  <a:pt x="4881" y="12133"/>
                </a:lnTo>
                <a:lnTo>
                  <a:pt x="4674" y="12209"/>
                </a:lnTo>
                <a:lnTo>
                  <a:pt x="4457" y="12316"/>
                </a:lnTo>
                <a:lnTo>
                  <a:pt x="4262" y="12408"/>
                </a:lnTo>
                <a:lnTo>
                  <a:pt x="4056" y="12530"/>
                </a:lnTo>
                <a:lnTo>
                  <a:pt x="3700" y="12728"/>
                </a:lnTo>
                <a:close/>
                <a:moveTo>
                  <a:pt x="1500" y="12606"/>
                </a:moveTo>
                <a:lnTo>
                  <a:pt x="1500" y="12606"/>
                </a:lnTo>
                <a:lnTo>
                  <a:pt x="1695" y="12651"/>
                </a:lnTo>
                <a:lnTo>
                  <a:pt x="1856" y="12667"/>
                </a:lnTo>
                <a:lnTo>
                  <a:pt x="1970" y="12667"/>
                </a:lnTo>
                <a:lnTo>
                  <a:pt x="2051" y="12651"/>
                </a:lnTo>
                <a:lnTo>
                  <a:pt x="2062" y="12651"/>
                </a:lnTo>
                <a:lnTo>
                  <a:pt x="2073" y="12621"/>
                </a:lnTo>
                <a:lnTo>
                  <a:pt x="2085" y="12590"/>
                </a:lnTo>
                <a:lnTo>
                  <a:pt x="2073" y="12575"/>
                </a:lnTo>
                <a:lnTo>
                  <a:pt x="2062" y="12545"/>
                </a:lnTo>
                <a:lnTo>
                  <a:pt x="2051" y="12499"/>
                </a:lnTo>
                <a:lnTo>
                  <a:pt x="1970" y="12408"/>
                </a:lnTo>
                <a:lnTo>
                  <a:pt x="1970" y="12408"/>
                </a:lnTo>
                <a:lnTo>
                  <a:pt x="1913" y="12316"/>
                </a:lnTo>
                <a:lnTo>
                  <a:pt x="1856" y="12225"/>
                </a:lnTo>
                <a:lnTo>
                  <a:pt x="1810" y="12179"/>
                </a:lnTo>
                <a:lnTo>
                  <a:pt x="1775" y="12164"/>
                </a:lnTo>
                <a:lnTo>
                  <a:pt x="1775" y="12164"/>
                </a:lnTo>
                <a:lnTo>
                  <a:pt x="1730" y="12179"/>
                </a:lnTo>
                <a:lnTo>
                  <a:pt x="1707" y="12209"/>
                </a:lnTo>
                <a:lnTo>
                  <a:pt x="1672" y="12240"/>
                </a:lnTo>
                <a:lnTo>
                  <a:pt x="1649" y="12301"/>
                </a:lnTo>
                <a:lnTo>
                  <a:pt x="1581" y="12438"/>
                </a:lnTo>
                <a:lnTo>
                  <a:pt x="1500" y="12606"/>
                </a:lnTo>
                <a:close/>
                <a:moveTo>
                  <a:pt x="3219" y="12560"/>
                </a:moveTo>
                <a:lnTo>
                  <a:pt x="3219" y="12560"/>
                </a:lnTo>
                <a:lnTo>
                  <a:pt x="3219" y="12453"/>
                </a:lnTo>
                <a:lnTo>
                  <a:pt x="3219" y="12362"/>
                </a:lnTo>
                <a:lnTo>
                  <a:pt x="3254" y="12301"/>
                </a:lnTo>
                <a:lnTo>
                  <a:pt x="3288" y="12225"/>
                </a:lnTo>
                <a:lnTo>
                  <a:pt x="3345" y="12179"/>
                </a:lnTo>
                <a:lnTo>
                  <a:pt x="3403" y="12133"/>
                </a:lnTo>
                <a:lnTo>
                  <a:pt x="3448" y="12103"/>
                </a:lnTo>
                <a:lnTo>
                  <a:pt x="3529" y="12057"/>
                </a:lnTo>
                <a:lnTo>
                  <a:pt x="3666" y="12042"/>
                </a:lnTo>
                <a:lnTo>
                  <a:pt x="3827" y="12011"/>
                </a:lnTo>
                <a:lnTo>
                  <a:pt x="3987" y="11981"/>
                </a:lnTo>
                <a:lnTo>
                  <a:pt x="4147" y="11950"/>
                </a:lnTo>
                <a:lnTo>
                  <a:pt x="4147" y="11950"/>
                </a:lnTo>
                <a:lnTo>
                  <a:pt x="4136" y="11859"/>
                </a:lnTo>
                <a:lnTo>
                  <a:pt x="4113" y="11798"/>
                </a:lnTo>
                <a:lnTo>
                  <a:pt x="4090" y="11722"/>
                </a:lnTo>
                <a:lnTo>
                  <a:pt x="4067" y="11661"/>
                </a:lnTo>
                <a:lnTo>
                  <a:pt x="3987" y="11539"/>
                </a:lnTo>
                <a:lnTo>
                  <a:pt x="3918" y="11386"/>
                </a:lnTo>
                <a:lnTo>
                  <a:pt x="3884" y="11310"/>
                </a:lnTo>
                <a:lnTo>
                  <a:pt x="3861" y="11249"/>
                </a:lnTo>
                <a:lnTo>
                  <a:pt x="3849" y="11157"/>
                </a:lnTo>
                <a:lnTo>
                  <a:pt x="3838" y="11051"/>
                </a:lnTo>
                <a:lnTo>
                  <a:pt x="3849" y="10959"/>
                </a:lnTo>
                <a:lnTo>
                  <a:pt x="3861" y="10837"/>
                </a:lnTo>
                <a:lnTo>
                  <a:pt x="3907" y="10731"/>
                </a:lnTo>
                <a:lnTo>
                  <a:pt x="3964" y="10578"/>
                </a:lnTo>
                <a:lnTo>
                  <a:pt x="3964" y="10578"/>
                </a:lnTo>
                <a:lnTo>
                  <a:pt x="4021" y="10441"/>
                </a:lnTo>
                <a:lnTo>
                  <a:pt x="4102" y="10304"/>
                </a:lnTo>
                <a:lnTo>
                  <a:pt x="4239" y="10045"/>
                </a:lnTo>
                <a:lnTo>
                  <a:pt x="4308" y="9908"/>
                </a:lnTo>
                <a:lnTo>
                  <a:pt x="4365" y="9755"/>
                </a:lnTo>
                <a:lnTo>
                  <a:pt x="4411" y="9618"/>
                </a:lnTo>
                <a:lnTo>
                  <a:pt x="4445" y="9450"/>
                </a:lnTo>
                <a:lnTo>
                  <a:pt x="4445" y="9450"/>
                </a:lnTo>
                <a:lnTo>
                  <a:pt x="4251" y="9527"/>
                </a:lnTo>
                <a:lnTo>
                  <a:pt x="4102" y="9588"/>
                </a:lnTo>
                <a:lnTo>
                  <a:pt x="3987" y="9649"/>
                </a:lnTo>
                <a:lnTo>
                  <a:pt x="3930" y="9649"/>
                </a:lnTo>
                <a:lnTo>
                  <a:pt x="3873" y="9649"/>
                </a:lnTo>
                <a:lnTo>
                  <a:pt x="3827" y="9649"/>
                </a:lnTo>
                <a:lnTo>
                  <a:pt x="3792" y="9633"/>
                </a:lnTo>
                <a:lnTo>
                  <a:pt x="3724" y="9588"/>
                </a:lnTo>
                <a:lnTo>
                  <a:pt x="3666" y="9557"/>
                </a:lnTo>
                <a:lnTo>
                  <a:pt x="3540" y="9435"/>
                </a:lnTo>
                <a:lnTo>
                  <a:pt x="3357" y="9222"/>
                </a:lnTo>
                <a:lnTo>
                  <a:pt x="3357" y="9222"/>
                </a:lnTo>
                <a:lnTo>
                  <a:pt x="3242" y="9328"/>
                </a:lnTo>
                <a:lnTo>
                  <a:pt x="3116" y="9420"/>
                </a:lnTo>
                <a:lnTo>
                  <a:pt x="2853" y="9572"/>
                </a:lnTo>
                <a:lnTo>
                  <a:pt x="2612" y="9740"/>
                </a:lnTo>
                <a:lnTo>
                  <a:pt x="2486" y="9816"/>
                </a:lnTo>
                <a:lnTo>
                  <a:pt x="2360" y="9908"/>
                </a:lnTo>
                <a:lnTo>
                  <a:pt x="2245" y="9999"/>
                </a:lnTo>
                <a:lnTo>
                  <a:pt x="2142" y="10091"/>
                </a:lnTo>
                <a:lnTo>
                  <a:pt x="2062" y="10228"/>
                </a:lnTo>
                <a:lnTo>
                  <a:pt x="1970" y="10350"/>
                </a:lnTo>
                <a:lnTo>
                  <a:pt x="1890" y="10517"/>
                </a:lnTo>
                <a:lnTo>
                  <a:pt x="1844" y="10670"/>
                </a:lnTo>
                <a:lnTo>
                  <a:pt x="1787" y="10837"/>
                </a:lnTo>
                <a:lnTo>
                  <a:pt x="1764" y="11051"/>
                </a:lnTo>
                <a:lnTo>
                  <a:pt x="1764" y="11051"/>
                </a:lnTo>
                <a:lnTo>
                  <a:pt x="1856" y="11005"/>
                </a:lnTo>
                <a:lnTo>
                  <a:pt x="1913" y="10959"/>
                </a:lnTo>
                <a:lnTo>
                  <a:pt x="1936" y="10959"/>
                </a:lnTo>
                <a:lnTo>
                  <a:pt x="1959" y="10975"/>
                </a:lnTo>
                <a:lnTo>
                  <a:pt x="1993" y="10990"/>
                </a:lnTo>
                <a:lnTo>
                  <a:pt x="1993" y="11005"/>
                </a:lnTo>
                <a:lnTo>
                  <a:pt x="2039" y="11051"/>
                </a:lnTo>
                <a:lnTo>
                  <a:pt x="2062" y="11127"/>
                </a:lnTo>
                <a:lnTo>
                  <a:pt x="2085" y="11340"/>
                </a:lnTo>
                <a:lnTo>
                  <a:pt x="2131" y="11569"/>
                </a:lnTo>
                <a:lnTo>
                  <a:pt x="2154" y="11706"/>
                </a:lnTo>
                <a:lnTo>
                  <a:pt x="2188" y="11798"/>
                </a:lnTo>
                <a:lnTo>
                  <a:pt x="2234" y="11920"/>
                </a:lnTo>
                <a:lnTo>
                  <a:pt x="2280" y="12011"/>
                </a:lnTo>
                <a:lnTo>
                  <a:pt x="2360" y="12088"/>
                </a:lnTo>
                <a:lnTo>
                  <a:pt x="2394" y="12118"/>
                </a:lnTo>
                <a:lnTo>
                  <a:pt x="2440" y="12133"/>
                </a:lnTo>
                <a:lnTo>
                  <a:pt x="2440" y="12133"/>
                </a:lnTo>
                <a:lnTo>
                  <a:pt x="2463" y="12072"/>
                </a:lnTo>
                <a:lnTo>
                  <a:pt x="2497" y="12042"/>
                </a:lnTo>
                <a:lnTo>
                  <a:pt x="2543" y="12011"/>
                </a:lnTo>
                <a:lnTo>
                  <a:pt x="2578" y="12011"/>
                </a:lnTo>
                <a:lnTo>
                  <a:pt x="2578" y="12011"/>
                </a:lnTo>
                <a:lnTo>
                  <a:pt x="2612" y="12011"/>
                </a:lnTo>
                <a:lnTo>
                  <a:pt x="2635" y="12027"/>
                </a:lnTo>
                <a:lnTo>
                  <a:pt x="2715" y="12072"/>
                </a:lnTo>
                <a:lnTo>
                  <a:pt x="2784" y="12149"/>
                </a:lnTo>
                <a:lnTo>
                  <a:pt x="2853" y="12240"/>
                </a:lnTo>
                <a:lnTo>
                  <a:pt x="2944" y="12331"/>
                </a:lnTo>
                <a:lnTo>
                  <a:pt x="3024" y="12423"/>
                </a:lnTo>
                <a:lnTo>
                  <a:pt x="3116" y="12499"/>
                </a:lnTo>
                <a:lnTo>
                  <a:pt x="3162" y="12530"/>
                </a:lnTo>
                <a:lnTo>
                  <a:pt x="3219" y="12560"/>
                </a:lnTo>
                <a:close/>
                <a:moveTo>
                  <a:pt x="15423" y="12286"/>
                </a:moveTo>
                <a:lnTo>
                  <a:pt x="15423" y="12286"/>
                </a:lnTo>
                <a:lnTo>
                  <a:pt x="15515" y="12362"/>
                </a:lnTo>
                <a:lnTo>
                  <a:pt x="15606" y="12438"/>
                </a:lnTo>
                <a:lnTo>
                  <a:pt x="15721" y="12484"/>
                </a:lnTo>
                <a:lnTo>
                  <a:pt x="15824" y="12484"/>
                </a:lnTo>
                <a:lnTo>
                  <a:pt x="15824" y="12484"/>
                </a:lnTo>
                <a:lnTo>
                  <a:pt x="15732" y="12133"/>
                </a:lnTo>
                <a:lnTo>
                  <a:pt x="15732" y="12133"/>
                </a:lnTo>
                <a:lnTo>
                  <a:pt x="15423" y="12286"/>
                </a:lnTo>
                <a:close/>
                <a:moveTo>
                  <a:pt x="17016" y="12347"/>
                </a:moveTo>
                <a:lnTo>
                  <a:pt x="17016" y="12347"/>
                </a:lnTo>
                <a:lnTo>
                  <a:pt x="17142" y="12270"/>
                </a:lnTo>
                <a:lnTo>
                  <a:pt x="17233" y="12179"/>
                </a:lnTo>
                <a:lnTo>
                  <a:pt x="17302" y="12103"/>
                </a:lnTo>
                <a:lnTo>
                  <a:pt x="17371" y="12042"/>
                </a:lnTo>
                <a:lnTo>
                  <a:pt x="17405" y="11966"/>
                </a:lnTo>
                <a:lnTo>
                  <a:pt x="17428" y="11905"/>
                </a:lnTo>
                <a:lnTo>
                  <a:pt x="17428" y="11844"/>
                </a:lnTo>
                <a:lnTo>
                  <a:pt x="17405" y="11798"/>
                </a:lnTo>
                <a:lnTo>
                  <a:pt x="17371" y="11752"/>
                </a:lnTo>
                <a:lnTo>
                  <a:pt x="17325" y="11706"/>
                </a:lnTo>
                <a:lnTo>
                  <a:pt x="17268" y="11645"/>
                </a:lnTo>
                <a:lnTo>
                  <a:pt x="17199" y="11615"/>
                </a:lnTo>
                <a:lnTo>
                  <a:pt x="17016" y="11539"/>
                </a:lnTo>
                <a:lnTo>
                  <a:pt x="16810" y="11462"/>
                </a:lnTo>
                <a:lnTo>
                  <a:pt x="16810" y="11462"/>
                </a:lnTo>
                <a:lnTo>
                  <a:pt x="17016" y="12347"/>
                </a:lnTo>
                <a:close/>
                <a:moveTo>
                  <a:pt x="6245" y="12286"/>
                </a:moveTo>
                <a:lnTo>
                  <a:pt x="6245" y="12286"/>
                </a:lnTo>
                <a:lnTo>
                  <a:pt x="6187" y="12225"/>
                </a:lnTo>
                <a:lnTo>
                  <a:pt x="6141" y="12194"/>
                </a:lnTo>
                <a:lnTo>
                  <a:pt x="6096" y="12164"/>
                </a:lnTo>
                <a:lnTo>
                  <a:pt x="5992" y="12133"/>
                </a:lnTo>
                <a:lnTo>
                  <a:pt x="5992" y="12133"/>
                </a:lnTo>
                <a:lnTo>
                  <a:pt x="6245" y="12286"/>
                </a:lnTo>
                <a:close/>
                <a:moveTo>
                  <a:pt x="527" y="12286"/>
                </a:moveTo>
                <a:lnTo>
                  <a:pt x="527" y="12286"/>
                </a:lnTo>
                <a:lnTo>
                  <a:pt x="733" y="12133"/>
                </a:lnTo>
                <a:lnTo>
                  <a:pt x="733" y="12133"/>
                </a:lnTo>
                <a:lnTo>
                  <a:pt x="1054" y="11600"/>
                </a:lnTo>
                <a:lnTo>
                  <a:pt x="1054" y="11600"/>
                </a:lnTo>
                <a:lnTo>
                  <a:pt x="950" y="11569"/>
                </a:lnTo>
                <a:lnTo>
                  <a:pt x="870" y="11569"/>
                </a:lnTo>
                <a:lnTo>
                  <a:pt x="870" y="11569"/>
                </a:lnTo>
                <a:lnTo>
                  <a:pt x="790" y="11569"/>
                </a:lnTo>
                <a:lnTo>
                  <a:pt x="710" y="11615"/>
                </a:lnTo>
                <a:lnTo>
                  <a:pt x="664" y="11676"/>
                </a:lnTo>
                <a:lnTo>
                  <a:pt x="607" y="11752"/>
                </a:lnTo>
                <a:lnTo>
                  <a:pt x="561" y="11844"/>
                </a:lnTo>
                <a:lnTo>
                  <a:pt x="549" y="11966"/>
                </a:lnTo>
                <a:lnTo>
                  <a:pt x="527" y="12118"/>
                </a:lnTo>
                <a:lnTo>
                  <a:pt x="527" y="12286"/>
                </a:lnTo>
                <a:close/>
                <a:moveTo>
                  <a:pt x="5935" y="12225"/>
                </a:moveTo>
                <a:lnTo>
                  <a:pt x="5935" y="12225"/>
                </a:lnTo>
                <a:lnTo>
                  <a:pt x="5866" y="12133"/>
                </a:lnTo>
                <a:lnTo>
                  <a:pt x="5820" y="12118"/>
                </a:lnTo>
                <a:lnTo>
                  <a:pt x="5775" y="12103"/>
                </a:lnTo>
                <a:lnTo>
                  <a:pt x="5671" y="12072"/>
                </a:lnTo>
                <a:lnTo>
                  <a:pt x="5522" y="12072"/>
                </a:lnTo>
                <a:lnTo>
                  <a:pt x="5522" y="12072"/>
                </a:lnTo>
                <a:lnTo>
                  <a:pt x="5614" y="12133"/>
                </a:lnTo>
                <a:lnTo>
                  <a:pt x="5706" y="12179"/>
                </a:lnTo>
                <a:lnTo>
                  <a:pt x="5786" y="12209"/>
                </a:lnTo>
                <a:lnTo>
                  <a:pt x="5935" y="12225"/>
                </a:lnTo>
                <a:close/>
                <a:moveTo>
                  <a:pt x="16397" y="12072"/>
                </a:moveTo>
                <a:lnTo>
                  <a:pt x="16397" y="12072"/>
                </a:lnTo>
                <a:lnTo>
                  <a:pt x="16454" y="12057"/>
                </a:lnTo>
                <a:lnTo>
                  <a:pt x="16500" y="12057"/>
                </a:lnTo>
                <a:lnTo>
                  <a:pt x="16523" y="12027"/>
                </a:lnTo>
                <a:lnTo>
                  <a:pt x="16534" y="11981"/>
                </a:lnTo>
                <a:lnTo>
                  <a:pt x="16534" y="11935"/>
                </a:lnTo>
                <a:lnTo>
                  <a:pt x="16523" y="11874"/>
                </a:lnTo>
                <a:lnTo>
                  <a:pt x="16500" y="11844"/>
                </a:lnTo>
                <a:lnTo>
                  <a:pt x="16443" y="11798"/>
                </a:lnTo>
                <a:lnTo>
                  <a:pt x="16443" y="11798"/>
                </a:lnTo>
                <a:lnTo>
                  <a:pt x="16397" y="12072"/>
                </a:lnTo>
                <a:close/>
                <a:moveTo>
                  <a:pt x="1970" y="12072"/>
                </a:moveTo>
                <a:lnTo>
                  <a:pt x="1970" y="12072"/>
                </a:lnTo>
                <a:lnTo>
                  <a:pt x="1764" y="11798"/>
                </a:lnTo>
                <a:lnTo>
                  <a:pt x="1764" y="11798"/>
                </a:lnTo>
                <a:lnTo>
                  <a:pt x="1810" y="11920"/>
                </a:lnTo>
                <a:lnTo>
                  <a:pt x="1844" y="11981"/>
                </a:lnTo>
                <a:lnTo>
                  <a:pt x="1878" y="12027"/>
                </a:lnTo>
                <a:lnTo>
                  <a:pt x="1970" y="12072"/>
                </a:lnTo>
                <a:close/>
                <a:moveTo>
                  <a:pt x="15366" y="11600"/>
                </a:moveTo>
                <a:lnTo>
                  <a:pt x="15366" y="11600"/>
                </a:lnTo>
                <a:lnTo>
                  <a:pt x="15262" y="11554"/>
                </a:lnTo>
                <a:lnTo>
                  <a:pt x="15171" y="11508"/>
                </a:lnTo>
                <a:lnTo>
                  <a:pt x="15091" y="11432"/>
                </a:lnTo>
                <a:lnTo>
                  <a:pt x="15010" y="11325"/>
                </a:lnTo>
                <a:lnTo>
                  <a:pt x="15010" y="11325"/>
                </a:lnTo>
                <a:lnTo>
                  <a:pt x="15159" y="11767"/>
                </a:lnTo>
                <a:lnTo>
                  <a:pt x="15217" y="11920"/>
                </a:lnTo>
                <a:lnTo>
                  <a:pt x="15274" y="12027"/>
                </a:lnTo>
                <a:lnTo>
                  <a:pt x="15297" y="12057"/>
                </a:lnTo>
                <a:lnTo>
                  <a:pt x="15308" y="12057"/>
                </a:lnTo>
                <a:lnTo>
                  <a:pt x="15331" y="12057"/>
                </a:lnTo>
                <a:lnTo>
                  <a:pt x="15343" y="12011"/>
                </a:lnTo>
                <a:lnTo>
                  <a:pt x="15366" y="11950"/>
                </a:lnTo>
                <a:lnTo>
                  <a:pt x="15366" y="11859"/>
                </a:lnTo>
                <a:lnTo>
                  <a:pt x="15366" y="11600"/>
                </a:lnTo>
                <a:close/>
                <a:moveTo>
                  <a:pt x="6496" y="12011"/>
                </a:moveTo>
                <a:lnTo>
                  <a:pt x="6496" y="12011"/>
                </a:lnTo>
                <a:lnTo>
                  <a:pt x="6531" y="11966"/>
                </a:lnTo>
                <a:lnTo>
                  <a:pt x="6543" y="11950"/>
                </a:lnTo>
                <a:lnTo>
                  <a:pt x="6531" y="11935"/>
                </a:lnTo>
                <a:lnTo>
                  <a:pt x="6496" y="11874"/>
                </a:lnTo>
                <a:lnTo>
                  <a:pt x="6496" y="11874"/>
                </a:lnTo>
                <a:lnTo>
                  <a:pt x="6496" y="12011"/>
                </a:lnTo>
                <a:close/>
                <a:moveTo>
                  <a:pt x="1145" y="11950"/>
                </a:moveTo>
                <a:lnTo>
                  <a:pt x="1145" y="11950"/>
                </a:lnTo>
                <a:lnTo>
                  <a:pt x="1260" y="11950"/>
                </a:lnTo>
                <a:lnTo>
                  <a:pt x="1294" y="11950"/>
                </a:lnTo>
                <a:lnTo>
                  <a:pt x="1351" y="11935"/>
                </a:lnTo>
                <a:lnTo>
                  <a:pt x="1397" y="11905"/>
                </a:lnTo>
                <a:lnTo>
                  <a:pt x="1432" y="11874"/>
                </a:lnTo>
                <a:lnTo>
                  <a:pt x="1455" y="11813"/>
                </a:lnTo>
                <a:lnTo>
                  <a:pt x="1466" y="11737"/>
                </a:lnTo>
                <a:lnTo>
                  <a:pt x="1466" y="11737"/>
                </a:lnTo>
                <a:lnTo>
                  <a:pt x="1306" y="11600"/>
                </a:lnTo>
                <a:lnTo>
                  <a:pt x="1260" y="11554"/>
                </a:lnTo>
                <a:lnTo>
                  <a:pt x="1214" y="11554"/>
                </a:lnTo>
                <a:lnTo>
                  <a:pt x="1214" y="11554"/>
                </a:lnTo>
                <a:lnTo>
                  <a:pt x="1203" y="11554"/>
                </a:lnTo>
                <a:lnTo>
                  <a:pt x="1180" y="11569"/>
                </a:lnTo>
                <a:lnTo>
                  <a:pt x="1168" y="11615"/>
                </a:lnTo>
                <a:lnTo>
                  <a:pt x="1157" y="11645"/>
                </a:lnTo>
                <a:lnTo>
                  <a:pt x="1145" y="11783"/>
                </a:lnTo>
                <a:lnTo>
                  <a:pt x="1145" y="11950"/>
                </a:lnTo>
                <a:close/>
                <a:moveTo>
                  <a:pt x="17680" y="11950"/>
                </a:moveTo>
                <a:lnTo>
                  <a:pt x="17680" y="11950"/>
                </a:lnTo>
                <a:lnTo>
                  <a:pt x="17761" y="11874"/>
                </a:lnTo>
                <a:lnTo>
                  <a:pt x="17818" y="11798"/>
                </a:lnTo>
                <a:lnTo>
                  <a:pt x="17852" y="11722"/>
                </a:lnTo>
                <a:lnTo>
                  <a:pt x="17852" y="11691"/>
                </a:lnTo>
                <a:lnTo>
                  <a:pt x="17852" y="11661"/>
                </a:lnTo>
                <a:lnTo>
                  <a:pt x="17829" y="11600"/>
                </a:lnTo>
                <a:lnTo>
                  <a:pt x="17795" y="11539"/>
                </a:lnTo>
                <a:lnTo>
                  <a:pt x="17726" y="11462"/>
                </a:lnTo>
                <a:lnTo>
                  <a:pt x="17635" y="11401"/>
                </a:lnTo>
                <a:lnTo>
                  <a:pt x="17635" y="11401"/>
                </a:lnTo>
                <a:lnTo>
                  <a:pt x="17680" y="11950"/>
                </a:lnTo>
                <a:close/>
                <a:moveTo>
                  <a:pt x="10324" y="11874"/>
                </a:moveTo>
                <a:lnTo>
                  <a:pt x="10324" y="11874"/>
                </a:lnTo>
                <a:lnTo>
                  <a:pt x="10392" y="11767"/>
                </a:lnTo>
                <a:lnTo>
                  <a:pt x="10404" y="11737"/>
                </a:lnTo>
                <a:lnTo>
                  <a:pt x="10416" y="11722"/>
                </a:lnTo>
                <a:lnTo>
                  <a:pt x="10416" y="11722"/>
                </a:lnTo>
                <a:lnTo>
                  <a:pt x="10358" y="11783"/>
                </a:lnTo>
                <a:lnTo>
                  <a:pt x="10347" y="11813"/>
                </a:lnTo>
                <a:lnTo>
                  <a:pt x="10324" y="11874"/>
                </a:lnTo>
                <a:close/>
                <a:moveTo>
                  <a:pt x="423" y="11676"/>
                </a:moveTo>
                <a:lnTo>
                  <a:pt x="423" y="11676"/>
                </a:lnTo>
                <a:lnTo>
                  <a:pt x="458" y="11722"/>
                </a:lnTo>
                <a:lnTo>
                  <a:pt x="492" y="11767"/>
                </a:lnTo>
                <a:lnTo>
                  <a:pt x="503" y="11767"/>
                </a:lnTo>
                <a:lnTo>
                  <a:pt x="527" y="11752"/>
                </a:lnTo>
                <a:lnTo>
                  <a:pt x="561" y="11722"/>
                </a:lnTo>
                <a:lnTo>
                  <a:pt x="572" y="11676"/>
                </a:lnTo>
                <a:lnTo>
                  <a:pt x="630" y="11539"/>
                </a:lnTo>
                <a:lnTo>
                  <a:pt x="664" y="11401"/>
                </a:lnTo>
                <a:lnTo>
                  <a:pt x="710" y="11279"/>
                </a:lnTo>
                <a:lnTo>
                  <a:pt x="733" y="11051"/>
                </a:lnTo>
                <a:lnTo>
                  <a:pt x="733" y="11051"/>
                </a:lnTo>
                <a:lnTo>
                  <a:pt x="595" y="11066"/>
                </a:lnTo>
                <a:lnTo>
                  <a:pt x="503" y="11081"/>
                </a:lnTo>
                <a:lnTo>
                  <a:pt x="446" y="11096"/>
                </a:lnTo>
                <a:lnTo>
                  <a:pt x="423" y="11112"/>
                </a:lnTo>
                <a:lnTo>
                  <a:pt x="389" y="11142"/>
                </a:lnTo>
                <a:lnTo>
                  <a:pt x="366" y="11188"/>
                </a:lnTo>
                <a:lnTo>
                  <a:pt x="354" y="11218"/>
                </a:lnTo>
                <a:lnTo>
                  <a:pt x="354" y="11264"/>
                </a:lnTo>
                <a:lnTo>
                  <a:pt x="354" y="11295"/>
                </a:lnTo>
                <a:lnTo>
                  <a:pt x="354" y="11356"/>
                </a:lnTo>
                <a:lnTo>
                  <a:pt x="378" y="11508"/>
                </a:lnTo>
                <a:lnTo>
                  <a:pt x="423" y="11676"/>
                </a:lnTo>
                <a:close/>
                <a:moveTo>
                  <a:pt x="16340" y="11401"/>
                </a:moveTo>
                <a:lnTo>
                  <a:pt x="16340" y="11401"/>
                </a:lnTo>
                <a:lnTo>
                  <a:pt x="16363" y="11493"/>
                </a:lnTo>
                <a:lnTo>
                  <a:pt x="16374" y="11523"/>
                </a:lnTo>
                <a:lnTo>
                  <a:pt x="16385" y="11539"/>
                </a:lnTo>
                <a:lnTo>
                  <a:pt x="16408" y="11554"/>
                </a:lnTo>
                <a:lnTo>
                  <a:pt x="16443" y="11584"/>
                </a:lnTo>
                <a:lnTo>
                  <a:pt x="16512" y="11600"/>
                </a:lnTo>
                <a:lnTo>
                  <a:pt x="16512" y="11600"/>
                </a:lnTo>
                <a:lnTo>
                  <a:pt x="16512" y="11493"/>
                </a:lnTo>
                <a:lnTo>
                  <a:pt x="16500" y="11401"/>
                </a:lnTo>
                <a:lnTo>
                  <a:pt x="16477" y="11356"/>
                </a:lnTo>
                <a:lnTo>
                  <a:pt x="16466" y="11340"/>
                </a:lnTo>
                <a:lnTo>
                  <a:pt x="16443" y="11325"/>
                </a:lnTo>
                <a:lnTo>
                  <a:pt x="16443" y="11325"/>
                </a:lnTo>
                <a:lnTo>
                  <a:pt x="16397" y="11356"/>
                </a:lnTo>
                <a:lnTo>
                  <a:pt x="16340" y="11401"/>
                </a:lnTo>
                <a:close/>
                <a:moveTo>
                  <a:pt x="6141" y="11600"/>
                </a:moveTo>
                <a:lnTo>
                  <a:pt x="6141" y="11600"/>
                </a:lnTo>
                <a:lnTo>
                  <a:pt x="6221" y="11554"/>
                </a:lnTo>
                <a:lnTo>
                  <a:pt x="6267" y="11539"/>
                </a:lnTo>
                <a:lnTo>
                  <a:pt x="6290" y="11493"/>
                </a:lnTo>
                <a:lnTo>
                  <a:pt x="6302" y="11462"/>
                </a:lnTo>
                <a:lnTo>
                  <a:pt x="6290" y="11447"/>
                </a:lnTo>
                <a:lnTo>
                  <a:pt x="6245" y="11417"/>
                </a:lnTo>
                <a:lnTo>
                  <a:pt x="6176" y="11401"/>
                </a:lnTo>
                <a:lnTo>
                  <a:pt x="6096" y="11401"/>
                </a:lnTo>
                <a:lnTo>
                  <a:pt x="6096" y="11401"/>
                </a:lnTo>
                <a:lnTo>
                  <a:pt x="6050" y="11447"/>
                </a:lnTo>
                <a:lnTo>
                  <a:pt x="6004" y="11478"/>
                </a:lnTo>
                <a:lnTo>
                  <a:pt x="5992" y="11523"/>
                </a:lnTo>
                <a:lnTo>
                  <a:pt x="5992" y="11539"/>
                </a:lnTo>
                <a:lnTo>
                  <a:pt x="6004" y="11554"/>
                </a:lnTo>
                <a:lnTo>
                  <a:pt x="6038" y="11584"/>
                </a:lnTo>
                <a:lnTo>
                  <a:pt x="6084" y="11600"/>
                </a:lnTo>
                <a:lnTo>
                  <a:pt x="6141" y="11600"/>
                </a:lnTo>
                <a:close/>
                <a:moveTo>
                  <a:pt x="4147" y="11600"/>
                </a:moveTo>
                <a:lnTo>
                  <a:pt x="4147" y="11600"/>
                </a:lnTo>
                <a:lnTo>
                  <a:pt x="4147" y="11447"/>
                </a:lnTo>
                <a:lnTo>
                  <a:pt x="4182" y="11279"/>
                </a:lnTo>
                <a:lnTo>
                  <a:pt x="4216" y="11127"/>
                </a:lnTo>
                <a:lnTo>
                  <a:pt x="4285" y="11005"/>
                </a:lnTo>
                <a:lnTo>
                  <a:pt x="4285" y="11005"/>
                </a:lnTo>
                <a:lnTo>
                  <a:pt x="4170" y="11020"/>
                </a:lnTo>
                <a:lnTo>
                  <a:pt x="4125" y="11020"/>
                </a:lnTo>
                <a:lnTo>
                  <a:pt x="4079" y="11035"/>
                </a:lnTo>
                <a:lnTo>
                  <a:pt x="4056" y="11066"/>
                </a:lnTo>
                <a:lnTo>
                  <a:pt x="4021" y="11096"/>
                </a:lnTo>
                <a:lnTo>
                  <a:pt x="4010" y="11127"/>
                </a:lnTo>
                <a:lnTo>
                  <a:pt x="3998" y="11188"/>
                </a:lnTo>
                <a:lnTo>
                  <a:pt x="3998" y="11218"/>
                </a:lnTo>
                <a:lnTo>
                  <a:pt x="3998" y="11279"/>
                </a:lnTo>
                <a:lnTo>
                  <a:pt x="4021" y="11356"/>
                </a:lnTo>
                <a:lnTo>
                  <a:pt x="4067" y="11493"/>
                </a:lnTo>
                <a:lnTo>
                  <a:pt x="4147" y="11600"/>
                </a:lnTo>
                <a:close/>
                <a:moveTo>
                  <a:pt x="4354" y="11539"/>
                </a:moveTo>
                <a:lnTo>
                  <a:pt x="4354" y="11539"/>
                </a:lnTo>
                <a:lnTo>
                  <a:pt x="4423" y="11539"/>
                </a:lnTo>
                <a:lnTo>
                  <a:pt x="4491" y="11523"/>
                </a:lnTo>
                <a:lnTo>
                  <a:pt x="4560" y="11478"/>
                </a:lnTo>
                <a:lnTo>
                  <a:pt x="4594" y="11432"/>
                </a:lnTo>
                <a:lnTo>
                  <a:pt x="4640" y="11356"/>
                </a:lnTo>
                <a:lnTo>
                  <a:pt x="4674" y="11279"/>
                </a:lnTo>
                <a:lnTo>
                  <a:pt x="4697" y="11188"/>
                </a:lnTo>
                <a:lnTo>
                  <a:pt x="4709" y="11051"/>
                </a:lnTo>
                <a:lnTo>
                  <a:pt x="4709" y="11051"/>
                </a:lnTo>
                <a:lnTo>
                  <a:pt x="4606" y="11020"/>
                </a:lnTo>
                <a:lnTo>
                  <a:pt x="4572" y="11005"/>
                </a:lnTo>
                <a:lnTo>
                  <a:pt x="4526" y="11005"/>
                </a:lnTo>
                <a:lnTo>
                  <a:pt x="4526" y="11005"/>
                </a:lnTo>
                <a:lnTo>
                  <a:pt x="4480" y="11005"/>
                </a:lnTo>
                <a:lnTo>
                  <a:pt x="4434" y="11020"/>
                </a:lnTo>
                <a:lnTo>
                  <a:pt x="4411" y="11066"/>
                </a:lnTo>
                <a:lnTo>
                  <a:pt x="4377" y="11127"/>
                </a:lnTo>
                <a:lnTo>
                  <a:pt x="4365" y="11203"/>
                </a:lnTo>
                <a:lnTo>
                  <a:pt x="4354" y="11279"/>
                </a:lnTo>
                <a:lnTo>
                  <a:pt x="4354" y="11401"/>
                </a:lnTo>
                <a:lnTo>
                  <a:pt x="4354" y="11539"/>
                </a:lnTo>
                <a:close/>
                <a:moveTo>
                  <a:pt x="4801" y="11462"/>
                </a:moveTo>
                <a:lnTo>
                  <a:pt x="4801" y="11462"/>
                </a:lnTo>
                <a:lnTo>
                  <a:pt x="4892" y="11447"/>
                </a:lnTo>
                <a:lnTo>
                  <a:pt x="4950" y="11432"/>
                </a:lnTo>
                <a:lnTo>
                  <a:pt x="5007" y="11371"/>
                </a:lnTo>
                <a:lnTo>
                  <a:pt x="5053" y="11310"/>
                </a:lnTo>
                <a:lnTo>
                  <a:pt x="5064" y="11279"/>
                </a:lnTo>
                <a:lnTo>
                  <a:pt x="5064" y="11249"/>
                </a:lnTo>
                <a:lnTo>
                  <a:pt x="5064" y="11203"/>
                </a:lnTo>
                <a:lnTo>
                  <a:pt x="5041" y="11188"/>
                </a:lnTo>
                <a:lnTo>
                  <a:pt x="5018" y="11142"/>
                </a:lnTo>
                <a:lnTo>
                  <a:pt x="4995" y="11112"/>
                </a:lnTo>
                <a:lnTo>
                  <a:pt x="4950" y="11081"/>
                </a:lnTo>
                <a:lnTo>
                  <a:pt x="4915" y="11051"/>
                </a:lnTo>
                <a:lnTo>
                  <a:pt x="4915" y="11051"/>
                </a:lnTo>
                <a:lnTo>
                  <a:pt x="4801" y="11462"/>
                </a:lnTo>
                <a:close/>
                <a:moveTo>
                  <a:pt x="5637" y="11401"/>
                </a:moveTo>
                <a:lnTo>
                  <a:pt x="5637" y="11401"/>
                </a:lnTo>
                <a:lnTo>
                  <a:pt x="5752" y="11447"/>
                </a:lnTo>
                <a:lnTo>
                  <a:pt x="5866" y="11447"/>
                </a:lnTo>
                <a:lnTo>
                  <a:pt x="5935" y="11447"/>
                </a:lnTo>
                <a:lnTo>
                  <a:pt x="6004" y="11432"/>
                </a:lnTo>
                <a:lnTo>
                  <a:pt x="6015" y="11417"/>
                </a:lnTo>
                <a:lnTo>
                  <a:pt x="6038" y="11401"/>
                </a:lnTo>
                <a:lnTo>
                  <a:pt x="6050" y="11371"/>
                </a:lnTo>
                <a:lnTo>
                  <a:pt x="6050" y="11356"/>
                </a:lnTo>
                <a:lnTo>
                  <a:pt x="6027" y="11279"/>
                </a:lnTo>
                <a:lnTo>
                  <a:pt x="5992" y="11188"/>
                </a:lnTo>
                <a:lnTo>
                  <a:pt x="5992" y="11188"/>
                </a:lnTo>
                <a:lnTo>
                  <a:pt x="5866" y="11173"/>
                </a:lnTo>
                <a:lnTo>
                  <a:pt x="5820" y="11142"/>
                </a:lnTo>
                <a:lnTo>
                  <a:pt x="5763" y="11142"/>
                </a:lnTo>
                <a:lnTo>
                  <a:pt x="5763" y="11142"/>
                </a:lnTo>
                <a:lnTo>
                  <a:pt x="5717" y="11157"/>
                </a:lnTo>
                <a:lnTo>
                  <a:pt x="5694" y="11173"/>
                </a:lnTo>
                <a:lnTo>
                  <a:pt x="5671" y="11188"/>
                </a:lnTo>
                <a:lnTo>
                  <a:pt x="5649" y="11234"/>
                </a:lnTo>
                <a:lnTo>
                  <a:pt x="5649" y="11279"/>
                </a:lnTo>
                <a:lnTo>
                  <a:pt x="5637" y="11325"/>
                </a:lnTo>
                <a:lnTo>
                  <a:pt x="5637" y="11401"/>
                </a:lnTo>
                <a:close/>
                <a:moveTo>
                  <a:pt x="16088" y="11401"/>
                </a:moveTo>
                <a:lnTo>
                  <a:pt x="16088" y="11401"/>
                </a:lnTo>
                <a:lnTo>
                  <a:pt x="16145" y="11371"/>
                </a:lnTo>
                <a:lnTo>
                  <a:pt x="16179" y="11340"/>
                </a:lnTo>
                <a:lnTo>
                  <a:pt x="16214" y="11279"/>
                </a:lnTo>
                <a:lnTo>
                  <a:pt x="16225" y="11249"/>
                </a:lnTo>
                <a:lnTo>
                  <a:pt x="16225" y="11188"/>
                </a:lnTo>
                <a:lnTo>
                  <a:pt x="16214" y="11096"/>
                </a:lnTo>
                <a:lnTo>
                  <a:pt x="16179" y="11020"/>
                </a:lnTo>
                <a:lnTo>
                  <a:pt x="16134" y="10929"/>
                </a:lnTo>
                <a:lnTo>
                  <a:pt x="16134" y="10929"/>
                </a:lnTo>
                <a:lnTo>
                  <a:pt x="16065" y="11020"/>
                </a:lnTo>
                <a:lnTo>
                  <a:pt x="16019" y="11096"/>
                </a:lnTo>
                <a:lnTo>
                  <a:pt x="15973" y="11173"/>
                </a:lnTo>
                <a:lnTo>
                  <a:pt x="15950" y="11234"/>
                </a:lnTo>
                <a:lnTo>
                  <a:pt x="15950" y="11279"/>
                </a:lnTo>
                <a:lnTo>
                  <a:pt x="15985" y="11325"/>
                </a:lnTo>
                <a:lnTo>
                  <a:pt x="16019" y="11356"/>
                </a:lnTo>
                <a:lnTo>
                  <a:pt x="16088" y="11401"/>
                </a:lnTo>
                <a:close/>
                <a:moveTo>
                  <a:pt x="5213" y="11401"/>
                </a:moveTo>
                <a:lnTo>
                  <a:pt x="5213" y="11401"/>
                </a:lnTo>
                <a:lnTo>
                  <a:pt x="5431" y="11264"/>
                </a:lnTo>
                <a:lnTo>
                  <a:pt x="5488" y="11203"/>
                </a:lnTo>
                <a:lnTo>
                  <a:pt x="5511" y="11173"/>
                </a:lnTo>
                <a:lnTo>
                  <a:pt x="5511" y="11157"/>
                </a:lnTo>
                <a:lnTo>
                  <a:pt x="5500" y="11142"/>
                </a:lnTo>
                <a:lnTo>
                  <a:pt x="5454" y="11112"/>
                </a:lnTo>
                <a:lnTo>
                  <a:pt x="5373" y="11096"/>
                </a:lnTo>
                <a:lnTo>
                  <a:pt x="5270" y="11051"/>
                </a:lnTo>
                <a:lnTo>
                  <a:pt x="5270" y="11051"/>
                </a:lnTo>
                <a:lnTo>
                  <a:pt x="5213" y="11401"/>
                </a:lnTo>
                <a:close/>
                <a:moveTo>
                  <a:pt x="1054" y="11051"/>
                </a:moveTo>
                <a:lnTo>
                  <a:pt x="1054" y="11051"/>
                </a:lnTo>
                <a:lnTo>
                  <a:pt x="847" y="11401"/>
                </a:lnTo>
                <a:lnTo>
                  <a:pt x="847" y="11401"/>
                </a:lnTo>
                <a:lnTo>
                  <a:pt x="1088" y="11356"/>
                </a:lnTo>
                <a:lnTo>
                  <a:pt x="1351" y="11325"/>
                </a:lnTo>
                <a:lnTo>
                  <a:pt x="1351" y="11325"/>
                </a:lnTo>
                <a:lnTo>
                  <a:pt x="1340" y="11279"/>
                </a:lnTo>
                <a:lnTo>
                  <a:pt x="1306" y="11218"/>
                </a:lnTo>
                <a:lnTo>
                  <a:pt x="1283" y="11173"/>
                </a:lnTo>
                <a:lnTo>
                  <a:pt x="1260" y="11127"/>
                </a:lnTo>
                <a:lnTo>
                  <a:pt x="1214" y="11096"/>
                </a:lnTo>
                <a:lnTo>
                  <a:pt x="1168" y="11081"/>
                </a:lnTo>
                <a:lnTo>
                  <a:pt x="1122" y="11066"/>
                </a:lnTo>
                <a:lnTo>
                  <a:pt x="1077" y="11051"/>
                </a:lnTo>
                <a:lnTo>
                  <a:pt x="1077" y="11051"/>
                </a:lnTo>
                <a:lnTo>
                  <a:pt x="1054" y="11051"/>
                </a:lnTo>
                <a:close/>
                <a:moveTo>
                  <a:pt x="17222" y="11279"/>
                </a:moveTo>
                <a:lnTo>
                  <a:pt x="17222" y="11279"/>
                </a:lnTo>
                <a:lnTo>
                  <a:pt x="17016" y="10853"/>
                </a:lnTo>
                <a:lnTo>
                  <a:pt x="17016" y="10853"/>
                </a:lnTo>
                <a:lnTo>
                  <a:pt x="17016" y="11020"/>
                </a:lnTo>
                <a:lnTo>
                  <a:pt x="17016" y="11096"/>
                </a:lnTo>
                <a:lnTo>
                  <a:pt x="17027" y="11127"/>
                </a:lnTo>
                <a:lnTo>
                  <a:pt x="17050" y="11173"/>
                </a:lnTo>
                <a:lnTo>
                  <a:pt x="17096" y="11188"/>
                </a:lnTo>
                <a:lnTo>
                  <a:pt x="17222" y="11279"/>
                </a:lnTo>
                <a:close/>
                <a:moveTo>
                  <a:pt x="17486" y="11127"/>
                </a:moveTo>
                <a:lnTo>
                  <a:pt x="17486" y="11127"/>
                </a:lnTo>
                <a:lnTo>
                  <a:pt x="17486" y="11066"/>
                </a:lnTo>
                <a:lnTo>
                  <a:pt x="17474" y="11020"/>
                </a:lnTo>
                <a:lnTo>
                  <a:pt x="17463" y="10959"/>
                </a:lnTo>
                <a:lnTo>
                  <a:pt x="17451" y="10914"/>
                </a:lnTo>
                <a:lnTo>
                  <a:pt x="17394" y="10807"/>
                </a:lnTo>
                <a:lnTo>
                  <a:pt x="17314" y="10731"/>
                </a:lnTo>
                <a:lnTo>
                  <a:pt x="17314" y="10731"/>
                </a:lnTo>
                <a:lnTo>
                  <a:pt x="17291" y="10807"/>
                </a:lnTo>
                <a:lnTo>
                  <a:pt x="17291" y="10868"/>
                </a:lnTo>
                <a:lnTo>
                  <a:pt x="17291" y="10944"/>
                </a:lnTo>
                <a:lnTo>
                  <a:pt x="17291" y="11005"/>
                </a:lnTo>
                <a:lnTo>
                  <a:pt x="17314" y="11035"/>
                </a:lnTo>
                <a:lnTo>
                  <a:pt x="17360" y="11081"/>
                </a:lnTo>
                <a:lnTo>
                  <a:pt x="17417" y="11096"/>
                </a:lnTo>
                <a:lnTo>
                  <a:pt x="17486" y="11127"/>
                </a:lnTo>
                <a:close/>
                <a:moveTo>
                  <a:pt x="779" y="10670"/>
                </a:moveTo>
                <a:lnTo>
                  <a:pt x="779" y="10670"/>
                </a:lnTo>
                <a:lnTo>
                  <a:pt x="733" y="10929"/>
                </a:lnTo>
                <a:lnTo>
                  <a:pt x="733" y="10929"/>
                </a:lnTo>
                <a:lnTo>
                  <a:pt x="859" y="10990"/>
                </a:lnTo>
                <a:lnTo>
                  <a:pt x="962" y="11020"/>
                </a:lnTo>
                <a:lnTo>
                  <a:pt x="1054" y="11020"/>
                </a:lnTo>
                <a:lnTo>
                  <a:pt x="1088" y="11005"/>
                </a:lnTo>
                <a:lnTo>
                  <a:pt x="1111" y="10990"/>
                </a:lnTo>
                <a:lnTo>
                  <a:pt x="1134" y="10959"/>
                </a:lnTo>
                <a:lnTo>
                  <a:pt x="1145" y="10929"/>
                </a:lnTo>
                <a:lnTo>
                  <a:pt x="1157" y="10883"/>
                </a:lnTo>
                <a:lnTo>
                  <a:pt x="1168" y="10837"/>
                </a:lnTo>
                <a:lnTo>
                  <a:pt x="1168" y="10731"/>
                </a:lnTo>
                <a:lnTo>
                  <a:pt x="1145" y="10578"/>
                </a:lnTo>
                <a:lnTo>
                  <a:pt x="1145" y="10578"/>
                </a:lnTo>
                <a:lnTo>
                  <a:pt x="779" y="10670"/>
                </a:lnTo>
                <a:close/>
                <a:moveTo>
                  <a:pt x="15618" y="10929"/>
                </a:moveTo>
                <a:lnTo>
                  <a:pt x="15618" y="10929"/>
                </a:lnTo>
                <a:lnTo>
                  <a:pt x="15664" y="10929"/>
                </a:lnTo>
                <a:lnTo>
                  <a:pt x="15687" y="10929"/>
                </a:lnTo>
                <a:lnTo>
                  <a:pt x="15709" y="10914"/>
                </a:lnTo>
                <a:lnTo>
                  <a:pt x="15732" y="10883"/>
                </a:lnTo>
                <a:lnTo>
                  <a:pt x="15744" y="10853"/>
                </a:lnTo>
                <a:lnTo>
                  <a:pt x="15755" y="10822"/>
                </a:lnTo>
                <a:lnTo>
                  <a:pt x="15778" y="10731"/>
                </a:lnTo>
                <a:lnTo>
                  <a:pt x="15778" y="10731"/>
                </a:lnTo>
                <a:lnTo>
                  <a:pt x="15732" y="10670"/>
                </a:lnTo>
                <a:lnTo>
                  <a:pt x="15675" y="10654"/>
                </a:lnTo>
                <a:lnTo>
                  <a:pt x="15675" y="10654"/>
                </a:lnTo>
                <a:lnTo>
                  <a:pt x="15664" y="10670"/>
                </a:lnTo>
                <a:lnTo>
                  <a:pt x="15652" y="10670"/>
                </a:lnTo>
                <a:lnTo>
                  <a:pt x="15629" y="10731"/>
                </a:lnTo>
                <a:lnTo>
                  <a:pt x="15618" y="10807"/>
                </a:lnTo>
                <a:lnTo>
                  <a:pt x="15618" y="10929"/>
                </a:lnTo>
                <a:close/>
                <a:moveTo>
                  <a:pt x="1466" y="10929"/>
                </a:moveTo>
                <a:lnTo>
                  <a:pt x="1466" y="10929"/>
                </a:lnTo>
                <a:lnTo>
                  <a:pt x="1455" y="10837"/>
                </a:lnTo>
                <a:lnTo>
                  <a:pt x="1432" y="10746"/>
                </a:lnTo>
                <a:lnTo>
                  <a:pt x="1409" y="10670"/>
                </a:lnTo>
                <a:lnTo>
                  <a:pt x="1351" y="10578"/>
                </a:lnTo>
                <a:lnTo>
                  <a:pt x="1351" y="10578"/>
                </a:lnTo>
                <a:lnTo>
                  <a:pt x="1340" y="10670"/>
                </a:lnTo>
                <a:lnTo>
                  <a:pt x="1328" y="10761"/>
                </a:lnTo>
                <a:lnTo>
                  <a:pt x="1328" y="10807"/>
                </a:lnTo>
                <a:lnTo>
                  <a:pt x="1340" y="10853"/>
                </a:lnTo>
                <a:lnTo>
                  <a:pt x="1351" y="10898"/>
                </a:lnTo>
                <a:lnTo>
                  <a:pt x="1386" y="10929"/>
                </a:lnTo>
                <a:lnTo>
                  <a:pt x="1420" y="10929"/>
                </a:lnTo>
                <a:lnTo>
                  <a:pt x="1466" y="10929"/>
                </a:lnTo>
                <a:close/>
                <a:moveTo>
                  <a:pt x="366" y="10578"/>
                </a:moveTo>
                <a:lnTo>
                  <a:pt x="366" y="10578"/>
                </a:lnTo>
                <a:lnTo>
                  <a:pt x="378" y="10700"/>
                </a:lnTo>
                <a:lnTo>
                  <a:pt x="389" y="10761"/>
                </a:lnTo>
                <a:lnTo>
                  <a:pt x="400" y="10837"/>
                </a:lnTo>
                <a:lnTo>
                  <a:pt x="423" y="10853"/>
                </a:lnTo>
                <a:lnTo>
                  <a:pt x="446" y="10868"/>
                </a:lnTo>
                <a:lnTo>
                  <a:pt x="469" y="10868"/>
                </a:lnTo>
                <a:lnTo>
                  <a:pt x="503" y="10853"/>
                </a:lnTo>
                <a:lnTo>
                  <a:pt x="515" y="10822"/>
                </a:lnTo>
                <a:lnTo>
                  <a:pt x="584" y="10746"/>
                </a:lnTo>
                <a:lnTo>
                  <a:pt x="641" y="10609"/>
                </a:lnTo>
                <a:lnTo>
                  <a:pt x="710" y="10502"/>
                </a:lnTo>
                <a:lnTo>
                  <a:pt x="733" y="10395"/>
                </a:lnTo>
                <a:lnTo>
                  <a:pt x="733" y="10395"/>
                </a:lnTo>
                <a:lnTo>
                  <a:pt x="652" y="10319"/>
                </a:lnTo>
                <a:lnTo>
                  <a:pt x="607" y="10319"/>
                </a:lnTo>
                <a:lnTo>
                  <a:pt x="561" y="10304"/>
                </a:lnTo>
                <a:lnTo>
                  <a:pt x="561" y="10304"/>
                </a:lnTo>
                <a:lnTo>
                  <a:pt x="538" y="10319"/>
                </a:lnTo>
                <a:lnTo>
                  <a:pt x="515" y="10319"/>
                </a:lnTo>
                <a:lnTo>
                  <a:pt x="492" y="10350"/>
                </a:lnTo>
                <a:lnTo>
                  <a:pt x="458" y="10380"/>
                </a:lnTo>
                <a:lnTo>
                  <a:pt x="423" y="10426"/>
                </a:lnTo>
                <a:lnTo>
                  <a:pt x="412" y="10472"/>
                </a:lnTo>
                <a:lnTo>
                  <a:pt x="366" y="10578"/>
                </a:lnTo>
                <a:close/>
                <a:moveTo>
                  <a:pt x="16603" y="10853"/>
                </a:moveTo>
                <a:lnTo>
                  <a:pt x="16603" y="10853"/>
                </a:lnTo>
                <a:lnTo>
                  <a:pt x="16729" y="10792"/>
                </a:lnTo>
                <a:lnTo>
                  <a:pt x="16867" y="10746"/>
                </a:lnTo>
                <a:lnTo>
                  <a:pt x="16959" y="10670"/>
                </a:lnTo>
                <a:lnTo>
                  <a:pt x="17062" y="10578"/>
                </a:lnTo>
                <a:lnTo>
                  <a:pt x="17119" y="10517"/>
                </a:lnTo>
                <a:lnTo>
                  <a:pt x="17176" y="10426"/>
                </a:lnTo>
                <a:lnTo>
                  <a:pt x="17233" y="10350"/>
                </a:lnTo>
                <a:lnTo>
                  <a:pt x="17256" y="10258"/>
                </a:lnTo>
                <a:lnTo>
                  <a:pt x="17268" y="10182"/>
                </a:lnTo>
                <a:lnTo>
                  <a:pt x="17268" y="10091"/>
                </a:lnTo>
                <a:lnTo>
                  <a:pt x="17256" y="10014"/>
                </a:lnTo>
                <a:lnTo>
                  <a:pt x="17233" y="9938"/>
                </a:lnTo>
                <a:lnTo>
                  <a:pt x="17211" y="9847"/>
                </a:lnTo>
                <a:lnTo>
                  <a:pt x="17165" y="9771"/>
                </a:lnTo>
                <a:lnTo>
                  <a:pt x="17108" y="9710"/>
                </a:lnTo>
                <a:lnTo>
                  <a:pt x="17050" y="9633"/>
                </a:lnTo>
                <a:lnTo>
                  <a:pt x="16981" y="9557"/>
                </a:lnTo>
                <a:lnTo>
                  <a:pt x="16901" y="9481"/>
                </a:lnTo>
                <a:lnTo>
                  <a:pt x="16832" y="9420"/>
                </a:lnTo>
                <a:lnTo>
                  <a:pt x="16741" y="9374"/>
                </a:lnTo>
                <a:lnTo>
                  <a:pt x="16661" y="9298"/>
                </a:lnTo>
                <a:lnTo>
                  <a:pt x="16557" y="9252"/>
                </a:lnTo>
                <a:lnTo>
                  <a:pt x="16454" y="9222"/>
                </a:lnTo>
                <a:lnTo>
                  <a:pt x="16351" y="9206"/>
                </a:lnTo>
                <a:lnTo>
                  <a:pt x="16248" y="9161"/>
                </a:lnTo>
                <a:lnTo>
                  <a:pt x="16145" y="9145"/>
                </a:lnTo>
                <a:lnTo>
                  <a:pt x="16042" y="9130"/>
                </a:lnTo>
                <a:lnTo>
                  <a:pt x="15939" y="9130"/>
                </a:lnTo>
                <a:lnTo>
                  <a:pt x="15824" y="9145"/>
                </a:lnTo>
                <a:lnTo>
                  <a:pt x="15732" y="9176"/>
                </a:lnTo>
                <a:lnTo>
                  <a:pt x="15618" y="9206"/>
                </a:lnTo>
                <a:lnTo>
                  <a:pt x="15526" y="9222"/>
                </a:lnTo>
                <a:lnTo>
                  <a:pt x="15526" y="9222"/>
                </a:lnTo>
                <a:lnTo>
                  <a:pt x="15538" y="9298"/>
                </a:lnTo>
                <a:lnTo>
                  <a:pt x="15560" y="9359"/>
                </a:lnTo>
                <a:lnTo>
                  <a:pt x="15583" y="9405"/>
                </a:lnTo>
                <a:lnTo>
                  <a:pt x="15629" y="9450"/>
                </a:lnTo>
                <a:lnTo>
                  <a:pt x="15664" y="9481"/>
                </a:lnTo>
                <a:lnTo>
                  <a:pt x="15721" y="9481"/>
                </a:lnTo>
                <a:lnTo>
                  <a:pt x="15767" y="9496"/>
                </a:lnTo>
                <a:lnTo>
                  <a:pt x="15824" y="9496"/>
                </a:lnTo>
                <a:lnTo>
                  <a:pt x="15824" y="9496"/>
                </a:lnTo>
                <a:lnTo>
                  <a:pt x="15801" y="9572"/>
                </a:lnTo>
                <a:lnTo>
                  <a:pt x="15778" y="9649"/>
                </a:lnTo>
                <a:lnTo>
                  <a:pt x="15755" y="9679"/>
                </a:lnTo>
                <a:lnTo>
                  <a:pt x="15709" y="9725"/>
                </a:lnTo>
                <a:lnTo>
                  <a:pt x="15664" y="9740"/>
                </a:lnTo>
                <a:lnTo>
                  <a:pt x="15595" y="9740"/>
                </a:lnTo>
                <a:lnTo>
                  <a:pt x="15538" y="9740"/>
                </a:lnTo>
                <a:lnTo>
                  <a:pt x="15469" y="9725"/>
                </a:lnTo>
                <a:lnTo>
                  <a:pt x="15469" y="9725"/>
                </a:lnTo>
                <a:lnTo>
                  <a:pt x="15549" y="9816"/>
                </a:lnTo>
                <a:lnTo>
                  <a:pt x="15687" y="9984"/>
                </a:lnTo>
                <a:lnTo>
                  <a:pt x="16076" y="10365"/>
                </a:lnTo>
                <a:lnTo>
                  <a:pt x="16443" y="10731"/>
                </a:lnTo>
                <a:lnTo>
                  <a:pt x="16557" y="10822"/>
                </a:lnTo>
                <a:lnTo>
                  <a:pt x="16592" y="10853"/>
                </a:lnTo>
                <a:lnTo>
                  <a:pt x="16603" y="10853"/>
                </a:lnTo>
                <a:close/>
                <a:moveTo>
                  <a:pt x="15939" y="10853"/>
                </a:moveTo>
                <a:lnTo>
                  <a:pt x="15939" y="10853"/>
                </a:lnTo>
                <a:lnTo>
                  <a:pt x="15973" y="10807"/>
                </a:lnTo>
                <a:lnTo>
                  <a:pt x="16007" y="10761"/>
                </a:lnTo>
                <a:lnTo>
                  <a:pt x="16019" y="10731"/>
                </a:lnTo>
                <a:lnTo>
                  <a:pt x="16030" y="10685"/>
                </a:lnTo>
                <a:lnTo>
                  <a:pt x="16030" y="10654"/>
                </a:lnTo>
                <a:lnTo>
                  <a:pt x="16030" y="10624"/>
                </a:lnTo>
                <a:lnTo>
                  <a:pt x="16019" y="10609"/>
                </a:lnTo>
                <a:lnTo>
                  <a:pt x="16007" y="10609"/>
                </a:lnTo>
                <a:lnTo>
                  <a:pt x="16007" y="10609"/>
                </a:lnTo>
                <a:lnTo>
                  <a:pt x="15973" y="10624"/>
                </a:lnTo>
                <a:lnTo>
                  <a:pt x="15950" y="10670"/>
                </a:lnTo>
                <a:lnTo>
                  <a:pt x="15939" y="10746"/>
                </a:lnTo>
                <a:lnTo>
                  <a:pt x="15939" y="10853"/>
                </a:lnTo>
                <a:close/>
                <a:moveTo>
                  <a:pt x="5121" y="10776"/>
                </a:moveTo>
                <a:lnTo>
                  <a:pt x="5121" y="10776"/>
                </a:lnTo>
                <a:lnTo>
                  <a:pt x="5729" y="10853"/>
                </a:lnTo>
                <a:lnTo>
                  <a:pt x="5729" y="10853"/>
                </a:lnTo>
                <a:lnTo>
                  <a:pt x="5717" y="10670"/>
                </a:lnTo>
                <a:lnTo>
                  <a:pt x="5706" y="10487"/>
                </a:lnTo>
                <a:lnTo>
                  <a:pt x="5660" y="10319"/>
                </a:lnTo>
                <a:lnTo>
                  <a:pt x="5626" y="10197"/>
                </a:lnTo>
                <a:lnTo>
                  <a:pt x="5568" y="10091"/>
                </a:lnTo>
                <a:lnTo>
                  <a:pt x="5522" y="10014"/>
                </a:lnTo>
                <a:lnTo>
                  <a:pt x="5465" y="9984"/>
                </a:lnTo>
                <a:lnTo>
                  <a:pt x="5431" y="9969"/>
                </a:lnTo>
                <a:lnTo>
                  <a:pt x="5408" y="9953"/>
                </a:lnTo>
                <a:lnTo>
                  <a:pt x="5408" y="9953"/>
                </a:lnTo>
                <a:lnTo>
                  <a:pt x="5351" y="9969"/>
                </a:lnTo>
                <a:lnTo>
                  <a:pt x="5316" y="9999"/>
                </a:lnTo>
                <a:lnTo>
                  <a:pt x="5282" y="10060"/>
                </a:lnTo>
                <a:lnTo>
                  <a:pt x="5224" y="10167"/>
                </a:lnTo>
                <a:lnTo>
                  <a:pt x="5190" y="10258"/>
                </a:lnTo>
                <a:lnTo>
                  <a:pt x="5156" y="10426"/>
                </a:lnTo>
                <a:lnTo>
                  <a:pt x="5144" y="10578"/>
                </a:lnTo>
                <a:lnTo>
                  <a:pt x="5121" y="10776"/>
                </a:lnTo>
                <a:close/>
                <a:moveTo>
                  <a:pt x="4709" y="10853"/>
                </a:moveTo>
                <a:lnTo>
                  <a:pt x="4709" y="10853"/>
                </a:lnTo>
                <a:lnTo>
                  <a:pt x="4652" y="10700"/>
                </a:lnTo>
                <a:lnTo>
                  <a:pt x="4606" y="10594"/>
                </a:lnTo>
                <a:lnTo>
                  <a:pt x="4572" y="10563"/>
                </a:lnTo>
                <a:lnTo>
                  <a:pt x="4560" y="10517"/>
                </a:lnTo>
                <a:lnTo>
                  <a:pt x="4548" y="10517"/>
                </a:lnTo>
                <a:lnTo>
                  <a:pt x="4514" y="10517"/>
                </a:lnTo>
                <a:lnTo>
                  <a:pt x="4503" y="10517"/>
                </a:lnTo>
                <a:lnTo>
                  <a:pt x="4468" y="10517"/>
                </a:lnTo>
                <a:lnTo>
                  <a:pt x="4400" y="10578"/>
                </a:lnTo>
                <a:lnTo>
                  <a:pt x="4331" y="10670"/>
                </a:lnTo>
                <a:lnTo>
                  <a:pt x="4239" y="10776"/>
                </a:lnTo>
                <a:lnTo>
                  <a:pt x="4239" y="10776"/>
                </a:lnTo>
                <a:lnTo>
                  <a:pt x="4331" y="10761"/>
                </a:lnTo>
                <a:lnTo>
                  <a:pt x="4411" y="10761"/>
                </a:lnTo>
                <a:lnTo>
                  <a:pt x="4411" y="10761"/>
                </a:lnTo>
                <a:lnTo>
                  <a:pt x="4491" y="10761"/>
                </a:lnTo>
                <a:lnTo>
                  <a:pt x="4560" y="10776"/>
                </a:lnTo>
                <a:lnTo>
                  <a:pt x="4629" y="10807"/>
                </a:lnTo>
                <a:lnTo>
                  <a:pt x="4709" y="10853"/>
                </a:lnTo>
                <a:close/>
                <a:moveTo>
                  <a:pt x="13097" y="10731"/>
                </a:moveTo>
                <a:lnTo>
                  <a:pt x="13097" y="10731"/>
                </a:lnTo>
                <a:lnTo>
                  <a:pt x="13177" y="10639"/>
                </a:lnTo>
                <a:lnTo>
                  <a:pt x="13223" y="10578"/>
                </a:lnTo>
                <a:lnTo>
                  <a:pt x="13235" y="10548"/>
                </a:lnTo>
                <a:lnTo>
                  <a:pt x="13235" y="10517"/>
                </a:lnTo>
                <a:lnTo>
                  <a:pt x="13211" y="10395"/>
                </a:lnTo>
                <a:lnTo>
                  <a:pt x="13211" y="10395"/>
                </a:lnTo>
                <a:lnTo>
                  <a:pt x="13097" y="10731"/>
                </a:lnTo>
                <a:close/>
                <a:moveTo>
                  <a:pt x="4950" y="10578"/>
                </a:moveTo>
                <a:lnTo>
                  <a:pt x="4950" y="10578"/>
                </a:lnTo>
                <a:lnTo>
                  <a:pt x="4950" y="10472"/>
                </a:lnTo>
                <a:lnTo>
                  <a:pt x="4938" y="10365"/>
                </a:lnTo>
                <a:lnTo>
                  <a:pt x="4927" y="10273"/>
                </a:lnTo>
                <a:lnTo>
                  <a:pt x="4881" y="10213"/>
                </a:lnTo>
                <a:lnTo>
                  <a:pt x="4835" y="10152"/>
                </a:lnTo>
                <a:lnTo>
                  <a:pt x="4766" y="10106"/>
                </a:lnTo>
                <a:lnTo>
                  <a:pt x="4697" y="10075"/>
                </a:lnTo>
                <a:lnTo>
                  <a:pt x="4594" y="10045"/>
                </a:lnTo>
                <a:lnTo>
                  <a:pt x="4594" y="10045"/>
                </a:lnTo>
                <a:lnTo>
                  <a:pt x="4617" y="10182"/>
                </a:lnTo>
                <a:lnTo>
                  <a:pt x="4640" y="10289"/>
                </a:lnTo>
                <a:lnTo>
                  <a:pt x="4686" y="10395"/>
                </a:lnTo>
                <a:lnTo>
                  <a:pt x="4721" y="10472"/>
                </a:lnTo>
                <a:lnTo>
                  <a:pt x="4766" y="10517"/>
                </a:lnTo>
                <a:lnTo>
                  <a:pt x="4823" y="10563"/>
                </a:lnTo>
                <a:lnTo>
                  <a:pt x="4892" y="10578"/>
                </a:lnTo>
                <a:lnTo>
                  <a:pt x="4950" y="10578"/>
                </a:lnTo>
                <a:close/>
                <a:moveTo>
                  <a:pt x="15159" y="10517"/>
                </a:moveTo>
                <a:lnTo>
                  <a:pt x="15159" y="10517"/>
                </a:lnTo>
                <a:lnTo>
                  <a:pt x="15262" y="10517"/>
                </a:lnTo>
                <a:lnTo>
                  <a:pt x="15286" y="10517"/>
                </a:lnTo>
                <a:lnTo>
                  <a:pt x="15286" y="10502"/>
                </a:lnTo>
                <a:lnTo>
                  <a:pt x="15251" y="10365"/>
                </a:lnTo>
                <a:lnTo>
                  <a:pt x="15228" y="10258"/>
                </a:lnTo>
                <a:lnTo>
                  <a:pt x="15217" y="10121"/>
                </a:lnTo>
                <a:lnTo>
                  <a:pt x="15217" y="10121"/>
                </a:lnTo>
                <a:lnTo>
                  <a:pt x="15159" y="10517"/>
                </a:lnTo>
                <a:close/>
                <a:moveTo>
                  <a:pt x="4239" y="10517"/>
                </a:moveTo>
                <a:lnTo>
                  <a:pt x="4239" y="10517"/>
                </a:lnTo>
                <a:lnTo>
                  <a:pt x="4331" y="10502"/>
                </a:lnTo>
                <a:lnTo>
                  <a:pt x="4365" y="10472"/>
                </a:lnTo>
                <a:lnTo>
                  <a:pt x="4400" y="10441"/>
                </a:lnTo>
                <a:lnTo>
                  <a:pt x="4423" y="10411"/>
                </a:lnTo>
                <a:lnTo>
                  <a:pt x="4457" y="10350"/>
                </a:lnTo>
                <a:lnTo>
                  <a:pt x="4503" y="10258"/>
                </a:lnTo>
                <a:lnTo>
                  <a:pt x="4503" y="10258"/>
                </a:lnTo>
                <a:lnTo>
                  <a:pt x="4423" y="10243"/>
                </a:lnTo>
                <a:lnTo>
                  <a:pt x="4377" y="10228"/>
                </a:lnTo>
                <a:lnTo>
                  <a:pt x="4377" y="10228"/>
                </a:lnTo>
                <a:lnTo>
                  <a:pt x="4342" y="10228"/>
                </a:lnTo>
                <a:lnTo>
                  <a:pt x="4308" y="10243"/>
                </a:lnTo>
                <a:lnTo>
                  <a:pt x="4285" y="10258"/>
                </a:lnTo>
                <a:lnTo>
                  <a:pt x="4262" y="10289"/>
                </a:lnTo>
                <a:lnTo>
                  <a:pt x="4251" y="10334"/>
                </a:lnTo>
                <a:lnTo>
                  <a:pt x="4239" y="10395"/>
                </a:lnTo>
                <a:lnTo>
                  <a:pt x="4239" y="10517"/>
                </a:lnTo>
                <a:close/>
                <a:moveTo>
                  <a:pt x="15526" y="10258"/>
                </a:moveTo>
                <a:lnTo>
                  <a:pt x="15526" y="10258"/>
                </a:lnTo>
                <a:lnTo>
                  <a:pt x="15492" y="10304"/>
                </a:lnTo>
                <a:lnTo>
                  <a:pt x="15469" y="10350"/>
                </a:lnTo>
                <a:lnTo>
                  <a:pt x="15469" y="10395"/>
                </a:lnTo>
                <a:lnTo>
                  <a:pt x="15480" y="10426"/>
                </a:lnTo>
                <a:lnTo>
                  <a:pt x="15515" y="10426"/>
                </a:lnTo>
                <a:lnTo>
                  <a:pt x="15560" y="10426"/>
                </a:lnTo>
                <a:lnTo>
                  <a:pt x="15675" y="10395"/>
                </a:lnTo>
                <a:lnTo>
                  <a:pt x="15675" y="10395"/>
                </a:lnTo>
                <a:lnTo>
                  <a:pt x="15675" y="10319"/>
                </a:lnTo>
                <a:lnTo>
                  <a:pt x="15664" y="10273"/>
                </a:lnTo>
                <a:lnTo>
                  <a:pt x="15618" y="10258"/>
                </a:lnTo>
                <a:lnTo>
                  <a:pt x="15572" y="10243"/>
                </a:lnTo>
                <a:lnTo>
                  <a:pt x="15572" y="10243"/>
                </a:lnTo>
                <a:lnTo>
                  <a:pt x="15526" y="10258"/>
                </a:lnTo>
                <a:close/>
                <a:moveTo>
                  <a:pt x="12226" y="10395"/>
                </a:moveTo>
                <a:lnTo>
                  <a:pt x="12226" y="10395"/>
                </a:lnTo>
                <a:lnTo>
                  <a:pt x="12180" y="10304"/>
                </a:lnTo>
                <a:lnTo>
                  <a:pt x="12123" y="10258"/>
                </a:lnTo>
                <a:lnTo>
                  <a:pt x="12123" y="10258"/>
                </a:lnTo>
                <a:lnTo>
                  <a:pt x="12226" y="10395"/>
                </a:lnTo>
                <a:close/>
                <a:moveTo>
                  <a:pt x="733" y="10258"/>
                </a:moveTo>
                <a:lnTo>
                  <a:pt x="733" y="10258"/>
                </a:lnTo>
                <a:lnTo>
                  <a:pt x="1088" y="10395"/>
                </a:lnTo>
                <a:lnTo>
                  <a:pt x="1088" y="10395"/>
                </a:lnTo>
                <a:lnTo>
                  <a:pt x="1088" y="10273"/>
                </a:lnTo>
                <a:lnTo>
                  <a:pt x="1077" y="10197"/>
                </a:lnTo>
                <a:lnTo>
                  <a:pt x="1054" y="10121"/>
                </a:lnTo>
                <a:lnTo>
                  <a:pt x="1008" y="10075"/>
                </a:lnTo>
                <a:lnTo>
                  <a:pt x="973" y="10014"/>
                </a:lnTo>
                <a:lnTo>
                  <a:pt x="928" y="9999"/>
                </a:lnTo>
                <a:lnTo>
                  <a:pt x="893" y="9984"/>
                </a:lnTo>
                <a:lnTo>
                  <a:pt x="859" y="9969"/>
                </a:lnTo>
                <a:lnTo>
                  <a:pt x="859" y="9969"/>
                </a:lnTo>
                <a:lnTo>
                  <a:pt x="813" y="9969"/>
                </a:lnTo>
                <a:lnTo>
                  <a:pt x="779" y="9984"/>
                </a:lnTo>
                <a:lnTo>
                  <a:pt x="767" y="9999"/>
                </a:lnTo>
                <a:lnTo>
                  <a:pt x="733" y="10030"/>
                </a:lnTo>
                <a:lnTo>
                  <a:pt x="721" y="10075"/>
                </a:lnTo>
                <a:lnTo>
                  <a:pt x="710" y="10121"/>
                </a:lnTo>
                <a:lnTo>
                  <a:pt x="710" y="10182"/>
                </a:lnTo>
                <a:lnTo>
                  <a:pt x="733" y="10258"/>
                </a:lnTo>
                <a:close/>
                <a:moveTo>
                  <a:pt x="19594" y="10319"/>
                </a:moveTo>
                <a:lnTo>
                  <a:pt x="19594" y="10319"/>
                </a:lnTo>
                <a:lnTo>
                  <a:pt x="19537" y="10136"/>
                </a:lnTo>
                <a:lnTo>
                  <a:pt x="19502" y="10060"/>
                </a:lnTo>
                <a:lnTo>
                  <a:pt x="19468" y="9999"/>
                </a:lnTo>
                <a:lnTo>
                  <a:pt x="19434" y="9938"/>
                </a:lnTo>
                <a:lnTo>
                  <a:pt x="19399" y="9908"/>
                </a:lnTo>
                <a:lnTo>
                  <a:pt x="19353" y="9862"/>
                </a:lnTo>
                <a:lnTo>
                  <a:pt x="19308" y="9816"/>
                </a:lnTo>
                <a:lnTo>
                  <a:pt x="19216" y="9771"/>
                </a:lnTo>
                <a:lnTo>
                  <a:pt x="19090" y="9740"/>
                </a:lnTo>
                <a:lnTo>
                  <a:pt x="18964" y="9710"/>
                </a:lnTo>
                <a:lnTo>
                  <a:pt x="18815" y="9649"/>
                </a:lnTo>
                <a:lnTo>
                  <a:pt x="18815" y="9649"/>
                </a:lnTo>
                <a:lnTo>
                  <a:pt x="18735" y="9786"/>
                </a:lnTo>
                <a:lnTo>
                  <a:pt x="18666" y="9908"/>
                </a:lnTo>
                <a:lnTo>
                  <a:pt x="18643" y="9999"/>
                </a:lnTo>
                <a:lnTo>
                  <a:pt x="18632" y="10075"/>
                </a:lnTo>
                <a:lnTo>
                  <a:pt x="18632" y="10152"/>
                </a:lnTo>
                <a:lnTo>
                  <a:pt x="18643" y="10213"/>
                </a:lnTo>
                <a:lnTo>
                  <a:pt x="18666" y="10243"/>
                </a:lnTo>
                <a:lnTo>
                  <a:pt x="18723" y="10258"/>
                </a:lnTo>
                <a:lnTo>
                  <a:pt x="18792" y="10289"/>
                </a:lnTo>
                <a:lnTo>
                  <a:pt x="18849" y="10304"/>
                </a:lnTo>
                <a:lnTo>
                  <a:pt x="19021" y="10319"/>
                </a:lnTo>
                <a:lnTo>
                  <a:pt x="19376" y="10304"/>
                </a:lnTo>
                <a:lnTo>
                  <a:pt x="19376" y="10304"/>
                </a:lnTo>
                <a:lnTo>
                  <a:pt x="19491" y="10304"/>
                </a:lnTo>
                <a:lnTo>
                  <a:pt x="19594" y="10319"/>
                </a:lnTo>
                <a:close/>
                <a:moveTo>
                  <a:pt x="6199" y="10182"/>
                </a:moveTo>
                <a:lnTo>
                  <a:pt x="6199" y="10182"/>
                </a:lnTo>
                <a:lnTo>
                  <a:pt x="6325" y="10075"/>
                </a:lnTo>
                <a:lnTo>
                  <a:pt x="6370" y="10030"/>
                </a:lnTo>
                <a:lnTo>
                  <a:pt x="6416" y="9999"/>
                </a:lnTo>
                <a:lnTo>
                  <a:pt x="6439" y="9953"/>
                </a:lnTo>
                <a:lnTo>
                  <a:pt x="6474" y="9908"/>
                </a:lnTo>
                <a:lnTo>
                  <a:pt x="6485" y="9862"/>
                </a:lnTo>
                <a:lnTo>
                  <a:pt x="6496" y="9816"/>
                </a:lnTo>
                <a:lnTo>
                  <a:pt x="6485" y="9771"/>
                </a:lnTo>
                <a:lnTo>
                  <a:pt x="6474" y="9740"/>
                </a:lnTo>
                <a:lnTo>
                  <a:pt x="6428" y="9664"/>
                </a:lnTo>
                <a:lnTo>
                  <a:pt x="6370" y="9588"/>
                </a:lnTo>
                <a:lnTo>
                  <a:pt x="6302" y="9527"/>
                </a:lnTo>
                <a:lnTo>
                  <a:pt x="6221" y="9481"/>
                </a:lnTo>
                <a:lnTo>
                  <a:pt x="6118" y="9420"/>
                </a:lnTo>
                <a:lnTo>
                  <a:pt x="5924" y="9328"/>
                </a:lnTo>
                <a:lnTo>
                  <a:pt x="5752" y="9267"/>
                </a:lnTo>
                <a:lnTo>
                  <a:pt x="5637" y="9222"/>
                </a:lnTo>
                <a:lnTo>
                  <a:pt x="5637" y="9222"/>
                </a:lnTo>
                <a:lnTo>
                  <a:pt x="5637" y="9298"/>
                </a:lnTo>
                <a:lnTo>
                  <a:pt x="5649" y="9374"/>
                </a:lnTo>
                <a:lnTo>
                  <a:pt x="5660" y="9450"/>
                </a:lnTo>
                <a:lnTo>
                  <a:pt x="5694" y="9481"/>
                </a:lnTo>
                <a:lnTo>
                  <a:pt x="5752" y="9618"/>
                </a:lnTo>
                <a:lnTo>
                  <a:pt x="5832" y="9725"/>
                </a:lnTo>
                <a:lnTo>
                  <a:pt x="6015" y="9938"/>
                </a:lnTo>
                <a:lnTo>
                  <a:pt x="6107" y="10045"/>
                </a:lnTo>
                <a:lnTo>
                  <a:pt x="6199" y="10182"/>
                </a:lnTo>
                <a:close/>
                <a:moveTo>
                  <a:pt x="11504" y="10121"/>
                </a:moveTo>
                <a:lnTo>
                  <a:pt x="11504" y="10121"/>
                </a:lnTo>
                <a:lnTo>
                  <a:pt x="11481" y="9984"/>
                </a:lnTo>
                <a:lnTo>
                  <a:pt x="11458" y="9908"/>
                </a:lnTo>
                <a:lnTo>
                  <a:pt x="11424" y="9847"/>
                </a:lnTo>
                <a:lnTo>
                  <a:pt x="11344" y="9771"/>
                </a:lnTo>
                <a:lnTo>
                  <a:pt x="11344" y="9771"/>
                </a:lnTo>
                <a:lnTo>
                  <a:pt x="11504" y="10121"/>
                </a:lnTo>
                <a:close/>
                <a:moveTo>
                  <a:pt x="527" y="9908"/>
                </a:moveTo>
                <a:lnTo>
                  <a:pt x="527" y="9908"/>
                </a:lnTo>
                <a:lnTo>
                  <a:pt x="595" y="9877"/>
                </a:lnTo>
                <a:lnTo>
                  <a:pt x="675" y="9847"/>
                </a:lnTo>
                <a:lnTo>
                  <a:pt x="733" y="9816"/>
                </a:lnTo>
                <a:lnTo>
                  <a:pt x="813" y="9816"/>
                </a:lnTo>
                <a:lnTo>
                  <a:pt x="882" y="9816"/>
                </a:lnTo>
                <a:lnTo>
                  <a:pt x="950" y="9816"/>
                </a:lnTo>
                <a:lnTo>
                  <a:pt x="1019" y="9816"/>
                </a:lnTo>
                <a:lnTo>
                  <a:pt x="1088" y="9847"/>
                </a:lnTo>
                <a:lnTo>
                  <a:pt x="1088" y="9847"/>
                </a:lnTo>
                <a:lnTo>
                  <a:pt x="1065" y="9664"/>
                </a:lnTo>
                <a:lnTo>
                  <a:pt x="1031" y="9588"/>
                </a:lnTo>
                <a:lnTo>
                  <a:pt x="996" y="9527"/>
                </a:lnTo>
                <a:lnTo>
                  <a:pt x="973" y="9481"/>
                </a:lnTo>
                <a:lnTo>
                  <a:pt x="916" y="9450"/>
                </a:lnTo>
                <a:lnTo>
                  <a:pt x="859" y="9405"/>
                </a:lnTo>
                <a:lnTo>
                  <a:pt x="779" y="9374"/>
                </a:lnTo>
                <a:lnTo>
                  <a:pt x="779" y="9374"/>
                </a:lnTo>
                <a:lnTo>
                  <a:pt x="527" y="9908"/>
                </a:lnTo>
                <a:close/>
                <a:moveTo>
                  <a:pt x="10885" y="9725"/>
                </a:moveTo>
                <a:lnTo>
                  <a:pt x="10885" y="9725"/>
                </a:lnTo>
                <a:lnTo>
                  <a:pt x="11137" y="9771"/>
                </a:lnTo>
                <a:lnTo>
                  <a:pt x="11137" y="9771"/>
                </a:lnTo>
                <a:lnTo>
                  <a:pt x="11115" y="9725"/>
                </a:lnTo>
                <a:lnTo>
                  <a:pt x="11080" y="9679"/>
                </a:lnTo>
                <a:lnTo>
                  <a:pt x="11034" y="9649"/>
                </a:lnTo>
                <a:lnTo>
                  <a:pt x="11000" y="9649"/>
                </a:lnTo>
                <a:lnTo>
                  <a:pt x="11000" y="9649"/>
                </a:lnTo>
                <a:lnTo>
                  <a:pt x="10966" y="9649"/>
                </a:lnTo>
                <a:lnTo>
                  <a:pt x="10931" y="9664"/>
                </a:lnTo>
                <a:lnTo>
                  <a:pt x="10885" y="9725"/>
                </a:lnTo>
                <a:close/>
                <a:moveTo>
                  <a:pt x="1970" y="9771"/>
                </a:moveTo>
                <a:lnTo>
                  <a:pt x="1970" y="9771"/>
                </a:lnTo>
                <a:lnTo>
                  <a:pt x="2039" y="9740"/>
                </a:lnTo>
                <a:lnTo>
                  <a:pt x="2073" y="9725"/>
                </a:lnTo>
                <a:lnTo>
                  <a:pt x="2119" y="9664"/>
                </a:lnTo>
                <a:lnTo>
                  <a:pt x="2142" y="9603"/>
                </a:lnTo>
                <a:lnTo>
                  <a:pt x="2154" y="9542"/>
                </a:lnTo>
                <a:lnTo>
                  <a:pt x="2154" y="9481"/>
                </a:lnTo>
                <a:lnTo>
                  <a:pt x="2142" y="9389"/>
                </a:lnTo>
                <a:lnTo>
                  <a:pt x="2131" y="9298"/>
                </a:lnTo>
                <a:lnTo>
                  <a:pt x="2131" y="9298"/>
                </a:lnTo>
                <a:lnTo>
                  <a:pt x="1970" y="9771"/>
                </a:lnTo>
                <a:close/>
                <a:moveTo>
                  <a:pt x="2383" y="9496"/>
                </a:moveTo>
                <a:lnTo>
                  <a:pt x="2383" y="9496"/>
                </a:lnTo>
                <a:lnTo>
                  <a:pt x="2440" y="9496"/>
                </a:lnTo>
                <a:lnTo>
                  <a:pt x="2486" y="9481"/>
                </a:lnTo>
                <a:lnTo>
                  <a:pt x="2520" y="9481"/>
                </a:lnTo>
                <a:lnTo>
                  <a:pt x="2555" y="9466"/>
                </a:lnTo>
                <a:lnTo>
                  <a:pt x="2578" y="9435"/>
                </a:lnTo>
                <a:lnTo>
                  <a:pt x="2612" y="9405"/>
                </a:lnTo>
                <a:lnTo>
                  <a:pt x="2623" y="9374"/>
                </a:lnTo>
                <a:lnTo>
                  <a:pt x="2635" y="9344"/>
                </a:lnTo>
                <a:lnTo>
                  <a:pt x="2635" y="9298"/>
                </a:lnTo>
                <a:lnTo>
                  <a:pt x="2635" y="9283"/>
                </a:lnTo>
                <a:lnTo>
                  <a:pt x="2612" y="9237"/>
                </a:lnTo>
                <a:lnTo>
                  <a:pt x="2589" y="9222"/>
                </a:lnTo>
                <a:lnTo>
                  <a:pt x="2566" y="9206"/>
                </a:lnTo>
                <a:lnTo>
                  <a:pt x="2532" y="9191"/>
                </a:lnTo>
                <a:lnTo>
                  <a:pt x="2486" y="9176"/>
                </a:lnTo>
                <a:lnTo>
                  <a:pt x="2440" y="9176"/>
                </a:lnTo>
                <a:lnTo>
                  <a:pt x="2440" y="9176"/>
                </a:lnTo>
                <a:lnTo>
                  <a:pt x="2383" y="9496"/>
                </a:lnTo>
                <a:close/>
                <a:moveTo>
                  <a:pt x="10003" y="9450"/>
                </a:moveTo>
                <a:lnTo>
                  <a:pt x="10003" y="9450"/>
                </a:lnTo>
                <a:lnTo>
                  <a:pt x="9969" y="9374"/>
                </a:lnTo>
                <a:lnTo>
                  <a:pt x="9934" y="9298"/>
                </a:lnTo>
                <a:lnTo>
                  <a:pt x="9877" y="9252"/>
                </a:lnTo>
                <a:lnTo>
                  <a:pt x="9820" y="9222"/>
                </a:lnTo>
                <a:lnTo>
                  <a:pt x="9774" y="9176"/>
                </a:lnTo>
                <a:lnTo>
                  <a:pt x="9705" y="9145"/>
                </a:lnTo>
                <a:lnTo>
                  <a:pt x="9545" y="9100"/>
                </a:lnTo>
                <a:lnTo>
                  <a:pt x="9545" y="9100"/>
                </a:lnTo>
                <a:lnTo>
                  <a:pt x="10003" y="9450"/>
                </a:lnTo>
                <a:close/>
                <a:moveTo>
                  <a:pt x="1351" y="9176"/>
                </a:moveTo>
                <a:lnTo>
                  <a:pt x="1351" y="9176"/>
                </a:lnTo>
                <a:lnTo>
                  <a:pt x="996" y="9176"/>
                </a:lnTo>
                <a:lnTo>
                  <a:pt x="996" y="9176"/>
                </a:lnTo>
                <a:lnTo>
                  <a:pt x="1008" y="9222"/>
                </a:lnTo>
                <a:lnTo>
                  <a:pt x="1031" y="9252"/>
                </a:lnTo>
                <a:lnTo>
                  <a:pt x="1077" y="9298"/>
                </a:lnTo>
                <a:lnTo>
                  <a:pt x="1134" y="9344"/>
                </a:lnTo>
                <a:lnTo>
                  <a:pt x="1203" y="9359"/>
                </a:lnTo>
                <a:lnTo>
                  <a:pt x="1260" y="9344"/>
                </a:lnTo>
                <a:lnTo>
                  <a:pt x="1306" y="9298"/>
                </a:lnTo>
                <a:lnTo>
                  <a:pt x="1328" y="9283"/>
                </a:lnTo>
                <a:lnTo>
                  <a:pt x="1340" y="9252"/>
                </a:lnTo>
                <a:lnTo>
                  <a:pt x="1351" y="9222"/>
                </a:lnTo>
                <a:lnTo>
                  <a:pt x="1351" y="9176"/>
                </a:lnTo>
                <a:close/>
                <a:moveTo>
                  <a:pt x="2589" y="9100"/>
                </a:moveTo>
                <a:lnTo>
                  <a:pt x="2589" y="9100"/>
                </a:lnTo>
                <a:lnTo>
                  <a:pt x="2692" y="9206"/>
                </a:lnTo>
                <a:lnTo>
                  <a:pt x="2784" y="9237"/>
                </a:lnTo>
                <a:lnTo>
                  <a:pt x="2853" y="9283"/>
                </a:lnTo>
                <a:lnTo>
                  <a:pt x="2887" y="9283"/>
                </a:lnTo>
                <a:lnTo>
                  <a:pt x="2910" y="9283"/>
                </a:lnTo>
                <a:lnTo>
                  <a:pt x="2921" y="9267"/>
                </a:lnTo>
                <a:lnTo>
                  <a:pt x="2944" y="9237"/>
                </a:lnTo>
                <a:lnTo>
                  <a:pt x="2956" y="9222"/>
                </a:lnTo>
                <a:lnTo>
                  <a:pt x="2967" y="9191"/>
                </a:lnTo>
                <a:lnTo>
                  <a:pt x="2967" y="9084"/>
                </a:lnTo>
                <a:lnTo>
                  <a:pt x="2956" y="8962"/>
                </a:lnTo>
                <a:lnTo>
                  <a:pt x="2956" y="8962"/>
                </a:lnTo>
                <a:lnTo>
                  <a:pt x="2853" y="8917"/>
                </a:lnTo>
                <a:lnTo>
                  <a:pt x="2807" y="8901"/>
                </a:lnTo>
                <a:lnTo>
                  <a:pt x="2772" y="8901"/>
                </a:lnTo>
                <a:lnTo>
                  <a:pt x="2772" y="8901"/>
                </a:lnTo>
                <a:lnTo>
                  <a:pt x="2704" y="8917"/>
                </a:lnTo>
                <a:lnTo>
                  <a:pt x="2646" y="8962"/>
                </a:lnTo>
                <a:lnTo>
                  <a:pt x="2623" y="9008"/>
                </a:lnTo>
                <a:lnTo>
                  <a:pt x="2589" y="9100"/>
                </a:lnTo>
                <a:close/>
                <a:moveTo>
                  <a:pt x="3162" y="9100"/>
                </a:moveTo>
                <a:lnTo>
                  <a:pt x="3162" y="9100"/>
                </a:lnTo>
                <a:lnTo>
                  <a:pt x="3208" y="9054"/>
                </a:lnTo>
                <a:lnTo>
                  <a:pt x="3231" y="9008"/>
                </a:lnTo>
                <a:lnTo>
                  <a:pt x="3265" y="8962"/>
                </a:lnTo>
                <a:lnTo>
                  <a:pt x="3288" y="8932"/>
                </a:lnTo>
                <a:lnTo>
                  <a:pt x="3288" y="8871"/>
                </a:lnTo>
                <a:lnTo>
                  <a:pt x="3299" y="8825"/>
                </a:lnTo>
                <a:lnTo>
                  <a:pt x="3299" y="8779"/>
                </a:lnTo>
                <a:lnTo>
                  <a:pt x="3288" y="8734"/>
                </a:lnTo>
                <a:lnTo>
                  <a:pt x="3277" y="8703"/>
                </a:lnTo>
                <a:lnTo>
                  <a:pt x="3242" y="8642"/>
                </a:lnTo>
                <a:lnTo>
                  <a:pt x="3197" y="8566"/>
                </a:lnTo>
                <a:lnTo>
                  <a:pt x="3105" y="8490"/>
                </a:lnTo>
                <a:lnTo>
                  <a:pt x="3001" y="8444"/>
                </a:lnTo>
                <a:lnTo>
                  <a:pt x="3001" y="8444"/>
                </a:lnTo>
                <a:lnTo>
                  <a:pt x="3162" y="9100"/>
                </a:lnTo>
                <a:close/>
                <a:moveTo>
                  <a:pt x="2245" y="8917"/>
                </a:moveTo>
                <a:lnTo>
                  <a:pt x="2245" y="8917"/>
                </a:lnTo>
                <a:close/>
                <a:moveTo>
                  <a:pt x="1145" y="8764"/>
                </a:moveTo>
                <a:lnTo>
                  <a:pt x="1145" y="8764"/>
                </a:lnTo>
                <a:lnTo>
                  <a:pt x="1134" y="8871"/>
                </a:lnTo>
                <a:lnTo>
                  <a:pt x="1145" y="8962"/>
                </a:lnTo>
                <a:lnTo>
                  <a:pt x="1157" y="8993"/>
                </a:lnTo>
                <a:lnTo>
                  <a:pt x="1180" y="9039"/>
                </a:lnTo>
                <a:lnTo>
                  <a:pt x="1203" y="9039"/>
                </a:lnTo>
                <a:lnTo>
                  <a:pt x="1226" y="9069"/>
                </a:lnTo>
                <a:lnTo>
                  <a:pt x="1283" y="9084"/>
                </a:lnTo>
                <a:lnTo>
                  <a:pt x="1375" y="9069"/>
                </a:lnTo>
                <a:lnTo>
                  <a:pt x="1489" y="9039"/>
                </a:lnTo>
                <a:lnTo>
                  <a:pt x="1615" y="8962"/>
                </a:lnTo>
                <a:lnTo>
                  <a:pt x="1615" y="8962"/>
                </a:lnTo>
                <a:lnTo>
                  <a:pt x="1615" y="8886"/>
                </a:lnTo>
                <a:lnTo>
                  <a:pt x="1592" y="8825"/>
                </a:lnTo>
                <a:lnTo>
                  <a:pt x="1569" y="8779"/>
                </a:lnTo>
                <a:lnTo>
                  <a:pt x="1558" y="8734"/>
                </a:lnTo>
                <a:lnTo>
                  <a:pt x="1512" y="8703"/>
                </a:lnTo>
                <a:lnTo>
                  <a:pt x="1489" y="8688"/>
                </a:lnTo>
                <a:lnTo>
                  <a:pt x="1455" y="8688"/>
                </a:lnTo>
                <a:lnTo>
                  <a:pt x="1420" y="8673"/>
                </a:lnTo>
                <a:lnTo>
                  <a:pt x="1420" y="8673"/>
                </a:lnTo>
                <a:lnTo>
                  <a:pt x="1340" y="8688"/>
                </a:lnTo>
                <a:lnTo>
                  <a:pt x="1283" y="8703"/>
                </a:lnTo>
                <a:lnTo>
                  <a:pt x="1214" y="8718"/>
                </a:lnTo>
                <a:lnTo>
                  <a:pt x="1145" y="8764"/>
                </a:lnTo>
                <a:close/>
                <a:moveTo>
                  <a:pt x="16661" y="8002"/>
                </a:moveTo>
                <a:lnTo>
                  <a:pt x="16661" y="8002"/>
                </a:lnTo>
                <a:lnTo>
                  <a:pt x="16741" y="7911"/>
                </a:lnTo>
                <a:lnTo>
                  <a:pt x="16810" y="7835"/>
                </a:lnTo>
                <a:lnTo>
                  <a:pt x="16878" y="7743"/>
                </a:lnTo>
                <a:lnTo>
                  <a:pt x="16913" y="7682"/>
                </a:lnTo>
                <a:lnTo>
                  <a:pt x="16947" y="7606"/>
                </a:lnTo>
                <a:lnTo>
                  <a:pt x="16970" y="7530"/>
                </a:lnTo>
                <a:lnTo>
                  <a:pt x="16993" y="7469"/>
                </a:lnTo>
                <a:lnTo>
                  <a:pt x="17004" y="7408"/>
                </a:lnTo>
                <a:lnTo>
                  <a:pt x="17016" y="7225"/>
                </a:lnTo>
                <a:lnTo>
                  <a:pt x="17027" y="7057"/>
                </a:lnTo>
                <a:lnTo>
                  <a:pt x="17062" y="6859"/>
                </a:lnTo>
                <a:lnTo>
                  <a:pt x="17096" y="6722"/>
                </a:lnTo>
                <a:lnTo>
                  <a:pt x="17108" y="6600"/>
                </a:lnTo>
                <a:lnTo>
                  <a:pt x="17108" y="6600"/>
                </a:lnTo>
                <a:lnTo>
                  <a:pt x="17233" y="6615"/>
                </a:lnTo>
                <a:lnTo>
                  <a:pt x="17360" y="6645"/>
                </a:lnTo>
                <a:lnTo>
                  <a:pt x="17646" y="6706"/>
                </a:lnTo>
                <a:lnTo>
                  <a:pt x="17784" y="6752"/>
                </a:lnTo>
                <a:lnTo>
                  <a:pt x="17909" y="6767"/>
                </a:lnTo>
                <a:lnTo>
                  <a:pt x="18036" y="6767"/>
                </a:lnTo>
                <a:lnTo>
                  <a:pt x="18093" y="6752"/>
                </a:lnTo>
                <a:lnTo>
                  <a:pt x="18150" y="6722"/>
                </a:lnTo>
                <a:lnTo>
                  <a:pt x="18150" y="6722"/>
                </a:lnTo>
                <a:lnTo>
                  <a:pt x="17841" y="6386"/>
                </a:lnTo>
                <a:lnTo>
                  <a:pt x="17841" y="6386"/>
                </a:lnTo>
                <a:lnTo>
                  <a:pt x="17669" y="6295"/>
                </a:lnTo>
                <a:lnTo>
                  <a:pt x="17509" y="6234"/>
                </a:lnTo>
                <a:lnTo>
                  <a:pt x="17337" y="6203"/>
                </a:lnTo>
                <a:lnTo>
                  <a:pt x="17176" y="6188"/>
                </a:lnTo>
                <a:lnTo>
                  <a:pt x="17027" y="6219"/>
                </a:lnTo>
                <a:lnTo>
                  <a:pt x="16890" y="6264"/>
                </a:lnTo>
                <a:lnTo>
                  <a:pt x="16741" y="6325"/>
                </a:lnTo>
                <a:lnTo>
                  <a:pt x="16626" y="6401"/>
                </a:lnTo>
                <a:lnTo>
                  <a:pt x="16523" y="6523"/>
                </a:lnTo>
                <a:lnTo>
                  <a:pt x="16420" y="6630"/>
                </a:lnTo>
                <a:lnTo>
                  <a:pt x="16340" y="6767"/>
                </a:lnTo>
                <a:lnTo>
                  <a:pt x="16283" y="6920"/>
                </a:lnTo>
                <a:lnTo>
                  <a:pt x="16236" y="7088"/>
                </a:lnTo>
                <a:lnTo>
                  <a:pt x="16225" y="7164"/>
                </a:lnTo>
                <a:lnTo>
                  <a:pt x="16214" y="7240"/>
                </a:lnTo>
                <a:lnTo>
                  <a:pt x="16214" y="7347"/>
                </a:lnTo>
                <a:lnTo>
                  <a:pt x="16214" y="7423"/>
                </a:lnTo>
                <a:lnTo>
                  <a:pt x="16225" y="7514"/>
                </a:lnTo>
                <a:lnTo>
                  <a:pt x="16236" y="7621"/>
                </a:lnTo>
                <a:lnTo>
                  <a:pt x="16236" y="7621"/>
                </a:lnTo>
                <a:lnTo>
                  <a:pt x="16202" y="7667"/>
                </a:lnTo>
                <a:lnTo>
                  <a:pt x="16145" y="7682"/>
                </a:lnTo>
                <a:lnTo>
                  <a:pt x="16076" y="7713"/>
                </a:lnTo>
                <a:lnTo>
                  <a:pt x="15985" y="7743"/>
                </a:lnTo>
                <a:lnTo>
                  <a:pt x="15790" y="7758"/>
                </a:lnTo>
                <a:lnTo>
                  <a:pt x="15572" y="7789"/>
                </a:lnTo>
                <a:lnTo>
                  <a:pt x="15137" y="7819"/>
                </a:lnTo>
                <a:lnTo>
                  <a:pt x="14942" y="7835"/>
                </a:lnTo>
                <a:lnTo>
                  <a:pt x="14873" y="7865"/>
                </a:lnTo>
                <a:lnTo>
                  <a:pt x="14793" y="7895"/>
                </a:lnTo>
                <a:lnTo>
                  <a:pt x="14793" y="7895"/>
                </a:lnTo>
                <a:lnTo>
                  <a:pt x="14861" y="7972"/>
                </a:lnTo>
                <a:lnTo>
                  <a:pt x="14908" y="8063"/>
                </a:lnTo>
                <a:lnTo>
                  <a:pt x="14942" y="8185"/>
                </a:lnTo>
                <a:lnTo>
                  <a:pt x="14953" y="8292"/>
                </a:lnTo>
                <a:lnTo>
                  <a:pt x="14953" y="8292"/>
                </a:lnTo>
                <a:lnTo>
                  <a:pt x="14804" y="8261"/>
                </a:lnTo>
                <a:lnTo>
                  <a:pt x="14678" y="8200"/>
                </a:lnTo>
                <a:lnTo>
                  <a:pt x="14415" y="8109"/>
                </a:lnTo>
                <a:lnTo>
                  <a:pt x="14289" y="8078"/>
                </a:lnTo>
                <a:lnTo>
                  <a:pt x="14163" y="8048"/>
                </a:lnTo>
                <a:lnTo>
                  <a:pt x="14014" y="8063"/>
                </a:lnTo>
                <a:lnTo>
                  <a:pt x="13945" y="8063"/>
                </a:lnTo>
                <a:lnTo>
                  <a:pt x="13865" y="8094"/>
                </a:lnTo>
                <a:lnTo>
                  <a:pt x="13865" y="8094"/>
                </a:lnTo>
                <a:lnTo>
                  <a:pt x="13945" y="8246"/>
                </a:lnTo>
                <a:lnTo>
                  <a:pt x="14014" y="8368"/>
                </a:lnTo>
                <a:lnTo>
                  <a:pt x="14071" y="8459"/>
                </a:lnTo>
                <a:lnTo>
                  <a:pt x="14151" y="8536"/>
                </a:lnTo>
                <a:lnTo>
                  <a:pt x="14220" y="8612"/>
                </a:lnTo>
                <a:lnTo>
                  <a:pt x="14300" y="8642"/>
                </a:lnTo>
                <a:lnTo>
                  <a:pt x="14369" y="8673"/>
                </a:lnTo>
                <a:lnTo>
                  <a:pt x="14449" y="8688"/>
                </a:lnTo>
                <a:lnTo>
                  <a:pt x="14529" y="8688"/>
                </a:lnTo>
                <a:lnTo>
                  <a:pt x="14610" y="8673"/>
                </a:lnTo>
                <a:lnTo>
                  <a:pt x="14793" y="8627"/>
                </a:lnTo>
                <a:lnTo>
                  <a:pt x="14976" y="8597"/>
                </a:lnTo>
                <a:lnTo>
                  <a:pt x="15159" y="8566"/>
                </a:lnTo>
                <a:lnTo>
                  <a:pt x="15159" y="8566"/>
                </a:lnTo>
                <a:lnTo>
                  <a:pt x="15159" y="8673"/>
                </a:lnTo>
                <a:lnTo>
                  <a:pt x="15159" y="8749"/>
                </a:lnTo>
                <a:lnTo>
                  <a:pt x="15159" y="8825"/>
                </a:lnTo>
                <a:lnTo>
                  <a:pt x="15171" y="8886"/>
                </a:lnTo>
                <a:lnTo>
                  <a:pt x="15194" y="8947"/>
                </a:lnTo>
                <a:lnTo>
                  <a:pt x="15217" y="8962"/>
                </a:lnTo>
                <a:lnTo>
                  <a:pt x="15251" y="8993"/>
                </a:lnTo>
                <a:lnTo>
                  <a:pt x="15297" y="9023"/>
                </a:lnTo>
                <a:lnTo>
                  <a:pt x="15331" y="9023"/>
                </a:lnTo>
                <a:lnTo>
                  <a:pt x="15366" y="9023"/>
                </a:lnTo>
                <a:lnTo>
                  <a:pt x="15492" y="8978"/>
                </a:lnTo>
                <a:lnTo>
                  <a:pt x="15595" y="8932"/>
                </a:lnTo>
                <a:lnTo>
                  <a:pt x="15732" y="8856"/>
                </a:lnTo>
                <a:lnTo>
                  <a:pt x="15870" y="8734"/>
                </a:lnTo>
                <a:lnTo>
                  <a:pt x="15996" y="8627"/>
                </a:lnTo>
                <a:lnTo>
                  <a:pt x="16259" y="8383"/>
                </a:lnTo>
                <a:lnTo>
                  <a:pt x="16661" y="8002"/>
                </a:lnTo>
                <a:close/>
                <a:moveTo>
                  <a:pt x="8364" y="8566"/>
                </a:moveTo>
                <a:lnTo>
                  <a:pt x="8364" y="8566"/>
                </a:lnTo>
                <a:lnTo>
                  <a:pt x="8318" y="8459"/>
                </a:lnTo>
                <a:lnTo>
                  <a:pt x="8273" y="8383"/>
                </a:lnTo>
                <a:lnTo>
                  <a:pt x="8227" y="8307"/>
                </a:lnTo>
                <a:lnTo>
                  <a:pt x="8158" y="8246"/>
                </a:lnTo>
                <a:lnTo>
                  <a:pt x="8089" y="8185"/>
                </a:lnTo>
                <a:lnTo>
                  <a:pt x="8020" y="8155"/>
                </a:lnTo>
                <a:lnTo>
                  <a:pt x="7929" y="8109"/>
                </a:lnTo>
                <a:lnTo>
                  <a:pt x="7837" y="8094"/>
                </a:lnTo>
                <a:lnTo>
                  <a:pt x="7837" y="8094"/>
                </a:lnTo>
                <a:lnTo>
                  <a:pt x="7929" y="8002"/>
                </a:lnTo>
                <a:lnTo>
                  <a:pt x="7998" y="7956"/>
                </a:lnTo>
                <a:lnTo>
                  <a:pt x="8043" y="7926"/>
                </a:lnTo>
                <a:lnTo>
                  <a:pt x="8078" y="7895"/>
                </a:lnTo>
                <a:lnTo>
                  <a:pt x="8078" y="7865"/>
                </a:lnTo>
                <a:lnTo>
                  <a:pt x="8078" y="7850"/>
                </a:lnTo>
                <a:lnTo>
                  <a:pt x="8067" y="7804"/>
                </a:lnTo>
                <a:lnTo>
                  <a:pt x="8009" y="7713"/>
                </a:lnTo>
                <a:lnTo>
                  <a:pt x="7894" y="7621"/>
                </a:lnTo>
                <a:lnTo>
                  <a:pt x="7894" y="7621"/>
                </a:lnTo>
                <a:lnTo>
                  <a:pt x="7940" y="7591"/>
                </a:lnTo>
                <a:lnTo>
                  <a:pt x="7986" y="7575"/>
                </a:lnTo>
                <a:lnTo>
                  <a:pt x="8043" y="7514"/>
                </a:lnTo>
                <a:lnTo>
                  <a:pt x="8089" y="7438"/>
                </a:lnTo>
                <a:lnTo>
                  <a:pt x="8135" y="7362"/>
                </a:lnTo>
                <a:lnTo>
                  <a:pt x="8147" y="7271"/>
                </a:lnTo>
                <a:lnTo>
                  <a:pt x="8135" y="7194"/>
                </a:lnTo>
                <a:lnTo>
                  <a:pt x="8124" y="7164"/>
                </a:lnTo>
                <a:lnTo>
                  <a:pt x="8101" y="7133"/>
                </a:lnTo>
                <a:lnTo>
                  <a:pt x="8078" y="7103"/>
                </a:lnTo>
                <a:lnTo>
                  <a:pt x="8043" y="7072"/>
                </a:lnTo>
                <a:lnTo>
                  <a:pt x="8043" y="7072"/>
                </a:lnTo>
                <a:lnTo>
                  <a:pt x="8135" y="7027"/>
                </a:lnTo>
                <a:lnTo>
                  <a:pt x="8192" y="6966"/>
                </a:lnTo>
                <a:lnTo>
                  <a:pt x="8227" y="6920"/>
                </a:lnTo>
                <a:lnTo>
                  <a:pt x="8250" y="6889"/>
                </a:lnTo>
                <a:lnTo>
                  <a:pt x="8261" y="6828"/>
                </a:lnTo>
                <a:lnTo>
                  <a:pt x="8261" y="6783"/>
                </a:lnTo>
                <a:lnTo>
                  <a:pt x="8250" y="6676"/>
                </a:lnTo>
                <a:lnTo>
                  <a:pt x="8238" y="6569"/>
                </a:lnTo>
                <a:lnTo>
                  <a:pt x="8250" y="6523"/>
                </a:lnTo>
                <a:lnTo>
                  <a:pt x="8261" y="6447"/>
                </a:lnTo>
                <a:lnTo>
                  <a:pt x="8296" y="6386"/>
                </a:lnTo>
                <a:lnTo>
                  <a:pt x="8353" y="6340"/>
                </a:lnTo>
                <a:lnTo>
                  <a:pt x="8422" y="6264"/>
                </a:lnTo>
                <a:lnTo>
                  <a:pt x="8513" y="6188"/>
                </a:lnTo>
                <a:lnTo>
                  <a:pt x="8513" y="6188"/>
                </a:lnTo>
                <a:lnTo>
                  <a:pt x="8364" y="6112"/>
                </a:lnTo>
                <a:lnTo>
                  <a:pt x="8284" y="6051"/>
                </a:lnTo>
                <a:lnTo>
                  <a:pt x="8250" y="6020"/>
                </a:lnTo>
                <a:lnTo>
                  <a:pt x="8250" y="6005"/>
                </a:lnTo>
                <a:lnTo>
                  <a:pt x="8261" y="5990"/>
                </a:lnTo>
                <a:lnTo>
                  <a:pt x="8284" y="5975"/>
                </a:lnTo>
                <a:lnTo>
                  <a:pt x="8364" y="5944"/>
                </a:lnTo>
                <a:lnTo>
                  <a:pt x="8479" y="5929"/>
                </a:lnTo>
                <a:lnTo>
                  <a:pt x="8834" y="5868"/>
                </a:lnTo>
                <a:lnTo>
                  <a:pt x="8834" y="5868"/>
                </a:lnTo>
                <a:lnTo>
                  <a:pt x="8972" y="5944"/>
                </a:lnTo>
                <a:lnTo>
                  <a:pt x="9075" y="6051"/>
                </a:lnTo>
                <a:lnTo>
                  <a:pt x="9178" y="6158"/>
                </a:lnTo>
                <a:lnTo>
                  <a:pt x="9258" y="6280"/>
                </a:lnTo>
                <a:lnTo>
                  <a:pt x="9338" y="6401"/>
                </a:lnTo>
                <a:lnTo>
                  <a:pt x="9407" y="6539"/>
                </a:lnTo>
                <a:lnTo>
                  <a:pt x="9556" y="6798"/>
                </a:lnTo>
                <a:lnTo>
                  <a:pt x="9693" y="7072"/>
                </a:lnTo>
                <a:lnTo>
                  <a:pt x="9785" y="7210"/>
                </a:lnTo>
                <a:lnTo>
                  <a:pt x="9877" y="7347"/>
                </a:lnTo>
                <a:lnTo>
                  <a:pt x="9980" y="7469"/>
                </a:lnTo>
                <a:lnTo>
                  <a:pt x="10118" y="7591"/>
                </a:lnTo>
                <a:lnTo>
                  <a:pt x="10255" y="7713"/>
                </a:lnTo>
                <a:lnTo>
                  <a:pt x="10427" y="7819"/>
                </a:lnTo>
                <a:lnTo>
                  <a:pt x="10427" y="7819"/>
                </a:lnTo>
                <a:lnTo>
                  <a:pt x="10438" y="7728"/>
                </a:lnTo>
                <a:lnTo>
                  <a:pt x="10450" y="7667"/>
                </a:lnTo>
                <a:lnTo>
                  <a:pt x="10473" y="7575"/>
                </a:lnTo>
                <a:lnTo>
                  <a:pt x="10507" y="7530"/>
                </a:lnTo>
                <a:lnTo>
                  <a:pt x="10530" y="7469"/>
                </a:lnTo>
                <a:lnTo>
                  <a:pt x="10553" y="7423"/>
                </a:lnTo>
                <a:lnTo>
                  <a:pt x="10633" y="7362"/>
                </a:lnTo>
                <a:lnTo>
                  <a:pt x="10725" y="7316"/>
                </a:lnTo>
                <a:lnTo>
                  <a:pt x="10817" y="7271"/>
                </a:lnTo>
                <a:lnTo>
                  <a:pt x="11034" y="7210"/>
                </a:lnTo>
                <a:lnTo>
                  <a:pt x="11034" y="7210"/>
                </a:lnTo>
                <a:lnTo>
                  <a:pt x="11069" y="7027"/>
                </a:lnTo>
                <a:lnTo>
                  <a:pt x="11103" y="6859"/>
                </a:lnTo>
                <a:lnTo>
                  <a:pt x="11149" y="6676"/>
                </a:lnTo>
                <a:lnTo>
                  <a:pt x="11229" y="6523"/>
                </a:lnTo>
                <a:lnTo>
                  <a:pt x="11309" y="6371"/>
                </a:lnTo>
                <a:lnTo>
                  <a:pt x="11389" y="6234"/>
                </a:lnTo>
                <a:lnTo>
                  <a:pt x="11504" y="6112"/>
                </a:lnTo>
                <a:lnTo>
                  <a:pt x="11607" y="5990"/>
                </a:lnTo>
                <a:lnTo>
                  <a:pt x="11607" y="5990"/>
                </a:lnTo>
                <a:lnTo>
                  <a:pt x="11538" y="5853"/>
                </a:lnTo>
                <a:lnTo>
                  <a:pt x="11504" y="5685"/>
                </a:lnTo>
                <a:lnTo>
                  <a:pt x="11493" y="5563"/>
                </a:lnTo>
                <a:lnTo>
                  <a:pt x="11493" y="5426"/>
                </a:lnTo>
                <a:lnTo>
                  <a:pt x="11504" y="5335"/>
                </a:lnTo>
                <a:lnTo>
                  <a:pt x="11527" y="5228"/>
                </a:lnTo>
                <a:lnTo>
                  <a:pt x="11573" y="5152"/>
                </a:lnTo>
                <a:lnTo>
                  <a:pt x="11619" y="5091"/>
                </a:lnTo>
                <a:lnTo>
                  <a:pt x="11664" y="5060"/>
                </a:lnTo>
                <a:lnTo>
                  <a:pt x="11722" y="5030"/>
                </a:lnTo>
                <a:lnTo>
                  <a:pt x="11768" y="5030"/>
                </a:lnTo>
                <a:lnTo>
                  <a:pt x="11813" y="5076"/>
                </a:lnTo>
                <a:lnTo>
                  <a:pt x="11871" y="5106"/>
                </a:lnTo>
                <a:lnTo>
                  <a:pt x="11894" y="5197"/>
                </a:lnTo>
                <a:lnTo>
                  <a:pt x="11905" y="5319"/>
                </a:lnTo>
                <a:lnTo>
                  <a:pt x="11916" y="5441"/>
                </a:lnTo>
                <a:lnTo>
                  <a:pt x="11916" y="5441"/>
                </a:lnTo>
                <a:lnTo>
                  <a:pt x="11974" y="5411"/>
                </a:lnTo>
                <a:lnTo>
                  <a:pt x="12020" y="5396"/>
                </a:lnTo>
                <a:lnTo>
                  <a:pt x="12054" y="5365"/>
                </a:lnTo>
                <a:lnTo>
                  <a:pt x="12077" y="5335"/>
                </a:lnTo>
                <a:lnTo>
                  <a:pt x="12089" y="5304"/>
                </a:lnTo>
                <a:lnTo>
                  <a:pt x="12089" y="5258"/>
                </a:lnTo>
                <a:lnTo>
                  <a:pt x="12089" y="5228"/>
                </a:lnTo>
                <a:lnTo>
                  <a:pt x="12065" y="5167"/>
                </a:lnTo>
                <a:lnTo>
                  <a:pt x="11997" y="5091"/>
                </a:lnTo>
                <a:lnTo>
                  <a:pt x="11905" y="4999"/>
                </a:lnTo>
                <a:lnTo>
                  <a:pt x="11802" y="4908"/>
                </a:lnTo>
                <a:lnTo>
                  <a:pt x="11687" y="4816"/>
                </a:lnTo>
                <a:lnTo>
                  <a:pt x="11424" y="4588"/>
                </a:lnTo>
                <a:lnTo>
                  <a:pt x="11298" y="4481"/>
                </a:lnTo>
                <a:lnTo>
                  <a:pt x="11172" y="4374"/>
                </a:lnTo>
                <a:lnTo>
                  <a:pt x="11080" y="4283"/>
                </a:lnTo>
                <a:lnTo>
                  <a:pt x="10988" y="4161"/>
                </a:lnTo>
                <a:lnTo>
                  <a:pt x="10954" y="4115"/>
                </a:lnTo>
                <a:lnTo>
                  <a:pt x="10931" y="4069"/>
                </a:lnTo>
                <a:lnTo>
                  <a:pt x="10931" y="4023"/>
                </a:lnTo>
                <a:lnTo>
                  <a:pt x="10920" y="3962"/>
                </a:lnTo>
                <a:lnTo>
                  <a:pt x="10920" y="3962"/>
                </a:lnTo>
                <a:lnTo>
                  <a:pt x="10897" y="3795"/>
                </a:lnTo>
                <a:lnTo>
                  <a:pt x="10862" y="3612"/>
                </a:lnTo>
                <a:lnTo>
                  <a:pt x="10828" y="3475"/>
                </a:lnTo>
                <a:lnTo>
                  <a:pt x="10782" y="3353"/>
                </a:lnTo>
                <a:lnTo>
                  <a:pt x="10725" y="3277"/>
                </a:lnTo>
                <a:lnTo>
                  <a:pt x="10656" y="3185"/>
                </a:lnTo>
                <a:lnTo>
                  <a:pt x="10576" y="3109"/>
                </a:lnTo>
                <a:lnTo>
                  <a:pt x="10507" y="3063"/>
                </a:lnTo>
                <a:lnTo>
                  <a:pt x="10416" y="3033"/>
                </a:lnTo>
                <a:lnTo>
                  <a:pt x="10324" y="3018"/>
                </a:lnTo>
                <a:lnTo>
                  <a:pt x="10221" y="3002"/>
                </a:lnTo>
                <a:lnTo>
                  <a:pt x="10129" y="3002"/>
                </a:lnTo>
                <a:lnTo>
                  <a:pt x="10003" y="3018"/>
                </a:lnTo>
                <a:lnTo>
                  <a:pt x="9900" y="3018"/>
                </a:lnTo>
                <a:lnTo>
                  <a:pt x="9659" y="3079"/>
                </a:lnTo>
                <a:lnTo>
                  <a:pt x="9419" y="3155"/>
                </a:lnTo>
                <a:lnTo>
                  <a:pt x="9166" y="3246"/>
                </a:lnTo>
                <a:lnTo>
                  <a:pt x="8926" y="3322"/>
                </a:lnTo>
                <a:lnTo>
                  <a:pt x="8674" y="3399"/>
                </a:lnTo>
                <a:lnTo>
                  <a:pt x="8433" y="3444"/>
                </a:lnTo>
                <a:lnTo>
                  <a:pt x="8330" y="3475"/>
                </a:lnTo>
                <a:lnTo>
                  <a:pt x="8227" y="3490"/>
                </a:lnTo>
                <a:lnTo>
                  <a:pt x="8124" y="3490"/>
                </a:lnTo>
                <a:lnTo>
                  <a:pt x="8020" y="3475"/>
                </a:lnTo>
                <a:lnTo>
                  <a:pt x="7929" y="3460"/>
                </a:lnTo>
                <a:lnTo>
                  <a:pt x="7837" y="3429"/>
                </a:lnTo>
                <a:lnTo>
                  <a:pt x="7837" y="3429"/>
                </a:lnTo>
                <a:lnTo>
                  <a:pt x="7860" y="3566"/>
                </a:lnTo>
                <a:lnTo>
                  <a:pt x="7860" y="3703"/>
                </a:lnTo>
                <a:lnTo>
                  <a:pt x="7860" y="3825"/>
                </a:lnTo>
                <a:lnTo>
                  <a:pt x="7837" y="3932"/>
                </a:lnTo>
                <a:lnTo>
                  <a:pt x="7814" y="3978"/>
                </a:lnTo>
                <a:lnTo>
                  <a:pt x="7791" y="4039"/>
                </a:lnTo>
                <a:lnTo>
                  <a:pt x="7769" y="4084"/>
                </a:lnTo>
                <a:lnTo>
                  <a:pt x="7734" y="4115"/>
                </a:lnTo>
                <a:lnTo>
                  <a:pt x="7688" y="4145"/>
                </a:lnTo>
                <a:lnTo>
                  <a:pt x="7654" y="4176"/>
                </a:lnTo>
                <a:lnTo>
                  <a:pt x="7539" y="4237"/>
                </a:lnTo>
                <a:lnTo>
                  <a:pt x="7539" y="4237"/>
                </a:lnTo>
                <a:lnTo>
                  <a:pt x="7597" y="4145"/>
                </a:lnTo>
                <a:lnTo>
                  <a:pt x="7654" y="4069"/>
                </a:lnTo>
                <a:lnTo>
                  <a:pt x="7677" y="3978"/>
                </a:lnTo>
                <a:lnTo>
                  <a:pt x="7711" y="3886"/>
                </a:lnTo>
                <a:lnTo>
                  <a:pt x="7711" y="3795"/>
                </a:lnTo>
                <a:lnTo>
                  <a:pt x="7700" y="3703"/>
                </a:lnTo>
                <a:lnTo>
                  <a:pt x="7677" y="3597"/>
                </a:lnTo>
                <a:lnTo>
                  <a:pt x="7654" y="3490"/>
                </a:lnTo>
                <a:lnTo>
                  <a:pt x="7654" y="3490"/>
                </a:lnTo>
                <a:lnTo>
                  <a:pt x="7471" y="3399"/>
                </a:lnTo>
                <a:lnTo>
                  <a:pt x="7402" y="3368"/>
                </a:lnTo>
                <a:lnTo>
                  <a:pt x="7322" y="3353"/>
                </a:lnTo>
                <a:lnTo>
                  <a:pt x="7264" y="3338"/>
                </a:lnTo>
                <a:lnTo>
                  <a:pt x="7207" y="3338"/>
                </a:lnTo>
                <a:lnTo>
                  <a:pt x="7150" y="3338"/>
                </a:lnTo>
                <a:lnTo>
                  <a:pt x="7081" y="3353"/>
                </a:lnTo>
                <a:lnTo>
                  <a:pt x="7046" y="3368"/>
                </a:lnTo>
                <a:lnTo>
                  <a:pt x="7001" y="3399"/>
                </a:lnTo>
                <a:lnTo>
                  <a:pt x="6955" y="3444"/>
                </a:lnTo>
                <a:lnTo>
                  <a:pt x="6932" y="3475"/>
                </a:lnTo>
                <a:lnTo>
                  <a:pt x="6886" y="3536"/>
                </a:lnTo>
                <a:lnTo>
                  <a:pt x="6875" y="3566"/>
                </a:lnTo>
                <a:lnTo>
                  <a:pt x="6829" y="3703"/>
                </a:lnTo>
                <a:lnTo>
                  <a:pt x="6806" y="3825"/>
                </a:lnTo>
                <a:lnTo>
                  <a:pt x="6794" y="3962"/>
                </a:lnTo>
                <a:lnTo>
                  <a:pt x="6794" y="4130"/>
                </a:lnTo>
                <a:lnTo>
                  <a:pt x="6817" y="4298"/>
                </a:lnTo>
                <a:lnTo>
                  <a:pt x="6852" y="4450"/>
                </a:lnTo>
                <a:lnTo>
                  <a:pt x="6875" y="4618"/>
                </a:lnTo>
                <a:lnTo>
                  <a:pt x="6932" y="4786"/>
                </a:lnTo>
                <a:lnTo>
                  <a:pt x="7001" y="4923"/>
                </a:lnTo>
                <a:lnTo>
                  <a:pt x="7001" y="4923"/>
                </a:lnTo>
                <a:lnTo>
                  <a:pt x="7046" y="5015"/>
                </a:lnTo>
                <a:lnTo>
                  <a:pt x="7081" y="5076"/>
                </a:lnTo>
                <a:lnTo>
                  <a:pt x="7138" y="5152"/>
                </a:lnTo>
                <a:lnTo>
                  <a:pt x="7195" y="5213"/>
                </a:lnTo>
                <a:lnTo>
                  <a:pt x="7299" y="5335"/>
                </a:lnTo>
                <a:lnTo>
                  <a:pt x="7436" y="5411"/>
                </a:lnTo>
                <a:lnTo>
                  <a:pt x="7436" y="5411"/>
                </a:lnTo>
                <a:lnTo>
                  <a:pt x="7344" y="5396"/>
                </a:lnTo>
                <a:lnTo>
                  <a:pt x="7253" y="5411"/>
                </a:lnTo>
                <a:lnTo>
                  <a:pt x="7161" y="5426"/>
                </a:lnTo>
                <a:lnTo>
                  <a:pt x="7070" y="5457"/>
                </a:lnTo>
                <a:lnTo>
                  <a:pt x="7001" y="5502"/>
                </a:lnTo>
                <a:lnTo>
                  <a:pt x="6932" y="5563"/>
                </a:lnTo>
                <a:lnTo>
                  <a:pt x="6875" y="5624"/>
                </a:lnTo>
                <a:lnTo>
                  <a:pt x="6817" y="5716"/>
                </a:lnTo>
                <a:lnTo>
                  <a:pt x="6817" y="5716"/>
                </a:lnTo>
                <a:lnTo>
                  <a:pt x="6634" y="5792"/>
                </a:lnTo>
                <a:lnTo>
                  <a:pt x="6496" y="5868"/>
                </a:lnTo>
                <a:lnTo>
                  <a:pt x="6370" y="5929"/>
                </a:lnTo>
                <a:lnTo>
                  <a:pt x="6290" y="6020"/>
                </a:lnTo>
                <a:lnTo>
                  <a:pt x="6221" y="6112"/>
                </a:lnTo>
                <a:lnTo>
                  <a:pt x="6164" y="6188"/>
                </a:lnTo>
                <a:lnTo>
                  <a:pt x="6141" y="6280"/>
                </a:lnTo>
                <a:lnTo>
                  <a:pt x="6107" y="6386"/>
                </a:lnTo>
                <a:lnTo>
                  <a:pt x="6073" y="6600"/>
                </a:lnTo>
                <a:lnTo>
                  <a:pt x="6050" y="6691"/>
                </a:lnTo>
                <a:lnTo>
                  <a:pt x="6004" y="6798"/>
                </a:lnTo>
                <a:lnTo>
                  <a:pt x="5958" y="6905"/>
                </a:lnTo>
                <a:lnTo>
                  <a:pt x="5901" y="7042"/>
                </a:lnTo>
                <a:lnTo>
                  <a:pt x="5798" y="7149"/>
                </a:lnTo>
                <a:lnTo>
                  <a:pt x="5683" y="7271"/>
                </a:lnTo>
                <a:lnTo>
                  <a:pt x="5683" y="7271"/>
                </a:lnTo>
                <a:lnTo>
                  <a:pt x="5534" y="7408"/>
                </a:lnTo>
                <a:lnTo>
                  <a:pt x="5385" y="7484"/>
                </a:lnTo>
                <a:lnTo>
                  <a:pt x="5236" y="7545"/>
                </a:lnTo>
                <a:lnTo>
                  <a:pt x="5087" y="7591"/>
                </a:lnTo>
                <a:lnTo>
                  <a:pt x="4778" y="7667"/>
                </a:lnTo>
                <a:lnTo>
                  <a:pt x="4640" y="7697"/>
                </a:lnTo>
                <a:lnTo>
                  <a:pt x="4514" y="7743"/>
                </a:lnTo>
                <a:lnTo>
                  <a:pt x="4377" y="7774"/>
                </a:lnTo>
                <a:lnTo>
                  <a:pt x="4262" y="7835"/>
                </a:lnTo>
                <a:lnTo>
                  <a:pt x="4159" y="7926"/>
                </a:lnTo>
                <a:lnTo>
                  <a:pt x="4102" y="7972"/>
                </a:lnTo>
                <a:lnTo>
                  <a:pt x="4056" y="8033"/>
                </a:lnTo>
                <a:lnTo>
                  <a:pt x="4010" y="8094"/>
                </a:lnTo>
                <a:lnTo>
                  <a:pt x="3987" y="8185"/>
                </a:lnTo>
                <a:lnTo>
                  <a:pt x="3941" y="8261"/>
                </a:lnTo>
                <a:lnTo>
                  <a:pt x="3918" y="8353"/>
                </a:lnTo>
                <a:lnTo>
                  <a:pt x="3884" y="8459"/>
                </a:lnTo>
                <a:lnTo>
                  <a:pt x="3861" y="8566"/>
                </a:lnTo>
                <a:lnTo>
                  <a:pt x="3838" y="8703"/>
                </a:lnTo>
                <a:lnTo>
                  <a:pt x="3827" y="8825"/>
                </a:lnTo>
                <a:lnTo>
                  <a:pt x="3827" y="8825"/>
                </a:lnTo>
                <a:lnTo>
                  <a:pt x="4010" y="8810"/>
                </a:lnTo>
                <a:lnTo>
                  <a:pt x="4193" y="8779"/>
                </a:lnTo>
                <a:lnTo>
                  <a:pt x="4365" y="8734"/>
                </a:lnTo>
                <a:lnTo>
                  <a:pt x="4526" y="8703"/>
                </a:lnTo>
                <a:lnTo>
                  <a:pt x="4674" y="8612"/>
                </a:lnTo>
                <a:lnTo>
                  <a:pt x="4823" y="8520"/>
                </a:lnTo>
                <a:lnTo>
                  <a:pt x="4961" y="8444"/>
                </a:lnTo>
                <a:lnTo>
                  <a:pt x="5099" y="8337"/>
                </a:lnTo>
                <a:lnTo>
                  <a:pt x="5213" y="8216"/>
                </a:lnTo>
                <a:lnTo>
                  <a:pt x="5339" y="8094"/>
                </a:lnTo>
                <a:lnTo>
                  <a:pt x="5454" y="7972"/>
                </a:lnTo>
                <a:lnTo>
                  <a:pt x="5557" y="7835"/>
                </a:lnTo>
                <a:lnTo>
                  <a:pt x="5660" y="7682"/>
                </a:lnTo>
                <a:lnTo>
                  <a:pt x="5763" y="7530"/>
                </a:lnTo>
                <a:lnTo>
                  <a:pt x="5855" y="7377"/>
                </a:lnTo>
                <a:lnTo>
                  <a:pt x="5935" y="7210"/>
                </a:lnTo>
                <a:lnTo>
                  <a:pt x="5935" y="7210"/>
                </a:lnTo>
                <a:lnTo>
                  <a:pt x="6107" y="7347"/>
                </a:lnTo>
                <a:lnTo>
                  <a:pt x="6233" y="7469"/>
                </a:lnTo>
                <a:lnTo>
                  <a:pt x="6313" y="7575"/>
                </a:lnTo>
                <a:lnTo>
                  <a:pt x="6359" y="7652"/>
                </a:lnTo>
                <a:lnTo>
                  <a:pt x="6370" y="7682"/>
                </a:lnTo>
                <a:lnTo>
                  <a:pt x="6394" y="7743"/>
                </a:lnTo>
                <a:lnTo>
                  <a:pt x="6405" y="7774"/>
                </a:lnTo>
                <a:lnTo>
                  <a:pt x="6405" y="7835"/>
                </a:lnTo>
                <a:lnTo>
                  <a:pt x="6394" y="7880"/>
                </a:lnTo>
                <a:lnTo>
                  <a:pt x="6359" y="7941"/>
                </a:lnTo>
                <a:lnTo>
                  <a:pt x="6313" y="8033"/>
                </a:lnTo>
                <a:lnTo>
                  <a:pt x="6267" y="8109"/>
                </a:lnTo>
                <a:lnTo>
                  <a:pt x="6176" y="8200"/>
                </a:lnTo>
                <a:lnTo>
                  <a:pt x="6004" y="8353"/>
                </a:lnTo>
                <a:lnTo>
                  <a:pt x="5809" y="8536"/>
                </a:lnTo>
                <a:lnTo>
                  <a:pt x="5717" y="8657"/>
                </a:lnTo>
                <a:lnTo>
                  <a:pt x="5637" y="8764"/>
                </a:lnTo>
                <a:lnTo>
                  <a:pt x="5637" y="8764"/>
                </a:lnTo>
                <a:lnTo>
                  <a:pt x="5683" y="8810"/>
                </a:lnTo>
                <a:lnTo>
                  <a:pt x="5729" y="8840"/>
                </a:lnTo>
                <a:lnTo>
                  <a:pt x="5809" y="8871"/>
                </a:lnTo>
                <a:lnTo>
                  <a:pt x="5889" y="8871"/>
                </a:lnTo>
                <a:lnTo>
                  <a:pt x="5969" y="8871"/>
                </a:lnTo>
                <a:lnTo>
                  <a:pt x="6073" y="8871"/>
                </a:lnTo>
                <a:lnTo>
                  <a:pt x="6153" y="8856"/>
                </a:lnTo>
                <a:lnTo>
                  <a:pt x="6256" y="8825"/>
                </a:lnTo>
                <a:lnTo>
                  <a:pt x="6336" y="8795"/>
                </a:lnTo>
                <a:lnTo>
                  <a:pt x="6428" y="8749"/>
                </a:lnTo>
                <a:lnTo>
                  <a:pt x="6496" y="8703"/>
                </a:lnTo>
                <a:lnTo>
                  <a:pt x="6577" y="8673"/>
                </a:lnTo>
                <a:lnTo>
                  <a:pt x="6634" y="8612"/>
                </a:lnTo>
                <a:lnTo>
                  <a:pt x="6680" y="8551"/>
                </a:lnTo>
                <a:lnTo>
                  <a:pt x="6703" y="8490"/>
                </a:lnTo>
                <a:lnTo>
                  <a:pt x="6714" y="8444"/>
                </a:lnTo>
                <a:lnTo>
                  <a:pt x="6714" y="8444"/>
                </a:lnTo>
                <a:lnTo>
                  <a:pt x="6829" y="8612"/>
                </a:lnTo>
                <a:lnTo>
                  <a:pt x="6932" y="8734"/>
                </a:lnTo>
                <a:lnTo>
                  <a:pt x="7035" y="8840"/>
                </a:lnTo>
                <a:lnTo>
                  <a:pt x="7115" y="8917"/>
                </a:lnTo>
                <a:lnTo>
                  <a:pt x="7207" y="8962"/>
                </a:lnTo>
                <a:lnTo>
                  <a:pt x="7276" y="8962"/>
                </a:lnTo>
                <a:lnTo>
                  <a:pt x="7356" y="8962"/>
                </a:lnTo>
                <a:lnTo>
                  <a:pt x="7436" y="8932"/>
                </a:lnTo>
                <a:lnTo>
                  <a:pt x="7516" y="8886"/>
                </a:lnTo>
                <a:lnTo>
                  <a:pt x="7620" y="8840"/>
                </a:lnTo>
                <a:lnTo>
                  <a:pt x="7814" y="8718"/>
                </a:lnTo>
                <a:lnTo>
                  <a:pt x="7929" y="8688"/>
                </a:lnTo>
                <a:lnTo>
                  <a:pt x="8055" y="8627"/>
                </a:lnTo>
                <a:lnTo>
                  <a:pt x="8204" y="8597"/>
                </a:lnTo>
                <a:lnTo>
                  <a:pt x="8364" y="8566"/>
                </a:lnTo>
                <a:close/>
                <a:moveTo>
                  <a:pt x="13773" y="8825"/>
                </a:moveTo>
                <a:lnTo>
                  <a:pt x="13773" y="8825"/>
                </a:lnTo>
                <a:lnTo>
                  <a:pt x="13624" y="8627"/>
                </a:lnTo>
                <a:lnTo>
                  <a:pt x="13624" y="8627"/>
                </a:lnTo>
                <a:lnTo>
                  <a:pt x="13647" y="8703"/>
                </a:lnTo>
                <a:lnTo>
                  <a:pt x="13681" y="8749"/>
                </a:lnTo>
                <a:lnTo>
                  <a:pt x="13773" y="8825"/>
                </a:lnTo>
                <a:close/>
                <a:moveTo>
                  <a:pt x="2635" y="8825"/>
                </a:moveTo>
                <a:lnTo>
                  <a:pt x="2635" y="8825"/>
                </a:lnTo>
                <a:lnTo>
                  <a:pt x="2727" y="8825"/>
                </a:lnTo>
                <a:lnTo>
                  <a:pt x="2784" y="8779"/>
                </a:lnTo>
                <a:lnTo>
                  <a:pt x="2818" y="8779"/>
                </a:lnTo>
                <a:lnTo>
                  <a:pt x="2830" y="8749"/>
                </a:lnTo>
                <a:lnTo>
                  <a:pt x="2830" y="8718"/>
                </a:lnTo>
                <a:lnTo>
                  <a:pt x="2830" y="8703"/>
                </a:lnTo>
                <a:lnTo>
                  <a:pt x="2830" y="8642"/>
                </a:lnTo>
                <a:lnTo>
                  <a:pt x="2795" y="8566"/>
                </a:lnTo>
                <a:lnTo>
                  <a:pt x="2761" y="8490"/>
                </a:lnTo>
                <a:lnTo>
                  <a:pt x="2692" y="8444"/>
                </a:lnTo>
                <a:lnTo>
                  <a:pt x="2692" y="8444"/>
                </a:lnTo>
                <a:lnTo>
                  <a:pt x="2635" y="8825"/>
                </a:lnTo>
                <a:close/>
                <a:moveTo>
                  <a:pt x="13567" y="8703"/>
                </a:moveTo>
                <a:lnTo>
                  <a:pt x="13567" y="8703"/>
                </a:lnTo>
                <a:lnTo>
                  <a:pt x="13509" y="8581"/>
                </a:lnTo>
                <a:lnTo>
                  <a:pt x="13464" y="8520"/>
                </a:lnTo>
                <a:lnTo>
                  <a:pt x="13418" y="8475"/>
                </a:lnTo>
                <a:lnTo>
                  <a:pt x="13303" y="8444"/>
                </a:lnTo>
                <a:lnTo>
                  <a:pt x="13303" y="8444"/>
                </a:lnTo>
                <a:lnTo>
                  <a:pt x="13567" y="8703"/>
                </a:lnTo>
                <a:close/>
                <a:moveTo>
                  <a:pt x="12890" y="8703"/>
                </a:moveTo>
                <a:lnTo>
                  <a:pt x="12890" y="8703"/>
                </a:lnTo>
                <a:lnTo>
                  <a:pt x="12856" y="8612"/>
                </a:lnTo>
                <a:lnTo>
                  <a:pt x="12799" y="8566"/>
                </a:lnTo>
                <a:lnTo>
                  <a:pt x="12799" y="8566"/>
                </a:lnTo>
                <a:lnTo>
                  <a:pt x="12890" y="8703"/>
                </a:lnTo>
                <a:close/>
                <a:moveTo>
                  <a:pt x="3414" y="8627"/>
                </a:moveTo>
                <a:lnTo>
                  <a:pt x="3414" y="8627"/>
                </a:lnTo>
                <a:lnTo>
                  <a:pt x="3494" y="8566"/>
                </a:lnTo>
                <a:lnTo>
                  <a:pt x="3575" y="8520"/>
                </a:lnTo>
                <a:lnTo>
                  <a:pt x="3597" y="8459"/>
                </a:lnTo>
                <a:lnTo>
                  <a:pt x="3632" y="8429"/>
                </a:lnTo>
                <a:lnTo>
                  <a:pt x="3632" y="8383"/>
                </a:lnTo>
                <a:lnTo>
                  <a:pt x="3609" y="8353"/>
                </a:lnTo>
                <a:lnTo>
                  <a:pt x="3575" y="8322"/>
                </a:lnTo>
                <a:lnTo>
                  <a:pt x="3517" y="8292"/>
                </a:lnTo>
                <a:lnTo>
                  <a:pt x="3517" y="8292"/>
                </a:lnTo>
                <a:lnTo>
                  <a:pt x="3414" y="8627"/>
                </a:lnTo>
                <a:close/>
                <a:moveTo>
                  <a:pt x="17589" y="8094"/>
                </a:moveTo>
                <a:lnTo>
                  <a:pt x="17589" y="8094"/>
                </a:lnTo>
                <a:lnTo>
                  <a:pt x="17531" y="8155"/>
                </a:lnTo>
                <a:lnTo>
                  <a:pt x="17497" y="8200"/>
                </a:lnTo>
                <a:lnTo>
                  <a:pt x="17486" y="8261"/>
                </a:lnTo>
                <a:lnTo>
                  <a:pt x="17463" y="8322"/>
                </a:lnTo>
                <a:lnTo>
                  <a:pt x="17451" y="8353"/>
                </a:lnTo>
                <a:lnTo>
                  <a:pt x="17451" y="8398"/>
                </a:lnTo>
                <a:lnTo>
                  <a:pt x="17463" y="8444"/>
                </a:lnTo>
                <a:lnTo>
                  <a:pt x="17486" y="8459"/>
                </a:lnTo>
                <a:lnTo>
                  <a:pt x="17520" y="8520"/>
                </a:lnTo>
                <a:lnTo>
                  <a:pt x="17577" y="8551"/>
                </a:lnTo>
                <a:lnTo>
                  <a:pt x="17646" y="8566"/>
                </a:lnTo>
                <a:lnTo>
                  <a:pt x="17703" y="8566"/>
                </a:lnTo>
                <a:lnTo>
                  <a:pt x="17772" y="8551"/>
                </a:lnTo>
                <a:lnTo>
                  <a:pt x="17818" y="8520"/>
                </a:lnTo>
                <a:lnTo>
                  <a:pt x="17864" y="8475"/>
                </a:lnTo>
                <a:lnTo>
                  <a:pt x="17875" y="8459"/>
                </a:lnTo>
                <a:lnTo>
                  <a:pt x="17875" y="8444"/>
                </a:lnTo>
                <a:lnTo>
                  <a:pt x="17875" y="8398"/>
                </a:lnTo>
                <a:lnTo>
                  <a:pt x="17864" y="8353"/>
                </a:lnTo>
                <a:lnTo>
                  <a:pt x="17841" y="8322"/>
                </a:lnTo>
                <a:lnTo>
                  <a:pt x="17807" y="8276"/>
                </a:lnTo>
                <a:lnTo>
                  <a:pt x="17715" y="8185"/>
                </a:lnTo>
                <a:lnTo>
                  <a:pt x="17589" y="8094"/>
                </a:lnTo>
                <a:close/>
                <a:moveTo>
                  <a:pt x="1569" y="8444"/>
                </a:moveTo>
                <a:lnTo>
                  <a:pt x="1569" y="8444"/>
                </a:lnTo>
                <a:lnTo>
                  <a:pt x="1638" y="8505"/>
                </a:lnTo>
                <a:lnTo>
                  <a:pt x="1695" y="8551"/>
                </a:lnTo>
                <a:lnTo>
                  <a:pt x="1741" y="8566"/>
                </a:lnTo>
                <a:lnTo>
                  <a:pt x="1764" y="8566"/>
                </a:lnTo>
                <a:lnTo>
                  <a:pt x="1775" y="8551"/>
                </a:lnTo>
                <a:lnTo>
                  <a:pt x="1787" y="8536"/>
                </a:lnTo>
                <a:lnTo>
                  <a:pt x="1787" y="8520"/>
                </a:lnTo>
                <a:lnTo>
                  <a:pt x="1798" y="8444"/>
                </a:lnTo>
                <a:lnTo>
                  <a:pt x="1787" y="8353"/>
                </a:lnTo>
                <a:lnTo>
                  <a:pt x="1764" y="8216"/>
                </a:lnTo>
                <a:lnTo>
                  <a:pt x="1764" y="8216"/>
                </a:lnTo>
                <a:lnTo>
                  <a:pt x="1569" y="8444"/>
                </a:lnTo>
                <a:close/>
                <a:moveTo>
                  <a:pt x="12581" y="8566"/>
                </a:moveTo>
                <a:lnTo>
                  <a:pt x="12581" y="8566"/>
                </a:lnTo>
                <a:lnTo>
                  <a:pt x="12478" y="8444"/>
                </a:lnTo>
                <a:lnTo>
                  <a:pt x="12478" y="8444"/>
                </a:lnTo>
                <a:lnTo>
                  <a:pt x="12512" y="8505"/>
                </a:lnTo>
                <a:lnTo>
                  <a:pt x="12581" y="8566"/>
                </a:lnTo>
                <a:close/>
                <a:moveTo>
                  <a:pt x="9189" y="8292"/>
                </a:moveTo>
                <a:lnTo>
                  <a:pt x="9189" y="8292"/>
                </a:lnTo>
                <a:lnTo>
                  <a:pt x="9132" y="8337"/>
                </a:lnTo>
                <a:lnTo>
                  <a:pt x="9075" y="8353"/>
                </a:lnTo>
                <a:lnTo>
                  <a:pt x="9006" y="8383"/>
                </a:lnTo>
                <a:lnTo>
                  <a:pt x="8949" y="8383"/>
                </a:lnTo>
                <a:lnTo>
                  <a:pt x="8892" y="8383"/>
                </a:lnTo>
                <a:lnTo>
                  <a:pt x="8834" y="8353"/>
                </a:lnTo>
                <a:lnTo>
                  <a:pt x="8788" y="8337"/>
                </a:lnTo>
                <a:lnTo>
                  <a:pt x="8719" y="8292"/>
                </a:lnTo>
                <a:lnTo>
                  <a:pt x="8719" y="8292"/>
                </a:lnTo>
                <a:lnTo>
                  <a:pt x="8788" y="8383"/>
                </a:lnTo>
                <a:lnTo>
                  <a:pt x="8834" y="8444"/>
                </a:lnTo>
                <a:lnTo>
                  <a:pt x="8892" y="8475"/>
                </a:lnTo>
                <a:lnTo>
                  <a:pt x="8960" y="8490"/>
                </a:lnTo>
                <a:lnTo>
                  <a:pt x="9006" y="8475"/>
                </a:lnTo>
                <a:lnTo>
                  <a:pt x="9075" y="8444"/>
                </a:lnTo>
                <a:lnTo>
                  <a:pt x="9132" y="8383"/>
                </a:lnTo>
                <a:lnTo>
                  <a:pt x="9189" y="8292"/>
                </a:lnTo>
                <a:close/>
                <a:moveTo>
                  <a:pt x="8777" y="8170"/>
                </a:moveTo>
                <a:lnTo>
                  <a:pt x="8777" y="8170"/>
                </a:lnTo>
                <a:lnTo>
                  <a:pt x="8834" y="8155"/>
                </a:lnTo>
                <a:lnTo>
                  <a:pt x="8880" y="8139"/>
                </a:lnTo>
                <a:lnTo>
                  <a:pt x="8937" y="8124"/>
                </a:lnTo>
                <a:lnTo>
                  <a:pt x="8960" y="8094"/>
                </a:lnTo>
                <a:lnTo>
                  <a:pt x="8995" y="8078"/>
                </a:lnTo>
                <a:lnTo>
                  <a:pt x="9006" y="8033"/>
                </a:lnTo>
                <a:lnTo>
                  <a:pt x="9006" y="8002"/>
                </a:lnTo>
                <a:lnTo>
                  <a:pt x="9006" y="7956"/>
                </a:lnTo>
                <a:lnTo>
                  <a:pt x="9006" y="7926"/>
                </a:lnTo>
                <a:lnTo>
                  <a:pt x="9006" y="7880"/>
                </a:lnTo>
                <a:lnTo>
                  <a:pt x="8972" y="7789"/>
                </a:lnTo>
                <a:lnTo>
                  <a:pt x="8903" y="7682"/>
                </a:lnTo>
                <a:lnTo>
                  <a:pt x="8823" y="7621"/>
                </a:lnTo>
                <a:lnTo>
                  <a:pt x="8823" y="7621"/>
                </a:lnTo>
                <a:lnTo>
                  <a:pt x="8777" y="8170"/>
                </a:lnTo>
                <a:close/>
                <a:moveTo>
                  <a:pt x="17428" y="7743"/>
                </a:moveTo>
                <a:lnTo>
                  <a:pt x="17428" y="7743"/>
                </a:lnTo>
                <a:lnTo>
                  <a:pt x="17497" y="7743"/>
                </a:lnTo>
                <a:lnTo>
                  <a:pt x="17566" y="7728"/>
                </a:lnTo>
                <a:lnTo>
                  <a:pt x="17623" y="7682"/>
                </a:lnTo>
                <a:lnTo>
                  <a:pt x="17669" y="7667"/>
                </a:lnTo>
                <a:lnTo>
                  <a:pt x="17692" y="7606"/>
                </a:lnTo>
                <a:lnTo>
                  <a:pt x="17726" y="7560"/>
                </a:lnTo>
                <a:lnTo>
                  <a:pt x="17726" y="7499"/>
                </a:lnTo>
                <a:lnTo>
                  <a:pt x="17738" y="7438"/>
                </a:lnTo>
                <a:lnTo>
                  <a:pt x="17726" y="7393"/>
                </a:lnTo>
                <a:lnTo>
                  <a:pt x="17715" y="7332"/>
                </a:lnTo>
                <a:lnTo>
                  <a:pt x="17692" y="7286"/>
                </a:lnTo>
                <a:lnTo>
                  <a:pt x="17669" y="7225"/>
                </a:lnTo>
                <a:lnTo>
                  <a:pt x="17612" y="7194"/>
                </a:lnTo>
                <a:lnTo>
                  <a:pt x="17566" y="7164"/>
                </a:lnTo>
                <a:lnTo>
                  <a:pt x="17497" y="7149"/>
                </a:lnTo>
                <a:lnTo>
                  <a:pt x="17428" y="7149"/>
                </a:lnTo>
                <a:lnTo>
                  <a:pt x="17428" y="7149"/>
                </a:lnTo>
                <a:lnTo>
                  <a:pt x="17451" y="7225"/>
                </a:lnTo>
                <a:lnTo>
                  <a:pt x="17474" y="7301"/>
                </a:lnTo>
                <a:lnTo>
                  <a:pt x="17486" y="7377"/>
                </a:lnTo>
                <a:lnTo>
                  <a:pt x="17486" y="7438"/>
                </a:lnTo>
                <a:lnTo>
                  <a:pt x="17486" y="7514"/>
                </a:lnTo>
                <a:lnTo>
                  <a:pt x="17474" y="7591"/>
                </a:lnTo>
                <a:lnTo>
                  <a:pt x="17451" y="7682"/>
                </a:lnTo>
                <a:lnTo>
                  <a:pt x="17428" y="7743"/>
                </a:lnTo>
                <a:close/>
                <a:moveTo>
                  <a:pt x="2692" y="7743"/>
                </a:moveTo>
                <a:lnTo>
                  <a:pt x="2692" y="7743"/>
                </a:lnTo>
                <a:lnTo>
                  <a:pt x="2738" y="7697"/>
                </a:lnTo>
                <a:lnTo>
                  <a:pt x="2784" y="7667"/>
                </a:lnTo>
                <a:lnTo>
                  <a:pt x="2818" y="7606"/>
                </a:lnTo>
                <a:lnTo>
                  <a:pt x="2830" y="7575"/>
                </a:lnTo>
                <a:lnTo>
                  <a:pt x="2853" y="7514"/>
                </a:lnTo>
                <a:lnTo>
                  <a:pt x="2853" y="7469"/>
                </a:lnTo>
                <a:lnTo>
                  <a:pt x="2853" y="7423"/>
                </a:lnTo>
                <a:lnTo>
                  <a:pt x="2841" y="7393"/>
                </a:lnTo>
                <a:lnTo>
                  <a:pt x="2830" y="7347"/>
                </a:lnTo>
                <a:lnTo>
                  <a:pt x="2807" y="7316"/>
                </a:lnTo>
                <a:lnTo>
                  <a:pt x="2784" y="7271"/>
                </a:lnTo>
                <a:lnTo>
                  <a:pt x="2738" y="7225"/>
                </a:lnTo>
                <a:lnTo>
                  <a:pt x="2646" y="7179"/>
                </a:lnTo>
                <a:lnTo>
                  <a:pt x="2543" y="7149"/>
                </a:lnTo>
                <a:lnTo>
                  <a:pt x="2543" y="7149"/>
                </a:lnTo>
                <a:lnTo>
                  <a:pt x="2497" y="7240"/>
                </a:lnTo>
                <a:lnTo>
                  <a:pt x="2486" y="7301"/>
                </a:lnTo>
                <a:lnTo>
                  <a:pt x="2474" y="7316"/>
                </a:lnTo>
                <a:lnTo>
                  <a:pt x="2486" y="7347"/>
                </a:lnTo>
                <a:lnTo>
                  <a:pt x="2497" y="7377"/>
                </a:lnTo>
                <a:lnTo>
                  <a:pt x="2520" y="7423"/>
                </a:lnTo>
                <a:lnTo>
                  <a:pt x="2566" y="7454"/>
                </a:lnTo>
                <a:lnTo>
                  <a:pt x="2623" y="7514"/>
                </a:lnTo>
                <a:lnTo>
                  <a:pt x="2635" y="7560"/>
                </a:lnTo>
                <a:lnTo>
                  <a:pt x="2658" y="7621"/>
                </a:lnTo>
                <a:lnTo>
                  <a:pt x="2681" y="7682"/>
                </a:lnTo>
                <a:lnTo>
                  <a:pt x="2692" y="7743"/>
                </a:lnTo>
                <a:close/>
                <a:moveTo>
                  <a:pt x="14541" y="7408"/>
                </a:moveTo>
                <a:lnTo>
                  <a:pt x="14541" y="7408"/>
                </a:lnTo>
                <a:lnTo>
                  <a:pt x="14712" y="7408"/>
                </a:lnTo>
                <a:lnTo>
                  <a:pt x="14873" y="7362"/>
                </a:lnTo>
                <a:lnTo>
                  <a:pt x="15056" y="7286"/>
                </a:lnTo>
                <a:lnTo>
                  <a:pt x="15228" y="7194"/>
                </a:lnTo>
                <a:lnTo>
                  <a:pt x="15411" y="7088"/>
                </a:lnTo>
                <a:lnTo>
                  <a:pt x="15572" y="6966"/>
                </a:lnTo>
                <a:lnTo>
                  <a:pt x="15721" y="6813"/>
                </a:lnTo>
                <a:lnTo>
                  <a:pt x="15767" y="6737"/>
                </a:lnTo>
                <a:lnTo>
                  <a:pt x="15824" y="6661"/>
                </a:lnTo>
                <a:lnTo>
                  <a:pt x="15824" y="6661"/>
                </a:lnTo>
                <a:lnTo>
                  <a:pt x="15801" y="6523"/>
                </a:lnTo>
                <a:lnTo>
                  <a:pt x="15767" y="6386"/>
                </a:lnTo>
                <a:lnTo>
                  <a:pt x="15732" y="6249"/>
                </a:lnTo>
                <a:lnTo>
                  <a:pt x="15687" y="6112"/>
                </a:lnTo>
                <a:lnTo>
                  <a:pt x="15641" y="5975"/>
                </a:lnTo>
                <a:lnTo>
                  <a:pt x="15572" y="5853"/>
                </a:lnTo>
                <a:lnTo>
                  <a:pt x="15446" y="5609"/>
                </a:lnTo>
                <a:lnTo>
                  <a:pt x="15297" y="5365"/>
                </a:lnTo>
                <a:lnTo>
                  <a:pt x="15148" y="5152"/>
                </a:lnTo>
                <a:lnTo>
                  <a:pt x="14976" y="4954"/>
                </a:lnTo>
                <a:lnTo>
                  <a:pt x="14793" y="4771"/>
                </a:lnTo>
                <a:lnTo>
                  <a:pt x="14793" y="4771"/>
                </a:lnTo>
                <a:lnTo>
                  <a:pt x="14747" y="4923"/>
                </a:lnTo>
                <a:lnTo>
                  <a:pt x="14690" y="5060"/>
                </a:lnTo>
                <a:lnTo>
                  <a:pt x="14655" y="5091"/>
                </a:lnTo>
                <a:lnTo>
                  <a:pt x="14632" y="5121"/>
                </a:lnTo>
                <a:lnTo>
                  <a:pt x="14598" y="5152"/>
                </a:lnTo>
                <a:lnTo>
                  <a:pt x="14575" y="5167"/>
                </a:lnTo>
                <a:lnTo>
                  <a:pt x="14529" y="5182"/>
                </a:lnTo>
                <a:lnTo>
                  <a:pt x="14495" y="5167"/>
                </a:lnTo>
                <a:lnTo>
                  <a:pt x="14449" y="5167"/>
                </a:lnTo>
                <a:lnTo>
                  <a:pt x="14403" y="5152"/>
                </a:lnTo>
                <a:lnTo>
                  <a:pt x="14323" y="5076"/>
                </a:lnTo>
                <a:lnTo>
                  <a:pt x="14220" y="4984"/>
                </a:lnTo>
                <a:lnTo>
                  <a:pt x="14220" y="4984"/>
                </a:lnTo>
                <a:lnTo>
                  <a:pt x="14266" y="5182"/>
                </a:lnTo>
                <a:lnTo>
                  <a:pt x="14277" y="5380"/>
                </a:lnTo>
                <a:lnTo>
                  <a:pt x="14277" y="5548"/>
                </a:lnTo>
                <a:lnTo>
                  <a:pt x="14254" y="5685"/>
                </a:lnTo>
                <a:lnTo>
                  <a:pt x="14220" y="5822"/>
                </a:lnTo>
                <a:lnTo>
                  <a:pt x="14163" y="5929"/>
                </a:lnTo>
                <a:lnTo>
                  <a:pt x="14094" y="6020"/>
                </a:lnTo>
                <a:lnTo>
                  <a:pt x="14014" y="6097"/>
                </a:lnTo>
                <a:lnTo>
                  <a:pt x="13945" y="6142"/>
                </a:lnTo>
                <a:lnTo>
                  <a:pt x="13842" y="6188"/>
                </a:lnTo>
                <a:lnTo>
                  <a:pt x="13727" y="6203"/>
                </a:lnTo>
                <a:lnTo>
                  <a:pt x="13624" y="6234"/>
                </a:lnTo>
                <a:lnTo>
                  <a:pt x="13509" y="6234"/>
                </a:lnTo>
                <a:lnTo>
                  <a:pt x="13372" y="6249"/>
                </a:lnTo>
                <a:lnTo>
                  <a:pt x="13120" y="6219"/>
                </a:lnTo>
                <a:lnTo>
                  <a:pt x="12856" y="6188"/>
                </a:lnTo>
                <a:lnTo>
                  <a:pt x="12593" y="6158"/>
                </a:lnTo>
                <a:lnTo>
                  <a:pt x="12352" y="6142"/>
                </a:lnTo>
                <a:lnTo>
                  <a:pt x="12123" y="6127"/>
                </a:lnTo>
                <a:lnTo>
                  <a:pt x="12020" y="6127"/>
                </a:lnTo>
                <a:lnTo>
                  <a:pt x="11940" y="6142"/>
                </a:lnTo>
                <a:lnTo>
                  <a:pt x="11859" y="6158"/>
                </a:lnTo>
                <a:lnTo>
                  <a:pt x="11791" y="6188"/>
                </a:lnTo>
                <a:lnTo>
                  <a:pt x="11722" y="6234"/>
                </a:lnTo>
                <a:lnTo>
                  <a:pt x="11699" y="6295"/>
                </a:lnTo>
                <a:lnTo>
                  <a:pt x="11664" y="6371"/>
                </a:lnTo>
                <a:lnTo>
                  <a:pt x="11653" y="6462"/>
                </a:lnTo>
                <a:lnTo>
                  <a:pt x="11653" y="6462"/>
                </a:lnTo>
                <a:lnTo>
                  <a:pt x="11894" y="6569"/>
                </a:lnTo>
                <a:lnTo>
                  <a:pt x="12134" y="6691"/>
                </a:lnTo>
                <a:lnTo>
                  <a:pt x="12375" y="6828"/>
                </a:lnTo>
                <a:lnTo>
                  <a:pt x="12627" y="6950"/>
                </a:lnTo>
                <a:lnTo>
                  <a:pt x="12868" y="7057"/>
                </a:lnTo>
                <a:lnTo>
                  <a:pt x="13005" y="7103"/>
                </a:lnTo>
                <a:lnTo>
                  <a:pt x="13131" y="7133"/>
                </a:lnTo>
                <a:lnTo>
                  <a:pt x="13246" y="7149"/>
                </a:lnTo>
                <a:lnTo>
                  <a:pt x="13383" y="7164"/>
                </a:lnTo>
                <a:lnTo>
                  <a:pt x="13509" y="7164"/>
                </a:lnTo>
                <a:lnTo>
                  <a:pt x="13635" y="7149"/>
                </a:lnTo>
                <a:lnTo>
                  <a:pt x="13635" y="7149"/>
                </a:lnTo>
                <a:lnTo>
                  <a:pt x="13773" y="7103"/>
                </a:lnTo>
                <a:lnTo>
                  <a:pt x="13899" y="7042"/>
                </a:lnTo>
                <a:lnTo>
                  <a:pt x="14014" y="6966"/>
                </a:lnTo>
                <a:lnTo>
                  <a:pt x="14151" y="6889"/>
                </a:lnTo>
                <a:lnTo>
                  <a:pt x="14346" y="6737"/>
                </a:lnTo>
                <a:lnTo>
                  <a:pt x="14426" y="6706"/>
                </a:lnTo>
                <a:lnTo>
                  <a:pt x="14495" y="6676"/>
                </a:lnTo>
                <a:lnTo>
                  <a:pt x="14495" y="6676"/>
                </a:lnTo>
                <a:lnTo>
                  <a:pt x="14529" y="6691"/>
                </a:lnTo>
                <a:lnTo>
                  <a:pt x="14563" y="6706"/>
                </a:lnTo>
                <a:lnTo>
                  <a:pt x="14586" y="6767"/>
                </a:lnTo>
                <a:lnTo>
                  <a:pt x="14586" y="6844"/>
                </a:lnTo>
                <a:lnTo>
                  <a:pt x="14586" y="6935"/>
                </a:lnTo>
                <a:lnTo>
                  <a:pt x="14586" y="7057"/>
                </a:lnTo>
                <a:lnTo>
                  <a:pt x="14575" y="7225"/>
                </a:lnTo>
                <a:lnTo>
                  <a:pt x="14541" y="7408"/>
                </a:lnTo>
                <a:close/>
                <a:moveTo>
                  <a:pt x="12283" y="7347"/>
                </a:moveTo>
                <a:lnTo>
                  <a:pt x="12283" y="7347"/>
                </a:lnTo>
                <a:lnTo>
                  <a:pt x="12295" y="7316"/>
                </a:lnTo>
                <a:lnTo>
                  <a:pt x="12329" y="7286"/>
                </a:lnTo>
                <a:lnTo>
                  <a:pt x="12341" y="7255"/>
                </a:lnTo>
                <a:lnTo>
                  <a:pt x="12341" y="7225"/>
                </a:lnTo>
                <a:lnTo>
                  <a:pt x="12341" y="7164"/>
                </a:lnTo>
                <a:lnTo>
                  <a:pt x="12329" y="7164"/>
                </a:lnTo>
                <a:lnTo>
                  <a:pt x="12318" y="7164"/>
                </a:lnTo>
                <a:lnTo>
                  <a:pt x="12318" y="7164"/>
                </a:lnTo>
                <a:lnTo>
                  <a:pt x="12295" y="7164"/>
                </a:lnTo>
                <a:lnTo>
                  <a:pt x="12295" y="7194"/>
                </a:lnTo>
                <a:lnTo>
                  <a:pt x="12283" y="7255"/>
                </a:lnTo>
                <a:lnTo>
                  <a:pt x="12283" y="7347"/>
                </a:lnTo>
                <a:close/>
                <a:moveTo>
                  <a:pt x="4594" y="7149"/>
                </a:moveTo>
                <a:lnTo>
                  <a:pt x="4594" y="7149"/>
                </a:lnTo>
                <a:lnTo>
                  <a:pt x="4640" y="7103"/>
                </a:lnTo>
                <a:lnTo>
                  <a:pt x="4674" y="7103"/>
                </a:lnTo>
                <a:lnTo>
                  <a:pt x="4663" y="7072"/>
                </a:lnTo>
                <a:lnTo>
                  <a:pt x="4652" y="6996"/>
                </a:lnTo>
                <a:lnTo>
                  <a:pt x="4652" y="6996"/>
                </a:lnTo>
                <a:lnTo>
                  <a:pt x="4594" y="7149"/>
                </a:lnTo>
                <a:close/>
                <a:moveTo>
                  <a:pt x="4915" y="6935"/>
                </a:moveTo>
                <a:lnTo>
                  <a:pt x="4915" y="6935"/>
                </a:lnTo>
                <a:lnTo>
                  <a:pt x="4881" y="6950"/>
                </a:lnTo>
                <a:lnTo>
                  <a:pt x="4846" y="6966"/>
                </a:lnTo>
                <a:lnTo>
                  <a:pt x="4789" y="7057"/>
                </a:lnTo>
                <a:lnTo>
                  <a:pt x="4778" y="7072"/>
                </a:lnTo>
                <a:lnTo>
                  <a:pt x="4801" y="7057"/>
                </a:lnTo>
                <a:lnTo>
                  <a:pt x="4846" y="7027"/>
                </a:lnTo>
                <a:lnTo>
                  <a:pt x="4915" y="6935"/>
                </a:lnTo>
                <a:close/>
                <a:moveTo>
                  <a:pt x="9144" y="6996"/>
                </a:moveTo>
                <a:lnTo>
                  <a:pt x="9144" y="6996"/>
                </a:lnTo>
                <a:lnTo>
                  <a:pt x="9178" y="6844"/>
                </a:lnTo>
                <a:lnTo>
                  <a:pt x="9189" y="6798"/>
                </a:lnTo>
                <a:lnTo>
                  <a:pt x="9189" y="6752"/>
                </a:lnTo>
                <a:lnTo>
                  <a:pt x="9166" y="6722"/>
                </a:lnTo>
                <a:lnTo>
                  <a:pt x="9121" y="6706"/>
                </a:lnTo>
                <a:lnTo>
                  <a:pt x="8983" y="6661"/>
                </a:lnTo>
                <a:lnTo>
                  <a:pt x="8983" y="6661"/>
                </a:lnTo>
                <a:lnTo>
                  <a:pt x="8995" y="6783"/>
                </a:lnTo>
                <a:lnTo>
                  <a:pt x="9006" y="6889"/>
                </a:lnTo>
                <a:lnTo>
                  <a:pt x="9029" y="6920"/>
                </a:lnTo>
                <a:lnTo>
                  <a:pt x="9052" y="6966"/>
                </a:lnTo>
                <a:lnTo>
                  <a:pt x="9086" y="6996"/>
                </a:lnTo>
                <a:lnTo>
                  <a:pt x="9144" y="6996"/>
                </a:lnTo>
                <a:close/>
                <a:moveTo>
                  <a:pt x="3254" y="6798"/>
                </a:moveTo>
                <a:lnTo>
                  <a:pt x="3254" y="6798"/>
                </a:lnTo>
                <a:lnTo>
                  <a:pt x="3162" y="6798"/>
                </a:lnTo>
                <a:lnTo>
                  <a:pt x="3070" y="6798"/>
                </a:lnTo>
                <a:lnTo>
                  <a:pt x="2979" y="6767"/>
                </a:lnTo>
                <a:lnTo>
                  <a:pt x="2876" y="6722"/>
                </a:lnTo>
                <a:lnTo>
                  <a:pt x="2795" y="6691"/>
                </a:lnTo>
                <a:lnTo>
                  <a:pt x="2715" y="6645"/>
                </a:lnTo>
                <a:lnTo>
                  <a:pt x="2635" y="6600"/>
                </a:lnTo>
                <a:lnTo>
                  <a:pt x="2543" y="6539"/>
                </a:lnTo>
                <a:lnTo>
                  <a:pt x="2543" y="6539"/>
                </a:lnTo>
                <a:lnTo>
                  <a:pt x="2715" y="6752"/>
                </a:lnTo>
                <a:lnTo>
                  <a:pt x="2784" y="6844"/>
                </a:lnTo>
                <a:lnTo>
                  <a:pt x="2864" y="6905"/>
                </a:lnTo>
                <a:lnTo>
                  <a:pt x="2910" y="6935"/>
                </a:lnTo>
                <a:lnTo>
                  <a:pt x="2956" y="6950"/>
                </a:lnTo>
                <a:lnTo>
                  <a:pt x="3001" y="6950"/>
                </a:lnTo>
                <a:lnTo>
                  <a:pt x="3048" y="6950"/>
                </a:lnTo>
                <a:lnTo>
                  <a:pt x="3093" y="6920"/>
                </a:lnTo>
                <a:lnTo>
                  <a:pt x="3139" y="6905"/>
                </a:lnTo>
                <a:lnTo>
                  <a:pt x="3208" y="6859"/>
                </a:lnTo>
                <a:lnTo>
                  <a:pt x="3254" y="6798"/>
                </a:lnTo>
                <a:close/>
                <a:moveTo>
                  <a:pt x="3311" y="6874"/>
                </a:moveTo>
                <a:lnTo>
                  <a:pt x="3311" y="6874"/>
                </a:lnTo>
                <a:lnTo>
                  <a:pt x="3357" y="6828"/>
                </a:lnTo>
                <a:lnTo>
                  <a:pt x="3368" y="6813"/>
                </a:lnTo>
                <a:lnTo>
                  <a:pt x="3368" y="6798"/>
                </a:lnTo>
                <a:lnTo>
                  <a:pt x="3357" y="6783"/>
                </a:lnTo>
                <a:lnTo>
                  <a:pt x="3357" y="6752"/>
                </a:lnTo>
                <a:lnTo>
                  <a:pt x="3357" y="6722"/>
                </a:lnTo>
                <a:lnTo>
                  <a:pt x="3357" y="6722"/>
                </a:lnTo>
                <a:lnTo>
                  <a:pt x="3311" y="6874"/>
                </a:lnTo>
                <a:close/>
                <a:moveTo>
                  <a:pt x="16088" y="6539"/>
                </a:moveTo>
                <a:lnTo>
                  <a:pt x="16088" y="6539"/>
                </a:lnTo>
                <a:lnTo>
                  <a:pt x="16179" y="6401"/>
                </a:lnTo>
                <a:lnTo>
                  <a:pt x="16294" y="6280"/>
                </a:lnTo>
                <a:lnTo>
                  <a:pt x="16385" y="6158"/>
                </a:lnTo>
                <a:lnTo>
                  <a:pt x="16512" y="6066"/>
                </a:lnTo>
                <a:lnTo>
                  <a:pt x="16512" y="6066"/>
                </a:lnTo>
                <a:lnTo>
                  <a:pt x="16420" y="6005"/>
                </a:lnTo>
                <a:lnTo>
                  <a:pt x="16328" y="5929"/>
                </a:lnTo>
                <a:lnTo>
                  <a:pt x="16259" y="5883"/>
                </a:lnTo>
                <a:lnTo>
                  <a:pt x="16179" y="5807"/>
                </a:lnTo>
                <a:lnTo>
                  <a:pt x="16122" y="5731"/>
                </a:lnTo>
                <a:lnTo>
                  <a:pt x="16053" y="5639"/>
                </a:lnTo>
                <a:lnTo>
                  <a:pt x="15985" y="5548"/>
                </a:lnTo>
                <a:lnTo>
                  <a:pt x="15939" y="5441"/>
                </a:lnTo>
                <a:lnTo>
                  <a:pt x="15939" y="5441"/>
                </a:lnTo>
                <a:lnTo>
                  <a:pt x="15927" y="5594"/>
                </a:lnTo>
                <a:lnTo>
                  <a:pt x="15927" y="5731"/>
                </a:lnTo>
                <a:lnTo>
                  <a:pt x="15939" y="5883"/>
                </a:lnTo>
                <a:lnTo>
                  <a:pt x="15939" y="6020"/>
                </a:lnTo>
                <a:lnTo>
                  <a:pt x="15962" y="6142"/>
                </a:lnTo>
                <a:lnTo>
                  <a:pt x="15996" y="6280"/>
                </a:lnTo>
                <a:lnTo>
                  <a:pt x="16042" y="6401"/>
                </a:lnTo>
                <a:lnTo>
                  <a:pt x="16088" y="6539"/>
                </a:lnTo>
                <a:close/>
                <a:moveTo>
                  <a:pt x="2589" y="6462"/>
                </a:moveTo>
                <a:lnTo>
                  <a:pt x="2589" y="6462"/>
                </a:lnTo>
                <a:lnTo>
                  <a:pt x="2486" y="6340"/>
                </a:lnTo>
                <a:lnTo>
                  <a:pt x="2486" y="6340"/>
                </a:lnTo>
                <a:lnTo>
                  <a:pt x="2532" y="6401"/>
                </a:lnTo>
                <a:lnTo>
                  <a:pt x="2589" y="6462"/>
                </a:lnTo>
                <a:close/>
                <a:moveTo>
                  <a:pt x="2176" y="6188"/>
                </a:moveTo>
                <a:lnTo>
                  <a:pt x="2176" y="6188"/>
                </a:lnTo>
                <a:lnTo>
                  <a:pt x="2142" y="6188"/>
                </a:lnTo>
                <a:lnTo>
                  <a:pt x="2096" y="6203"/>
                </a:lnTo>
                <a:lnTo>
                  <a:pt x="2062" y="6219"/>
                </a:lnTo>
                <a:lnTo>
                  <a:pt x="2062" y="6249"/>
                </a:lnTo>
                <a:lnTo>
                  <a:pt x="2051" y="6264"/>
                </a:lnTo>
                <a:lnTo>
                  <a:pt x="2051" y="6280"/>
                </a:lnTo>
                <a:lnTo>
                  <a:pt x="2051" y="6325"/>
                </a:lnTo>
                <a:lnTo>
                  <a:pt x="2062" y="6340"/>
                </a:lnTo>
                <a:lnTo>
                  <a:pt x="2062" y="6356"/>
                </a:lnTo>
                <a:lnTo>
                  <a:pt x="2073" y="6356"/>
                </a:lnTo>
                <a:lnTo>
                  <a:pt x="2096" y="6356"/>
                </a:lnTo>
                <a:lnTo>
                  <a:pt x="2119" y="6325"/>
                </a:lnTo>
                <a:lnTo>
                  <a:pt x="2142" y="6295"/>
                </a:lnTo>
                <a:lnTo>
                  <a:pt x="2154" y="6249"/>
                </a:lnTo>
                <a:lnTo>
                  <a:pt x="2176" y="6188"/>
                </a:lnTo>
                <a:close/>
                <a:moveTo>
                  <a:pt x="4801" y="6066"/>
                </a:moveTo>
                <a:lnTo>
                  <a:pt x="4801" y="6066"/>
                </a:lnTo>
                <a:lnTo>
                  <a:pt x="4870" y="6020"/>
                </a:lnTo>
                <a:lnTo>
                  <a:pt x="4938" y="5990"/>
                </a:lnTo>
                <a:lnTo>
                  <a:pt x="4984" y="5944"/>
                </a:lnTo>
                <a:lnTo>
                  <a:pt x="5041" y="5898"/>
                </a:lnTo>
                <a:lnTo>
                  <a:pt x="5076" y="5853"/>
                </a:lnTo>
                <a:lnTo>
                  <a:pt x="5110" y="5792"/>
                </a:lnTo>
                <a:lnTo>
                  <a:pt x="5144" y="5716"/>
                </a:lnTo>
                <a:lnTo>
                  <a:pt x="5144" y="5655"/>
                </a:lnTo>
                <a:lnTo>
                  <a:pt x="5156" y="5594"/>
                </a:lnTo>
                <a:lnTo>
                  <a:pt x="5156" y="5517"/>
                </a:lnTo>
                <a:lnTo>
                  <a:pt x="5144" y="5441"/>
                </a:lnTo>
                <a:lnTo>
                  <a:pt x="5144" y="5365"/>
                </a:lnTo>
                <a:lnTo>
                  <a:pt x="5110" y="5319"/>
                </a:lnTo>
                <a:lnTo>
                  <a:pt x="5076" y="5243"/>
                </a:lnTo>
                <a:lnTo>
                  <a:pt x="5018" y="5167"/>
                </a:lnTo>
                <a:lnTo>
                  <a:pt x="4950" y="5106"/>
                </a:lnTo>
                <a:lnTo>
                  <a:pt x="4950" y="5106"/>
                </a:lnTo>
                <a:lnTo>
                  <a:pt x="4709" y="4984"/>
                </a:lnTo>
                <a:lnTo>
                  <a:pt x="4709" y="4984"/>
                </a:lnTo>
                <a:lnTo>
                  <a:pt x="4835" y="5106"/>
                </a:lnTo>
                <a:lnTo>
                  <a:pt x="4938" y="5243"/>
                </a:lnTo>
                <a:lnTo>
                  <a:pt x="4972" y="5304"/>
                </a:lnTo>
                <a:lnTo>
                  <a:pt x="5007" y="5365"/>
                </a:lnTo>
                <a:lnTo>
                  <a:pt x="5030" y="5411"/>
                </a:lnTo>
                <a:lnTo>
                  <a:pt x="5053" y="5502"/>
                </a:lnTo>
                <a:lnTo>
                  <a:pt x="5064" y="5563"/>
                </a:lnTo>
                <a:lnTo>
                  <a:pt x="5053" y="5624"/>
                </a:lnTo>
                <a:lnTo>
                  <a:pt x="5041" y="5685"/>
                </a:lnTo>
                <a:lnTo>
                  <a:pt x="5007" y="5761"/>
                </a:lnTo>
                <a:lnTo>
                  <a:pt x="4984" y="5838"/>
                </a:lnTo>
                <a:lnTo>
                  <a:pt x="4938" y="5898"/>
                </a:lnTo>
                <a:lnTo>
                  <a:pt x="4881" y="5975"/>
                </a:lnTo>
                <a:lnTo>
                  <a:pt x="4801" y="6066"/>
                </a:lnTo>
                <a:close/>
                <a:moveTo>
                  <a:pt x="16752" y="5990"/>
                </a:moveTo>
                <a:lnTo>
                  <a:pt x="16752" y="5990"/>
                </a:lnTo>
                <a:lnTo>
                  <a:pt x="16191" y="5517"/>
                </a:lnTo>
                <a:lnTo>
                  <a:pt x="16191" y="5517"/>
                </a:lnTo>
                <a:lnTo>
                  <a:pt x="16248" y="5609"/>
                </a:lnTo>
                <a:lnTo>
                  <a:pt x="16305" y="5670"/>
                </a:lnTo>
                <a:lnTo>
                  <a:pt x="16363" y="5761"/>
                </a:lnTo>
                <a:lnTo>
                  <a:pt x="16432" y="5822"/>
                </a:lnTo>
                <a:lnTo>
                  <a:pt x="16500" y="5868"/>
                </a:lnTo>
                <a:lnTo>
                  <a:pt x="16581" y="5914"/>
                </a:lnTo>
                <a:lnTo>
                  <a:pt x="16661" y="5944"/>
                </a:lnTo>
                <a:lnTo>
                  <a:pt x="16752" y="5990"/>
                </a:lnTo>
                <a:close/>
                <a:moveTo>
                  <a:pt x="17016" y="5655"/>
                </a:moveTo>
                <a:lnTo>
                  <a:pt x="17016" y="5655"/>
                </a:lnTo>
                <a:lnTo>
                  <a:pt x="15985" y="4710"/>
                </a:lnTo>
                <a:lnTo>
                  <a:pt x="15985" y="4710"/>
                </a:lnTo>
                <a:lnTo>
                  <a:pt x="16088" y="4847"/>
                </a:lnTo>
                <a:lnTo>
                  <a:pt x="16191" y="4999"/>
                </a:lnTo>
                <a:lnTo>
                  <a:pt x="16305" y="5136"/>
                </a:lnTo>
                <a:lnTo>
                  <a:pt x="16443" y="5258"/>
                </a:lnTo>
                <a:lnTo>
                  <a:pt x="16569" y="5380"/>
                </a:lnTo>
                <a:lnTo>
                  <a:pt x="16718" y="5487"/>
                </a:lnTo>
                <a:lnTo>
                  <a:pt x="16867" y="5594"/>
                </a:lnTo>
                <a:lnTo>
                  <a:pt x="17016" y="5655"/>
                </a:lnTo>
                <a:close/>
                <a:moveTo>
                  <a:pt x="4388" y="5655"/>
                </a:moveTo>
                <a:lnTo>
                  <a:pt x="4388" y="5655"/>
                </a:lnTo>
                <a:lnTo>
                  <a:pt x="4239" y="5441"/>
                </a:lnTo>
                <a:lnTo>
                  <a:pt x="4239" y="5441"/>
                </a:lnTo>
                <a:lnTo>
                  <a:pt x="4285" y="5548"/>
                </a:lnTo>
                <a:lnTo>
                  <a:pt x="4296" y="5594"/>
                </a:lnTo>
                <a:lnTo>
                  <a:pt x="4388" y="5655"/>
                </a:lnTo>
                <a:close/>
                <a:moveTo>
                  <a:pt x="13097" y="5594"/>
                </a:moveTo>
                <a:lnTo>
                  <a:pt x="13097" y="5594"/>
                </a:lnTo>
                <a:lnTo>
                  <a:pt x="13292" y="5548"/>
                </a:lnTo>
                <a:lnTo>
                  <a:pt x="13429" y="5502"/>
                </a:lnTo>
                <a:lnTo>
                  <a:pt x="13544" y="5441"/>
                </a:lnTo>
                <a:lnTo>
                  <a:pt x="13601" y="5411"/>
                </a:lnTo>
                <a:lnTo>
                  <a:pt x="13647" y="5365"/>
                </a:lnTo>
                <a:lnTo>
                  <a:pt x="13681" y="5319"/>
                </a:lnTo>
                <a:lnTo>
                  <a:pt x="13704" y="5258"/>
                </a:lnTo>
                <a:lnTo>
                  <a:pt x="13716" y="5197"/>
                </a:lnTo>
                <a:lnTo>
                  <a:pt x="13704" y="5136"/>
                </a:lnTo>
                <a:lnTo>
                  <a:pt x="13658" y="5076"/>
                </a:lnTo>
                <a:lnTo>
                  <a:pt x="13624" y="4984"/>
                </a:lnTo>
                <a:lnTo>
                  <a:pt x="13624" y="4984"/>
                </a:lnTo>
                <a:lnTo>
                  <a:pt x="13567" y="5319"/>
                </a:lnTo>
                <a:lnTo>
                  <a:pt x="13567" y="5319"/>
                </a:lnTo>
                <a:lnTo>
                  <a:pt x="13452" y="5304"/>
                </a:lnTo>
                <a:lnTo>
                  <a:pt x="13372" y="5289"/>
                </a:lnTo>
                <a:lnTo>
                  <a:pt x="13372" y="5289"/>
                </a:lnTo>
                <a:lnTo>
                  <a:pt x="13303" y="5304"/>
                </a:lnTo>
                <a:lnTo>
                  <a:pt x="13246" y="5319"/>
                </a:lnTo>
                <a:lnTo>
                  <a:pt x="13200" y="5335"/>
                </a:lnTo>
                <a:lnTo>
                  <a:pt x="13154" y="5365"/>
                </a:lnTo>
                <a:lnTo>
                  <a:pt x="13131" y="5411"/>
                </a:lnTo>
                <a:lnTo>
                  <a:pt x="13108" y="5457"/>
                </a:lnTo>
                <a:lnTo>
                  <a:pt x="13097" y="5517"/>
                </a:lnTo>
                <a:lnTo>
                  <a:pt x="13097" y="5594"/>
                </a:lnTo>
                <a:close/>
                <a:moveTo>
                  <a:pt x="6347" y="5380"/>
                </a:moveTo>
                <a:lnTo>
                  <a:pt x="6347" y="5380"/>
                </a:lnTo>
                <a:lnTo>
                  <a:pt x="6428" y="5304"/>
                </a:lnTo>
                <a:lnTo>
                  <a:pt x="6496" y="5228"/>
                </a:lnTo>
                <a:lnTo>
                  <a:pt x="6496" y="5182"/>
                </a:lnTo>
                <a:lnTo>
                  <a:pt x="6508" y="5152"/>
                </a:lnTo>
                <a:lnTo>
                  <a:pt x="6508" y="5106"/>
                </a:lnTo>
                <a:lnTo>
                  <a:pt x="6508" y="5091"/>
                </a:lnTo>
                <a:lnTo>
                  <a:pt x="6496" y="5060"/>
                </a:lnTo>
                <a:lnTo>
                  <a:pt x="6485" y="5015"/>
                </a:lnTo>
                <a:lnTo>
                  <a:pt x="6428" y="4954"/>
                </a:lnTo>
                <a:lnTo>
                  <a:pt x="6347" y="4908"/>
                </a:lnTo>
                <a:lnTo>
                  <a:pt x="6245" y="4847"/>
                </a:lnTo>
                <a:lnTo>
                  <a:pt x="6245" y="4847"/>
                </a:lnTo>
                <a:lnTo>
                  <a:pt x="6256" y="4984"/>
                </a:lnTo>
                <a:lnTo>
                  <a:pt x="6279" y="5121"/>
                </a:lnTo>
                <a:lnTo>
                  <a:pt x="6302" y="5258"/>
                </a:lnTo>
                <a:lnTo>
                  <a:pt x="6347" y="5380"/>
                </a:lnTo>
                <a:close/>
                <a:moveTo>
                  <a:pt x="3575" y="5045"/>
                </a:moveTo>
                <a:lnTo>
                  <a:pt x="3575" y="5045"/>
                </a:lnTo>
                <a:lnTo>
                  <a:pt x="3551" y="5060"/>
                </a:lnTo>
                <a:lnTo>
                  <a:pt x="3517" y="5076"/>
                </a:lnTo>
                <a:lnTo>
                  <a:pt x="3483" y="5106"/>
                </a:lnTo>
                <a:lnTo>
                  <a:pt x="3448" y="5152"/>
                </a:lnTo>
                <a:lnTo>
                  <a:pt x="3437" y="5197"/>
                </a:lnTo>
                <a:lnTo>
                  <a:pt x="3437" y="5228"/>
                </a:lnTo>
                <a:lnTo>
                  <a:pt x="3448" y="5228"/>
                </a:lnTo>
                <a:lnTo>
                  <a:pt x="3460" y="5213"/>
                </a:lnTo>
                <a:lnTo>
                  <a:pt x="3506" y="5152"/>
                </a:lnTo>
                <a:lnTo>
                  <a:pt x="3575" y="5045"/>
                </a:lnTo>
                <a:close/>
                <a:moveTo>
                  <a:pt x="15526" y="5106"/>
                </a:moveTo>
                <a:lnTo>
                  <a:pt x="15526" y="5106"/>
                </a:lnTo>
                <a:lnTo>
                  <a:pt x="15480" y="5030"/>
                </a:lnTo>
                <a:lnTo>
                  <a:pt x="15423" y="4984"/>
                </a:lnTo>
                <a:lnTo>
                  <a:pt x="15423" y="4984"/>
                </a:lnTo>
                <a:lnTo>
                  <a:pt x="15526" y="5106"/>
                </a:lnTo>
                <a:close/>
                <a:moveTo>
                  <a:pt x="3517" y="4984"/>
                </a:moveTo>
                <a:lnTo>
                  <a:pt x="3517" y="4984"/>
                </a:lnTo>
                <a:lnTo>
                  <a:pt x="3643" y="4893"/>
                </a:lnTo>
                <a:lnTo>
                  <a:pt x="3712" y="4832"/>
                </a:lnTo>
                <a:lnTo>
                  <a:pt x="3724" y="4801"/>
                </a:lnTo>
                <a:lnTo>
                  <a:pt x="3724" y="4771"/>
                </a:lnTo>
                <a:lnTo>
                  <a:pt x="3724" y="4710"/>
                </a:lnTo>
                <a:lnTo>
                  <a:pt x="3724" y="4710"/>
                </a:lnTo>
                <a:lnTo>
                  <a:pt x="3517" y="4984"/>
                </a:lnTo>
                <a:close/>
                <a:moveTo>
                  <a:pt x="18047" y="4710"/>
                </a:moveTo>
                <a:lnTo>
                  <a:pt x="18047" y="4710"/>
                </a:lnTo>
                <a:lnTo>
                  <a:pt x="18563" y="4908"/>
                </a:lnTo>
                <a:lnTo>
                  <a:pt x="18563" y="4908"/>
                </a:lnTo>
                <a:lnTo>
                  <a:pt x="18517" y="4847"/>
                </a:lnTo>
                <a:lnTo>
                  <a:pt x="18483" y="4816"/>
                </a:lnTo>
                <a:lnTo>
                  <a:pt x="18448" y="4771"/>
                </a:lnTo>
                <a:lnTo>
                  <a:pt x="18414" y="4740"/>
                </a:lnTo>
                <a:lnTo>
                  <a:pt x="18368" y="4725"/>
                </a:lnTo>
                <a:lnTo>
                  <a:pt x="18311" y="4710"/>
                </a:lnTo>
                <a:lnTo>
                  <a:pt x="18196" y="4710"/>
                </a:lnTo>
                <a:lnTo>
                  <a:pt x="18196" y="4710"/>
                </a:lnTo>
                <a:lnTo>
                  <a:pt x="18047" y="4710"/>
                </a:lnTo>
                <a:close/>
                <a:moveTo>
                  <a:pt x="15469" y="4908"/>
                </a:moveTo>
                <a:lnTo>
                  <a:pt x="15469" y="4908"/>
                </a:lnTo>
                <a:lnTo>
                  <a:pt x="15366" y="4771"/>
                </a:lnTo>
                <a:lnTo>
                  <a:pt x="15366" y="4771"/>
                </a:lnTo>
                <a:lnTo>
                  <a:pt x="15400" y="4847"/>
                </a:lnTo>
                <a:lnTo>
                  <a:pt x="15469" y="4908"/>
                </a:lnTo>
                <a:close/>
                <a:moveTo>
                  <a:pt x="13097" y="4847"/>
                </a:moveTo>
                <a:lnTo>
                  <a:pt x="13097" y="4847"/>
                </a:lnTo>
                <a:lnTo>
                  <a:pt x="13120" y="4771"/>
                </a:lnTo>
                <a:lnTo>
                  <a:pt x="13154" y="4710"/>
                </a:lnTo>
                <a:lnTo>
                  <a:pt x="13177" y="4649"/>
                </a:lnTo>
                <a:lnTo>
                  <a:pt x="13223" y="4603"/>
                </a:lnTo>
                <a:lnTo>
                  <a:pt x="13246" y="4572"/>
                </a:lnTo>
                <a:lnTo>
                  <a:pt x="13292" y="4557"/>
                </a:lnTo>
                <a:lnTo>
                  <a:pt x="13360" y="4527"/>
                </a:lnTo>
                <a:lnTo>
                  <a:pt x="13418" y="4511"/>
                </a:lnTo>
                <a:lnTo>
                  <a:pt x="13418" y="4511"/>
                </a:lnTo>
                <a:lnTo>
                  <a:pt x="13280" y="4481"/>
                </a:lnTo>
                <a:lnTo>
                  <a:pt x="13280" y="4481"/>
                </a:lnTo>
                <a:lnTo>
                  <a:pt x="13235" y="4496"/>
                </a:lnTo>
                <a:lnTo>
                  <a:pt x="13188" y="4511"/>
                </a:lnTo>
                <a:lnTo>
                  <a:pt x="13154" y="4527"/>
                </a:lnTo>
                <a:lnTo>
                  <a:pt x="13120" y="4557"/>
                </a:lnTo>
                <a:lnTo>
                  <a:pt x="13086" y="4572"/>
                </a:lnTo>
                <a:lnTo>
                  <a:pt x="13086" y="4588"/>
                </a:lnTo>
                <a:lnTo>
                  <a:pt x="13062" y="4664"/>
                </a:lnTo>
                <a:lnTo>
                  <a:pt x="13062" y="4725"/>
                </a:lnTo>
                <a:lnTo>
                  <a:pt x="13074" y="4786"/>
                </a:lnTo>
                <a:lnTo>
                  <a:pt x="13086" y="4832"/>
                </a:lnTo>
                <a:lnTo>
                  <a:pt x="13097" y="4847"/>
                </a:lnTo>
                <a:close/>
                <a:moveTo>
                  <a:pt x="5843" y="4847"/>
                </a:moveTo>
                <a:lnTo>
                  <a:pt x="5843" y="4847"/>
                </a:lnTo>
                <a:lnTo>
                  <a:pt x="5924" y="4755"/>
                </a:lnTo>
                <a:lnTo>
                  <a:pt x="6015" y="4694"/>
                </a:lnTo>
                <a:lnTo>
                  <a:pt x="6164" y="4588"/>
                </a:lnTo>
                <a:lnTo>
                  <a:pt x="6290" y="4542"/>
                </a:lnTo>
                <a:lnTo>
                  <a:pt x="6394" y="4481"/>
                </a:lnTo>
                <a:lnTo>
                  <a:pt x="6439" y="4450"/>
                </a:lnTo>
                <a:lnTo>
                  <a:pt x="6485" y="4405"/>
                </a:lnTo>
                <a:lnTo>
                  <a:pt x="6508" y="4359"/>
                </a:lnTo>
                <a:lnTo>
                  <a:pt x="6543" y="4313"/>
                </a:lnTo>
                <a:lnTo>
                  <a:pt x="6577" y="4222"/>
                </a:lnTo>
                <a:lnTo>
                  <a:pt x="6611" y="4130"/>
                </a:lnTo>
                <a:lnTo>
                  <a:pt x="6668" y="3886"/>
                </a:lnTo>
                <a:lnTo>
                  <a:pt x="6668" y="3886"/>
                </a:lnTo>
                <a:lnTo>
                  <a:pt x="6680" y="3841"/>
                </a:lnTo>
                <a:lnTo>
                  <a:pt x="6703" y="3795"/>
                </a:lnTo>
                <a:lnTo>
                  <a:pt x="6772" y="3688"/>
                </a:lnTo>
                <a:lnTo>
                  <a:pt x="6921" y="3444"/>
                </a:lnTo>
                <a:lnTo>
                  <a:pt x="6989" y="3322"/>
                </a:lnTo>
                <a:lnTo>
                  <a:pt x="7024" y="3246"/>
                </a:lnTo>
                <a:lnTo>
                  <a:pt x="7035" y="3200"/>
                </a:lnTo>
                <a:lnTo>
                  <a:pt x="7024" y="3185"/>
                </a:lnTo>
                <a:lnTo>
                  <a:pt x="7001" y="3155"/>
                </a:lnTo>
                <a:lnTo>
                  <a:pt x="6966" y="3155"/>
                </a:lnTo>
                <a:lnTo>
                  <a:pt x="6966" y="3155"/>
                </a:lnTo>
                <a:lnTo>
                  <a:pt x="6806" y="3140"/>
                </a:lnTo>
                <a:lnTo>
                  <a:pt x="6806" y="3140"/>
                </a:lnTo>
                <a:lnTo>
                  <a:pt x="6634" y="3155"/>
                </a:lnTo>
                <a:lnTo>
                  <a:pt x="6439" y="3185"/>
                </a:lnTo>
                <a:lnTo>
                  <a:pt x="6279" y="3200"/>
                </a:lnTo>
                <a:lnTo>
                  <a:pt x="6096" y="3261"/>
                </a:lnTo>
                <a:lnTo>
                  <a:pt x="5924" y="3307"/>
                </a:lnTo>
                <a:lnTo>
                  <a:pt x="5786" y="3399"/>
                </a:lnTo>
                <a:lnTo>
                  <a:pt x="5660" y="3490"/>
                </a:lnTo>
                <a:lnTo>
                  <a:pt x="5546" y="3581"/>
                </a:lnTo>
                <a:lnTo>
                  <a:pt x="5511" y="3627"/>
                </a:lnTo>
                <a:lnTo>
                  <a:pt x="5465" y="3703"/>
                </a:lnTo>
                <a:lnTo>
                  <a:pt x="5431" y="3764"/>
                </a:lnTo>
                <a:lnTo>
                  <a:pt x="5408" y="3825"/>
                </a:lnTo>
                <a:lnTo>
                  <a:pt x="5385" y="3886"/>
                </a:lnTo>
                <a:lnTo>
                  <a:pt x="5373" y="3962"/>
                </a:lnTo>
                <a:lnTo>
                  <a:pt x="5373" y="4054"/>
                </a:lnTo>
                <a:lnTo>
                  <a:pt x="5385" y="4115"/>
                </a:lnTo>
                <a:lnTo>
                  <a:pt x="5408" y="4206"/>
                </a:lnTo>
                <a:lnTo>
                  <a:pt x="5431" y="4283"/>
                </a:lnTo>
                <a:lnTo>
                  <a:pt x="5477" y="4359"/>
                </a:lnTo>
                <a:lnTo>
                  <a:pt x="5522" y="4466"/>
                </a:lnTo>
                <a:lnTo>
                  <a:pt x="5580" y="4557"/>
                </a:lnTo>
                <a:lnTo>
                  <a:pt x="5649" y="4649"/>
                </a:lnTo>
                <a:lnTo>
                  <a:pt x="5729" y="4740"/>
                </a:lnTo>
                <a:lnTo>
                  <a:pt x="5843" y="4847"/>
                </a:lnTo>
                <a:close/>
                <a:moveTo>
                  <a:pt x="17944" y="4771"/>
                </a:moveTo>
                <a:lnTo>
                  <a:pt x="17944" y="4771"/>
                </a:lnTo>
                <a:lnTo>
                  <a:pt x="17875" y="4710"/>
                </a:lnTo>
                <a:lnTo>
                  <a:pt x="17829" y="4664"/>
                </a:lnTo>
                <a:lnTo>
                  <a:pt x="17749" y="4649"/>
                </a:lnTo>
                <a:lnTo>
                  <a:pt x="17635" y="4633"/>
                </a:lnTo>
                <a:lnTo>
                  <a:pt x="17635" y="4633"/>
                </a:lnTo>
                <a:lnTo>
                  <a:pt x="17944" y="4771"/>
                </a:lnTo>
                <a:close/>
                <a:moveTo>
                  <a:pt x="17589" y="4710"/>
                </a:moveTo>
                <a:lnTo>
                  <a:pt x="17589" y="4710"/>
                </a:lnTo>
                <a:lnTo>
                  <a:pt x="16752" y="4237"/>
                </a:lnTo>
                <a:lnTo>
                  <a:pt x="16752" y="4237"/>
                </a:lnTo>
                <a:lnTo>
                  <a:pt x="16832" y="4328"/>
                </a:lnTo>
                <a:lnTo>
                  <a:pt x="16913" y="4405"/>
                </a:lnTo>
                <a:lnTo>
                  <a:pt x="17016" y="4481"/>
                </a:lnTo>
                <a:lnTo>
                  <a:pt x="17108" y="4557"/>
                </a:lnTo>
                <a:lnTo>
                  <a:pt x="17222" y="4603"/>
                </a:lnTo>
                <a:lnTo>
                  <a:pt x="17325" y="4649"/>
                </a:lnTo>
                <a:lnTo>
                  <a:pt x="17451" y="4679"/>
                </a:lnTo>
                <a:lnTo>
                  <a:pt x="17589" y="4710"/>
                </a:lnTo>
                <a:close/>
                <a:moveTo>
                  <a:pt x="3254" y="4710"/>
                </a:moveTo>
                <a:lnTo>
                  <a:pt x="3254" y="4710"/>
                </a:lnTo>
                <a:lnTo>
                  <a:pt x="3288" y="4710"/>
                </a:lnTo>
                <a:lnTo>
                  <a:pt x="3299" y="4694"/>
                </a:lnTo>
                <a:lnTo>
                  <a:pt x="3345" y="4649"/>
                </a:lnTo>
                <a:lnTo>
                  <a:pt x="3357" y="4588"/>
                </a:lnTo>
                <a:lnTo>
                  <a:pt x="3380" y="4527"/>
                </a:lnTo>
                <a:lnTo>
                  <a:pt x="3380" y="4435"/>
                </a:lnTo>
                <a:lnTo>
                  <a:pt x="3380" y="4359"/>
                </a:lnTo>
                <a:lnTo>
                  <a:pt x="3357" y="4237"/>
                </a:lnTo>
                <a:lnTo>
                  <a:pt x="3357" y="4237"/>
                </a:lnTo>
                <a:lnTo>
                  <a:pt x="3254" y="4710"/>
                </a:lnTo>
                <a:close/>
                <a:moveTo>
                  <a:pt x="18299" y="4511"/>
                </a:moveTo>
                <a:lnTo>
                  <a:pt x="18299" y="4511"/>
                </a:lnTo>
                <a:lnTo>
                  <a:pt x="17841" y="4435"/>
                </a:lnTo>
                <a:lnTo>
                  <a:pt x="17841" y="4435"/>
                </a:lnTo>
                <a:lnTo>
                  <a:pt x="17944" y="4511"/>
                </a:lnTo>
                <a:lnTo>
                  <a:pt x="18013" y="4542"/>
                </a:lnTo>
                <a:lnTo>
                  <a:pt x="18058" y="4557"/>
                </a:lnTo>
                <a:lnTo>
                  <a:pt x="18116" y="4572"/>
                </a:lnTo>
                <a:lnTo>
                  <a:pt x="18173" y="4557"/>
                </a:lnTo>
                <a:lnTo>
                  <a:pt x="18242" y="4542"/>
                </a:lnTo>
                <a:lnTo>
                  <a:pt x="18299" y="4511"/>
                </a:lnTo>
                <a:close/>
                <a:moveTo>
                  <a:pt x="17726" y="4511"/>
                </a:moveTo>
                <a:lnTo>
                  <a:pt x="17726" y="4511"/>
                </a:lnTo>
                <a:lnTo>
                  <a:pt x="17108" y="4237"/>
                </a:lnTo>
                <a:lnTo>
                  <a:pt x="17108" y="4237"/>
                </a:lnTo>
                <a:lnTo>
                  <a:pt x="17176" y="4313"/>
                </a:lnTo>
                <a:lnTo>
                  <a:pt x="17233" y="4344"/>
                </a:lnTo>
                <a:lnTo>
                  <a:pt x="17302" y="4389"/>
                </a:lnTo>
                <a:lnTo>
                  <a:pt x="17371" y="4420"/>
                </a:lnTo>
                <a:lnTo>
                  <a:pt x="17463" y="4466"/>
                </a:lnTo>
                <a:lnTo>
                  <a:pt x="17543" y="4481"/>
                </a:lnTo>
                <a:lnTo>
                  <a:pt x="17726" y="4511"/>
                </a:lnTo>
                <a:close/>
                <a:moveTo>
                  <a:pt x="4652" y="4313"/>
                </a:moveTo>
                <a:lnTo>
                  <a:pt x="4652" y="4313"/>
                </a:lnTo>
                <a:lnTo>
                  <a:pt x="4640" y="4176"/>
                </a:lnTo>
                <a:lnTo>
                  <a:pt x="4640" y="4084"/>
                </a:lnTo>
                <a:lnTo>
                  <a:pt x="4606" y="4008"/>
                </a:lnTo>
                <a:lnTo>
                  <a:pt x="4572" y="3962"/>
                </a:lnTo>
                <a:lnTo>
                  <a:pt x="4526" y="3917"/>
                </a:lnTo>
                <a:lnTo>
                  <a:pt x="4457" y="3871"/>
                </a:lnTo>
                <a:lnTo>
                  <a:pt x="4285" y="3825"/>
                </a:lnTo>
                <a:lnTo>
                  <a:pt x="4285" y="3825"/>
                </a:lnTo>
                <a:lnTo>
                  <a:pt x="4308" y="4039"/>
                </a:lnTo>
                <a:lnTo>
                  <a:pt x="4331" y="4206"/>
                </a:lnTo>
                <a:lnTo>
                  <a:pt x="4365" y="4313"/>
                </a:lnTo>
                <a:lnTo>
                  <a:pt x="4377" y="4359"/>
                </a:lnTo>
                <a:lnTo>
                  <a:pt x="4388" y="4389"/>
                </a:lnTo>
                <a:lnTo>
                  <a:pt x="4423" y="4420"/>
                </a:lnTo>
                <a:lnTo>
                  <a:pt x="4445" y="4435"/>
                </a:lnTo>
                <a:lnTo>
                  <a:pt x="4480" y="4435"/>
                </a:lnTo>
                <a:lnTo>
                  <a:pt x="4503" y="4435"/>
                </a:lnTo>
                <a:lnTo>
                  <a:pt x="4548" y="4405"/>
                </a:lnTo>
                <a:lnTo>
                  <a:pt x="4572" y="4389"/>
                </a:lnTo>
                <a:lnTo>
                  <a:pt x="4652" y="4313"/>
                </a:lnTo>
                <a:close/>
                <a:moveTo>
                  <a:pt x="3666" y="4374"/>
                </a:moveTo>
                <a:lnTo>
                  <a:pt x="3666" y="4374"/>
                </a:lnTo>
                <a:lnTo>
                  <a:pt x="3792" y="4313"/>
                </a:lnTo>
                <a:lnTo>
                  <a:pt x="3930" y="4283"/>
                </a:lnTo>
                <a:lnTo>
                  <a:pt x="4056" y="4283"/>
                </a:lnTo>
                <a:lnTo>
                  <a:pt x="4182" y="4313"/>
                </a:lnTo>
                <a:lnTo>
                  <a:pt x="4182" y="4313"/>
                </a:lnTo>
                <a:lnTo>
                  <a:pt x="4170" y="4222"/>
                </a:lnTo>
                <a:lnTo>
                  <a:pt x="4136" y="4130"/>
                </a:lnTo>
                <a:lnTo>
                  <a:pt x="4090" y="4069"/>
                </a:lnTo>
                <a:lnTo>
                  <a:pt x="4044" y="4023"/>
                </a:lnTo>
                <a:lnTo>
                  <a:pt x="3998" y="3978"/>
                </a:lnTo>
                <a:lnTo>
                  <a:pt x="3953" y="3947"/>
                </a:lnTo>
                <a:lnTo>
                  <a:pt x="3907" y="3932"/>
                </a:lnTo>
                <a:lnTo>
                  <a:pt x="3861" y="3917"/>
                </a:lnTo>
                <a:lnTo>
                  <a:pt x="3861" y="3917"/>
                </a:lnTo>
                <a:lnTo>
                  <a:pt x="3792" y="3932"/>
                </a:lnTo>
                <a:lnTo>
                  <a:pt x="3758" y="3962"/>
                </a:lnTo>
                <a:lnTo>
                  <a:pt x="3712" y="3978"/>
                </a:lnTo>
                <a:lnTo>
                  <a:pt x="3678" y="4054"/>
                </a:lnTo>
                <a:lnTo>
                  <a:pt x="3655" y="4100"/>
                </a:lnTo>
                <a:lnTo>
                  <a:pt x="3643" y="4176"/>
                </a:lnTo>
                <a:lnTo>
                  <a:pt x="3643" y="4267"/>
                </a:lnTo>
                <a:lnTo>
                  <a:pt x="3666" y="4374"/>
                </a:lnTo>
                <a:close/>
                <a:moveTo>
                  <a:pt x="17726" y="4313"/>
                </a:moveTo>
                <a:lnTo>
                  <a:pt x="17726" y="4313"/>
                </a:lnTo>
                <a:lnTo>
                  <a:pt x="16752" y="3825"/>
                </a:lnTo>
                <a:lnTo>
                  <a:pt x="16752" y="3825"/>
                </a:lnTo>
                <a:lnTo>
                  <a:pt x="16855" y="3917"/>
                </a:lnTo>
                <a:lnTo>
                  <a:pt x="16959" y="3993"/>
                </a:lnTo>
                <a:lnTo>
                  <a:pt x="17084" y="4069"/>
                </a:lnTo>
                <a:lnTo>
                  <a:pt x="17199" y="4130"/>
                </a:lnTo>
                <a:lnTo>
                  <a:pt x="17314" y="4191"/>
                </a:lnTo>
                <a:lnTo>
                  <a:pt x="17463" y="4222"/>
                </a:lnTo>
                <a:lnTo>
                  <a:pt x="17589" y="4267"/>
                </a:lnTo>
                <a:lnTo>
                  <a:pt x="17726" y="4313"/>
                </a:lnTo>
                <a:close/>
                <a:moveTo>
                  <a:pt x="12283" y="4313"/>
                </a:moveTo>
                <a:lnTo>
                  <a:pt x="12283" y="4313"/>
                </a:lnTo>
                <a:lnTo>
                  <a:pt x="12432" y="4100"/>
                </a:lnTo>
                <a:lnTo>
                  <a:pt x="12432" y="4100"/>
                </a:lnTo>
                <a:lnTo>
                  <a:pt x="12363" y="4084"/>
                </a:lnTo>
                <a:lnTo>
                  <a:pt x="12363" y="4084"/>
                </a:lnTo>
                <a:lnTo>
                  <a:pt x="12352" y="4084"/>
                </a:lnTo>
                <a:lnTo>
                  <a:pt x="12318" y="4100"/>
                </a:lnTo>
                <a:lnTo>
                  <a:pt x="12295" y="4115"/>
                </a:lnTo>
                <a:lnTo>
                  <a:pt x="12295" y="4130"/>
                </a:lnTo>
                <a:lnTo>
                  <a:pt x="12283" y="4206"/>
                </a:lnTo>
                <a:lnTo>
                  <a:pt x="12283" y="4313"/>
                </a:lnTo>
                <a:close/>
                <a:moveTo>
                  <a:pt x="3414" y="4161"/>
                </a:moveTo>
                <a:lnTo>
                  <a:pt x="3414" y="4161"/>
                </a:lnTo>
                <a:lnTo>
                  <a:pt x="3426" y="4130"/>
                </a:lnTo>
                <a:lnTo>
                  <a:pt x="3460" y="4100"/>
                </a:lnTo>
                <a:lnTo>
                  <a:pt x="3540" y="3993"/>
                </a:lnTo>
                <a:lnTo>
                  <a:pt x="3700" y="3627"/>
                </a:lnTo>
                <a:lnTo>
                  <a:pt x="3873" y="3246"/>
                </a:lnTo>
                <a:lnTo>
                  <a:pt x="4010" y="2926"/>
                </a:lnTo>
                <a:lnTo>
                  <a:pt x="4010" y="2926"/>
                </a:lnTo>
                <a:lnTo>
                  <a:pt x="3838" y="3216"/>
                </a:lnTo>
                <a:lnTo>
                  <a:pt x="3746" y="3353"/>
                </a:lnTo>
                <a:lnTo>
                  <a:pt x="3655" y="3505"/>
                </a:lnTo>
                <a:lnTo>
                  <a:pt x="3586" y="3658"/>
                </a:lnTo>
                <a:lnTo>
                  <a:pt x="3517" y="3825"/>
                </a:lnTo>
                <a:lnTo>
                  <a:pt x="3460" y="3978"/>
                </a:lnTo>
                <a:lnTo>
                  <a:pt x="3414" y="4161"/>
                </a:lnTo>
                <a:close/>
                <a:moveTo>
                  <a:pt x="14598" y="4100"/>
                </a:moveTo>
                <a:lnTo>
                  <a:pt x="14598" y="4100"/>
                </a:lnTo>
                <a:lnTo>
                  <a:pt x="14586" y="3962"/>
                </a:lnTo>
                <a:lnTo>
                  <a:pt x="14586" y="3810"/>
                </a:lnTo>
                <a:lnTo>
                  <a:pt x="14563" y="3612"/>
                </a:lnTo>
                <a:lnTo>
                  <a:pt x="14518" y="3429"/>
                </a:lnTo>
                <a:lnTo>
                  <a:pt x="14472" y="3246"/>
                </a:lnTo>
                <a:lnTo>
                  <a:pt x="14438" y="3170"/>
                </a:lnTo>
                <a:lnTo>
                  <a:pt x="14403" y="3094"/>
                </a:lnTo>
                <a:lnTo>
                  <a:pt x="14369" y="3033"/>
                </a:lnTo>
                <a:lnTo>
                  <a:pt x="14334" y="3002"/>
                </a:lnTo>
                <a:lnTo>
                  <a:pt x="14289" y="2957"/>
                </a:lnTo>
                <a:lnTo>
                  <a:pt x="14220" y="2941"/>
                </a:lnTo>
                <a:lnTo>
                  <a:pt x="14220" y="2941"/>
                </a:lnTo>
                <a:lnTo>
                  <a:pt x="14105" y="2865"/>
                </a:lnTo>
                <a:lnTo>
                  <a:pt x="13968" y="2804"/>
                </a:lnTo>
                <a:lnTo>
                  <a:pt x="13830" y="2758"/>
                </a:lnTo>
                <a:lnTo>
                  <a:pt x="13693" y="2743"/>
                </a:lnTo>
                <a:lnTo>
                  <a:pt x="13555" y="2728"/>
                </a:lnTo>
                <a:lnTo>
                  <a:pt x="13406" y="2713"/>
                </a:lnTo>
                <a:lnTo>
                  <a:pt x="13108" y="2728"/>
                </a:lnTo>
                <a:lnTo>
                  <a:pt x="12822" y="2728"/>
                </a:lnTo>
                <a:lnTo>
                  <a:pt x="12673" y="2713"/>
                </a:lnTo>
                <a:lnTo>
                  <a:pt x="12524" y="2698"/>
                </a:lnTo>
                <a:lnTo>
                  <a:pt x="12386" y="2667"/>
                </a:lnTo>
                <a:lnTo>
                  <a:pt x="12249" y="2637"/>
                </a:lnTo>
                <a:lnTo>
                  <a:pt x="12100" y="2576"/>
                </a:lnTo>
                <a:lnTo>
                  <a:pt x="11974" y="2499"/>
                </a:lnTo>
                <a:lnTo>
                  <a:pt x="11974" y="2499"/>
                </a:lnTo>
                <a:lnTo>
                  <a:pt x="11722" y="2332"/>
                </a:lnTo>
                <a:lnTo>
                  <a:pt x="11504" y="2225"/>
                </a:lnTo>
                <a:lnTo>
                  <a:pt x="11401" y="2164"/>
                </a:lnTo>
                <a:lnTo>
                  <a:pt x="11298" y="2133"/>
                </a:lnTo>
                <a:lnTo>
                  <a:pt x="11206" y="2103"/>
                </a:lnTo>
                <a:lnTo>
                  <a:pt x="11115" y="2072"/>
                </a:lnTo>
                <a:lnTo>
                  <a:pt x="11011" y="2072"/>
                </a:lnTo>
                <a:lnTo>
                  <a:pt x="10931" y="2088"/>
                </a:lnTo>
                <a:lnTo>
                  <a:pt x="10817" y="2103"/>
                </a:lnTo>
                <a:lnTo>
                  <a:pt x="10725" y="2149"/>
                </a:lnTo>
                <a:lnTo>
                  <a:pt x="10599" y="2194"/>
                </a:lnTo>
                <a:lnTo>
                  <a:pt x="10484" y="2240"/>
                </a:lnTo>
                <a:lnTo>
                  <a:pt x="10221" y="2408"/>
                </a:lnTo>
                <a:lnTo>
                  <a:pt x="10221" y="2408"/>
                </a:lnTo>
                <a:lnTo>
                  <a:pt x="10243" y="2515"/>
                </a:lnTo>
                <a:lnTo>
                  <a:pt x="10301" y="2591"/>
                </a:lnTo>
                <a:lnTo>
                  <a:pt x="10347" y="2667"/>
                </a:lnTo>
                <a:lnTo>
                  <a:pt x="10381" y="2698"/>
                </a:lnTo>
                <a:lnTo>
                  <a:pt x="10438" y="2743"/>
                </a:lnTo>
                <a:lnTo>
                  <a:pt x="10507" y="2758"/>
                </a:lnTo>
                <a:lnTo>
                  <a:pt x="10565" y="2774"/>
                </a:lnTo>
                <a:lnTo>
                  <a:pt x="10633" y="2774"/>
                </a:lnTo>
                <a:lnTo>
                  <a:pt x="10771" y="2774"/>
                </a:lnTo>
                <a:lnTo>
                  <a:pt x="10920" y="2758"/>
                </a:lnTo>
                <a:lnTo>
                  <a:pt x="11057" y="2774"/>
                </a:lnTo>
                <a:lnTo>
                  <a:pt x="11126" y="2789"/>
                </a:lnTo>
                <a:lnTo>
                  <a:pt x="11195" y="2804"/>
                </a:lnTo>
                <a:lnTo>
                  <a:pt x="11195" y="2804"/>
                </a:lnTo>
                <a:lnTo>
                  <a:pt x="11344" y="3094"/>
                </a:lnTo>
                <a:lnTo>
                  <a:pt x="11424" y="3246"/>
                </a:lnTo>
                <a:lnTo>
                  <a:pt x="11504" y="3353"/>
                </a:lnTo>
                <a:lnTo>
                  <a:pt x="11584" y="3475"/>
                </a:lnTo>
                <a:lnTo>
                  <a:pt x="11676" y="3566"/>
                </a:lnTo>
                <a:lnTo>
                  <a:pt x="11722" y="3612"/>
                </a:lnTo>
                <a:lnTo>
                  <a:pt x="11779" y="3642"/>
                </a:lnTo>
                <a:lnTo>
                  <a:pt x="11848" y="3673"/>
                </a:lnTo>
                <a:lnTo>
                  <a:pt x="11916" y="3703"/>
                </a:lnTo>
                <a:lnTo>
                  <a:pt x="11916" y="3703"/>
                </a:lnTo>
                <a:lnTo>
                  <a:pt x="12008" y="3612"/>
                </a:lnTo>
                <a:lnTo>
                  <a:pt x="12089" y="3566"/>
                </a:lnTo>
                <a:lnTo>
                  <a:pt x="12169" y="3521"/>
                </a:lnTo>
                <a:lnTo>
                  <a:pt x="12272" y="3475"/>
                </a:lnTo>
                <a:lnTo>
                  <a:pt x="12352" y="3444"/>
                </a:lnTo>
                <a:lnTo>
                  <a:pt x="12444" y="3414"/>
                </a:lnTo>
                <a:lnTo>
                  <a:pt x="12535" y="3414"/>
                </a:lnTo>
                <a:lnTo>
                  <a:pt x="12627" y="3399"/>
                </a:lnTo>
                <a:lnTo>
                  <a:pt x="12627" y="3399"/>
                </a:lnTo>
                <a:lnTo>
                  <a:pt x="12742" y="3414"/>
                </a:lnTo>
                <a:lnTo>
                  <a:pt x="12868" y="3429"/>
                </a:lnTo>
                <a:lnTo>
                  <a:pt x="13005" y="3460"/>
                </a:lnTo>
                <a:lnTo>
                  <a:pt x="13120" y="3505"/>
                </a:lnTo>
                <a:lnTo>
                  <a:pt x="13372" y="3581"/>
                </a:lnTo>
                <a:lnTo>
                  <a:pt x="13624" y="3703"/>
                </a:lnTo>
                <a:lnTo>
                  <a:pt x="14117" y="3932"/>
                </a:lnTo>
                <a:lnTo>
                  <a:pt x="14369" y="4039"/>
                </a:lnTo>
                <a:lnTo>
                  <a:pt x="14472" y="4069"/>
                </a:lnTo>
                <a:lnTo>
                  <a:pt x="14598" y="4100"/>
                </a:lnTo>
                <a:close/>
                <a:moveTo>
                  <a:pt x="4858" y="4039"/>
                </a:moveTo>
                <a:lnTo>
                  <a:pt x="4858" y="4039"/>
                </a:lnTo>
                <a:lnTo>
                  <a:pt x="4823" y="3932"/>
                </a:lnTo>
                <a:lnTo>
                  <a:pt x="4823" y="3886"/>
                </a:lnTo>
                <a:lnTo>
                  <a:pt x="4755" y="3825"/>
                </a:lnTo>
                <a:lnTo>
                  <a:pt x="4755" y="3825"/>
                </a:lnTo>
                <a:lnTo>
                  <a:pt x="4858" y="4039"/>
                </a:lnTo>
                <a:close/>
                <a:moveTo>
                  <a:pt x="15526" y="3886"/>
                </a:moveTo>
                <a:lnTo>
                  <a:pt x="15526" y="3886"/>
                </a:lnTo>
                <a:lnTo>
                  <a:pt x="15595" y="3841"/>
                </a:lnTo>
                <a:lnTo>
                  <a:pt x="15618" y="3825"/>
                </a:lnTo>
                <a:lnTo>
                  <a:pt x="15629" y="3795"/>
                </a:lnTo>
                <a:lnTo>
                  <a:pt x="15618" y="3780"/>
                </a:lnTo>
                <a:lnTo>
                  <a:pt x="15606" y="3734"/>
                </a:lnTo>
                <a:lnTo>
                  <a:pt x="15572" y="3612"/>
                </a:lnTo>
                <a:lnTo>
                  <a:pt x="15572" y="3612"/>
                </a:lnTo>
                <a:lnTo>
                  <a:pt x="15366" y="3566"/>
                </a:lnTo>
                <a:lnTo>
                  <a:pt x="15366" y="3566"/>
                </a:lnTo>
                <a:lnTo>
                  <a:pt x="15366" y="3612"/>
                </a:lnTo>
                <a:lnTo>
                  <a:pt x="15366" y="3673"/>
                </a:lnTo>
                <a:lnTo>
                  <a:pt x="15366" y="3719"/>
                </a:lnTo>
                <a:lnTo>
                  <a:pt x="15377" y="3780"/>
                </a:lnTo>
                <a:lnTo>
                  <a:pt x="15411" y="3810"/>
                </a:lnTo>
                <a:lnTo>
                  <a:pt x="15446" y="3841"/>
                </a:lnTo>
                <a:lnTo>
                  <a:pt x="15480" y="3871"/>
                </a:lnTo>
                <a:lnTo>
                  <a:pt x="15526" y="3886"/>
                </a:lnTo>
                <a:close/>
                <a:moveTo>
                  <a:pt x="17428" y="3825"/>
                </a:moveTo>
                <a:lnTo>
                  <a:pt x="17428" y="3825"/>
                </a:lnTo>
                <a:lnTo>
                  <a:pt x="16546" y="3490"/>
                </a:lnTo>
                <a:lnTo>
                  <a:pt x="16546" y="3490"/>
                </a:lnTo>
                <a:lnTo>
                  <a:pt x="16581" y="3536"/>
                </a:lnTo>
                <a:lnTo>
                  <a:pt x="16626" y="3566"/>
                </a:lnTo>
                <a:lnTo>
                  <a:pt x="16718" y="3642"/>
                </a:lnTo>
                <a:lnTo>
                  <a:pt x="16832" y="3719"/>
                </a:lnTo>
                <a:lnTo>
                  <a:pt x="16959" y="3795"/>
                </a:lnTo>
                <a:lnTo>
                  <a:pt x="17096" y="3825"/>
                </a:lnTo>
                <a:lnTo>
                  <a:pt x="17222" y="3856"/>
                </a:lnTo>
                <a:lnTo>
                  <a:pt x="17325" y="3856"/>
                </a:lnTo>
                <a:lnTo>
                  <a:pt x="17382" y="3841"/>
                </a:lnTo>
                <a:lnTo>
                  <a:pt x="17428" y="3825"/>
                </a:lnTo>
                <a:close/>
                <a:moveTo>
                  <a:pt x="3827" y="3764"/>
                </a:moveTo>
                <a:lnTo>
                  <a:pt x="3827" y="3764"/>
                </a:lnTo>
                <a:lnTo>
                  <a:pt x="3895" y="3795"/>
                </a:lnTo>
                <a:lnTo>
                  <a:pt x="3941" y="3795"/>
                </a:lnTo>
                <a:lnTo>
                  <a:pt x="3987" y="3795"/>
                </a:lnTo>
                <a:lnTo>
                  <a:pt x="4010" y="3795"/>
                </a:lnTo>
                <a:lnTo>
                  <a:pt x="4033" y="3749"/>
                </a:lnTo>
                <a:lnTo>
                  <a:pt x="4044" y="3703"/>
                </a:lnTo>
                <a:lnTo>
                  <a:pt x="4044" y="3627"/>
                </a:lnTo>
                <a:lnTo>
                  <a:pt x="4033" y="3566"/>
                </a:lnTo>
                <a:lnTo>
                  <a:pt x="4033" y="3566"/>
                </a:lnTo>
                <a:lnTo>
                  <a:pt x="3987" y="3551"/>
                </a:lnTo>
                <a:lnTo>
                  <a:pt x="3987" y="3551"/>
                </a:lnTo>
                <a:lnTo>
                  <a:pt x="3930" y="3566"/>
                </a:lnTo>
                <a:lnTo>
                  <a:pt x="3907" y="3566"/>
                </a:lnTo>
                <a:lnTo>
                  <a:pt x="3873" y="3597"/>
                </a:lnTo>
                <a:lnTo>
                  <a:pt x="3849" y="3673"/>
                </a:lnTo>
                <a:lnTo>
                  <a:pt x="3827" y="3764"/>
                </a:lnTo>
                <a:close/>
                <a:moveTo>
                  <a:pt x="4950" y="3764"/>
                </a:moveTo>
                <a:lnTo>
                  <a:pt x="4950" y="3764"/>
                </a:lnTo>
                <a:lnTo>
                  <a:pt x="5007" y="3673"/>
                </a:lnTo>
                <a:lnTo>
                  <a:pt x="5041" y="3566"/>
                </a:lnTo>
                <a:lnTo>
                  <a:pt x="5064" y="3475"/>
                </a:lnTo>
                <a:lnTo>
                  <a:pt x="5064" y="3353"/>
                </a:lnTo>
                <a:lnTo>
                  <a:pt x="5064" y="3353"/>
                </a:lnTo>
                <a:lnTo>
                  <a:pt x="5121" y="3383"/>
                </a:lnTo>
                <a:lnTo>
                  <a:pt x="5156" y="3414"/>
                </a:lnTo>
                <a:lnTo>
                  <a:pt x="5213" y="3429"/>
                </a:lnTo>
                <a:lnTo>
                  <a:pt x="5270" y="3429"/>
                </a:lnTo>
                <a:lnTo>
                  <a:pt x="5270" y="3429"/>
                </a:lnTo>
                <a:lnTo>
                  <a:pt x="5064" y="3216"/>
                </a:lnTo>
                <a:lnTo>
                  <a:pt x="5064" y="3216"/>
                </a:lnTo>
                <a:lnTo>
                  <a:pt x="5007" y="3261"/>
                </a:lnTo>
                <a:lnTo>
                  <a:pt x="4961" y="3277"/>
                </a:lnTo>
                <a:lnTo>
                  <a:pt x="4915" y="3292"/>
                </a:lnTo>
                <a:lnTo>
                  <a:pt x="4858" y="3307"/>
                </a:lnTo>
                <a:lnTo>
                  <a:pt x="4812" y="3292"/>
                </a:lnTo>
                <a:lnTo>
                  <a:pt x="4755" y="3277"/>
                </a:lnTo>
                <a:lnTo>
                  <a:pt x="4709" y="3261"/>
                </a:lnTo>
                <a:lnTo>
                  <a:pt x="4652" y="3216"/>
                </a:lnTo>
                <a:lnTo>
                  <a:pt x="4652" y="3216"/>
                </a:lnTo>
                <a:lnTo>
                  <a:pt x="4674" y="3307"/>
                </a:lnTo>
                <a:lnTo>
                  <a:pt x="4709" y="3383"/>
                </a:lnTo>
                <a:lnTo>
                  <a:pt x="4732" y="3460"/>
                </a:lnTo>
                <a:lnTo>
                  <a:pt x="4766" y="3536"/>
                </a:lnTo>
                <a:lnTo>
                  <a:pt x="4801" y="3597"/>
                </a:lnTo>
                <a:lnTo>
                  <a:pt x="4858" y="3658"/>
                </a:lnTo>
                <a:lnTo>
                  <a:pt x="4915" y="3703"/>
                </a:lnTo>
                <a:lnTo>
                  <a:pt x="4950" y="3764"/>
                </a:lnTo>
                <a:close/>
                <a:moveTo>
                  <a:pt x="18001" y="3703"/>
                </a:moveTo>
                <a:lnTo>
                  <a:pt x="18001" y="3703"/>
                </a:lnTo>
                <a:lnTo>
                  <a:pt x="17864" y="3536"/>
                </a:lnTo>
                <a:lnTo>
                  <a:pt x="17703" y="3353"/>
                </a:lnTo>
                <a:lnTo>
                  <a:pt x="17531" y="3216"/>
                </a:lnTo>
                <a:lnTo>
                  <a:pt x="17348" y="3079"/>
                </a:lnTo>
                <a:lnTo>
                  <a:pt x="17142" y="2957"/>
                </a:lnTo>
                <a:lnTo>
                  <a:pt x="16935" y="2850"/>
                </a:lnTo>
                <a:lnTo>
                  <a:pt x="16832" y="2819"/>
                </a:lnTo>
                <a:lnTo>
                  <a:pt x="16718" y="2789"/>
                </a:lnTo>
                <a:lnTo>
                  <a:pt x="16603" y="2758"/>
                </a:lnTo>
                <a:lnTo>
                  <a:pt x="16512" y="2758"/>
                </a:lnTo>
                <a:lnTo>
                  <a:pt x="16512" y="2758"/>
                </a:lnTo>
                <a:lnTo>
                  <a:pt x="18001" y="3703"/>
                </a:lnTo>
                <a:close/>
                <a:moveTo>
                  <a:pt x="17635" y="3703"/>
                </a:moveTo>
                <a:lnTo>
                  <a:pt x="17635" y="3703"/>
                </a:lnTo>
                <a:lnTo>
                  <a:pt x="17543" y="3566"/>
                </a:lnTo>
                <a:lnTo>
                  <a:pt x="17451" y="3475"/>
                </a:lnTo>
                <a:lnTo>
                  <a:pt x="17337" y="3368"/>
                </a:lnTo>
                <a:lnTo>
                  <a:pt x="17222" y="3292"/>
                </a:lnTo>
                <a:lnTo>
                  <a:pt x="17096" y="3200"/>
                </a:lnTo>
                <a:lnTo>
                  <a:pt x="16970" y="3124"/>
                </a:lnTo>
                <a:lnTo>
                  <a:pt x="16844" y="3063"/>
                </a:lnTo>
                <a:lnTo>
                  <a:pt x="16718" y="3018"/>
                </a:lnTo>
                <a:lnTo>
                  <a:pt x="16718" y="3018"/>
                </a:lnTo>
                <a:lnTo>
                  <a:pt x="17635" y="3703"/>
                </a:lnTo>
                <a:close/>
                <a:moveTo>
                  <a:pt x="4033" y="3490"/>
                </a:moveTo>
                <a:lnTo>
                  <a:pt x="4033" y="3490"/>
                </a:lnTo>
                <a:lnTo>
                  <a:pt x="4170" y="3536"/>
                </a:lnTo>
                <a:lnTo>
                  <a:pt x="4296" y="3566"/>
                </a:lnTo>
                <a:lnTo>
                  <a:pt x="4423" y="3612"/>
                </a:lnTo>
                <a:lnTo>
                  <a:pt x="4560" y="3703"/>
                </a:lnTo>
                <a:lnTo>
                  <a:pt x="4560" y="3703"/>
                </a:lnTo>
                <a:lnTo>
                  <a:pt x="4560" y="3627"/>
                </a:lnTo>
                <a:lnTo>
                  <a:pt x="4560" y="3566"/>
                </a:lnTo>
                <a:lnTo>
                  <a:pt x="4560" y="3536"/>
                </a:lnTo>
                <a:lnTo>
                  <a:pt x="4548" y="3475"/>
                </a:lnTo>
                <a:lnTo>
                  <a:pt x="4526" y="3429"/>
                </a:lnTo>
                <a:lnTo>
                  <a:pt x="4503" y="3368"/>
                </a:lnTo>
                <a:lnTo>
                  <a:pt x="4445" y="3292"/>
                </a:lnTo>
                <a:lnTo>
                  <a:pt x="4445" y="3292"/>
                </a:lnTo>
                <a:lnTo>
                  <a:pt x="4377" y="3277"/>
                </a:lnTo>
                <a:lnTo>
                  <a:pt x="4308" y="3261"/>
                </a:lnTo>
                <a:lnTo>
                  <a:pt x="4308" y="3261"/>
                </a:lnTo>
                <a:lnTo>
                  <a:pt x="4262" y="3261"/>
                </a:lnTo>
                <a:lnTo>
                  <a:pt x="4216" y="3277"/>
                </a:lnTo>
                <a:lnTo>
                  <a:pt x="4182" y="3292"/>
                </a:lnTo>
                <a:lnTo>
                  <a:pt x="4147" y="3307"/>
                </a:lnTo>
                <a:lnTo>
                  <a:pt x="4125" y="3353"/>
                </a:lnTo>
                <a:lnTo>
                  <a:pt x="4090" y="3383"/>
                </a:lnTo>
                <a:lnTo>
                  <a:pt x="4033" y="3490"/>
                </a:lnTo>
                <a:close/>
                <a:moveTo>
                  <a:pt x="17165" y="3566"/>
                </a:moveTo>
                <a:lnTo>
                  <a:pt x="17165" y="3566"/>
                </a:lnTo>
                <a:lnTo>
                  <a:pt x="17096" y="3475"/>
                </a:lnTo>
                <a:lnTo>
                  <a:pt x="17016" y="3414"/>
                </a:lnTo>
                <a:lnTo>
                  <a:pt x="16935" y="3353"/>
                </a:lnTo>
                <a:lnTo>
                  <a:pt x="16844" y="3307"/>
                </a:lnTo>
                <a:lnTo>
                  <a:pt x="16729" y="3277"/>
                </a:lnTo>
                <a:lnTo>
                  <a:pt x="16638" y="3261"/>
                </a:lnTo>
                <a:lnTo>
                  <a:pt x="16397" y="3216"/>
                </a:lnTo>
                <a:lnTo>
                  <a:pt x="16397" y="3216"/>
                </a:lnTo>
                <a:lnTo>
                  <a:pt x="17165" y="3566"/>
                </a:lnTo>
                <a:close/>
                <a:moveTo>
                  <a:pt x="15010" y="3490"/>
                </a:moveTo>
                <a:lnTo>
                  <a:pt x="15010" y="3490"/>
                </a:lnTo>
                <a:lnTo>
                  <a:pt x="15079" y="3536"/>
                </a:lnTo>
                <a:lnTo>
                  <a:pt x="15102" y="3536"/>
                </a:lnTo>
                <a:lnTo>
                  <a:pt x="15148" y="3551"/>
                </a:lnTo>
                <a:lnTo>
                  <a:pt x="15171" y="3536"/>
                </a:lnTo>
                <a:lnTo>
                  <a:pt x="15182" y="3536"/>
                </a:lnTo>
                <a:lnTo>
                  <a:pt x="15205" y="3490"/>
                </a:lnTo>
                <a:lnTo>
                  <a:pt x="15217" y="3429"/>
                </a:lnTo>
                <a:lnTo>
                  <a:pt x="15217" y="3429"/>
                </a:lnTo>
                <a:lnTo>
                  <a:pt x="15159" y="3277"/>
                </a:lnTo>
                <a:lnTo>
                  <a:pt x="15148" y="3261"/>
                </a:lnTo>
                <a:lnTo>
                  <a:pt x="15137" y="3246"/>
                </a:lnTo>
                <a:lnTo>
                  <a:pt x="15137" y="3246"/>
                </a:lnTo>
                <a:lnTo>
                  <a:pt x="15102" y="3261"/>
                </a:lnTo>
                <a:lnTo>
                  <a:pt x="15091" y="3307"/>
                </a:lnTo>
                <a:lnTo>
                  <a:pt x="15010" y="3490"/>
                </a:lnTo>
                <a:close/>
                <a:moveTo>
                  <a:pt x="8777" y="3155"/>
                </a:moveTo>
                <a:lnTo>
                  <a:pt x="8777" y="3155"/>
                </a:lnTo>
                <a:lnTo>
                  <a:pt x="8800" y="3063"/>
                </a:lnTo>
                <a:lnTo>
                  <a:pt x="8800" y="3033"/>
                </a:lnTo>
                <a:lnTo>
                  <a:pt x="8800" y="3002"/>
                </a:lnTo>
                <a:lnTo>
                  <a:pt x="8800" y="2972"/>
                </a:lnTo>
                <a:lnTo>
                  <a:pt x="8777" y="2926"/>
                </a:lnTo>
                <a:lnTo>
                  <a:pt x="8719" y="2880"/>
                </a:lnTo>
                <a:lnTo>
                  <a:pt x="8719" y="2880"/>
                </a:lnTo>
                <a:lnTo>
                  <a:pt x="8662" y="3002"/>
                </a:lnTo>
                <a:lnTo>
                  <a:pt x="8616" y="3079"/>
                </a:lnTo>
                <a:lnTo>
                  <a:pt x="8605" y="3155"/>
                </a:lnTo>
                <a:lnTo>
                  <a:pt x="8605" y="3185"/>
                </a:lnTo>
                <a:lnTo>
                  <a:pt x="8616" y="3216"/>
                </a:lnTo>
                <a:lnTo>
                  <a:pt x="8616" y="3216"/>
                </a:lnTo>
                <a:lnTo>
                  <a:pt x="8651" y="3216"/>
                </a:lnTo>
                <a:lnTo>
                  <a:pt x="8708" y="3185"/>
                </a:lnTo>
                <a:lnTo>
                  <a:pt x="8777" y="3155"/>
                </a:lnTo>
                <a:close/>
                <a:moveTo>
                  <a:pt x="5328" y="3216"/>
                </a:moveTo>
                <a:lnTo>
                  <a:pt x="5328" y="3216"/>
                </a:lnTo>
                <a:lnTo>
                  <a:pt x="5362" y="3155"/>
                </a:lnTo>
                <a:lnTo>
                  <a:pt x="5397" y="3094"/>
                </a:lnTo>
                <a:lnTo>
                  <a:pt x="5419" y="3033"/>
                </a:lnTo>
                <a:lnTo>
                  <a:pt x="5419" y="2987"/>
                </a:lnTo>
                <a:lnTo>
                  <a:pt x="5408" y="2941"/>
                </a:lnTo>
                <a:lnTo>
                  <a:pt x="5385" y="2896"/>
                </a:lnTo>
                <a:lnTo>
                  <a:pt x="5362" y="2865"/>
                </a:lnTo>
                <a:lnTo>
                  <a:pt x="5339" y="2835"/>
                </a:lnTo>
                <a:lnTo>
                  <a:pt x="5248" y="2789"/>
                </a:lnTo>
                <a:lnTo>
                  <a:pt x="5144" y="2774"/>
                </a:lnTo>
                <a:lnTo>
                  <a:pt x="5053" y="2758"/>
                </a:lnTo>
                <a:lnTo>
                  <a:pt x="4950" y="2758"/>
                </a:lnTo>
                <a:lnTo>
                  <a:pt x="4950" y="2758"/>
                </a:lnTo>
                <a:lnTo>
                  <a:pt x="5328" y="3216"/>
                </a:lnTo>
                <a:close/>
                <a:moveTo>
                  <a:pt x="8307" y="3155"/>
                </a:moveTo>
                <a:lnTo>
                  <a:pt x="8307" y="3155"/>
                </a:lnTo>
                <a:lnTo>
                  <a:pt x="8318" y="3079"/>
                </a:lnTo>
                <a:lnTo>
                  <a:pt x="8330" y="3018"/>
                </a:lnTo>
                <a:lnTo>
                  <a:pt x="8318" y="2926"/>
                </a:lnTo>
                <a:lnTo>
                  <a:pt x="8307" y="2865"/>
                </a:lnTo>
                <a:lnTo>
                  <a:pt x="8284" y="2819"/>
                </a:lnTo>
                <a:lnTo>
                  <a:pt x="8238" y="2774"/>
                </a:lnTo>
                <a:lnTo>
                  <a:pt x="8216" y="2728"/>
                </a:lnTo>
                <a:lnTo>
                  <a:pt x="8147" y="2667"/>
                </a:lnTo>
                <a:lnTo>
                  <a:pt x="8147" y="2667"/>
                </a:lnTo>
                <a:lnTo>
                  <a:pt x="8147" y="2819"/>
                </a:lnTo>
                <a:lnTo>
                  <a:pt x="8147" y="2911"/>
                </a:lnTo>
                <a:lnTo>
                  <a:pt x="8147" y="2987"/>
                </a:lnTo>
                <a:lnTo>
                  <a:pt x="8158" y="3048"/>
                </a:lnTo>
                <a:lnTo>
                  <a:pt x="8204" y="3094"/>
                </a:lnTo>
                <a:lnTo>
                  <a:pt x="8227" y="3124"/>
                </a:lnTo>
                <a:lnTo>
                  <a:pt x="8227" y="3140"/>
                </a:lnTo>
                <a:lnTo>
                  <a:pt x="8273" y="3155"/>
                </a:lnTo>
                <a:lnTo>
                  <a:pt x="8307" y="3155"/>
                </a:lnTo>
                <a:close/>
                <a:moveTo>
                  <a:pt x="14793" y="3079"/>
                </a:moveTo>
                <a:lnTo>
                  <a:pt x="14793" y="3079"/>
                </a:lnTo>
                <a:lnTo>
                  <a:pt x="14884" y="3124"/>
                </a:lnTo>
                <a:lnTo>
                  <a:pt x="14942" y="3140"/>
                </a:lnTo>
                <a:lnTo>
                  <a:pt x="14953" y="3140"/>
                </a:lnTo>
                <a:lnTo>
                  <a:pt x="14976" y="3109"/>
                </a:lnTo>
                <a:lnTo>
                  <a:pt x="14976" y="3094"/>
                </a:lnTo>
                <a:lnTo>
                  <a:pt x="14976" y="3079"/>
                </a:lnTo>
                <a:lnTo>
                  <a:pt x="14976" y="3018"/>
                </a:lnTo>
                <a:lnTo>
                  <a:pt x="14965" y="2926"/>
                </a:lnTo>
                <a:lnTo>
                  <a:pt x="14908" y="2758"/>
                </a:lnTo>
                <a:lnTo>
                  <a:pt x="14908" y="2758"/>
                </a:lnTo>
                <a:lnTo>
                  <a:pt x="14793" y="3079"/>
                </a:lnTo>
                <a:close/>
                <a:moveTo>
                  <a:pt x="7746" y="3079"/>
                </a:moveTo>
                <a:lnTo>
                  <a:pt x="7746" y="3079"/>
                </a:lnTo>
                <a:lnTo>
                  <a:pt x="7803" y="3079"/>
                </a:lnTo>
                <a:lnTo>
                  <a:pt x="7837" y="3063"/>
                </a:lnTo>
                <a:lnTo>
                  <a:pt x="7849" y="3048"/>
                </a:lnTo>
                <a:lnTo>
                  <a:pt x="7860" y="3018"/>
                </a:lnTo>
                <a:lnTo>
                  <a:pt x="7860" y="2972"/>
                </a:lnTo>
                <a:lnTo>
                  <a:pt x="7837" y="2880"/>
                </a:lnTo>
                <a:lnTo>
                  <a:pt x="7791" y="2789"/>
                </a:lnTo>
                <a:lnTo>
                  <a:pt x="7723" y="2667"/>
                </a:lnTo>
                <a:lnTo>
                  <a:pt x="7654" y="2530"/>
                </a:lnTo>
                <a:lnTo>
                  <a:pt x="7654" y="2530"/>
                </a:lnTo>
                <a:lnTo>
                  <a:pt x="7620" y="2621"/>
                </a:lnTo>
                <a:lnTo>
                  <a:pt x="7608" y="2713"/>
                </a:lnTo>
                <a:lnTo>
                  <a:pt x="7608" y="2774"/>
                </a:lnTo>
                <a:lnTo>
                  <a:pt x="7620" y="2835"/>
                </a:lnTo>
                <a:lnTo>
                  <a:pt x="7642" y="2911"/>
                </a:lnTo>
                <a:lnTo>
                  <a:pt x="7654" y="2972"/>
                </a:lnTo>
                <a:lnTo>
                  <a:pt x="7688" y="3033"/>
                </a:lnTo>
                <a:lnTo>
                  <a:pt x="7746" y="3079"/>
                </a:lnTo>
                <a:close/>
                <a:moveTo>
                  <a:pt x="4285" y="3079"/>
                </a:moveTo>
                <a:lnTo>
                  <a:pt x="4285" y="3079"/>
                </a:lnTo>
                <a:lnTo>
                  <a:pt x="4411" y="3079"/>
                </a:lnTo>
                <a:lnTo>
                  <a:pt x="4526" y="3063"/>
                </a:lnTo>
                <a:lnTo>
                  <a:pt x="4617" y="3048"/>
                </a:lnTo>
                <a:lnTo>
                  <a:pt x="4697" y="3033"/>
                </a:lnTo>
                <a:lnTo>
                  <a:pt x="4755" y="3018"/>
                </a:lnTo>
                <a:lnTo>
                  <a:pt x="4801" y="2987"/>
                </a:lnTo>
                <a:lnTo>
                  <a:pt x="4846" y="2941"/>
                </a:lnTo>
                <a:lnTo>
                  <a:pt x="4858" y="2926"/>
                </a:lnTo>
                <a:lnTo>
                  <a:pt x="4858" y="2880"/>
                </a:lnTo>
                <a:lnTo>
                  <a:pt x="4858" y="2850"/>
                </a:lnTo>
                <a:lnTo>
                  <a:pt x="4835" y="2819"/>
                </a:lnTo>
                <a:lnTo>
                  <a:pt x="4789" y="2789"/>
                </a:lnTo>
                <a:lnTo>
                  <a:pt x="4743" y="2774"/>
                </a:lnTo>
                <a:lnTo>
                  <a:pt x="4674" y="2758"/>
                </a:lnTo>
                <a:lnTo>
                  <a:pt x="4583" y="2758"/>
                </a:lnTo>
                <a:lnTo>
                  <a:pt x="4503" y="2758"/>
                </a:lnTo>
                <a:lnTo>
                  <a:pt x="4503" y="2758"/>
                </a:lnTo>
                <a:lnTo>
                  <a:pt x="4285" y="3079"/>
                </a:lnTo>
                <a:close/>
                <a:moveTo>
                  <a:pt x="14644" y="3018"/>
                </a:moveTo>
                <a:lnTo>
                  <a:pt x="14644" y="3018"/>
                </a:lnTo>
                <a:lnTo>
                  <a:pt x="14655" y="2926"/>
                </a:lnTo>
                <a:lnTo>
                  <a:pt x="14655" y="2865"/>
                </a:lnTo>
                <a:lnTo>
                  <a:pt x="14667" y="2743"/>
                </a:lnTo>
                <a:lnTo>
                  <a:pt x="14667" y="2667"/>
                </a:lnTo>
                <a:lnTo>
                  <a:pt x="14655" y="2606"/>
                </a:lnTo>
                <a:lnTo>
                  <a:pt x="14632" y="2530"/>
                </a:lnTo>
                <a:lnTo>
                  <a:pt x="14598" y="2484"/>
                </a:lnTo>
                <a:lnTo>
                  <a:pt x="14598" y="2484"/>
                </a:lnTo>
                <a:lnTo>
                  <a:pt x="14575" y="2545"/>
                </a:lnTo>
                <a:lnTo>
                  <a:pt x="14563" y="2621"/>
                </a:lnTo>
                <a:lnTo>
                  <a:pt x="14552" y="2682"/>
                </a:lnTo>
                <a:lnTo>
                  <a:pt x="14563" y="2758"/>
                </a:lnTo>
                <a:lnTo>
                  <a:pt x="14575" y="2819"/>
                </a:lnTo>
                <a:lnTo>
                  <a:pt x="14586" y="2896"/>
                </a:lnTo>
                <a:lnTo>
                  <a:pt x="14610" y="2957"/>
                </a:lnTo>
                <a:lnTo>
                  <a:pt x="14644" y="3018"/>
                </a:lnTo>
                <a:close/>
                <a:moveTo>
                  <a:pt x="8983" y="3018"/>
                </a:moveTo>
                <a:lnTo>
                  <a:pt x="8983" y="3018"/>
                </a:lnTo>
                <a:lnTo>
                  <a:pt x="9040" y="3018"/>
                </a:lnTo>
                <a:lnTo>
                  <a:pt x="9098" y="3002"/>
                </a:lnTo>
                <a:lnTo>
                  <a:pt x="9144" y="2957"/>
                </a:lnTo>
                <a:lnTo>
                  <a:pt x="9178" y="2926"/>
                </a:lnTo>
                <a:lnTo>
                  <a:pt x="9201" y="2865"/>
                </a:lnTo>
                <a:lnTo>
                  <a:pt x="9212" y="2804"/>
                </a:lnTo>
                <a:lnTo>
                  <a:pt x="9212" y="2758"/>
                </a:lnTo>
                <a:lnTo>
                  <a:pt x="9212" y="2682"/>
                </a:lnTo>
                <a:lnTo>
                  <a:pt x="9212" y="2621"/>
                </a:lnTo>
                <a:lnTo>
                  <a:pt x="9212" y="2545"/>
                </a:lnTo>
                <a:lnTo>
                  <a:pt x="9189" y="2484"/>
                </a:lnTo>
                <a:lnTo>
                  <a:pt x="9166" y="2408"/>
                </a:lnTo>
                <a:lnTo>
                  <a:pt x="9144" y="2347"/>
                </a:lnTo>
                <a:lnTo>
                  <a:pt x="9109" y="2301"/>
                </a:lnTo>
                <a:lnTo>
                  <a:pt x="9075" y="2240"/>
                </a:lnTo>
                <a:lnTo>
                  <a:pt x="9029" y="2210"/>
                </a:lnTo>
                <a:lnTo>
                  <a:pt x="9029" y="2210"/>
                </a:lnTo>
                <a:lnTo>
                  <a:pt x="8983" y="3018"/>
                </a:lnTo>
                <a:close/>
                <a:moveTo>
                  <a:pt x="5477" y="3018"/>
                </a:moveTo>
                <a:lnTo>
                  <a:pt x="5477" y="3018"/>
                </a:lnTo>
                <a:lnTo>
                  <a:pt x="5683" y="2941"/>
                </a:lnTo>
                <a:lnTo>
                  <a:pt x="5683" y="2941"/>
                </a:lnTo>
                <a:lnTo>
                  <a:pt x="5568" y="2835"/>
                </a:lnTo>
                <a:lnTo>
                  <a:pt x="5522" y="2804"/>
                </a:lnTo>
                <a:lnTo>
                  <a:pt x="5511" y="2789"/>
                </a:lnTo>
                <a:lnTo>
                  <a:pt x="5511" y="2789"/>
                </a:lnTo>
                <a:lnTo>
                  <a:pt x="5500" y="2789"/>
                </a:lnTo>
                <a:lnTo>
                  <a:pt x="5477" y="2804"/>
                </a:lnTo>
                <a:lnTo>
                  <a:pt x="5465" y="2850"/>
                </a:lnTo>
                <a:lnTo>
                  <a:pt x="5465" y="2926"/>
                </a:lnTo>
                <a:lnTo>
                  <a:pt x="5477" y="3018"/>
                </a:lnTo>
                <a:close/>
                <a:moveTo>
                  <a:pt x="9235" y="2941"/>
                </a:moveTo>
                <a:lnTo>
                  <a:pt x="9235" y="2941"/>
                </a:lnTo>
                <a:lnTo>
                  <a:pt x="9293" y="2880"/>
                </a:lnTo>
                <a:lnTo>
                  <a:pt x="9304" y="2850"/>
                </a:lnTo>
                <a:lnTo>
                  <a:pt x="9293" y="2835"/>
                </a:lnTo>
                <a:lnTo>
                  <a:pt x="9293" y="2758"/>
                </a:lnTo>
                <a:lnTo>
                  <a:pt x="9293" y="2758"/>
                </a:lnTo>
                <a:lnTo>
                  <a:pt x="9235" y="2941"/>
                </a:lnTo>
                <a:close/>
                <a:moveTo>
                  <a:pt x="8662" y="2484"/>
                </a:moveTo>
                <a:lnTo>
                  <a:pt x="8662" y="2484"/>
                </a:lnTo>
                <a:lnTo>
                  <a:pt x="8616" y="2393"/>
                </a:lnTo>
                <a:lnTo>
                  <a:pt x="8559" y="2316"/>
                </a:lnTo>
                <a:lnTo>
                  <a:pt x="8490" y="2255"/>
                </a:lnTo>
                <a:lnTo>
                  <a:pt x="8422" y="2210"/>
                </a:lnTo>
                <a:lnTo>
                  <a:pt x="8422" y="2210"/>
                </a:lnTo>
                <a:lnTo>
                  <a:pt x="8422" y="2499"/>
                </a:lnTo>
                <a:lnTo>
                  <a:pt x="8433" y="2728"/>
                </a:lnTo>
                <a:lnTo>
                  <a:pt x="8445" y="2789"/>
                </a:lnTo>
                <a:lnTo>
                  <a:pt x="8467" y="2850"/>
                </a:lnTo>
                <a:lnTo>
                  <a:pt x="8490" y="2911"/>
                </a:lnTo>
                <a:lnTo>
                  <a:pt x="8502" y="2926"/>
                </a:lnTo>
                <a:lnTo>
                  <a:pt x="8525" y="2926"/>
                </a:lnTo>
                <a:lnTo>
                  <a:pt x="8548" y="2926"/>
                </a:lnTo>
                <a:lnTo>
                  <a:pt x="8570" y="2880"/>
                </a:lnTo>
                <a:lnTo>
                  <a:pt x="8594" y="2835"/>
                </a:lnTo>
                <a:lnTo>
                  <a:pt x="8628" y="2682"/>
                </a:lnTo>
                <a:lnTo>
                  <a:pt x="8662" y="2484"/>
                </a:lnTo>
                <a:close/>
                <a:moveTo>
                  <a:pt x="15159" y="2804"/>
                </a:moveTo>
                <a:lnTo>
                  <a:pt x="15159" y="2804"/>
                </a:lnTo>
                <a:lnTo>
                  <a:pt x="15091" y="2621"/>
                </a:lnTo>
                <a:lnTo>
                  <a:pt x="15010" y="2438"/>
                </a:lnTo>
                <a:lnTo>
                  <a:pt x="14919" y="2271"/>
                </a:lnTo>
                <a:lnTo>
                  <a:pt x="14793" y="2103"/>
                </a:lnTo>
                <a:lnTo>
                  <a:pt x="14667" y="1966"/>
                </a:lnTo>
                <a:lnTo>
                  <a:pt x="14541" y="1828"/>
                </a:lnTo>
                <a:lnTo>
                  <a:pt x="14392" y="1737"/>
                </a:lnTo>
                <a:lnTo>
                  <a:pt x="14220" y="1661"/>
                </a:lnTo>
                <a:lnTo>
                  <a:pt x="14220" y="1661"/>
                </a:lnTo>
                <a:lnTo>
                  <a:pt x="15159" y="2804"/>
                </a:lnTo>
                <a:close/>
                <a:moveTo>
                  <a:pt x="7127" y="2408"/>
                </a:moveTo>
                <a:lnTo>
                  <a:pt x="7127" y="2408"/>
                </a:lnTo>
                <a:lnTo>
                  <a:pt x="7276" y="2804"/>
                </a:lnTo>
                <a:lnTo>
                  <a:pt x="7276" y="2804"/>
                </a:lnTo>
                <a:lnTo>
                  <a:pt x="7333" y="2789"/>
                </a:lnTo>
                <a:lnTo>
                  <a:pt x="7379" y="2758"/>
                </a:lnTo>
                <a:lnTo>
                  <a:pt x="7413" y="2713"/>
                </a:lnTo>
                <a:lnTo>
                  <a:pt x="7436" y="2667"/>
                </a:lnTo>
                <a:lnTo>
                  <a:pt x="7459" y="2621"/>
                </a:lnTo>
                <a:lnTo>
                  <a:pt x="7459" y="2576"/>
                </a:lnTo>
                <a:lnTo>
                  <a:pt x="7471" y="2530"/>
                </a:lnTo>
                <a:lnTo>
                  <a:pt x="7471" y="2484"/>
                </a:lnTo>
                <a:lnTo>
                  <a:pt x="7459" y="2393"/>
                </a:lnTo>
                <a:lnTo>
                  <a:pt x="7425" y="2316"/>
                </a:lnTo>
                <a:lnTo>
                  <a:pt x="7390" y="2286"/>
                </a:lnTo>
                <a:lnTo>
                  <a:pt x="7356" y="2271"/>
                </a:lnTo>
                <a:lnTo>
                  <a:pt x="7333" y="2255"/>
                </a:lnTo>
                <a:lnTo>
                  <a:pt x="7299" y="2240"/>
                </a:lnTo>
                <a:lnTo>
                  <a:pt x="7299" y="2240"/>
                </a:lnTo>
                <a:lnTo>
                  <a:pt x="7264" y="2255"/>
                </a:lnTo>
                <a:lnTo>
                  <a:pt x="7219" y="2271"/>
                </a:lnTo>
                <a:lnTo>
                  <a:pt x="7173" y="2332"/>
                </a:lnTo>
                <a:lnTo>
                  <a:pt x="7127" y="2408"/>
                </a:lnTo>
                <a:close/>
                <a:moveTo>
                  <a:pt x="6921" y="2530"/>
                </a:moveTo>
                <a:lnTo>
                  <a:pt x="6921" y="2530"/>
                </a:lnTo>
                <a:lnTo>
                  <a:pt x="6657" y="2271"/>
                </a:lnTo>
                <a:lnTo>
                  <a:pt x="6657" y="2271"/>
                </a:lnTo>
                <a:lnTo>
                  <a:pt x="6680" y="2362"/>
                </a:lnTo>
                <a:lnTo>
                  <a:pt x="6714" y="2484"/>
                </a:lnTo>
                <a:lnTo>
                  <a:pt x="6749" y="2576"/>
                </a:lnTo>
                <a:lnTo>
                  <a:pt x="6794" y="2682"/>
                </a:lnTo>
                <a:lnTo>
                  <a:pt x="6852" y="2758"/>
                </a:lnTo>
                <a:lnTo>
                  <a:pt x="6863" y="2758"/>
                </a:lnTo>
                <a:lnTo>
                  <a:pt x="6875" y="2758"/>
                </a:lnTo>
                <a:lnTo>
                  <a:pt x="6897" y="2743"/>
                </a:lnTo>
                <a:lnTo>
                  <a:pt x="6909" y="2698"/>
                </a:lnTo>
                <a:lnTo>
                  <a:pt x="6921" y="2637"/>
                </a:lnTo>
                <a:lnTo>
                  <a:pt x="6921" y="2530"/>
                </a:lnTo>
                <a:close/>
                <a:moveTo>
                  <a:pt x="7837" y="2758"/>
                </a:moveTo>
                <a:lnTo>
                  <a:pt x="7837" y="2758"/>
                </a:lnTo>
                <a:lnTo>
                  <a:pt x="7929" y="2667"/>
                </a:lnTo>
                <a:lnTo>
                  <a:pt x="7986" y="2576"/>
                </a:lnTo>
                <a:lnTo>
                  <a:pt x="8032" y="2515"/>
                </a:lnTo>
                <a:lnTo>
                  <a:pt x="8032" y="2484"/>
                </a:lnTo>
                <a:lnTo>
                  <a:pt x="8043" y="2438"/>
                </a:lnTo>
                <a:lnTo>
                  <a:pt x="8043" y="2408"/>
                </a:lnTo>
                <a:lnTo>
                  <a:pt x="8032" y="2377"/>
                </a:lnTo>
                <a:lnTo>
                  <a:pt x="8020" y="2332"/>
                </a:lnTo>
                <a:lnTo>
                  <a:pt x="8009" y="2301"/>
                </a:lnTo>
                <a:lnTo>
                  <a:pt x="7940" y="2225"/>
                </a:lnTo>
                <a:lnTo>
                  <a:pt x="7837" y="2149"/>
                </a:lnTo>
                <a:lnTo>
                  <a:pt x="7837" y="2149"/>
                </a:lnTo>
                <a:lnTo>
                  <a:pt x="7837" y="2758"/>
                </a:lnTo>
                <a:close/>
                <a:moveTo>
                  <a:pt x="5889" y="2332"/>
                </a:moveTo>
                <a:lnTo>
                  <a:pt x="5889" y="2332"/>
                </a:lnTo>
                <a:lnTo>
                  <a:pt x="5901" y="2408"/>
                </a:lnTo>
                <a:lnTo>
                  <a:pt x="5912" y="2499"/>
                </a:lnTo>
                <a:lnTo>
                  <a:pt x="5924" y="2545"/>
                </a:lnTo>
                <a:lnTo>
                  <a:pt x="5958" y="2591"/>
                </a:lnTo>
                <a:lnTo>
                  <a:pt x="6004" y="2652"/>
                </a:lnTo>
                <a:lnTo>
                  <a:pt x="6050" y="2682"/>
                </a:lnTo>
                <a:lnTo>
                  <a:pt x="6096" y="2728"/>
                </a:lnTo>
                <a:lnTo>
                  <a:pt x="6141" y="2758"/>
                </a:lnTo>
                <a:lnTo>
                  <a:pt x="6141" y="2758"/>
                </a:lnTo>
                <a:lnTo>
                  <a:pt x="6141" y="2652"/>
                </a:lnTo>
                <a:lnTo>
                  <a:pt x="6141" y="2560"/>
                </a:lnTo>
                <a:lnTo>
                  <a:pt x="6141" y="2499"/>
                </a:lnTo>
                <a:lnTo>
                  <a:pt x="6107" y="2438"/>
                </a:lnTo>
                <a:lnTo>
                  <a:pt x="6084" y="2408"/>
                </a:lnTo>
                <a:lnTo>
                  <a:pt x="6038" y="2362"/>
                </a:lnTo>
                <a:lnTo>
                  <a:pt x="5992" y="2332"/>
                </a:lnTo>
                <a:lnTo>
                  <a:pt x="5924" y="2332"/>
                </a:lnTo>
                <a:lnTo>
                  <a:pt x="5924" y="2332"/>
                </a:lnTo>
                <a:lnTo>
                  <a:pt x="5889" y="2332"/>
                </a:lnTo>
                <a:close/>
                <a:moveTo>
                  <a:pt x="9591" y="2667"/>
                </a:moveTo>
                <a:lnTo>
                  <a:pt x="9591" y="2667"/>
                </a:lnTo>
                <a:lnTo>
                  <a:pt x="9591" y="2515"/>
                </a:lnTo>
                <a:lnTo>
                  <a:pt x="9591" y="2438"/>
                </a:lnTo>
                <a:lnTo>
                  <a:pt x="9579" y="2393"/>
                </a:lnTo>
                <a:lnTo>
                  <a:pt x="9579" y="2332"/>
                </a:lnTo>
                <a:lnTo>
                  <a:pt x="9556" y="2286"/>
                </a:lnTo>
                <a:lnTo>
                  <a:pt x="9510" y="2240"/>
                </a:lnTo>
                <a:lnTo>
                  <a:pt x="9430" y="2210"/>
                </a:lnTo>
                <a:lnTo>
                  <a:pt x="9430" y="2210"/>
                </a:lnTo>
                <a:lnTo>
                  <a:pt x="9407" y="2332"/>
                </a:lnTo>
                <a:lnTo>
                  <a:pt x="9384" y="2454"/>
                </a:lnTo>
                <a:lnTo>
                  <a:pt x="9384" y="2530"/>
                </a:lnTo>
                <a:lnTo>
                  <a:pt x="9384" y="2606"/>
                </a:lnTo>
                <a:lnTo>
                  <a:pt x="9419" y="2667"/>
                </a:lnTo>
                <a:lnTo>
                  <a:pt x="9464" y="2682"/>
                </a:lnTo>
                <a:lnTo>
                  <a:pt x="9522" y="2698"/>
                </a:lnTo>
                <a:lnTo>
                  <a:pt x="9591" y="2667"/>
                </a:lnTo>
                <a:close/>
                <a:moveTo>
                  <a:pt x="6302" y="2667"/>
                </a:moveTo>
                <a:lnTo>
                  <a:pt x="6302" y="2667"/>
                </a:lnTo>
                <a:lnTo>
                  <a:pt x="6370" y="2667"/>
                </a:lnTo>
                <a:lnTo>
                  <a:pt x="6428" y="2652"/>
                </a:lnTo>
                <a:lnTo>
                  <a:pt x="6485" y="2621"/>
                </a:lnTo>
                <a:lnTo>
                  <a:pt x="6508" y="2576"/>
                </a:lnTo>
                <a:lnTo>
                  <a:pt x="6543" y="2545"/>
                </a:lnTo>
                <a:lnTo>
                  <a:pt x="6565" y="2499"/>
                </a:lnTo>
                <a:lnTo>
                  <a:pt x="6577" y="2438"/>
                </a:lnTo>
                <a:lnTo>
                  <a:pt x="6577" y="2377"/>
                </a:lnTo>
                <a:lnTo>
                  <a:pt x="6577" y="2316"/>
                </a:lnTo>
                <a:lnTo>
                  <a:pt x="6554" y="2271"/>
                </a:lnTo>
                <a:lnTo>
                  <a:pt x="6531" y="2210"/>
                </a:lnTo>
                <a:lnTo>
                  <a:pt x="6496" y="2149"/>
                </a:lnTo>
                <a:lnTo>
                  <a:pt x="6462" y="2103"/>
                </a:lnTo>
                <a:lnTo>
                  <a:pt x="6416" y="2057"/>
                </a:lnTo>
                <a:lnTo>
                  <a:pt x="6359" y="2027"/>
                </a:lnTo>
                <a:lnTo>
                  <a:pt x="6302" y="2011"/>
                </a:lnTo>
                <a:lnTo>
                  <a:pt x="6302" y="2011"/>
                </a:lnTo>
                <a:lnTo>
                  <a:pt x="6313" y="2088"/>
                </a:lnTo>
                <a:lnTo>
                  <a:pt x="6336" y="2164"/>
                </a:lnTo>
                <a:lnTo>
                  <a:pt x="6347" y="2255"/>
                </a:lnTo>
                <a:lnTo>
                  <a:pt x="6347" y="2332"/>
                </a:lnTo>
                <a:lnTo>
                  <a:pt x="6347" y="2423"/>
                </a:lnTo>
                <a:lnTo>
                  <a:pt x="6336" y="2515"/>
                </a:lnTo>
                <a:lnTo>
                  <a:pt x="6313" y="2591"/>
                </a:lnTo>
                <a:lnTo>
                  <a:pt x="6302" y="2667"/>
                </a:lnTo>
                <a:close/>
                <a:moveTo>
                  <a:pt x="5729" y="2667"/>
                </a:moveTo>
                <a:lnTo>
                  <a:pt x="5729" y="2667"/>
                </a:lnTo>
                <a:lnTo>
                  <a:pt x="5717" y="2530"/>
                </a:lnTo>
                <a:lnTo>
                  <a:pt x="5717" y="2438"/>
                </a:lnTo>
                <a:lnTo>
                  <a:pt x="5694" y="2377"/>
                </a:lnTo>
                <a:lnTo>
                  <a:pt x="5660" y="2316"/>
                </a:lnTo>
                <a:lnTo>
                  <a:pt x="5626" y="2286"/>
                </a:lnTo>
                <a:lnTo>
                  <a:pt x="5568" y="2271"/>
                </a:lnTo>
                <a:lnTo>
                  <a:pt x="5431" y="2210"/>
                </a:lnTo>
                <a:lnTo>
                  <a:pt x="5431" y="2210"/>
                </a:lnTo>
                <a:lnTo>
                  <a:pt x="5729" y="2667"/>
                </a:lnTo>
                <a:close/>
                <a:moveTo>
                  <a:pt x="4354" y="2530"/>
                </a:moveTo>
                <a:lnTo>
                  <a:pt x="4354" y="2530"/>
                </a:lnTo>
                <a:lnTo>
                  <a:pt x="4354" y="2576"/>
                </a:lnTo>
                <a:lnTo>
                  <a:pt x="4365" y="2591"/>
                </a:lnTo>
                <a:lnTo>
                  <a:pt x="4388" y="2606"/>
                </a:lnTo>
                <a:lnTo>
                  <a:pt x="4423" y="2591"/>
                </a:lnTo>
                <a:lnTo>
                  <a:pt x="4503" y="2545"/>
                </a:lnTo>
                <a:lnTo>
                  <a:pt x="4583" y="2469"/>
                </a:lnTo>
                <a:lnTo>
                  <a:pt x="4674" y="2362"/>
                </a:lnTo>
                <a:lnTo>
                  <a:pt x="4743" y="2271"/>
                </a:lnTo>
                <a:lnTo>
                  <a:pt x="4755" y="2225"/>
                </a:lnTo>
                <a:lnTo>
                  <a:pt x="4766" y="2179"/>
                </a:lnTo>
                <a:lnTo>
                  <a:pt x="4766" y="2149"/>
                </a:lnTo>
                <a:lnTo>
                  <a:pt x="4755" y="2149"/>
                </a:lnTo>
                <a:lnTo>
                  <a:pt x="4755" y="2149"/>
                </a:lnTo>
                <a:lnTo>
                  <a:pt x="4354" y="2530"/>
                </a:lnTo>
                <a:close/>
                <a:moveTo>
                  <a:pt x="14128" y="2530"/>
                </a:moveTo>
                <a:lnTo>
                  <a:pt x="14128" y="2530"/>
                </a:lnTo>
                <a:lnTo>
                  <a:pt x="14174" y="2530"/>
                </a:lnTo>
                <a:lnTo>
                  <a:pt x="14208" y="2499"/>
                </a:lnTo>
                <a:lnTo>
                  <a:pt x="14231" y="2484"/>
                </a:lnTo>
                <a:lnTo>
                  <a:pt x="14254" y="2438"/>
                </a:lnTo>
                <a:lnTo>
                  <a:pt x="14254" y="2393"/>
                </a:lnTo>
                <a:lnTo>
                  <a:pt x="14254" y="2316"/>
                </a:lnTo>
                <a:lnTo>
                  <a:pt x="14243" y="2271"/>
                </a:lnTo>
                <a:lnTo>
                  <a:pt x="14220" y="2210"/>
                </a:lnTo>
                <a:lnTo>
                  <a:pt x="14220" y="2210"/>
                </a:lnTo>
                <a:lnTo>
                  <a:pt x="14140" y="2103"/>
                </a:lnTo>
                <a:lnTo>
                  <a:pt x="14105" y="2072"/>
                </a:lnTo>
                <a:lnTo>
                  <a:pt x="14082" y="2057"/>
                </a:lnTo>
                <a:lnTo>
                  <a:pt x="14082" y="2057"/>
                </a:lnTo>
                <a:lnTo>
                  <a:pt x="14059" y="2072"/>
                </a:lnTo>
                <a:lnTo>
                  <a:pt x="14048" y="2103"/>
                </a:lnTo>
                <a:lnTo>
                  <a:pt x="14036" y="2149"/>
                </a:lnTo>
                <a:lnTo>
                  <a:pt x="14036" y="2194"/>
                </a:lnTo>
                <a:lnTo>
                  <a:pt x="14071" y="2332"/>
                </a:lnTo>
                <a:lnTo>
                  <a:pt x="14128" y="2530"/>
                </a:lnTo>
                <a:close/>
                <a:moveTo>
                  <a:pt x="4915" y="2484"/>
                </a:moveTo>
                <a:lnTo>
                  <a:pt x="4915" y="2484"/>
                </a:lnTo>
                <a:lnTo>
                  <a:pt x="4995" y="2515"/>
                </a:lnTo>
                <a:lnTo>
                  <a:pt x="5087" y="2530"/>
                </a:lnTo>
                <a:lnTo>
                  <a:pt x="5144" y="2530"/>
                </a:lnTo>
                <a:lnTo>
                  <a:pt x="5213" y="2530"/>
                </a:lnTo>
                <a:lnTo>
                  <a:pt x="5259" y="2530"/>
                </a:lnTo>
                <a:lnTo>
                  <a:pt x="5293" y="2499"/>
                </a:lnTo>
                <a:lnTo>
                  <a:pt x="5305" y="2484"/>
                </a:lnTo>
                <a:lnTo>
                  <a:pt x="5316" y="2454"/>
                </a:lnTo>
                <a:lnTo>
                  <a:pt x="5305" y="2423"/>
                </a:lnTo>
                <a:lnTo>
                  <a:pt x="5293" y="2393"/>
                </a:lnTo>
                <a:lnTo>
                  <a:pt x="5282" y="2362"/>
                </a:lnTo>
                <a:lnTo>
                  <a:pt x="5248" y="2332"/>
                </a:lnTo>
                <a:lnTo>
                  <a:pt x="5213" y="2316"/>
                </a:lnTo>
                <a:lnTo>
                  <a:pt x="5156" y="2286"/>
                </a:lnTo>
                <a:lnTo>
                  <a:pt x="5121" y="2271"/>
                </a:lnTo>
                <a:lnTo>
                  <a:pt x="5064" y="2271"/>
                </a:lnTo>
                <a:lnTo>
                  <a:pt x="5064" y="2271"/>
                </a:lnTo>
                <a:lnTo>
                  <a:pt x="4915" y="2484"/>
                </a:lnTo>
                <a:close/>
                <a:moveTo>
                  <a:pt x="14541" y="2408"/>
                </a:moveTo>
                <a:lnTo>
                  <a:pt x="14541" y="2408"/>
                </a:lnTo>
                <a:lnTo>
                  <a:pt x="14541" y="2316"/>
                </a:lnTo>
                <a:lnTo>
                  <a:pt x="14541" y="2271"/>
                </a:lnTo>
                <a:lnTo>
                  <a:pt x="14518" y="2210"/>
                </a:lnTo>
                <a:lnTo>
                  <a:pt x="14506" y="2149"/>
                </a:lnTo>
                <a:lnTo>
                  <a:pt x="14472" y="2088"/>
                </a:lnTo>
                <a:lnTo>
                  <a:pt x="14438" y="2057"/>
                </a:lnTo>
                <a:lnTo>
                  <a:pt x="14392" y="2027"/>
                </a:lnTo>
                <a:lnTo>
                  <a:pt x="14334" y="2011"/>
                </a:lnTo>
                <a:lnTo>
                  <a:pt x="14334" y="2011"/>
                </a:lnTo>
                <a:lnTo>
                  <a:pt x="14312" y="2149"/>
                </a:lnTo>
                <a:lnTo>
                  <a:pt x="14300" y="2271"/>
                </a:lnTo>
                <a:lnTo>
                  <a:pt x="14312" y="2362"/>
                </a:lnTo>
                <a:lnTo>
                  <a:pt x="14334" y="2423"/>
                </a:lnTo>
                <a:lnTo>
                  <a:pt x="14357" y="2454"/>
                </a:lnTo>
                <a:lnTo>
                  <a:pt x="14369" y="2469"/>
                </a:lnTo>
                <a:lnTo>
                  <a:pt x="14392" y="2484"/>
                </a:lnTo>
                <a:lnTo>
                  <a:pt x="14403" y="2484"/>
                </a:lnTo>
                <a:lnTo>
                  <a:pt x="14472" y="2454"/>
                </a:lnTo>
                <a:lnTo>
                  <a:pt x="14541" y="2408"/>
                </a:lnTo>
                <a:close/>
                <a:moveTo>
                  <a:pt x="17165" y="2484"/>
                </a:moveTo>
                <a:lnTo>
                  <a:pt x="17165" y="2484"/>
                </a:lnTo>
                <a:lnTo>
                  <a:pt x="17050" y="2347"/>
                </a:lnTo>
                <a:lnTo>
                  <a:pt x="16993" y="2301"/>
                </a:lnTo>
                <a:lnTo>
                  <a:pt x="16935" y="2255"/>
                </a:lnTo>
                <a:lnTo>
                  <a:pt x="16878" y="2225"/>
                </a:lnTo>
                <a:lnTo>
                  <a:pt x="16798" y="2179"/>
                </a:lnTo>
                <a:lnTo>
                  <a:pt x="16706" y="2149"/>
                </a:lnTo>
                <a:lnTo>
                  <a:pt x="16603" y="2149"/>
                </a:lnTo>
                <a:lnTo>
                  <a:pt x="16603" y="2149"/>
                </a:lnTo>
                <a:lnTo>
                  <a:pt x="17165" y="2484"/>
                </a:lnTo>
                <a:close/>
                <a:moveTo>
                  <a:pt x="12581" y="2484"/>
                </a:moveTo>
                <a:lnTo>
                  <a:pt x="12581" y="2484"/>
                </a:lnTo>
                <a:lnTo>
                  <a:pt x="12937" y="2484"/>
                </a:lnTo>
                <a:lnTo>
                  <a:pt x="12937" y="2484"/>
                </a:lnTo>
                <a:lnTo>
                  <a:pt x="12925" y="2408"/>
                </a:lnTo>
                <a:lnTo>
                  <a:pt x="12902" y="2362"/>
                </a:lnTo>
                <a:lnTo>
                  <a:pt x="12868" y="2316"/>
                </a:lnTo>
                <a:lnTo>
                  <a:pt x="12856" y="2271"/>
                </a:lnTo>
                <a:lnTo>
                  <a:pt x="12810" y="2240"/>
                </a:lnTo>
                <a:lnTo>
                  <a:pt x="12788" y="2240"/>
                </a:lnTo>
                <a:lnTo>
                  <a:pt x="12742" y="2210"/>
                </a:lnTo>
                <a:lnTo>
                  <a:pt x="12719" y="2210"/>
                </a:lnTo>
                <a:lnTo>
                  <a:pt x="12719" y="2210"/>
                </a:lnTo>
                <a:lnTo>
                  <a:pt x="12684" y="2210"/>
                </a:lnTo>
                <a:lnTo>
                  <a:pt x="12661" y="2225"/>
                </a:lnTo>
                <a:lnTo>
                  <a:pt x="12650" y="2240"/>
                </a:lnTo>
                <a:lnTo>
                  <a:pt x="12627" y="2271"/>
                </a:lnTo>
                <a:lnTo>
                  <a:pt x="12604" y="2301"/>
                </a:lnTo>
                <a:lnTo>
                  <a:pt x="12593" y="2347"/>
                </a:lnTo>
                <a:lnTo>
                  <a:pt x="12581" y="2408"/>
                </a:lnTo>
                <a:lnTo>
                  <a:pt x="12581" y="2484"/>
                </a:lnTo>
                <a:close/>
                <a:moveTo>
                  <a:pt x="13360" y="2408"/>
                </a:moveTo>
                <a:lnTo>
                  <a:pt x="13360" y="2408"/>
                </a:lnTo>
                <a:lnTo>
                  <a:pt x="13441" y="2423"/>
                </a:lnTo>
                <a:lnTo>
                  <a:pt x="13509" y="2438"/>
                </a:lnTo>
                <a:lnTo>
                  <a:pt x="13544" y="2423"/>
                </a:lnTo>
                <a:lnTo>
                  <a:pt x="13567" y="2408"/>
                </a:lnTo>
                <a:lnTo>
                  <a:pt x="13578" y="2362"/>
                </a:lnTo>
                <a:lnTo>
                  <a:pt x="13555" y="2301"/>
                </a:lnTo>
                <a:lnTo>
                  <a:pt x="13509" y="2240"/>
                </a:lnTo>
                <a:lnTo>
                  <a:pt x="13452" y="2149"/>
                </a:lnTo>
                <a:lnTo>
                  <a:pt x="13452" y="2149"/>
                </a:lnTo>
                <a:lnTo>
                  <a:pt x="13360" y="2408"/>
                </a:lnTo>
                <a:close/>
                <a:moveTo>
                  <a:pt x="12123" y="2210"/>
                </a:moveTo>
                <a:lnTo>
                  <a:pt x="12123" y="2210"/>
                </a:lnTo>
                <a:lnTo>
                  <a:pt x="12157" y="2271"/>
                </a:lnTo>
                <a:lnTo>
                  <a:pt x="12192" y="2332"/>
                </a:lnTo>
                <a:lnTo>
                  <a:pt x="12226" y="2377"/>
                </a:lnTo>
                <a:lnTo>
                  <a:pt x="12272" y="2408"/>
                </a:lnTo>
                <a:lnTo>
                  <a:pt x="12295" y="2408"/>
                </a:lnTo>
                <a:lnTo>
                  <a:pt x="12352" y="2408"/>
                </a:lnTo>
                <a:lnTo>
                  <a:pt x="12386" y="2377"/>
                </a:lnTo>
                <a:lnTo>
                  <a:pt x="12432" y="2332"/>
                </a:lnTo>
                <a:lnTo>
                  <a:pt x="12432" y="2332"/>
                </a:lnTo>
                <a:lnTo>
                  <a:pt x="12432" y="2240"/>
                </a:lnTo>
                <a:lnTo>
                  <a:pt x="12409" y="2149"/>
                </a:lnTo>
                <a:lnTo>
                  <a:pt x="12363" y="2072"/>
                </a:lnTo>
                <a:lnTo>
                  <a:pt x="12329" y="2011"/>
                </a:lnTo>
                <a:lnTo>
                  <a:pt x="12329" y="2011"/>
                </a:lnTo>
                <a:lnTo>
                  <a:pt x="12123" y="2210"/>
                </a:lnTo>
                <a:close/>
                <a:moveTo>
                  <a:pt x="13727" y="2332"/>
                </a:moveTo>
                <a:lnTo>
                  <a:pt x="13727" y="2332"/>
                </a:lnTo>
                <a:lnTo>
                  <a:pt x="13784" y="2332"/>
                </a:lnTo>
                <a:lnTo>
                  <a:pt x="13830" y="2316"/>
                </a:lnTo>
                <a:lnTo>
                  <a:pt x="13876" y="2301"/>
                </a:lnTo>
                <a:lnTo>
                  <a:pt x="13922" y="2271"/>
                </a:lnTo>
                <a:lnTo>
                  <a:pt x="13945" y="2240"/>
                </a:lnTo>
                <a:lnTo>
                  <a:pt x="13968" y="2194"/>
                </a:lnTo>
                <a:lnTo>
                  <a:pt x="13979" y="2149"/>
                </a:lnTo>
                <a:lnTo>
                  <a:pt x="13991" y="2103"/>
                </a:lnTo>
                <a:lnTo>
                  <a:pt x="13979" y="2057"/>
                </a:lnTo>
                <a:lnTo>
                  <a:pt x="13968" y="2011"/>
                </a:lnTo>
                <a:lnTo>
                  <a:pt x="13945" y="1981"/>
                </a:lnTo>
                <a:lnTo>
                  <a:pt x="13922" y="1950"/>
                </a:lnTo>
                <a:lnTo>
                  <a:pt x="13876" y="1905"/>
                </a:lnTo>
                <a:lnTo>
                  <a:pt x="13830" y="1889"/>
                </a:lnTo>
                <a:lnTo>
                  <a:pt x="13784" y="1874"/>
                </a:lnTo>
                <a:lnTo>
                  <a:pt x="13727" y="1874"/>
                </a:lnTo>
                <a:lnTo>
                  <a:pt x="13727" y="1874"/>
                </a:lnTo>
                <a:lnTo>
                  <a:pt x="13727" y="2332"/>
                </a:lnTo>
                <a:close/>
                <a:moveTo>
                  <a:pt x="8823" y="2332"/>
                </a:moveTo>
                <a:lnTo>
                  <a:pt x="8823" y="2332"/>
                </a:lnTo>
                <a:lnTo>
                  <a:pt x="8857" y="2057"/>
                </a:lnTo>
                <a:lnTo>
                  <a:pt x="8857" y="1981"/>
                </a:lnTo>
                <a:lnTo>
                  <a:pt x="8857" y="1966"/>
                </a:lnTo>
                <a:lnTo>
                  <a:pt x="8846" y="1950"/>
                </a:lnTo>
                <a:lnTo>
                  <a:pt x="8811" y="1920"/>
                </a:lnTo>
                <a:lnTo>
                  <a:pt x="8765" y="1905"/>
                </a:lnTo>
                <a:lnTo>
                  <a:pt x="8674" y="1889"/>
                </a:lnTo>
                <a:lnTo>
                  <a:pt x="8570" y="1874"/>
                </a:lnTo>
                <a:lnTo>
                  <a:pt x="8570" y="1874"/>
                </a:lnTo>
                <a:lnTo>
                  <a:pt x="8823" y="2332"/>
                </a:lnTo>
                <a:close/>
                <a:moveTo>
                  <a:pt x="7070" y="1935"/>
                </a:moveTo>
                <a:lnTo>
                  <a:pt x="7070" y="1935"/>
                </a:lnTo>
                <a:lnTo>
                  <a:pt x="6817" y="1737"/>
                </a:lnTo>
                <a:lnTo>
                  <a:pt x="6817" y="1737"/>
                </a:lnTo>
                <a:lnTo>
                  <a:pt x="6863" y="1981"/>
                </a:lnTo>
                <a:lnTo>
                  <a:pt x="6909" y="2149"/>
                </a:lnTo>
                <a:lnTo>
                  <a:pt x="6943" y="2271"/>
                </a:lnTo>
                <a:lnTo>
                  <a:pt x="6978" y="2286"/>
                </a:lnTo>
                <a:lnTo>
                  <a:pt x="7001" y="2301"/>
                </a:lnTo>
                <a:lnTo>
                  <a:pt x="7001" y="2301"/>
                </a:lnTo>
                <a:lnTo>
                  <a:pt x="7024" y="2286"/>
                </a:lnTo>
                <a:lnTo>
                  <a:pt x="7046" y="2271"/>
                </a:lnTo>
                <a:lnTo>
                  <a:pt x="7058" y="2240"/>
                </a:lnTo>
                <a:lnTo>
                  <a:pt x="7070" y="2103"/>
                </a:lnTo>
                <a:lnTo>
                  <a:pt x="7070" y="1935"/>
                </a:lnTo>
                <a:close/>
                <a:moveTo>
                  <a:pt x="10152" y="2210"/>
                </a:moveTo>
                <a:lnTo>
                  <a:pt x="10152" y="2210"/>
                </a:lnTo>
                <a:lnTo>
                  <a:pt x="10140" y="2149"/>
                </a:lnTo>
                <a:lnTo>
                  <a:pt x="10095" y="2088"/>
                </a:lnTo>
                <a:lnTo>
                  <a:pt x="10060" y="2042"/>
                </a:lnTo>
                <a:lnTo>
                  <a:pt x="10003" y="2011"/>
                </a:lnTo>
                <a:lnTo>
                  <a:pt x="10003" y="2011"/>
                </a:lnTo>
                <a:lnTo>
                  <a:pt x="10003" y="2072"/>
                </a:lnTo>
                <a:lnTo>
                  <a:pt x="10026" y="2149"/>
                </a:lnTo>
                <a:lnTo>
                  <a:pt x="10060" y="2240"/>
                </a:lnTo>
                <a:lnTo>
                  <a:pt x="10083" y="2271"/>
                </a:lnTo>
                <a:lnTo>
                  <a:pt x="10118" y="2301"/>
                </a:lnTo>
                <a:lnTo>
                  <a:pt x="10129" y="2301"/>
                </a:lnTo>
                <a:lnTo>
                  <a:pt x="10152" y="2301"/>
                </a:lnTo>
                <a:lnTo>
                  <a:pt x="10152" y="2286"/>
                </a:lnTo>
                <a:lnTo>
                  <a:pt x="10152" y="2271"/>
                </a:lnTo>
                <a:lnTo>
                  <a:pt x="10152" y="2210"/>
                </a:lnTo>
                <a:close/>
                <a:moveTo>
                  <a:pt x="13051" y="2271"/>
                </a:moveTo>
                <a:lnTo>
                  <a:pt x="13051" y="2271"/>
                </a:lnTo>
                <a:lnTo>
                  <a:pt x="13108" y="2271"/>
                </a:lnTo>
                <a:lnTo>
                  <a:pt x="13154" y="2271"/>
                </a:lnTo>
                <a:lnTo>
                  <a:pt x="13211" y="2255"/>
                </a:lnTo>
                <a:lnTo>
                  <a:pt x="13246" y="2240"/>
                </a:lnTo>
                <a:lnTo>
                  <a:pt x="13269" y="2179"/>
                </a:lnTo>
                <a:lnTo>
                  <a:pt x="13292" y="2133"/>
                </a:lnTo>
                <a:lnTo>
                  <a:pt x="13292" y="2057"/>
                </a:lnTo>
                <a:lnTo>
                  <a:pt x="13303" y="2011"/>
                </a:lnTo>
                <a:lnTo>
                  <a:pt x="13303" y="2011"/>
                </a:lnTo>
                <a:lnTo>
                  <a:pt x="13097" y="1874"/>
                </a:lnTo>
                <a:lnTo>
                  <a:pt x="13097" y="1874"/>
                </a:lnTo>
                <a:lnTo>
                  <a:pt x="13051" y="2271"/>
                </a:lnTo>
                <a:close/>
                <a:moveTo>
                  <a:pt x="9957" y="2057"/>
                </a:moveTo>
                <a:lnTo>
                  <a:pt x="9957" y="2057"/>
                </a:lnTo>
                <a:lnTo>
                  <a:pt x="9751" y="1661"/>
                </a:lnTo>
                <a:lnTo>
                  <a:pt x="9751" y="1661"/>
                </a:lnTo>
                <a:lnTo>
                  <a:pt x="9785" y="1859"/>
                </a:lnTo>
                <a:lnTo>
                  <a:pt x="9820" y="1996"/>
                </a:lnTo>
                <a:lnTo>
                  <a:pt x="9865" y="2133"/>
                </a:lnTo>
                <a:lnTo>
                  <a:pt x="9900" y="2240"/>
                </a:lnTo>
                <a:lnTo>
                  <a:pt x="9911" y="2271"/>
                </a:lnTo>
                <a:lnTo>
                  <a:pt x="9934" y="2271"/>
                </a:lnTo>
                <a:lnTo>
                  <a:pt x="9934" y="2271"/>
                </a:lnTo>
                <a:lnTo>
                  <a:pt x="9946" y="2240"/>
                </a:lnTo>
                <a:lnTo>
                  <a:pt x="9957" y="2164"/>
                </a:lnTo>
                <a:lnTo>
                  <a:pt x="9957" y="2057"/>
                </a:lnTo>
                <a:close/>
                <a:moveTo>
                  <a:pt x="6141" y="2271"/>
                </a:moveTo>
                <a:lnTo>
                  <a:pt x="6141" y="2271"/>
                </a:lnTo>
                <a:lnTo>
                  <a:pt x="6164" y="2164"/>
                </a:lnTo>
                <a:lnTo>
                  <a:pt x="6164" y="2057"/>
                </a:lnTo>
                <a:lnTo>
                  <a:pt x="6153" y="1996"/>
                </a:lnTo>
                <a:lnTo>
                  <a:pt x="6141" y="1920"/>
                </a:lnTo>
                <a:lnTo>
                  <a:pt x="6096" y="1859"/>
                </a:lnTo>
                <a:lnTo>
                  <a:pt x="6038" y="1798"/>
                </a:lnTo>
                <a:lnTo>
                  <a:pt x="5969" y="1767"/>
                </a:lnTo>
                <a:lnTo>
                  <a:pt x="5889" y="1737"/>
                </a:lnTo>
                <a:lnTo>
                  <a:pt x="5889" y="1737"/>
                </a:lnTo>
                <a:lnTo>
                  <a:pt x="5798" y="1813"/>
                </a:lnTo>
                <a:lnTo>
                  <a:pt x="5775" y="1859"/>
                </a:lnTo>
                <a:lnTo>
                  <a:pt x="5763" y="1889"/>
                </a:lnTo>
                <a:lnTo>
                  <a:pt x="5752" y="1935"/>
                </a:lnTo>
                <a:lnTo>
                  <a:pt x="5763" y="1981"/>
                </a:lnTo>
                <a:lnTo>
                  <a:pt x="5775" y="1996"/>
                </a:lnTo>
                <a:lnTo>
                  <a:pt x="5798" y="2011"/>
                </a:lnTo>
                <a:lnTo>
                  <a:pt x="5866" y="2072"/>
                </a:lnTo>
                <a:lnTo>
                  <a:pt x="5935" y="2149"/>
                </a:lnTo>
                <a:lnTo>
                  <a:pt x="6141" y="2271"/>
                </a:lnTo>
                <a:close/>
                <a:moveTo>
                  <a:pt x="7654" y="1737"/>
                </a:moveTo>
                <a:lnTo>
                  <a:pt x="7654" y="1737"/>
                </a:lnTo>
                <a:lnTo>
                  <a:pt x="7436" y="1661"/>
                </a:lnTo>
                <a:lnTo>
                  <a:pt x="7436" y="1661"/>
                </a:lnTo>
                <a:lnTo>
                  <a:pt x="7505" y="1950"/>
                </a:lnTo>
                <a:lnTo>
                  <a:pt x="7551" y="2057"/>
                </a:lnTo>
                <a:lnTo>
                  <a:pt x="7585" y="2133"/>
                </a:lnTo>
                <a:lnTo>
                  <a:pt x="7620" y="2194"/>
                </a:lnTo>
                <a:lnTo>
                  <a:pt x="7654" y="2225"/>
                </a:lnTo>
                <a:lnTo>
                  <a:pt x="7654" y="2240"/>
                </a:lnTo>
                <a:lnTo>
                  <a:pt x="7677" y="2240"/>
                </a:lnTo>
                <a:lnTo>
                  <a:pt x="7700" y="2225"/>
                </a:lnTo>
                <a:lnTo>
                  <a:pt x="7700" y="2179"/>
                </a:lnTo>
                <a:lnTo>
                  <a:pt x="7711" y="2133"/>
                </a:lnTo>
                <a:lnTo>
                  <a:pt x="7711" y="2057"/>
                </a:lnTo>
                <a:lnTo>
                  <a:pt x="7677" y="1905"/>
                </a:lnTo>
                <a:lnTo>
                  <a:pt x="7654" y="1737"/>
                </a:lnTo>
                <a:close/>
                <a:moveTo>
                  <a:pt x="8364" y="1874"/>
                </a:moveTo>
                <a:lnTo>
                  <a:pt x="8364" y="1874"/>
                </a:lnTo>
                <a:lnTo>
                  <a:pt x="7791" y="1661"/>
                </a:lnTo>
                <a:lnTo>
                  <a:pt x="7791" y="1661"/>
                </a:lnTo>
                <a:lnTo>
                  <a:pt x="8009" y="1981"/>
                </a:lnTo>
                <a:lnTo>
                  <a:pt x="8089" y="2088"/>
                </a:lnTo>
                <a:lnTo>
                  <a:pt x="8192" y="2179"/>
                </a:lnTo>
                <a:lnTo>
                  <a:pt x="8227" y="2210"/>
                </a:lnTo>
                <a:lnTo>
                  <a:pt x="8250" y="2225"/>
                </a:lnTo>
                <a:lnTo>
                  <a:pt x="8284" y="2225"/>
                </a:lnTo>
                <a:lnTo>
                  <a:pt x="8307" y="2194"/>
                </a:lnTo>
                <a:lnTo>
                  <a:pt x="8330" y="2149"/>
                </a:lnTo>
                <a:lnTo>
                  <a:pt x="8353" y="2072"/>
                </a:lnTo>
                <a:lnTo>
                  <a:pt x="8364" y="1981"/>
                </a:lnTo>
                <a:lnTo>
                  <a:pt x="8364" y="1874"/>
                </a:lnTo>
                <a:close/>
                <a:moveTo>
                  <a:pt x="5362" y="1935"/>
                </a:moveTo>
                <a:lnTo>
                  <a:pt x="5362" y="1935"/>
                </a:lnTo>
                <a:lnTo>
                  <a:pt x="5339" y="2011"/>
                </a:lnTo>
                <a:lnTo>
                  <a:pt x="5328" y="2057"/>
                </a:lnTo>
                <a:lnTo>
                  <a:pt x="5328" y="2103"/>
                </a:lnTo>
                <a:lnTo>
                  <a:pt x="5351" y="2149"/>
                </a:lnTo>
                <a:lnTo>
                  <a:pt x="5385" y="2149"/>
                </a:lnTo>
                <a:lnTo>
                  <a:pt x="5454" y="2164"/>
                </a:lnTo>
                <a:lnTo>
                  <a:pt x="5522" y="2149"/>
                </a:lnTo>
                <a:lnTo>
                  <a:pt x="5637" y="2149"/>
                </a:lnTo>
                <a:lnTo>
                  <a:pt x="5637" y="2149"/>
                </a:lnTo>
                <a:lnTo>
                  <a:pt x="5591" y="2042"/>
                </a:lnTo>
                <a:lnTo>
                  <a:pt x="5568" y="2011"/>
                </a:lnTo>
                <a:lnTo>
                  <a:pt x="5546" y="1981"/>
                </a:lnTo>
                <a:lnTo>
                  <a:pt x="5522" y="1966"/>
                </a:lnTo>
                <a:lnTo>
                  <a:pt x="5500" y="1950"/>
                </a:lnTo>
                <a:lnTo>
                  <a:pt x="5419" y="1935"/>
                </a:lnTo>
                <a:lnTo>
                  <a:pt x="5419" y="1935"/>
                </a:lnTo>
                <a:lnTo>
                  <a:pt x="5362" y="1935"/>
                </a:lnTo>
                <a:close/>
                <a:moveTo>
                  <a:pt x="12524" y="2149"/>
                </a:moveTo>
                <a:lnTo>
                  <a:pt x="12524" y="2149"/>
                </a:lnTo>
                <a:lnTo>
                  <a:pt x="12673" y="2072"/>
                </a:lnTo>
                <a:lnTo>
                  <a:pt x="12799" y="2011"/>
                </a:lnTo>
                <a:lnTo>
                  <a:pt x="12856" y="1981"/>
                </a:lnTo>
                <a:lnTo>
                  <a:pt x="12879" y="1935"/>
                </a:lnTo>
                <a:lnTo>
                  <a:pt x="12890" y="1905"/>
                </a:lnTo>
                <a:lnTo>
                  <a:pt x="12890" y="1874"/>
                </a:lnTo>
                <a:lnTo>
                  <a:pt x="12879" y="1844"/>
                </a:lnTo>
                <a:lnTo>
                  <a:pt x="12868" y="1813"/>
                </a:lnTo>
                <a:lnTo>
                  <a:pt x="12845" y="1783"/>
                </a:lnTo>
                <a:lnTo>
                  <a:pt x="12753" y="1722"/>
                </a:lnTo>
                <a:lnTo>
                  <a:pt x="12639" y="1661"/>
                </a:lnTo>
                <a:lnTo>
                  <a:pt x="12639" y="1661"/>
                </a:lnTo>
                <a:lnTo>
                  <a:pt x="12524" y="2149"/>
                </a:lnTo>
                <a:close/>
                <a:moveTo>
                  <a:pt x="9189" y="2149"/>
                </a:moveTo>
                <a:lnTo>
                  <a:pt x="9189" y="2149"/>
                </a:lnTo>
                <a:lnTo>
                  <a:pt x="9270" y="2088"/>
                </a:lnTo>
                <a:lnTo>
                  <a:pt x="9327" y="2057"/>
                </a:lnTo>
                <a:lnTo>
                  <a:pt x="9373" y="2027"/>
                </a:lnTo>
                <a:lnTo>
                  <a:pt x="9373" y="1996"/>
                </a:lnTo>
                <a:lnTo>
                  <a:pt x="9373" y="1966"/>
                </a:lnTo>
                <a:lnTo>
                  <a:pt x="9327" y="1905"/>
                </a:lnTo>
                <a:lnTo>
                  <a:pt x="9270" y="1859"/>
                </a:lnTo>
                <a:lnTo>
                  <a:pt x="9189" y="1798"/>
                </a:lnTo>
                <a:lnTo>
                  <a:pt x="9189" y="1798"/>
                </a:lnTo>
                <a:lnTo>
                  <a:pt x="9189" y="2149"/>
                </a:lnTo>
                <a:close/>
                <a:moveTo>
                  <a:pt x="15790" y="2027"/>
                </a:moveTo>
                <a:lnTo>
                  <a:pt x="15790" y="2027"/>
                </a:lnTo>
                <a:close/>
                <a:moveTo>
                  <a:pt x="11756" y="2011"/>
                </a:moveTo>
                <a:lnTo>
                  <a:pt x="11756" y="2011"/>
                </a:lnTo>
                <a:lnTo>
                  <a:pt x="11871" y="2011"/>
                </a:lnTo>
                <a:lnTo>
                  <a:pt x="11940" y="2027"/>
                </a:lnTo>
                <a:lnTo>
                  <a:pt x="12008" y="2042"/>
                </a:lnTo>
                <a:lnTo>
                  <a:pt x="12043" y="2027"/>
                </a:lnTo>
                <a:lnTo>
                  <a:pt x="12054" y="2011"/>
                </a:lnTo>
                <a:lnTo>
                  <a:pt x="12065" y="1996"/>
                </a:lnTo>
                <a:lnTo>
                  <a:pt x="12065" y="1920"/>
                </a:lnTo>
                <a:lnTo>
                  <a:pt x="12020" y="1600"/>
                </a:lnTo>
                <a:lnTo>
                  <a:pt x="12020" y="1600"/>
                </a:lnTo>
                <a:lnTo>
                  <a:pt x="11756" y="2011"/>
                </a:lnTo>
                <a:close/>
                <a:moveTo>
                  <a:pt x="16191" y="2011"/>
                </a:moveTo>
                <a:lnTo>
                  <a:pt x="16191" y="2011"/>
                </a:lnTo>
                <a:lnTo>
                  <a:pt x="15985" y="1935"/>
                </a:lnTo>
                <a:lnTo>
                  <a:pt x="15985" y="1935"/>
                </a:lnTo>
                <a:lnTo>
                  <a:pt x="15927" y="1981"/>
                </a:lnTo>
                <a:lnTo>
                  <a:pt x="15881" y="1996"/>
                </a:lnTo>
                <a:lnTo>
                  <a:pt x="15870" y="2011"/>
                </a:lnTo>
                <a:lnTo>
                  <a:pt x="15881" y="2027"/>
                </a:lnTo>
                <a:lnTo>
                  <a:pt x="15927" y="2027"/>
                </a:lnTo>
                <a:lnTo>
                  <a:pt x="15985" y="2027"/>
                </a:lnTo>
                <a:lnTo>
                  <a:pt x="16191" y="2011"/>
                </a:lnTo>
                <a:close/>
                <a:moveTo>
                  <a:pt x="10473" y="1798"/>
                </a:moveTo>
                <a:lnTo>
                  <a:pt x="10473" y="1798"/>
                </a:lnTo>
                <a:lnTo>
                  <a:pt x="10427" y="1706"/>
                </a:lnTo>
                <a:lnTo>
                  <a:pt x="10358" y="1600"/>
                </a:lnTo>
                <a:lnTo>
                  <a:pt x="10301" y="1524"/>
                </a:lnTo>
                <a:lnTo>
                  <a:pt x="10221" y="1463"/>
                </a:lnTo>
                <a:lnTo>
                  <a:pt x="10221" y="1463"/>
                </a:lnTo>
                <a:lnTo>
                  <a:pt x="10221" y="1798"/>
                </a:lnTo>
                <a:lnTo>
                  <a:pt x="10221" y="1905"/>
                </a:lnTo>
                <a:lnTo>
                  <a:pt x="10243" y="1981"/>
                </a:lnTo>
                <a:lnTo>
                  <a:pt x="10255" y="1996"/>
                </a:lnTo>
                <a:lnTo>
                  <a:pt x="10278" y="1996"/>
                </a:lnTo>
                <a:lnTo>
                  <a:pt x="10301" y="1996"/>
                </a:lnTo>
                <a:lnTo>
                  <a:pt x="10324" y="1981"/>
                </a:lnTo>
                <a:lnTo>
                  <a:pt x="10381" y="1920"/>
                </a:lnTo>
                <a:lnTo>
                  <a:pt x="10473" y="1798"/>
                </a:lnTo>
                <a:close/>
                <a:moveTo>
                  <a:pt x="6611" y="1737"/>
                </a:moveTo>
                <a:lnTo>
                  <a:pt x="6611" y="1737"/>
                </a:lnTo>
                <a:lnTo>
                  <a:pt x="6405" y="1661"/>
                </a:lnTo>
                <a:lnTo>
                  <a:pt x="6405" y="1661"/>
                </a:lnTo>
                <a:lnTo>
                  <a:pt x="6496" y="1844"/>
                </a:lnTo>
                <a:lnTo>
                  <a:pt x="6531" y="1905"/>
                </a:lnTo>
                <a:lnTo>
                  <a:pt x="6565" y="1950"/>
                </a:lnTo>
                <a:lnTo>
                  <a:pt x="6588" y="1966"/>
                </a:lnTo>
                <a:lnTo>
                  <a:pt x="6611" y="1966"/>
                </a:lnTo>
                <a:lnTo>
                  <a:pt x="6634" y="1966"/>
                </a:lnTo>
                <a:lnTo>
                  <a:pt x="6645" y="1935"/>
                </a:lnTo>
                <a:lnTo>
                  <a:pt x="6645" y="1874"/>
                </a:lnTo>
                <a:lnTo>
                  <a:pt x="6645" y="1798"/>
                </a:lnTo>
                <a:lnTo>
                  <a:pt x="6634" y="1767"/>
                </a:lnTo>
                <a:lnTo>
                  <a:pt x="6623" y="1737"/>
                </a:lnTo>
                <a:lnTo>
                  <a:pt x="6611" y="1737"/>
                </a:lnTo>
                <a:close/>
                <a:moveTo>
                  <a:pt x="7230" y="1524"/>
                </a:moveTo>
                <a:lnTo>
                  <a:pt x="7230" y="1524"/>
                </a:lnTo>
                <a:lnTo>
                  <a:pt x="6966" y="1524"/>
                </a:lnTo>
                <a:lnTo>
                  <a:pt x="6966" y="1524"/>
                </a:lnTo>
                <a:lnTo>
                  <a:pt x="7046" y="1706"/>
                </a:lnTo>
                <a:lnTo>
                  <a:pt x="7104" y="1798"/>
                </a:lnTo>
                <a:lnTo>
                  <a:pt x="7138" y="1844"/>
                </a:lnTo>
                <a:lnTo>
                  <a:pt x="7161" y="1874"/>
                </a:lnTo>
                <a:lnTo>
                  <a:pt x="7195" y="1889"/>
                </a:lnTo>
                <a:lnTo>
                  <a:pt x="7219" y="1889"/>
                </a:lnTo>
                <a:lnTo>
                  <a:pt x="7230" y="1874"/>
                </a:lnTo>
                <a:lnTo>
                  <a:pt x="7253" y="1844"/>
                </a:lnTo>
                <a:lnTo>
                  <a:pt x="7264" y="1813"/>
                </a:lnTo>
                <a:lnTo>
                  <a:pt x="7264" y="1783"/>
                </a:lnTo>
                <a:lnTo>
                  <a:pt x="7264" y="1676"/>
                </a:lnTo>
                <a:lnTo>
                  <a:pt x="7230" y="1524"/>
                </a:lnTo>
                <a:close/>
                <a:moveTo>
                  <a:pt x="11653" y="1874"/>
                </a:moveTo>
                <a:lnTo>
                  <a:pt x="11653" y="1874"/>
                </a:lnTo>
                <a:lnTo>
                  <a:pt x="11607" y="1325"/>
                </a:lnTo>
                <a:lnTo>
                  <a:pt x="11607" y="1325"/>
                </a:lnTo>
                <a:lnTo>
                  <a:pt x="11538" y="1524"/>
                </a:lnTo>
                <a:lnTo>
                  <a:pt x="11504" y="1676"/>
                </a:lnTo>
                <a:lnTo>
                  <a:pt x="11458" y="1767"/>
                </a:lnTo>
                <a:lnTo>
                  <a:pt x="11435" y="1828"/>
                </a:lnTo>
                <a:lnTo>
                  <a:pt x="11435" y="1844"/>
                </a:lnTo>
                <a:lnTo>
                  <a:pt x="11447" y="1859"/>
                </a:lnTo>
                <a:lnTo>
                  <a:pt x="11493" y="1874"/>
                </a:lnTo>
                <a:lnTo>
                  <a:pt x="11653" y="1874"/>
                </a:lnTo>
                <a:close/>
                <a:moveTo>
                  <a:pt x="9591" y="1798"/>
                </a:moveTo>
                <a:lnTo>
                  <a:pt x="9591" y="1798"/>
                </a:lnTo>
                <a:lnTo>
                  <a:pt x="9591" y="1463"/>
                </a:lnTo>
                <a:lnTo>
                  <a:pt x="9591" y="1463"/>
                </a:lnTo>
                <a:lnTo>
                  <a:pt x="9556" y="1508"/>
                </a:lnTo>
                <a:lnTo>
                  <a:pt x="9522" y="1539"/>
                </a:lnTo>
                <a:lnTo>
                  <a:pt x="9499" y="1600"/>
                </a:lnTo>
                <a:lnTo>
                  <a:pt x="9499" y="1645"/>
                </a:lnTo>
                <a:lnTo>
                  <a:pt x="9499" y="1691"/>
                </a:lnTo>
                <a:lnTo>
                  <a:pt x="9522" y="1722"/>
                </a:lnTo>
                <a:lnTo>
                  <a:pt x="9556" y="1767"/>
                </a:lnTo>
                <a:lnTo>
                  <a:pt x="9591" y="1798"/>
                </a:lnTo>
                <a:close/>
                <a:moveTo>
                  <a:pt x="12226" y="1737"/>
                </a:moveTo>
                <a:lnTo>
                  <a:pt x="12226" y="1737"/>
                </a:lnTo>
                <a:lnTo>
                  <a:pt x="12329" y="1706"/>
                </a:lnTo>
                <a:lnTo>
                  <a:pt x="12409" y="1645"/>
                </a:lnTo>
                <a:lnTo>
                  <a:pt x="12467" y="1615"/>
                </a:lnTo>
                <a:lnTo>
                  <a:pt x="12467" y="1569"/>
                </a:lnTo>
                <a:lnTo>
                  <a:pt x="12478" y="1539"/>
                </a:lnTo>
                <a:lnTo>
                  <a:pt x="12478" y="1524"/>
                </a:lnTo>
                <a:lnTo>
                  <a:pt x="12467" y="1508"/>
                </a:lnTo>
                <a:lnTo>
                  <a:pt x="12467" y="1478"/>
                </a:lnTo>
                <a:lnTo>
                  <a:pt x="12444" y="1447"/>
                </a:lnTo>
                <a:lnTo>
                  <a:pt x="12363" y="1371"/>
                </a:lnTo>
                <a:lnTo>
                  <a:pt x="12283" y="1325"/>
                </a:lnTo>
                <a:lnTo>
                  <a:pt x="12283" y="1325"/>
                </a:lnTo>
                <a:lnTo>
                  <a:pt x="12226" y="1737"/>
                </a:lnTo>
                <a:close/>
                <a:moveTo>
                  <a:pt x="11034" y="1737"/>
                </a:moveTo>
                <a:lnTo>
                  <a:pt x="11034" y="1737"/>
                </a:lnTo>
                <a:lnTo>
                  <a:pt x="11149" y="1722"/>
                </a:lnTo>
                <a:lnTo>
                  <a:pt x="11229" y="1706"/>
                </a:lnTo>
                <a:lnTo>
                  <a:pt x="11298" y="1661"/>
                </a:lnTo>
                <a:lnTo>
                  <a:pt x="11309" y="1630"/>
                </a:lnTo>
                <a:lnTo>
                  <a:pt x="11332" y="1600"/>
                </a:lnTo>
                <a:lnTo>
                  <a:pt x="11344" y="1554"/>
                </a:lnTo>
                <a:lnTo>
                  <a:pt x="11355" y="1524"/>
                </a:lnTo>
                <a:lnTo>
                  <a:pt x="11344" y="1478"/>
                </a:lnTo>
                <a:lnTo>
                  <a:pt x="11332" y="1432"/>
                </a:lnTo>
                <a:lnTo>
                  <a:pt x="11309" y="1371"/>
                </a:lnTo>
                <a:lnTo>
                  <a:pt x="11286" y="1310"/>
                </a:lnTo>
                <a:lnTo>
                  <a:pt x="11195" y="1203"/>
                </a:lnTo>
                <a:lnTo>
                  <a:pt x="11195" y="1203"/>
                </a:lnTo>
                <a:lnTo>
                  <a:pt x="11137" y="1219"/>
                </a:lnTo>
                <a:lnTo>
                  <a:pt x="11092" y="1264"/>
                </a:lnTo>
                <a:lnTo>
                  <a:pt x="11057" y="1310"/>
                </a:lnTo>
                <a:lnTo>
                  <a:pt x="11023" y="1371"/>
                </a:lnTo>
                <a:lnTo>
                  <a:pt x="11011" y="1463"/>
                </a:lnTo>
                <a:lnTo>
                  <a:pt x="11011" y="1539"/>
                </a:lnTo>
                <a:lnTo>
                  <a:pt x="11011" y="1630"/>
                </a:lnTo>
                <a:lnTo>
                  <a:pt x="11034" y="1737"/>
                </a:lnTo>
                <a:close/>
                <a:moveTo>
                  <a:pt x="10782" y="1737"/>
                </a:moveTo>
                <a:lnTo>
                  <a:pt x="10782" y="1737"/>
                </a:lnTo>
                <a:lnTo>
                  <a:pt x="10817" y="1722"/>
                </a:lnTo>
                <a:lnTo>
                  <a:pt x="10839" y="1676"/>
                </a:lnTo>
                <a:lnTo>
                  <a:pt x="10862" y="1645"/>
                </a:lnTo>
                <a:lnTo>
                  <a:pt x="10862" y="1630"/>
                </a:lnTo>
                <a:lnTo>
                  <a:pt x="10874" y="1584"/>
                </a:lnTo>
                <a:lnTo>
                  <a:pt x="10874" y="1539"/>
                </a:lnTo>
                <a:lnTo>
                  <a:pt x="10862" y="1493"/>
                </a:lnTo>
                <a:lnTo>
                  <a:pt x="10828" y="1432"/>
                </a:lnTo>
                <a:lnTo>
                  <a:pt x="10782" y="1371"/>
                </a:lnTo>
                <a:lnTo>
                  <a:pt x="10736" y="1295"/>
                </a:lnTo>
                <a:lnTo>
                  <a:pt x="10679" y="1249"/>
                </a:lnTo>
                <a:lnTo>
                  <a:pt x="10679" y="1249"/>
                </a:lnTo>
                <a:lnTo>
                  <a:pt x="10702" y="1386"/>
                </a:lnTo>
                <a:lnTo>
                  <a:pt x="10725" y="1493"/>
                </a:lnTo>
                <a:lnTo>
                  <a:pt x="10782" y="1737"/>
                </a:lnTo>
                <a:close/>
                <a:moveTo>
                  <a:pt x="9911" y="1203"/>
                </a:moveTo>
                <a:lnTo>
                  <a:pt x="9911" y="1203"/>
                </a:lnTo>
                <a:lnTo>
                  <a:pt x="9842" y="1234"/>
                </a:lnTo>
                <a:lnTo>
                  <a:pt x="9785" y="1264"/>
                </a:lnTo>
                <a:lnTo>
                  <a:pt x="9774" y="1280"/>
                </a:lnTo>
                <a:lnTo>
                  <a:pt x="9774" y="1325"/>
                </a:lnTo>
                <a:lnTo>
                  <a:pt x="9774" y="1356"/>
                </a:lnTo>
                <a:lnTo>
                  <a:pt x="9774" y="1386"/>
                </a:lnTo>
                <a:lnTo>
                  <a:pt x="9785" y="1463"/>
                </a:lnTo>
                <a:lnTo>
                  <a:pt x="9842" y="1539"/>
                </a:lnTo>
                <a:lnTo>
                  <a:pt x="9923" y="1630"/>
                </a:lnTo>
                <a:lnTo>
                  <a:pt x="10003" y="1737"/>
                </a:lnTo>
                <a:lnTo>
                  <a:pt x="10003" y="1737"/>
                </a:lnTo>
                <a:lnTo>
                  <a:pt x="10060" y="1600"/>
                </a:lnTo>
                <a:lnTo>
                  <a:pt x="10095" y="1493"/>
                </a:lnTo>
                <a:lnTo>
                  <a:pt x="10118" y="1386"/>
                </a:lnTo>
                <a:lnTo>
                  <a:pt x="10129" y="1310"/>
                </a:lnTo>
                <a:lnTo>
                  <a:pt x="10118" y="1249"/>
                </a:lnTo>
                <a:lnTo>
                  <a:pt x="10083" y="1219"/>
                </a:lnTo>
                <a:lnTo>
                  <a:pt x="10049" y="1188"/>
                </a:lnTo>
                <a:lnTo>
                  <a:pt x="9991" y="1188"/>
                </a:lnTo>
                <a:lnTo>
                  <a:pt x="9991" y="1188"/>
                </a:lnTo>
                <a:lnTo>
                  <a:pt x="9911" y="1203"/>
                </a:lnTo>
                <a:close/>
                <a:moveTo>
                  <a:pt x="5694" y="1539"/>
                </a:moveTo>
                <a:lnTo>
                  <a:pt x="5694" y="1539"/>
                </a:lnTo>
                <a:close/>
                <a:moveTo>
                  <a:pt x="8043" y="1524"/>
                </a:moveTo>
                <a:lnTo>
                  <a:pt x="8043" y="1524"/>
                </a:lnTo>
                <a:lnTo>
                  <a:pt x="8204" y="1539"/>
                </a:lnTo>
                <a:lnTo>
                  <a:pt x="8376" y="1569"/>
                </a:lnTo>
                <a:lnTo>
                  <a:pt x="8594" y="1615"/>
                </a:lnTo>
                <a:lnTo>
                  <a:pt x="8697" y="1615"/>
                </a:lnTo>
                <a:lnTo>
                  <a:pt x="8811" y="1630"/>
                </a:lnTo>
                <a:lnTo>
                  <a:pt x="8914" y="1615"/>
                </a:lnTo>
                <a:lnTo>
                  <a:pt x="9006" y="1600"/>
                </a:lnTo>
                <a:lnTo>
                  <a:pt x="9109" y="1554"/>
                </a:lnTo>
                <a:lnTo>
                  <a:pt x="9189" y="1508"/>
                </a:lnTo>
                <a:lnTo>
                  <a:pt x="9270" y="1463"/>
                </a:lnTo>
                <a:lnTo>
                  <a:pt x="9293" y="1417"/>
                </a:lnTo>
                <a:lnTo>
                  <a:pt x="9327" y="1371"/>
                </a:lnTo>
                <a:lnTo>
                  <a:pt x="9350" y="1310"/>
                </a:lnTo>
                <a:lnTo>
                  <a:pt x="9373" y="1249"/>
                </a:lnTo>
                <a:lnTo>
                  <a:pt x="9384" y="1203"/>
                </a:lnTo>
                <a:lnTo>
                  <a:pt x="9384" y="1112"/>
                </a:lnTo>
                <a:lnTo>
                  <a:pt x="9384" y="1112"/>
                </a:lnTo>
                <a:lnTo>
                  <a:pt x="9350" y="1203"/>
                </a:lnTo>
                <a:lnTo>
                  <a:pt x="9293" y="1249"/>
                </a:lnTo>
                <a:lnTo>
                  <a:pt x="9247" y="1295"/>
                </a:lnTo>
                <a:lnTo>
                  <a:pt x="9189" y="1356"/>
                </a:lnTo>
                <a:lnTo>
                  <a:pt x="9144" y="1371"/>
                </a:lnTo>
                <a:lnTo>
                  <a:pt x="9075" y="1417"/>
                </a:lnTo>
                <a:lnTo>
                  <a:pt x="8960" y="1463"/>
                </a:lnTo>
                <a:lnTo>
                  <a:pt x="8834" y="1463"/>
                </a:lnTo>
                <a:lnTo>
                  <a:pt x="8708" y="1478"/>
                </a:lnTo>
                <a:lnTo>
                  <a:pt x="8433" y="1478"/>
                </a:lnTo>
                <a:lnTo>
                  <a:pt x="8433" y="1478"/>
                </a:lnTo>
                <a:lnTo>
                  <a:pt x="8238" y="1478"/>
                </a:lnTo>
                <a:lnTo>
                  <a:pt x="8147" y="1508"/>
                </a:lnTo>
                <a:lnTo>
                  <a:pt x="8043" y="1524"/>
                </a:lnTo>
                <a:close/>
                <a:moveTo>
                  <a:pt x="6096" y="1386"/>
                </a:moveTo>
                <a:lnTo>
                  <a:pt x="6096" y="1386"/>
                </a:lnTo>
                <a:lnTo>
                  <a:pt x="6073" y="1493"/>
                </a:lnTo>
                <a:lnTo>
                  <a:pt x="6061" y="1539"/>
                </a:lnTo>
                <a:lnTo>
                  <a:pt x="6073" y="1539"/>
                </a:lnTo>
                <a:lnTo>
                  <a:pt x="6073" y="1539"/>
                </a:lnTo>
                <a:lnTo>
                  <a:pt x="6096" y="1508"/>
                </a:lnTo>
                <a:lnTo>
                  <a:pt x="6107" y="1478"/>
                </a:lnTo>
                <a:lnTo>
                  <a:pt x="6118" y="1447"/>
                </a:lnTo>
                <a:lnTo>
                  <a:pt x="6130" y="1432"/>
                </a:lnTo>
                <a:lnTo>
                  <a:pt x="6118" y="1402"/>
                </a:lnTo>
                <a:lnTo>
                  <a:pt x="6107" y="1402"/>
                </a:lnTo>
                <a:lnTo>
                  <a:pt x="6096" y="1386"/>
                </a:lnTo>
                <a:close/>
                <a:moveTo>
                  <a:pt x="12077" y="1325"/>
                </a:moveTo>
                <a:lnTo>
                  <a:pt x="12077" y="1325"/>
                </a:lnTo>
                <a:lnTo>
                  <a:pt x="12054" y="1249"/>
                </a:lnTo>
                <a:lnTo>
                  <a:pt x="12031" y="1173"/>
                </a:lnTo>
                <a:lnTo>
                  <a:pt x="12008" y="1112"/>
                </a:lnTo>
                <a:lnTo>
                  <a:pt x="11962" y="1051"/>
                </a:lnTo>
                <a:lnTo>
                  <a:pt x="11928" y="1005"/>
                </a:lnTo>
                <a:lnTo>
                  <a:pt x="11882" y="975"/>
                </a:lnTo>
                <a:lnTo>
                  <a:pt x="11825" y="944"/>
                </a:lnTo>
                <a:lnTo>
                  <a:pt x="11756" y="929"/>
                </a:lnTo>
                <a:lnTo>
                  <a:pt x="11756" y="929"/>
                </a:lnTo>
                <a:lnTo>
                  <a:pt x="11791" y="1203"/>
                </a:lnTo>
                <a:lnTo>
                  <a:pt x="11791" y="1371"/>
                </a:lnTo>
                <a:lnTo>
                  <a:pt x="11802" y="1463"/>
                </a:lnTo>
                <a:lnTo>
                  <a:pt x="11802" y="1478"/>
                </a:lnTo>
                <a:lnTo>
                  <a:pt x="11813" y="1478"/>
                </a:lnTo>
                <a:lnTo>
                  <a:pt x="11848" y="1447"/>
                </a:lnTo>
                <a:lnTo>
                  <a:pt x="11882" y="1386"/>
                </a:lnTo>
                <a:lnTo>
                  <a:pt x="11916" y="1371"/>
                </a:lnTo>
                <a:lnTo>
                  <a:pt x="11951" y="1341"/>
                </a:lnTo>
                <a:lnTo>
                  <a:pt x="12008" y="1325"/>
                </a:lnTo>
                <a:lnTo>
                  <a:pt x="12077" y="1325"/>
                </a:lnTo>
                <a:close/>
                <a:moveTo>
                  <a:pt x="10221" y="990"/>
                </a:moveTo>
                <a:lnTo>
                  <a:pt x="10221" y="990"/>
                </a:lnTo>
                <a:lnTo>
                  <a:pt x="10301" y="1082"/>
                </a:lnTo>
                <a:lnTo>
                  <a:pt x="10347" y="1203"/>
                </a:lnTo>
                <a:lnTo>
                  <a:pt x="10392" y="1310"/>
                </a:lnTo>
                <a:lnTo>
                  <a:pt x="10427" y="1463"/>
                </a:lnTo>
                <a:lnTo>
                  <a:pt x="10427" y="1463"/>
                </a:lnTo>
                <a:lnTo>
                  <a:pt x="10496" y="1341"/>
                </a:lnTo>
                <a:lnTo>
                  <a:pt x="10541" y="1219"/>
                </a:lnTo>
                <a:lnTo>
                  <a:pt x="10565" y="1066"/>
                </a:lnTo>
                <a:lnTo>
                  <a:pt x="10576" y="929"/>
                </a:lnTo>
                <a:lnTo>
                  <a:pt x="10576" y="929"/>
                </a:lnTo>
                <a:lnTo>
                  <a:pt x="10473" y="868"/>
                </a:lnTo>
                <a:lnTo>
                  <a:pt x="10404" y="853"/>
                </a:lnTo>
                <a:lnTo>
                  <a:pt x="10335" y="853"/>
                </a:lnTo>
                <a:lnTo>
                  <a:pt x="10335" y="853"/>
                </a:lnTo>
                <a:lnTo>
                  <a:pt x="10289" y="853"/>
                </a:lnTo>
                <a:lnTo>
                  <a:pt x="10243" y="868"/>
                </a:lnTo>
                <a:lnTo>
                  <a:pt x="10232" y="899"/>
                </a:lnTo>
                <a:lnTo>
                  <a:pt x="10221" y="929"/>
                </a:lnTo>
                <a:lnTo>
                  <a:pt x="10221" y="990"/>
                </a:lnTo>
                <a:close/>
                <a:moveTo>
                  <a:pt x="10931" y="777"/>
                </a:moveTo>
                <a:lnTo>
                  <a:pt x="10931" y="777"/>
                </a:lnTo>
                <a:lnTo>
                  <a:pt x="10679" y="716"/>
                </a:lnTo>
                <a:lnTo>
                  <a:pt x="10679" y="716"/>
                </a:lnTo>
                <a:lnTo>
                  <a:pt x="10828" y="1082"/>
                </a:lnTo>
                <a:lnTo>
                  <a:pt x="10874" y="1203"/>
                </a:lnTo>
                <a:lnTo>
                  <a:pt x="10931" y="1249"/>
                </a:lnTo>
                <a:lnTo>
                  <a:pt x="10943" y="1280"/>
                </a:lnTo>
                <a:lnTo>
                  <a:pt x="10966" y="1280"/>
                </a:lnTo>
                <a:lnTo>
                  <a:pt x="10977" y="1264"/>
                </a:lnTo>
                <a:lnTo>
                  <a:pt x="10988" y="1219"/>
                </a:lnTo>
                <a:lnTo>
                  <a:pt x="10977" y="1097"/>
                </a:lnTo>
                <a:lnTo>
                  <a:pt x="10954" y="944"/>
                </a:lnTo>
                <a:lnTo>
                  <a:pt x="10931" y="777"/>
                </a:lnTo>
                <a:close/>
                <a:moveTo>
                  <a:pt x="11447" y="1249"/>
                </a:moveTo>
                <a:lnTo>
                  <a:pt x="11447" y="1249"/>
                </a:lnTo>
                <a:lnTo>
                  <a:pt x="11481" y="1203"/>
                </a:lnTo>
                <a:lnTo>
                  <a:pt x="11504" y="1112"/>
                </a:lnTo>
                <a:lnTo>
                  <a:pt x="11504" y="1051"/>
                </a:lnTo>
                <a:lnTo>
                  <a:pt x="11504" y="990"/>
                </a:lnTo>
                <a:lnTo>
                  <a:pt x="11493" y="929"/>
                </a:lnTo>
                <a:lnTo>
                  <a:pt x="11470" y="853"/>
                </a:lnTo>
                <a:lnTo>
                  <a:pt x="11435" y="777"/>
                </a:lnTo>
                <a:lnTo>
                  <a:pt x="11401" y="716"/>
                </a:lnTo>
                <a:lnTo>
                  <a:pt x="11401" y="716"/>
                </a:lnTo>
                <a:lnTo>
                  <a:pt x="11344" y="731"/>
                </a:lnTo>
                <a:lnTo>
                  <a:pt x="11298" y="731"/>
                </a:lnTo>
                <a:lnTo>
                  <a:pt x="11275" y="762"/>
                </a:lnTo>
                <a:lnTo>
                  <a:pt x="11252" y="792"/>
                </a:lnTo>
                <a:lnTo>
                  <a:pt x="11240" y="853"/>
                </a:lnTo>
                <a:lnTo>
                  <a:pt x="11229" y="883"/>
                </a:lnTo>
                <a:lnTo>
                  <a:pt x="11240" y="944"/>
                </a:lnTo>
                <a:lnTo>
                  <a:pt x="11252" y="990"/>
                </a:lnTo>
                <a:lnTo>
                  <a:pt x="11298" y="1082"/>
                </a:lnTo>
                <a:lnTo>
                  <a:pt x="11332" y="1173"/>
                </a:lnTo>
                <a:lnTo>
                  <a:pt x="11389" y="1234"/>
                </a:lnTo>
                <a:lnTo>
                  <a:pt x="11424" y="1249"/>
                </a:lnTo>
                <a:lnTo>
                  <a:pt x="11447" y="1249"/>
                </a:lnTo>
                <a:close/>
                <a:moveTo>
                  <a:pt x="9499" y="1112"/>
                </a:moveTo>
                <a:lnTo>
                  <a:pt x="9499" y="1112"/>
                </a:lnTo>
                <a:lnTo>
                  <a:pt x="9716" y="1021"/>
                </a:lnTo>
                <a:lnTo>
                  <a:pt x="9934" y="944"/>
                </a:lnTo>
                <a:lnTo>
                  <a:pt x="10163" y="822"/>
                </a:lnTo>
                <a:lnTo>
                  <a:pt x="10370" y="716"/>
                </a:lnTo>
                <a:lnTo>
                  <a:pt x="10461" y="670"/>
                </a:lnTo>
                <a:lnTo>
                  <a:pt x="10530" y="609"/>
                </a:lnTo>
                <a:lnTo>
                  <a:pt x="10553" y="579"/>
                </a:lnTo>
                <a:lnTo>
                  <a:pt x="10553" y="548"/>
                </a:lnTo>
                <a:lnTo>
                  <a:pt x="10553" y="533"/>
                </a:lnTo>
                <a:lnTo>
                  <a:pt x="10541" y="518"/>
                </a:lnTo>
                <a:lnTo>
                  <a:pt x="10507" y="518"/>
                </a:lnTo>
                <a:lnTo>
                  <a:pt x="10427" y="502"/>
                </a:lnTo>
                <a:lnTo>
                  <a:pt x="10427" y="502"/>
                </a:lnTo>
                <a:lnTo>
                  <a:pt x="10301" y="563"/>
                </a:lnTo>
                <a:lnTo>
                  <a:pt x="10163" y="624"/>
                </a:lnTo>
                <a:lnTo>
                  <a:pt x="10049" y="685"/>
                </a:lnTo>
                <a:lnTo>
                  <a:pt x="9934" y="762"/>
                </a:lnTo>
                <a:lnTo>
                  <a:pt x="9820" y="853"/>
                </a:lnTo>
                <a:lnTo>
                  <a:pt x="9716" y="944"/>
                </a:lnTo>
                <a:lnTo>
                  <a:pt x="9591" y="1021"/>
                </a:lnTo>
                <a:lnTo>
                  <a:pt x="9499" y="1112"/>
                </a:lnTo>
                <a:close/>
                <a:moveTo>
                  <a:pt x="18162" y="14877"/>
                </a:moveTo>
                <a:lnTo>
                  <a:pt x="18162" y="14877"/>
                </a:lnTo>
                <a:lnTo>
                  <a:pt x="18081" y="14938"/>
                </a:lnTo>
                <a:lnTo>
                  <a:pt x="18013" y="14999"/>
                </a:lnTo>
                <a:lnTo>
                  <a:pt x="17909" y="15045"/>
                </a:lnTo>
                <a:lnTo>
                  <a:pt x="17807" y="15060"/>
                </a:lnTo>
                <a:lnTo>
                  <a:pt x="17807" y="15060"/>
                </a:lnTo>
                <a:lnTo>
                  <a:pt x="18162" y="14877"/>
                </a:lnTo>
                <a:close/>
                <a:moveTo>
                  <a:pt x="19078" y="12331"/>
                </a:moveTo>
                <a:lnTo>
                  <a:pt x="19078" y="12331"/>
                </a:lnTo>
                <a:lnTo>
                  <a:pt x="19010" y="12423"/>
                </a:lnTo>
                <a:lnTo>
                  <a:pt x="19010" y="12423"/>
                </a:lnTo>
                <a:lnTo>
                  <a:pt x="19021" y="12392"/>
                </a:lnTo>
                <a:lnTo>
                  <a:pt x="19033" y="12362"/>
                </a:lnTo>
                <a:lnTo>
                  <a:pt x="19055" y="12347"/>
                </a:lnTo>
                <a:lnTo>
                  <a:pt x="19078" y="12331"/>
                </a:lnTo>
                <a:close/>
                <a:moveTo>
                  <a:pt x="8788" y="5838"/>
                </a:moveTo>
                <a:lnTo>
                  <a:pt x="8788" y="5838"/>
                </a:lnTo>
                <a:lnTo>
                  <a:pt x="8868" y="5853"/>
                </a:lnTo>
                <a:lnTo>
                  <a:pt x="8868" y="5853"/>
                </a:lnTo>
                <a:lnTo>
                  <a:pt x="8834" y="5868"/>
                </a:lnTo>
                <a:lnTo>
                  <a:pt x="8834" y="5868"/>
                </a:lnTo>
                <a:lnTo>
                  <a:pt x="8788" y="5838"/>
                </a:lnTo>
                <a:close/>
                <a:moveTo>
                  <a:pt x="8307" y="5670"/>
                </a:moveTo>
                <a:lnTo>
                  <a:pt x="8307" y="5670"/>
                </a:lnTo>
                <a:lnTo>
                  <a:pt x="8445" y="5685"/>
                </a:lnTo>
                <a:lnTo>
                  <a:pt x="8582" y="5731"/>
                </a:lnTo>
                <a:lnTo>
                  <a:pt x="8685" y="5777"/>
                </a:lnTo>
                <a:lnTo>
                  <a:pt x="8788" y="5838"/>
                </a:lnTo>
                <a:lnTo>
                  <a:pt x="8788" y="5838"/>
                </a:lnTo>
                <a:lnTo>
                  <a:pt x="8559" y="5761"/>
                </a:lnTo>
                <a:lnTo>
                  <a:pt x="8307" y="5670"/>
                </a:lnTo>
                <a:close/>
                <a:moveTo>
                  <a:pt x="8204" y="5639"/>
                </a:moveTo>
                <a:lnTo>
                  <a:pt x="8204" y="5639"/>
                </a:lnTo>
                <a:lnTo>
                  <a:pt x="8009" y="5609"/>
                </a:lnTo>
                <a:lnTo>
                  <a:pt x="7814" y="5578"/>
                </a:lnTo>
                <a:lnTo>
                  <a:pt x="7631" y="5502"/>
                </a:lnTo>
                <a:lnTo>
                  <a:pt x="7516" y="5457"/>
                </a:lnTo>
                <a:lnTo>
                  <a:pt x="7436" y="5411"/>
                </a:lnTo>
                <a:lnTo>
                  <a:pt x="7436" y="5411"/>
                </a:lnTo>
                <a:lnTo>
                  <a:pt x="7539" y="5411"/>
                </a:lnTo>
                <a:lnTo>
                  <a:pt x="7654" y="5426"/>
                </a:lnTo>
                <a:lnTo>
                  <a:pt x="7860" y="5502"/>
                </a:lnTo>
                <a:lnTo>
                  <a:pt x="8078" y="5594"/>
                </a:lnTo>
                <a:lnTo>
                  <a:pt x="8307" y="5670"/>
                </a:lnTo>
                <a:lnTo>
                  <a:pt x="8307" y="5670"/>
                </a:lnTo>
                <a:lnTo>
                  <a:pt x="8204" y="5639"/>
                </a:lnTo>
                <a:close/>
                <a:moveTo>
                  <a:pt x="17589" y="5106"/>
                </a:moveTo>
                <a:lnTo>
                  <a:pt x="17589" y="5106"/>
                </a:lnTo>
                <a:lnTo>
                  <a:pt x="17669" y="5106"/>
                </a:lnTo>
                <a:lnTo>
                  <a:pt x="17669" y="5106"/>
                </a:lnTo>
                <a:lnTo>
                  <a:pt x="17680" y="5106"/>
                </a:lnTo>
                <a:lnTo>
                  <a:pt x="17680" y="5106"/>
                </a:lnTo>
                <a:lnTo>
                  <a:pt x="17589" y="5106"/>
                </a:lnTo>
              </a:path>
            </a:pathLst>
          </a:custGeom>
          <a:solidFill>
            <a:srgbClr val="d3cb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44"/>
          <p:cNvSpPr/>
          <p:nvPr/>
        </p:nvSpPr>
        <p:spPr>
          <a:xfrm>
            <a:off x="0" y="0"/>
            <a:ext cx="712800" cy="6858000"/>
          </a:xfrm>
          <a:prstGeom prst="rect">
            <a:avLst/>
          </a:prstGeom>
          <a:solidFill>
            <a:srgbClr val="b5a8a1"/>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5"/>
          <p:cNvSpPr/>
          <p:nvPr/>
        </p:nvSpPr>
        <p:spPr>
          <a:xfrm>
            <a:off x="8532720" y="0"/>
            <a:ext cx="619200" cy="6858000"/>
          </a:xfrm>
          <a:prstGeom prst="rect">
            <a:avLst/>
          </a:prstGeom>
          <a:solidFill>
            <a:srgbClr val="b5a8a1"/>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4"/>
          <p:cNvSpPr/>
          <p:nvPr/>
        </p:nvSpPr>
        <p:spPr>
          <a:xfrm>
            <a:off x="0" y="0"/>
            <a:ext cx="712800" cy="6858000"/>
          </a:xfrm>
          <a:prstGeom prst="rect">
            <a:avLst/>
          </a:prstGeom>
          <a:solidFill>
            <a:srgbClr val="b5a8a1"/>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192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19293"/>
                </a:solidFill>
                <a:latin typeface="Times New Roman"/>
              </a:rPr>
              <a:t>&lt;date/time&gt;</a:t>
            </a:r>
            <a:endParaRPr b="0" lang="en-US" sz="1200" spc="-1" strike="noStrike">
              <a:solidFill>
                <a:srgbClr val="000000"/>
              </a:solidFill>
              <a:latin typeface="Times New Roman"/>
            </a:endParaRPr>
          </a:p>
        </p:txBody>
      </p:sp>
      <p:sp>
        <p:nvSpPr>
          <p:cNvPr id="93"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1929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19293"/>
                </a:solidFill>
                <a:latin typeface="Times New Roman"/>
              </a:rPr>
              <a:t>&lt;footer&gt;</a:t>
            </a:r>
            <a:endParaRPr b="0" lang="en-US" sz="1200" spc="-1" strike="noStrike">
              <a:solidFill>
                <a:srgbClr val="000000"/>
              </a:solidFill>
              <a:latin typeface="Times New Roman"/>
            </a:endParaRPr>
          </a:p>
        </p:txBody>
      </p:sp>
      <p:sp>
        <p:nvSpPr>
          <p:cNvPr id="94"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192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3079-DE98-4A5E-83C2-3F9B2F725A8F}" type="slidenum">
              <a:rPr b="0" lang="zh-CN" sz="1200" spc="-1" strike="noStrike">
                <a:solidFill>
                  <a:srgbClr val="919293"/>
                </a:solidFill>
                <a:latin typeface="Times New Roman"/>
              </a:rPr>
              <a:t>&lt;number&gt;</a:t>
            </a:fld>
            <a:endParaRPr b="0" lang="en-US" sz="1200" spc="-1" strike="noStrike">
              <a:solidFill>
                <a:srgbClr val="000000"/>
              </a:solidFill>
              <a:latin typeface="Times New Roman"/>
            </a:endParaRPr>
          </a:p>
        </p:txBody>
      </p:sp>
      <p:sp>
        <p:nvSpPr>
          <p:cNvPr id="95" name="PlaceHolder 4"/>
          <p:cNvSpPr>
            <a:spLocks noGrp="1"/>
          </p:cNvSpPr>
          <p:nvPr>
            <p:ph type="title"/>
          </p:nvPr>
        </p:nvSpPr>
        <p:spPr>
          <a:xfrm>
            <a:off x="1447920" y="2727360"/>
            <a:ext cx="6222960" cy="822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524b"/>
                </a:solidFill>
                <a:latin typeface="comic"/>
              </a:rPr>
              <a:t>Click to edit the title text format</a:t>
            </a:r>
            <a:endParaRPr b="1" lang="en-US" sz="3600" spc="-1" strike="noStrike">
              <a:solidFill>
                <a:srgbClr val="60524b"/>
              </a:solidFill>
              <a:latin typeface="comic"/>
            </a:endParaRPr>
          </a:p>
        </p:txBody>
      </p:sp>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Click to edit the outline text format</a:t>
            </a:r>
            <a:endParaRPr b="0" lang="en-US" sz="1600" spc="-1" strike="noStrike">
              <a:solidFill>
                <a:srgbClr val="808080"/>
              </a:solidFill>
              <a:latin typeface="Calibri"/>
            </a:endParaRPr>
          </a:p>
          <a:p>
            <a:pPr lvl="1"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a:rPr>
              <a:t>Second Outline Level</a:t>
            </a:r>
            <a:endParaRPr b="0" lang="en-US" sz="1400" spc="-1" strike="noStrike">
              <a:solidFill>
                <a:srgbClr val="7f7f7f"/>
              </a:solidFill>
              <a:latin typeface="Calibri"/>
            </a:endParaRPr>
          </a:p>
          <a:p>
            <a:pPr lvl="2" marL="914400" algn="ctr">
              <a:lnSpc>
                <a:spcPct val="90000"/>
              </a:lnSpc>
              <a:spcBef>
                <a:spcPts val="499"/>
              </a:spcBef>
              <a:buClr>
                <a:srgbClr val="3d3f41"/>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3f41"/>
                </a:solidFill>
                <a:latin typeface="Calibri"/>
              </a:rPr>
              <a:t>Third Outline Level</a:t>
            </a:r>
            <a:endParaRPr b="0" lang="en-US" sz="2000" spc="-1" strike="noStrike">
              <a:solidFill>
                <a:srgbClr val="3d3f41"/>
              </a:solidFill>
              <a:latin typeface="Calibri"/>
            </a:endParaRPr>
          </a:p>
          <a:p>
            <a:pPr lvl="3" marL="1371600" algn="ctr">
              <a:lnSpc>
                <a:spcPct val="90000"/>
              </a:lnSpc>
              <a:spcBef>
                <a:spcPts val="499"/>
              </a:spcBef>
              <a:buClr>
                <a:srgbClr val="3d3f41"/>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Calibri"/>
              </a:rPr>
              <a:t>Fourth Outline Level</a:t>
            </a:r>
            <a:endParaRPr b="0" lang="en-US" sz="1800" spc="-1" strike="noStrike">
              <a:solidFill>
                <a:srgbClr val="3d3f41"/>
              </a:solidFill>
              <a:latin typeface="Calibri"/>
            </a:endParaRPr>
          </a:p>
          <a:p>
            <a:pPr lvl="4" marL="1828800" algn="ctr">
              <a:lnSpc>
                <a:spcPct val="90000"/>
              </a:lnSpc>
              <a:spcBef>
                <a:spcPts val="499"/>
              </a:spcBef>
              <a:buClr>
                <a:srgbClr val="3d3f41"/>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Calibri"/>
              </a:rPr>
              <a:t>Fifth Outline Level</a:t>
            </a:r>
            <a:endParaRPr b="0" lang="en-US" sz="1800" spc="-1" strike="noStrike">
              <a:solidFill>
                <a:srgbClr val="3d3f41"/>
              </a:solidFill>
              <a:latin typeface="Calibri"/>
            </a:endParaRPr>
          </a:p>
          <a:p>
            <a:pPr lvl="5" marL="1828800">
              <a:spcBef>
                <a:spcPts val="451"/>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Calibri"/>
              </a:rPr>
              <a:t>Sixth Outline Level</a:t>
            </a:r>
            <a:endParaRPr b="0" lang="en-US" sz="1800" spc="-1" strike="noStrike">
              <a:solidFill>
                <a:srgbClr val="3d3f41"/>
              </a:solidFill>
              <a:latin typeface="Calibri"/>
            </a:endParaRPr>
          </a:p>
          <a:p>
            <a:pPr lvl="6" marL="1828800">
              <a:spcBef>
                <a:spcPts val="451"/>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Calibri"/>
              </a:rPr>
              <a:t>Seventh Outline Level</a:t>
            </a:r>
            <a:endParaRPr b="0" lang="en-US" sz="1800" spc="-1" strike="noStrike">
              <a:solidFill>
                <a:srgbClr val="3d3f41"/>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gif"/><Relationship Id="rId3" Type="http://schemas.openxmlformats.org/officeDocument/2006/relationships/image" Target="../media/image20.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30.jpeg"/><Relationship Id="rId5"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gif"/><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gif"/><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6.gif"/><Relationship Id="rId3" Type="http://schemas.openxmlformats.org/officeDocument/2006/relationships/image" Target="../media/image30.jpe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30.jpe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hyperlink" Target="http://www.ec169.net/bbs1/dispbbs.asp?boardid=11&amp;id=1807&amp;star=1" TargetMode="External"/><Relationship Id="rId4" Type="http://schemas.openxmlformats.org/officeDocument/2006/relationships/image" Target="../media/image44.jpe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7.wmf"/><Relationship Id="rId3" Type="http://schemas.openxmlformats.org/officeDocument/2006/relationships/image" Target="../media/image48.gif"/><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7.wmf"/><Relationship Id="rId3" Type="http://schemas.openxmlformats.org/officeDocument/2006/relationships/image" Target="../media/image48.gif"/><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7.wmf"/><Relationship Id="rId3" Type="http://schemas.openxmlformats.org/officeDocument/2006/relationships/image" Target="../media/image48.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3080" y="156996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迷你简艺黑"/>
                <a:ea typeface="迷你简艺黑"/>
              </a:rPr>
              <a:t>  </a:t>
            </a:r>
            <a:r>
              <a:rPr b="0" lang="zh-CN" sz="2800" spc="-1" strike="noStrike">
                <a:solidFill>
                  <a:srgbClr val="000099"/>
                </a:solidFill>
                <a:latin typeface="迷你简艺黑"/>
                <a:ea typeface="迷你简艺黑"/>
              </a:rPr>
              <a:t>外国资本主义与中国反动势力相勾结使中国逐步沦为半殖民地半封建社会的</a:t>
            </a:r>
            <a:r>
              <a:rPr b="1" i="1" lang="zh-CN" sz="3200" spc="-1" strike="noStrike">
                <a:solidFill>
                  <a:srgbClr val="ffff00"/>
                </a:solidFill>
                <a:latin typeface="迷你简艺黑"/>
                <a:ea typeface="迷你简艺黑"/>
              </a:rPr>
              <a:t>屈辱史</a:t>
            </a:r>
            <a:endParaRPr b="0" lang="en-US" sz="3200" spc="-1" strike="noStrike">
              <a:solidFill>
                <a:srgbClr val="000000"/>
              </a:solidFill>
              <a:latin typeface="Arial"/>
            </a:endParaRPr>
          </a:p>
        </p:txBody>
      </p:sp>
      <p:sp>
        <p:nvSpPr>
          <p:cNvPr id="134" name=""/>
          <p:cNvSpPr/>
          <p:nvPr/>
        </p:nvSpPr>
        <p:spPr>
          <a:xfrm>
            <a:off x="73080" y="270828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迷你简艺黑"/>
                <a:ea typeface="迷你简艺黑"/>
              </a:rPr>
              <a:t>  </a:t>
            </a:r>
            <a:r>
              <a:rPr b="0" lang="zh-CN" sz="2800" spc="-1" strike="noStrike">
                <a:solidFill>
                  <a:srgbClr val="000099"/>
                </a:solidFill>
                <a:latin typeface="迷你简艺黑"/>
                <a:ea typeface="迷你简艺黑"/>
              </a:rPr>
              <a:t>中国人民为改变屈辱地位，奋起抗争、反抗侵略、前赴后继、不屈不挠的</a:t>
            </a:r>
            <a:r>
              <a:rPr b="1" i="1" lang="zh-CN" sz="3200" spc="-1" strike="noStrike">
                <a:solidFill>
                  <a:srgbClr val="ffff00"/>
                </a:solidFill>
                <a:latin typeface="迷你简艺黑"/>
                <a:ea typeface="迷你简艺黑"/>
              </a:rPr>
              <a:t>抗争史</a:t>
            </a:r>
            <a:r>
              <a:rPr b="0" lang="en-US" sz="3200" spc="-1" strike="noStrike">
                <a:solidFill>
                  <a:srgbClr val="000099"/>
                </a:solidFill>
                <a:latin typeface="迷你简艺黑"/>
                <a:ea typeface="迷你简艺黑"/>
              </a:rPr>
              <a:t> </a:t>
            </a:r>
            <a:endParaRPr b="0" lang="en-US" sz="3200" spc="-1" strike="noStrike">
              <a:solidFill>
                <a:srgbClr val="000000"/>
              </a:solidFill>
              <a:latin typeface="Arial"/>
            </a:endParaRPr>
          </a:p>
        </p:txBody>
      </p:sp>
      <p:sp>
        <p:nvSpPr>
          <p:cNvPr id="135" name=""/>
          <p:cNvSpPr/>
          <p:nvPr/>
        </p:nvSpPr>
        <p:spPr>
          <a:xfrm>
            <a:off x="108000" y="393372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迷你简艺黑"/>
                <a:ea typeface="迷你简艺黑"/>
              </a:rPr>
              <a:t>  </a:t>
            </a:r>
            <a:r>
              <a:rPr b="0" lang="zh-CN" sz="2800" spc="-1" strike="noStrike">
                <a:solidFill>
                  <a:srgbClr val="000099"/>
                </a:solidFill>
                <a:latin typeface="迷你简艺黑"/>
                <a:ea typeface="迷你简艺黑"/>
              </a:rPr>
              <a:t>先进的中国人寻求救国救民道路的</a:t>
            </a:r>
            <a:r>
              <a:rPr b="1" i="1" lang="zh-CN" sz="3200" spc="-1" strike="noStrike">
                <a:solidFill>
                  <a:srgbClr val="ffff00"/>
                </a:solidFill>
                <a:latin typeface="迷你简艺黑"/>
                <a:ea typeface="迷你简艺黑"/>
              </a:rPr>
              <a:t>探索史</a:t>
            </a:r>
            <a:endParaRPr b="0" lang="en-US" sz="3200" spc="-1" strike="noStrike">
              <a:solidFill>
                <a:srgbClr val="000000"/>
              </a:solidFill>
              <a:latin typeface="Arial"/>
            </a:endParaRPr>
          </a:p>
        </p:txBody>
      </p:sp>
      <p:sp>
        <p:nvSpPr>
          <p:cNvPr id="136" name=""/>
          <p:cNvSpPr/>
          <p:nvPr/>
        </p:nvSpPr>
        <p:spPr>
          <a:xfrm>
            <a:off x="108000" y="513864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迷你简艺黑"/>
                <a:ea typeface="迷你简艺黑"/>
              </a:rPr>
              <a:t>  </a:t>
            </a:r>
            <a:r>
              <a:rPr b="0" lang="zh-CN" sz="2800" spc="-1" strike="noStrike">
                <a:solidFill>
                  <a:srgbClr val="000099"/>
                </a:solidFill>
                <a:latin typeface="迷你简艺黑"/>
                <a:ea typeface="迷你简艺黑"/>
              </a:rPr>
              <a:t>近代工业、近代科技和民族资本主义的</a:t>
            </a:r>
            <a:r>
              <a:rPr b="1" i="1" lang="zh-CN" sz="3200" spc="-1" strike="noStrike">
                <a:solidFill>
                  <a:srgbClr val="ffff00"/>
                </a:solidFill>
                <a:latin typeface="迷你简艺黑"/>
                <a:ea typeface="迷你简艺黑"/>
              </a:rPr>
              <a:t>发展史</a:t>
            </a:r>
            <a:endParaRPr b="0" lang="en-US" sz="3200" spc="-1" strike="noStrike">
              <a:solidFill>
                <a:srgbClr val="000000"/>
              </a:solidFill>
              <a:latin typeface="Arial"/>
            </a:endParaRPr>
          </a:p>
        </p:txBody>
      </p:sp>
      <p:sp>
        <p:nvSpPr>
          <p:cNvPr id="137" name=""/>
          <p:cNvSpPr txBox="1"/>
          <p:nvPr/>
        </p:nvSpPr>
        <p:spPr>
          <a:xfrm>
            <a:off x="7093080" y="2313000"/>
            <a:ext cx="1168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miter/>
                </a:ln>
                <a:solidFill>
                  <a:srgbClr val="663300"/>
                </a:solidFill>
                <a:latin typeface="黑体"/>
              </a:rPr>
              <a:t>第一单元</a:t>
            </a:r>
            <a:endParaRPr b="1" lang="en-US" sz="1800" spc="-1" strike="noStrike">
              <a:ln w="9360">
                <a:solidFill>
                  <a:srgbClr val="ff6600"/>
                </a:solidFill>
                <a:miter/>
              </a:ln>
              <a:solidFill>
                <a:srgbClr val="663300"/>
              </a:solidFill>
              <a:latin typeface="黑体"/>
              <a:ea typeface="黑体"/>
            </a:endParaRPr>
          </a:p>
        </p:txBody>
      </p:sp>
      <p:sp>
        <p:nvSpPr>
          <p:cNvPr id="138" name=""/>
          <p:cNvSpPr txBox="1"/>
          <p:nvPr/>
        </p:nvSpPr>
        <p:spPr>
          <a:xfrm>
            <a:off x="7164360" y="3500280"/>
            <a:ext cx="11685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miter/>
                </a:ln>
                <a:solidFill>
                  <a:srgbClr val="663300"/>
                </a:solidFill>
                <a:latin typeface="黑体"/>
              </a:rPr>
              <a:t>贯穿始终</a:t>
            </a:r>
            <a:endParaRPr b="1" lang="en-US" sz="1800" spc="-1" strike="noStrike">
              <a:ln w="9360">
                <a:solidFill>
                  <a:srgbClr val="ff6600"/>
                </a:solidFill>
                <a:miter/>
              </a:ln>
              <a:solidFill>
                <a:srgbClr val="663300"/>
              </a:solidFill>
              <a:latin typeface="黑体"/>
              <a:ea typeface="黑体"/>
            </a:endParaRPr>
          </a:p>
        </p:txBody>
      </p:sp>
      <p:sp>
        <p:nvSpPr>
          <p:cNvPr id="139" name=""/>
          <p:cNvSpPr txBox="1"/>
          <p:nvPr/>
        </p:nvSpPr>
        <p:spPr>
          <a:xfrm>
            <a:off x="7020000" y="4597560"/>
            <a:ext cx="1512720" cy="34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miter/>
                </a:ln>
                <a:solidFill>
                  <a:srgbClr val="663300"/>
                </a:solidFill>
                <a:latin typeface="黑体"/>
              </a:rPr>
              <a:t>第二三单元</a:t>
            </a:r>
            <a:endParaRPr b="1" lang="en-US" sz="1800" spc="-1" strike="noStrike">
              <a:ln w="9360">
                <a:solidFill>
                  <a:srgbClr val="ff6600"/>
                </a:solidFill>
                <a:miter/>
              </a:ln>
              <a:solidFill>
                <a:srgbClr val="663300"/>
              </a:solidFill>
              <a:latin typeface="黑体"/>
              <a:ea typeface="黑体"/>
            </a:endParaRPr>
          </a:p>
        </p:txBody>
      </p:sp>
      <p:sp>
        <p:nvSpPr>
          <p:cNvPr id="140" name=""/>
          <p:cNvSpPr txBox="1"/>
          <p:nvPr/>
        </p:nvSpPr>
        <p:spPr>
          <a:xfrm>
            <a:off x="7020000" y="5807160"/>
            <a:ext cx="158436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miter/>
                </a:ln>
                <a:solidFill>
                  <a:srgbClr val="663300"/>
                </a:solidFill>
                <a:latin typeface="黑体"/>
              </a:rPr>
              <a:t>第六七单元</a:t>
            </a:r>
            <a:endParaRPr b="1" lang="en-US" sz="1800" spc="-1" strike="noStrike">
              <a:ln w="9360">
                <a:solidFill>
                  <a:srgbClr val="ff6600"/>
                </a:solidFill>
                <a:miter/>
              </a:ln>
              <a:solidFill>
                <a:srgbClr val="663300"/>
              </a:solidFill>
              <a:latin typeface="黑体"/>
              <a:ea typeface="黑体"/>
            </a:endParaRPr>
          </a:p>
        </p:txBody>
      </p:sp>
      <p:sp>
        <p:nvSpPr>
          <p:cNvPr id="141" name=""/>
          <p:cNvSpPr txBox="1"/>
          <p:nvPr/>
        </p:nvSpPr>
        <p:spPr>
          <a:xfrm>
            <a:off x="2627280" y="692280"/>
            <a:ext cx="2808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ff99"/>
                  </a:solidFill>
                  <a:miter/>
                </a:ln>
                <a:blipFill rotWithShape="0">
                  <a:blip r:embed="rId1"/>
                  <a:srcRect/>
                  <a:stretch/>
                </a:blipFill>
                <a:latin typeface="隶书"/>
              </a:rPr>
              <a:t>四条基本线索</a:t>
            </a:r>
            <a:endParaRPr b="1" lang="en-US" sz="3200" spc="-1" strike="noStrike">
              <a:ln w="9360">
                <a:solidFill>
                  <a:srgbClr val="ffff99"/>
                </a:solidFill>
                <a:miter/>
              </a:ln>
              <a:blipFill rotWithShape="0">
                <a:blip r:embed="rId2"/>
                <a:srcRect/>
                <a:stretch/>
              </a:blipFill>
              <a:latin typeface="隶书"/>
              <a:ea typeface="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1+#ppt_w/2"/>
                                          </p:val>
                                        </p:tav>
                                        <p:tav tm="100000">
                                          <p:val>
                                            <p:strVal val="#ppt_x"/>
                                          </p:val>
                                        </p:tav>
                                      </p:tavLst>
                                    </p:anim>
                                    <p:anim calcmode="lin" valueType="num">
                                      <p:cBhvr additive="base">
                                        <p:cTn id="8" dur="500" fill="hold"/>
                                        <p:tgtEl>
                                          <p:spTgt spid="13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4"/>
                                        </p:tgtEl>
                                        <p:attrNameLst>
                                          <p:attrName>style.visibility</p:attrName>
                                        </p:attrNameLst>
                                      </p:cBhvr>
                                      <p:to>
                                        <p:strVal val="visible"/>
                                      </p:to>
                                    </p:set>
                                    <p:anim calcmode="lin" valueType="num">
                                      <p:cBhvr additive="base">
                                        <p:cTn id="17" dur="500" fill="hold"/>
                                        <p:tgtEl>
                                          <p:spTgt spid="134"/>
                                        </p:tgtEl>
                                        <p:attrNameLst>
                                          <p:attrName>ppt_x</p:attrName>
                                        </p:attrNameLst>
                                      </p:cBhvr>
                                      <p:tavLst>
                                        <p:tav tm="0">
                                          <p:val>
                                            <p:strVal val="0-#ppt_w/2"/>
                                          </p:val>
                                        </p:tav>
                                        <p:tav tm="100000">
                                          <p:val>
                                            <p:strVal val="#ppt_x"/>
                                          </p:val>
                                        </p:tav>
                                      </p:tavLst>
                                    </p:anim>
                                    <p:anim calcmode="lin" valueType="num">
                                      <p:cBhvr additive="base">
                                        <p:cTn id="18" dur="500" fill="hold"/>
                                        <p:tgtEl>
                                          <p:spTgt spid="134"/>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12" presetSubtype="4">
                                  <p:stCondLst>
                                    <p:cond delay="0"/>
                                  </p:stCondLst>
                                  <p:childTnLst>
                                    <p:set>
                                      <p:cBhvr>
                                        <p:cTn id="21" dur="1" fill="hold">
                                          <p:stCondLst>
                                            <p:cond delay="0"/>
                                          </p:stCondLst>
                                        </p:cTn>
                                        <p:tgtEl>
                                          <p:spTgt spid="138"/>
                                        </p:tgtEl>
                                        <p:attrNameLst>
                                          <p:attrName>style.visibility</p:attrName>
                                        </p:attrNameLst>
                                      </p:cBhvr>
                                      <p:to>
                                        <p:strVal val="visible"/>
                                      </p:to>
                                    </p:set>
                                    <p:animEffect filter="slide(fromBottom)" transition="in">
                                      <p:cBhvr additive="repl">
                                        <p:cTn id="22" dur="500"/>
                                        <p:tgtEl>
                                          <p:spTgt spid="13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5"/>
                                        </p:tgtEl>
                                        <p:attrNameLst>
                                          <p:attrName>style.visibility</p:attrName>
                                        </p:attrNameLst>
                                      </p:cBhvr>
                                      <p:to>
                                        <p:strVal val="visible"/>
                                      </p:to>
                                    </p:set>
                                    <p:anim calcmode="lin" valueType="num">
                                      <p:cBhvr additive="base">
                                        <p:cTn id="27" dur="500" fill="hold"/>
                                        <p:tgtEl>
                                          <p:spTgt spid="135"/>
                                        </p:tgtEl>
                                        <p:attrNameLst>
                                          <p:attrName>ppt_x</p:attrName>
                                        </p:attrNameLst>
                                      </p:cBhvr>
                                      <p:tavLst>
                                        <p:tav tm="0">
                                          <p:val>
                                            <p:strVal val="1+#ppt_w/2"/>
                                          </p:val>
                                        </p:tav>
                                        <p:tav tm="100000">
                                          <p:val>
                                            <p:strVal val="#ppt_x"/>
                                          </p:val>
                                        </p:tav>
                                      </p:tavLst>
                                    </p:anim>
                                    <p:anim calcmode="lin" valueType="num">
                                      <p:cBhvr additive="base">
                                        <p:cTn id="28" dur="500" fill="hold"/>
                                        <p:tgtEl>
                                          <p:spTgt spid="135"/>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12" presetSubtype="4">
                                  <p:stCondLst>
                                    <p:cond delay="0"/>
                                  </p:stCondLst>
                                  <p:childTnLst>
                                    <p:set>
                                      <p:cBhvr>
                                        <p:cTn id="31" dur="1" fill="hold">
                                          <p:stCondLst>
                                            <p:cond delay="0"/>
                                          </p:stCondLst>
                                        </p:cTn>
                                        <p:tgtEl>
                                          <p:spTgt spid="139"/>
                                        </p:tgtEl>
                                        <p:attrNameLst>
                                          <p:attrName>style.visibility</p:attrName>
                                        </p:attrNameLst>
                                      </p:cBhvr>
                                      <p:to>
                                        <p:strVal val="visible"/>
                                      </p:to>
                                    </p:set>
                                    <p:animEffect filter="slide(fromBottom)" transition="in">
                                      <p:cBhvr additive="repl">
                                        <p:cTn id="32" dur="500"/>
                                        <p:tgtEl>
                                          <p:spTgt spid="13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6"/>
                                        </p:tgtEl>
                                        <p:attrNameLst>
                                          <p:attrName>style.visibility</p:attrName>
                                        </p:attrNameLst>
                                      </p:cBhvr>
                                      <p:to>
                                        <p:strVal val="visible"/>
                                      </p:to>
                                    </p:set>
                                    <p:anim calcmode="lin" valueType="num">
                                      <p:cBhvr additive="base">
                                        <p:cTn id="37" dur="500" fill="hold"/>
                                        <p:tgtEl>
                                          <p:spTgt spid="136"/>
                                        </p:tgtEl>
                                        <p:attrNameLst>
                                          <p:attrName>ppt_x</p:attrName>
                                        </p:attrNameLst>
                                      </p:cBhvr>
                                      <p:tavLst>
                                        <p:tav tm="0">
                                          <p:val>
                                            <p:strVal val="0-#ppt_w/2"/>
                                          </p:val>
                                        </p:tav>
                                        <p:tav tm="100000">
                                          <p:val>
                                            <p:strVal val="#ppt_x"/>
                                          </p:val>
                                        </p:tav>
                                      </p:tavLst>
                                    </p:anim>
                                    <p:anim calcmode="lin" valueType="num">
                                      <p:cBhvr additive="base">
                                        <p:cTn id="38" dur="500" fill="hold"/>
                                        <p:tgtEl>
                                          <p:spTgt spid="136"/>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12" presetSubtype="4">
                                  <p:stCondLst>
                                    <p:cond delay="0"/>
                                  </p:stCondLst>
                                  <p:childTnLst>
                                    <p:set>
                                      <p:cBhvr>
                                        <p:cTn id="41" dur="1" fill="hold">
                                          <p:stCondLst>
                                            <p:cond delay="0"/>
                                          </p:stCondLst>
                                        </p:cTn>
                                        <p:tgtEl>
                                          <p:spTgt spid="140"/>
                                        </p:tgtEl>
                                        <p:attrNameLst>
                                          <p:attrName>style.visibility</p:attrName>
                                        </p:attrNameLst>
                                      </p:cBhvr>
                                      <p:to>
                                        <p:strVal val="visible"/>
                                      </p:to>
                                    </p:set>
                                    <p:animEffect filter="slide(fromBottom)" transition="in">
                                      <p:cBhvr additive="repl">
                                        <p:cTn id="4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6300720" y="2133720"/>
            <a:ext cx="2519280" cy="2506680"/>
          </a:xfrm>
          <a:prstGeom prst="rect">
            <a:avLst/>
          </a:prstGeom>
          <a:ln w="0">
            <a:noFill/>
          </a:ln>
        </p:spPr>
      </p:pic>
      <p:sp>
        <p:nvSpPr>
          <p:cNvPr id="191" name=""/>
          <p:cNvSpPr txBox="1"/>
          <p:nvPr/>
        </p:nvSpPr>
        <p:spPr>
          <a:xfrm>
            <a:off x="755640" y="620640"/>
            <a:ext cx="172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鸦片</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pic>
        <p:nvPicPr>
          <p:cNvPr id="192" name="" descr=""/>
          <p:cNvPicPr/>
          <p:nvPr/>
        </p:nvPicPr>
        <p:blipFill>
          <a:blip r:embed="rId3"/>
          <a:stretch/>
        </p:blipFill>
        <p:spPr>
          <a:xfrm>
            <a:off x="395280" y="2133720"/>
            <a:ext cx="2592360" cy="2509560"/>
          </a:xfrm>
          <a:prstGeom prst="rect">
            <a:avLst/>
          </a:prstGeom>
          <a:ln w="0">
            <a:noFill/>
          </a:ln>
        </p:spPr>
      </p:pic>
      <p:pic>
        <p:nvPicPr>
          <p:cNvPr id="193" name="" descr=""/>
          <p:cNvPicPr/>
          <p:nvPr/>
        </p:nvPicPr>
        <p:blipFill>
          <a:blip r:embed="rId4">
            <a:lum bright="30000"/>
          </a:blip>
          <a:stretch/>
        </p:blipFill>
        <p:spPr>
          <a:xfrm>
            <a:off x="3708360" y="1700280"/>
            <a:ext cx="1905120" cy="2879640"/>
          </a:xfrm>
          <a:prstGeom prst="rect">
            <a:avLst/>
          </a:prstGeom>
          <a:ln w="0">
            <a:noFill/>
          </a:ln>
        </p:spPr>
      </p:pic>
      <p:sp>
        <p:nvSpPr>
          <p:cNvPr id="194" name=""/>
          <p:cNvSpPr txBox="1"/>
          <p:nvPr/>
        </p:nvSpPr>
        <p:spPr>
          <a:xfrm>
            <a:off x="1187280" y="5013360"/>
            <a:ext cx="1081080" cy="38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ff3300"/>
                  </a:solidFill>
                  <a:miter/>
                </a:ln>
                <a:solidFill>
                  <a:srgbClr val="ffff00"/>
                </a:solidFill>
                <a:effectLst>
                  <a:outerShdw dist="17819" dir="2700000" blurRad="0" rotWithShape="0">
                    <a:srgbClr val="990000"/>
                  </a:outerShdw>
                </a:effectLst>
                <a:latin typeface="幼圆"/>
              </a:rPr>
              <a:t>罂粟花</a:t>
            </a:r>
            <a:endParaRPr b="1" lang="en-US" sz="1800" spc="1" strike="noStrike">
              <a:ln w="6480">
                <a:solidFill>
                  <a:srgbClr val="ff3300"/>
                </a:solidFill>
                <a:miter/>
              </a:ln>
              <a:solidFill>
                <a:srgbClr val="ffff00"/>
              </a:solidFill>
              <a:effectLst>
                <a:outerShdw dist="17819" dir="2700000" blurRad="0" rotWithShape="0">
                  <a:srgbClr val="990000"/>
                </a:outerShdw>
              </a:effectLst>
              <a:latin typeface="幼圆"/>
              <a:ea typeface="幼圆"/>
            </a:endParaRPr>
          </a:p>
        </p:txBody>
      </p:sp>
      <p:sp>
        <p:nvSpPr>
          <p:cNvPr id="195" name=""/>
          <p:cNvSpPr txBox="1"/>
          <p:nvPr/>
        </p:nvSpPr>
        <p:spPr>
          <a:xfrm>
            <a:off x="4284720" y="5013360"/>
            <a:ext cx="10792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ff00"/>
                </a:solidFill>
                <a:effectLst>
                  <a:outerShdw dist="17819" dir="2700000" blurRad="0" rotWithShape="0">
                    <a:srgbClr val="990000"/>
                  </a:outerShdw>
                </a:effectLst>
                <a:latin typeface="幼圆"/>
              </a:rPr>
              <a:t>罂粟果</a:t>
            </a:r>
            <a:endParaRPr b="1" lang="en-US" sz="1800" spc="-1" strike="noStrike">
              <a:ln w="9360">
                <a:solidFill>
                  <a:srgbClr val="ff3300"/>
                </a:solidFill>
                <a:miter/>
              </a:ln>
              <a:solidFill>
                <a:srgbClr val="ffff00"/>
              </a:solidFill>
              <a:effectLst>
                <a:outerShdw dist="17819" dir="2700000" blurRad="0" rotWithShape="0">
                  <a:srgbClr val="990000"/>
                </a:outerShdw>
              </a:effectLst>
              <a:latin typeface="幼圆"/>
              <a:ea typeface="幼圆"/>
            </a:endParaRPr>
          </a:p>
        </p:txBody>
      </p:sp>
      <p:sp>
        <p:nvSpPr>
          <p:cNvPr id="196" name=""/>
          <p:cNvSpPr txBox="1"/>
          <p:nvPr/>
        </p:nvSpPr>
        <p:spPr>
          <a:xfrm>
            <a:off x="7093080" y="5013360"/>
            <a:ext cx="108108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ff00"/>
                </a:solidFill>
                <a:effectLst>
                  <a:outerShdw dist="17819" dir="2700000" blurRad="0" rotWithShape="0">
                    <a:srgbClr val="990000"/>
                  </a:outerShdw>
                </a:effectLst>
                <a:latin typeface="幼圆"/>
              </a:rPr>
              <a:t>鸦  片</a:t>
            </a:r>
            <a:endParaRPr b="1" lang="en-US" sz="1800" spc="-1" strike="noStrike">
              <a:ln w="9360">
                <a:solidFill>
                  <a:srgbClr val="ff3300"/>
                </a:solidFill>
                <a:miter/>
              </a:ln>
              <a:solidFill>
                <a:srgbClr val="ffff00"/>
              </a:solidFill>
              <a:effectLst>
                <a:outerShdw dist="17819" dir="2700000" blurRad="0" rotWithShape="0">
                  <a:srgbClr val="990000"/>
                </a:outerShdw>
              </a:effectLst>
              <a:latin typeface="幼圆"/>
              <a:ea typeface="幼圆"/>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92"/>
                                        </p:tgtEl>
                                        <p:attrNameLst>
                                          <p:attrName>style.visibility</p:attrName>
                                        </p:attrNameLst>
                                      </p:cBhvr>
                                      <p:to>
                                        <p:strVal val="visible"/>
                                      </p:to>
                                    </p:set>
                                  </p:childTnLst>
                                </p:cTn>
                              </p:par>
                            </p:childTnLst>
                          </p:cTn>
                        </p:par>
                        <p:par>
                          <p:cTn id="233" fill="hold">
                            <p:stCondLst>
                              <p:cond delay="1"/>
                            </p:stCondLst>
                            <p:childTnLst>
                              <p:par>
                                <p:cTn id="234" nodeType="afterEffect" fill="hold" presetClass="entr" presetID="1">
                                  <p:stCondLst>
                                    <p:cond delay="0"/>
                                  </p:stCondLst>
                                  <p:childTnLst>
                                    <p:set>
                                      <p:cBhvr>
                                        <p:cTn id="235" dur="1" fill="hold">
                                          <p:stCondLst>
                                            <p:cond delay="0"/>
                                          </p:stCondLst>
                                        </p:cTn>
                                        <p:tgtEl>
                                          <p:spTgt spid="19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93"/>
                                        </p:tgtEl>
                                        <p:attrNameLst>
                                          <p:attrName>style.visibility</p:attrName>
                                        </p:attrNameLst>
                                      </p:cBhvr>
                                      <p:to>
                                        <p:strVal val="visible"/>
                                      </p:to>
                                    </p:set>
                                  </p:childTnLst>
                                </p:cTn>
                              </p:par>
                            </p:childTnLst>
                          </p:cTn>
                        </p:par>
                        <p:par>
                          <p:cTn id="240" fill="hold">
                            <p:stCondLst>
                              <p:cond delay="1"/>
                            </p:stCondLst>
                            <p:childTnLst>
                              <p:par>
                                <p:cTn id="241" nodeType="afterEffect" fill="hold" presetClass="entr" presetID="1">
                                  <p:stCondLst>
                                    <p:cond delay="0"/>
                                  </p:stCondLst>
                                  <p:childTnLst>
                                    <p:set>
                                      <p:cBhvr>
                                        <p:cTn id="242" dur="1" fill="hold">
                                          <p:stCondLst>
                                            <p:cond delay="0"/>
                                          </p:stCondLst>
                                        </p:cTn>
                                        <p:tgtEl>
                                          <p:spTgt spid="19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0"/>
                                        </p:tgtEl>
                                        <p:attrNameLst>
                                          <p:attrName>style.visibility</p:attrName>
                                        </p:attrNameLst>
                                      </p:cBhvr>
                                      <p:to>
                                        <p:strVal val="visible"/>
                                      </p:to>
                                    </p:set>
                                  </p:childTnLst>
                                </p:cTn>
                              </p:par>
                            </p:childTnLst>
                          </p:cTn>
                        </p:par>
                        <p:par>
                          <p:cTn id="247" fill="hold">
                            <p:stCondLst>
                              <p:cond delay="1"/>
                            </p:stCondLst>
                            <p:childTnLst>
                              <p:par>
                                <p:cTn id="248" nodeType="afterEffect" fill="hold" presetClass="entr" presetID="1">
                                  <p:stCondLst>
                                    <p:cond delay="0"/>
                                  </p:stCondLst>
                                  <p:childTnLst>
                                    <p:set>
                                      <p:cBhvr>
                                        <p:cTn id="24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5076720" y="1916280"/>
            <a:ext cx="3797280" cy="4681440"/>
          </a:xfrm>
          <a:prstGeom prst="rect">
            <a:avLst/>
          </a:prstGeom>
          <a:ln w="0">
            <a:noFill/>
          </a:ln>
        </p:spPr>
      </p:pic>
      <p:sp>
        <p:nvSpPr>
          <p:cNvPr id="198" name=""/>
          <p:cNvSpPr/>
          <p:nvPr/>
        </p:nvSpPr>
        <p:spPr>
          <a:xfrm>
            <a:off x="179280" y="260280"/>
            <a:ext cx="684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3f41"/>
                </a:solidFill>
                <a:latin typeface="Arial"/>
              </a:rPr>
              <a:t>2</a:t>
            </a:r>
            <a:r>
              <a:rPr b="1" lang="zh-CN" sz="3200" spc="-1" strike="noStrike">
                <a:solidFill>
                  <a:srgbClr val="3d3f41"/>
                </a:solidFill>
                <a:latin typeface="Arial"/>
              </a:rPr>
              <a:t>、鸦片走私给中国带来的危害</a:t>
            </a:r>
            <a:endParaRPr b="0" lang="en-US" sz="3200" spc="-1" strike="noStrike">
              <a:solidFill>
                <a:srgbClr val="000000"/>
              </a:solidFill>
              <a:latin typeface="Arial"/>
            </a:endParaRPr>
          </a:p>
        </p:txBody>
      </p:sp>
      <p:sp>
        <p:nvSpPr>
          <p:cNvPr id="199" name=""/>
          <p:cNvSpPr txBox="1"/>
          <p:nvPr/>
        </p:nvSpPr>
        <p:spPr>
          <a:xfrm>
            <a:off x="324000" y="1052640"/>
            <a:ext cx="1512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80"/>
                </a:solidFill>
                <a:latin typeface="宋体"/>
              </a:rPr>
              <a:t>想一想</a:t>
            </a:r>
            <a:endParaRPr b="1" lang="en-US" sz="1800" spc="-1" strike="noStrike">
              <a:ln w="9360">
                <a:solidFill>
                  <a:srgbClr val="000000"/>
                </a:solidFill>
                <a:miter/>
              </a:ln>
              <a:solidFill>
                <a:srgbClr val="000080"/>
              </a:solidFill>
              <a:latin typeface="宋体"/>
              <a:ea typeface="宋体"/>
            </a:endParaRPr>
          </a:p>
        </p:txBody>
      </p:sp>
      <p:sp>
        <p:nvSpPr>
          <p:cNvPr id="200" name=""/>
          <p:cNvSpPr/>
          <p:nvPr/>
        </p:nvSpPr>
        <p:spPr>
          <a:xfrm>
            <a:off x="539640" y="1989000"/>
            <a:ext cx="42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从右图中能看到什么？</a:t>
            </a:r>
            <a:endParaRPr b="0" lang="en-US" sz="2800" spc="-1" strike="noStrike">
              <a:solidFill>
                <a:srgbClr val="000000"/>
              </a:solidFill>
              <a:latin typeface="Arial"/>
            </a:endParaRPr>
          </a:p>
        </p:txBody>
      </p:sp>
      <p:pic>
        <p:nvPicPr>
          <p:cNvPr id="201" name="" descr=""/>
          <p:cNvPicPr/>
          <p:nvPr/>
        </p:nvPicPr>
        <p:blipFill>
          <a:blip r:embed="rId3"/>
          <a:srcRect l="0" t="0" r="0" b="5076"/>
          <a:stretch/>
        </p:blipFill>
        <p:spPr>
          <a:xfrm>
            <a:off x="324000" y="3068640"/>
            <a:ext cx="4321080" cy="3525840"/>
          </a:xfrm>
          <a:prstGeom prst="rect">
            <a:avLst/>
          </a:prstGeom>
          <a:ln w="9360">
            <a:solidFill>
              <a:srgbClr val="800000"/>
            </a:solidFill>
            <a:miter/>
          </a:ln>
        </p:spPr>
      </p:pic>
      <p:sp>
        <p:nvSpPr>
          <p:cNvPr id="202" name=""/>
          <p:cNvSpPr/>
          <p:nvPr/>
        </p:nvSpPr>
        <p:spPr>
          <a:xfrm>
            <a:off x="324000" y="6093000"/>
            <a:ext cx="4319280" cy="5814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PMingLiU"/>
              </a:rPr>
              <a:t>东</a:t>
            </a:r>
            <a:r>
              <a:rPr b="1" lang="zh-TW" sz="3200" spc="-1" strike="noStrike">
                <a:solidFill>
                  <a:srgbClr val="000000"/>
                </a:solidFill>
                <a:latin typeface="Arial"/>
                <a:ea typeface="PMingLiU"/>
              </a:rPr>
              <a:t>印度公司的</a:t>
            </a:r>
            <a:r>
              <a:rPr b="1" lang="zh-CN" sz="3200" spc="-1" strike="noStrike">
                <a:solidFill>
                  <a:srgbClr val="000000"/>
                </a:solidFill>
                <a:latin typeface="Arial"/>
                <a:ea typeface="PMingLiU"/>
              </a:rPr>
              <a:t>鸦</a:t>
            </a:r>
            <a:r>
              <a:rPr b="1" lang="zh-TW" sz="3200" spc="-1" strike="noStrike">
                <a:solidFill>
                  <a:srgbClr val="000000"/>
                </a:solidFill>
                <a:latin typeface="Arial"/>
                <a:ea typeface="PMingLiU"/>
              </a:rPr>
              <a:t>片</a:t>
            </a:r>
            <a:r>
              <a:rPr b="1" lang="zh-CN" sz="3200" spc="-1" strike="noStrike">
                <a:solidFill>
                  <a:srgbClr val="000000"/>
                </a:solidFill>
                <a:latin typeface="Arial"/>
                <a:ea typeface="PMingLiU"/>
              </a:rPr>
              <a:t>仓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98"/>
                                        </p:tgtEl>
                                        <p:attrNameLst>
                                          <p:attrName>style.visibility</p:attrName>
                                        </p:attrNameLst>
                                      </p:cBhvr>
                                      <p:to>
                                        <p:strVal val="visible"/>
                                      </p:to>
                                    </p:set>
                                    <p:animEffect filter="barn(outVertical)" transition="in">
                                      <p:cBhvr additive="repl">
                                        <p:cTn id="256" dur="500"/>
                                        <p:tgtEl>
                                          <p:spTgt spid="1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9">
                                  <p:stCondLst>
                                    <p:cond delay="0"/>
                                  </p:stCondLst>
                                  <p:childTnLst>
                                    <p:set>
                                      <p:cBhvr>
                                        <p:cTn id="260" dur="1" fill="hold">
                                          <p:stCondLst>
                                            <p:cond delay="0"/>
                                          </p:stCondLst>
                                        </p:cTn>
                                        <p:tgtEl>
                                          <p:spTgt spid="199"/>
                                        </p:tgtEl>
                                        <p:attrNameLst>
                                          <p:attrName>style.visibility</p:attrName>
                                        </p:attrNameLst>
                                      </p:cBhvr>
                                      <p:to>
                                        <p:strVal val="visible"/>
                                      </p:to>
                                    </p:set>
                                    <p:anim calcmode="lin" valueType="num">
                                      <p:cBhvr additive="repl">
                                        <p:cTn id="261" dur="500" fill="hold"/>
                                        <p:tgtEl>
                                          <p:spTgt spid="199"/>
                                        </p:tgtEl>
                                        <p:attrNameLst>
                                          <p:attrName>ppt_w</p:attrName>
                                        </p:attrNameLst>
                                      </p:cBhvr>
                                      <p:tavLst>
                                        <p:tav tm="0">
                                          <p:val>
                                            <p:fltVal val="0"/>
                                          </p:val>
                                        </p:tav>
                                        <p:tav tm="100000">
                                          <p:val>
                                            <p:strVal val="#ppt_w"/>
                                          </p:val>
                                        </p:tav>
                                      </p:tavLst>
                                    </p:anim>
                                    <p:anim calcmode="lin" valueType="num">
                                      <p:cBhvr additive="repl">
                                        <p:cTn id="262" dur="500" fill="hold"/>
                                        <p:tgtEl>
                                          <p:spTgt spid="199"/>
                                        </p:tgtEl>
                                        <p:attrNameLst>
                                          <p:attrName>ppt_h</p:attrName>
                                        </p:attrNameLst>
                                      </p:cBhvr>
                                      <p:tavLst>
                                        <p:tav tm="0">
                                          <p:val>
                                            <p:fltVal val="0"/>
                                          </p:val>
                                        </p:tav>
                                        <p:tav tm="100000">
                                          <p:val>
                                            <p:strVal val="#ppt_h"/>
                                          </p:val>
                                        </p:tav>
                                      </p:tavLst>
                                    </p:anim>
                                    <p:anim calcmode="lin" valueType="num">
                                      <p:cBhvr additive="repl">
                                        <p:cTn id="263" dur="500" fill="hold"/>
                                        <p:tgtEl>
                                          <p:spTgt spid="199"/>
                                        </p:tgtEl>
                                        <p:attrNameLst>
                                          <p:attrName>r</p:attrName>
                                        </p:attrNameLst>
                                      </p:cBhvr>
                                      <p:tavLst>
                                        <p:tav tm="0">
                                          <p:val>
                                            <p:strVal val="360"/>
                                          </p:val>
                                        </p:tav>
                                        <p:tav tm="100000">
                                          <p:val>
                                            <p:strVal val="0"/>
                                          </p:val>
                                        </p:tav>
                                      </p:tavLst>
                                    </p:anim>
                                    <p:animEffect filter="fade" transition="in">
                                      <p:cBhvr additive="repl">
                                        <p:cTn id="264" dur="500"/>
                                        <p:tgtEl>
                                          <p:spTgt spid="199"/>
                                        </p:tgtEl>
                                      </p:cBhvr>
                                    </p:animEffect>
                                  </p:childTnLst>
                                </p:cTn>
                              </p:par>
                            </p:childTnLst>
                          </p:cTn>
                        </p:par>
                        <p:par>
                          <p:cTn id="265" fill="hold">
                            <p:stCondLst>
                              <p:cond delay="500"/>
                            </p:stCondLst>
                            <p:childTnLst>
                              <p:par>
                                <p:cTn id="266" nodeType="afterEffect" fill="hold" presetClass="entr" presetID="55">
                                  <p:stCondLst>
                                    <p:cond delay="0"/>
                                  </p:stCondLst>
                                  <p:childTnLst>
                                    <p:set>
                                      <p:cBhvr>
                                        <p:cTn id="267" dur="1" fill="hold">
                                          <p:stCondLst>
                                            <p:cond delay="0"/>
                                          </p:stCondLst>
                                        </p:cTn>
                                        <p:tgtEl>
                                          <p:spTgt spid="197"/>
                                        </p:tgtEl>
                                        <p:attrNameLst>
                                          <p:attrName>style.visibility</p:attrName>
                                        </p:attrNameLst>
                                      </p:cBhvr>
                                      <p:to>
                                        <p:strVal val="visible"/>
                                      </p:to>
                                    </p:set>
                                    <p:anim calcmode="lin" valueType="num">
                                      <p:cBhvr additive="repl">
                                        <p:cTn id="268" dur="1000" fill="hold"/>
                                        <p:tgtEl>
                                          <p:spTgt spid="197"/>
                                        </p:tgtEl>
                                        <p:attrNameLst>
                                          <p:attrName>ppt_w</p:attrName>
                                        </p:attrNameLst>
                                      </p:cBhvr>
                                      <p:tavLst>
                                        <p:tav tm="0">
                                          <p:val>
                                            <p:strVal val="#ppt_w*0.70"/>
                                          </p:val>
                                        </p:tav>
                                        <p:tav tm="100000">
                                          <p:val>
                                            <p:strVal val="#ppt_w"/>
                                          </p:val>
                                        </p:tav>
                                      </p:tavLst>
                                    </p:anim>
                                    <p:anim calcmode="lin" valueType="num">
                                      <p:cBhvr additive="repl">
                                        <p:cTn id="269" dur="1000" fill="hold"/>
                                        <p:tgtEl>
                                          <p:spTgt spid="197"/>
                                        </p:tgtEl>
                                        <p:attrNameLst>
                                          <p:attrName>ppt_h</p:attrName>
                                        </p:attrNameLst>
                                      </p:cBhvr>
                                      <p:tavLst>
                                        <p:tav tm="0">
                                          <p:val>
                                            <p:strVal val="#ppt_h"/>
                                          </p:val>
                                        </p:tav>
                                        <p:tav tm="100000">
                                          <p:val>
                                            <p:strVal val="#ppt_h"/>
                                          </p:val>
                                        </p:tav>
                                      </p:tavLst>
                                    </p:anim>
                                    <p:animEffect filter="fade" transition="in">
                                      <p:cBhvr additive="repl">
                                        <p:cTn id="270" dur="1000"/>
                                        <p:tgtEl>
                                          <p:spTgt spid="197"/>
                                        </p:tgtEl>
                                      </p:cBhvr>
                                    </p:animEffect>
                                  </p:childTnLst>
                                </p:cTn>
                              </p:par>
                            </p:childTnLst>
                          </p:cTn>
                        </p:par>
                        <p:par>
                          <p:cTn id="271"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201"/>
                                        </p:tgtEl>
                                        <p:attrNameLst>
                                          <p:attrName>style.visibility</p:attrName>
                                        </p:attrNameLst>
                                      </p:cBhvr>
                                      <p:to>
                                        <p:strVal val="visible"/>
                                      </p:to>
                                    </p:set>
                                    <p:anim calcmode="lin" valueType="num">
                                      <p:cBhvr additive="base">
                                        <p:cTn id="274" dur="500" fill="hold"/>
                                        <p:tgtEl>
                                          <p:spTgt spid="201"/>
                                        </p:tgtEl>
                                        <p:attrNameLst>
                                          <p:attrName>ppt_x</p:attrName>
                                        </p:attrNameLst>
                                      </p:cBhvr>
                                      <p:tavLst>
                                        <p:tav tm="0">
                                          <p:val>
                                            <p:strVal val="#ppt_x"/>
                                          </p:val>
                                        </p:tav>
                                        <p:tav tm="100000">
                                          <p:val>
                                            <p:strVal val="#ppt_x"/>
                                          </p:val>
                                        </p:tav>
                                      </p:tavLst>
                                    </p:anim>
                                    <p:anim calcmode="lin" valueType="num">
                                      <p:cBhvr additive="base">
                                        <p:cTn id="275" dur="500" fill="hold"/>
                                        <p:tgtEl>
                                          <p:spTgt spid="201"/>
                                        </p:tgtEl>
                                        <p:attrNameLst>
                                          <p:attrName>ppt_y</p:attrName>
                                        </p:attrNameLst>
                                      </p:cBhvr>
                                      <p:tavLst>
                                        <p:tav tm="0">
                                          <p:val>
                                            <p:strVal val="1+#ppt_h/2"/>
                                          </p:val>
                                        </p:tav>
                                        <p:tav tm="100000">
                                          <p:val>
                                            <p:strVal val="#ppt_y"/>
                                          </p:val>
                                        </p:tav>
                                      </p:tavLst>
                                    </p:anim>
                                  </p:childTnLst>
                                </p:cTn>
                              </p:par>
                            </p:childTnLst>
                          </p:cTn>
                        </p:par>
                        <p:par>
                          <p:cTn id="276" fill="hold">
                            <p:stCondLst>
                              <p:cond delay="2000"/>
                            </p:stCondLst>
                            <p:childTnLst>
                              <p:par>
                                <p:cTn id="277" nodeType="afterEffect" fill="hold" presetClass="entr" presetID="1">
                                  <p:stCondLst>
                                    <p:cond delay="0"/>
                                  </p:stCondLst>
                                  <p:childTnLst>
                                    <p:set>
                                      <p:cBhvr>
                                        <p:cTn id="278" dur="1" fill="hold">
                                          <p:stCondLst>
                                            <p:cond delay="0"/>
                                          </p:stCondLst>
                                        </p:cTn>
                                        <p:tgtEl>
                                          <p:spTgt spid="202"/>
                                        </p:tgtEl>
                                        <p:attrNameLst>
                                          <p:attrName>style.visibility</p:attrName>
                                        </p:attrNameLst>
                                      </p:cBhvr>
                                      <p:to>
                                        <p:strVal val="visible"/>
                                      </p:to>
                                    </p:set>
                                  </p:childTnLst>
                                </p:cTn>
                              </p:par>
                            </p:childTnLst>
                          </p:cTn>
                        </p:par>
                        <p:par>
                          <p:cTn id="279" fill="hold">
                            <p:stCondLst>
                              <p:cond delay="2001"/>
                            </p:stCondLst>
                            <p:childTnLst>
                              <p:par>
                                <p:cTn id="280" nodeType="afterEffect" fill="hold" presetClass="entr" presetID="17" presetSubtype="10">
                                  <p:stCondLst>
                                    <p:cond delay="0"/>
                                  </p:stCondLst>
                                  <p:childTnLst>
                                    <p:set>
                                      <p:cBhvr>
                                        <p:cTn id="281" dur="1" fill="hold">
                                          <p:stCondLst>
                                            <p:cond delay="0"/>
                                          </p:stCondLst>
                                        </p:cTn>
                                        <p:tgtEl>
                                          <p:spTgt spid="200"/>
                                        </p:tgtEl>
                                        <p:attrNameLst>
                                          <p:attrName>style.visibility</p:attrName>
                                        </p:attrNameLst>
                                      </p:cBhvr>
                                      <p:to>
                                        <p:strVal val="visible"/>
                                      </p:to>
                                    </p:set>
                                    <p:anim calcmode="lin" valueType="num">
                                      <p:cBhvr additive="repl">
                                        <p:cTn id="282" dur="500" fill="hold"/>
                                        <p:tgtEl>
                                          <p:spTgt spid="200"/>
                                        </p:tgtEl>
                                        <p:attrNameLst>
                                          <p:attrName>ppt_w</p:attrName>
                                        </p:attrNameLst>
                                      </p:cBhvr>
                                      <p:tavLst>
                                        <p:tav tm="0">
                                          <p:val>
                                            <p:fltVal val="0"/>
                                          </p:val>
                                        </p:tav>
                                        <p:tav tm="100000">
                                          <p:val>
                                            <p:strVal val="#ppt_w"/>
                                          </p:val>
                                        </p:tav>
                                      </p:tavLst>
                                    </p:anim>
                                    <p:anim calcmode="lin" valueType="num">
                                      <p:cBhvr additive="repl">
                                        <p:cTn id="283" dur="500" fill="hold"/>
                                        <p:tgtEl>
                                          <p:spTgt spid="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250920" y="189000"/>
            <a:ext cx="4952880" cy="2923920"/>
          </a:xfrm>
          <a:prstGeom prst="rect">
            <a:avLst/>
          </a:prstGeom>
          <a:ln w="0">
            <a:noFill/>
          </a:ln>
        </p:spPr>
      </p:pic>
      <p:pic>
        <p:nvPicPr>
          <p:cNvPr id="204" name="" descr=""/>
          <p:cNvPicPr/>
          <p:nvPr/>
        </p:nvPicPr>
        <p:blipFill>
          <a:blip r:embed="rId3"/>
          <a:stretch/>
        </p:blipFill>
        <p:spPr>
          <a:xfrm>
            <a:off x="3924360" y="3141720"/>
            <a:ext cx="4952880" cy="3533760"/>
          </a:xfrm>
          <a:prstGeom prst="rect">
            <a:avLst/>
          </a:prstGeom>
          <a:ln w="0">
            <a:noFill/>
          </a:ln>
        </p:spPr>
      </p:pic>
      <p:sp>
        <p:nvSpPr>
          <p:cNvPr id="205" name=""/>
          <p:cNvSpPr/>
          <p:nvPr/>
        </p:nvSpPr>
        <p:spPr>
          <a:xfrm>
            <a:off x="5867280" y="126828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PMingLiU"/>
              </a:rPr>
              <a:t>吸食鸦片的中国人</a:t>
            </a:r>
            <a:endParaRPr b="0" lang="en-US" sz="3600" spc="-1" strike="noStrike">
              <a:solidFill>
                <a:srgbClr val="000000"/>
              </a:solidFill>
              <a:latin typeface="Arial"/>
            </a:endParaRPr>
          </a:p>
        </p:txBody>
      </p:sp>
      <p:sp>
        <p:nvSpPr>
          <p:cNvPr id="206" name=""/>
          <p:cNvSpPr txBox="1"/>
          <p:nvPr/>
        </p:nvSpPr>
        <p:spPr>
          <a:xfrm>
            <a:off x="395280" y="3357720"/>
            <a:ext cx="158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楷体_GB2312"/>
              </a:rPr>
              <a:t>动脑筋</a:t>
            </a:r>
            <a:endParaRPr b="0" lang="en-US" sz="1800" spc="-1" strike="noStrike">
              <a:ln w="9360">
                <a:solidFill>
                  <a:srgbClr val="ff0000"/>
                </a:solidFill>
                <a:miter/>
              </a:ln>
              <a:solidFill>
                <a:srgbClr val="ff0000"/>
              </a:solidFill>
              <a:latin typeface="楷体_GB2312"/>
              <a:ea typeface="楷体_GB2312"/>
            </a:endParaRPr>
          </a:p>
        </p:txBody>
      </p:sp>
      <p:sp>
        <p:nvSpPr>
          <p:cNvPr id="207" name=""/>
          <p:cNvSpPr/>
          <p:nvPr/>
        </p:nvSpPr>
        <p:spPr>
          <a:xfrm>
            <a:off x="468360" y="4076640"/>
            <a:ext cx="4319640" cy="2448000"/>
          </a:xfrm>
          <a:prstGeom prst="cloudCallout">
            <a:avLst>
              <a:gd name="adj1" fmla="val -49115"/>
              <a:gd name="adj2" fmla="val -48768"/>
            </a:avLst>
          </a:prstGeom>
          <a:gradFill rotWithShape="0">
            <a:gsLst>
              <a:gs pos="0">
                <a:srgbClr val="b5a8a1"/>
              </a:gs>
              <a:gs pos="100000">
                <a:srgbClr val="ffffff"/>
              </a:gs>
            </a:gsLst>
            <a:lin ang="13500000"/>
          </a:gradFill>
          <a:ln w="9360">
            <a:solidFill>
              <a:srgbClr val="b5a8a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3f41"/>
                </a:solidFill>
                <a:latin typeface="Arial"/>
              </a:rPr>
              <a:t>请你把鸦片对中国的危害归纳成几条，写出来。看谁写得多哦。</a:t>
            </a:r>
            <a:endParaRPr b="0" lang="en-US" sz="2400" spc="-1" strike="noStrike">
              <a:solidFill>
                <a:srgbClr val="000000"/>
              </a:solidFill>
              <a:latin typeface="Arial"/>
            </a:endParaRPr>
          </a:p>
        </p:txBody>
      </p:sp>
      <p:sp>
        <p:nvSpPr>
          <p:cNvPr id="208" name=""/>
          <p:cNvSpPr/>
          <p:nvPr/>
        </p:nvSpPr>
        <p:spPr>
          <a:xfrm>
            <a:off x="4427640" y="581040"/>
            <a:ext cx="4427280" cy="3547800"/>
          </a:xfrm>
          <a:prstGeom prst="rect">
            <a:avLst/>
          </a:prstGeom>
          <a:gradFill rotWithShape="0">
            <a:gsLst>
              <a:gs pos="0">
                <a:srgbClr val="534d4a"/>
              </a:gs>
              <a:gs pos="50000">
                <a:srgbClr val="b5a8a1"/>
              </a:gs>
              <a:gs pos="100000">
                <a:srgbClr val="534d4a"/>
              </a:gs>
            </a:gsLst>
            <a:lin ang="81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白银外流，造成财政危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银价上涨，造成“银贵钱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zh-CN" sz="3200" spc="-1" strike="noStrike">
                <a:solidFill>
                  <a:srgbClr val="ffff00"/>
                </a:solidFill>
                <a:latin typeface="Arial"/>
              </a:rPr>
              <a:t>、腐蚀统治机构，清政府更加腐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1" lang="zh-CN" sz="3200" spc="-1" strike="noStrike">
                <a:solidFill>
                  <a:srgbClr val="ffff00"/>
                </a:solidFill>
                <a:latin typeface="Arial"/>
              </a:rPr>
              <a:t>、毒害民众身心，削弱军队战斗力。</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r>
              <a:rPr b="1" lang="zh-CN" sz="3200" spc="-1" strike="noStrike">
                <a:solidFill>
                  <a:srgbClr val="ffff00"/>
                </a:solidFill>
                <a:latin typeface="Arial"/>
              </a:rPr>
              <a:t>、民风日下，社会萧条，滋生罪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03"/>
                                        </p:tgtEl>
                                        <p:attrNameLst>
                                          <p:attrName>style.visibility</p:attrName>
                                        </p:attrNameLst>
                                      </p:cBhvr>
                                      <p:to>
                                        <p:strVal val="visible"/>
                                      </p:to>
                                    </p:set>
                                    <p:anim calcmode="lin" valueType="num">
                                      <p:cBhvr additive="base">
                                        <p:cTn id="290" dur="500" fill="hold"/>
                                        <p:tgtEl>
                                          <p:spTgt spid="203"/>
                                        </p:tgtEl>
                                        <p:attrNameLst>
                                          <p:attrName>ppt_x</p:attrName>
                                        </p:attrNameLst>
                                      </p:cBhvr>
                                      <p:tavLst>
                                        <p:tav tm="0">
                                          <p:val>
                                            <p:strVal val="1+#ppt_w/2"/>
                                          </p:val>
                                        </p:tav>
                                        <p:tav tm="100000">
                                          <p:val>
                                            <p:strVal val="#ppt_x"/>
                                          </p:val>
                                        </p:tav>
                                      </p:tavLst>
                                    </p:anim>
                                    <p:anim calcmode="lin" valueType="num">
                                      <p:cBhvr additive="base">
                                        <p:cTn id="291" dur="500" fill="hold"/>
                                        <p:tgtEl>
                                          <p:spTgt spid="203"/>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2" presetSubtype="4">
                                  <p:stCondLst>
                                    <p:cond delay="0"/>
                                  </p:stCondLst>
                                  <p:childTnLst>
                                    <p:set>
                                      <p:cBhvr>
                                        <p:cTn id="294" dur="1" fill="hold">
                                          <p:stCondLst>
                                            <p:cond delay="0"/>
                                          </p:stCondLst>
                                        </p:cTn>
                                        <p:tgtEl>
                                          <p:spTgt spid="204"/>
                                        </p:tgtEl>
                                        <p:attrNameLst>
                                          <p:attrName>style.visibility</p:attrName>
                                        </p:attrNameLst>
                                      </p:cBhvr>
                                      <p:to>
                                        <p:strVal val="visible"/>
                                      </p:to>
                                    </p:set>
                                    <p:anim calcmode="lin" valueType="num">
                                      <p:cBhvr additive="base">
                                        <p:cTn id="295" dur="500" fill="hold"/>
                                        <p:tgtEl>
                                          <p:spTgt spid="204"/>
                                        </p:tgtEl>
                                        <p:attrNameLst>
                                          <p:attrName>ppt_x</p:attrName>
                                        </p:attrNameLst>
                                      </p:cBhvr>
                                      <p:tavLst>
                                        <p:tav tm="0">
                                          <p:val>
                                            <p:strVal val="#ppt_x"/>
                                          </p:val>
                                        </p:tav>
                                        <p:tav tm="100000">
                                          <p:val>
                                            <p:strVal val="#ppt_x"/>
                                          </p:val>
                                        </p:tav>
                                      </p:tavLst>
                                    </p:anim>
                                    <p:anim calcmode="lin" valueType="num">
                                      <p:cBhvr additive="base">
                                        <p:cTn id="296" dur="500" fill="hold"/>
                                        <p:tgtEl>
                                          <p:spTgt spid="204"/>
                                        </p:tgtEl>
                                        <p:attrNameLst>
                                          <p:attrName>ppt_y</p:attrName>
                                        </p:attrNameLst>
                                      </p:cBhvr>
                                      <p:tavLst>
                                        <p:tav tm="0">
                                          <p:val>
                                            <p:strVal val="1+#ppt_h/2"/>
                                          </p:val>
                                        </p:tav>
                                        <p:tav tm="100000">
                                          <p:val>
                                            <p:strVal val="#ppt_y"/>
                                          </p:val>
                                        </p:tav>
                                      </p:tavLst>
                                    </p:anim>
                                  </p:childTnLst>
                                </p:cTn>
                              </p:par>
                            </p:childTnLst>
                          </p:cTn>
                        </p:par>
                        <p:par>
                          <p:cTn id="297" fill="hold">
                            <p:stCondLst>
                              <p:cond delay="1000"/>
                            </p:stCondLst>
                            <p:childTnLst>
                              <p:par>
                                <p:cTn id="298" nodeType="afterEffect" fill="hold" presetClass="entr" presetID="1">
                                  <p:stCondLst>
                                    <p:cond delay="0"/>
                                  </p:stCondLst>
                                  <p:childTnLst>
                                    <p:set>
                                      <p:cBhvr>
                                        <p:cTn id="299" dur="1" fill="hold">
                                          <p:stCondLst>
                                            <p:cond delay="0"/>
                                          </p:stCondLst>
                                        </p:cTn>
                                        <p:tgtEl>
                                          <p:spTgt spid="20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9">
                                  <p:stCondLst>
                                    <p:cond delay="0"/>
                                  </p:stCondLst>
                                  <p:childTnLst>
                                    <p:set>
                                      <p:cBhvr>
                                        <p:cTn id="303" dur="1" fill="hold">
                                          <p:stCondLst>
                                            <p:cond delay="0"/>
                                          </p:stCondLst>
                                        </p:cTn>
                                        <p:tgtEl>
                                          <p:spTgt spid="206"/>
                                        </p:tgtEl>
                                        <p:attrNameLst>
                                          <p:attrName>style.visibility</p:attrName>
                                        </p:attrNameLst>
                                      </p:cBhvr>
                                      <p:to>
                                        <p:strVal val="visible"/>
                                      </p:to>
                                    </p:set>
                                    <p:anim calcmode="lin" valueType="num">
                                      <p:cBhvr additive="repl">
                                        <p:cTn id="304" dur="500" fill="hold"/>
                                        <p:tgtEl>
                                          <p:spTgt spid="206"/>
                                        </p:tgtEl>
                                        <p:attrNameLst>
                                          <p:attrName>ppt_w</p:attrName>
                                        </p:attrNameLst>
                                      </p:cBhvr>
                                      <p:tavLst>
                                        <p:tav tm="0">
                                          <p:val>
                                            <p:fltVal val="0"/>
                                          </p:val>
                                        </p:tav>
                                        <p:tav tm="100000">
                                          <p:val>
                                            <p:strVal val="#ppt_w"/>
                                          </p:val>
                                        </p:tav>
                                      </p:tavLst>
                                    </p:anim>
                                    <p:anim calcmode="lin" valueType="num">
                                      <p:cBhvr additive="repl">
                                        <p:cTn id="305" dur="500" fill="hold"/>
                                        <p:tgtEl>
                                          <p:spTgt spid="206"/>
                                        </p:tgtEl>
                                        <p:attrNameLst>
                                          <p:attrName>ppt_h</p:attrName>
                                        </p:attrNameLst>
                                      </p:cBhvr>
                                      <p:tavLst>
                                        <p:tav tm="0">
                                          <p:val>
                                            <p:fltVal val="0"/>
                                          </p:val>
                                        </p:tav>
                                        <p:tav tm="100000">
                                          <p:val>
                                            <p:strVal val="#ppt_h"/>
                                          </p:val>
                                        </p:tav>
                                      </p:tavLst>
                                    </p:anim>
                                    <p:anim calcmode="lin" valueType="num">
                                      <p:cBhvr additive="repl">
                                        <p:cTn id="306" dur="500" fill="hold"/>
                                        <p:tgtEl>
                                          <p:spTgt spid="206"/>
                                        </p:tgtEl>
                                        <p:attrNameLst>
                                          <p:attrName>r</p:attrName>
                                        </p:attrNameLst>
                                      </p:cBhvr>
                                      <p:tavLst>
                                        <p:tav tm="0">
                                          <p:val>
                                            <p:strVal val="360"/>
                                          </p:val>
                                        </p:tav>
                                        <p:tav tm="100000">
                                          <p:val>
                                            <p:strVal val="0"/>
                                          </p:val>
                                        </p:tav>
                                      </p:tavLst>
                                    </p:anim>
                                    <p:animEffect filter="fade" transition="in">
                                      <p:cBhvr additive="repl">
                                        <p:cTn id="307" dur="500"/>
                                        <p:tgtEl>
                                          <p:spTgt spid="206"/>
                                        </p:tgtEl>
                                      </p:cBhvr>
                                    </p:animEffect>
                                  </p:childTnLst>
                                </p:cTn>
                              </p:par>
                            </p:childTnLst>
                          </p:cTn>
                        </p:par>
                        <p:par>
                          <p:cTn id="308" fill="hold">
                            <p:stCondLst>
                              <p:cond delay="500"/>
                            </p:stCondLst>
                            <p:childTnLst>
                              <p:par>
                                <p:cTn id="309" nodeType="afterEffect" fill="hold" presetClass="entr" presetID="17" presetSubtype="10">
                                  <p:stCondLst>
                                    <p:cond delay="0"/>
                                  </p:stCondLst>
                                  <p:childTnLst>
                                    <p:set>
                                      <p:cBhvr>
                                        <p:cTn id="310" dur="1" fill="hold">
                                          <p:stCondLst>
                                            <p:cond delay="0"/>
                                          </p:stCondLst>
                                        </p:cTn>
                                        <p:tgtEl>
                                          <p:spTgt spid="207"/>
                                        </p:tgtEl>
                                        <p:attrNameLst>
                                          <p:attrName>style.visibility</p:attrName>
                                        </p:attrNameLst>
                                      </p:cBhvr>
                                      <p:to>
                                        <p:strVal val="visible"/>
                                      </p:to>
                                    </p:set>
                                    <p:anim calcmode="lin" valueType="num">
                                      <p:cBhvr additive="repl">
                                        <p:cTn id="311" dur="500" fill="hold"/>
                                        <p:tgtEl>
                                          <p:spTgt spid="207"/>
                                        </p:tgtEl>
                                        <p:attrNameLst>
                                          <p:attrName>ppt_w</p:attrName>
                                        </p:attrNameLst>
                                      </p:cBhvr>
                                      <p:tavLst>
                                        <p:tav tm="0">
                                          <p:val>
                                            <p:fltVal val="0"/>
                                          </p:val>
                                        </p:tav>
                                        <p:tav tm="100000">
                                          <p:val>
                                            <p:strVal val="#ppt_w"/>
                                          </p:val>
                                        </p:tav>
                                      </p:tavLst>
                                    </p:anim>
                                    <p:anim calcmode="lin" valueType="num">
                                      <p:cBhvr additive="repl">
                                        <p:cTn id="312"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42">
                                  <p:stCondLst>
                                    <p:cond delay="0"/>
                                  </p:stCondLst>
                                  <p:childTnLst>
                                    <p:set>
                                      <p:cBhvr>
                                        <p:cTn id="316" dur="1" fill="hold">
                                          <p:stCondLst>
                                            <p:cond delay="0"/>
                                          </p:stCondLst>
                                        </p:cTn>
                                        <p:tgtEl>
                                          <p:spTgt spid="208"/>
                                        </p:tgtEl>
                                        <p:attrNameLst>
                                          <p:attrName>style.visibility</p:attrName>
                                        </p:attrNameLst>
                                      </p:cBhvr>
                                      <p:to>
                                        <p:strVal val="visible"/>
                                      </p:to>
                                    </p:set>
                                    <p:animEffect filter="barn(outHorizontal)" transition="in">
                                      <p:cBhvr additive="repl">
                                        <p:cTn id="3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395280" y="40464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3f41"/>
                </a:solidFill>
                <a:latin typeface="Arial"/>
              </a:rPr>
              <a:t>3</a:t>
            </a:r>
            <a:r>
              <a:rPr b="1" lang="zh-CN" sz="3200" spc="-1" strike="noStrike">
                <a:solidFill>
                  <a:srgbClr val="3d3f41"/>
                </a:solidFill>
                <a:latin typeface="Arial"/>
              </a:rPr>
              <a:t>、林则徐虎门销烟</a:t>
            </a:r>
            <a:endParaRPr b="0" lang="en-US" sz="3200" spc="-1" strike="noStrike">
              <a:solidFill>
                <a:srgbClr val="000000"/>
              </a:solidFill>
              <a:latin typeface="Arial"/>
            </a:endParaRPr>
          </a:p>
        </p:txBody>
      </p:sp>
      <p:pic>
        <p:nvPicPr>
          <p:cNvPr id="210" name="" descr="">
            <a:hlinkClick r:id="" action="ppaction://media"/>
          </p:cNvPr>
          <p:cNvPicPr/>
          <p:nvPr>
            <a:audioFile r:link="rId2"/>
            <p:extLst>
              <p:ext uri="{DAA4B4D4-6D71-4841-9C94-3DE7FCFB9230}">
                <p14:media r:link="rId3"/>
              </p:ext>
            </p:extLst>
          </p:nvPr>
        </p:nvPicPr>
        <p:blipFill>
          <a:blip r:embed="rId4"/>
          <a:stretch>
            <a:fillRect/>
          </a:stretch>
        </p:blipFill>
        <p:spPr>
          <a:xfrm>
            <a:off x="179280" y="1557360"/>
            <a:ext cx="5256360" cy="4298760"/>
          </a:xfrm>
          <a:prstGeom prst="rect">
            <a:avLst/>
          </a:prstGeom>
          <a:ln w="0">
            <a:noFill/>
          </a:ln>
        </p:spPr>
      </p:pic>
      <p:pic>
        <p:nvPicPr>
          <p:cNvPr id="211" name="" descr=""/>
          <p:cNvPicPr/>
          <p:nvPr/>
        </p:nvPicPr>
        <p:blipFill>
          <a:blip r:embed="rId5"/>
          <a:stretch/>
        </p:blipFill>
        <p:spPr>
          <a:xfrm rot="2377800">
            <a:off x="7740720" y="3645000"/>
            <a:ext cx="787320" cy="1366560"/>
          </a:xfrm>
          <a:prstGeom prst="rect">
            <a:avLst/>
          </a:prstGeom>
          <a:ln w="0">
            <a:noFill/>
          </a:ln>
        </p:spPr>
      </p:pic>
      <p:sp>
        <p:nvSpPr>
          <p:cNvPr id="212" name=""/>
          <p:cNvSpPr/>
          <p:nvPr/>
        </p:nvSpPr>
        <p:spPr>
          <a:xfrm>
            <a:off x="5724360" y="1916280"/>
            <a:ext cx="3241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Arial"/>
              </a:rPr>
              <a:t>林则徐采取了哪些禁烟措施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Arial"/>
              </a:rPr>
              <a:t>这些措施有何作用？</a:t>
            </a:r>
            <a:endParaRPr b="0" lang="en-US" sz="2800" spc="-1" strike="noStrike">
              <a:solidFill>
                <a:srgbClr val="000000"/>
              </a:solidFill>
              <a:latin typeface="Arial"/>
            </a:endParaRPr>
          </a:p>
        </p:txBody>
      </p:sp>
      <p:sp>
        <p:nvSpPr>
          <p:cNvPr id="213" name=""/>
          <p:cNvSpPr txBox="1"/>
          <p:nvPr/>
        </p:nvSpPr>
        <p:spPr>
          <a:xfrm>
            <a:off x="6227640" y="476280"/>
            <a:ext cx="2089440" cy="72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ffff00"/>
                </a:solidFill>
                <a:latin typeface="华文新魏"/>
              </a:rPr>
              <a:t>看影片</a:t>
            </a:r>
            <a:endParaRPr b="1" lang="en-US" sz="4000" spc="-1" strike="noStrike">
              <a:ln w="9360">
                <a:solidFill>
                  <a:srgbClr val="000000"/>
                </a:solidFill>
                <a:miter/>
              </a:ln>
              <a:solidFill>
                <a:srgbClr val="ffff00"/>
              </a:solidFill>
              <a:latin typeface="华文新魏"/>
              <a:ea typeface="华文新魏"/>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37">
                                  <p:stCondLst>
                                    <p:cond delay="0"/>
                                  </p:stCondLst>
                                  <p:childTnLst>
                                    <p:set>
                                      <p:cBhvr>
                                        <p:cTn id="323" dur="1" fill="hold">
                                          <p:stCondLst>
                                            <p:cond delay="0"/>
                                          </p:stCondLst>
                                        </p:cTn>
                                        <p:tgtEl>
                                          <p:spTgt spid="209"/>
                                        </p:tgtEl>
                                        <p:attrNameLst>
                                          <p:attrName>style.visibility</p:attrName>
                                        </p:attrNameLst>
                                      </p:cBhvr>
                                      <p:to>
                                        <p:strVal val="visible"/>
                                      </p:to>
                                    </p:set>
                                    <p:animEffect filter="barn(outVertical)" transition="in">
                                      <p:cBhvr additive="repl">
                                        <p:cTn id="324" dur="500"/>
                                        <p:tgtEl>
                                          <p:spTgt spid="2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7" presetSubtype="4">
                                  <p:stCondLst>
                                    <p:cond delay="0"/>
                                  </p:stCondLst>
                                  <p:childTnLst>
                                    <p:set>
                                      <p:cBhvr>
                                        <p:cTn id="328" dur="1" fill="hold">
                                          <p:stCondLst>
                                            <p:cond delay="0"/>
                                          </p:stCondLst>
                                        </p:cTn>
                                        <p:tgtEl>
                                          <p:spTgt spid="211"/>
                                        </p:tgtEl>
                                        <p:attrNameLst>
                                          <p:attrName>style.visibility</p:attrName>
                                        </p:attrNameLst>
                                      </p:cBhvr>
                                      <p:to>
                                        <p:strVal val="visible"/>
                                      </p:to>
                                    </p:set>
                                    <p:anim calcmode="lin" valueType="num">
                                      <p:cBhvr additive="repl">
                                        <p:cTn id="329" dur="500" fill="hold"/>
                                        <p:tgtEl>
                                          <p:spTgt spid="211"/>
                                        </p:tgtEl>
                                        <p:attrNameLst>
                                          <p:attrName>ppt_x</p:attrName>
                                        </p:attrNameLst>
                                      </p:cBhvr>
                                      <p:tavLst>
                                        <p:tav tm="0">
                                          <p:val>
                                            <p:strVal val="#ppt_x"/>
                                          </p:val>
                                        </p:tav>
                                        <p:tav tm="100000">
                                          <p:val>
                                            <p:strVal val="#ppt_x"/>
                                          </p:val>
                                        </p:tav>
                                      </p:tavLst>
                                    </p:anim>
                                    <p:anim calcmode="lin" valueType="num">
                                      <p:cBhvr additive="repl">
                                        <p:cTn id="330" dur="500" fill="hold"/>
                                        <p:tgtEl>
                                          <p:spTgt spid="211"/>
                                        </p:tgtEl>
                                        <p:attrNameLst>
                                          <p:attrName>ppt_y</p:attrName>
                                        </p:attrNameLst>
                                      </p:cBhvr>
                                      <p:tavLst>
                                        <p:tav tm="0">
                                          <p:val>
                                            <p:strVal val="#ppt_y+#ppt_h/2"/>
                                          </p:val>
                                        </p:tav>
                                        <p:tav tm="100000">
                                          <p:val>
                                            <p:strVal val="#ppt_y"/>
                                          </p:val>
                                        </p:tav>
                                      </p:tavLst>
                                    </p:anim>
                                    <p:anim calcmode="lin" valueType="num">
                                      <p:cBhvr additive="repl">
                                        <p:cTn id="331" dur="500" fill="hold"/>
                                        <p:tgtEl>
                                          <p:spTgt spid="211"/>
                                        </p:tgtEl>
                                        <p:attrNameLst>
                                          <p:attrName>ppt_w</p:attrName>
                                        </p:attrNameLst>
                                      </p:cBhvr>
                                      <p:tavLst>
                                        <p:tav tm="0">
                                          <p:val>
                                            <p:strVal val="#ppt_w"/>
                                          </p:val>
                                        </p:tav>
                                        <p:tav tm="100000">
                                          <p:val>
                                            <p:strVal val="#ppt_w"/>
                                          </p:val>
                                        </p:tav>
                                      </p:tavLst>
                                    </p:anim>
                                    <p:anim calcmode="lin" valueType="num">
                                      <p:cBhvr additive="repl">
                                        <p:cTn id="332" dur="500" fill="hold"/>
                                        <p:tgtEl>
                                          <p:spTgt spid="211"/>
                                        </p:tgtEl>
                                        <p:attrNameLst>
                                          <p:attrName>ppt_h</p:attrName>
                                        </p:attrNameLst>
                                      </p:cBhvr>
                                      <p:tavLst>
                                        <p:tav tm="0">
                                          <p:val>
                                            <p:fltVal val="0"/>
                                          </p:val>
                                        </p:tav>
                                        <p:tav tm="100000">
                                          <p:val>
                                            <p:strVal val="#ppt_h"/>
                                          </p:val>
                                        </p:tav>
                                      </p:tavLst>
                                    </p:anim>
                                  </p:childTnLst>
                                </p:cTn>
                              </p:par>
                            </p:childTnLst>
                          </p:cTn>
                        </p:par>
                        <p:par>
                          <p:cTn id="333" fill="hold">
                            <p:stCondLst>
                              <p:cond delay="500"/>
                            </p:stCondLst>
                            <p:childTnLst>
                              <p:par>
                                <p:cTn id="334" nodeType="afterEffect" fill="hold" presetClass="entr" presetID="12" presetSubtype="8">
                                  <p:stCondLst>
                                    <p:cond delay="0"/>
                                  </p:stCondLst>
                                  <p:childTnLst>
                                    <p:set>
                                      <p:cBhvr>
                                        <p:cTn id="335" dur="1" fill="hold">
                                          <p:stCondLst>
                                            <p:cond delay="0"/>
                                          </p:stCondLst>
                                        </p:cTn>
                                        <p:tgtEl>
                                          <p:spTgt spid="212"/>
                                        </p:tgtEl>
                                        <p:attrNameLst>
                                          <p:attrName>style.visibility</p:attrName>
                                        </p:attrNameLst>
                                      </p:cBhvr>
                                      <p:to>
                                        <p:strVal val="visible"/>
                                      </p:to>
                                    </p:set>
                                    <p:animEffect filter="slide(fromLeft)" transition="in">
                                      <p:cBhvr additive="repl">
                                        <p:cTn id="336" dur="500"/>
                                        <p:tgtEl>
                                          <p:spTgt spid="21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210"/>
                                        </p:tgtEl>
                                        <p:attrNameLst>
                                          <p:attrName>style.visibility</p:attrName>
                                        </p:attrNameLst>
                                      </p:cBhvr>
                                      <p:to>
                                        <p:strVal val="visible"/>
                                      </p:to>
                                    </p:set>
                                    <p:animEffect filter="slide(fromBottom)" transition="in">
                                      <p:cBhvr additive="repl">
                                        <p:cTn id="34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seq>
              <p:cTn id="342" restart="whenNotActive" nodeType="interactiveSeq" fill="hold">
                <p:stCondLst>
                  <p:cond evt="onClick">
                    <p:tgtEl>
                      <p:spTgt spid="210"/>
                    </p:tgtEl>
                  </p:cond>
                </p:stCondLst>
                <p:childTnLst>
                  <p:par>
                    <p:cTn id="343" fill="hold">
                      <p:stCondLst>
                        <p:cond evt="onClick">
                          <p:tgtEl>
                            <p:spTgt spid="210"/>
                          </p:tgtEl>
                        </p:cond>
                      </p:stCondLst>
                      <p:childTnLst>
                        <p:par>
                          <p:cTn id="344" fill="hold">
                            <p:stCondLst>
                              <p:cond delay="0"/>
                            </p:stCondLst>
                            <p:childTnLst>
                              <p:par>
                                <p:cTn id="345" nodeType="clickEffect" fill="hold" presetClass="mediacall" presetID="2">
                                  <p:stCondLst>
                                    <p:cond delay="0"/>
                                  </p:stCondLst>
                                  <p:childTnLst>
                                    <p:cmd type="call" cmd="togglePause">
                                      <p:cBhvr>
                                        <p:cTn id="346"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79280" y="888840"/>
            <a:ext cx="1368360" cy="520560"/>
          </a:xfrm>
          <a:prstGeom prst="rect">
            <a:avLst/>
          </a:prstGeom>
          <a:blipFill rotWithShape="0">
            <a:blip r:embed="rId1">
              <a:alphaModFix amt="18000"/>
            </a:blip>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方正姚体"/>
              </a:rPr>
              <a:t>读一读</a:t>
            </a:r>
            <a:endParaRPr b="0" lang="en-US" sz="2800" spc="-1" strike="noStrike">
              <a:solidFill>
                <a:srgbClr val="000000"/>
              </a:solidFill>
              <a:latin typeface="Arial"/>
            </a:endParaRPr>
          </a:p>
        </p:txBody>
      </p:sp>
      <p:sp>
        <p:nvSpPr>
          <p:cNvPr id="215" name=""/>
          <p:cNvSpPr/>
          <p:nvPr/>
        </p:nvSpPr>
        <p:spPr>
          <a:xfrm>
            <a:off x="108000" y="1557360"/>
            <a:ext cx="6048360" cy="2665440"/>
          </a:xfrm>
          <a:prstGeom prst="horizontalScroll">
            <a:avLst>
              <a:gd name="adj" fmla="val 7027"/>
            </a:avLst>
          </a:prstGeom>
          <a:solidFill>
            <a:srgbClr val="ffff99">
              <a:alpha val="96000"/>
            </a:srgbClr>
          </a:solidFill>
          <a:ln w="15840">
            <a:solidFill>
              <a:srgbClr val="ff9933"/>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华文中宋"/>
              </a:rPr>
              <a:t>       “</a:t>
            </a:r>
            <a:r>
              <a:rPr b="1" lang="zh-CN" sz="2400" spc="-1" strike="noStrike">
                <a:solidFill>
                  <a:srgbClr val="000066"/>
                </a:solidFill>
                <a:latin typeface="Arial"/>
                <a:ea typeface="华文中宋"/>
              </a:rPr>
              <a:t>（鸦片）流毒于天下，则为害甚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中宋"/>
              </a:rPr>
              <a:t>法当从严。若犹泄泄视之，是使数十年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中宋"/>
              </a:rPr>
              <a:t>中原</a:t>
            </a:r>
            <a:r>
              <a:rPr b="1" lang="zh-CN" sz="2400" spc="-1" strike="noStrike">
                <a:solidFill>
                  <a:srgbClr val="c4ab40"/>
                </a:solidFill>
                <a:latin typeface="Arial"/>
                <a:ea typeface="华文中宋"/>
              </a:rPr>
              <a:t>几无可以御敌之兵</a:t>
            </a:r>
            <a:r>
              <a:rPr b="1" lang="zh-CN" sz="2400" spc="-1" strike="noStrike">
                <a:solidFill>
                  <a:srgbClr val="000066"/>
                </a:solidFill>
                <a:latin typeface="Arial"/>
                <a:ea typeface="华文中宋"/>
              </a:rPr>
              <a:t>，</a:t>
            </a:r>
            <a:r>
              <a:rPr b="1" lang="zh-CN" sz="2400" spc="-1" strike="noStrike">
                <a:solidFill>
                  <a:srgbClr val="c4ab40"/>
                </a:solidFill>
                <a:latin typeface="Arial"/>
                <a:ea typeface="华文中宋"/>
              </a:rPr>
              <a:t>且无可以充饷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ab40"/>
                </a:solidFill>
                <a:latin typeface="Arial"/>
                <a:ea typeface="华文中宋"/>
              </a:rPr>
              <a:t>银</a:t>
            </a:r>
            <a:r>
              <a:rPr b="1" lang="zh-CN" sz="2400" spc="-1" strike="noStrike">
                <a:solidFill>
                  <a:srgbClr val="000066"/>
                </a:solidFill>
                <a:latin typeface="Arial"/>
                <a:ea typeface="华文中宋"/>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Arial"/>
              </a:rPr>
              <a:t>                                 </a:t>
            </a:r>
            <a:r>
              <a:rPr b="0" lang="en-US" sz="2000" spc="-1" strike="noStrike">
                <a:solidFill>
                  <a:srgbClr val="3d3f41"/>
                </a:solidFill>
                <a:latin typeface="Arial"/>
                <a:ea typeface="华文隶书"/>
              </a:rPr>
              <a:t>——</a:t>
            </a:r>
            <a:r>
              <a:rPr b="0" lang="zh-CN" sz="2000" spc="-1" strike="noStrike">
                <a:solidFill>
                  <a:srgbClr val="3d3f41"/>
                </a:solidFill>
                <a:latin typeface="Arial"/>
                <a:ea typeface="华文隶书"/>
              </a:rPr>
              <a:t>林则徐上道光帝奏折节选</a:t>
            </a:r>
            <a:endParaRPr b="0" lang="en-US" sz="2000" spc="-1" strike="noStrike">
              <a:solidFill>
                <a:srgbClr val="000000"/>
              </a:solidFill>
              <a:latin typeface="Arial"/>
            </a:endParaRPr>
          </a:p>
        </p:txBody>
      </p:sp>
      <p:grpSp>
        <p:nvGrpSpPr>
          <p:cNvPr id="216" name=""/>
          <p:cNvGrpSpPr/>
          <p:nvPr/>
        </p:nvGrpSpPr>
        <p:grpSpPr>
          <a:xfrm>
            <a:off x="3492360" y="44280"/>
            <a:ext cx="1944720" cy="685800"/>
            <a:chOff x="3492360" y="44280"/>
            <a:chExt cx="1944720" cy="685800"/>
          </a:xfrm>
        </p:grpSpPr>
        <p:sp>
          <p:nvSpPr>
            <p:cNvPr id="217" name=""/>
            <p:cNvSpPr/>
            <p:nvPr/>
          </p:nvSpPr>
          <p:spPr>
            <a:xfrm>
              <a:off x="3492360" y="44280"/>
              <a:ext cx="1944720" cy="68580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b0b05"/>
                  </a:solidFill>
                  <a:latin typeface="Arial"/>
                  <a:ea typeface="华文新魏"/>
                </a:rPr>
                <a:t> </a:t>
              </a:r>
              <a:endParaRPr b="0" lang="en-US" sz="4800" spc="-1" strike="noStrike">
                <a:solidFill>
                  <a:srgbClr val="000000"/>
                </a:solidFill>
                <a:latin typeface="Arial"/>
              </a:endParaRPr>
            </a:p>
          </p:txBody>
        </p:sp>
        <p:sp>
          <p:nvSpPr>
            <p:cNvPr id="218" name=""/>
            <p:cNvSpPr txBox="1"/>
            <p:nvPr/>
          </p:nvSpPr>
          <p:spPr>
            <a:xfrm>
              <a:off x="3708360" y="117360"/>
              <a:ext cx="1514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blipFill rotWithShape="0">
                    <a:blip r:embed="rId2"/>
                    <a:srcRect/>
                    <a:tile tx="0" ty="0" sx="100000" sy="100000" algn="ctr"/>
                  </a:blipFill>
                  <a:latin typeface="华文行楷"/>
                </a:rPr>
                <a:t>禁毒馆</a:t>
              </a:r>
              <a:endParaRPr b="0" lang="en-US" sz="4000" spc="-1" strike="noStrike">
                <a:ln w="9360">
                  <a:solidFill>
                    <a:srgbClr val="000000"/>
                  </a:solidFill>
                  <a:miter/>
                </a:ln>
                <a:blipFill rotWithShape="0">
                  <a:blip r:embed="rId3"/>
                  <a:srcRect/>
                  <a:tile tx="0" ty="0" sx="100000" sy="100000" algn="ctr"/>
                </a:blipFill>
                <a:latin typeface="华文行楷"/>
                <a:ea typeface="华文行楷"/>
              </a:endParaRPr>
            </a:p>
          </p:txBody>
        </p:sp>
      </p:grpSp>
      <p:sp>
        <p:nvSpPr>
          <p:cNvPr id="219" name=""/>
          <p:cNvSpPr/>
          <p:nvPr/>
        </p:nvSpPr>
        <p:spPr>
          <a:xfrm>
            <a:off x="1547640" y="4835520"/>
            <a:ext cx="4609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u="sng">
                <a:solidFill>
                  <a:srgbClr val="c4ab40"/>
                </a:solidFill>
                <a:uFillTx/>
                <a:latin typeface="Verdana"/>
                <a:ea typeface="华文行楷"/>
              </a:rPr>
              <a:t>鸦片走私给中国带来了哪些危害？</a:t>
            </a:r>
            <a:r>
              <a:rPr b="0" lang="en-US" sz="2000" spc="-1" strike="noStrike" u="sng">
                <a:solidFill>
                  <a:srgbClr val="c4ab40"/>
                </a:solidFill>
                <a:uFillTx/>
                <a:latin typeface="Verdana"/>
                <a:ea typeface="华文行楷"/>
              </a:rPr>
              <a:t>(dy)</a:t>
            </a:r>
            <a:endParaRPr b="0" lang="en-US" sz="2000" spc="-1" strike="noStrike">
              <a:solidFill>
                <a:srgbClr val="000000"/>
              </a:solidFill>
              <a:latin typeface="Arial"/>
            </a:endParaRPr>
          </a:p>
        </p:txBody>
      </p:sp>
      <p:pic>
        <p:nvPicPr>
          <p:cNvPr id="220" name="" descr=""/>
          <p:cNvPicPr/>
          <p:nvPr/>
        </p:nvPicPr>
        <p:blipFill>
          <a:blip r:embed="rId4"/>
          <a:stretch/>
        </p:blipFill>
        <p:spPr>
          <a:xfrm>
            <a:off x="6264360" y="620640"/>
            <a:ext cx="2771640" cy="4176720"/>
          </a:xfrm>
          <a:prstGeom prst="rect">
            <a:avLst/>
          </a:prstGeom>
          <a:ln w="38160">
            <a:solidFill>
              <a:srgbClr val="996633"/>
            </a:solidFill>
            <a:miter/>
          </a:ln>
          <a:effectLst>
            <a:outerShdw dist="28496" dir="17774481" blurRad="0" rotWithShape="0">
              <a:srgbClr val="808080"/>
            </a:outerShdw>
          </a:effectLst>
        </p:spPr>
      </p:pic>
      <p:grpSp>
        <p:nvGrpSpPr>
          <p:cNvPr id="221" name=""/>
          <p:cNvGrpSpPr/>
          <p:nvPr/>
        </p:nvGrpSpPr>
        <p:grpSpPr>
          <a:xfrm>
            <a:off x="826920" y="5661000"/>
            <a:ext cx="7092720" cy="1074240"/>
            <a:chOff x="826920" y="5661000"/>
            <a:chExt cx="7092720" cy="1074240"/>
          </a:xfrm>
        </p:grpSpPr>
        <p:sp>
          <p:nvSpPr>
            <p:cNvPr id="222" name=""/>
            <p:cNvSpPr/>
            <p:nvPr/>
          </p:nvSpPr>
          <p:spPr>
            <a:xfrm>
              <a:off x="826920" y="5661000"/>
              <a:ext cx="372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虎门</a:t>
              </a:r>
              <a:r>
                <a:rPr b="1" lang="zh-CN" sz="3200" spc="-1" strike="noStrike" u="sng">
                  <a:solidFill>
                    <a:srgbClr val="3333ff"/>
                  </a:solidFill>
                  <a:uFillTx/>
                  <a:latin typeface="Arial"/>
                  <a:ea typeface="黑体"/>
                </a:rPr>
                <a:t>销</a:t>
              </a:r>
              <a:r>
                <a:rPr b="1" lang="zh-CN" sz="3200" spc="-1" strike="noStrike">
                  <a:solidFill>
                    <a:srgbClr val="ff3300"/>
                  </a:solidFill>
                  <a:latin typeface="Arial"/>
                  <a:ea typeface="黑体"/>
                </a:rPr>
                <a:t>烟：</a:t>
              </a:r>
              <a:endParaRPr b="0" lang="en-US" sz="3200" spc="-1" strike="noStrike">
                <a:solidFill>
                  <a:srgbClr val="000000"/>
                </a:solidFill>
                <a:latin typeface="Arial"/>
              </a:endParaRPr>
            </a:p>
          </p:txBody>
        </p:sp>
        <p:sp>
          <p:nvSpPr>
            <p:cNvPr id="223" name=""/>
            <p:cNvSpPr/>
            <p:nvPr/>
          </p:nvSpPr>
          <p:spPr>
            <a:xfrm>
              <a:off x="3398760" y="5788080"/>
              <a:ext cx="452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Bernard MT Condensed"/>
                </a:rPr>
                <a:t>1839.6.3——1839.6.25 </a:t>
              </a:r>
              <a:r>
                <a:rPr b="0" lang="en-US" sz="2800" spc="-1" strike="noStrike" u="sng">
                  <a:solidFill>
                    <a:srgbClr val="c4ab40"/>
                  </a:solidFill>
                  <a:uFillTx/>
                  <a:latin typeface="黑体"/>
                  <a:ea typeface="黑体"/>
                </a:rPr>
                <a:t>(dy)</a:t>
              </a:r>
              <a:endParaRPr b="0" lang="en-US" sz="2800" spc="-1" strike="noStrike">
                <a:solidFill>
                  <a:srgbClr val="000000"/>
                </a:solidFill>
                <a:latin typeface="Arial"/>
              </a:endParaRPr>
            </a:p>
          </p:txBody>
        </p:sp>
      </p:grpSp>
      <p:pic>
        <p:nvPicPr>
          <p:cNvPr id="224" name="" descr=""/>
          <p:cNvPicPr/>
          <p:nvPr/>
        </p:nvPicPr>
        <p:blipFill>
          <a:blip r:embed="rId5">
            <a:lum bright="-24000"/>
          </a:blip>
          <a:stretch/>
        </p:blipFill>
        <p:spPr>
          <a:xfrm>
            <a:off x="6084720" y="549360"/>
            <a:ext cx="2953080" cy="4321080"/>
          </a:xfrm>
          <a:prstGeom prst="rect">
            <a:avLst/>
          </a:prstGeom>
          <a:ln w="0">
            <a:noFill/>
          </a:ln>
        </p:spPr>
      </p:pic>
    </p:spTree>
  </p:cSld>
  <p:transition spd="slow">
    <p:randomBar dir="vert"/>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19"/>
                                        </p:tgtEl>
                                        <p:attrNameLst>
                                          <p:attrName>style.visibility</p:attrName>
                                        </p:attrNameLst>
                                      </p:cBhvr>
                                      <p:to>
                                        <p:strVal val="visible"/>
                                      </p:to>
                                    </p:set>
                                    <p:animEffect filter="blinds(horizontal)" transition="in">
                                      <p:cBhvr additive="repl">
                                        <p:cTn id="353" dur="500"/>
                                        <p:tgtEl>
                                          <p:spTgt spid="2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5">
                                  <p:stCondLst>
                                    <p:cond delay="0"/>
                                  </p:stCondLst>
                                  <p:childTnLst>
                                    <p:set>
                                      <p:cBhvr>
                                        <p:cTn id="357" dur="1" fill="hold">
                                          <p:stCondLst>
                                            <p:cond delay="0"/>
                                          </p:stCondLst>
                                        </p:cTn>
                                        <p:tgtEl>
                                          <p:spTgt spid="215"/>
                                        </p:tgtEl>
                                        <p:attrNameLst>
                                          <p:attrName>style.visibility</p:attrName>
                                        </p:attrNameLst>
                                      </p:cBhvr>
                                      <p:to>
                                        <p:strVal val="visible"/>
                                      </p:to>
                                    </p:set>
                                    <p:animEffect filter="blinds(vertical)" transition="in">
                                      <p:cBhvr additive="repl">
                                        <p:cTn id="358" dur="500"/>
                                        <p:tgtEl>
                                          <p:spTgt spid="21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1"/>
                                        </p:tgtEl>
                                        <p:attrNameLst>
                                          <p:attrName>style.visibility</p:attrName>
                                        </p:attrNameLst>
                                      </p:cBhvr>
                                      <p:to>
                                        <p:strVal val="visible"/>
                                      </p:to>
                                    </p:set>
                                    <p:anim calcmode="lin" valueType="num">
                                      <p:cBhvr additive="base">
                                        <p:cTn id="363" dur="500" fill="hold"/>
                                        <p:tgtEl>
                                          <p:spTgt spid="221"/>
                                        </p:tgtEl>
                                        <p:attrNameLst>
                                          <p:attrName>ppt_x</p:attrName>
                                        </p:attrNameLst>
                                      </p:cBhvr>
                                      <p:tavLst>
                                        <p:tav tm="0">
                                          <p:val>
                                            <p:strVal val="#ppt_x"/>
                                          </p:val>
                                        </p:tav>
                                        <p:tav tm="100000">
                                          <p:val>
                                            <p:strVal val="#ppt_x"/>
                                          </p:val>
                                        </p:tav>
                                      </p:tavLst>
                                    </p:anim>
                                    <p:anim calcmode="lin" valueType="num">
                                      <p:cBhvr additive="base">
                                        <p:cTn id="36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19080"/>
            <a:ext cx="8001000" cy="1216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d3f41"/>
                </a:solidFill>
                <a:latin typeface="comic"/>
              </a:rPr>
              <a:t>虎门销烟（人民英雄纪念碑浮雕</a:t>
            </a:r>
            <a:r>
              <a:rPr b="1" lang="zh-CN" sz="3400" spc="-1" strike="noStrike" u="sng">
                <a:solidFill>
                  <a:srgbClr val="ff3300"/>
                </a:solidFill>
                <a:uFillTx/>
                <a:latin typeface="comic"/>
              </a:rPr>
              <a:t>第一幅</a:t>
            </a:r>
            <a:r>
              <a:rPr b="1" lang="zh-CN" sz="3400" spc="-1" strike="noStrike">
                <a:solidFill>
                  <a:srgbClr val="3d3f41"/>
                </a:solidFill>
                <a:latin typeface="comic"/>
              </a:rPr>
              <a:t>）</a:t>
            </a:r>
            <a:endParaRPr b="1" lang="en-US" sz="3400" spc="-1" strike="noStrike">
              <a:solidFill>
                <a:srgbClr val="60524b"/>
              </a:solidFill>
              <a:latin typeface="comic"/>
            </a:endParaRPr>
          </a:p>
        </p:txBody>
      </p:sp>
      <p:pic>
        <p:nvPicPr>
          <p:cNvPr id="226" name="" descr=""/>
          <p:cNvPicPr/>
          <p:nvPr/>
        </p:nvPicPr>
        <p:blipFill>
          <a:blip r:embed="rId1"/>
          <a:srcRect l="2498" t="17165" r="3337" b="39205"/>
          <a:stretch/>
        </p:blipFill>
        <p:spPr>
          <a:xfrm>
            <a:off x="216000" y="2013120"/>
            <a:ext cx="8532720" cy="3287520"/>
          </a:xfrm>
          <a:prstGeom prst="rect">
            <a:avLst/>
          </a:prstGeom>
          <a:ln w="38160">
            <a:solidFill>
              <a:srgbClr val="990000"/>
            </a:solidFill>
            <a:miter/>
          </a:ln>
        </p:spPr>
      </p:pic>
      <p:sp>
        <p:nvSpPr>
          <p:cNvPr id="227" name=""/>
          <p:cNvSpPr/>
          <p:nvPr/>
        </p:nvSpPr>
        <p:spPr>
          <a:xfrm>
            <a:off x="1332000" y="5661000"/>
            <a:ext cx="669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林则徐是当之无愧的</a:t>
            </a:r>
            <a:r>
              <a:rPr b="1" lang="zh-CN" sz="4400" spc="-1" strike="noStrike">
                <a:solidFill>
                  <a:srgbClr val="ff3300"/>
                </a:solidFill>
                <a:latin typeface="黑体"/>
                <a:ea typeface="黑体"/>
              </a:rPr>
              <a:t>民族英雄</a:t>
            </a:r>
            <a:endParaRPr b="0" lang="en-US" sz="4400" spc="-1" strike="noStrike">
              <a:solidFill>
                <a:srgbClr val="000000"/>
              </a:solidFill>
              <a:latin typeface="Arial"/>
            </a:endParaRPr>
          </a:p>
        </p:txBody>
      </p:sp>
      <p:graphicFrame>
        <p:nvGraphicFramePr>
          <p:cNvPr id="228" name=""/>
          <p:cNvGraphicFramePr/>
          <p:nvPr/>
        </p:nvGraphicFramePr>
        <p:xfrm>
          <a:off x="611280" y="1557360"/>
          <a:ext cx="8001000" cy="3960720"/>
        </p:xfrm>
        <a:graphic>
          <a:graphicData uri="http://schemas.openxmlformats.org/drawingml/2006/table">
            <a:tbl>
              <a:tblPr/>
              <a:tblGrid>
                <a:gridCol w="2784600"/>
                <a:gridCol w="5216400"/>
              </a:tblGrid>
              <a:tr h="87156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时    间</a:t>
                      </a:r>
                      <a:endParaRPr b="0" lang="en-US" sz="1800" spc="-1" strike="noStrike">
                        <a:solidFill>
                          <a:srgbClr val="000000"/>
                        </a:solidFill>
                        <a:latin typeface="Arial"/>
                      </a:endParaRPr>
                    </a:p>
                  </a:txBody>
                  <a:tcPr anchor="t" marL="90000" marR="90000">
                    <a:lnL w="13680">
                      <a:solidFill>
                        <a:srgbClr val="3d3f41"/>
                      </a:solidFill>
                    </a:lnL>
                    <a:lnR w="5760">
                      <a:solidFill>
                        <a:srgbClr val="3d3f41"/>
                      </a:solidFill>
                    </a:lnR>
                    <a:lnT w="13680">
                      <a:solidFill>
                        <a:srgbClr val="3d3f41"/>
                      </a:solidFill>
                    </a:lnT>
                    <a:lnB w="5760">
                      <a:solidFill>
                        <a:srgbClr val="3d3f41"/>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黑体"/>
                          <a:ea typeface="黑体"/>
                        </a:rPr>
                        <a:t>1839</a:t>
                      </a:r>
                      <a:r>
                        <a:rPr b="1" lang="zh-CN" sz="1800" spc="-1" strike="noStrike">
                          <a:solidFill>
                            <a:srgbClr val="0000ff"/>
                          </a:solidFill>
                          <a:latin typeface="黑体"/>
                          <a:ea typeface="黑体"/>
                        </a:rPr>
                        <a:t>年</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月</a:t>
                      </a:r>
                      <a:r>
                        <a:rPr b="1" lang="en-US" sz="1800" spc="-1" strike="noStrike">
                          <a:solidFill>
                            <a:srgbClr val="0000ff"/>
                          </a:solidFill>
                          <a:latin typeface="黑体"/>
                          <a:ea typeface="黑体"/>
                        </a:rPr>
                        <a:t>3</a:t>
                      </a:r>
                      <a:r>
                        <a:rPr b="1" lang="zh-CN" sz="1800" spc="-1" strike="noStrike">
                          <a:solidFill>
                            <a:srgbClr val="0000ff"/>
                          </a:solidFill>
                          <a:latin typeface="黑体"/>
                          <a:ea typeface="黑体"/>
                        </a:rPr>
                        <a:t>日</a:t>
                      </a:r>
                      <a:endParaRPr b="0" lang="en-US" sz="1800" spc="-1" strike="noStrike">
                        <a:solidFill>
                          <a:srgbClr val="000000"/>
                        </a:solidFill>
                        <a:latin typeface="Arial"/>
                      </a:endParaRPr>
                    </a:p>
                  </a:txBody>
                  <a:tcPr anchor="t" marL="90000" marR="90000">
                    <a:lnL w="5760">
                      <a:solidFill>
                        <a:srgbClr val="3d3f41"/>
                      </a:solidFill>
                    </a:lnL>
                    <a:lnR w="13680">
                      <a:solidFill>
                        <a:srgbClr val="3d3f41"/>
                      </a:solidFill>
                    </a:lnR>
                    <a:lnT w="13680">
                      <a:solidFill>
                        <a:srgbClr val="3d3f41"/>
                      </a:solidFill>
                    </a:lnT>
                    <a:lnB w="5760">
                      <a:solidFill>
                        <a:srgbClr val="3d3f41"/>
                      </a:solidFill>
                    </a:lnB>
                    <a:noFill/>
                  </a:tcPr>
                </a:tc>
              </a:tr>
              <a:tr h="73512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地    点</a:t>
                      </a:r>
                      <a:endParaRPr b="0" lang="en-US" sz="1800" spc="-1" strike="noStrike">
                        <a:solidFill>
                          <a:srgbClr val="000000"/>
                        </a:solidFill>
                        <a:latin typeface="Arial"/>
                      </a:endParaRPr>
                    </a:p>
                  </a:txBody>
                  <a:tcPr anchor="t" marL="90000" marR="90000">
                    <a:lnL w="13680">
                      <a:solidFill>
                        <a:srgbClr val="3d3f41"/>
                      </a:solidFill>
                    </a:lnL>
                    <a:lnR w="5760">
                      <a:solidFill>
                        <a:srgbClr val="3d3f41"/>
                      </a:solidFill>
                    </a:lnR>
                    <a:lnT w="5760">
                      <a:solidFill>
                        <a:srgbClr val="3d3f41"/>
                      </a:solidFill>
                    </a:lnT>
                    <a:lnB w="5760">
                      <a:solidFill>
                        <a:srgbClr val="3d3f41"/>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广州虎门</a:t>
                      </a:r>
                      <a:endParaRPr b="0" lang="en-US" sz="1800" spc="-1" strike="noStrike">
                        <a:solidFill>
                          <a:srgbClr val="000000"/>
                        </a:solidFill>
                        <a:latin typeface="Arial"/>
                      </a:endParaRPr>
                    </a:p>
                  </a:txBody>
                  <a:tcPr anchor="t" marL="90000" marR="90000">
                    <a:lnL w="5760">
                      <a:solidFill>
                        <a:srgbClr val="3d3f41"/>
                      </a:solidFill>
                    </a:lnL>
                    <a:lnR w="13680">
                      <a:solidFill>
                        <a:srgbClr val="3d3f41"/>
                      </a:solidFill>
                    </a:lnR>
                    <a:lnT w="5760">
                      <a:solidFill>
                        <a:srgbClr val="3d3f41"/>
                      </a:solidFill>
                    </a:lnT>
                    <a:lnB w="5760">
                      <a:solidFill>
                        <a:srgbClr val="3d3f41"/>
                      </a:solidFill>
                    </a:lnB>
                    <a:noFill/>
                  </a:tcPr>
                </a:tc>
              </a:tr>
              <a:tr h="73476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人    物</a:t>
                      </a:r>
                      <a:endParaRPr b="0" lang="en-US" sz="1800" spc="-1" strike="noStrike">
                        <a:solidFill>
                          <a:srgbClr val="000000"/>
                        </a:solidFill>
                        <a:latin typeface="Arial"/>
                      </a:endParaRPr>
                    </a:p>
                  </a:txBody>
                  <a:tcPr anchor="t" marL="90000" marR="90000">
                    <a:lnL w="13680">
                      <a:solidFill>
                        <a:srgbClr val="3d3f41"/>
                      </a:solidFill>
                    </a:lnL>
                    <a:lnR w="5760">
                      <a:solidFill>
                        <a:srgbClr val="3d3f41"/>
                      </a:solidFill>
                    </a:lnR>
                    <a:lnT w="5760">
                      <a:solidFill>
                        <a:srgbClr val="3d3f41"/>
                      </a:solidFill>
                    </a:lnT>
                    <a:lnB w="5760">
                      <a:solidFill>
                        <a:srgbClr val="3d3f41"/>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林则徐</a:t>
                      </a:r>
                      <a:endParaRPr b="0" lang="en-US" sz="1800" spc="-1" strike="noStrike">
                        <a:solidFill>
                          <a:srgbClr val="000000"/>
                        </a:solidFill>
                        <a:latin typeface="Arial"/>
                      </a:endParaRPr>
                    </a:p>
                  </a:txBody>
                  <a:tcPr anchor="t" marL="90000" marR="90000">
                    <a:lnL w="5760">
                      <a:solidFill>
                        <a:srgbClr val="3d3f41"/>
                      </a:solidFill>
                    </a:lnL>
                    <a:lnR w="13680">
                      <a:solidFill>
                        <a:srgbClr val="3d3f41"/>
                      </a:solidFill>
                    </a:lnR>
                    <a:lnT w="5760">
                      <a:solidFill>
                        <a:srgbClr val="3d3f41"/>
                      </a:solidFill>
                    </a:lnT>
                    <a:lnB w="5760">
                      <a:solidFill>
                        <a:srgbClr val="3d3f41"/>
                      </a:solidFill>
                    </a:lnB>
                    <a:noFill/>
                  </a:tcPr>
                </a:tc>
              </a:tr>
              <a:tr h="73512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事    件</a:t>
                      </a:r>
                      <a:endParaRPr b="0" lang="en-US" sz="1800" spc="-1" strike="noStrike">
                        <a:solidFill>
                          <a:srgbClr val="000000"/>
                        </a:solidFill>
                        <a:latin typeface="Arial"/>
                      </a:endParaRPr>
                    </a:p>
                  </a:txBody>
                  <a:tcPr anchor="t" marL="90000" marR="90000">
                    <a:lnL w="13680">
                      <a:solidFill>
                        <a:srgbClr val="3d3f41"/>
                      </a:solidFill>
                    </a:lnL>
                    <a:lnR w="5760">
                      <a:solidFill>
                        <a:srgbClr val="3d3f41"/>
                      </a:solidFill>
                    </a:lnR>
                    <a:lnT w="5760">
                      <a:solidFill>
                        <a:srgbClr val="3d3f41"/>
                      </a:solidFill>
                    </a:lnT>
                    <a:lnB w="5760">
                      <a:solidFill>
                        <a:srgbClr val="3d3f41"/>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当众销毁鸦片</a:t>
                      </a:r>
                      <a:endParaRPr b="0" lang="en-US" sz="1800" spc="-1" strike="noStrike">
                        <a:solidFill>
                          <a:srgbClr val="000000"/>
                        </a:solidFill>
                        <a:latin typeface="Arial"/>
                      </a:endParaRPr>
                    </a:p>
                  </a:txBody>
                  <a:tcPr anchor="t" marL="90000" marR="90000">
                    <a:lnL w="5760">
                      <a:solidFill>
                        <a:srgbClr val="3d3f41"/>
                      </a:solidFill>
                    </a:lnL>
                    <a:lnR w="13680">
                      <a:solidFill>
                        <a:srgbClr val="3d3f41"/>
                      </a:solidFill>
                    </a:lnR>
                    <a:lnT w="5760">
                      <a:solidFill>
                        <a:srgbClr val="3d3f41"/>
                      </a:solidFill>
                    </a:lnT>
                    <a:lnB w="5760">
                      <a:solidFill>
                        <a:srgbClr val="3d3f41"/>
                      </a:solidFill>
                    </a:lnB>
                    <a:noFill/>
                  </a:tcPr>
                </a:tc>
              </a:tr>
              <a:tr h="884160">
                <a:tc gridSpan="2">
                  <a:txBody>
                    <a:bodyPr lIns="90000" rIns="90000" tIns="46800" bIns="46800" anchor="t">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虎门销烟</a:t>
                      </a:r>
                      <a:r>
                        <a:rPr b="1" lang="zh-CN" sz="1800" spc="-1" strike="noStrike">
                          <a:solidFill>
                            <a:srgbClr val="ff3300"/>
                          </a:solidFill>
                          <a:latin typeface="黑体"/>
                          <a:ea typeface="黑体"/>
                        </a:rPr>
                        <a:t>是中国人民禁烟斗争的伟大胜利，显示了中华民族反对外来侵略的坚强意志。</a:t>
                      </a:r>
                      <a:endParaRPr b="0" lang="en-US" sz="1800" spc="-1" strike="noStrike">
                        <a:solidFill>
                          <a:srgbClr val="000000"/>
                        </a:solidFill>
                        <a:latin typeface="Arial"/>
                      </a:endParaRPr>
                    </a:p>
                  </a:txBody>
                  <a:tcPr anchor="t" marL="90000" marR="90000">
                    <a:lnL w="13680">
                      <a:solidFill>
                        <a:srgbClr val="3d3f41"/>
                      </a:solidFill>
                    </a:lnL>
                    <a:lnR w="13680">
                      <a:solidFill>
                        <a:srgbClr val="3d3f41"/>
                      </a:solidFill>
                    </a:lnR>
                    <a:lnT w="5760">
                      <a:solidFill>
                        <a:srgbClr val="3d3f41"/>
                      </a:solidFill>
                    </a:lnT>
                    <a:lnB w="13680">
                      <a:solidFill>
                        <a:srgbClr val="3d3f41"/>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xit" presetID="9">
                                  <p:stCondLst>
                                    <p:cond delay="0"/>
                                  </p:stCondLst>
                                  <p:childTnLst>
                                    <p:animEffect filter="dissolve" transition="out">
                                      <p:cBhvr additive="repl">
                                        <p:cTn id="370" dur="500"/>
                                        <p:tgtEl>
                                          <p:spTgt spid="226"/>
                                        </p:tgtEl>
                                      </p:cBhvr>
                                    </p:animEffect>
                                    <p:set>
                                      <p:cBhvr>
                                        <p:cTn id="371" dur="1" fill="hold">
                                          <p:stCondLst>
                                            <p:cond delay="499"/>
                                          </p:stCondLst>
                                        </p:cTn>
                                        <p:tgtEl>
                                          <p:spTgt spid="226"/>
                                        </p:tgtEl>
                                        <p:attrNameLst>
                                          <p:attrName>style.visibility</p:attrName>
                                        </p:attrNameLst>
                                      </p:cBhvr>
                                      <p:to>
                                        <p:strVal val="hidden"/>
                                      </p:to>
                                    </p:set>
                                  </p:childTnLst>
                                </p:cTn>
                              </p:par>
                              <p:par>
                                <p:cTn id="372" nodeType="withEffect" fill="hold" presetClass="entr" presetID="3" presetSubtype="10">
                                  <p:stCondLst>
                                    <p:cond delay="0"/>
                                  </p:stCondLst>
                                  <p:childTnLst>
                                    <p:set>
                                      <p:cBhvr>
                                        <p:cTn id="373" dur="1" fill="hold">
                                          <p:stCondLst>
                                            <p:cond delay="0"/>
                                          </p:stCondLst>
                                        </p:cTn>
                                        <p:tgtEl>
                                          <p:spTgt spid="228"/>
                                        </p:tgtEl>
                                        <p:attrNameLst>
                                          <p:attrName>style.visibility</p:attrName>
                                        </p:attrNameLst>
                                      </p:cBhvr>
                                      <p:to>
                                        <p:strVal val="visible"/>
                                      </p:to>
                                    </p:set>
                                    <p:animEffect filter="blinds(horizontal)" transition="in">
                                      <p:cBhvr additive="repl">
                                        <p:cTn id="374" dur="500"/>
                                        <p:tgtEl>
                                          <p:spTgt spid="22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27"/>
                                        </p:tgtEl>
                                        <p:attrNameLst>
                                          <p:attrName>style.visibility</p:attrName>
                                        </p:attrNameLst>
                                      </p:cBhvr>
                                      <p:to>
                                        <p:strVal val="visible"/>
                                      </p:to>
                                    </p:set>
                                    <p:anim calcmode="lin" valueType="num">
                                      <p:cBhvr additive="base">
                                        <p:cTn id="379" dur="500" fill="hold"/>
                                        <p:tgtEl>
                                          <p:spTgt spid="227"/>
                                        </p:tgtEl>
                                        <p:attrNameLst>
                                          <p:attrName>ppt_x</p:attrName>
                                        </p:attrNameLst>
                                      </p:cBhvr>
                                      <p:tavLst>
                                        <p:tav tm="0">
                                          <p:val>
                                            <p:strVal val="#ppt_x"/>
                                          </p:val>
                                        </p:tav>
                                        <p:tav tm="100000">
                                          <p:val>
                                            <p:strVal val="#ppt_x"/>
                                          </p:val>
                                        </p:tav>
                                      </p:tavLst>
                                    </p:anim>
                                    <p:anim calcmode="lin" valueType="num">
                                      <p:cBhvr additive="base">
                                        <p:cTn id="38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9" name="Text Placeholder 2" descr=""/>
          <p:cNvPicPr/>
          <p:nvPr/>
        </p:nvPicPr>
        <p:blipFill>
          <a:blip r:embed="rId1"/>
          <a:srcRect l="0" t="0" r="17125" b="-704"/>
          <a:stretch/>
        </p:blipFill>
        <p:spPr>
          <a:xfrm>
            <a:off x="250920" y="1268280"/>
            <a:ext cx="4343400" cy="3816360"/>
          </a:xfrm>
          <a:prstGeom prst="rect">
            <a:avLst/>
          </a:prstGeom>
          <a:ln w="57240">
            <a:solidFill>
              <a:srgbClr val="ff9900"/>
            </a:solidFill>
            <a:miter/>
          </a:ln>
        </p:spPr>
      </p:pic>
      <p:sp>
        <p:nvSpPr>
          <p:cNvPr id="230" name=""/>
          <p:cNvSpPr/>
          <p:nvPr/>
        </p:nvSpPr>
        <p:spPr>
          <a:xfrm>
            <a:off x="1467720" y="5337000"/>
            <a:ext cx="196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华文中宋"/>
              </a:rPr>
              <a:t>纽约</a:t>
            </a:r>
            <a:r>
              <a:rPr b="1" lang="zh-CN" sz="2800" spc="-1" strike="noStrike">
                <a:solidFill>
                  <a:srgbClr val="000066"/>
                </a:solidFill>
                <a:latin typeface="Arial"/>
                <a:ea typeface="华文中宋"/>
              </a:rPr>
              <a:t>·</a:t>
            </a:r>
            <a:r>
              <a:rPr b="1" lang="zh-CN" sz="2800" spc="-1" strike="noStrike">
                <a:solidFill>
                  <a:srgbClr val="000066"/>
                </a:solidFill>
                <a:latin typeface="Arial"/>
                <a:ea typeface="华文中宋"/>
              </a:rPr>
              <a:t>林则徐广场</a:t>
            </a:r>
            <a:endParaRPr b="0" lang="en-US" sz="2800" spc="-1" strike="noStrike">
              <a:solidFill>
                <a:srgbClr val="000000"/>
              </a:solidFill>
              <a:latin typeface="Arial"/>
            </a:endParaRPr>
          </a:p>
        </p:txBody>
      </p:sp>
      <p:sp>
        <p:nvSpPr>
          <p:cNvPr id="231" name=""/>
          <p:cNvSpPr/>
          <p:nvPr/>
        </p:nvSpPr>
        <p:spPr>
          <a:xfrm>
            <a:off x="4716360" y="2270160"/>
            <a:ext cx="482436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行楷"/>
                <a:ea typeface="华文行楷"/>
              </a:rPr>
              <a:t>     </a:t>
            </a:r>
            <a:r>
              <a:rPr b="1" lang="zh-CN" sz="3200" spc="-1" strike="noStrike">
                <a:solidFill>
                  <a:srgbClr val="990000"/>
                </a:solidFill>
                <a:latin typeface="华文行楷"/>
                <a:ea typeface="华文行楷"/>
              </a:rPr>
              <a:t>为纪念 “虎门销烟”，</a:t>
            </a:r>
            <a:r>
              <a:rPr b="1" lang="en-US" sz="3200" spc="-1" strike="noStrike">
                <a:solidFill>
                  <a:srgbClr val="990000"/>
                </a:solidFill>
                <a:latin typeface="华文行楷"/>
                <a:ea typeface="华文行楷"/>
              </a:rPr>
              <a:t>1987</a:t>
            </a:r>
            <a:r>
              <a:rPr b="1" lang="zh-CN" sz="3200" spc="-1" strike="noStrike">
                <a:solidFill>
                  <a:srgbClr val="990000"/>
                </a:solidFill>
                <a:latin typeface="华文行楷"/>
                <a:ea typeface="华文行楷"/>
              </a:rPr>
              <a:t>年</a:t>
            </a:r>
            <a:r>
              <a:rPr b="1" lang="en-US" sz="3200" spc="-1" strike="noStrike">
                <a:solidFill>
                  <a:srgbClr val="990000"/>
                </a:solidFill>
                <a:latin typeface="华文行楷"/>
                <a:ea typeface="华文行楷"/>
              </a:rPr>
              <a:t>6</a:t>
            </a:r>
            <a:r>
              <a:rPr b="1" lang="zh-CN" sz="3200" spc="-1" strike="noStrike">
                <a:solidFill>
                  <a:srgbClr val="990000"/>
                </a:solidFill>
                <a:latin typeface="华文行楷"/>
                <a:ea typeface="华文行楷"/>
              </a:rPr>
              <a:t>月，世界联合国</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行楷"/>
                <a:ea typeface="华文行楷"/>
              </a:rPr>
              <a:t>组织决定将</a:t>
            </a:r>
            <a:r>
              <a:rPr b="1" lang="en-US" sz="3200" spc="-1" strike="noStrike">
                <a:solidFill>
                  <a:srgbClr val="990000"/>
                </a:solidFill>
                <a:latin typeface="华文行楷"/>
                <a:ea typeface="华文行楷"/>
              </a:rPr>
              <a:t>6</a:t>
            </a:r>
            <a:r>
              <a:rPr b="1" lang="zh-CN" sz="3200" spc="-1" strike="noStrike">
                <a:solidFill>
                  <a:srgbClr val="990000"/>
                </a:solidFill>
                <a:latin typeface="华文行楷"/>
                <a:ea typeface="华文行楷"/>
              </a:rPr>
              <a:t>月</a:t>
            </a:r>
            <a:r>
              <a:rPr b="1" lang="en-US" sz="3200" spc="-1" strike="noStrike">
                <a:solidFill>
                  <a:srgbClr val="990000"/>
                </a:solidFill>
                <a:latin typeface="华文行楷"/>
                <a:ea typeface="华文行楷"/>
              </a:rPr>
              <a:t>26</a:t>
            </a:r>
            <a:r>
              <a:rPr b="1" lang="zh-CN" sz="3200" spc="-1" strike="noStrike">
                <a:solidFill>
                  <a:srgbClr val="990000"/>
                </a:solidFill>
                <a:latin typeface="华文行楷"/>
                <a:ea typeface="华文行楷"/>
              </a:rPr>
              <a:t>日定为</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行楷"/>
                <a:ea typeface="华文行楷"/>
              </a:rPr>
              <a:t>国际禁毒日。</a:t>
            </a:r>
            <a:endParaRPr b="0" lang="en-US" sz="3200" spc="-1" strike="noStrike">
              <a:solidFill>
                <a:srgbClr val="000000"/>
              </a:solidFill>
              <a:latin typeface="Arial"/>
            </a:endParaRPr>
          </a:p>
        </p:txBody>
      </p:sp>
      <p:grpSp>
        <p:nvGrpSpPr>
          <p:cNvPr id="232" name=""/>
          <p:cNvGrpSpPr/>
          <p:nvPr/>
        </p:nvGrpSpPr>
        <p:grpSpPr>
          <a:xfrm>
            <a:off x="3492360" y="44280"/>
            <a:ext cx="1944720" cy="685800"/>
            <a:chOff x="3492360" y="44280"/>
            <a:chExt cx="1944720" cy="685800"/>
          </a:xfrm>
        </p:grpSpPr>
        <p:sp>
          <p:nvSpPr>
            <p:cNvPr id="233" name=""/>
            <p:cNvSpPr/>
            <p:nvPr/>
          </p:nvSpPr>
          <p:spPr>
            <a:xfrm>
              <a:off x="3492360" y="44280"/>
              <a:ext cx="1944720" cy="68580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b0b05"/>
                  </a:solidFill>
                  <a:latin typeface="Arial"/>
                  <a:ea typeface="华文新魏"/>
                </a:rPr>
                <a:t> </a:t>
              </a:r>
              <a:endParaRPr b="0" lang="en-US" sz="4800" spc="-1" strike="noStrike">
                <a:solidFill>
                  <a:srgbClr val="000000"/>
                </a:solidFill>
                <a:latin typeface="Arial"/>
              </a:endParaRPr>
            </a:p>
          </p:txBody>
        </p:sp>
        <p:sp>
          <p:nvSpPr>
            <p:cNvPr id="234" name=""/>
            <p:cNvSpPr txBox="1"/>
            <p:nvPr/>
          </p:nvSpPr>
          <p:spPr>
            <a:xfrm>
              <a:off x="3708360" y="117360"/>
              <a:ext cx="1514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blipFill rotWithShape="0">
                    <a:blip r:embed="rId2"/>
                    <a:srcRect/>
                    <a:tile tx="0" ty="0" sx="100000" sy="100000" algn="ctr"/>
                  </a:blipFill>
                  <a:latin typeface="华文行楷"/>
                </a:rPr>
                <a:t>禁毒馆</a:t>
              </a:r>
              <a:endParaRPr b="0" lang="en-US" sz="4000" spc="-1" strike="noStrike">
                <a:ln w="9360">
                  <a:solidFill>
                    <a:srgbClr val="000000"/>
                  </a:solidFill>
                  <a:miter/>
                </a:ln>
                <a:blipFill rotWithShape="0">
                  <a:blip r:embed="rId3"/>
                  <a:srcRect/>
                  <a:tile tx="0" ty="0" sx="100000" sy="100000" algn="ctr"/>
                </a:blipFill>
                <a:latin typeface="华文行楷"/>
                <a:ea typeface="华文行楷"/>
              </a:endParaRPr>
            </a:p>
          </p:txBody>
        </p:sp>
      </p:grpSp>
      <p:pic>
        <p:nvPicPr>
          <p:cNvPr id="235" name="" descr=""/>
          <p:cNvPicPr/>
          <p:nvPr/>
        </p:nvPicPr>
        <p:blipFill>
          <a:blip r:embed="rId4"/>
          <a:stretch/>
        </p:blipFill>
        <p:spPr>
          <a:xfrm>
            <a:off x="8459640" y="6138720"/>
            <a:ext cx="684360" cy="71928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8" presetSubtype="6">
                                  <p:stCondLst>
                                    <p:cond delay="0"/>
                                  </p:stCondLst>
                                  <p:childTnLst>
                                    <p:set>
                                      <p:cBhvr>
                                        <p:cTn id="386" dur="1" fill="hold">
                                          <p:stCondLst>
                                            <p:cond delay="0"/>
                                          </p:stCondLst>
                                        </p:cTn>
                                        <p:tgtEl>
                                          <p:spTgt spid="231"/>
                                        </p:tgtEl>
                                        <p:attrNameLst>
                                          <p:attrName>style.visibility</p:attrName>
                                        </p:attrNameLst>
                                      </p:cBhvr>
                                      <p:to>
                                        <p:strVal val="visible"/>
                                      </p:to>
                                    </p:set>
                                    <p:animEffect filter="strips(downRight)" transition="in">
                                      <p:cBhvr additive="repl">
                                        <p:cTn id="387" dur="900"/>
                                        <p:tgtEl>
                                          <p:spTgt spid="23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35"/>
                                        </p:tgtEl>
                                        <p:attrNameLst>
                                          <p:attrName>style.visibility</p:attrName>
                                        </p:attrNameLst>
                                      </p:cBhvr>
                                      <p:to>
                                        <p:strVal val="visible"/>
                                      </p:to>
                                    </p:set>
                                    <p:anim calcmode="lin" valueType="num">
                                      <p:cBhvr additive="base">
                                        <p:cTn id="392" dur="500" fill="hold"/>
                                        <p:tgtEl>
                                          <p:spTgt spid="235"/>
                                        </p:tgtEl>
                                        <p:attrNameLst>
                                          <p:attrName>ppt_x</p:attrName>
                                        </p:attrNameLst>
                                      </p:cBhvr>
                                      <p:tavLst>
                                        <p:tav tm="0">
                                          <p:val>
                                            <p:strVal val="#ppt_x"/>
                                          </p:val>
                                        </p:tav>
                                        <p:tav tm="100000">
                                          <p:val>
                                            <p:strVal val="#ppt_x"/>
                                          </p:val>
                                        </p:tav>
                                      </p:tavLst>
                                    </p:anim>
                                    <p:anim calcmode="lin" valueType="num">
                                      <p:cBhvr additive="base">
                                        <p:cTn id="39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71280"/>
            <a:ext cx="2627280" cy="620640"/>
            <a:chOff x="0" y="71280"/>
            <a:chExt cx="2627280" cy="620640"/>
          </a:xfrm>
        </p:grpSpPr>
        <p:pic>
          <p:nvPicPr>
            <p:cNvPr id="237" name="" descr=""/>
            <p:cNvPicPr/>
            <p:nvPr/>
          </p:nvPicPr>
          <p:blipFill>
            <a:blip r:embed="rId1"/>
            <a:stretch/>
          </p:blipFill>
          <p:spPr>
            <a:xfrm>
              <a:off x="0" y="71280"/>
              <a:ext cx="826920" cy="620640"/>
            </a:xfrm>
            <a:prstGeom prst="rect">
              <a:avLst/>
            </a:prstGeom>
            <a:ln w="0">
              <a:noFill/>
            </a:ln>
          </p:spPr>
        </p:pic>
        <p:pic>
          <p:nvPicPr>
            <p:cNvPr id="238" name="" descr=""/>
            <p:cNvPicPr/>
            <p:nvPr/>
          </p:nvPicPr>
          <p:blipFill>
            <a:blip r:embed="rId2"/>
            <a:stretch/>
          </p:blipFill>
          <p:spPr>
            <a:xfrm>
              <a:off x="1042920" y="237960"/>
              <a:ext cx="1584360" cy="453960"/>
            </a:xfrm>
            <a:prstGeom prst="rect">
              <a:avLst/>
            </a:prstGeom>
            <a:ln w="0">
              <a:noFill/>
            </a:ln>
          </p:spPr>
        </p:pic>
      </p:grpSp>
      <p:sp>
        <p:nvSpPr>
          <p:cNvPr id="239" name=""/>
          <p:cNvSpPr/>
          <p:nvPr/>
        </p:nvSpPr>
        <p:spPr>
          <a:xfrm>
            <a:off x="468360" y="1125360"/>
            <a:ext cx="8497800" cy="2944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3f41"/>
                </a:solidFill>
                <a:latin typeface="Arial"/>
                <a:ea typeface="黑体"/>
              </a:rPr>
              <a:t>英国外相</a:t>
            </a:r>
            <a:r>
              <a:rPr b="1" lang="zh-CN" sz="2800" spc="-1" strike="noStrike">
                <a:solidFill>
                  <a:srgbClr val="800000"/>
                </a:solidFill>
                <a:latin typeface="Arial"/>
                <a:ea typeface="方正姚体"/>
              </a:rPr>
              <a:t>巴麦尊</a:t>
            </a:r>
            <a:r>
              <a:rPr b="1" lang="zh-CN" sz="2400" spc="-1" strike="noStrike">
                <a:solidFill>
                  <a:srgbClr val="3d3f41"/>
                </a:solidFill>
                <a:latin typeface="Arial"/>
                <a:ea typeface="黑体"/>
              </a:rPr>
              <a:t>在议会上发表的讲话</a:t>
            </a:r>
            <a:r>
              <a:rPr b="0" lang="zh-CN" sz="2400" spc="-1" strike="noStrike">
                <a:solidFill>
                  <a:srgbClr val="3d3f41"/>
                </a:solidFill>
                <a:latin typeface="Arial"/>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4ab40"/>
                </a:solidFill>
                <a:latin typeface="Arial"/>
                <a:ea typeface="宋体"/>
              </a:rPr>
              <a:t>       </a:t>
            </a:r>
            <a:r>
              <a:rPr b="1" lang="en-US" sz="3200" spc="-1" strike="noStrike">
                <a:solidFill>
                  <a:srgbClr val="6600ff"/>
                </a:solidFill>
                <a:latin typeface="Arial"/>
                <a:ea typeface="华文中宋"/>
              </a:rPr>
              <a:t>“</a:t>
            </a:r>
            <a:r>
              <a:rPr b="1" lang="en-US" sz="3200" spc="-1" strike="noStrike">
                <a:solidFill>
                  <a:srgbClr val="6600ff"/>
                </a:solidFill>
                <a:latin typeface="Arial"/>
                <a:ea typeface="华文中宋"/>
              </a:rPr>
              <a:t>(</a:t>
            </a:r>
            <a:r>
              <a:rPr b="1" lang="zh-CN" sz="3200" spc="-1" strike="noStrike">
                <a:solidFill>
                  <a:srgbClr val="6600ff"/>
                </a:solidFill>
                <a:latin typeface="Arial"/>
                <a:ea typeface="华文中宋"/>
              </a:rPr>
              <a:t>虎门销烟</a:t>
            </a:r>
            <a:r>
              <a:rPr b="1" lang="en-US" sz="3200" spc="-1" strike="noStrike">
                <a:solidFill>
                  <a:srgbClr val="6600ff"/>
                </a:solidFill>
                <a:latin typeface="Arial"/>
                <a:ea typeface="华文中宋"/>
              </a:rPr>
              <a:t>) </a:t>
            </a:r>
            <a:r>
              <a:rPr b="1" lang="zh-CN" sz="3200" spc="-1" strike="noStrike">
                <a:solidFill>
                  <a:srgbClr val="6600ff"/>
                </a:solidFill>
                <a:latin typeface="Arial"/>
                <a:ea typeface="华文中宋"/>
              </a:rPr>
              <a:t>把能给我们大英帝国带来无限利益的大批的商品，全部给予销毁！这是我大英帝国的奇耻大辱！我要求议会批准政府派遣远征军去惩罚那个极其野蛮的国家！要狠狠地教训它！要迫使它开放更多的港口，要保护我们天经地义的合法贸易！”</a:t>
            </a:r>
            <a:endParaRPr b="0" lang="en-US" sz="3200" spc="-1" strike="noStrike">
              <a:solidFill>
                <a:srgbClr val="000000"/>
              </a:solidFill>
              <a:latin typeface="Arial"/>
            </a:endParaRPr>
          </a:p>
        </p:txBody>
      </p:sp>
      <p:pic>
        <p:nvPicPr>
          <p:cNvPr id="240" name="" descr=""/>
          <p:cNvPicPr/>
          <p:nvPr/>
        </p:nvPicPr>
        <p:blipFill>
          <a:blip r:embed="rId3"/>
          <a:stretch/>
        </p:blipFill>
        <p:spPr>
          <a:xfrm>
            <a:off x="8317080" y="5985000"/>
            <a:ext cx="639720" cy="639720"/>
          </a:xfrm>
          <a:prstGeom prst="rect">
            <a:avLst/>
          </a:prstGeom>
          <a:ln w="0">
            <a:noFill/>
          </a:ln>
        </p:spPr>
      </p:pic>
      <p:sp>
        <p:nvSpPr>
          <p:cNvPr id="241" name=""/>
          <p:cNvSpPr txBox="1"/>
          <p:nvPr/>
        </p:nvSpPr>
        <p:spPr>
          <a:xfrm>
            <a:off x="863640" y="5373720"/>
            <a:ext cx="7000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cc00"/>
                  </a:solidFill>
                  <a:miter/>
                </a:ln>
                <a:solidFill>
                  <a:srgbClr val="0066cc"/>
                </a:solidFill>
                <a:effectLst>
                  <a:outerShdw dist="17819" dir="2700000" blurRad="0" rotWithShape="0">
                    <a:srgbClr val="990000"/>
                  </a:outerShdw>
                </a:effectLst>
                <a:latin typeface="隶书"/>
              </a:rPr>
              <a:t>鸦片战争是由林则徐禁烟引起的么？</a:t>
            </a:r>
            <a:endParaRPr b="1" lang="en-US" sz="1800" spc="1" strike="noStrike">
              <a:ln w="19080">
                <a:solidFill>
                  <a:srgbClr val="ffcc00"/>
                </a:solidFill>
                <a:miter/>
              </a:ln>
              <a:solidFill>
                <a:srgbClr val="0066cc"/>
              </a:solidFill>
              <a:effectLst>
                <a:outerShdw dist="17819" dir="2700000" blurRad="0" rotWithShape="0">
                  <a:srgbClr val="990000"/>
                </a:outerShdw>
              </a:effectLst>
              <a:latin typeface="隶书"/>
              <a:ea typeface="隶书"/>
            </a:endParaRPr>
          </a:p>
        </p:txBody>
      </p:sp>
      <p:sp>
        <p:nvSpPr>
          <p:cNvPr id="242" name=""/>
          <p:cNvSpPr txBox="1"/>
          <p:nvPr/>
        </p:nvSpPr>
        <p:spPr>
          <a:xfrm>
            <a:off x="324000" y="6127920"/>
            <a:ext cx="80769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9080">
                  <a:solidFill>
                    <a:srgbClr val="99ccff"/>
                  </a:solidFill>
                  <a:miter/>
                </a:ln>
                <a:solidFill>
                  <a:srgbClr val="0066cc"/>
                </a:solidFill>
                <a:effectLst>
                  <a:outerShdw dist="17819" dir="2700000" blurRad="0" rotWithShape="0">
                    <a:srgbClr val="990000"/>
                  </a:outerShdw>
                </a:effectLst>
                <a:latin typeface="华文新魏"/>
              </a:rPr>
              <a:t>那么鸦片战争的真正原因是什么呢？</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243" name=""/>
          <p:cNvSpPr txBox="1"/>
          <p:nvPr/>
        </p:nvSpPr>
        <p:spPr>
          <a:xfrm>
            <a:off x="4070520" y="190440"/>
            <a:ext cx="4246560" cy="1295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鸦片战争</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244" name=""/>
          <p:cNvSpPr txBox="1"/>
          <p:nvPr/>
        </p:nvSpPr>
        <p:spPr>
          <a:xfrm>
            <a:off x="324000" y="1990800"/>
            <a:ext cx="9072360" cy="2663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根本目的：打开中国的大门！</a:t>
            </a:r>
            <a:endParaRPr b="0" lang="en-US" sz="1800" spc="-1" strike="noStrike">
              <a:ln w="9360">
                <a:solidFill>
                  <a:srgbClr val="000000"/>
                </a:solidFill>
                <a:miter/>
              </a:ln>
              <a:solidFill>
                <a:srgbClr val="ff3300"/>
              </a:solidFill>
              <a:latin typeface="宋体"/>
              <a:ea typeface="宋体"/>
            </a:endParaRPr>
          </a:p>
        </p:txBody>
      </p:sp>
    </p:spTree>
  </p:cSld>
  <p:transition spd="slow">
    <p:split dir="out" orient="vert"/>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3" presetSubtype="16">
                                  <p:stCondLst>
                                    <p:cond delay="0"/>
                                  </p:stCondLst>
                                  <p:childTnLst>
                                    <p:set>
                                      <p:cBhvr>
                                        <p:cTn id="399" dur="1" fill="hold">
                                          <p:stCondLst>
                                            <p:cond delay="0"/>
                                          </p:stCondLst>
                                        </p:cTn>
                                        <p:tgtEl>
                                          <p:spTgt spid="240"/>
                                        </p:tgtEl>
                                        <p:attrNameLst>
                                          <p:attrName>style.visibility</p:attrName>
                                        </p:attrNameLst>
                                      </p:cBhvr>
                                      <p:to>
                                        <p:strVal val="visible"/>
                                      </p:to>
                                    </p:set>
                                    <p:anim calcmode="lin" valueType="num">
                                      <p:cBhvr additive="repl">
                                        <p:cTn id="400" dur="500" fill="hold"/>
                                        <p:tgtEl>
                                          <p:spTgt spid="240"/>
                                        </p:tgtEl>
                                        <p:attrNameLst>
                                          <p:attrName>ppt_w</p:attrName>
                                        </p:attrNameLst>
                                      </p:cBhvr>
                                      <p:tavLst>
                                        <p:tav tm="0">
                                          <p:val>
                                            <p:fltVal val="0"/>
                                          </p:val>
                                        </p:tav>
                                        <p:tav tm="100000">
                                          <p:val>
                                            <p:strVal val="#ppt_w"/>
                                          </p:val>
                                        </p:tav>
                                      </p:tavLst>
                                    </p:anim>
                                    <p:anim calcmode="lin" valueType="num">
                                      <p:cBhvr additive="repl">
                                        <p:cTn id="401"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43"/>
                                        </p:tgtEl>
                                        <p:attrNameLst>
                                          <p:attrName>style.visibility</p:attrName>
                                        </p:attrNameLst>
                                      </p:cBhvr>
                                      <p:to>
                                        <p:strVal val="visible"/>
                                      </p:to>
                                    </p:set>
                                    <p:animEffect filter="blinds(horizontal)" transition="in">
                                      <p:cBhvr additive="repl">
                                        <p:cTn id="406" dur="500"/>
                                        <p:tgtEl>
                                          <p:spTgt spid="24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241"/>
                                        </p:tgtEl>
                                        <p:attrNameLst>
                                          <p:attrName>style.visibility</p:attrName>
                                        </p:attrNameLst>
                                      </p:cBhvr>
                                      <p:to>
                                        <p:strVal val="visible"/>
                                      </p:to>
                                    </p:set>
                                    <p:animEffect filter="checkerboard(across)" transition="in">
                                      <p:cBhvr additive="repl">
                                        <p:cTn id="411" dur="500"/>
                                        <p:tgtEl>
                                          <p:spTgt spid="24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42"/>
                                        </p:tgtEl>
                                        <p:attrNameLst>
                                          <p:attrName>style.visibility</p:attrName>
                                        </p:attrNameLst>
                                      </p:cBhvr>
                                      <p:to>
                                        <p:strVal val="visible"/>
                                      </p:to>
                                    </p:set>
                                    <p:anim calcmode="lin" valueType="num">
                                      <p:cBhvr additive="base">
                                        <p:cTn id="416" dur="500" fill="hold"/>
                                        <p:tgtEl>
                                          <p:spTgt spid="242"/>
                                        </p:tgtEl>
                                        <p:attrNameLst>
                                          <p:attrName>ppt_x</p:attrName>
                                        </p:attrNameLst>
                                      </p:cBhvr>
                                      <p:tavLst>
                                        <p:tav tm="0">
                                          <p:val>
                                            <p:strVal val="#ppt_x"/>
                                          </p:val>
                                        </p:tav>
                                        <p:tav tm="100000">
                                          <p:val>
                                            <p:strVal val="#ppt_x"/>
                                          </p:val>
                                        </p:tav>
                                      </p:tavLst>
                                    </p:anim>
                                    <p:anim calcmode="lin" valueType="num">
                                      <p:cBhvr additive="base">
                                        <p:cTn id="417"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44"/>
                                        </p:tgtEl>
                                        <p:attrNameLst>
                                          <p:attrName>style.visibility</p:attrName>
                                        </p:attrNameLst>
                                      </p:cBhvr>
                                      <p:to>
                                        <p:strVal val="visible"/>
                                      </p:to>
                                    </p:set>
                                    <p:animEffect filter="blinds(horizontal)" transition="in">
                                      <p:cBhvr additive="repl">
                                        <p:cTn id="42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27000"/>
            <a:ext cx="5113440" cy="6858000"/>
          </a:xfrm>
          <a:prstGeom prst="rect">
            <a:avLst/>
          </a:prstGeom>
          <a:ln w="0">
            <a:noFill/>
          </a:ln>
        </p:spPr>
      </p:pic>
      <p:sp>
        <p:nvSpPr>
          <p:cNvPr id="246" name=""/>
          <p:cNvSpPr/>
          <p:nvPr/>
        </p:nvSpPr>
        <p:spPr>
          <a:xfrm>
            <a:off x="990720" y="5943600"/>
            <a:ext cx="649080" cy="67644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99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978200" y="5261040"/>
            <a:ext cx="1095120" cy="606240"/>
          </a:xfrm>
          <a:custGeom>
            <a:avLst/>
            <a:gdLst/>
            <a:ahLst/>
            <a:rect l="l" t="t" r="r" b="b"/>
            <a:pathLst>
              <a:path w="690" h="382">
                <a:moveTo>
                  <a:pt x="0" y="350"/>
                </a:moveTo>
                <a:cubicBezTo>
                  <a:pt x="169" y="382"/>
                  <a:pt x="302" y="293"/>
                  <a:pt x="454" y="246"/>
                </a:cubicBezTo>
                <a:cubicBezTo>
                  <a:pt x="492" y="221"/>
                  <a:pt x="529" y="195"/>
                  <a:pt x="567" y="170"/>
                </a:cubicBezTo>
                <a:cubicBezTo>
                  <a:pt x="576" y="164"/>
                  <a:pt x="586" y="157"/>
                  <a:pt x="595" y="151"/>
                </a:cubicBezTo>
                <a:cubicBezTo>
                  <a:pt x="605" y="145"/>
                  <a:pt x="624" y="133"/>
                  <a:pt x="624" y="133"/>
                </a:cubicBezTo>
                <a:cubicBezTo>
                  <a:pt x="651" y="91"/>
                  <a:pt x="690" y="52"/>
                  <a:pt x="690" y="0"/>
                </a:cubicBezTo>
              </a:path>
            </a:pathLst>
          </a:custGeom>
          <a:noFill/>
          <a:ln w="63360">
            <a:solidFill>
              <a:srgbClr val="993300"/>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178080" y="3778200"/>
            <a:ext cx="809640" cy="1408320"/>
          </a:xfrm>
          <a:custGeom>
            <a:avLst/>
            <a:gdLst/>
            <a:ahLst/>
            <a:rect l="l" t="t" r="r" b="b"/>
            <a:pathLst>
              <a:path w="510" h="887">
                <a:moveTo>
                  <a:pt x="0" y="887"/>
                </a:moveTo>
                <a:cubicBezTo>
                  <a:pt x="22" y="854"/>
                  <a:pt x="42" y="852"/>
                  <a:pt x="75" y="830"/>
                </a:cubicBezTo>
                <a:cubicBezTo>
                  <a:pt x="81" y="821"/>
                  <a:pt x="86" y="810"/>
                  <a:pt x="94" y="802"/>
                </a:cubicBezTo>
                <a:cubicBezTo>
                  <a:pt x="102" y="794"/>
                  <a:pt x="115" y="792"/>
                  <a:pt x="123" y="783"/>
                </a:cubicBezTo>
                <a:cubicBezTo>
                  <a:pt x="124" y="781"/>
                  <a:pt x="169" y="713"/>
                  <a:pt x="179" y="698"/>
                </a:cubicBezTo>
                <a:cubicBezTo>
                  <a:pt x="186" y="687"/>
                  <a:pt x="200" y="681"/>
                  <a:pt x="208" y="670"/>
                </a:cubicBezTo>
                <a:cubicBezTo>
                  <a:pt x="245" y="623"/>
                  <a:pt x="261" y="572"/>
                  <a:pt x="311" y="538"/>
                </a:cubicBezTo>
                <a:cubicBezTo>
                  <a:pt x="327" y="492"/>
                  <a:pt x="377" y="439"/>
                  <a:pt x="406" y="396"/>
                </a:cubicBezTo>
                <a:cubicBezTo>
                  <a:pt x="456" y="322"/>
                  <a:pt x="394" y="415"/>
                  <a:pt x="444" y="339"/>
                </a:cubicBezTo>
                <a:cubicBezTo>
                  <a:pt x="450" y="330"/>
                  <a:pt x="463" y="311"/>
                  <a:pt x="463" y="311"/>
                </a:cubicBezTo>
                <a:cubicBezTo>
                  <a:pt x="475" y="273"/>
                  <a:pt x="488" y="236"/>
                  <a:pt x="500" y="198"/>
                </a:cubicBezTo>
                <a:cubicBezTo>
                  <a:pt x="510" y="129"/>
                  <a:pt x="500" y="69"/>
                  <a:pt x="500" y="0"/>
                </a:cubicBezTo>
              </a:path>
            </a:pathLst>
          </a:custGeom>
          <a:noFill/>
          <a:ln w="63360">
            <a:solidFill>
              <a:srgbClr val="993300"/>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700360" y="1197000"/>
            <a:ext cx="1727280" cy="2527200"/>
          </a:xfrm>
          <a:custGeom>
            <a:avLst/>
            <a:gdLst/>
            <a:ahLst/>
            <a:rect l="l" t="t" r="r" b="b"/>
            <a:pathLst>
              <a:path w="1120" h="1728">
                <a:moveTo>
                  <a:pt x="912" y="1728"/>
                </a:moveTo>
                <a:cubicBezTo>
                  <a:pt x="956" y="1688"/>
                  <a:pt x="1000" y="1648"/>
                  <a:pt x="1008" y="1584"/>
                </a:cubicBezTo>
                <a:cubicBezTo>
                  <a:pt x="1016" y="1520"/>
                  <a:pt x="1008" y="1432"/>
                  <a:pt x="960" y="1344"/>
                </a:cubicBezTo>
                <a:cubicBezTo>
                  <a:pt x="912" y="1256"/>
                  <a:pt x="776" y="1144"/>
                  <a:pt x="720" y="1056"/>
                </a:cubicBezTo>
                <a:cubicBezTo>
                  <a:pt x="664" y="968"/>
                  <a:pt x="640" y="880"/>
                  <a:pt x="624" y="816"/>
                </a:cubicBezTo>
                <a:cubicBezTo>
                  <a:pt x="608" y="752"/>
                  <a:pt x="568" y="736"/>
                  <a:pt x="624" y="672"/>
                </a:cubicBezTo>
                <a:cubicBezTo>
                  <a:pt x="680" y="608"/>
                  <a:pt x="880" y="504"/>
                  <a:pt x="960" y="432"/>
                </a:cubicBezTo>
                <a:cubicBezTo>
                  <a:pt x="1040" y="360"/>
                  <a:pt x="1120" y="288"/>
                  <a:pt x="1104" y="240"/>
                </a:cubicBezTo>
                <a:cubicBezTo>
                  <a:pt x="1088" y="192"/>
                  <a:pt x="976" y="176"/>
                  <a:pt x="864" y="144"/>
                </a:cubicBezTo>
                <a:cubicBezTo>
                  <a:pt x="752" y="112"/>
                  <a:pt x="528" y="56"/>
                  <a:pt x="432" y="48"/>
                </a:cubicBezTo>
                <a:cubicBezTo>
                  <a:pt x="336" y="40"/>
                  <a:pt x="360" y="104"/>
                  <a:pt x="288" y="96"/>
                </a:cubicBezTo>
                <a:cubicBezTo>
                  <a:pt x="216" y="88"/>
                  <a:pt x="48" y="16"/>
                  <a:pt x="0" y="0"/>
                </a:cubicBezTo>
              </a:path>
            </a:pathLst>
          </a:custGeom>
          <a:noFill/>
          <a:ln w="63360">
            <a:solidFill>
              <a:srgbClr val="99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2916360" y="1052280"/>
            <a:ext cx="1726920" cy="100800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3333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5127120" y="260280"/>
            <a:ext cx="4016520" cy="1255680"/>
          </a:xfrm>
          <a:prstGeom prst="rect">
            <a:avLst/>
          </a:prstGeom>
          <a:solidFill>
            <a:srgbClr val="f1f0eb">
              <a:alpha val="61000"/>
            </a:srgbClr>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comic"/>
              </a:rPr>
              <a:t>第一阶段</a:t>
            </a:r>
            <a:br>
              <a:rPr sz="3200"/>
            </a:br>
            <a:r>
              <a:rPr b="1" lang="en-US" sz="3200" spc="-1" strike="noStrike">
                <a:solidFill>
                  <a:srgbClr val="a50021"/>
                </a:solidFill>
                <a:latin typeface="comic"/>
              </a:rPr>
              <a:t> </a:t>
            </a:r>
            <a:r>
              <a:rPr b="1" lang="en-US" sz="2400" spc="-1" strike="noStrike">
                <a:solidFill>
                  <a:srgbClr val="990000"/>
                </a:solidFill>
                <a:latin typeface="comic"/>
              </a:rPr>
              <a:t>1840</a:t>
            </a:r>
            <a:r>
              <a:rPr b="1" lang="zh-CN" sz="2400" spc="-1" strike="noStrike">
                <a:solidFill>
                  <a:srgbClr val="990000"/>
                </a:solidFill>
                <a:latin typeface="comic"/>
              </a:rPr>
              <a:t>年</a:t>
            </a:r>
            <a:r>
              <a:rPr b="1" lang="en-US" sz="2400" spc="-1" strike="noStrike">
                <a:solidFill>
                  <a:srgbClr val="990000"/>
                </a:solidFill>
                <a:latin typeface="comic"/>
              </a:rPr>
              <a:t>6</a:t>
            </a:r>
            <a:r>
              <a:rPr b="1" lang="zh-CN" sz="2400" spc="-1" strike="noStrike">
                <a:solidFill>
                  <a:srgbClr val="990000"/>
                </a:solidFill>
                <a:latin typeface="comic"/>
              </a:rPr>
              <a:t>月</a:t>
            </a:r>
            <a:r>
              <a:rPr b="1" lang="en-US" sz="2400" spc="-1" strike="noStrike">
                <a:solidFill>
                  <a:srgbClr val="990000"/>
                </a:solidFill>
                <a:latin typeface="comic"/>
              </a:rPr>
              <a:t>---1841</a:t>
            </a:r>
            <a:r>
              <a:rPr b="1" lang="zh-CN" sz="2400" spc="-1" strike="noStrike">
                <a:solidFill>
                  <a:srgbClr val="990000"/>
                </a:solidFill>
                <a:latin typeface="comic"/>
              </a:rPr>
              <a:t>年</a:t>
            </a:r>
            <a:r>
              <a:rPr b="1" lang="en-US" sz="2400" spc="-1" strike="noStrike">
                <a:solidFill>
                  <a:srgbClr val="990000"/>
                </a:solidFill>
                <a:latin typeface="comic"/>
              </a:rPr>
              <a:t>5</a:t>
            </a:r>
            <a:r>
              <a:rPr b="1" lang="zh-CN" sz="2400" spc="-1" strike="noStrike">
                <a:solidFill>
                  <a:srgbClr val="990000"/>
                </a:solidFill>
                <a:latin typeface="comic"/>
              </a:rPr>
              <a:t>月</a:t>
            </a:r>
            <a:endParaRPr b="1" lang="en-US" sz="2400" spc="-1" strike="noStrike">
              <a:solidFill>
                <a:srgbClr val="60524b"/>
              </a:solidFill>
              <a:latin typeface="comic"/>
            </a:endParaRPr>
          </a:p>
        </p:txBody>
      </p:sp>
      <p:sp>
        <p:nvSpPr>
          <p:cNvPr id="252" name="PlaceHolder 2"/>
          <p:cNvSpPr>
            <a:spLocks noGrp="1"/>
          </p:cNvSpPr>
          <p:nvPr>
            <p:ph/>
          </p:nvPr>
        </p:nvSpPr>
        <p:spPr>
          <a:xfrm>
            <a:off x="4797000" y="3452760"/>
            <a:ext cx="4311720" cy="1062000"/>
          </a:xfrm>
          <a:prstGeom prst="rect">
            <a:avLst/>
          </a:prstGeom>
          <a:solidFill>
            <a:srgbClr val="3d3f41"/>
          </a:solidFill>
          <a:ln w="0">
            <a:noFill/>
          </a:ln>
        </p:spPr>
        <p:txBody>
          <a:bodyPr lIns="90000" rIns="90000" tIns="46800" bIns="46800" anchor="t">
            <a:normAutofit/>
          </a:bodyPr>
          <a:p>
            <a:pPr marL="35712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黑体"/>
              </a:rPr>
              <a:t>道光帝将林则徐撤职查办。</a:t>
            </a:r>
            <a:endParaRPr b="0" lang="en-US" sz="2800" spc="-1" strike="noStrike">
              <a:solidFill>
                <a:srgbClr val="60524b"/>
              </a:solidFill>
              <a:latin typeface="Calibri"/>
            </a:endParaRPr>
          </a:p>
        </p:txBody>
      </p:sp>
      <p:sp>
        <p:nvSpPr>
          <p:cNvPr id="253" name=""/>
          <p:cNvSpPr/>
          <p:nvPr/>
        </p:nvSpPr>
        <p:spPr>
          <a:xfrm>
            <a:off x="5292720" y="1701720"/>
            <a:ext cx="2016000" cy="520560"/>
          </a:xfrm>
          <a:prstGeom prst="rect">
            <a:avLst/>
          </a:prstGeom>
          <a:solidFill>
            <a:srgbClr val="3d3f41"/>
          </a:solidFill>
          <a:ln w="9360">
            <a:solidFill>
              <a:srgbClr val="4547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攻广州</a:t>
            </a:r>
            <a:endParaRPr b="0" lang="en-US" sz="2800" spc="-1" strike="noStrike">
              <a:solidFill>
                <a:srgbClr val="000000"/>
              </a:solidFill>
              <a:latin typeface="Arial"/>
            </a:endParaRPr>
          </a:p>
        </p:txBody>
      </p:sp>
      <p:sp>
        <p:nvSpPr>
          <p:cNvPr id="254" name=""/>
          <p:cNvSpPr/>
          <p:nvPr/>
        </p:nvSpPr>
        <p:spPr>
          <a:xfrm>
            <a:off x="5437080" y="2290680"/>
            <a:ext cx="820800" cy="520560"/>
          </a:xfrm>
          <a:prstGeom prst="rect">
            <a:avLst/>
          </a:prstGeom>
          <a:solidFill>
            <a:srgbClr val="3d3f4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陷定海</a:t>
            </a:r>
            <a:endParaRPr b="0" lang="en-US" sz="2800" spc="-1" strike="noStrike">
              <a:solidFill>
                <a:srgbClr val="000000"/>
              </a:solidFill>
              <a:latin typeface="Arial"/>
            </a:endParaRPr>
          </a:p>
        </p:txBody>
      </p:sp>
      <p:sp>
        <p:nvSpPr>
          <p:cNvPr id="255" name=""/>
          <p:cNvSpPr/>
          <p:nvPr/>
        </p:nvSpPr>
        <p:spPr>
          <a:xfrm>
            <a:off x="5437080" y="2938320"/>
            <a:ext cx="820800" cy="520560"/>
          </a:xfrm>
          <a:prstGeom prst="rect">
            <a:avLst/>
          </a:prstGeom>
          <a:solidFill>
            <a:srgbClr val="3d3f4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逼天津</a:t>
            </a:r>
            <a:endParaRPr b="0" lang="en-US" sz="2800" spc="-1" strike="noStrike">
              <a:solidFill>
                <a:srgbClr val="000000"/>
              </a:solidFill>
              <a:latin typeface="Arial"/>
            </a:endParaRPr>
          </a:p>
        </p:txBody>
      </p:sp>
      <p:pic>
        <p:nvPicPr>
          <p:cNvPr id="256" name="" descr=""/>
          <p:cNvPicPr/>
          <p:nvPr/>
        </p:nvPicPr>
        <p:blipFill>
          <a:blip r:embed="rId2"/>
          <a:stretch/>
        </p:blipFill>
        <p:spPr>
          <a:xfrm>
            <a:off x="1619280" y="5877000"/>
            <a:ext cx="7632720" cy="78588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246"/>
                                        </p:tgtEl>
                                        <p:attrNameLst>
                                          <p:attrName>style.visibility</p:attrName>
                                        </p:attrNameLst>
                                      </p:cBhvr>
                                      <p:to>
                                        <p:strVal val="visible"/>
                                      </p:to>
                                    </p:set>
                                    <p:animEffect filter="wipe(down)" transition="in">
                                      <p:cBhvr additive="repl">
                                        <p:cTn id="429" dur="500"/>
                                        <p:tgtEl>
                                          <p:spTgt spid="24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253"/>
                                        </p:tgtEl>
                                        <p:attrNameLst>
                                          <p:attrName>style.visibility</p:attrName>
                                        </p:attrNameLst>
                                      </p:cBhvr>
                                      <p:to>
                                        <p:strVal val="visible"/>
                                      </p:to>
                                    </p:set>
                                    <p:animEffect filter="wipe(left)" transition="in">
                                      <p:cBhvr additive="repl">
                                        <p:cTn id="434" dur="500"/>
                                        <p:tgtEl>
                                          <p:spTgt spid="25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247"/>
                                        </p:tgtEl>
                                        <p:attrNameLst>
                                          <p:attrName>style.visibility</p:attrName>
                                        </p:attrNameLst>
                                      </p:cBhvr>
                                      <p:to>
                                        <p:strVal val="visible"/>
                                      </p:to>
                                    </p:set>
                                    <p:animEffect filter="wipe(down)" transition="in">
                                      <p:cBhvr additive="repl">
                                        <p:cTn id="439" dur="500"/>
                                        <p:tgtEl>
                                          <p:spTgt spid="24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248"/>
                                        </p:tgtEl>
                                        <p:attrNameLst>
                                          <p:attrName>style.visibility</p:attrName>
                                        </p:attrNameLst>
                                      </p:cBhvr>
                                      <p:to>
                                        <p:strVal val="visible"/>
                                      </p:to>
                                    </p:set>
                                    <p:animEffect filter="wipe(down)" transition="in">
                                      <p:cBhvr additive="repl">
                                        <p:cTn id="444" dur="1000"/>
                                        <p:tgtEl>
                                          <p:spTgt spid="24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54"/>
                                        </p:tgtEl>
                                        <p:attrNameLst>
                                          <p:attrName>style.visibility</p:attrName>
                                        </p:attrNameLst>
                                      </p:cBhvr>
                                      <p:to>
                                        <p:strVal val="visible"/>
                                      </p:to>
                                    </p:set>
                                    <p:animEffect filter="wipe(left)" transition="in">
                                      <p:cBhvr additive="repl">
                                        <p:cTn id="449" dur="500"/>
                                        <p:tgtEl>
                                          <p:spTgt spid="25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4">
                                  <p:stCondLst>
                                    <p:cond delay="0"/>
                                  </p:stCondLst>
                                  <p:childTnLst>
                                    <p:set>
                                      <p:cBhvr>
                                        <p:cTn id="453" dur="1" fill="hold">
                                          <p:stCondLst>
                                            <p:cond delay="0"/>
                                          </p:stCondLst>
                                        </p:cTn>
                                        <p:tgtEl>
                                          <p:spTgt spid="249"/>
                                        </p:tgtEl>
                                        <p:attrNameLst>
                                          <p:attrName>style.visibility</p:attrName>
                                        </p:attrNameLst>
                                      </p:cBhvr>
                                      <p:to>
                                        <p:strVal val="visible"/>
                                      </p:to>
                                    </p:set>
                                    <p:animEffect filter="wipe(down)" transition="in">
                                      <p:cBhvr additive="repl">
                                        <p:cTn id="454" dur="1000"/>
                                        <p:tgtEl>
                                          <p:spTgt spid="24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55"/>
                                        </p:tgtEl>
                                        <p:attrNameLst>
                                          <p:attrName>style.visibility</p:attrName>
                                        </p:attrNameLst>
                                      </p:cBhvr>
                                      <p:to>
                                        <p:strVal val="visible"/>
                                      </p:to>
                                    </p:set>
                                    <p:anim calcmode="lin" valueType="num">
                                      <p:cBhvr additive="base">
                                        <p:cTn id="459" dur="500" fill="hold"/>
                                        <p:tgtEl>
                                          <p:spTgt spid="255"/>
                                        </p:tgtEl>
                                        <p:attrNameLst>
                                          <p:attrName>ppt_x</p:attrName>
                                        </p:attrNameLst>
                                      </p:cBhvr>
                                      <p:tavLst>
                                        <p:tav tm="0">
                                          <p:val>
                                            <p:strVal val="1+#ppt_w/2"/>
                                          </p:val>
                                        </p:tav>
                                        <p:tav tm="100000">
                                          <p:val>
                                            <p:strVal val="#ppt_x"/>
                                          </p:val>
                                        </p:tav>
                                      </p:tavLst>
                                    </p:anim>
                                    <p:anim calcmode="lin" valueType="num">
                                      <p:cBhvr additive="base">
                                        <p:cTn id="46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52"/>
                                        </p:tgtEl>
                                        <p:attrNameLst>
                                          <p:attrName>style.visibility</p:attrName>
                                        </p:attrNameLst>
                                      </p:cBhvr>
                                      <p:to>
                                        <p:strVal val="visible"/>
                                      </p:to>
                                    </p:set>
                                    <p:anim calcmode="lin" valueType="num">
                                      <p:cBhvr additive="base">
                                        <p:cTn id="465" dur="500" fill="hold"/>
                                        <p:tgtEl>
                                          <p:spTgt spid="252"/>
                                        </p:tgtEl>
                                        <p:attrNameLst>
                                          <p:attrName>ppt_x</p:attrName>
                                        </p:attrNameLst>
                                      </p:cBhvr>
                                      <p:tavLst>
                                        <p:tav tm="0">
                                          <p:val>
                                            <p:strVal val="#ppt_x"/>
                                          </p:val>
                                        </p:tav>
                                        <p:tav tm="100000">
                                          <p:val>
                                            <p:strVal val="#ppt_x"/>
                                          </p:val>
                                        </p:tav>
                                      </p:tavLst>
                                    </p:anim>
                                    <p:anim calcmode="lin" valueType="num">
                                      <p:cBhvr additive="base">
                                        <p:cTn id="466"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52">
                                            <p:txEl>
                                              <p:pRg st="0" end="0"/>
                                            </p:txEl>
                                          </p:spTgt>
                                        </p:tgtEl>
                                        <p:attrNameLst>
                                          <p:attrName>style.visibility</p:attrName>
                                        </p:attrNameLst>
                                      </p:cBhvr>
                                      <p:to>
                                        <p:strVal val="visible"/>
                                      </p:to>
                                    </p:set>
                                    <p:anim calcmode="lin" valueType="num">
                                      <p:cBhvr additive="base">
                                        <p:cTn id="471"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250"/>
                                        </p:tgtEl>
                                        <p:attrNameLst>
                                          <p:attrName>style.visibility</p:attrName>
                                        </p:attrNameLst>
                                      </p:cBhvr>
                                      <p:to>
                                        <p:strVal val="visible"/>
                                      </p:to>
                                    </p:set>
                                    <p:animEffect filter="wipe(up)" transition="in">
                                      <p:cBhvr additive="repl">
                                        <p:cTn id="477" dur="1000"/>
                                        <p:tgtEl>
                                          <p:spTgt spid="25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5113440" cy="6858000"/>
          </a:xfrm>
          <a:prstGeom prst="rect">
            <a:avLst/>
          </a:prstGeom>
          <a:ln w="0">
            <a:noFill/>
          </a:ln>
        </p:spPr>
      </p:pic>
      <p:sp>
        <p:nvSpPr>
          <p:cNvPr id="258" name=""/>
          <p:cNvSpPr/>
          <p:nvPr/>
        </p:nvSpPr>
        <p:spPr>
          <a:xfrm flipV="1">
            <a:off x="2916360" y="1052280"/>
            <a:ext cx="1726920" cy="100800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3333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laceHolder 1"/>
          <p:cNvSpPr>
            <a:spLocks noGrp="1"/>
          </p:cNvSpPr>
          <p:nvPr>
            <p:ph type="title"/>
          </p:nvPr>
        </p:nvSpPr>
        <p:spPr>
          <a:xfrm>
            <a:off x="5181120" y="189000"/>
            <a:ext cx="3962520" cy="1079280"/>
          </a:xfrm>
          <a:prstGeom prst="rect">
            <a:avLst/>
          </a:prstGeom>
          <a:solidFill>
            <a:srgbClr val="ffffff">
              <a:alpha val="56000"/>
            </a:srgbClr>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comic"/>
              </a:rPr>
              <a:t>第二阶段</a:t>
            </a:r>
            <a:br>
              <a:rPr sz="2400"/>
            </a:br>
            <a:r>
              <a:rPr b="1" lang="en-US" sz="2400" spc="-1" strike="noStrike">
                <a:solidFill>
                  <a:srgbClr val="a50021"/>
                </a:solidFill>
                <a:latin typeface="comic"/>
              </a:rPr>
              <a:t> </a:t>
            </a:r>
            <a:r>
              <a:rPr b="1" lang="en-US" sz="2400" spc="-1" strike="noStrike">
                <a:solidFill>
                  <a:srgbClr val="990000"/>
                </a:solidFill>
                <a:latin typeface="comic"/>
              </a:rPr>
              <a:t>1841</a:t>
            </a:r>
            <a:r>
              <a:rPr b="1" lang="zh-CN" sz="2400" spc="-1" strike="noStrike">
                <a:solidFill>
                  <a:srgbClr val="990000"/>
                </a:solidFill>
                <a:latin typeface="comic"/>
              </a:rPr>
              <a:t>年</a:t>
            </a:r>
            <a:r>
              <a:rPr b="1" lang="en-US" sz="2400" spc="-1" strike="noStrike">
                <a:solidFill>
                  <a:srgbClr val="990000"/>
                </a:solidFill>
                <a:latin typeface="comic"/>
              </a:rPr>
              <a:t>6</a:t>
            </a:r>
            <a:r>
              <a:rPr b="1" lang="zh-CN" sz="2400" spc="-1" strike="noStrike">
                <a:solidFill>
                  <a:srgbClr val="990000"/>
                </a:solidFill>
                <a:latin typeface="comic"/>
              </a:rPr>
              <a:t>月</a:t>
            </a:r>
            <a:r>
              <a:rPr b="1" lang="en-US" sz="2400" spc="-1" strike="noStrike">
                <a:solidFill>
                  <a:srgbClr val="990000"/>
                </a:solidFill>
                <a:latin typeface="comic"/>
              </a:rPr>
              <a:t>---1842</a:t>
            </a:r>
            <a:r>
              <a:rPr b="1" lang="zh-CN" sz="2400" spc="-1" strike="noStrike">
                <a:solidFill>
                  <a:srgbClr val="990000"/>
                </a:solidFill>
                <a:latin typeface="comic"/>
              </a:rPr>
              <a:t>年</a:t>
            </a:r>
            <a:r>
              <a:rPr b="1" lang="en-US" sz="2400" spc="-1" strike="noStrike">
                <a:solidFill>
                  <a:srgbClr val="990000"/>
                </a:solidFill>
                <a:latin typeface="comic"/>
              </a:rPr>
              <a:t>8</a:t>
            </a:r>
            <a:r>
              <a:rPr b="1" lang="zh-CN" sz="2400" spc="-1" strike="noStrike">
                <a:solidFill>
                  <a:srgbClr val="990000"/>
                </a:solidFill>
                <a:latin typeface="comic"/>
              </a:rPr>
              <a:t>月</a:t>
            </a:r>
            <a:endParaRPr b="1" lang="en-US" sz="2400" spc="-1" strike="noStrike">
              <a:solidFill>
                <a:srgbClr val="60524b"/>
              </a:solidFill>
              <a:latin typeface="comic"/>
            </a:endParaRPr>
          </a:p>
        </p:txBody>
      </p:sp>
      <p:sp>
        <p:nvSpPr>
          <p:cNvPr id="260" name=""/>
          <p:cNvSpPr/>
          <p:nvPr/>
        </p:nvSpPr>
        <p:spPr>
          <a:xfrm>
            <a:off x="1676520" y="5797440"/>
            <a:ext cx="152280" cy="152640"/>
          </a:xfrm>
          <a:prstGeom prst="ellipse">
            <a:avLst/>
          </a:prstGeom>
          <a:solidFill>
            <a:srgbClr val="ff6699"/>
          </a:solidFill>
          <a:ln w="9360">
            <a:solidFill>
              <a:srgbClr val="3d3f4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21286800">
            <a:off x="1371240" y="5943240"/>
            <a:ext cx="396720" cy="730080"/>
          </a:xfrm>
          <a:custGeom>
            <a:avLst/>
            <a:gdLst/>
            <a:ahLst/>
            <a:rect l="l" t="t" r="r" b="b"/>
            <a:pathLst>
              <a:path w="236" h="388">
                <a:moveTo>
                  <a:pt x="0" y="388"/>
                </a:moveTo>
                <a:cubicBezTo>
                  <a:pt x="17" y="332"/>
                  <a:pt x="80" y="234"/>
                  <a:pt x="132" y="199"/>
                </a:cubicBezTo>
                <a:cubicBezTo>
                  <a:pt x="143" y="182"/>
                  <a:pt x="174" y="137"/>
                  <a:pt x="189" y="114"/>
                </a:cubicBezTo>
                <a:cubicBezTo>
                  <a:pt x="195" y="104"/>
                  <a:pt x="208" y="85"/>
                  <a:pt x="208" y="85"/>
                </a:cubicBezTo>
                <a:cubicBezTo>
                  <a:pt x="214" y="66"/>
                  <a:pt x="220" y="48"/>
                  <a:pt x="226" y="29"/>
                </a:cubicBezTo>
                <a:cubicBezTo>
                  <a:pt x="229" y="19"/>
                  <a:pt x="236" y="0"/>
                  <a:pt x="236" y="0"/>
                </a:cubicBezTo>
              </a:path>
            </a:pathLst>
          </a:custGeom>
          <a:noFill/>
          <a:ln w="57240">
            <a:solidFill>
              <a:srgbClr val="66ff33"/>
            </a:solidFill>
            <a:round/>
            <a:tailEnd len="med"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905120" y="5410080"/>
            <a:ext cx="955440" cy="533520"/>
          </a:xfrm>
          <a:custGeom>
            <a:avLst/>
            <a:gdLst/>
            <a:ahLst/>
            <a:rect l="l" t="t" r="r" b="b"/>
            <a:pathLst>
              <a:path w="746" h="378">
                <a:moveTo>
                  <a:pt x="0" y="378"/>
                </a:moveTo>
                <a:cubicBezTo>
                  <a:pt x="151" y="369"/>
                  <a:pt x="256" y="352"/>
                  <a:pt x="396" y="312"/>
                </a:cubicBezTo>
                <a:cubicBezTo>
                  <a:pt x="435" y="301"/>
                  <a:pt x="483" y="295"/>
                  <a:pt x="519" y="274"/>
                </a:cubicBezTo>
                <a:cubicBezTo>
                  <a:pt x="539" y="263"/>
                  <a:pt x="576" y="236"/>
                  <a:pt x="576" y="236"/>
                </a:cubicBezTo>
                <a:cubicBezTo>
                  <a:pt x="608" y="189"/>
                  <a:pt x="586" y="214"/>
                  <a:pt x="651" y="170"/>
                </a:cubicBezTo>
                <a:cubicBezTo>
                  <a:pt x="701" y="136"/>
                  <a:pt x="746" y="61"/>
                  <a:pt x="746" y="0"/>
                </a:cubicBezTo>
              </a:path>
            </a:pathLst>
          </a:custGeom>
          <a:noFill/>
          <a:ln w="57240">
            <a:solidFill>
              <a:srgbClr val="66ff33"/>
            </a:solidFill>
            <a:round/>
            <a:tailEnd len="med"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916360" y="3860640"/>
            <a:ext cx="1008000" cy="1584360"/>
          </a:xfrm>
          <a:custGeom>
            <a:avLst/>
            <a:gdLst/>
            <a:ahLst/>
            <a:rect l="l" t="t" r="r" b="b"/>
            <a:pathLst>
              <a:path w="519" h="916">
                <a:moveTo>
                  <a:pt x="0" y="916"/>
                </a:moveTo>
                <a:cubicBezTo>
                  <a:pt x="37" y="903"/>
                  <a:pt x="76" y="900"/>
                  <a:pt x="113" y="887"/>
                </a:cubicBezTo>
                <a:cubicBezTo>
                  <a:pt x="119" y="878"/>
                  <a:pt x="123" y="866"/>
                  <a:pt x="132" y="859"/>
                </a:cubicBezTo>
                <a:cubicBezTo>
                  <a:pt x="140" y="853"/>
                  <a:pt x="153" y="857"/>
                  <a:pt x="160" y="850"/>
                </a:cubicBezTo>
                <a:cubicBezTo>
                  <a:pt x="273" y="737"/>
                  <a:pt x="145" y="829"/>
                  <a:pt x="226" y="774"/>
                </a:cubicBezTo>
                <a:cubicBezTo>
                  <a:pt x="237" y="743"/>
                  <a:pt x="274" y="689"/>
                  <a:pt x="274" y="689"/>
                </a:cubicBezTo>
                <a:cubicBezTo>
                  <a:pt x="287" y="648"/>
                  <a:pt x="311" y="614"/>
                  <a:pt x="330" y="576"/>
                </a:cubicBezTo>
                <a:cubicBezTo>
                  <a:pt x="339" y="558"/>
                  <a:pt x="339" y="537"/>
                  <a:pt x="349" y="519"/>
                </a:cubicBezTo>
                <a:cubicBezTo>
                  <a:pt x="360" y="499"/>
                  <a:pt x="387" y="463"/>
                  <a:pt x="387" y="463"/>
                </a:cubicBezTo>
                <a:cubicBezTo>
                  <a:pt x="399" y="424"/>
                  <a:pt x="421" y="384"/>
                  <a:pt x="444" y="349"/>
                </a:cubicBezTo>
                <a:cubicBezTo>
                  <a:pt x="463" y="293"/>
                  <a:pt x="482" y="236"/>
                  <a:pt x="500" y="179"/>
                </a:cubicBezTo>
                <a:cubicBezTo>
                  <a:pt x="507" y="115"/>
                  <a:pt x="519" y="60"/>
                  <a:pt x="491" y="0"/>
                </a:cubicBezTo>
              </a:path>
            </a:pathLst>
          </a:custGeom>
          <a:noFill/>
          <a:ln w="57240">
            <a:solidFill>
              <a:srgbClr val="66ff33"/>
            </a:solidFill>
            <a:round/>
            <a:tailEnd len="med"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276720" y="3200400"/>
            <a:ext cx="695160" cy="487440"/>
          </a:xfrm>
          <a:custGeom>
            <a:avLst/>
            <a:gdLst/>
            <a:ahLst/>
            <a:rect l="l" t="t" r="r" b="b"/>
            <a:pathLst>
              <a:path w="104" h="95">
                <a:moveTo>
                  <a:pt x="104" y="95"/>
                </a:moveTo>
                <a:cubicBezTo>
                  <a:pt x="101" y="86"/>
                  <a:pt x="100" y="75"/>
                  <a:pt x="94" y="67"/>
                </a:cubicBezTo>
                <a:cubicBezTo>
                  <a:pt x="87" y="58"/>
                  <a:pt x="75" y="55"/>
                  <a:pt x="66" y="48"/>
                </a:cubicBezTo>
                <a:cubicBezTo>
                  <a:pt x="47" y="32"/>
                  <a:pt x="28" y="0"/>
                  <a:pt x="0" y="0"/>
                </a:cubicBezTo>
              </a:path>
            </a:pathLst>
          </a:custGeom>
          <a:noFill/>
          <a:ln w="57240">
            <a:solidFill>
              <a:srgbClr val="66ff33"/>
            </a:solidFill>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048120" y="3124080"/>
            <a:ext cx="152280" cy="152640"/>
          </a:xfrm>
          <a:prstGeom prst="ellipse">
            <a:avLst/>
          </a:prstGeom>
          <a:solidFill>
            <a:srgbClr val="ff6699"/>
          </a:solidFill>
          <a:ln w="9360">
            <a:solidFill>
              <a:srgbClr val="3d3f4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2"/>
          <p:cNvSpPr>
            <a:spLocks noGrp="1"/>
          </p:cNvSpPr>
          <p:nvPr>
            <p:ph/>
          </p:nvPr>
        </p:nvSpPr>
        <p:spPr>
          <a:xfrm>
            <a:off x="5219280" y="3860280"/>
            <a:ext cx="3745080" cy="1008360"/>
          </a:xfrm>
          <a:prstGeom prst="rect">
            <a:avLst/>
          </a:prstGeom>
          <a:solidFill>
            <a:srgbClr val="3d3f41"/>
          </a:solidFill>
          <a:ln w="0">
            <a:noFill/>
          </a:ln>
        </p:spPr>
        <p:txBody>
          <a:bodyPr lIns="90000" rIns="90000" tIns="46800" bIns="46800" anchor="t">
            <a:normAutofit/>
          </a:bodyPr>
          <a:p>
            <a:pPr marL="35712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清政府被迫签订《南京条约》。</a:t>
            </a:r>
            <a:endParaRPr b="0" lang="en-US" sz="2800" spc="-1" strike="noStrike">
              <a:solidFill>
                <a:srgbClr val="60524b"/>
              </a:solidFill>
              <a:latin typeface="Calibri"/>
            </a:endParaRPr>
          </a:p>
        </p:txBody>
      </p:sp>
      <p:sp>
        <p:nvSpPr>
          <p:cNvPr id="267" name=""/>
          <p:cNvSpPr/>
          <p:nvPr/>
        </p:nvSpPr>
        <p:spPr>
          <a:xfrm>
            <a:off x="5577840" y="1700280"/>
            <a:ext cx="1034280" cy="520560"/>
          </a:xfrm>
          <a:prstGeom prst="rect">
            <a:avLst/>
          </a:prstGeom>
          <a:solidFill>
            <a:srgbClr val="3d3f4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占香港岛</a:t>
            </a:r>
            <a:endParaRPr b="0" lang="en-US" sz="2800" spc="-1" strike="noStrike">
              <a:solidFill>
                <a:srgbClr val="000000"/>
              </a:solidFill>
              <a:latin typeface="Arial"/>
            </a:endParaRPr>
          </a:p>
        </p:txBody>
      </p:sp>
      <p:sp>
        <p:nvSpPr>
          <p:cNvPr id="268" name=""/>
          <p:cNvSpPr/>
          <p:nvPr/>
        </p:nvSpPr>
        <p:spPr>
          <a:xfrm>
            <a:off x="5510160" y="2421000"/>
            <a:ext cx="820800" cy="520560"/>
          </a:xfrm>
          <a:prstGeom prst="rect">
            <a:avLst/>
          </a:prstGeom>
          <a:solidFill>
            <a:srgbClr val="3d3f4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进吴淞</a:t>
            </a:r>
            <a:endParaRPr b="0" lang="en-US" sz="2800" spc="-1" strike="noStrike">
              <a:solidFill>
                <a:srgbClr val="000000"/>
              </a:solidFill>
              <a:latin typeface="Arial"/>
            </a:endParaRPr>
          </a:p>
        </p:txBody>
      </p:sp>
      <p:sp>
        <p:nvSpPr>
          <p:cNvPr id="269" name=""/>
          <p:cNvSpPr/>
          <p:nvPr/>
        </p:nvSpPr>
        <p:spPr>
          <a:xfrm>
            <a:off x="5510160" y="3141720"/>
            <a:ext cx="820800" cy="520560"/>
          </a:xfrm>
          <a:prstGeom prst="rect">
            <a:avLst/>
          </a:prstGeom>
          <a:solidFill>
            <a:srgbClr val="3d3f4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到南京</a:t>
            </a:r>
            <a:endParaRPr b="0" lang="en-US" sz="2800" spc="-1" strike="noStrike">
              <a:solidFill>
                <a:srgbClr val="000000"/>
              </a:solidFill>
              <a:latin typeface="Arial"/>
            </a:endParaRPr>
          </a:p>
        </p:txBody>
      </p:sp>
      <p:pic>
        <p:nvPicPr>
          <p:cNvPr id="270" name="" descr=""/>
          <p:cNvPicPr/>
          <p:nvPr/>
        </p:nvPicPr>
        <p:blipFill>
          <a:blip r:embed="rId2"/>
          <a:stretch/>
        </p:blipFill>
        <p:spPr>
          <a:xfrm>
            <a:off x="1547640" y="6021360"/>
            <a:ext cx="7632720" cy="7858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261"/>
                                        </p:tgtEl>
                                        <p:attrNameLst>
                                          <p:attrName>style.visibility</p:attrName>
                                        </p:attrNameLst>
                                      </p:cBhvr>
                                      <p:to>
                                        <p:strVal val="visible"/>
                                      </p:to>
                                    </p:set>
                                    <p:animEffect filter="wipe(down)" transition="in">
                                      <p:cBhvr additive="repl">
                                        <p:cTn id="488" dur="500"/>
                                        <p:tgtEl>
                                          <p:spTgt spid="2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4">
                                  <p:stCondLst>
                                    <p:cond delay="0"/>
                                  </p:stCondLst>
                                  <p:childTnLst>
                                    <p:set>
                                      <p:cBhvr>
                                        <p:cTn id="492" dur="1" fill="hold">
                                          <p:stCondLst>
                                            <p:cond delay="0"/>
                                          </p:stCondLst>
                                        </p:cTn>
                                        <p:tgtEl>
                                          <p:spTgt spid="260"/>
                                        </p:tgtEl>
                                        <p:attrNameLst>
                                          <p:attrName>style.visibility</p:attrName>
                                        </p:attrNameLst>
                                      </p:cBhvr>
                                      <p:to>
                                        <p:strVal val="visible"/>
                                      </p:to>
                                    </p:set>
                                    <p:animEffect filter="wipe(down)" transition="in">
                                      <p:cBhvr additive="repl">
                                        <p:cTn id="493" dur="500"/>
                                        <p:tgtEl>
                                          <p:spTgt spid="26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67"/>
                                        </p:tgtEl>
                                        <p:attrNameLst>
                                          <p:attrName>style.visibility</p:attrName>
                                        </p:attrNameLst>
                                      </p:cBhvr>
                                      <p:to>
                                        <p:strVal val="visible"/>
                                      </p:to>
                                    </p:set>
                                    <p:animEffect filter="wipe(left)" transition="in">
                                      <p:cBhvr additive="repl">
                                        <p:cTn id="498" dur="500"/>
                                        <p:tgtEl>
                                          <p:spTgt spid="267"/>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262"/>
                                        </p:tgtEl>
                                        <p:attrNameLst>
                                          <p:attrName>style.visibility</p:attrName>
                                        </p:attrNameLst>
                                      </p:cBhvr>
                                      <p:to>
                                        <p:strVal val="visible"/>
                                      </p:to>
                                    </p:set>
                                    <p:animEffect filter="wipe(down)" transition="in">
                                      <p:cBhvr additive="repl">
                                        <p:cTn id="503" dur="500"/>
                                        <p:tgtEl>
                                          <p:spTgt spid="2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8" presetSubtype="3">
                                  <p:stCondLst>
                                    <p:cond delay="0"/>
                                  </p:stCondLst>
                                  <p:childTnLst>
                                    <p:set>
                                      <p:cBhvr>
                                        <p:cTn id="507" dur="1" fill="hold">
                                          <p:stCondLst>
                                            <p:cond delay="0"/>
                                          </p:stCondLst>
                                        </p:cTn>
                                        <p:tgtEl>
                                          <p:spTgt spid="263"/>
                                        </p:tgtEl>
                                        <p:attrNameLst>
                                          <p:attrName>style.visibility</p:attrName>
                                        </p:attrNameLst>
                                      </p:cBhvr>
                                      <p:to>
                                        <p:strVal val="visible"/>
                                      </p:to>
                                    </p:set>
                                    <p:animEffect filter="strips(upRight)" transition="in">
                                      <p:cBhvr additive="repl">
                                        <p:cTn id="508" dur="500"/>
                                        <p:tgtEl>
                                          <p:spTgt spid="26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9">
                                  <p:stCondLst>
                                    <p:cond delay="0"/>
                                  </p:stCondLst>
                                  <p:childTnLst>
                                    <p:set>
                                      <p:cBhvr>
                                        <p:cTn id="512" dur="1" fill="hold">
                                          <p:stCondLst>
                                            <p:cond delay="0"/>
                                          </p:stCondLst>
                                        </p:cTn>
                                        <p:tgtEl>
                                          <p:spTgt spid="264"/>
                                        </p:tgtEl>
                                        <p:attrNameLst>
                                          <p:attrName>style.visibility</p:attrName>
                                        </p:attrNameLst>
                                      </p:cBhvr>
                                      <p:to>
                                        <p:strVal val="visible"/>
                                      </p:to>
                                    </p:set>
                                    <p:animEffect filter="strips(upLeft)" transition="in">
                                      <p:cBhvr additive="repl">
                                        <p:cTn id="513" dur="500"/>
                                        <p:tgtEl>
                                          <p:spTgt spid="264"/>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265"/>
                                        </p:tgtEl>
                                        <p:attrNameLst>
                                          <p:attrName>style.visibility</p:attrName>
                                        </p:attrNameLst>
                                      </p:cBhvr>
                                      <p:to>
                                        <p:strVal val="visible"/>
                                      </p:to>
                                    </p:set>
                                    <p:animEffect filter="wipe(down)" transition="in">
                                      <p:cBhvr additive="repl">
                                        <p:cTn id="518" dur="500"/>
                                        <p:tgtEl>
                                          <p:spTgt spid="26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68"/>
                                        </p:tgtEl>
                                        <p:attrNameLst>
                                          <p:attrName>style.visibility</p:attrName>
                                        </p:attrNameLst>
                                      </p:cBhvr>
                                      <p:to>
                                        <p:strVal val="visible"/>
                                      </p:to>
                                    </p:set>
                                    <p:anim calcmode="lin" valueType="num">
                                      <p:cBhvr additive="base">
                                        <p:cTn id="523" dur="500" fill="hold"/>
                                        <p:tgtEl>
                                          <p:spTgt spid="268"/>
                                        </p:tgtEl>
                                        <p:attrNameLst>
                                          <p:attrName>ppt_x</p:attrName>
                                        </p:attrNameLst>
                                      </p:cBhvr>
                                      <p:tavLst>
                                        <p:tav tm="0">
                                          <p:val>
                                            <p:strVal val="#ppt_x"/>
                                          </p:val>
                                        </p:tav>
                                        <p:tav tm="100000">
                                          <p:val>
                                            <p:strVal val="#ppt_x"/>
                                          </p:val>
                                        </p:tav>
                                      </p:tavLst>
                                    </p:anim>
                                    <p:anim calcmode="lin" valueType="num">
                                      <p:cBhvr additive="base">
                                        <p:cTn id="52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69"/>
                                        </p:tgtEl>
                                        <p:attrNameLst>
                                          <p:attrName>style.visibility</p:attrName>
                                        </p:attrNameLst>
                                      </p:cBhvr>
                                      <p:to>
                                        <p:strVal val="visible"/>
                                      </p:to>
                                    </p:set>
                                    <p:anim calcmode="lin" valueType="num">
                                      <p:cBhvr additive="base">
                                        <p:cTn id="529" dur="500" fill="hold"/>
                                        <p:tgtEl>
                                          <p:spTgt spid="269"/>
                                        </p:tgtEl>
                                        <p:attrNameLst>
                                          <p:attrName>ppt_x</p:attrName>
                                        </p:attrNameLst>
                                      </p:cBhvr>
                                      <p:tavLst>
                                        <p:tav tm="0">
                                          <p:val>
                                            <p:strVal val="#ppt_x"/>
                                          </p:val>
                                        </p:tav>
                                        <p:tav tm="100000">
                                          <p:val>
                                            <p:strVal val="#ppt_x"/>
                                          </p:val>
                                        </p:tav>
                                      </p:tavLst>
                                    </p:anim>
                                    <p:anim calcmode="lin" valueType="num">
                                      <p:cBhvr additive="base">
                                        <p:cTn id="53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66"/>
                                        </p:tgtEl>
                                        <p:attrNameLst>
                                          <p:attrName>style.visibility</p:attrName>
                                        </p:attrNameLst>
                                      </p:cBhvr>
                                      <p:to>
                                        <p:strVal val="visible"/>
                                      </p:to>
                                    </p:set>
                                    <p:anim calcmode="lin" valueType="num">
                                      <p:cBhvr additive="base">
                                        <p:cTn id="535" dur="500" fill="hold"/>
                                        <p:tgtEl>
                                          <p:spTgt spid="266"/>
                                        </p:tgtEl>
                                        <p:attrNameLst>
                                          <p:attrName>ppt_x</p:attrName>
                                        </p:attrNameLst>
                                      </p:cBhvr>
                                      <p:tavLst>
                                        <p:tav tm="0">
                                          <p:val>
                                            <p:strVal val="#ppt_x"/>
                                          </p:val>
                                        </p:tav>
                                        <p:tav tm="100000">
                                          <p:val>
                                            <p:strVal val="#ppt_x"/>
                                          </p:val>
                                        </p:tav>
                                      </p:tavLst>
                                    </p:anim>
                                    <p:anim calcmode="lin" valueType="num">
                                      <p:cBhvr additive="base">
                                        <p:cTn id="536"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6">
                                            <p:txEl>
                                              <p:pRg st="0" end="0"/>
                                            </p:txEl>
                                          </p:spTgt>
                                        </p:tgtEl>
                                        <p:attrNameLst>
                                          <p:attrName>style.visibility</p:attrName>
                                        </p:attrNameLst>
                                      </p:cBhvr>
                                      <p:to>
                                        <p:strVal val="visible"/>
                                      </p:to>
                                    </p:set>
                                    <p:anim calcmode="lin" valueType="num">
                                      <p:cBhvr additive="base">
                                        <p:cTn id="541"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1835280" y="0"/>
            <a:ext cx="5076720" cy="6858000"/>
          </a:xfrm>
          <a:prstGeom prst="rect">
            <a:avLst/>
          </a:prstGeom>
          <a:ln w="0">
            <a:noFill/>
          </a:ln>
        </p:spPr>
      </p:pic>
      <p:pic>
        <p:nvPicPr>
          <p:cNvPr id="143" name="Picture 6" descr="虎门销烟"/>
          <p:cNvPicPr/>
          <p:nvPr/>
        </p:nvPicPr>
        <p:blipFill>
          <a:blip r:embed="rId2"/>
          <a:stretch/>
        </p:blipFill>
        <p:spPr>
          <a:xfrm>
            <a:off x="0" y="692280"/>
            <a:ext cx="9144000" cy="5589360"/>
          </a:xfrm>
          <a:prstGeom prst="rect">
            <a:avLst/>
          </a:prstGeom>
          <a:ln w="9360">
            <a:solidFill>
              <a:srgbClr val="993300"/>
            </a:solidFill>
            <a:miter/>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2"/>
                                        </p:tgtEl>
                                        <p:attrNameLst>
                                          <p:attrName>style.visibility</p:attrName>
                                        </p:attrNameLst>
                                      </p:cBhvr>
                                      <p:to>
                                        <p:strVal val="visible"/>
                                      </p:to>
                                    </p:set>
                                    <p:animEffect filter="box(in)" transition="in">
                                      <p:cBhvr additive="repl">
                                        <p:cTn id="49" dur="500"/>
                                        <p:tgtEl>
                                          <p:spTgt spid="14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43"/>
                                        </p:tgtEl>
                                        <p:attrNameLst>
                                          <p:attrName>style.visibility</p:attrName>
                                        </p:attrNameLst>
                                      </p:cBhvr>
                                      <p:to>
                                        <p:strVal val="visible"/>
                                      </p:to>
                                    </p:set>
                                    <p:animEffect filter="box(in)" transition="in">
                                      <p:cBhvr additive="repl">
                                        <p:cTn id="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0" y="71280"/>
            <a:ext cx="2627280" cy="620640"/>
            <a:chOff x="0" y="71280"/>
            <a:chExt cx="2627280" cy="620640"/>
          </a:xfrm>
        </p:grpSpPr>
        <p:pic>
          <p:nvPicPr>
            <p:cNvPr id="272" name="" descr=""/>
            <p:cNvPicPr/>
            <p:nvPr/>
          </p:nvPicPr>
          <p:blipFill>
            <a:blip r:embed="rId1"/>
            <a:stretch/>
          </p:blipFill>
          <p:spPr>
            <a:xfrm>
              <a:off x="0" y="71280"/>
              <a:ext cx="826920" cy="620640"/>
            </a:xfrm>
            <a:prstGeom prst="rect">
              <a:avLst/>
            </a:prstGeom>
            <a:ln w="0">
              <a:noFill/>
            </a:ln>
          </p:spPr>
        </p:pic>
        <p:pic>
          <p:nvPicPr>
            <p:cNvPr id="273" name="" descr=""/>
            <p:cNvPicPr/>
            <p:nvPr/>
          </p:nvPicPr>
          <p:blipFill>
            <a:blip r:embed="rId2"/>
            <a:stretch/>
          </p:blipFill>
          <p:spPr>
            <a:xfrm>
              <a:off x="1042920" y="237960"/>
              <a:ext cx="1584360" cy="453960"/>
            </a:xfrm>
            <a:prstGeom prst="rect">
              <a:avLst/>
            </a:prstGeom>
            <a:ln w="0">
              <a:noFill/>
            </a:ln>
          </p:spPr>
        </p:pic>
      </p:grpSp>
      <p:graphicFrame>
        <p:nvGraphicFramePr>
          <p:cNvPr id="274" name=""/>
          <p:cNvGraphicFramePr/>
          <p:nvPr/>
        </p:nvGraphicFramePr>
        <p:xfrm>
          <a:off x="287280" y="1104840"/>
          <a:ext cx="8605800" cy="4441680"/>
        </p:xfrm>
        <a:graphic>
          <a:graphicData uri="http://schemas.openxmlformats.org/drawingml/2006/table">
            <a:tbl>
              <a:tblPr/>
              <a:tblGrid>
                <a:gridCol w="723960"/>
                <a:gridCol w="4035240"/>
                <a:gridCol w="3846600"/>
              </a:tblGrid>
              <a:tr h="739800">
                <a:tc gridSpan="2">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0524b"/>
                          </a:solidFill>
                          <a:latin typeface="黑体"/>
                          <a:ea typeface="黑体"/>
                        </a:rPr>
                        <a:t>主要内容</a:t>
                      </a:r>
                      <a:endParaRPr b="0" lang="en-US" sz="2800" spc="-1" strike="noStrike">
                        <a:solidFill>
                          <a:srgbClr val="000000"/>
                        </a:solidFill>
                        <a:latin typeface="Arial"/>
                      </a:endParaRPr>
                    </a:p>
                  </a:txBody>
                  <a:tcPr anchor="ctr" marL="90000" marR="90000">
                    <a:lnL w="28080">
                      <a:solidFill>
                        <a:srgbClr val="000066"/>
                      </a:solidFill>
                    </a:lnL>
                    <a:lnR w="5760">
                      <a:solidFill>
                        <a:srgbClr val="3d3f41"/>
                      </a:solidFill>
                    </a:lnR>
                    <a:lnT w="28080">
                      <a:solidFill>
                        <a:srgbClr val="000066"/>
                      </a:solidFill>
                    </a:lnT>
                    <a:lnB w="9360">
                      <a:solidFill>
                        <a:srgbClr val="3d3f41"/>
                      </a:solidFill>
                    </a:lnB>
                    <a:solidFill>
                      <a:srgbClr val="ffcc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0524b"/>
                          </a:solidFill>
                          <a:latin typeface="黑体"/>
                          <a:ea typeface="黑体"/>
                        </a:rPr>
                        <a:t>对中国的主要危害</a:t>
                      </a:r>
                      <a:endParaRPr b="0" lang="en-US" sz="2800" spc="-1" strike="noStrike">
                        <a:solidFill>
                          <a:srgbClr val="000000"/>
                        </a:solidFill>
                        <a:latin typeface="Arial"/>
                      </a:endParaRPr>
                    </a:p>
                  </a:txBody>
                  <a:tcPr anchor="ctr" marL="90000" marR="90000">
                    <a:lnL w="5760">
                      <a:solidFill>
                        <a:srgbClr val="3d3f41"/>
                      </a:solidFill>
                    </a:lnL>
                    <a:lnR w="28080">
                      <a:solidFill>
                        <a:srgbClr val="000066"/>
                      </a:solidFill>
                    </a:lnR>
                    <a:lnT w="28080">
                      <a:solidFill>
                        <a:srgbClr val="000066"/>
                      </a:solidFill>
                    </a:lnT>
                    <a:lnB w="9360">
                      <a:solidFill>
                        <a:srgbClr val="3d3f41"/>
                      </a:solidFill>
                    </a:lnB>
                    <a:solidFill>
                      <a:srgbClr val="ffcccc">
                        <a:alpha val="50000"/>
                      </a:srgbClr>
                    </a:solidFill>
                  </a:tcPr>
                </a:tc>
              </a:tr>
              <a:tr h="755640">
                <a:tc rowSpan="4">
                  <a:txBody>
                    <a:bodyPr lIns="90000" rIns="90000" tIns="46800" bIns="46800" anchor="t" anchorCtr="1" vert="eaVert">
                      <a:noAutofit/>
                    </a:bodyPr>
                    <a:p>
                      <a:pPr algn="ctr">
                        <a:lnSpc>
                          <a:spcPct val="11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524b"/>
                          </a:solidFill>
                          <a:latin typeface="黑体"/>
                          <a:ea typeface="黑体"/>
                        </a:rPr>
                        <a:t>《</a:t>
                      </a:r>
                      <a:r>
                        <a:rPr b="1" lang="zh-CN" sz="3600" spc="-1" strike="noStrike">
                          <a:solidFill>
                            <a:srgbClr val="60524b"/>
                          </a:solidFill>
                          <a:latin typeface="黑体"/>
                          <a:ea typeface="黑体"/>
                        </a:rPr>
                        <a:t>南京条约</a:t>
                      </a:r>
                      <a:r>
                        <a:rPr b="1" lang="en-US" sz="3600" spc="-1" strike="noStrike">
                          <a:solidFill>
                            <a:srgbClr val="60524b"/>
                          </a:solidFill>
                          <a:latin typeface="黑体"/>
                          <a:ea typeface="黑体"/>
                        </a:rPr>
                        <a:t>》</a:t>
                      </a:r>
                      <a:endParaRPr b="0" lang="en-US" sz="3600" spc="-1" strike="noStrike">
                        <a:solidFill>
                          <a:srgbClr val="000000"/>
                        </a:solidFill>
                        <a:latin typeface="Arial"/>
                      </a:endParaRPr>
                    </a:p>
                  </a:txBody>
                  <a:tcPr anchor="t" marL="90000" marR="90000">
                    <a:lnL w="28080">
                      <a:solidFill>
                        <a:srgbClr val="000066"/>
                      </a:solidFill>
                    </a:lnL>
                    <a:lnR w="5760">
                      <a:solidFill>
                        <a:srgbClr val="3d3f41"/>
                      </a:solidFill>
                    </a:lnR>
                    <a:lnT w="9360">
                      <a:solidFill>
                        <a:srgbClr val="3d3f41"/>
                      </a:solidFill>
                    </a:lnT>
                    <a:lnB w="28080">
                      <a:solidFill>
                        <a:srgbClr val="3d3f41"/>
                      </a:solidFill>
                    </a:lnB>
                    <a:solidFill>
                      <a:srgbClr val="ffcccc">
                        <a:alpha val="50000"/>
                      </a:srgbClr>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3d3f41"/>
                      </a:solidFill>
                    </a:lnL>
                    <a:lnR w="5760">
                      <a:solidFill>
                        <a:srgbClr val="3d3f41"/>
                      </a:solidFill>
                    </a:lnR>
                    <a:lnT w="9360">
                      <a:solidFill>
                        <a:srgbClr val="3d3f41"/>
                      </a:solidFill>
                    </a:lnT>
                    <a:lnB w="5760">
                      <a:solidFill>
                        <a:srgbClr val="3d3f41"/>
                      </a:solidFill>
                    </a:lnB>
                    <a:solidFill>
                      <a:srgbClr val="ffcccc">
                        <a:alpha val="50000"/>
                      </a:srgbClr>
                    </a:solidFill>
                  </a:tcPr>
                </a:tc>
                <a:tc>
                  <a:txBody>
                    <a:bodyPr lIns="90000" rIns="90000" tIns="46800" bIns="46800" anchor="t">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d3f41"/>
                      </a:solidFill>
                    </a:lnL>
                    <a:lnR w="28080">
                      <a:solidFill>
                        <a:srgbClr val="000066"/>
                      </a:solidFill>
                    </a:lnR>
                    <a:lnT w="9360">
                      <a:solidFill>
                        <a:srgbClr val="3d3f41"/>
                      </a:solidFill>
                    </a:lnT>
                    <a:lnB w="5760">
                      <a:solidFill>
                        <a:srgbClr val="3d3f41"/>
                      </a:solidFill>
                    </a:lnB>
                    <a:solidFill>
                      <a:srgbClr val="ffcccc">
                        <a:alpha val="50000"/>
                      </a:srgbClr>
                    </a:solidFill>
                  </a:tcPr>
                </a:tc>
              </a:tr>
              <a:tr h="75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3d3f41"/>
                      </a:solidFill>
                    </a:lnL>
                    <a:lnR w="5760">
                      <a:solidFill>
                        <a:srgbClr val="3d3f41"/>
                      </a:solidFill>
                    </a:lnR>
                    <a:lnT w="5760">
                      <a:solidFill>
                        <a:srgbClr val="3d3f41"/>
                      </a:solidFill>
                    </a:lnT>
                    <a:lnB w="5760">
                      <a:solidFill>
                        <a:srgbClr val="3d3f41"/>
                      </a:solidFill>
                    </a:lnB>
                    <a:solidFill>
                      <a:srgbClr val="ffcccc">
                        <a:alpha val="50000"/>
                      </a:srgbClr>
                    </a:solidFill>
                  </a:tcPr>
                </a:tc>
                <a:tc>
                  <a:txBody>
                    <a:bodyPr lIns="90000" rIns="90000" tIns="46800" bIns="46800" anchor="t">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d3f41"/>
                      </a:solidFill>
                    </a:lnL>
                    <a:lnR w="28080">
                      <a:solidFill>
                        <a:srgbClr val="000066"/>
                      </a:solidFill>
                    </a:lnR>
                    <a:lnT w="5760">
                      <a:solidFill>
                        <a:srgbClr val="3d3f41"/>
                      </a:solidFill>
                    </a:lnT>
                    <a:lnB w="5760">
                      <a:solidFill>
                        <a:srgbClr val="3d3f41"/>
                      </a:solidFill>
                    </a:lnB>
                    <a:solidFill>
                      <a:srgbClr val="ffcccc">
                        <a:alpha val="50000"/>
                      </a:srgbClr>
                    </a:solidFill>
                  </a:tcPr>
                </a:tc>
              </a:tr>
              <a:tr h="104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3d3f41"/>
                      </a:solidFill>
                    </a:lnL>
                    <a:lnR w="5760">
                      <a:solidFill>
                        <a:srgbClr val="3d3f41"/>
                      </a:solidFill>
                    </a:lnR>
                    <a:lnT w="5760">
                      <a:solidFill>
                        <a:srgbClr val="3d3f41"/>
                      </a:solidFill>
                    </a:lnT>
                    <a:lnB w="5760">
                      <a:solidFill>
                        <a:srgbClr val="3d3f41"/>
                      </a:solidFill>
                    </a:lnB>
                    <a:solidFill>
                      <a:srgbClr val="ffcccc">
                        <a:alpha val="50000"/>
                      </a:srgbClr>
                    </a:solidFill>
                  </a:tcPr>
                </a:tc>
                <a:tc>
                  <a:txBody>
                    <a:bodyPr lIns="90000" rIns="90000" tIns="46800" bIns="46800" anchor="t">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最能体现英国发动鸦片战争的目的</a:t>
                      </a:r>
                      <a:endParaRPr b="0" lang="en-US" sz="2800" spc="-1" strike="noStrike">
                        <a:solidFill>
                          <a:srgbClr val="000000"/>
                        </a:solidFill>
                        <a:latin typeface="Arial"/>
                      </a:endParaRPr>
                    </a:p>
                  </a:txBody>
                  <a:tcPr anchor="t" marL="90000" marR="90000">
                    <a:lnL w="5760">
                      <a:solidFill>
                        <a:srgbClr val="3d3f41"/>
                      </a:solidFill>
                    </a:lnL>
                    <a:lnR w="28080">
                      <a:solidFill>
                        <a:srgbClr val="000066"/>
                      </a:solidFill>
                    </a:lnR>
                    <a:lnT w="5760">
                      <a:solidFill>
                        <a:srgbClr val="3d3f41"/>
                      </a:solidFill>
                    </a:lnT>
                    <a:lnB w="5760">
                      <a:solidFill>
                        <a:srgbClr val="3d3f41"/>
                      </a:solidFill>
                    </a:lnB>
                    <a:solidFill>
                      <a:srgbClr val="ffcccc">
                        <a:alpha val="50000"/>
                      </a:srgbClr>
                    </a:solidFill>
                  </a:tcPr>
                </a:tc>
              </a:tr>
              <a:tr h="114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3d3f41"/>
                      </a:solidFill>
                    </a:lnL>
                    <a:lnR w="5760">
                      <a:solidFill>
                        <a:srgbClr val="3d3f41"/>
                      </a:solidFill>
                    </a:lnR>
                    <a:lnT w="5760">
                      <a:solidFill>
                        <a:srgbClr val="3d3f41"/>
                      </a:solidFill>
                    </a:lnT>
                    <a:lnB w="28080">
                      <a:solidFill>
                        <a:srgbClr val="3d3f41"/>
                      </a:solidFill>
                    </a:lnB>
                    <a:solidFill>
                      <a:srgbClr val="ffcccc">
                        <a:alpha val="50000"/>
                      </a:srgbClr>
                    </a:solidFill>
                  </a:tcPr>
                </a:tc>
                <a:tc>
                  <a:txBody>
                    <a:bodyPr lIns="90000" rIns="90000" tIns="46800" bIns="46800" anchor="t">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d3f41"/>
                      </a:solidFill>
                    </a:lnL>
                    <a:lnR w="28080">
                      <a:solidFill>
                        <a:srgbClr val="000066"/>
                      </a:solidFill>
                    </a:lnR>
                    <a:lnT w="5760">
                      <a:solidFill>
                        <a:srgbClr val="3d3f41"/>
                      </a:solidFill>
                    </a:lnT>
                    <a:lnB w="28080">
                      <a:solidFill>
                        <a:srgbClr val="3d3f41"/>
                      </a:solidFill>
                    </a:lnB>
                    <a:solidFill>
                      <a:srgbClr val="ffcccc">
                        <a:alpha val="50000"/>
                      </a:srgbClr>
                    </a:solidFill>
                  </a:tcPr>
                </a:tc>
              </a:tr>
            </a:tbl>
          </a:graphicData>
        </a:graphic>
      </p:graphicFrame>
      <p:sp>
        <p:nvSpPr>
          <p:cNvPr id="275" name=""/>
          <p:cNvSpPr/>
          <p:nvPr/>
        </p:nvSpPr>
        <p:spPr>
          <a:xfrm>
            <a:off x="1116000" y="3429000"/>
            <a:ext cx="424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开放</a:t>
            </a:r>
            <a:r>
              <a:rPr b="1" lang="zh-CN" sz="1800" spc="-1" strike="noStrike">
                <a:solidFill>
                  <a:srgbClr val="454749"/>
                </a:solidFill>
                <a:latin typeface="Arial"/>
              </a:rPr>
              <a:t>广州、厦门、福州、宁波、上海为</a:t>
            </a:r>
            <a:r>
              <a:rPr b="1" lang="zh-CN" sz="1800" spc="-1" strike="noStrike">
                <a:solidFill>
                  <a:srgbClr val="ff0000"/>
                </a:solidFill>
                <a:latin typeface="Arial"/>
              </a:rPr>
              <a:t>通商</a:t>
            </a:r>
            <a:r>
              <a:rPr b="1" lang="zh-CN" sz="1800" spc="-1" strike="noStrike">
                <a:solidFill>
                  <a:srgbClr val="ff3300"/>
                </a:solidFill>
                <a:latin typeface="Arial"/>
              </a:rPr>
              <a:t>口岸</a:t>
            </a:r>
            <a:endParaRPr b="0" lang="en-US" sz="1800" spc="-1" strike="noStrike">
              <a:solidFill>
                <a:srgbClr val="000000"/>
              </a:solidFill>
              <a:latin typeface="Arial"/>
            </a:endParaRPr>
          </a:p>
        </p:txBody>
      </p:sp>
      <p:sp>
        <p:nvSpPr>
          <p:cNvPr id="276" name=""/>
          <p:cNvSpPr/>
          <p:nvPr/>
        </p:nvSpPr>
        <p:spPr>
          <a:xfrm>
            <a:off x="1403280" y="2924280"/>
            <a:ext cx="255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赔款</a:t>
            </a:r>
            <a:r>
              <a:rPr b="1" lang="en-US" sz="1800" spc="-1" strike="noStrike">
                <a:solidFill>
                  <a:srgbClr val="454749"/>
                </a:solidFill>
                <a:latin typeface="Arial"/>
              </a:rPr>
              <a:t>2100</a:t>
            </a:r>
            <a:r>
              <a:rPr b="1" lang="zh-CN" sz="1800" spc="-1" strike="noStrike">
                <a:solidFill>
                  <a:srgbClr val="454749"/>
                </a:solidFill>
                <a:latin typeface="Arial"/>
              </a:rPr>
              <a:t>万元</a:t>
            </a:r>
            <a:endParaRPr b="0" lang="en-US" sz="1800" spc="-1" strike="noStrike">
              <a:solidFill>
                <a:srgbClr val="000000"/>
              </a:solidFill>
              <a:latin typeface="Arial"/>
            </a:endParaRPr>
          </a:p>
        </p:txBody>
      </p:sp>
      <p:sp>
        <p:nvSpPr>
          <p:cNvPr id="277" name=""/>
          <p:cNvSpPr/>
          <p:nvPr/>
        </p:nvSpPr>
        <p:spPr>
          <a:xfrm>
            <a:off x="1547640" y="2060640"/>
            <a:ext cx="233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割香港岛</a:t>
            </a:r>
            <a:r>
              <a:rPr b="1" lang="zh-CN" sz="1800" spc="-1" strike="noStrike">
                <a:solidFill>
                  <a:srgbClr val="454749"/>
                </a:solidFill>
                <a:latin typeface="Arial"/>
              </a:rPr>
              <a:t>给英国</a:t>
            </a:r>
            <a:endParaRPr b="0" lang="en-US" sz="1800" spc="-1" strike="noStrike">
              <a:solidFill>
                <a:srgbClr val="000000"/>
              </a:solidFill>
              <a:latin typeface="Arial"/>
            </a:endParaRPr>
          </a:p>
        </p:txBody>
      </p:sp>
      <p:sp>
        <p:nvSpPr>
          <p:cNvPr id="278" name=""/>
          <p:cNvSpPr/>
          <p:nvPr/>
        </p:nvSpPr>
        <p:spPr>
          <a:xfrm>
            <a:off x="971640" y="4510080"/>
            <a:ext cx="432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4749"/>
                </a:solidFill>
                <a:latin typeface="Arial"/>
              </a:rPr>
              <a:t>英货进出口税，中国须同英国商定（</a:t>
            </a:r>
            <a:r>
              <a:rPr b="1" lang="zh-CN" sz="2800" spc="-1" strike="noStrike">
                <a:solidFill>
                  <a:srgbClr val="ff3300"/>
                </a:solidFill>
                <a:latin typeface="Arial"/>
              </a:rPr>
              <a:t>协定关税</a:t>
            </a:r>
            <a:r>
              <a:rPr b="1" lang="zh-CN" sz="2800" spc="-1" strike="noStrike">
                <a:solidFill>
                  <a:srgbClr val="454749"/>
                </a:solidFill>
                <a:latin typeface="Arial"/>
              </a:rPr>
              <a:t>）</a:t>
            </a:r>
            <a:endParaRPr b="0" lang="en-US" sz="2800" spc="-1" strike="noStrike">
              <a:solidFill>
                <a:srgbClr val="000000"/>
              </a:solidFill>
              <a:latin typeface="Arial"/>
            </a:endParaRPr>
          </a:p>
        </p:txBody>
      </p:sp>
      <p:sp>
        <p:nvSpPr>
          <p:cNvPr id="279" name=""/>
          <p:cNvSpPr/>
          <p:nvPr/>
        </p:nvSpPr>
        <p:spPr>
          <a:xfrm>
            <a:off x="5219640" y="270972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加剧了财政危机加重了人民负担</a:t>
            </a:r>
            <a:endParaRPr b="0" lang="en-US" sz="1800" spc="-1" strike="noStrike">
              <a:solidFill>
                <a:srgbClr val="000000"/>
              </a:solidFill>
              <a:latin typeface="Arial"/>
            </a:endParaRPr>
          </a:p>
        </p:txBody>
      </p:sp>
      <p:sp>
        <p:nvSpPr>
          <p:cNvPr id="280" name=""/>
          <p:cNvSpPr/>
          <p:nvPr/>
        </p:nvSpPr>
        <p:spPr>
          <a:xfrm>
            <a:off x="5219640" y="1917720"/>
            <a:ext cx="36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3f41"/>
                </a:solidFill>
                <a:latin typeface="黑体"/>
                <a:ea typeface="黑体"/>
              </a:rPr>
              <a:t>破坏了中国的领土完整，</a:t>
            </a:r>
            <a:r>
              <a:rPr b="1" lang="zh-CN" sz="1800" spc="-1" strike="noStrike">
                <a:solidFill>
                  <a:srgbClr val="ff0000"/>
                </a:solidFill>
                <a:latin typeface="黑体"/>
                <a:ea typeface="黑体"/>
              </a:rPr>
              <a:t>丧失了领土主权</a:t>
            </a:r>
            <a:endParaRPr b="0" lang="en-US" sz="1800" spc="-1" strike="noStrike">
              <a:solidFill>
                <a:srgbClr val="000000"/>
              </a:solidFill>
              <a:latin typeface="Arial"/>
            </a:endParaRPr>
          </a:p>
        </p:txBody>
      </p:sp>
      <p:sp>
        <p:nvSpPr>
          <p:cNvPr id="281" name=""/>
          <p:cNvSpPr/>
          <p:nvPr/>
        </p:nvSpPr>
        <p:spPr>
          <a:xfrm>
            <a:off x="5148360" y="4870440"/>
            <a:ext cx="36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黑体"/>
                <a:ea typeface="黑体"/>
              </a:rPr>
              <a:t>中国开始丧失关税自主权</a:t>
            </a:r>
            <a:endParaRPr b="0" lang="en-US" sz="1800" spc="-1" strike="noStrike">
              <a:solidFill>
                <a:srgbClr val="000000"/>
              </a:solidFill>
              <a:latin typeface="Arial"/>
            </a:endParaRPr>
          </a:p>
        </p:txBody>
      </p:sp>
      <p:sp>
        <p:nvSpPr>
          <p:cNvPr id="282" name=""/>
          <p:cNvSpPr/>
          <p:nvPr/>
        </p:nvSpPr>
        <p:spPr>
          <a:xfrm>
            <a:off x="3348000" y="117360"/>
            <a:ext cx="5267520" cy="9208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comic"/>
                <a:ea typeface="华文新魏"/>
              </a:rPr>
              <a:t>2</a:t>
            </a:r>
            <a:r>
              <a:rPr b="1" lang="zh-CN" sz="3200" spc="-1" strike="noStrike">
                <a:solidFill>
                  <a:srgbClr val="6600ff"/>
                </a:solidFill>
                <a:latin typeface="comic"/>
                <a:ea typeface="华文新魏"/>
              </a:rPr>
              <a:t>、中英《南京条约》</a:t>
            </a:r>
            <a:endParaRPr b="0" lang="en-US" sz="3200" spc="-1" strike="noStrike">
              <a:solidFill>
                <a:srgbClr val="000000"/>
              </a:solidFill>
              <a:latin typeface="Arial"/>
            </a:endParaRPr>
          </a:p>
        </p:txBody>
      </p:sp>
    </p:spTree>
  </p:cSld>
  <p:transition spd="slow">
    <p:plus/>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18" presetSubtype="6">
                                  <p:stCondLst>
                                    <p:cond delay="0"/>
                                  </p:stCondLst>
                                  <p:childTnLst>
                                    <p:set>
                                      <p:cBhvr>
                                        <p:cTn id="552" dur="1" fill="hold">
                                          <p:stCondLst>
                                            <p:cond delay="0"/>
                                          </p:stCondLst>
                                        </p:cTn>
                                        <p:tgtEl>
                                          <p:spTgt spid="274"/>
                                        </p:tgtEl>
                                        <p:attrNameLst>
                                          <p:attrName>style.visibility</p:attrName>
                                        </p:attrNameLst>
                                      </p:cBhvr>
                                      <p:to>
                                        <p:strVal val="visible"/>
                                      </p:to>
                                    </p:set>
                                    <p:animEffect filter="strips(downRight)" transition="in">
                                      <p:cBhvr additive="repl">
                                        <p:cTn id="553" dur="500"/>
                                        <p:tgtEl>
                                          <p:spTgt spid="27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iterate type="lt">
                                    <p:tmAbs val="0.0562500022351742"/>
                                  </p:iterate>
                                  <p:childTnLst>
                                    <p:set>
                                      <p:cBhvr>
                                        <p:cTn id="557" dur="1" fill="hold">
                                          <p:stCondLst>
                                            <p:cond delay="74"/>
                                          </p:stCondLst>
                                        </p:cTn>
                                        <p:tgtEl>
                                          <p:spTgt spid="277"/>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iterate type="lt">
                                    <p:tmAbs val="0.0562500022351742"/>
                                  </p:iterate>
                                  <p:childTnLst>
                                    <p:set>
                                      <p:cBhvr>
                                        <p:cTn id="561" dur="1" fill="hold">
                                          <p:stCondLst>
                                            <p:cond delay="74"/>
                                          </p:stCondLst>
                                        </p:cTn>
                                        <p:tgtEl>
                                          <p:spTgt spid="276"/>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iterate type="lt">
                                    <p:tmAbs val="0.0562500022351742"/>
                                  </p:iterate>
                                  <p:childTnLst>
                                    <p:set>
                                      <p:cBhvr>
                                        <p:cTn id="565" dur="1" fill="hold">
                                          <p:stCondLst>
                                            <p:cond delay="74"/>
                                          </p:stCondLst>
                                        </p:cTn>
                                        <p:tgtEl>
                                          <p:spTgt spid="27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iterate type="lt">
                                    <p:tmAbs val="0.0562500022351742"/>
                                  </p:iterate>
                                  <p:childTnLst>
                                    <p:set>
                                      <p:cBhvr>
                                        <p:cTn id="569" dur="1" fill="hold">
                                          <p:stCondLst>
                                            <p:cond delay="74"/>
                                          </p:stCondLst>
                                        </p:cTn>
                                        <p:tgtEl>
                                          <p:spTgt spid="27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80"/>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279"/>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281"/>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6" presetSubtype="37">
                                  <p:stCondLst>
                                    <p:cond delay="0"/>
                                  </p:stCondLst>
                                  <p:childTnLst>
                                    <p:set>
                                      <p:cBhvr>
                                        <p:cTn id="585" dur="1" fill="hold">
                                          <p:stCondLst>
                                            <p:cond delay="0"/>
                                          </p:stCondLst>
                                        </p:cTn>
                                        <p:tgtEl>
                                          <p:spTgt spid="282"/>
                                        </p:tgtEl>
                                        <p:attrNameLst>
                                          <p:attrName>style.visibility</p:attrName>
                                        </p:attrNameLst>
                                      </p:cBhvr>
                                      <p:to>
                                        <p:strVal val="visible"/>
                                      </p:to>
                                    </p:set>
                                    <p:animEffect filter="barn(outVertical)" transition="in">
                                      <p:cBhvr additive="repl">
                                        <p:cTn id="58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74320"/>
            <a:ext cx="9144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3300"/>
                </a:solidFill>
                <a:latin typeface="comic"/>
                <a:ea typeface="隶书"/>
              </a:rPr>
              <a:t>什么是半殖民地半封建社会？</a:t>
            </a:r>
            <a:endParaRPr b="1" lang="en-US" sz="4200" spc="-1" strike="noStrike">
              <a:solidFill>
                <a:srgbClr val="60524b"/>
              </a:solidFill>
              <a:latin typeface="comic"/>
            </a:endParaRPr>
          </a:p>
        </p:txBody>
      </p:sp>
      <p:sp>
        <p:nvSpPr>
          <p:cNvPr id="284" name="PlaceHolder 2"/>
          <p:cNvSpPr>
            <a:spLocks noGrp="1"/>
          </p:cNvSpPr>
          <p:nvPr>
            <p:ph/>
          </p:nvPr>
        </p:nvSpPr>
        <p:spPr>
          <a:xfrm>
            <a:off x="568440" y="1752480"/>
            <a:ext cx="4076640" cy="4918320"/>
          </a:xfrm>
          <a:prstGeom prst="rect">
            <a:avLst/>
          </a:prstGeom>
          <a:solidFill>
            <a:srgbClr val="3d3f41"/>
          </a:solidFill>
          <a:ln w="0">
            <a:noFill/>
          </a:ln>
        </p:spPr>
        <p:txBody>
          <a:bodyPr lIns="90000" rIns="90000" tIns="46800" bIns="46800" anchor="t">
            <a:normAutofit/>
          </a:bodyPr>
          <a:p>
            <a:pPr marL="357120" indent="-357120">
              <a:lnSpc>
                <a:spcPct val="110000"/>
              </a:lnSpc>
              <a:spcBef>
                <a:spcPts val="1800"/>
              </a:spcBef>
              <a:buClr>
                <a:srgbClr val="8f7c7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00"/>
                </a:solidFill>
                <a:latin typeface="仿宋_GB2312"/>
                <a:ea typeface="仿宋_GB2312"/>
              </a:rPr>
              <a:t>半殖民地是指：名义上、形式上独立，但政治、经济、文化各方面受到列强的控制和压迫 ，是丧失了部分主权而不是全部主权。</a:t>
            </a:r>
            <a:endParaRPr b="0" lang="en-US" sz="3500" spc="-1" strike="noStrike">
              <a:solidFill>
                <a:srgbClr val="60524b"/>
              </a:solidFill>
              <a:latin typeface="Calibri"/>
            </a:endParaRPr>
          </a:p>
        </p:txBody>
      </p:sp>
      <p:sp>
        <p:nvSpPr>
          <p:cNvPr id="285" name="PlaceHolder 3"/>
          <p:cNvSpPr>
            <a:spLocks noGrp="1"/>
          </p:cNvSpPr>
          <p:nvPr>
            <p:ph/>
          </p:nvPr>
        </p:nvSpPr>
        <p:spPr>
          <a:xfrm>
            <a:off x="4641480" y="1752480"/>
            <a:ext cx="3925800" cy="4267440"/>
          </a:xfrm>
          <a:prstGeom prst="rect">
            <a:avLst/>
          </a:prstGeom>
          <a:solidFill>
            <a:srgbClr val="3d3f41"/>
          </a:solidFill>
          <a:ln w="0">
            <a:noFill/>
          </a:ln>
        </p:spPr>
        <p:txBody>
          <a:bodyPr lIns="90000" rIns="90000" tIns="46800" bIns="46800" anchor="t">
            <a:normAutofit/>
          </a:bodyPr>
          <a:p>
            <a:pPr marL="357120" indent="-357120">
              <a:lnSpc>
                <a:spcPct val="110000"/>
              </a:lnSpc>
              <a:spcBef>
                <a:spcPts val="1800"/>
              </a:spcBef>
              <a:buClr>
                <a:srgbClr val="8f7c7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00"/>
                </a:solidFill>
                <a:latin typeface="Calibri"/>
                <a:ea typeface="仿宋_GB2312"/>
              </a:rPr>
              <a:t>半封建是指：原有的封建经济遭到破坏，又在一定程度上发展了资本主义，但仍保持着封建剥削制度。</a:t>
            </a:r>
            <a:endParaRPr b="0" lang="en-US" sz="3500" spc="-1" strike="noStrike">
              <a:solidFill>
                <a:srgbClr val="60524b"/>
              </a:solidFill>
              <a:latin typeface="Calibri"/>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284"/>
                                        </p:tgtEl>
                                        <p:attrNameLst>
                                          <p:attrName>style.visibility</p:attrName>
                                        </p:attrNameLst>
                                      </p:cBhvr>
                                      <p:to>
                                        <p:strVal val="visible"/>
                                      </p:to>
                                    </p:set>
                                    <p:anim calcmode="lin" valueType="num">
                                      <p:cBhvr additive="repl">
                                        <p:cTn id="593" dur="1000" fill="hold"/>
                                        <p:tgtEl>
                                          <p:spTgt spid="284"/>
                                        </p:tgtEl>
                                        <p:attrNameLst>
                                          <p:attrName>ppt_w</p:attrName>
                                        </p:attrNameLst>
                                      </p:cBhvr>
                                      <p:tavLst>
                                        <p:tav tm="0">
                                          <p:val>
                                            <p:strVal val="#ppt_w*0.70"/>
                                          </p:val>
                                        </p:tav>
                                        <p:tav tm="100000">
                                          <p:val>
                                            <p:strVal val="#ppt_w"/>
                                          </p:val>
                                        </p:tav>
                                      </p:tavLst>
                                    </p:anim>
                                    <p:anim calcmode="lin" valueType="num">
                                      <p:cBhvr additive="repl">
                                        <p:cTn id="594" dur="1000" fill="hold"/>
                                        <p:tgtEl>
                                          <p:spTgt spid="284"/>
                                        </p:tgtEl>
                                        <p:attrNameLst>
                                          <p:attrName>ppt_h</p:attrName>
                                        </p:attrNameLst>
                                      </p:cBhvr>
                                      <p:tavLst>
                                        <p:tav tm="0">
                                          <p:val>
                                            <p:strVal val="#ppt_h"/>
                                          </p:val>
                                        </p:tav>
                                        <p:tav tm="100000">
                                          <p:val>
                                            <p:strVal val="#ppt_h"/>
                                          </p:val>
                                        </p:tav>
                                      </p:tavLst>
                                    </p:anim>
                                    <p:animEffect filter="fade" transition="in">
                                      <p:cBhvr additive="repl">
                                        <p:cTn id="595" dur="1000"/>
                                        <p:tgtEl>
                                          <p:spTgt spid="28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284">
                                            <p:txEl>
                                              <p:pRg st="0" end="0"/>
                                            </p:txEl>
                                          </p:spTgt>
                                        </p:tgtEl>
                                        <p:attrNameLst>
                                          <p:attrName>style.visibility</p:attrName>
                                        </p:attrNameLst>
                                      </p:cBhvr>
                                      <p:to>
                                        <p:strVal val="visible"/>
                                      </p:to>
                                    </p:set>
                                    <p:anim calcmode="lin" valueType="num" by="(-#ppt_w*2)">
                                      <p:cBhvr additive="repl">
                                        <p:cTn id="600" dur="500" autoRev="1" fill="hold">
                                          <p:stCondLst>
                                            <p:cond delay="0"/>
                                          </p:stCondLst>
                                        </p:cTn>
                                        <p:tgtEl>
                                          <p:spTgt spid="284">
                                            <p:txEl>
                                              <p:pRg st="0" end="0"/>
                                            </p:txEl>
                                          </p:spTgt>
                                        </p:tgtEl>
                                        <p:attrNameLst>
                                          <p:attrName>ppt_w</p:attrName>
                                        </p:attrNameLst>
                                      </p:cBhvr>
                                    </p:anim>
                                    <p:anim calcmode="lin" valueType="num" by="(#ppt_w*0.50)">
                                      <p:cBhvr additive="repl">
                                        <p:cTn id="601" dur="500" autoRev="1" fill="hold">
                                          <p:stCondLst>
                                            <p:cond delay="0"/>
                                          </p:stCondLst>
                                        </p:cTn>
                                        <p:tgtEl>
                                          <p:spTgt spid="284">
                                            <p:txEl>
                                              <p:pRg st="0" end="0"/>
                                            </p:txEl>
                                          </p:spTgt>
                                        </p:tgtEl>
                                        <p:attrNameLst>
                                          <p:attrName>ppt_x</p:attrName>
                                        </p:attrNameLst>
                                      </p:cBhvr>
                                    </p:anim>
                                    <p:anim calcmode="lin" valueType="num" from="(-#ppt_h/2)" to="(#ppt_y)">
                                      <p:cBhvr additive="repl">
                                        <p:cTn id="602" dur="1000" fill="hold">
                                          <p:stCondLst>
                                            <p:cond delay="0"/>
                                          </p:stCondLst>
                                        </p:cTn>
                                        <p:tgtEl>
                                          <p:spTgt spid="284">
                                            <p:txEl>
                                              <p:pRg st="0" end="0"/>
                                            </p:txEl>
                                          </p:spTgt>
                                        </p:tgtEl>
                                        <p:attrNameLst>
                                          <p:attrName>ppt_y</p:attrName>
                                        </p:attrNameLst>
                                      </p:cBhvr>
                                    </p:anim>
                                    <p:animRot by="21600000">
                                      <p:cBhvr>
                                        <p:cTn id="603" dur="1000" fill="hold">
                                          <p:stCondLst>
                                            <p:cond delay="0"/>
                                          </p:stCondLst>
                                        </p:cTn>
                                        <p:tgtEl>
                                          <p:spTgt spid="284">
                                            <p:txEl>
                                              <p:pRg st="0" end="0"/>
                                            </p:txEl>
                                          </p:spTgt>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285"/>
                                        </p:tgtEl>
                                        <p:attrNameLst>
                                          <p:attrName>style.visibility</p:attrName>
                                        </p:attrNameLst>
                                      </p:cBhvr>
                                      <p:to>
                                        <p:strVal val="visible"/>
                                      </p:to>
                                    </p:set>
                                    <p:animEffect filter="wedge" transition="in">
                                      <p:cBhvr additive="repl">
                                        <p:cTn id="608" dur="2000"/>
                                        <p:tgtEl>
                                          <p:spTgt spid="28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285">
                                            <p:txEl>
                                              <p:pRg st="0" end="0"/>
                                            </p:txEl>
                                          </p:spTgt>
                                        </p:tgtEl>
                                        <p:attrNameLst>
                                          <p:attrName>style.visibility</p:attrName>
                                        </p:attrNameLst>
                                      </p:cBhvr>
                                      <p:to>
                                        <p:strVal val="visible"/>
                                      </p:to>
                                    </p:set>
                                    <p:anim calcmode="lin" valueType="num">
                                      <p:cBhvr additive="repl">
                                        <p:cTn id="613" dur="500" fill="hold"/>
                                        <p:tgtEl>
                                          <p:spTgt spid="285">
                                            <p:txEl>
                                              <p:pRg st="0" end="0"/>
                                            </p:txEl>
                                          </p:spTgt>
                                        </p:tgtEl>
                                        <p:attrNameLst>
                                          <p:attrName>ppt_w</p:attrName>
                                        </p:attrNameLst>
                                      </p:cBhvr>
                                      <p:tavLst>
                                        <p:tav tm="0">
                                          <p:val>
                                            <p:strVal val="0"/>
                                          </p:val>
                                        </p:tav>
                                        <p:tav tm="100000">
                                          <p:val>
                                            <p:strVal val="#ppt_w"/>
                                          </p:val>
                                        </p:tav>
                                      </p:tavLst>
                                    </p:anim>
                                    <p:anim calcmode="lin" valueType="num">
                                      <p:cBhvr additive="repl">
                                        <p:cTn id="614" dur="500" fill="hold"/>
                                        <p:tgtEl>
                                          <p:spTgt spid="285">
                                            <p:txEl>
                                              <p:pRg st="0" end="0"/>
                                            </p:txEl>
                                          </p:spTgt>
                                        </p:tgtEl>
                                        <p:attrNameLst>
                                          <p:attrName>ppt_h</p:attrName>
                                        </p:attrNameLst>
                                      </p:cBhvr>
                                      <p:tavLst>
                                        <p:tav tm="0">
                                          <p:val>
                                            <p:strVal val="0"/>
                                          </p:val>
                                        </p:tav>
                                        <p:tav tm="100000">
                                          <p:val>
                                            <p:strVal val="#ppt_h"/>
                                          </p:val>
                                        </p:tav>
                                      </p:tavLst>
                                    </p:anim>
                                    <p:animEffect filter="fade" transition="in">
                                      <p:cBhvr additive="repl">
                                        <p:cTn id="615"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218200" y="2081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979960" y="2081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13080" y="2081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22920" y="18194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5584680" y="159552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6818400" y="3259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9</a:t>
            </a:r>
            <a:endParaRPr b="0" lang="en-US" sz="2400" spc="-1" strike="noStrike">
              <a:solidFill>
                <a:srgbClr val="000000"/>
              </a:solidFill>
              <a:latin typeface="Arial"/>
            </a:endParaRPr>
          </a:p>
        </p:txBody>
      </p:sp>
      <p:sp>
        <p:nvSpPr>
          <p:cNvPr id="292" name=""/>
          <p:cNvSpPr/>
          <p:nvPr/>
        </p:nvSpPr>
        <p:spPr>
          <a:xfrm rot="5400000">
            <a:off x="4282560" y="-388800"/>
            <a:ext cx="287640" cy="5763960"/>
          </a:xfrm>
          <a:custGeom>
            <a:avLst/>
            <a:gdLst>
              <a:gd name="textAreaLeft" fmla="*/ 183960 w 287640"/>
              <a:gd name="textAreaRight" fmla="*/ 288000 w 287640"/>
              <a:gd name="textAreaTop" fmla="*/ 174240 h 5763960"/>
              <a:gd name="textAreaBottom" fmla="*/ 5589720 h 5763960"/>
            </a:gdLst>
            <a:ahLst/>
            <a:rect l="textAreaLeft" t="textAreaTop" r="textAreaRight" b="textAreaBottom"/>
            <a:pathLst>
              <a:path w="21600" h="21600">
                <a:moveTo>
                  <a:pt x="21600" y="0"/>
                </a:moveTo>
                <a:cubicBezTo>
                  <a:pt x="16200" y="0"/>
                  <a:pt x="10800" y="1045"/>
                  <a:pt x="10800" y="2089"/>
                </a:cubicBezTo>
                <a:lnTo>
                  <a:pt x="10800" y="8867"/>
                </a:lnTo>
                <a:cubicBezTo>
                  <a:pt x="10800" y="9912"/>
                  <a:pt x="5400" y="10956"/>
                  <a:pt x="0" y="10956"/>
                </a:cubicBezTo>
                <a:cubicBezTo>
                  <a:pt x="5400" y="10956"/>
                  <a:pt x="10800" y="12001"/>
                  <a:pt x="10800" y="13045"/>
                </a:cubicBezTo>
                <a:lnTo>
                  <a:pt x="10800" y="19511"/>
                </a:lnTo>
                <a:cubicBezTo>
                  <a:pt x="10800" y="20556"/>
                  <a:pt x="16200" y="21600"/>
                  <a:pt x="21600" y="21600"/>
                </a:cubicBezTo>
              </a:path>
            </a:pathLst>
          </a:cu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365960" y="37688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956120" y="20970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1604880" y="3927600"/>
            <a:ext cx="65534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619280" y="37814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224000" y="3218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40</a:t>
            </a:r>
            <a:endParaRPr b="0" lang="en-US" sz="2400" spc="-1" strike="noStrike">
              <a:solidFill>
                <a:srgbClr val="000000"/>
              </a:solidFill>
              <a:latin typeface="Arial"/>
            </a:endParaRPr>
          </a:p>
        </p:txBody>
      </p:sp>
      <p:sp>
        <p:nvSpPr>
          <p:cNvPr id="298" name=""/>
          <p:cNvSpPr txBox="1"/>
          <p:nvPr/>
        </p:nvSpPr>
        <p:spPr>
          <a:xfrm>
            <a:off x="3102120" y="1747800"/>
            <a:ext cx="23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3399"/>
                  </a:solidFill>
                  <a:miter/>
                </a:ln>
                <a:blipFill rotWithShape="0">
                  <a:blip r:embed="rId1"/>
                  <a:srcRect/>
                  <a:stretch/>
                </a:blipFill>
                <a:effectLst>
                  <a:outerShdw dist="40186" dir="1096358" blurRad="0" rotWithShape="0">
                    <a:srgbClr val="b2b2b2">
                      <a:alpha val="77000"/>
                    </a:srgbClr>
                  </a:outerShdw>
                </a:effectLst>
                <a:latin typeface="隶书"/>
              </a:rPr>
              <a:t>中国近代史</a:t>
            </a:r>
            <a:endParaRPr b="1" lang="en-US" sz="1800" spc="-1" strike="noStrike">
              <a:ln w="9360">
                <a:solidFill>
                  <a:srgbClr val="333399"/>
                </a:solidFill>
                <a:miter/>
              </a:ln>
              <a:blipFill rotWithShape="0">
                <a:blip r:embed="rId2"/>
                <a:srcRect/>
                <a:stretch/>
              </a:blipFill>
              <a:effectLst>
                <a:outerShdw dist="40186" dir="1096358" blurRad="0" rotWithShape="0">
                  <a:srgbClr val="b2b2b2">
                    <a:alpha val="77000"/>
                  </a:srgbClr>
                </a:outerShdw>
              </a:effectLst>
              <a:latin typeface="隶书"/>
              <a:ea typeface="隶书"/>
            </a:endParaRPr>
          </a:p>
        </p:txBody>
      </p:sp>
      <p:sp>
        <p:nvSpPr>
          <p:cNvPr id="299" name=""/>
          <p:cNvSpPr/>
          <p:nvPr/>
        </p:nvSpPr>
        <p:spPr>
          <a:xfrm>
            <a:off x="1133640" y="2725560"/>
            <a:ext cx="156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Arial"/>
                <a:ea typeface="黑体"/>
              </a:rPr>
              <a:t>鸦片战争</a:t>
            </a:r>
            <a:endParaRPr b="0" lang="en-US" sz="2000" spc="-1" strike="noStrike">
              <a:solidFill>
                <a:srgbClr val="000000"/>
              </a:solidFill>
              <a:latin typeface="Arial"/>
            </a:endParaRPr>
          </a:p>
        </p:txBody>
      </p:sp>
      <p:sp>
        <p:nvSpPr>
          <p:cNvPr id="300" name=""/>
          <p:cNvSpPr/>
          <p:nvPr/>
        </p:nvSpPr>
        <p:spPr>
          <a:xfrm>
            <a:off x="6588000" y="2744640"/>
            <a:ext cx="20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Arial"/>
                <a:ea typeface="黑体"/>
              </a:rPr>
              <a:t>新中国成立</a:t>
            </a:r>
            <a:endParaRPr b="0" lang="en-US" sz="2000" spc="-1" strike="noStrike">
              <a:solidFill>
                <a:srgbClr val="000000"/>
              </a:solidFill>
              <a:latin typeface="Arial"/>
            </a:endParaRPr>
          </a:p>
        </p:txBody>
      </p:sp>
      <p:sp>
        <p:nvSpPr>
          <p:cNvPr id="301" name=""/>
          <p:cNvSpPr/>
          <p:nvPr/>
        </p:nvSpPr>
        <p:spPr>
          <a:xfrm>
            <a:off x="1368360" y="471024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社会性质</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半殖民地半封建社会</a:t>
            </a:r>
            <a:endParaRPr b="0" lang="en-US" sz="2800" spc="-1" strike="noStrike">
              <a:solidFill>
                <a:srgbClr val="000000"/>
              </a:solidFill>
              <a:latin typeface="Arial"/>
            </a:endParaRPr>
          </a:p>
        </p:txBody>
      </p:sp>
      <p:sp>
        <p:nvSpPr>
          <p:cNvPr id="302" name=""/>
          <p:cNvSpPr/>
          <p:nvPr/>
        </p:nvSpPr>
        <p:spPr>
          <a:xfrm>
            <a:off x="1187280" y="4124160"/>
            <a:ext cx="9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开始</a:t>
            </a:r>
            <a:endParaRPr b="0" lang="en-US" sz="2400" spc="-1" strike="noStrike">
              <a:solidFill>
                <a:srgbClr val="000000"/>
              </a:solidFill>
              <a:latin typeface="Arial"/>
            </a:endParaRPr>
          </a:p>
        </p:txBody>
      </p:sp>
      <p:pic>
        <p:nvPicPr>
          <p:cNvPr id="303" name="" descr=""/>
          <p:cNvPicPr/>
          <p:nvPr/>
        </p:nvPicPr>
        <p:blipFill>
          <a:blip r:embed="rId3"/>
          <a:stretch/>
        </p:blipFill>
        <p:spPr>
          <a:xfrm>
            <a:off x="8408880" y="6138720"/>
            <a:ext cx="735120" cy="719280"/>
          </a:xfrm>
          <a:prstGeom prst="rect">
            <a:avLst/>
          </a:prstGeom>
          <a:ln w="0">
            <a:noFill/>
          </a:ln>
        </p:spPr>
      </p:pic>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298"/>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295"/>
                                        </p:tgtEl>
                                        <p:attrNameLst>
                                          <p:attrName>style.visibility</p:attrName>
                                        </p:attrNameLst>
                                      </p:cBhvr>
                                      <p:to>
                                        <p:strVal val="visible"/>
                                      </p:to>
                                    </p:set>
                                  </p:childTnLst>
                                </p:cTn>
                              </p:par>
                            </p:childTnLst>
                          </p:cTn>
                        </p:par>
                        <p:par>
                          <p:cTn id="626" fill="hold">
                            <p:stCondLst>
                              <p:cond delay="500"/>
                            </p:stCondLst>
                            <p:childTnLst>
                              <p:par>
                                <p:cTn id="627" nodeType="afterEffect" fill="hold" presetClass="entr" presetID="1">
                                  <p:stCondLst>
                                    <p:cond delay="0"/>
                                  </p:stCondLst>
                                  <p:childTnLst>
                                    <p:set>
                                      <p:cBhvr>
                                        <p:cTn id="628" dur="1" fill="hold">
                                          <p:stCondLst>
                                            <p:cond delay="499"/>
                                          </p:stCondLst>
                                        </p:cTn>
                                        <p:tgtEl>
                                          <p:spTgt spid="296"/>
                                        </p:tgtEl>
                                        <p:attrNameLst>
                                          <p:attrName>style.visibility</p:attrName>
                                        </p:attrNameLst>
                                      </p:cBhvr>
                                      <p:to>
                                        <p:strVal val="visible"/>
                                      </p:to>
                                    </p:set>
                                  </p:childTnLst>
                                </p:cTn>
                              </p:par>
                            </p:childTnLst>
                          </p:cTn>
                        </p:par>
                        <p:par>
                          <p:cTn id="629" fill="hold">
                            <p:stCondLst>
                              <p:cond delay="1000"/>
                            </p:stCondLst>
                            <p:childTnLst>
                              <p:par>
                                <p:cTn id="630" nodeType="afterEffect" fill="hold" presetClass="entr" presetID="1">
                                  <p:stCondLst>
                                    <p:cond delay="0"/>
                                  </p:stCondLst>
                                  <p:childTnLst>
                                    <p:set>
                                      <p:cBhvr>
                                        <p:cTn id="631" dur="1" fill="hold">
                                          <p:stCondLst>
                                            <p:cond delay="499"/>
                                          </p:stCondLst>
                                        </p:cTn>
                                        <p:tgtEl>
                                          <p:spTgt spid="293"/>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297"/>
                                        </p:tgtEl>
                                        <p:attrNameLst>
                                          <p:attrName>style.visibility</p:attrName>
                                        </p:attrNameLst>
                                      </p:cBhvr>
                                      <p:to>
                                        <p:strVal val="visible"/>
                                      </p:to>
                                    </p:set>
                                    <p:animEffect filter="box(in)" transition="in">
                                      <p:cBhvr additive="repl">
                                        <p:cTn id="636" dur="500"/>
                                        <p:tgtEl>
                                          <p:spTgt spid="297"/>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99"/>
                                        </p:tgtEl>
                                        <p:attrNameLst>
                                          <p:attrName>style.visibility</p:attrName>
                                        </p:attrNameLst>
                                      </p:cBhvr>
                                      <p:to>
                                        <p:strVal val="visible"/>
                                      </p:to>
                                    </p:set>
                                    <p:animEffect filter="box(in)" transition="in">
                                      <p:cBhvr additive="repl">
                                        <p:cTn id="641" dur="500"/>
                                        <p:tgtEl>
                                          <p:spTgt spid="29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91"/>
                                        </p:tgtEl>
                                        <p:attrNameLst>
                                          <p:attrName>style.visibility</p:attrName>
                                        </p:attrNameLst>
                                      </p:cBhvr>
                                      <p:to>
                                        <p:strVal val="visible"/>
                                      </p:to>
                                    </p:set>
                                    <p:animEffect filter="wipe(left)" transition="in">
                                      <p:cBhvr additive="repl">
                                        <p:cTn id="646" dur="500"/>
                                        <p:tgtEl>
                                          <p:spTgt spid="291"/>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300"/>
                                        </p:tgtEl>
                                        <p:attrNameLst>
                                          <p:attrName>style.visibility</p:attrName>
                                        </p:attrNameLst>
                                      </p:cBhvr>
                                      <p:to>
                                        <p:strVal val="visible"/>
                                      </p:to>
                                    </p:set>
                                    <p:animEffect filter="checkerboard(across)" transition="in">
                                      <p:cBhvr additive="repl">
                                        <p:cTn id="651" dur="500"/>
                                        <p:tgtEl>
                                          <p:spTgt spid="30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292"/>
                                        </p:tgtEl>
                                        <p:attrNameLst>
                                          <p:attrName>style.visibility</p:attrName>
                                        </p:attrNameLst>
                                      </p:cBhvr>
                                      <p:to>
                                        <p:strVal val="visible"/>
                                      </p:to>
                                    </p:set>
                                    <p:animEffect filter="wipe(down)" transition="in">
                                      <p:cBhvr additive="repl">
                                        <p:cTn id="656" dur="500"/>
                                        <p:tgtEl>
                                          <p:spTgt spid="292"/>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01"/>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302"/>
                                        </p:tgtEl>
                                        <p:attrNameLst>
                                          <p:attrName>style.visibility</p:attrName>
                                        </p:attrNameLst>
                                      </p:cBhvr>
                                      <p:to>
                                        <p:strVal val="visible"/>
                                      </p:to>
                                    </p:set>
                                    <p:animEffect filter="checkerboard(across)" transition="in">
                                      <p:cBhvr additive="repl">
                                        <p:cTn id="665" dur="500"/>
                                        <p:tgtEl>
                                          <p:spTgt spid="302"/>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03"/>
                                        </p:tgtEl>
                                        <p:attrNameLst>
                                          <p:attrName>style.visibility</p:attrName>
                                        </p:attrNameLst>
                                      </p:cBhvr>
                                      <p:to>
                                        <p:strVal val="visible"/>
                                      </p:to>
                                    </p:set>
                                    <p:anim calcmode="lin" valueType="num">
                                      <p:cBhvr additive="base">
                                        <p:cTn id="670" dur="500" fill="hold"/>
                                        <p:tgtEl>
                                          <p:spTgt spid="303"/>
                                        </p:tgtEl>
                                        <p:attrNameLst>
                                          <p:attrName>ppt_x</p:attrName>
                                        </p:attrNameLst>
                                      </p:cBhvr>
                                      <p:tavLst>
                                        <p:tav tm="0">
                                          <p:val>
                                            <p:strVal val="0-#ppt_w/2"/>
                                          </p:val>
                                        </p:tav>
                                        <p:tav tm="100000">
                                          <p:val>
                                            <p:strVal val="#ppt_x"/>
                                          </p:val>
                                        </p:tav>
                                      </p:tavLst>
                                    </p:anim>
                                    <p:anim calcmode="lin" valueType="num">
                                      <p:cBhvr additive="base">
                                        <p:cTn id="671"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79280" y="1413000"/>
            <a:ext cx="2952720" cy="4464000"/>
          </a:xfrm>
          <a:prstGeom prst="rect">
            <a:avLst/>
          </a:prstGeom>
          <a:ln w="0">
            <a:noFill/>
          </a:ln>
        </p:spPr>
      </p:pic>
      <p:sp>
        <p:nvSpPr>
          <p:cNvPr id="305" name=""/>
          <p:cNvSpPr/>
          <p:nvPr/>
        </p:nvSpPr>
        <p:spPr>
          <a:xfrm>
            <a:off x="900000" y="587700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d3f41"/>
                </a:solidFill>
                <a:latin typeface="黑体"/>
                <a:ea typeface="黑体"/>
              </a:rPr>
              <a:t>关天培  </a:t>
            </a:r>
            <a:endParaRPr b="0" lang="en-US" sz="2800" spc="-1" strike="noStrike">
              <a:solidFill>
                <a:srgbClr val="000000"/>
              </a:solidFill>
              <a:latin typeface="Arial"/>
            </a:endParaRPr>
          </a:p>
        </p:txBody>
      </p:sp>
      <p:sp>
        <p:nvSpPr>
          <p:cNvPr id="306" name=""/>
          <p:cNvSpPr/>
          <p:nvPr/>
        </p:nvSpPr>
        <p:spPr>
          <a:xfrm>
            <a:off x="5435640" y="55738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d3f41"/>
                </a:solidFill>
                <a:latin typeface="Arial"/>
                <a:ea typeface="黑体"/>
              </a:rPr>
              <a:t>广东虎门激战</a:t>
            </a:r>
            <a:endParaRPr b="0" lang="en-US" sz="2800" spc="-1" strike="noStrike">
              <a:solidFill>
                <a:srgbClr val="000000"/>
              </a:solidFill>
              <a:latin typeface="Arial"/>
            </a:endParaRPr>
          </a:p>
        </p:txBody>
      </p:sp>
      <p:sp>
        <p:nvSpPr>
          <p:cNvPr id="307" name=""/>
          <p:cNvSpPr/>
          <p:nvPr/>
        </p:nvSpPr>
        <p:spPr>
          <a:xfrm>
            <a:off x="3134160" y="3326400"/>
            <a:ext cx="606960" cy="60336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4ab40"/>
                </a:solidFill>
                <a:latin typeface="华文行楷"/>
                <a:ea typeface="华文行楷"/>
              </a:rPr>
              <a:t>将军徒手犹博战，巨炮一震成烟尘</a:t>
            </a:r>
            <a:r>
              <a:rPr b="1" lang="en-US" sz="2800" spc="-1" strike="noStrike">
                <a:solidFill>
                  <a:srgbClr val="666633"/>
                </a:solidFill>
                <a:latin typeface="黑体"/>
                <a:ea typeface="黑体"/>
              </a:rPr>
              <a:t> </a:t>
            </a:r>
            <a:endParaRPr b="0" lang="en-US" sz="2800" spc="-1" strike="noStrike">
              <a:solidFill>
                <a:srgbClr val="000000"/>
              </a:solidFill>
              <a:latin typeface="Arial"/>
            </a:endParaRPr>
          </a:p>
        </p:txBody>
      </p:sp>
      <p:sp>
        <p:nvSpPr>
          <p:cNvPr id="308" name=""/>
          <p:cNvSpPr/>
          <p:nvPr/>
        </p:nvSpPr>
        <p:spPr>
          <a:xfrm>
            <a:off x="108000" y="47628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ab40"/>
                </a:solidFill>
                <a:latin typeface="Verdana"/>
              </a:rPr>
              <a:t>有利因素</a:t>
            </a:r>
            <a:endParaRPr b="0" lang="en-US" sz="2400" spc="-1" strike="noStrike">
              <a:solidFill>
                <a:srgbClr val="000000"/>
              </a:solidFill>
              <a:latin typeface="Arial"/>
            </a:endParaRPr>
          </a:p>
        </p:txBody>
      </p:sp>
      <p:pic>
        <p:nvPicPr>
          <p:cNvPr id="309" name="" descr=""/>
          <p:cNvPicPr/>
          <p:nvPr/>
        </p:nvPicPr>
        <p:blipFill>
          <a:blip r:embed="rId2"/>
          <a:stretch/>
        </p:blipFill>
        <p:spPr>
          <a:xfrm>
            <a:off x="3851280" y="1700280"/>
            <a:ext cx="5003640" cy="3816360"/>
          </a:xfrm>
          <a:prstGeom prst="rect">
            <a:avLst/>
          </a:prstGeom>
          <a:ln w="0">
            <a:noFill/>
          </a:ln>
        </p:spPr>
      </p:pic>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4" presetSubtype="5">
                                  <p:stCondLst>
                                    <p:cond delay="0"/>
                                  </p:stCondLst>
                                  <p:childTnLst>
                                    <p:set>
                                      <p:cBhvr>
                                        <p:cTn id="677" dur="1" fill="hold">
                                          <p:stCondLst>
                                            <p:cond delay="0"/>
                                          </p:stCondLst>
                                        </p:cTn>
                                        <p:tgtEl>
                                          <p:spTgt spid="307"/>
                                        </p:tgtEl>
                                        <p:attrNameLst>
                                          <p:attrName>style.visibility</p:attrName>
                                        </p:attrNameLst>
                                      </p:cBhvr>
                                      <p:to>
                                        <p:strVal val="visible"/>
                                      </p:to>
                                    </p:set>
                                    <p:animEffect filter="randombar(vertical)" transition="in">
                                      <p:cBhvr additive="repl">
                                        <p:cTn id="678" dur="500"/>
                                        <p:tgtEl>
                                          <p:spTgt spid="307"/>
                                        </p:tgtEl>
                                      </p:cBhvr>
                                    </p:animEffect>
                                  </p:childTnLst>
                                </p:cTn>
                              </p:par>
                            </p:childTnLst>
                          </p:cTn>
                        </p:par>
                        <p:par>
                          <p:cTn id="679" fill="hold">
                            <p:stCondLst>
                              <p:cond delay="500"/>
                            </p:stCondLst>
                            <p:childTnLst>
                              <p:par>
                                <p:cTn id="680" nodeType="afterEffect" fill="hold" presetClass="entr" presetID="14" presetSubtype="10">
                                  <p:stCondLst>
                                    <p:cond delay="0"/>
                                  </p:stCondLst>
                                  <p:childTnLst>
                                    <p:set>
                                      <p:cBhvr>
                                        <p:cTn id="681" dur="1" fill="hold">
                                          <p:stCondLst>
                                            <p:cond delay="0"/>
                                          </p:stCondLst>
                                        </p:cTn>
                                        <p:tgtEl>
                                          <p:spTgt spid="309"/>
                                        </p:tgtEl>
                                        <p:attrNameLst>
                                          <p:attrName>style.visibility</p:attrName>
                                        </p:attrNameLst>
                                      </p:cBhvr>
                                      <p:to>
                                        <p:strVal val="visible"/>
                                      </p:to>
                                    </p:set>
                                    <p:animEffect filter="randombar(horizontal)" transition="in">
                                      <p:cBhvr additive="repl">
                                        <p:cTn id="682"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0" y="517680"/>
            <a:ext cx="9144000" cy="77904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4ab40"/>
                </a:solidFill>
                <a:latin typeface="Verdana"/>
              </a:rPr>
              <a:t>定海守</a:t>
            </a:r>
            <a:r>
              <a:rPr b="1" lang="zh-CN" sz="3000" spc="-1" strike="noStrike">
                <a:solidFill>
                  <a:srgbClr val="c4ab40"/>
                </a:solidFill>
                <a:latin typeface="Verdana"/>
              </a:rPr>
              <a:t>军英勇抗战：</a:t>
            </a:r>
            <a:r>
              <a:rPr b="1" lang="zh-TW" sz="3000" spc="-1" strike="noStrike">
                <a:solidFill>
                  <a:srgbClr val="c4ab40"/>
                </a:solidFill>
                <a:latin typeface="Verdana"/>
              </a:rPr>
              <a:t>血</a:t>
            </a:r>
            <a:r>
              <a:rPr b="1" lang="zh-CN" sz="3000" spc="-1" strike="noStrike">
                <a:solidFill>
                  <a:srgbClr val="c4ab40"/>
                </a:solidFill>
                <a:latin typeface="Verdana"/>
              </a:rPr>
              <a:t>战</a:t>
            </a:r>
            <a:r>
              <a:rPr b="1" lang="zh-TW" sz="3000" spc="-1" strike="noStrike">
                <a:solidFill>
                  <a:srgbClr val="c4ab40"/>
                </a:solidFill>
                <a:latin typeface="Verdana"/>
              </a:rPr>
              <a:t>六日，全部</a:t>
            </a:r>
            <a:r>
              <a:rPr b="1" lang="zh-CN" sz="3000" spc="-1" strike="noStrike">
                <a:solidFill>
                  <a:srgbClr val="c4ab40"/>
                </a:solidFill>
                <a:latin typeface="Verdana"/>
              </a:rPr>
              <a:t>牺</a:t>
            </a:r>
            <a:r>
              <a:rPr b="1" lang="zh-TW" sz="3000" spc="-1" strike="noStrike">
                <a:solidFill>
                  <a:srgbClr val="c4ab40"/>
                </a:solidFill>
                <a:latin typeface="Verdana"/>
              </a:rPr>
              <a:t>牲</a:t>
            </a:r>
            <a:endParaRPr b="0" lang="en-US" sz="3000" spc="-1" strike="noStrike">
              <a:solidFill>
                <a:srgbClr val="000000"/>
              </a:solidFill>
              <a:latin typeface="Arial"/>
            </a:endParaRPr>
          </a:p>
        </p:txBody>
      </p:sp>
      <p:pic>
        <p:nvPicPr>
          <p:cNvPr id="311" name="" descr=""/>
          <p:cNvPicPr/>
          <p:nvPr/>
        </p:nvPicPr>
        <p:blipFill>
          <a:blip r:embed="rId1"/>
          <a:stretch/>
        </p:blipFill>
        <p:spPr>
          <a:xfrm>
            <a:off x="0" y="1271520"/>
            <a:ext cx="9144000" cy="5586480"/>
          </a:xfrm>
          <a:prstGeom prst="rect">
            <a:avLst/>
          </a:prstGeom>
          <a:ln w="0">
            <a:noFill/>
          </a:ln>
        </p:spPr>
      </p:pic>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14" presetSubtype="5">
                                  <p:stCondLst>
                                    <p:cond delay="0"/>
                                  </p:stCondLst>
                                  <p:childTnLst>
                                    <p:set>
                                      <p:cBhvr>
                                        <p:cTn id="688" dur="1" fill="hold">
                                          <p:stCondLst>
                                            <p:cond delay="0"/>
                                          </p:stCondLst>
                                        </p:cTn>
                                        <p:tgtEl>
                                          <p:spTgt spid="311"/>
                                        </p:tgtEl>
                                        <p:attrNameLst>
                                          <p:attrName>style.visibility</p:attrName>
                                        </p:attrNameLst>
                                      </p:cBhvr>
                                      <p:to>
                                        <p:strVal val="visible"/>
                                      </p:to>
                                    </p:set>
                                    <p:animEffect filter="randombar(vertical)" transition="in">
                                      <p:cBhvr additive="repl">
                                        <p:cTn id="68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380880" y="1219320"/>
            <a:ext cx="3959280" cy="3409920"/>
          </a:xfrm>
          <a:prstGeom prst="rect">
            <a:avLst/>
          </a:prstGeom>
          <a:ln w="38160">
            <a:solidFill>
              <a:srgbClr val="3d3f41"/>
            </a:solidFill>
            <a:miter/>
          </a:ln>
          <a:effectLst>
            <a:outerShdw dist="17819" dir="2700000" blurRad="0" rotWithShape="0">
              <a:srgbClr val="f1f0eb"/>
            </a:outerShdw>
          </a:effectLst>
        </p:spPr>
      </p:pic>
      <p:sp>
        <p:nvSpPr>
          <p:cNvPr id="313" name=""/>
          <p:cNvSpPr/>
          <p:nvPr/>
        </p:nvSpPr>
        <p:spPr>
          <a:xfrm>
            <a:off x="76320" y="487692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Times New Roman"/>
                <a:ea typeface="楷体_GB2312"/>
              </a:rPr>
              <a:t>三元里人民缴获的英军军服</a:t>
            </a:r>
            <a:endParaRPr b="0" lang="en-US" sz="2800" spc="-1" strike="noStrike">
              <a:solidFill>
                <a:srgbClr val="000000"/>
              </a:solidFill>
              <a:latin typeface="Arial"/>
            </a:endParaRPr>
          </a:p>
        </p:txBody>
      </p:sp>
      <p:pic>
        <p:nvPicPr>
          <p:cNvPr id="314" name="" descr=""/>
          <p:cNvPicPr/>
          <p:nvPr/>
        </p:nvPicPr>
        <p:blipFill>
          <a:blip r:embed="rId2"/>
          <a:srcRect l="0" t="2646" r="0" b="0"/>
          <a:stretch/>
        </p:blipFill>
        <p:spPr>
          <a:xfrm>
            <a:off x="4800600" y="2438280"/>
            <a:ext cx="4038480" cy="2808360"/>
          </a:xfrm>
          <a:prstGeom prst="rect">
            <a:avLst/>
          </a:prstGeom>
          <a:ln w="38160">
            <a:solidFill>
              <a:srgbClr val="000000"/>
            </a:solidFill>
            <a:miter/>
          </a:ln>
          <a:effectLst>
            <a:outerShdw dist="17819" dir="2700000" blurRad="0" rotWithShape="0">
              <a:srgbClr val="f1f0eb"/>
            </a:outerShdw>
          </a:effectLst>
        </p:spPr>
      </p:pic>
      <p:sp>
        <p:nvSpPr>
          <p:cNvPr id="315" name=""/>
          <p:cNvSpPr/>
          <p:nvPr/>
        </p:nvSpPr>
        <p:spPr>
          <a:xfrm>
            <a:off x="4730760" y="1623960"/>
            <a:ext cx="412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Times New Roman"/>
                <a:ea typeface="楷体_GB2312"/>
              </a:rPr>
              <a:t>三元里人民抗英纪念馆</a:t>
            </a:r>
            <a:endParaRPr b="0" lang="en-US" sz="2800" spc="-1" strike="noStrike">
              <a:solidFill>
                <a:srgbClr val="000000"/>
              </a:solidFill>
              <a:latin typeface="Arial"/>
            </a:endParaRPr>
          </a:p>
        </p:txBody>
      </p:sp>
      <p:pic>
        <p:nvPicPr>
          <p:cNvPr id="316" name="" descr=""/>
          <p:cNvPicPr/>
          <p:nvPr/>
        </p:nvPicPr>
        <p:blipFill>
          <a:blip r:embed="rId3"/>
          <a:stretch/>
        </p:blipFill>
        <p:spPr>
          <a:xfrm>
            <a:off x="8459640" y="6165720"/>
            <a:ext cx="735120" cy="719280"/>
          </a:xfrm>
          <a:prstGeom prst="rect">
            <a:avLst/>
          </a:prstGeom>
          <a:ln w="0">
            <a:noFill/>
          </a:ln>
        </p:spPr>
      </p:pic>
    </p:spTree>
  </p:cSld>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 presetSubtype="5">
                                  <p:stCondLst>
                                    <p:cond delay="0"/>
                                  </p:stCondLst>
                                  <p:childTnLst>
                                    <p:set>
                                      <p:cBhvr>
                                        <p:cTn id="695" dur="1" fill="hold">
                                          <p:stCondLst>
                                            <p:cond delay="0"/>
                                          </p:stCondLst>
                                        </p:cTn>
                                        <p:tgtEl>
                                          <p:spTgt spid="312"/>
                                        </p:tgtEl>
                                        <p:attrNameLst>
                                          <p:attrName>style.visibility</p:attrName>
                                        </p:attrNameLst>
                                      </p:cBhvr>
                                      <p:to>
                                        <p:strVal val="visible"/>
                                      </p:to>
                                    </p:set>
                                    <p:animEffect filter="blinds(vertical)" transition="in">
                                      <p:cBhvr additive="repl">
                                        <p:cTn id="696" dur="500"/>
                                        <p:tgtEl>
                                          <p:spTgt spid="312"/>
                                        </p:tgtEl>
                                      </p:cBhvr>
                                    </p:animEffect>
                                  </p:childTnLst>
                                </p:cTn>
                              </p:par>
                            </p:childTnLst>
                          </p:cTn>
                        </p:par>
                        <p:par>
                          <p:cTn id="697" fill="hold">
                            <p:stCondLst>
                              <p:cond delay="500"/>
                            </p:stCondLst>
                            <p:childTnLst>
                              <p:par>
                                <p:cTn id="698" nodeType="afterEffect" fill="hold" presetClass="entr" presetID="12" presetSubtype="1">
                                  <p:stCondLst>
                                    <p:cond delay="0"/>
                                  </p:stCondLst>
                                  <p:childTnLst>
                                    <p:set>
                                      <p:cBhvr>
                                        <p:cTn id="699" dur="1" fill="hold">
                                          <p:stCondLst>
                                            <p:cond delay="0"/>
                                          </p:stCondLst>
                                        </p:cTn>
                                        <p:tgtEl>
                                          <p:spTgt spid="313"/>
                                        </p:tgtEl>
                                        <p:attrNameLst>
                                          <p:attrName>style.visibility</p:attrName>
                                        </p:attrNameLst>
                                      </p:cBhvr>
                                      <p:to>
                                        <p:strVal val="visible"/>
                                      </p:to>
                                    </p:set>
                                    <p:animEffect filter="slide(fromTop)" transition="in">
                                      <p:cBhvr additive="repl">
                                        <p:cTn id="700" dur="500"/>
                                        <p:tgtEl>
                                          <p:spTgt spid="31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14"/>
                                        </p:tgtEl>
                                        <p:attrNameLst>
                                          <p:attrName>style.visibility</p:attrName>
                                        </p:attrNameLst>
                                      </p:cBhvr>
                                      <p:to>
                                        <p:strVal val="visible"/>
                                      </p:to>
                                    </p:set>
                                    <p:animEffect filter="blinds(horizontal)" transition="in">
                                      <p:cBhvr additive="repl">
                                        <p:cTn id="705" dur="500"/>
                                        <p:tgtEl>
                                          <p:spTgt spid="314"/>
                                        </p:tgtEl>
                                      </p:cBhvr>
                                    </p:animEffect>
                                  </p:childTnLst>
                                </p:cTn>
                              </p:par>
                            </p:childTnLst>
                          </p:cTn>
                        </p:par>
                        <p:par>
                          <p:cTn id="706" fill="hold">
                            <p:stCondLst>
                              <p:cond delay="500"/>
                            </p:stCondLst>
                            <p:childTnLst>
                              <p:par>
                                <p:cTn id="707" nodeType="afterEffect" fill="hold" presetClass="entr" presetID="12" presetSubtype="4">
                                  <p:stCondLst>
                                    <p:cond delay="0"/>
                                  </p:stCondLst>
                                  <p:childTnLst>
                                    <p:set>
                                      <p:cBhvr>
                                        <p:cTn id="708" dur="1" fill="hold">
                                          <p:stCondLst>
                                            <p:cond delay="0"/>
                                          </p:stCondLst>
                                        </p:cTn>
                                        <p:tgtEl>
                                          <p:spTgt spid="315"/>
                                        </p:tgtEl>
                                        <p:attrNameLst>
                                          <p:attrName>style.visibility</p:attrName>
                                        </p:attrNameLst>
                                      </p:cBhvr>
                                      <p:to>
                                        <p:strVal val="visible"/>
                                      </p:to>
                                    </p:set>
                                    <p:animEffect filter="slide(fromBottom)" transition="in">
                                      <p:cBhvr additive="repl">
                                        <p:cTn id="709" dur="500"/>
                                        <p:tgtEl>
                                          <p:spTgt spid="315"/>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6">
                                  <p:stCondLst>
                                    <p:cond delay="0"/>
                                  </p:stCondLst>
                                  <p:childTnLst>
                                    <p:set>
                                      <p:cBhvr>
                                        <p:cTn id="713" dur="1" fill="hold">
                                          <p:stCondLst>
                                            <p:cond delay="0"/>
                                          </p:stCondLst>
                                        </p:cTn>
                                        <p:tgtEl>
                                          <p:spTgt spid="316"/>
                                        </p:tgtEl>
                                        <p:attrNameLst>
                                          <p:attrName>style.visibility</p:attrName>
                                        </p:attrNameLst>
                                      </p:cBhvr>
                                      <p:to>
                                        <p:strVal val="visible"/>
                                      </p:to>
                                    </p:set>
                                    <p:anim calcmode="lin" valueType="num">
                                      <p:cBhvr additive="base">
                                        <p:cTn id="714" dur="500" fill="hold"/>
                                        <p:tgtEl>
                                          <p:spTgt spid="316"/>
                                        </p:tgtEl>
                                        <p:attrNameLst>
                                          <p:attrName>ppt_x</p:attrName>
                                        </p:attrNameLst>
                                      </p:cBhvr>
                                      <p:tavLst>
                                        <p:tav tm="0">
                                          <p:val>
                                            <p:strVal val="1+#ppt_w/2"/>
                                          </p:val>
                                        </p:tav>
                                        <p:tav tm="100000">
                                          <p:val>
                                            <p:strVal val="#ppt_x"/>
                                          </p:val>
                                        </p:tav>
                                      </p:tavLst>
                                    </p:anim>
                                    <p:anim calcmode="lin" valueType="num">
                                      <p:cBhvr additive="base">
                                        <p:cTn id="715"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7" name=""/>
          <p:cNvGrpSpPr/>
          <p:nvPr/>
        </p:nvGrpSpPr>
        <p:grpSpPr>
          <a:xfrm>
            <a:off x="0" y="0"/>
            <a:ext cx="9144000" cy="3085200"/>
            <a:chOff x="0" y="0"/>
            <a:chExt cx="9144000" cy="3085200"/>
          </a:xfrm>
        </p:grpSpPr>
        <p:pic>
          <p:nvPicPr>
            <p:cNvPr id="318" name="" descr=""/>
            <p:cNvPicPr/>
            <p:nvPr/>
          </p:nvPicPr>
          <p:blipFill>
            <a:blip r:embed="rId2"/>
            <a:srcRect l="0" t="24156" r="0" b="22946"/>
            <a:stretch/>
          </p:blipFill>
          <p:spPr>
            <a:xfrm>
              <a:off x="0" y="0"/>
              <a:ext cx="9144000" cy="2438280"/>
            </a:xfrm>
            <a:prstGeom prst="rect">
              <a:avLst/>
            </a:prstGeom>
            <a:ln w="0">
              <a:noFill/>
            </a:ln>
          </p:spPr>
        </p:pic>
        <p:sp>
          <p:nvSpPr>
            <p:cNvPr id="319" name=""/>
            <p:cNvSpPr/>
            <p:nvPr/>
          </p:nvSpPr>
          <p:spPr>
            <a:xfrm>
              <a:off x="2842560" y="2564640"/>
              <a:ext cx="3460320" cy="520560"/>
            </a:xfrm>
            <a:prstGeom prst="rect">
              <a:avLst/>
            </a:prstGeom>
            <a:solidFill>
              <a:srgbClr val="cc3300">
                <a:alpha val="60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鸦片战争时期清军使用的竹制火铳</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grpSp>
      <p:grpSp>
        <p:nvGrpSpPr>
          <p:cNvPr id="320" name=""/>
          <p:cNvGrpSpPr/>
          <p:nvPr/>
        </p:nvGrpSpPr>
        <p:grpSpPr>
          <a:xfrm>
            <a:off x="0" y="3860640"/>
            <a:ext cx="9144000" cy="2320200"/>
            <a:chOff x="0" y="3860640"/>
            <a:chExt cx="9144000" cy="2320200"/>
          </a:xfrm>
        </p:grpSpPr>
        <p:pic>
          <p:nvPicPr>
            <p:cNvPr id="321" name="" descr="">
              <a:hlinkClick r:id="rId3"/>
            </p:cNvPr>
            <p:cNvPicPr/>
            <p:nvPr/>
          </p:nvPicPr>
          <p:blipFill>
            <a:blip r:embed="rId4"/>
            <a:stretch/>
          </p:blipFill>
          <p:spPr>
            <a:xfrm>
              <a:off x="0" y="3860640"/>
              <a:ext cx="9144000" cy="1630440"/>
            </a:xfrm>
            <a:prstGeom prst="rect">
              <a:avLst/>
            </a:prstGeom>
            <a:ln w="0">
              <a:noFill/>
            </a:ln>
          </p:spPr>
        </p:pic>
        <p:sp>
          <p:nvSpPr>
            <p:cNvPr id="322" name=""/>
            <p:cNvSpPr/>
            <p:nvPr/>
          </p:nvSpPr>
          <p:spPr>
            <a:xfrm>
              <a:off x="3130560" y="5660280"/>
              <a:ext cx="3033720" cy="520560"/>
            </a:xfrm>
            <a:prstGeom prst="rect">
              <a:avLst/>
            </a:prstGeom>
            <a:solidFill>
              <a:srgbClr val="cc3300">
                <a:alpha val="64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鸦片战争时期英军使用的枪支</a:t>
              </a:r>
              <a:r>
                <a:rPr b="0" lang="en-US" sz="2400" spc="-1" strike="noStrike">
                  <a:solidFill>
                    <a:srgbClr val="3d3f41"/>
                  </a:solidFill>
                  <a:latin typeface="Times New Roman"/>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2" presetSubtype="4">
                                  <p:stCondLst>
                                    <p:cond delay="0"/>
                                  </p:stCondLst>
                                  <p:childTnLst>
                                    <p:set>
                                      <p:cBhvr>
                                        <p:cTn id="721" dur="1" fill="hold">
                                          <p:stCondLst>
                                            <p:cond delay="0"/>
                                          </p:stCondLst>
                                        </p:cTn>
                                        <p:tgtEl>
                                          <p:spTgt spid="317"/>
                                        </p:tgtEl>
                                        <p:attrNameLst>
                                          <p:attrName>style.visibility</p:attrName>
                                        </p:attrNameLst>
                                      </p:cBhvr>
                                      <p:to>
                                        <p:strVal val="visible"/>
                                      </p:to>
                                    </p:set>
                                    <p:animEffect filter="wipe(down)" transition="in">
                                      <p:cBhvr additive="repl">
                                        <p:cTn id="722" dur="500"/>
                                        <p:tgtEl>
                                          <p:spTgt spid="31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16">
                                  <p:stCondLst>
                                    <p:cond delay="0"/>
                                  </p:stCondLst>
                                  <p:childTnLst>
                                    <p:set>
                                      <p:cBhvr>
                                        <p:cTn id="726" dur="1" fill="hold">
                                          <p:stCondLst>
                                            <p:cond delay="0"/>
                                          </p:stCondLst>
                                        </p:cTn>
                                        <p:tgtEl>
                                          <p:spTgt spid="320"/>
                                        </p:tgtEl>
                                        <p:attrNameLst>
                                          <p:attrName>style.visibility</p:attrName>
                                        </p:attrNameLst>
                                      </p:cBhvr>
                                      <p:to>
                                        <p:strVal val="visible"/>
                                      </p:to>
                                    </p:set>
                                    <p:animEffect filter="box(in)" transition="in">
                                      <p:cBhvr additive="repl">
                                        <p:cTn id="72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1295280" y="1773360"/>
            <a:ext cx="6516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隶书"/>
              </a:rPr>
              <a:t>中国为什么在鸦片战争中战败</a:t>
            </a:r>
            <a:endParaRPr b="0" lang="en-US" sz="18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pic>
        <p:nvPicPr>
          <p:cNvPr id="324" name="" descr=""/>
          <p:cNvPicPr/>
          <p:nvPr/>
        </p:nvPicPr>
        <p:blipFill>
          <a:blip r:embed="rId1"/>
          <a:stretch/>
        </p:blipFill>
        <p:spPr>
          <a:xfrm>
            <a:off x="0" y="0"/>
            <a:ext cx="9144000" cy="1662120"/>
          </a:xfrm>
          <a:prstGeom prst="rect">
            <a:avLst/>
          </a:prstGeom>
          <a:ln w="0">
            <a:noFill/>
          </a:ln>
        </p:spPr>
      </p:pic>
      <p:sp>
        <p:nvSpPr>
          <p:cNvPr id="325" name=""/>
          <p:cNvSpPr/>
          <p:nvPr/>
        </p:nvSpPr>
        <p:spPr>
          <a:xfrm>
            <a:off x="1851120" y="2852640"/>
            <a:ext cx="584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政治腐败</a:t>
            </a:r>
            <a:r>
              <a:rPr b="1" lang="en-US" sz="3600" spc="-1" strike="noStrike">
                <a:solidFill>
                  <a:srgbClr val="000000"/>
                </a:solidFill>
                <a:latin typeface="Arial"/>
                <a:ea typeface="隶书"/>
              </a:rPr>
              <a:t>,</a:t>
            </a:r>
            <a:r>
              <a:rPr b="1" lang="zh-CN" sz="3600" spc="-1" strike="noStrike">
                <a:solidFill>
                  <a:srgbClr val="000000"/>
                </a:solidFill>
                <a:latin typeface="Arial"/>
                <a:ea typeface="隶书"/>
              </a:rPr>
              <a:t>经济落后</a:t>
            </a:r>
            <a:r>
              <a:rPr b="1" lang="en-US" sz="3600" spc="-1" strike="noStrike">
                <a:solidFill>
                  <a:srgbClr val="000000"/>
                </a:solidFill>
                <a:latin typeface="Arial"/>
                <a:ea typeface="隶书"/>
              </a:rPr>
              <a:t>,</a:t>
            </a:r>
            <a:r>
              <a:rPr b="1" lang="zh-CN" sz="3600" spc="-1" strike="noStrike">
                <a:solidFill>
                  <a:srgbClr val="000000"/>
                </a:solidFill>
                <a:latin typeface="Arial"/>
                <a:ea typeface="隶书"/>
              </a:rPr>
              <a:t>科技落后</a:t>
            </a:r>
            <a:r>
              <a:rPr b="1" lang="en-US" sz="3600" spc="-1" strike="noStrike">
                <a:solidFill>
                  <a:srgbClr val="000000"/>
                </a:solidFill>
                <a:latin typeface="Arial"/>
                <a:ea typeface="隶书"/>
              </a:rPr>
              <a:t>,</a:t>
            </a:r>
            <a:r>
              <a:rPr b="1" lang="zh-CN" sz="3600" spc="-1" strike="noStrike">
                <a:solidFill>
                  <a:srgbClr val="000000"/>
                </a:solidFill>
                <a:latin typeface="Arial"/>
                <a:ea typeface="隶书"/>
              </a:rPr>
              <a:t>军事落后</a:t>
            </a:r>
            <a:r>
              <a:rPr b="1" lang="en-US" sz="3600" spc="-1" strike="noStrike">
                <a:solidFill>
                  <a:srgbClr val="000000"/>
                </a:solidFill>
                <a:latin typeface="Arial"/>
                <a:ea typeface="隶书"/>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指挥失当… …</a:t>
            </a:r>
            <a:endParaRPr b="0" lang="en-US" sz="3600" spc="-1" strike="noStrike">
              <a:solidFill>
                <a:srgbClr val="000000"/>
              </a:solidFill>
              <a:latin typeface="Arial"/>
            </a:endParaRPr>
          </a:p>
        </p:txBody>
      </p:sp>
      <p:sp>
        <p:nvSpPr>
          <p:cNvPr id="326" name=""/>
          <p:cNvSpPr/>
          <p:nvPr/>
        </p:nvSpPr>
        <p:spPr>
          <a:xfrm>
            <a:off x="2087640" y="4149720"/>
            <a:ext cx="417672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根本原因</a:t>
            </a:r>
            <a:r>
              <a:rPr b="1" lang="en-US" sz="3600" spc="-1" strike="noStrike">
                <a:solidFill>
                  <a:srgbClr val="000000"/>
                </a:solidFill>
                <a:latin typeface="Arial"/>
                <a:ea typeface="隶书"/>
              </a:rPr>
              <a:t>:</a:t>
            </a:r>
            <a:r>
              <a:rPr b="1" lang="zh-CN" sz="3600" spc="-1" strike="noStrike">
                <a:solidFill>
                  <a:srgbClr val="000000"/>
                </a:solidFill>
                <a:latin typeface="Arial"/>
                <a:ea typeface="隶书"/>
              </a:rPr>
              <a:t>制度落后</a:t>
            </a:r>
            <a:endParaRPr b="0" lang="en-US" sz="3600" spc="-1" strike="noStrike">
              <a:solidFill>
                <a:srgbClr val="000000"/>
              </a:solidFill>
              <a:latin typeface="Arial"/>
            </a:endParaRPr>
          </a:p>
        </p:txBody>
      </p:sp>
      <p:sp>
        <p:nvSpPr>
          <p:cNvPr id="327" name=""/>
          <p:cNvSpPr txBox="1"/>
          <p:nvPr/>
        </p:nvSpPr>
        <p:spPr>
          <a:xfrm>
            <a:off x="1224000" y="5121360"/>
            <a:ext cx="180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blipFill rotWithShape="0">
                  <a:blip r:embed="rId2"/>
                  <a:srcRect/>
                  <a:tile tx="0" ty="0" sx="100000" sy="100000" algn="ctr"/>
                </a:blipFill>
                <a:latin typeface="隶书"/>
              </a:rPr>
              <a:t>教训</a:t>
            </a:r>
            <a:r>
              <a:rPr b="1" i="1" lang="en-US" sz="1800" spc="-1" strike="noStrike">
                <a:ln w="9360">
                  <a:solidFill>
                    <a:srgbClr val="000000"/>
                  </a:solidFill>
                  <a:miter/>
                </a:ln>
                <a:blipFill rotWithShape="0">
                  <a:blip r:embed="rId3"/>
                  <a:srcRect/>
                  <a:tile tx="0" ty="0" sx="100000" sy="100000" algn="ctr"/>
                </a:blipFill>
                <a:latin typeface="隶书"/>
              </a:rPr>
              <a:t>:</a:t>
            </a:r>
            <a:endParaRPr b="1" i="1" lang="en-US" sz="1800" spc="-1" strike="noStrike">
              <a:ln w="9360">
                <a:solidFill>
                  <a:srgbClr val="000000"/>
                </a:solidFill>
                <a:miter/>
              </a:ln>
              <a:blipFill rotWithShape="0">
                <a:blip r:embed="rId4"/>
                <a:srcRect/>
                <a:tile tx="0" ty="0" sx="100000" sy="100000" algn="ctr"/>
              </a:blipFill>
              <a:latin typeface="隶书"/>
              <a:ea typeface="隶书"/>
            </a:endParaRPr>
          </a:p>
        </p:txBody>
      </p:sp>
      <p:sp>
        <p:nvSpPr>
          <p:cNvPr id="328" name=""/>
          <p:cNvSpPr txBox="1"/>
          <p:nvPr/>
        </p:nvSpPr>
        <p:spPr>
          <a:xfrm>
            <a:off x="3564000" y="5084640"/>
            <a:ext cx="3744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落后就要挨打</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323"/>
                                        </p:tgtEl>
                                        <p:attrNameLst>
                                          <p:attrName>style.visibility</p:attrName>
                                        </p:attrNameLst>
                                      </p:cBhvr>
                                      <p:to>
                                        <p:strVal val="visible"/>
                                      </p:to>
                                    </p:set>
                                    <p:animEffect filter="wipe(left)" transition="in">
                                      <p:cBhvr additive="repl">
                                        <p:cTn id="734" dur="500"/>
                                        <p:tgtEl>
                                          <p:spTgt spid="32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7">
                                  <p:stCondLst>
                                    <p:cond delay="0"/>
                                  </p:stCondLst>
                                  <p:iterate type="lt">
                                    <p:tmAbs val="40"/>
                                  </p:iterate>
                                  <p:childTnLst>
                                    <p:set>
                                      <p:cBhvr>
                                        <p:cTn id="738" dur="1" fill="hold">
                                          <p:stCondLst>
                                            <p:cond delay="0"/>
                                          </p:stCondLst>
                                        </p:cTn>
                                        <p:tgtEl>
                                          <p:spTgt spid="325"/>
                                        </p:tgtEl>
                                        <p:attrNameLst>
                                          <p:attrName>style.visibility</p:attrName>
                                        </p:attrNameLst>
                                      </p:cBhvr>
                                      <p:to>
                                        <p:strVal val="visible"/>
                                      </p:to>
                                    </p:set>
                                    <p:anim calcmode="discrete" valueType="clr">
                                      <p:cBhvr additive="repl">
                                        <p:cTn id="739" dur="80"/>
                                        <p:tgtEl>
                                          <p:spTgt spid="325"/>
                                        </p:tgtEl>
                                        <p:attrNameLst>
                                          <p:attrName>style.color</p:attrName>
                                        </p:attrNameLst>
                                      </p:cBhvr>
                                      <p:tavLst>
                                        <p:tav tm="0">
                                          <p:val>
                                            <p:strVal val="rgb(64,-85,-60)"/>
                                          </p:val>
                                        </p:tav>
                                        <p:tav tm="50000">
                                          <p:val>
                                            <p:strVal val="rgb(-16,-80,0)"/>
                                          </p:val>
                                        </p:tav>
                                      </p:tavLst>
                                    </p:anim>
                                    <p:anim calcmode="discrete" valueType="clr">
                                      <p:cBhvr additive="repl">
                                        <p:cTn id="740" dur="80"/>
                                        <p:tgtEl>
                                          <p:spTgt spid="325"/>
                                        </p:tgtEl>
                                        <p:attrNameLst>
                                          <p:attrName>fillcolor</p:attrName>
                                        </p:attrNameLst>
                                      </p:cBhvr>
                                      <p:tavLst>
                                        <p:tav tm="0">
                                          <p:val>
                                            <p:strVal val="rgb(64,-85,-60)"/>
                                          </p:val>
                                        </p:tav>
                                        <p:tav tm="50000">
                                          <p:val>
                                            <p:strVal val="rgb(-16,-80,0)"/>
                                          </p:val>
                                        </p:tav>
                                      </p:tavLst>
                                    </p:anim>
                                    <p:set>
                                      <p:cBhvr>
                                        <p:cTn id="741" dur="80"/>
                                        <p:tgtEl>
                                          <p:spTgt spid="325"/>
                                        </p:tgtEl>
                                        <p:attrNameLst>
                                          <p:attrName>fill.type</p:attrName>
                                        </p:attrNameLst>
                                      </p:cBhvr>
                                      <p:to>
                                        <p:strVal val="solid"/>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8" presetSubtype="16">
                                  <p:stCondLst>
                                    <p:cond delay="0"/>
                                  </p:stCondLst>
                                  <p:childTnLst>
                                    <p:set>
                                      <p:cBhvr>
                                        <p:cTn id="745" dur="1" fill="hold">
                                          <p:stCondLst>
                                            <p:cond delay="0"/>
                                          </p:stCondLst>
                                        </p:cTn>
                                        <p:tgtEl>
                                          <p:spTgt spid="326"/>
                                        </p:tgtEl>
                                        <p:attrNameLst>
                                          <p:attrName>style.visibility</p:attrName>
                                        </p:attrNameLst>
                                      </p:cBhvr>
                                      <p:to>
                                        <p:strVal val="visible"/>
                                      </p:to>
                                    </p:set>
                                    <p:animEffect filter="diamond(in)" transition="in">
                                      <p:cBhvr additive="repl">
                                        <p:cTn id="746" dur="500"/>
                                        <p:tgtEl>
                                          <p:spTgt spid="326"/>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3" presetSubtype="16">
                                  <p:stCondLst>
                                    <p:cond delay="0"/>
                                  </p:stCondLst>
                                  <p:childTnLst>
                                    <p:set>
                                      <p:cBhvr>
                                        <p:cTn id="750" dur="1" fill="hold">
                                          <p:stCondLst>
                                            <p:cond delay="0"/>
                                          </p:stCondLst>
                                        </p:cTn>
                                        <p:tgtEl>
                                          <p:spTgt spid="327"/>
                                        </p:tgtEl>
                                        <p:attrNameLst>
                                          <p:attrName>style.visibility</p:attrName>
                                        </p:attrNameLst>
                                      </p:cBhvr>
                                      <p:to>
                                        <p:strVal val="visible"/>
                                      </p:to>
                                    </p:set>
                                    <p:anim calcmode="lin" valueType="num">
                                      <p:cBhvr additive="repl">
                                        <p:cTn id="751" dur="500" fill="hold"/>
                                        <p:tgtEl>
                                          <p:spTgt spid="327"/>
                                        </p:tgtEl>
                                        <p:attrNameLst>
                                          <p:attrName>ppt_w</p:attrName>
                                        </p:attrNameLst>
                                      </p:cBhvr>
                                      <p:tavLst>
                                        <p:tav tm="0">
                                          <p:val>
                                            <p:fltVal val="0"/>
                                          </p:val>
                                        </p:tav>
                                        <p:tav tm="100000">
                                          <p:val>
                                            <p:strVal val="#ppt_w"/>
                                          </p:val>
                                        </p:tav>
                                      </p:tavLst>
                                    </p:anim>
                                    <p:anim calcmode="lin" valueType="num">
                                      <p:cBhvr additive="repl">
                                        <p:cTn id="752"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3" presetSubtype="16">
                                  <p:stCondLst>
                                    <p:cond delay="0"/>
                                  </p:stCondLst>
                                  <p:childTnLst>
                                    <p:set>
                                      <p:cBhvr>
                                        <p:cTn id="756" dur="1" fill="hold">
                                          <p:stCondLst>
                                            <p:cond delay="0"/>
                                          </p:stCondLst>
                                        </p:cTn>
                                        <p:tgtEl>
                                          <p:spTgt spid="328"/>
                                        </p:tgtEl>
                                        <p:attrNameLst>
                                          <p:attrName>style.visibility</p:attrName>
                                        </p:attrNameLst>
                                      </p:cBhvr>
                                      <p:to>
                                        <p:strVal val="visible"/>
                                      </p:to>
                                    </p:set>
                                    <p:anim calcmode="lin" valueType="num">
                                      <p:cBhvr additive="repl">
                                        <p:cTn id="757" dur="500" fill="hold"/>
                                        <p:tgtEl>
                                          <p:spTgt spid="328"/>
                                        </p:tgtEl>
                                        <p:attrNameLst>
                                          <p:attrName>ppt_w</p:attrName>
                                        </p:attrNameLst>
                                      </p:cBhvr>
                                      <p:tavLst>
                                        <p:tav tm="0">
                                          <p:val>
                                            <p:fltVal val="0"/>
                                          </p:val>
                                        </p:tav>
                                        <p:tav tm="100000">
                                          <p:val>
                                            <p:strVal val="#ppt_w"/>
                                          </p:val>
                                        </p:tav>
                                      </p:tavLst>
                                    </p:anim>
                                    <p:anim calcmode="lin" valueType="num">
                                      <p:cBhvr additive="repl">
                                        <p:cTn id="758" dur="500" fill="hold"/>
                                        <p:tgtEl>
                                          <p:spTgt spid="3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619280" y="1989000"/>
            <a:ext cx="691344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00ff"/>
                </a:solidFill>
                <a:latin typeface="Arial"/>
              </a:rPr>
              <a:t> </a:t>
            </a:r>
            <a:r>
              <a:rPr b="1" lang="zh-CN" sz="2800" spc="-1" strike="noStrike">
                <a:solidFill>
                  <a:srgbClr val="6600ff"/>
                </a:solidFill>
                <a:latin typeface="Arial"/>
              </a:rPr>
              <a:t>小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英国为开新市场，走私鸦片危害广。</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民族英雄林则徐，虎门销烟为国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一八四零鸦战起，《南京条约》丧权益。</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赔款通商又割地，半殖半封近代始。</a:t>
            </a:r>
            <a:endParaRPr b="0" lang="en-US" sz="2800" spc="-1" strike="noStrike">
              <a:solidFill>
                <a:srgbClr val="000000"/>
              </a:solidFill>
              <a:latin typeface="Arial"/>
            </a:endParaRPr>
          </a:p>
        </p:txBody>
      </p:sp>
      <p:sp>
        <p:nvSpPr>
          <p:cNvPr id="330" name=""/>
          <p:cNvSpPr txBox="1"/>
          <p:nvPr/>
        </p:nvSpPr>
        <p:spPr>
          <a:xfrm>
            <a:off x="900000" y="692280"/>
            <a:ext cx="13683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00ff00"/>
                </a:solidFill>
                <a:latin typeface="华文中宋"/>
              </a:rPr>
              <a:t>朗读</a:t>
            </a:r>
            <a:endParaRPr b="1" lang="en-US" sz="4000" spc="-1" strike="noStrike">
              <a:ln w="9360">
                <a:solidFill>
                  <a:srgbClr val="000000"/>
                </a:solidFill>
                <a:miter/>
              </a:ln>
              <a:solidFill>
                <a:srgbClr val="00ff00"/>
              </a:solidFill>
              <a:latin typeface="华文中宋"/>
              <a:ea typeface="华文中宋"/>
            </a:endParaRPr>
          </a:p>
        </p:txBody>
      </p:sp>
      <p:pic>
        <p:nvPicPr>
          <p:cNvPr id="331" name="" descr=""/>
          <p:cNvPicPr/>
          <p:nvPr/>
        </p:nvPicPr>
        <p:blipFill>
          <a:blip r:embed="rId1"/>
          <a:stretch/>
        </p:blipFill>
        <p:spPr>
          <a:xfrm>
            <a:off x="1187280" y="1197000"/>
            <a:ext cx="85752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2" name="" descr=""/>
          <p:cNvPicPr/>
          <p:nvPr/>
        </p:nvPicPr>
        <p:blipFill>
          <a:blip r:embed="rId2"/>
          <a:stretch/>
        </p:blipFill>
        <p:spPr>
          <a:xfrm>
            <a:off x="395280" y="-196920"/>
            <a:ext cx="8424720" cy="7054920"/>
          </a:xfrm>
          <a:prstGeom prst="rect">
            <a:avLst/>
          </a:prstGeom>
          <a:ln w="0">
            <a:noFill/>
          </a:ln>
        </p:spPr>
      </p:pic>
      <p:sp>
        <p:nvSpPr>
          <p:cNvPr id="333" name=""/>
          <p:cNvSpPr txBox="1"/>
          <p:nvPr/>
        </p:nvSpPr>
        <p:spPr>
          <a:xfrm>
            <a:off x="3780000" y="549360"/>
            <a:ext cx="2089080" cy="79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3d3f41"/>
                  </a:solidFill>
                  <a:miter/>
                </a:ln>
                <a:gradFill rotWithShape="0">
                  <a:gsLst>
                    <a:gs pos="0">
                      <a:srgbClr val="ffff00"/>
                    </a:gs>
                    <a:gs pos="100000">
                      <a:srgbClr val="ff3300"/>
                    </a:gs>
                  </a:gsLst>
                  <a:path path="rect">
                    <a:fillToRect l="50000" t="50000" r="50000" b="50000"/>
                  </a:path>
                </a:gradFill>
                <a:latin typeface="华文新魏"/>
              </a:rPr>
              <a:t>赛一赛</a:t>
            </a:r>
            <a:endParaRPr b="1" lang="en-US" sz="4000" spc="-1" strike="noStrike">
              <a:ln w="9360">
                <a:solidFill>
                  <a:srgbClr val="3d3f41"/>
                </a:solidFill>
                <a:miter/>
              </a:ln>
              <a:gradFill rotWithShape="0">
                <a:gsLst>
                  <a:gs pos="0">
                    <a:srgbClr val="ffff00"/>
                  </a:gs>
                  <a:gs pos="100000">
                    <a:srgbClr val="ff3300"/>
                  </a:gs>
                </a:gsLst>
                <a:path path="rect">
                  <a:fillToRect l="50000" t="50000" r="50000" b="50000"/>
                </a:path>
              </a:gradFill>
              <a:latin typeface="华文新魏"/>
              <a:ea typeface="华文新魏"/>
            </a:endParaRPr>
          </a:p>
        </p:txBody>
      </p:sp>
      <p:sp>
        <p:nvSpPr>
          <p:cNvPr id="334" name=""/>
          <p:cNvSpPr/>
          <p:nvPr/>
        </p:nvSpPr>
        <p:spPr>
          <a:xfrm>
            <a:off x="6443640" y="11592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看谁最利害</a:t>
            </a:r>
            <a:endParaRPr b="0" lang="en-US" sz="3200" spc="-1" strike="noStrike">
              <a:solidFill>
                <a:srgbClr val="000000"/>
              </a:solidFill>
              <a:latin typeface="Arial"/>
            </a:endParaRPr>
          </a:p>
        </p:txBody>
      </p:sp>
      <p:sp>
        <p:nvSpPr>
          <p:cNvPr id="335" name=""/>
          <p:cNvSpPr/>
          <p:nvPr/>
        </p:nvSpPr>
        <p:spPr>
          <a:xfrm>
            <a:off x="1979640" y="1268280"/>
            <a:ext cx="5832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1</a:t>
            </a:r>
            <a:r>
              <a:rPr b="1" lang="zh-CN" sz="2400" spc="-1" strike="noStrike">
                <a:solidFill>
                  <a:srgbClr val="3d3f41"/>
                </a:solidFill>
                <a:latin typeface="Arial"/>
              </a:rPr>
              <a:t>、到广东领导禁烟运动的大臣是（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A </a:t>
            </a:r>
            <a:r>
              <a:rPr b="1" lang="zh-CN" sz="2400" spc="-1" strike="noStrike">
                <a:solidFill>
                  <a:srgbClr val="3d3f41"/>
                </a:solidFill>
                <a:latin typeface="Arial"/>
              </a:rPr>
              <a:t>林则徐         </a:t>
            </a:r>
            <a:r>
              <a:rPr b="1" lang="en-US" sz="2400" spc="-1" strike="noStrike">
                <a:solidFill>
                  <a:srgbClr val="3d3f41"/>
                </a:solidFill>
                <a:latin typeface="Arial"/>
              </a:rPr>
              <a:t>B </a:t>
            </a:r>
            <a:r>
              <a:rPr b="1" lang="zh-CN" sz="2400" spc="-1" strike="noStrike">
                <a:solidFill>
                  <a:srgbClr val="3d3f41"/>
                </a:solidFill>
                <a:latin typeface="Arial"/>
              </a:rPr>
              <a:t>邓廷桢</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C </a:t>
            </a:r>
            <a:r>
              <a:rPr b="1" lang="zh-CN" sz="2400" spc="-1" strike="noStrike">
                <a:solidFill>
                  <a:srgbClr val="3d3f41"/>
                </a:solidFill>
                <a:latin typeface="Arial"/>
              </a:rPr>
              <a:t>琦善            </a:t>
            </a:r>
            <a:r>
              <a:rPr b="1" lang="en-US" sz="2400" spc="-1" strike="noStrike">
                <a:solidFill>
                  <a:srgbClr val="3d3f41"/>
                </a:solidFill>
                <a:latin typeface="Arial"/>
              </a:rPr>
              <a:t>D </a:t>
            </a:r>
            <a:r>
              <a:rPr b="1" lang="zh-CN" sz="2400" spc="-1" strike="noStrike">
                <a:solidFill>
                  <a:srgbClr val="3d3f41"/>
                </a:solidFill>
                <a:latin typeface="Arial"/>
              </a:rPr>
              <a:t>奕山</a:t>
            </a:r>
            <a:endParaRPr b="0" lang="en-US" sz="2400" spc="-1" strike="noStrike">
              <a:solidFill>
                <a:srgbClr val="000000"/>
              </a:solidFill>
              <a:latin typeface="Arial"/>
            </a:endParaRPr>
          </a:p>
        </p:txBody>
      </p:sp>
      <p:sp>
        <p:nvSpPr>
          <p:cNvPr id="336" name=""/>
          <p:cNvSpPr txBox="1"/>
          <p:nvPr/>
        </p:nvSpPr>
        <p:spPr>
          <a:xfrm>
            <a:off x="6877080" y="1268280"/>
            <a:ext cx="26676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ff"/>
                  </a:solidFill>
                  <a:miter/>
                </a:ln>
                <a:solidFill>
                  <a:srgbClr val="0000ff"/>
                </a:solidFill>
                <a:latin typeface="宋体"/>
              </a:rPr>
              <a:t>A</a:t>
            </a:r>
            <a:endParaRPr b="1" lang="en-US" sz="4000" spc="-1" strike="noStrike">
              <a:ln w="9360">
                <a:solidFill>
                  <a:srgbClr val="0000ff"/>
                </a:solidFill>
                <a:miter/>
              </a:ln>
              <a:solidFill>
                <a:srgbClr val="0000ff"/>
              </a:solidFill>
              <a:latin typeface="宋体"/>
              <a:ea typeface="宋体"/>
            </a:endParaRPr>
          </a:p>
        </p:txBody>
      </p:sp>
      <p:sp>
        <p:nvSpPr>
          <p:cNvPr id="337" name=""/>
          <p:cNvSpPr/>
          <p:nvPr/>
        </p:nvSpPr>
        <p:spPr>
          <a:xfrm>
            <a:off x="1547640" y="3141720"/>
            <a:ext cx="5977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2</a:t>
            </a:r>
            <a:r>
              <a:rPr b="1" lang="zh-CN" sz="2400" spc="-1" strike="noStrike">
                <a:solidFill>
                  <a:srgbClr val="3d3f41"/>
                </a:solidFill>
                <a:latin typeface="Arial"/>
              </a:rPr>
              <a:t>、国际上把</a:t>
            </a:r>
            <a:r>
              <a:rPr b="1" lang="en-US" sz="2400" spc="-1" strike="noStrike">
                <a:solidFill>
                  <a:srgbClr val="3d3f41"/>
                </a:solidFill>
                <a:latin typeface="Arial"/>
              </a:rPr>
              <a:t>6</a:t>
            </a:r>
            <a:r>
              <a:rPr b="1" lang="zh-CN" sz="2400" spc="-1" strike="noStrike">
                <a:solidFill>
                  <a:srgbClr val="3d3f41"/>
                </a:solidFill>
                <a:latin typeface="Arial"/>
              </a:rPr>
              <a:t>月</a:t>
            </a:r>
            <a:r>
              <a:rPr b="1" lang="en-US" sz="2400" spc="-1" strike="noStrike">
                <a:solidFill>
                  <a:srgbClr val="3d3f41"/>
                </a:solidFill>
                <a:latin typeface="Arial"/>
              </a:rPr>
              <a:t>3</a:t>
            </a:r>
            <a:r>
              <a:rPr b="1" lang="zh-CN" sz="2400" spc="-1" strike="noStrike">
                <a:solidFill>
                  <a:srgbClr val="3d3f41"/>
                </a:solidFill>
                <a:latin typeface="Arial"/>
              </a:rPr>
              <a:t>日定为“国际禁毒日”，后又把</a:t>
            </a:r>
            <a:r>
              <a:rPr b="1" lang="en-US" sz="2400" spc="-1" strike="noStrike">
                <a:solidFill>
                  <a:srgbClr val="3d3f41"/>
                </a:solidFill>
                <a:latin typeface="Arial"/>
              </a:rPr>
              <a:t>6</a:t>
            </a:r>
            <a:r>
              <a:rPr b="1" lang="zh-CN" sz="2400" spc="-1" strike="noStrike">
                <a:solidFill>
                  <a:srgbClr val="3d3f41"/>
                </a:solidFill>
                <a:latin typeface="Arial"/>
              </a:rPr>
              <a:t>月</a:t>
            </a:r>
            <a:r>
              <a:rPr b="1" lang="en-US" sz="2400" spc="-1" strike="noStrike">
                <a:solidFill>
                  <a:srgbClr val="3d3f41"/>
                </a:solidFill>
                <a:latin typeface="Arial"/>
              </a:rPr>
              <a:t>26</a:t>
            </a:r>
            <a:r>
              <a:rPr b="1" lang="zh-CN" sz="2400" spc="-1" strike="noStrike">
                <a:solidFill>
                  <a:srgbClr val="3d3f41"/>
                </a:solidFill>
                <a:latin typeface="Arial"/>
              </a:rPr>
              <a:t>日定为“国际禁毒日”，这些规定与中国的哪一事件直接相关（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A </a:t>
            </a:r>
            <a:r>
              <a:rPr b="1" lang="zh-CN" sz="2400" spc="-1" strike="noStrike">
                <a:solidFill>
                  <a:srgbClr val="3d3f41"/>
                </a:solidFill>
                <a:latin typeface="Arial"/>
              </a:rPr>
              <a:t>鸦片战争     </a:t>
            </a:r>
            <a:r>
              <a:rPr b="1" lang="en-US" sz="2400" spc="-1" strike="noStrike">
                <a:solidFill>
                  <a:srgbClr val="3d3f41"/>
                </a:solidFill>
                <a:latin typeface="Arial"/>
              </a:rPr>
              <a:t>B </a:t>
            </a:r>
            <a:r>
              <a:rPr b="1" lang="zh-CN" sz="2400" spc="-1" strike="noStrike">
                <a:solidFill>
                  <a:srgbClr val="3d3f41"/>
                </a:solidFill>
                <a:latin typeface="Arial"/>
              </a:rPr>
              <a:t>虎门销烟</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C </a:t>
            </a:r>
            <a:r>
              <a:rPr b="1" lang="zh-CN" sz="2400" spc="-1" strike="noStrike">
                <a:solidFill>
                  <a:srgbClr val="3d3f41"/>
                </a:solidFill>
                <a:latin typeface="Arial"/>
              </a:rPr>
              <a:t>《南京条约》的签订</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D </a:t>
            </a:r>
            <a:r>
              <a:rPr b="1" lang="zh-CN" sz="2400" spc="-1" strike="noStrike">
                <a:solidFill>
                  <a:srgbClr val="3d3f41"/>
                </a:solidFill>
                <a:latin typeface="Arial"/>
              </a:rPr>
              <a:t>英国向中国走私鸦片</a:t>
            </a:r>
            <a:endParaRPr b="0" lang="en-US" sz="2400" spc="-1" strike="noStrike">
              <a:solidFill>
                <a:srgbClr val="000000"/>
              </a:solidFill>
              <a:latin typeface="Arial"/>
            </a:endParaRPr>
          </a:p>
        </p:txBody>
      </p:sp>
      <p:sp>
        <p:nvSpPr>
          <p:cNvPr id="338" name=""/>
          <p:cNvSpPr txBox="1"/>
          <p:nvPr/>
        </p:nvSpPr>
        <p:spPr>
          <a:xfrm>
            <a:off x="5651640" y="3860640"/>
            <a:ext cx="2664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ff"/>
                  </a:solidFill>
                  <a:miter/>
                </a:ln>
                <a:solidFill>
                  <a:srgbClr val="0000ff"/>
                </a:solidFill>
                <a:latin typeface="宋体"/>
              </a:rPr>
              <a:t>B</a:t>
            </a:r>
            <a:endParaRPr b="1" lang="en-US" sz="4000" spc="-1" strike="noStrike">
              <a:ln w="9360">
                <a:solidFill>
                  <a:srgbClr val="0000ff"/>
                </a:solidFill>
                <a:miter/>
              </a:ln>
              <a:solidFill>
                <a:srgbClr val="0000ff"/>
              </a:solidFill>
              <a:latin typeface="宋体"/>
              <a:ea typeface="宋体"/>
            </a:endParaRPr>
          </a:p>
        </p:txBody>
      </p:sp>
      <p:pic>
        <p:nvPicPr>
          <p:cNvPr id="339" name="" descr=""/>
          <p:cNvPicPr/>
          <p:nvPr/>
        </p:nvPicPr>
        <p:blipFill>
          <a:blip r:embed="rId3"/>
          <a:stretch/>
        </p:blipFill>
        <p:spPr>
          <a:xfrm>
            <a:off x="8101080" y="5661000"/>
            <a:ext cx="857160" cy="85716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5"/>
                                        </p:tgtEl>
                                        <p:attrNameLst>
                                          <p:attrName>style.visibility</p:attrName>
                                        </p:attrNameLst>
                                      </p:cBhvr>
                                      <p:to>
                                        <p:strVal val="visible"/>
                                      </p:to>
                                    </p:set>
                                    <p:anim calcmode="lin" valueType="num">
                                      <p:cBhvr additive="base">
                                        <p:cTn id="765" dur="500" fill="hold"/>
                                        <p:tgtEl>
                                          <p:spTgt spid="335"/>
                                        </p:tgtEl>
                                        <p:attrNameLst>
                                          <p:attrName>ppt_x</p:attrName>
                                        </p:attrNameLst>
                                      </p:cBhvr>
                                      <p:tavLst>
                                        <p:tav tm="0">
                                          <p:val>
                                            <p:strVal val="#ppt_x"/>
                                          </p:val>
                                        </p:tav>
                                        <p:tav tm="100000">
                                          <p:val>
                                            <p:strVal val="#ppt_x"/>
                                          </p:val>
                                        </p:tav>
                                      </p:tavLst>
                                    </p:anim>
                                    <p:anim calcmode="lin" valueType="num">
                                      <p:cBhvr additive="base">
                                        <p:cTn id="766"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6" presetSubtype="42">
                                  <p:stCondLst>
                                    <p:cond delay="0"/>
                                  </p:stCondLst>
                                  <p:childTnLst>
                                    <p:set>
                                      <p:cBhvr>
                                        <p:cTn id="770" dur="1" fill="hold">
                                          <p:stCondLst>
                                            <p:cond delay="0"/>
                                          </p:stCondLst>
                                        </p:cTn>
                                        <p:tgtEl>
                                          <p:spTgt spid="336"/>
                                        </p:tgtEl>
                                        <p:attrNameLst>
                                          <p:attrName>style.visibility</p:attrName>
                                        </p:attrNameLst>
                                      </p:cBhvr>
                                      <p:to>
                                        <p:strVal val="visible"/>
                                      </p:to>
                                    </p:set>
                                    <p:animEffect filter="barn(outHorizontal)" transition="in">
                                      <p:cBhvr additive="repl">
                                        <p:cTn id="771" dur="500"/>
                                        <p:tgtEl>
                                          <p:spTgt spid="336"/>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37"/>
                                        </p:tgtEl>
                                        <p:attrNameLst>
                                          <p:attrName>style.visibility</p:attrName>
                                        </p:attrNameLst>
                                      </p:cBhvr>
                                      <p:to>
                                        <p:strVal val="visible"/>
                                      </p:to>
                                    </p:set>
                                    <p:anim calcmode="lin" valueType="num">
                                      <p:cBhvr additive="base">
                                        <p:cTn id="776" dur="500" fill="hold"/>
                                        <p:tgtEl>
                                          <p:spTgt spid="337"/>
                                        </p:tgtEl>
                                        <p:attrNameLst>
                                          <p:attrName>ppt_x</p:attrName>
                                        </p:attrNameLst>
                                      </p:cBhvr>
                                      <p:tavLst>
                                        <p:tav tm="0">
                                          <p:val>
                                            <p:strVal val="#ppt_x"/>
                                          </p:val>
                                        </p:tav>
                                        <p:tav tm="100000">
                                          <p:val>
                                            <p:strVal val="#ppt_x"/>
                                          </p:val>
                                        </p:tav>
                                      </p:tavLst>
                                    </p:anim>
                                    <p:anim calcmode="lin" valueType="num">
                                      <p:cBhvr additive="base">
                                        <p:cTn id="777"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6" presetSubtype="42">
                                  <p:stCondLst>
                                    <p:cond delay="0"/>
                                  </p:stCondLst>
                                  <p:childTnLst>
                                    <p:set>
                                      <p:cBhvr>
                                        <p:cTn id="781" dur="1" fill="hold">
                                          <p:stCondLst>
                                            <p:cond delay="0"/>
                                          </p:stCondLst>
                                        </p:cTn>
                                        <p:tgtEl>
                                          <p:spTgt spid="338"/>
                                        </p:tgtEl>
                                        <p:attrNameLst>
                                          <p:attrName>style.visibility</p:attrName>
                                        </p:attrNameLst>
                                      </p:cBhvr>
                                      <p:to>
                                        <p:strVal val="visible"/>
                                      </p:to>
                                    </p:set>
                                    <p:animEffect filter="barn(outHorizontal)" transition="in">
                                      <p:cBhvr additive="repl">
                                        <p:cTn id="782"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123640" y="1268280"/>
            <a:ext cx="6443640" cy="1470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comic"/>
              </a:rPr>
              <a:t>第一单元 </a:t>
            </a:r>
            <a:br>
              <a:rPr sz="5400"/>
            </a:br>
            <a:r>
              <a:rPr b="1" lang="zh-CN" sz="5400" spc="-1" strike="noStrike">
                <a:solidFill>
                  <a:srgbClr val="ff3300"/>
                </a:solidFill>
                <a:latin typeface="comic"/>
              </a:rPr>
              <a:t>第</a:t>
            </a:r>
            <a:r>
              <a:rPr b="1" lang="en-US" sz="5400" spc="-1" strike="noStrike">
                <a:solidFill>
                  <a:srgbClr val="ff3300"/>
                </a:solidFill>
                <a:latin typeface="comic"/>
              </a:rPr>
              <a:t>1</a:t>
            </a:r>
            <a:r>
              <a:rPr b="1" lang="zh-CN" sz="5400" spc="-1" strike="noStrike">
                <a:solidFill>
                  <a:srgbClr val="ff3300"/>
                </a:solidFill>
                <a:latin typeface="comic"/>
              </a:rPr>
              <a:t>课</a:t>
            </a:r>
            <a:endParaRPr b="1" lang="en-US" sz="5400" spc="-1" strike="noStrike">
              <a:solidFill>
                <a:srgbClr val="60524b"/>
              </a:solidFill>
              <a:latin typeface="comic"/>
            </a:endParaRPr>
          </a:p>
        </p:txBody>
      </p:sp>
      <p:pic>
        <p:nvPicPr>
          <p:cNvPr id="145" name="" descr=""/>
          <p:cNvPicPr/>
          <p:nvPr/>
        </p:nvPicPr>
        <p:blipFill>
          <a:blip r:embed="rId2"/>
          <a:stretch/>
        </p:blipFill>
        <p:spPr>
          <a:xfrm>
            <a:off x="7740720" y="5445000"/>
            <a:ext cx="1258920" cy="1258920"/>
          </a:xfrm>
          <a:prstGeom prst="rect">
            <a:avLst/>
          </a:prstGeom>
          <a:ln w="0">
            <a:noFill/>
          </a:ln>
        </p:spPr>
      </p:pic>
      <p:sp>
        <p:nvSpPr>
          <p:cNvPr id="146" name=""/>
          <p:cNvSpPr txBox="1"/>
          <p:nvPr/>
        </p:nvSpPr>
        <p:spPr>
          <a:xfrm>
            <a:off x="2771640" y="3213000"/>
            <a:ext cx="496908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blipFill rotWithShape="0">
                  <a:blip r:embed="rId3"/>
                  <a:srcRect/>
                  <a:tile tx="0" ty="0" sx="100000" sy="100000" algn="ctr"/>
                </a:blipFill>
                <a:latin typeface="华文行楷"/>
              </a:rPr>
              <a:t>鸦片战争</a:t>
            </a:r>
            <a:endParaRPr b="0" lang="en-US" sz="6000" spc="-1" strike="noStrike">
              <a:ln w="9360">
                <a:solidFill>
                  <a:srgbClr val="000000"/>
                </a:solidFill>
                <a:miter/>
              </a:ln>
              <a:blipFill rotWithShape="0">
                <a:blip r:embed="rId4"/>
                <a:srcRect/>
                <a:tile tx="0" ty="0" sx="100000" sy="100000" algn="ctr"/>
              </a:blipFill>
              <a:latin typeface="华文行楷"/>
              <a:ea typeface="华文行楷"/>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repl">
                                        <p:cTn id="61" dur="500" fill="hold"/>
                                        <p:tgtEl>
                                          <p:spTgt spid="144"/>
                                        </p:tgtEl>
                                        <p:attrNameLst>
                                          <p:attrName>ppt_w</p:attrName>
                                        </p:attrNameLst>
                                      </p:cBhvr>
                                      <p:tavLst>
                                        <p:tav tm="0">
                                          <p:val>
                                            <p:fltVal val="0"/>
                                          </p:val>
                                        </p:tav>
                                        <p:tav tm="100000">
                                          <p:val>
                                            <p:strVal val="#ppt_w"/>
                                          </p:val>
                                        </p:tav>
                                      </p:tavLst>
                                    </p:anim>
                                    <p:anim calcmode="lin" valueType="num">
                                      <p:cBhvr additive="repl">
                                        <p:cTn id="62" dur="500" fill="hold"/>
                                        <p:tgtEl>
                                          <p:spTgt spid="144"/>
                                        </p:tgtEl>
                                        <p:attrNameLst>
                                          <p:attrName>ppt_h</p:attrName>
                                        </p:attrNameLst>
                                      </p:cBhvr>
                                      <p:tavLst>
                                        <p:tav tm="0">
                                          <p:val>
                                            <p:strVal val="#ppt_h"/>
                                          </p:val>
                                        </p:tav>
                                        <p:tav tm="100000">
                                          <p:val>
                                            <p:strVal val="#ppt_h"/>
                                          </p:val>
                                        </p:tav>
                                      </p:tavLst>
                                    </p:anim>
                                  </p:childTnLst>
                                </p:cTn>
                              </p:par>
                            </p:childTnLst>
                          </p:cTn>
                        </p:par>
                        <p:par>
                          <p:cTn id="63" fill="hold">
                            <p:stCondLst>
                              <p:cond delay="500"/>
                            </p:stCondLst>
                            <p:childTnLst>
                              <p:par>
                                <p:cTn id="64" nodeType="afterEffect" fill="hold" presetClass="entr" presetID="17" presetSubtype="10">
                                  <p:stCondLst>
                                    <p:cond delay="0"/>
                                  </p:stCondLst>
                                  <p:childTnLst>
                                    <p:set>
                                      <p:cBhvr>
                                        <p:cTn id="65" dur="1" fill="hold">
                                          <p:stCondLst>
                                            <p:cond delay="0"/>
                                          </p:stCondLst>
                                        </p:cTn>
                                        <p:tgtEl>
                                          <p:spTgt spid="146"/>
                                        </p:tgtEl>
                                        <p:attrNameLst>
                                          <p:attrName>style.visibility</p:attrName>
                                        </p:attrNameLst>
                                      </p:cBhvr>
                                      <p:to>
                                        <p:strVal val="visible"/>
                                      </p:to>
                                    </p:set>
                                    <p:anim calcmode="lin" valueType="num">
                                      <p:cBhvr additive="repl">
                                        <p:cTn id="66" dur="500" fill="hold"/>
                                        <p:tgtEl>
                                          <p:spTgt spid="146"/>
                                        </p:tgtEl>
                                        <p:attrNameLst>
                                          <p:attrName>ppt_w</p:attrName>
                                        </p:attrNameLst>
                                      </p:cBhvr>
                                      <p:tavLst>
                                        <p:tav tm="0">
                                          <p:val>
                                            <p:fltVal val="0"/>
                                          </p:val>
                                        </p:tav>
                                        <p:tav tm="100000">
                                          <p:val>
                                            <p:strVal val="#ppt_w"/>
                                          </p:val>
                                        </p:tav>
                                      </p:tavLst>
                                    </p:anim>
                                    <p:anim calcmode="lin" valueType="num">
                                      <p:cBhvr additive="repl">
                                        <p:cTn id="67" dur="5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395280" y="-196920"/>
            <a:ext cx="8424720" cy="7054920"/>
          </a:xfrm>
          <a:prstGeom prst="rect">
            <a:avLst/>
          </a:prstGeom>
          <a:ln w="0">
            <a:noFill/>
          </a:ln>
        </p:spPr>
      </p:pic>
      <p:sp>
        <p:nvSpPr>
          <p:cNvPr id="341" name=""/>
          <p:cNvSpPr txBox="1"/>
          <p:nvPr/>
        </p:nvSpPr>
        <p:spPr>
          <a:xfrm>
            <a:off x="3780000" y="549360"/>
            <a:ext cx="2089080" cy="79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3d3f41"/>
                  </a:solidFill>
                  <a:miter/>
                </a:ln>
                <a:gradFill rotWithShape="0">
                  <a:gsLst>
                    <a:gs pos="0">
                      <a:srgbClr val="ffff00"/>
                    </a:gs>
                    <a:gs pos="100000">
                      <a:srgbClr val="ff3300"/>
                    </a:gs>
                  </a:gsLst>
                  <a:path path="rect">
                    <a:fillToRect l="50000" t="50000" r="50000" b="50000"/>
                  </a:path>
                </a:gradFill>
                <a:latin typeface="华文新魏"/>
              </a:rPr>
              <a:t>赛一赛</a:t>
            </a:r>
            <a:endParaRPr b="1" lang="en-US" sz="4000" spc="-1" strike="noStrike">
              <a:ln w="9360">
                <a:solidFill>
                  <a:srgbClr val="3d3f41"/>
                </a:solidFill>
                <a:miter/>
              </a:ln>
              <a:gradFill rotWithShape="0">
                <a:gsLst>
                  <a:gs pos="0">
                    <a:srgbClr val="ffff00"/>
                  </a:gs>
                  <a:gs pos="100000">
                    <a:srgbClr val="ff3300"/>
                  </a:gs>
                </a:gsLst>
                <a:path path="rect">
                  <a:fillToRect l="50000" t="50000" r="50000" b="50000"/>
                </a:path>
              </a:gradFill>
              <a:latin typeface="华文新魏"/>
              <a:ea typeface="华文新魏"/>
            </a:endParaRPr>
          </a:p>
        </p:txBody>
      </p:sp>
      <p:sp>
        <p:nvSpPr>
          <p:cNvPr id="342" name=""/>
          <p:cNvSpPr/>
          <p:nvPr/>
        </p:nvSpPr>
        <p:spPr>
          <a:xfrm>
            <a:off x="6443640" y="11592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看谁最利害</a:t>
            </a:r>
            <a:endParaRPr b="0" lang="en-US" sz="3200" spc="-1" strike="noStrike">
              <a:solidFill>
                <a:srgbClr val="000000"/>
              </a:solidFill>
              <a:latin typeface="Arial"/>
            </a:endParaRPr>
          </a:p>
        </p:txBody>
      </p:sp>
      <p:sp>
        <p:nvSpPr>
          <p:cNvPr id="343" name=""/>
          <p:cNvSpPr/>
          <p:nvPr/>
        </p:nvSpPr>
        <p:spPr>
          <a:xfrm>
            <a:off x="1835280" y="1484280"/>
            <a:ext cx="5832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3</a:t>
            </a:r>
            <a:r>
              <a:rPr b="1" lang="zh-CN" sz="2400" spc="-1" strike="noStrike">
                <a:solidFill>
                  <a:srgbClr val="3d3f41"/>
                </a:solidFill>
                <a:latin typeface="Arial"/>
              </a:rPr>
              <a:t>、在《南京条约》里割出去的香港部分是（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A </a:t>
            </a:r>
            <a:r>
              <a:rPr b="1" lang="zh-CN" sz="2400" spc="-1" strike="noStrike">
                <a:solidFill>
                  <a:srgbClr val="3d3f41"/>
                </a:solidFill>
                <a:latin typeface="Arial"/>
              </a:rPr>
              <a:t>九龙半岛     </a:t>
            </a:r>
            <a:r>
              <a:rPr b="1" lang="en-US" sz="2400" spc="-1" strike="noStrike">
                <a:solidFill>
                  <a:srgbClr val="3d3f41"/>
                </a:solidFill>
                <a:latin typeface="Arial"/>
              </a:rPr>
              <a:t>B </a:t>
            </a:r>
            <a:r>
              <a:rPr b="1" lang="zh-CN" sz="2400" spc="-1" strike="noStrike">
                <a:solidFill>
                  <a:srgbClr val="3d3f41"/>
                </a:solidFill>
                <a:latin typeface="Arial"/>
              </a:rPr>
              <a:t>新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C </a:t>
            </a:r>
            <a:r>
              <a:rPr b="1" lang="zh-CN" sz="2400" spc="-1" strike="noStrike">
                <a:solidFill>
                  <a:srgbClr val="3d3f41"/>
                </a:solidFill>
                <a:latin typeface="Arial"/>
              </a:rPr>
              <a:t>香港岛        </a:t>
            </a:r>
            <a:r>
              <a:rPr b="1" lang="en-US" sz="2400" spc="-1" strike="noStrike">
                <a:solidFill>
                  <a:srgbClr val="3d3f41"/>
                </a:solidFill>
                <a:latin typeface="Arial"/>
              </a:rPr>
              <a:t>D </a:t>
            </a:r>
            <a:r>
              <a:rPr b="1" lang="zh-CN" sz="2400" spc="-1" strike="noStrike">
                <a:solidFill>
                  <a:srgbClr val="3d3f41"/>
                </a:solidFill>
                <a:latin typeface="Arial"/>
              </a:rPr>
              <a:t>整个香港地区</a:t>
            </a:r>
            <a:endParaRPr b="0" lang="en-US" sz="2400" spc="-1" strike="noStrike">
              <a:solidFill>
                <a:srgbClr val="000000"/>
              </a:solidFill>
              <a:latin typeface="Arial"/>
            </a:endParaRPr>
          </a:p>
        </p:txBody>
      </p:sp>
      <p:sp>
        <p:nvSpPr>
          <p:cNvPr id="344" name=""/>
          <p:cNvSpPr/>
          <p:nvPr/>
        </p:nvSpPr>
        <p:spPr>
          <a:xfrm>
            <a:off x="1476360" y="3789360"/>
            <a:ext cx="5977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4</a:t>
            </a:r>
            <a:r>
              <a:rPr b="1" lang="zh-CN" sz="2400" spc="-1" strike="noStrike">
                <a:solidFill>
                  <a:srgbClr val="3d3f41"/>
                </a:solidFill>
                <a:latin typeface="Arial"/>
              </a:rPr>
              <a:t>、下列城市中不是《南京条约》里规定的通商口岸的是（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A </a:t>
            </a:r>
            <a:r>
              <a:rPr b="1" lang="zh-CN" sz="2400" spc="-1" strike="noStrike">
                <a:solidFill>
                  <a:srgbClr val="3d3f41"/>
                </a:solidFill>
                <a:latin typeface="Arial"/>
              </a:rPr>
              <a:t>广州               </a:t>
            </a:r>
            <a:r>
              <a:rPr b="1" lang="en-US" sz="2400" spc="-1" strike="noStrike">
                <a:solidFill>
                  <a:srgbClr val="3d3f41"/>
                </a:solidFill>
                <a:latin typeface="Arial"/>
              </a:rPr>
              <a:t>B </a:t>
            </a:r>
            <a:r>
              <a:rPr b="1" lang="zh-CN" sz="2400" spc="-1" strike="noStrike">
                <a:solidFill>
                  <a:srgbClr val="3d3f41"/>
                </a:solidFill>
                <a:latin typeface="Arial"/>
              </a:rPr>
              <a:t>福州</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C </a:t>
            </a:r>
            <a:r>
              <a:rPr b="1" lang="zh-CN" sz="2400" spc="-1" strike="noStrike">
                <a:solidFill>
                  <a:srgbClr val="3d3f41"/>
                </a:solidFill>
                <a:latin typeface="Arial"/>
              </a:rPr>
              <a:t>上海               </a:t>
            </a:r>
            <a:r>
              <a:rPr b="1" lang="en-US" sz="2400" spc="-1" strike="noStrike">
                <a:solidFill>
                  <a:srgbClr val="3d3f41"/>
                </a:solidFill>
                <a:latin typeface="Arial"/>
              </a:rPr>
              <a:t>D </a:t>
            </a:r>
            <a:r>
              <a:rPr b="1" lang="zh-CN" sz="2400" spc="-1" strike="noStrike">
                <a:solidFill>
                  <a:srgbClr val="3d3f41"/>
                </a:solidFill>
                <a:latin typeface="Arial"/>
              </a:rPr>
              <a:t>南京</a:t>
            </a:r>
            <a:endParaRPr b="0" lang="en-US" sz="2400" spc="-1" strike="noStrike">
              <a:solidFill>
                <a:srgbClr val="000000"/>
              </a:solidFill>
              <a:latin typeface="Arial"/>
            </a:endParaRPr>
          </a:p>
        </p:txBody>
      </p:sp>
      <p:sp>
        <p:nvSpPr>
          <p:cNvPr id="345" name=""/>
          <p:cNvSpPr txBox="1"/>
          <p:nvPr/>
        </p:nvSpPr>
        <p:spPr>
          <a:xfrm>
            <a:off x="2556000" y="1844640"/>
            <a:ext cx="266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ff"/>
                  </a:solidFill>
                  <a:miter/>
                </a:ln>
                <a:solidFill>
                  <a:srgbClr val="0000ff"/>
                </a:solidFill>
                <a:latin typeface="宋体"/>
              </a:rPr>
              <a:t>C</a:t>
            </a:r>
            <a:endParaRPr b="1" lang="en-US" sz="4000" spc="-1" strike="noStrike">
              <a:ln w="9360">
                <a:solidFill>
                  <a:srgbClr val="0000ff"/>
                </a:solidFill>
                <a:miter/>
              </a:ln>
              <a:solidFill>
                <a:srgbClr val="0000ff"/>
              </a:solidFill>
              <a:latin typeface="宋体"/>
              <a:ea typeface="宋体"/>
            </a:endParaRPr>
          </a:p>
        </p:txBody>
      </p:sp>
      <p:sp>
        <p:nvSpPr>
          <p:cNvPr id="346" name=""/>
          <p:cNvSpPr txBox="1"/>
          <p:nvPr/>
        </p:nvSpPr>
        <p:spPr>
          <a:xfrm>
            <a:off x="3780000" y="4149720"/>
            <a:ext cx="266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ff"/>
                  </a:solidFill>
                  <a:miter/>
                </a:ln>
                <a:solidFill>
                  <a:srgbClr val="0000ff"/>
                </a:solidFill>
                <a:latin typeface="宋体"/>
              </a:rPr>
              <a:t>D</a:t>
            </a:r>
            <a:endParaRPr b="1" lang="en-US" sz="4000" spc="-1" strike="noStrike">
              <a:ln w="9360">
                <a:solidFill>
                  <a:srgbClr val="0000ff"/>
                </a:solidFill>
                <a:miter/>
              </a:ln>
              <a:solidFill>
                <a:srgbClr val="0000ff"/>
              </a:solidFill>
              <a:latin typeface="宋体"/>
              <a:ea typeface="宋体"/>
            </a:endParaRPr>
          </a:p>
        </p:txBody>
      </p:sp>
      <p:pic>
        <p:nvPicPr>
          <p:cNvPr id="347" name="" descr=""/>
          <p:cNvPicPr/>
          <p:nvPr/>
        </p:nvPicPr>
        <p:blipFill>
          <a:blip r:embed="rId3"/>
          <a:stretch/>
        </p:blipFill>
        <p:spPr>
          <a:xfrm>
            <a:off x="8101080" y="5661000"/>
            <a:ext cx="857160" cy="85716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343"/>
                                        </p:tgtEl>
                                        <p:attrNameLst>
                                          <p:attrName>style.visibility</p:attrName>
                                        </p:attrNameLst>
                                      </p:cBhvr>
                                      <p:to>
                                        <p:strVal val="visible"/>
                                      </p:to>
                                    </p:set>
                                    <p:anim calcmode="lin" valueType="num">
                                      <p:cBhvr additive="base">
                                        <p:cTn id="789" dur="500" fill="hold"/>
                                        <p:tgtEl>
                                          <p:spTgt spid="343"/>
                                        </p:tgtEl>
                                        <p:attrNameLst>
                                          <p:attrName>ppt_x</p:attrName>
                                        </p:attrNameLst>
                                      </p:cBhvr>
                                      <p:tavLst>
                                        <p:tav tm="0">
                                          <p:val>
                                            <p:strVal val="#ppt_x"/>
                                          </p:val>
                                        </p:tav>
                                        <p:tav tm="100000">
                                          <p:val>
                                            <p:strVal val="#ppt_x"/>
                                          </p:val>
                                        </p:tav>
                                      </p:tavLst>
                                    </p:anim>
                                    <p:anim calcmode="lin" valueType="num">
                                      <p:cBhvr additive="base">
                                        <p:cTn id="790"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6" presetSubtype="42">
                                  <p:stCondLst>
                                    <p:cond delay="0"/>
                                  </p:stCondLst>
                                  <p:childTnLst>
                                    <p:set>
                                      <p:cBhvr>
                                        <p:cTn id="794" dur="1" fill="hold">
                                          <p:stCondLst>
                                            <p:cond delay="0"/>
                                          </p:stCondLst>
                                        </p:cTn>
                                        <p:tgtEl>
                                          <p:spTgt spid="345"/>
                                        </p:tgtEl>
                                        <p:attrNameLst>
                                          <p:attrName>style.visibility</p:attrName>
                                        </p:attrNameLst>
                                      </p:cBhvr>
                                      <p:to>
                                        <p:strVal val="visible"/>
                                      </p:to>
                                    </p:set>
                                    <p:animEffect filter="barn(outHorizontal)" transition="in">
                                      <p:cBhvr additive="repl">
                                        <p:cTn id="795" dur="500"/>
                                        <p:tgtEl>
                                          <p:spTgt spid="345"/>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4"/>
                                        </p:tgtEl>
                                        <p:attrNameLst>
                                          <p:attrName>style.visibility</p:attrName>
                                        </p:attrNameLst>
                                      </p:cBhvr>
                                      <p:to>
                                        <p:strVal val="visible"/>
                                      </p:to>
                                    </p:set>
                                    <p:anim calcmode="lin" valueType="num">
                                      <p:cBhvr additive="base">
                                        <p:cTn id="800" dur="500" fill="hold"/>
                                        <p:tgtEl>
                                          <p:spTgt spid="344"/>
                                        </p:tgtEl>
                                        <p:attrNameLst>
                                          <p:attrName>ppt_x</p:attrName>
                                        </p:attrNameLst>
                                      </p:cBhvr>
                                      <p:tavLst>
                                        <p:tav tm="0">
                                          <p:val>
                                            <p:strVal val="#ppt_x"/>
                                          </p:val>
                                        </p:tav>
                                        <p:tav tm="100000">
                                          <p:val>
                                            <p:strVal val="#ppt_x"/>
                                          </p:val>
                                        </p:tav>
                                      </p:tavLst>
                                    </p:anim>
                                    <p:anim calcmode="lin" valueType="num">
                                      <p:cBhvr additive="base">
                                        <p:cTn id="801"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6" presetSubtype="42">
                                  <p:stCondLst>
                                    <p:cond delay="0"/>
                                  </p:stCondLst>
                                  <p:childTnLst>
                                    <p:set>
                                      <p:cBhvr>
                                        <p:cTn id="805" dur="1" fill="hold">
                                          <p:stCondLst>
                                            <p:cond delay="0"/>
                                          </p:stCondLst>
                                        </p:cTn>
                                        <p:tgtEl>
                                          <p:spTgt spid="346"/>
                                        </p:tgtEl>
                                        <p:attrNameLst>
                                          <p:attrName>style.visibility</p:attrName>
                                        </p:attrNameLst>
                                      </p:cBhvr>
                                      <p:to>
                                        <p:strVal val="visible"/>
                                      </p:to>
                                    </p:set>
                                    <p:animEffect filter="barn(outHorizontal)" transition="in">
                                      <p:cBhvr additive="repl">
                                        <p:cTn id="80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95280" y="-196920"/>
            <a:ext cx="8424720" cy="7054920"/>
          </a:xfrm>
          <a:prstGeom prst="rect">
            <a:avLst/>
          </a:prstGeom>
          <a:ln w="0">
            <a:noFill/>
          </a:ln>
        </p:spPr>
      </p:pic>
      <p:sp>
        <p:nvSpPr>
          <p:cNvPr id="349" name=""/>
          <p:cNvSpPr txBox="1"/>
          <p:nvPr/>
        </p:nvSpPr>
        <p:spPr>
          <a:xfrm>
            <a:off x="3780000" y="549360"/>
            <a:ext cx="2089080" cy="79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3d3f41"/>
                  </a:solidFill>
                  <a:miter/>
                </a:ln>
                <a:gradFill rotWithShape="0">
                  <a:gsLst>
                    <a:gs pos="0">
                      <a:srgbClr val="ffff00"/>
                    </a:gs>
                    <a:gs pos="100000">
                      <a:srgbClr val="ff3300"/>
                    </a:gs>
                  </a:gsLst>
                  <a:path path="rect">
                    <a:fillToRect l="50000" t="50000" r="50000" b="50000"/>
                  </a:path>
                </a:gradFill>
                <a:latin typeface="华文新魏"/>
              </a:rPr>
              <a:t>赛一赛</a:t>
            </a:r>
            <a:endParaRPr b="1" lang="en-US" sz="4000" spc="-1" strike="noStrike">
              <a:ln w="9360">
                <a:solidFill>
                  <a:srgbClr val="3d3f41"/>
                </a:solidFill>
                <a:miter/>
              </a:ln>
              <a:gradFill rotWithShape="0">
                <a:gsLst>
                  <a:gs pos="0">
                    <a:srgbClr val="ffff00"/>
                  </a:gs>
                  <a:gs pos="100000">
                    <a:srgbClr val="ff3300"/>
                  </a:gs>
                </a:gsLst>
                <a:path path="rect">
                  <a:fillToRect l="50000" t="50000" r="50000" b="50000"/>
                </a:path>
              </a:gradFill>
              <a:latin typeface="华文新魏"/>
              <a:ea typeface="华文新魏"/>
            </a:endParaRPr>
          </a:p>
        </p:txBody>
      </p:sp>
      <p:sp>
        <p:nvSpPr>
          <p:cNvPr id="350" name=""/>
          <p:cNvSpPr/>
          <p:nvPr/>
        </p:nvSpPr>
        <p:spPr>
          <a:xfrm>
            <a:off x="6443640" y="11592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看谁最利害</a:t>
            </a:r>
            <a:endParaRPr b="0" lang="en-US" sz="3200" spc="-1" strike="noStrike">
              <a:solidFill>
                <a:srgbClr val="000000"/>
              </a:solidFill>
              <a:latin typeface="Arial"/>
            </a:endParaRPr>
          </a:p>
        </p:txBody>
      </p:sp>
      <p:sp>
        <p:nvSpPr>
          <p:cNvPr id="351" name=""/>
          <p:cNvSpPr/>
          <p:nvPr/>
        </p:nvSpPr>
        <p:spPr>
          <a:xfrm>
            <a:off x="1619280" y="2133720"/>
            <a:ext cx="5832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5</a:t>
            </a:r>
            <a:r>
              <a:rPr b="1" lang="zh-CN" sz="2400" spc="-1" strike="noStrike">
                <a:solidFill>
                  <a:srgbClr val="3d3f41"/>
                </a:solidFill>
                <a:latin typeface="Arial"/>
              </a:rPr>
              <a:t>、中国开始从封建社会逐步沦为半殖民地半封建社会的标志是（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A </a:t>
            </a:r>
            <a:r>
              <a:rPr b="1" lang="zh-CN" sz="2400" spc="-1" strike="noStrike">
                <a:solidFill>
                  <a:srgbClr val="3d3f41"/>
                </a:solidFill>
                <a:latin typeface="Arial"/>
              </a:rPr>
              <a:t>虎门销烟</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B 1840</a:t>
            </a:r>
            <a:r>
              <a:rPr b="1" lang="zh-CN" sz="2400" spc="-1" strike="noStrike">
                <a:solidFill>
                  <a:srgbClr val="3d3f41"/>
                </a:solidFill>
                <a:latin typeface="Arial"/>
              </a:rPr>
              <a:t>年的鸦片战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C </a:t>
            </a:r>
            <a:r>
              <a:rPr b="1" lang="zh-CN" sz="2400" spc="-1" strike="noStrike">
                <a:solidFill>
                  <a:srgbClr val="3d3f41"/>
                </a:solidFill>
                <a:latin typeface="Arial"/>
              </a:rPr>
              <a:t>鸦片的输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D </a:t>
            </a:r>
            <a:r>
              <a:rPr b="1" lang="zh-CN" sz="2400" spc="-1" strike="noStrike">
                <a:solidFill>
                  <a:srgbClr val="3d3f41"/>
                </a:solidFill>
                <a:latin typeface="Arial"/>
              </a:rPr>
              <a:t>《尼布楚条约》的签订</a:t>
            </a:r>
            <a:endParaRPr b="0" lang="en-US" sz="2400" spc="-1" strike="noStrike">
              <a:solidFill>
                <a:srgbClr val="000000"/>
              </a:solidFill>
              <a:latin typeface="Arial"/>
            </a:endParaRPr>
          </a:p>
        </p:txBody>
      </p:sp>
      <p:sp>
        <p:nvSpPr>
          <p:cNvPr id="352" name=""/>
          <p:cNvSpPr txBox="1"/>
          <p:nvPr/>
        </p:nvSpPr>
        <p:spPr>
          <a:xfrm>
            <a:off x="5076720" y="2565360"/>
            <a:ext cx="266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ff"/>
                  </a:solidFill>
                  <a:miter/>
                </a:ln>
                <a:solidFill>
                  <a:srgbClr val="0000ff"/>
                </a:solidFill>
                <a:latin typeface="宋体"/>
              </a:rPr>
              <a:t>B</a:t>
            </a:r>
            <a:endParaRPr b="1" lang="en-US" sz="4000" spc="-1" strike="noStrike">
              <a:ln w="9360">
                <a:solidFill>
                  <a:srgbClr val="0000ff"/>
                </a:solidFill>
                <a:miter/>
              </a:ln>
              <a:solidFill>
                <a:srgbClr val="0000ff"/>
              </a:solidFill>
              <a:latin typeface="宋体"/>
              <a:ea typeface="宋体"/>
            </a:endParaRPr>
          </a:p>
        </p:txBody>
      </p:sp>
      <p:pic>
        <p:nvPicPr>
          <p:cNvPr id="353" name="" descr=""/>
          <p:cNvPicPr/>
          <p:nvPr/>
        </p:nvPicPr>
        <p:blipFill>
          <a:blip r:embed="rId3"/>
          <a:stretch/>
        </p:blipFill>
        <p:spPr>
          <a:xfrm>
            <a:off x="8101080" y="5734080"/>
            <a:ext cx="857160" cy="8571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51"/>
                                        </p:tgtEl>
                                        <p:attrNameLst>
                                          <p:attrName>style.visibility</p:attrName>
                                        </p:attrNameLst>
                                      </p:cBhvr>
                                      <p:to>
                                        <p:strVal val="visible"/>
                                      </p:to>
                                    </p:set>
                                    <p:anim calcmode="lin" valueType="num">
                                      <p:cBhvr additive="base">
                                        <p:cTn id="813" dur="500" fill="hold"/>
                                        <p:tgtEl>
                                          <p:spTgt spid="351"/>
                                        </p:tgtEl>
                                        <p:attrNameLst>
                                          <p:attrName>ppt_x</p:attrName>
                                        </p:attrNameLst>
                                      </p:cBhvr>
                                      <p:tavLst>
                                        <p:tav tm="0">
                                          <p:val>
                                            <p:strVal val="#ppt_x"/>
                                          </p:val>
                                        </p:tav>
                                        <p:tav tm="100000">
                                          <p:val>
                                            <p:strVal val="#ppt_x"/>
                                          </p:val>
                                        </p:tav>
                                      </p:tavLst>
                                    </p:anim>
                                    <p:anim calcmode="lin" valueType="num">
                                      <p:cBhvr additive="base">
                                        <p:cTn id="814"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6" presetSubtype="42">
                                  <p:stCondLst>
                                    <p:cond delay="0"/>
                                  </p:stCondLst>
                                  <p:childTnLst>
                                    <p:set>
                                      <p:cBhvr>
                                        <p:cTn id="818" dur="1" fill="hold">
                                          <p:stCondLst>
                                            <p:cond delay="0"/>
                                          </p:stCondLst>
                                        </p:cTn>
                                        <p:tgtEl>
                                          <p:spTgt spid="352"/>
                                        </p:tgtEl>
                                        <p:attrNameLst>
                                          <p:attrName>style.visibility</p:attrName>
                                        </p:attrNameLst>
                                      </p:cBhvr>
                                      <p:to>
                                        <p:strVal val="visible"/>
                                      </p:to>
                                    </p:set>
                                    <p:animEffect filter="barn(outHorizontal)" transition="in">
                                      <p:cBhvr additive="repl">
                                        <p:cTn id="81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 descr="world1"/>
          <p:cNvPicPr/>
          <p:nvPr/>
        </p:nvPicPr>
        <p:blipFill>
          <a:blip r:embed="rId1"/>
          <a:stretch/>
        </p:blipFill>
        <p:spPr>
          <a:xfrm>
            <a:off x="0" y="907920"/>
            <a:ext cx="9144000" cy="6050160"/>
          </a:xfrm>
          <a:prstGeom prst="rect">
            <a:avLst/>
          </a:prstGeom>
          <a:ln w="0">
            <a:noFill/>
          </a:ln>
        </p:spPr>
      </p:pic>
      <p:sp>
        <p:nvSpPr>
          <p:cNvPr id="149" name="AutoShape 3"/>
          <p:cNvSpPr/>
          <p:nvPr/>
        </p:nvSpPr>
        <p:spPr>
          <a:xfrm>
            <a:off x="5580000" y="1052640"/>
            <a:ext cx="1193760" cy="642600"/>
          </a:xfrm>
          <a:solidFill>
            <a:srgbClr val="b5a8a1"/>
          </a:solidFill>
          <a:ln w="9360">
            <a:solidFill>
              <a:srgbClr val="c4ab4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Times New Roman"/>
                <a:ea typeface="DFKai-SB"/>
              </a:rPr>
              <a:t>中</a:t>
            </a:r>
            <a:r>
              <a:rPr b="0" lang="zh-CN" sz="3600" spc="-1" strike="noStrike">
                <a:solidFill>
                  <a:srgbClr val="ff0000"/>
                </a:solidFill>
                <a:latin typeface="Times New Roman"/>
                <a:ea typeface="DFKai-SB"/>
              </a:rPr>
              <a:t>国</a:t>
            </a:r>
            <a:endParaRPr b="0" lang="en-US" sz="3600" spc="-1" strike="noStrike">
              <a:solidFill>
                <a:srgbClr val="000000"/>
              </a:solidFill>
              <a:latin typeface="Arial"/>
            </a:endParaRPr>
          </a:p>
        </p:txBody>
      </p:sp>
      <p:sp>
        <p:nvSpPr>
          <p:cNvPr id="150" name="AutoShape 4"/>
          <p:cNvSpPr/>
          <p:nvPr/>
        </p:nvSpPr>
        <p:spPr>
          <a:xfrm>
            <a:off x="2273400" y="1049400"/>
            <a:ext cx="1218960" cy="642600"/>
          </a:xfrm>
          <a:solidFill>
            <a:srgbClr val="ff0000"/>
          </a:solidFill>
          <a:ln w="9360">
            <a:solidFill>
              <a:srgbClr val="3d3f4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454749"/>
                </a:solidFill>
                <a:latin typeface="Times New Roman"/>
                <a:ea typeface="DFKai-SB"/>
              </a:rPr>
              <a:t>英</a:t>
            </a:r>
            <a:r>
              <a:rPr b="0" lang="zh-CN" sz="3600" spc="-1" strike="noStrike">
                <a:solidFill>
                  <a:srgbClr val="454749"/>
                </a:solidFill>
                <a:latin typeface="Times New Roman"/>
                <a:ea typeface="DFKai-SB"/>
              </a:rPr>
              <a:t>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49"/>
                                        </p:tgtEl>
                                        <p:attrNameLst>
                                          <p:attrName>style.visibility</p:attrName>
                                        </p:attrNameLst>
                                      </p:cBhvr>
                                      <p:to>
                                        <p:strVal val="visible"/>
                                      </p:to>
                                    </p:set>
                                    <p:animEffect filter="box(in)" transition="in">
                                      <p:cBhvr additive="repl">
                                        <p:cTn id="74" dur="500"/>
                                        <p:tgtEl>
                                          <p:spTgt spid="14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50"/>
                                        </p:tgtEl>
                                        <p:attrNameLst>
                                          <p:attrName>style.visibility</p:attrName>
                                        </p:attrNameLst>
                                      </p:cBhvr>
                                      <p:to>
                                        <p:strVal val="visible"/>
                                      </p:to>
                                    </p:set>
                                    <p:animEffect filter="box(in)" transition="in">
                                      <p:cBhvr additive="repl">
                                        <p:cTn id="7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组合 5"/>
          <p:cNvGrpSpPr/>
          <p:nvPr/>
        </p:nvGrpSpPr>
        <p:grpSpPr>
          <a:xfrm>
            <a:off x="0" y="1413000"/>
            <a:ext cx="9144000" cy="4752720"/>
            <a:chOff x="0" y="1413000"/>
            <a:chExt cx="9144000" cy="4752720"/>
          </a:xfrm>
        </p:grpSpPr>
        <p:pic>
          <p:nvPicPr>
            <p:cNvPr id="152" name="Picture 10" descr="纺织"/>
            <p:cNvPicPr/>
            <p:nvPr/>
          </p:nvPicPr>
          <p:blipFill>
            <a:blip r:embed="rId1"/>
            <a:stretch/>
          </p:blipFill>
          <p:spPr>
            <a:xfrm>
              <a:off x="0" y="1413000"/>
              <a:ext cx="4356000" cy="4752720"/>
            </a:xfrm>
            <a:prstGeom prst="rect">
              <a:avLst/>
            </a:prstGeom>
            <a:ln w="31680">
              <a:solidFill>
                <a:srgbClr val="ff0000"/>
              </a:solidFill>
              <a:miter/>
            </a:ln>
          </p:spPr>
        </p:pic>
        <p:pic>
          <p:nvPicPr>
            <p:cNvPr id="153" name="Picture 11" descr="耕种1"/>
            <p:cNvPicPr/>
            <p:nvPr/>
          </p:nvPicPr>
          <p:blipFill>
            <a:blip r:embed="rId2"/>
            <a:stretch/>
          </p:blipFill>
          <p:spPr>
            <a:xfrm>
              <a:off x="4356000" y="1413000"/>
              <a:ext cx="4788000" cy="4752720"/>
            </a:xfrm>
            <a:prstGeom prst="rect">
              <a:avLst/>
            </a:prstGeom>
            <a:ln w="31680">
              <a:solidFill>
                <a:srgbClr val="ff0000"/>
              </a:solidFill>
              <a:miter/>
            </a:ln>
          </p:spPr>
        </p:pic>
      </p:grpSp>
      <p:sp>
        <p:nvSpPr>
          <p:cNvPr id="154" name="TextBox 6"/>
          <p:cNvSpPr/>
          <p:nvPr/>
        </p:nvSpPr>
        <p:spPr>
          <a:xfrm>
            <a:off x="1187280" y="44280"/>
            <a:ext cx="7129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d3f41"/>
                </a:solidFill>
                <a:latin typeface="华文新魏"/>
                <a:ea typeface="华文新魏"/>
              </a:rPr>
              <a:t>              </a:t>
            </a:r>
            <a:r>
              <a:rPr b="0" lang="en-US" sz="4000" spc="-1" strike="noStrike">
                <a:solidFill>
                  <a:srgbClr val="3d3f41"/>
                </a:solidFill>
                <a:latin typeface="华文新魏"/>
                <a:ea typeface="华文新魏"/>
              </a:rPr>
              <a:t>19</a:t>
            </a:r>
            <a:r>
              <a:rPr b="0" lang="zh-CN" sz="4000" spc="-1" strike="noStrike">
                <a:solidFill>
                  <a:srgbClr val="3d3f41"/>
                </a:solidFill>
                <a:latin typeface="华文新魏"/>
                <a:ea typeface="华文新魏"/>
              </a:rPr>
              <a:t>世纪上半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d3f41"/>
                </a:solidFill>
                <a:latin typeface="华文新魏"/>
                <a:ea typeface="华文新魏"/>
              </a:rPr>
              <a:t>英国</a:t>
            </a:r>
            <a:r>
              <a:rPr b="0" lang="en-US" sz="4000" spc="-1" strike="noStrike">
                <a:solidFill>
                  <a:srgbClr val="3d3f41"/>
                </a:solidFill>
                <a:latin typeface="华文新魏"/>
                <a:ea typeface="华文新魏"/>
              </a:rPr>
              <a:t>—</a:t>
            </a:r>
            <a:r>
              <a:rPr b="0" lang="zh-CN" sz="4000" spc="-1" strike="noStrike">
                <a:solidFill>
                  <a:srgbClr val="3d3f41"/>
                </a:solidFill>
                <a:latin typeface="华文新魏"/>
                <a:ea typeface="华文新魏"/>
              </a:rPr>
              <a:t>最强大的资本主义国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54"/>
                                        </p:tgtEl>
                                        <p:attrNameLst>
                                          <p:attrName>style.visibility</p:attrName>
                                        </p:attrNameLst>
                                      </p:cBhvr>
                                      <p:to>
                                        <p:strVal val="visible"/>
                                      </p:to>
                                    </p:set>
                                    <p:animEffect filter="box(in)" transition="in">
                                      <p:cBhvr additive="repl">
                                        <p:cTn id="8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867280" y="189000"/>
            <a:ext cx="1871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d3f41"/>
                </a:solidFill>
                <a:latin typeface="黑体"/>
                <a:ea typeface="黑体"/>
              </a:rPr>
              <a:t>英  国</a:t>
            </a:r>
            <a:endParaRPr b="0" lang="en-US" sz="3600" spc="-1" strike="noStrike">
              <a:solidFill>
                <a:srgbClr val="000000"/>
              </a:solidFill>
              <a:latin typeface="Arial"/>
            </a:endParaRPr>
          </a:p>
        </p:txBody>
      </p:sp>
      <p:sp>
        <p:nvSpPr>
          <p:cNvPr id="156" name=""/>
          <p:cNvSpPr/>
          <p:nvPr/>
        </p:nvSpPr>
        <p:spPr>
          <a:xfrm>
            <a:off x="1476360" y="189000"/>
            <a:ext cx="1727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中  国</a:t>
            </a:r>
            <a:endParaRPr b="0" lang="en-US" sz="3600" spc="-1" strike="noStrike">
              <a:solidFill>
                <a:srgbClr val="000000"/>
              </a:solidFill>
              <a:latin typeface="Arial"/>
            </a:endParaRPr>
          </a:p>
        </p:txBody>
      </p:sp>
      <p:pic>
        <p:nvPicPr>
          <p:cNvPr id="157" name="" descr=""/>
          <p:cNvPicPr/>
          <p:nvPr/>
        </p:nvPicPr>
        <p:blipFill>
          <a:blip r:embed="rId1"/>
          <a:stretch/>
        </p:blipFill>
        <p:spPr>
          <a:xfrm>
            <a:off x="4716360" y="907920"/>
            <a:ext cx="4032360" cy="2665440"/>
          </a:xfrm>
          <a:prstGeom prst="rect">
            <a:avLst/>
          </a:prstGeom>
          <a:ln w="28440">
            <a:solidFill>
              <a:srgbClr val="ffff00"/>
            </a:solidFill>
            <a:miter/>
          </a:ln>
        </p:spPr>
      </p:pic>
      <p:pic>
        <p:nvPicPr>
          <p:cNvPr id="158" name="" descr=""/>
          <p:cNvPicPr/>
          <p:nvPr/>
        </p:nvPicPr>
        <p:blipFill>
          <a:blip r:embed="rId2"/>
          <a:stretch/>
        </p:blipFill>
        <p:spPr>
          <a:xfrm>
            <a:off x="4716360" y="3840120"/>
            <a:ext cx="4176720" cy="2724120"/>
          </a:xfrm>
          <a:prstGeom prst="rect">
            <a:avLst/>
          </a:prstGeom>
          <a:ln w="28440">
            <a:solidFill>
              <a:srgbClr val="ffff00"/>
            </a:solidFill>
            <a:miter/>
          </a:ln>
        </p:spPr>
      </p:pic>
      <p:pic>
        <p:nvPicPr>
          <p:cNvPr id="159" name="" descr=""/>
          <p:cNvPicPr/>
          <p:nvPr/>
        </p:nvPicPr>
        <p:blipFill>
          <a:blip r:embed="rId3"/>
          <a:stretch/>
        </p:blipFill>
        <p:spPr>
          <a:xfrm>
            <a:off x="250920" y="907920"/>
            <a:ext cx="3960720" cy="2737080"/>
          </a:xfrm>
          <a:prstGeom prst="rect">
            <a:avLst/>
          </a:prstGeom>
          <a:ln w="28440">
            <a:solidFill>
              <a:srgbClr val="ffffff"/>
            </a:solidFill>
            <a:miter/>
          </a:ln>
        </p:spPr>
      </p:pic>
      <p:pic>
        <p:nvPicPr>
          <p:cNvPr id="160" name="" descr=""/>
          <p:cNvPicPr/>
          <p:nvPr/>
        </p:nvPicPr>
        <p:blipFill>
          <a:blip r:embed="rId4"/>
          <a:stretch/>
        </p:blipFill>
        <p:spPr>
          <a:xfrm>
            <a:off x="250920" y="3881520"/>
            <a:ext cx="3960720" cy="2644560"/>
          </a:xfrm>
          <a:prstGeom prst="rect">
            <a:avLst/>
          </a:prstGeom>
          <a:ln w="28440">
            <a:solidFill>
              <a:srgbClr val="ffffff"/>
            </a:solidFill>
            <a:miter/>
          </a:ln>
        </p:spPr>
      </p:pic>
      <p:sp>
        <p:nvSpPr>
          <p:cNvPr id="161" name=""/>
          <p:cNvSpPr/>
          <p:nvPr/>
        </p:nvSpPr>
        <p:spPr>
          <a:xfrm>
            <a:off x="250920" y="2276640"/>
            <a:ext cx="38894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中国是自给自足的封建小农经济</a:t>
            </a:r>
            <a:endParaRPr b="0" lang="en-US" sz="5400" spc="-1" strike="noStrike">
              <a:solidFill>
                <a:srgbClr val="000000"/>
              </a:solidFill>
              <a:latin typeface="Arial"/>
            </a:endParaRPr>
          </a:p>
        </p:txBody>
      </p:sp>
      <p:sp>
        <p:nvSpPr>
          <p:cNvPr id="162" name=""/>
          <p:cNvSpPr/>
          <p:nvPr/>
        </p:nvSpPr>
        <p:spPr>
          <a:xfrm>
            <a:off x="5003640" y="2276640"/>
            <a:ext cx="36720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英国是资本主义机器大工业</a:t>
            </a:r>
            <a:endParaRPr b="0" lang="en-US" sz="5400" spc="-1" strike="noStrike">
              <a:solidFill>
                <a:srgbClr val="000000"/>
              </a:solidFill>
              <a:latin typeface="Arial"/>
            </a:endParaRPr>
          </a:p>
        </p:txBody>
      </p:sp>
    </p:spTree>
  </p:cSld>
  <p:transition spd="slow">
    <p:comb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61"/>
                                        </p:tgtEl>
                                        <p:attrNameLst>
                                          <p:attrName>style.visibility</p:attrName>
                                        </p:attrNameLst>
                                      </p:cBhvr>
                                      <p:to>
                                        <p:strVal val="visible"/>
                                      </p:to>
                                    </p:set>
                                    <p:animEffect filter="checkerboard(across)" transition="in">
                                      <p:cBhvr additive="repl">
                                        <p:cTn id="93" dur="500"/>
                                        <p:tgtEl>
                                          <p:spTgt spid="16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62"/>
                                        </p:tgtEl>
                                        <p:attrNameLst>
                                          <p:attrName>style.visibility</p:attrName>
                                        </p:attrNameLst>
                                      </p:cBhvr>
                                      <p:to>
                                        <p:strVal val="visible"/>
                                      </p:to>
                                    </p:set>
                                    <p:animEffect filter="checkerboard(across)" transition="in">
                                      <p:cBhvr additive="repl">
                                        <p:cTn id="9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68360" y="2708280"/>
            <a:ext cx="8459640" cy="52056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Arial"/>
              </a:rPr>
              <a:t>（</a:t>
            </a:r>
            <a:r>
              <a:rPr b="1" lang="en-US" sz="2800" spc="-1" strike="noStrike">
                <a:solidFill>
                  <a:srgbClr val="3d3f41"/>
                </a:solidFill>
                <a:latin typeface="Arial"/>
              </a:rPr>
              <a:t>1</a:t>
            </a:r>
            <a:r>
              <a:rPr b="1" lang="zh-CN" sz="2800" spc="-1" strike="noStrike">
                <a:solidFill>
                  <a:srgbClr val="3d3f41"/>
                </a:solidFill>
                <a:latin typeface="Arial"/>
              </a:rPr>
              <a:t>）</a:t>
            </a:r>
            <a:r>
              <a:rPr b="1" lang="en-US" sz="2800" spc="-1" strike="noStrike">
                <a:solidFill>
                  <a:srgbClr val="3d3f41"/>
                </a:solidFill>
                <a:latin typeface="Arial"/>
              </a:rPr>
              <a:t>19</a:t>
            </a:r>
            <a:r>
              <a:rPr b="1" lang="zh-CN" sz="2800" spc="-1" strike="noStrike">
                <a:solidFill>
                  <a:srgbClr val="3d3f41"/>
                </a:solidFill>
                <a:latin typeface="Arial"/>
              </a:rPr>
              <a:t>世纪上半期的英国是一个什么样子的状况？</a:t>
            </a:r>
            <a:endParaRPr b="0" lang="en-US" sz="2800" spc="-1" strike="noStrike">
              <a:solidFill>
                <a:srgbClr val="000000"/>
              </a:solidFill>
              <a:latin typeface="Arial"/>
            </a:endParaRPr>
          </a:p>
        </p:txBody>
      </p:sp>
      <p:sp>
        <p:nvSpPr>
          <p:cNvPr id="164" name=""/>
          <p:cNvSpPr/>
          <p:nvPr/>
        </p:nvSpPr>
        <p:spPr>
          <a:xfrm>
            <a:off x="468360" y="5589720"/>
            <a:ext cx="8280360" cy="52056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Arial"/>
              </a:rPr>
              <a:t>（</a:t>
            </a:r>
            <a:r>
              <a:rPr b="1" lang="en-US" sz="2800" spc="-1" strike="noStrike">
                <a:solidFill>
                  <a:srgbClr val="3d3f41"/>
                </a:solidFill>
                <a:latin typeface="Arial"/>
              </a:rPr>
              <a:t>2</a:t>
            </a:r>
            <a:r>
              <a:rPr b="1" lang="zh-CN" sz="2800" spc="-1" strike="noStrike">
                <a:solidFill>
                  <a:srgbClr val="3d3f41"/>
                </a:solidFill>
                <a:latin typeface="Arial"/>
              </a:rPr>
              <a:t>）中英进出口贸易中，双方的主要状况如何？</a:t>
            </a:r>
            <a:endParaRPr b="0" lang="en-US" sz="2800" spc="-1" strike="noStrike">
              <a:solidFill>
                <a:srgbClr val="000000"/>
              </a:solidFill>
              <a:latin typeface="Arial"/>
            </a:endParaRPr>
          </a:p>
        </p:txBody>
      </p:sp>
      <p:pic>
        <p:nvPicPr>
          <p:cNvPr id="165" name="" descr=""/>
          <p:cNvPicPr/>
          <p:nvPr/>
        </p:nvPicPr>
        <p:blipFill>
          <a:blip r:embed="rId2"/>
          <a:stretch/>
        </p:blipFill>
        <p:spPr>
          <a:xfrm>
            <a:off x="324000" y="189000"/>
            <a:ext cx="1761840" cy="2160360"/>
          </a:xfrm>
          <a:prstGeom prst="rect">
            <a:avLst/>
          </a:prstGeom>
          <a:ln w="0">
            <a:noFill/>
          </a:ln>
        </p:spPr>
      </p:pic>
      <p:sp>
        <p:nvSpPr>
          <p:cNvPr id="166" name=""/>
          <p:cNvSpPr/>
          <p:nvPr/>
        </p:nvSpPr>
        <p:spPr>
          <a:xfrm>
            <a:off x="324000" y="3933720"/>
            <a:ext cx="1726920" cy="82548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3f41"/>
                </a:solidFill>
                <a:latin typeface="Arial"/>
              </a:rPr>
              <a:t>最强大的资本主义国家</a:t>
            </a:r>
            <a:endParaRPr b="0" lang="en-US" sz="2400" spc="-1" strike="noStrike">
              <a:solidFill>
                <a:srgbClr val="000000"/>
              </a:solidFill>
              <a:latin typeface="Arial"/>
            </a:endParaRPr>
          </a:p>
        </p:txBody>
      </p:sp>
      <p:sp>
        <p:nvSpPr>
          <p:cNvPr id="167" name=""/>
          <p:cNvSpPr/>
          <p:nvPr/>
        </p:nvSpPr>
        <p:spPr>
          <a:xfrm>
            <a:off x="2268360" y="3355920"/>
            <a:ext cx="287640" cy="2089080"/>
          </a:xfrm>
          <a:custGeom>
            <a:avLst/>
            <a:gdLst>
              <a:gd name="textAreaLeft" fmla="*/ 183960 w 287640"/>
              <a:gd name="textAreaRight" fmla="*/ 288000 w 28764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4ab4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70200" y="3429000"/>
            <a:ext cx="2089080" cy="45972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3f41"/>
                </a:solidFill>
                <a:latin typeface="Arial"/>
              </a:rPr>
              <a:t>开辟国外市场</a:t>
            </a:r>
            <a:endParaRPr b="0" lang="en-US" sz="2400" spc="-1" strike="noStrike">
              <a:solidFill>
                <a:srgbClr val="000000"/>
              </a:solidFill>
              <a:latin typeface="Arial"/>
            </a:endParaRPr>
          </a:p>
        </p:txBody>
      </p:sp>
      <p:sp>
        <p:nvSpPr>
          <p:cNvPr id="169" name=""/>
          <p:cNvSpPr/>
          <p:nvPr/>
        </p:nvSpPr>
        <p:spPr>
          <a:xfrm>
            <a:off x="2916360" y="4076640"/>
            <a:ext cx="1726920" cy="45972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3f41"/>
                </a:solidFill>
                <a:latin typeface="Arial"/>
              </a:rPr>
              <a:t>倾销工业品</a:t>
            </a:r>
            <a:endParaRPr b="0" lang="en-US" sz="2400" spc="-1" strike="noStrike">
              <a:solidFill>
                <a:srgbClr val="000000"/>
              </a:solidFill>
              <a:latin typeface="Arial"/>
            </a:endParaRPr>
          </a:p>
        </p:txBody>
      </p:sp>
      <p:sp>
        <p:nvSpPr>
          <p:cNvPr id="170" name=""/>
          <p:cNvSpPr/>
          <p:nvPr/>
        </p:nvSpPr>
        <p:spPr>
          <a:xfrm>
            <a:off x="2987640" y="4797360"/>
            <a:ext cx="1513080" cy="45972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3f41"/>
                </a:solidFill>
                <a:latin typeface="Arial"/>
              </a:rPr>
              <a:t>掠夺原料</a:t>
            </a:r>
            <a:endParaRPr b="0" lang="en-US" sz="2400" spc="-1" strike="noStrike">
              <a:solidFill>
                <a:srgbClr val="000000"/>
              </a:solidFill>
              <a:latin typeface="Arial"/>
            </a:endParaRPr>
          </a:p>
        </p:txBody>
      </p:sp>
      <p:sp>
        <p:nvSpPr>
          <p:cNvPr id="171" name=""/>
          <p:cNvSpPr/>
          <p:nvPr/>
        </p:nvSpPr>
        <p:spPr>
          <a:xfrm>
            <a:off x="5003640" y="3716280"/>
            <a:ext cx="2160720" cy="1224000"/>
          </a:xfrm>
          <a:prstGeom prst="rightArrow">
            <a:avLst>
              <a:gd name="adj1" fmla="val 50000"/>
              <a:gd name="adj2" fmla="val 44132"/>
            </a:avLst>
          </a:prstGeom>
          <a:gradFill rotWithShape="0">
            <a:gsLst>
              <a:gs pos="0">
                <a:srgbClr val="ffffff"/>
              </a:gs>
              <a:gs pos="50000">
                <a:srgbClr val="b5a8a1"/>
              </a:gs>
              <a:gs pos="100000">
                <a:srgbClr val="ffffff"/>
              </a:gs>
            </a:gsLst>
            <a:lin ang="5400000"/>
          </a:gradFill>
          <a:ln w="9360">
            <a:solidFill>
              <a:srgbClr val="3d3f4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076720" y="406224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侵略矛头</a:t>
            </a:r>
            <a:endParaRPr b="0" lang="en-US" sz="2800" spc="-1" strike="noStrike">
              <a:solidFill>
                <a:srgbClr val="000000"/>
              </a:solidFill>
              <a:latin typeface="Arial"/>
            </a:endParaRPr>
          </a:p>
        </p:txBody>
      </p:sp>
      <p:sp>
        <p:nvSpPr>
          <p:cNvPr id="173" name=""/>
          <p:cNvSpPr txBox="1"/>
          <p:nvPr/>
        </p:nvSpPr>
        <p:spPr>
          <a:xfrm>
            <a:off x="7380360" y="3860640"/>
            <a:ext cx="1297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800080"/>
                </a:solidFill>
                <a:latin typeface="宋体"/>
              </a:rPr>
              <a:t>中国</a:t>
            </a:r>
            <a:endParaRPr b="1" lang="en-US" sz="4000" spc="-1" strike="noStrike">
              <a:ln w="9360">
                <a:solidFill>
                  <a:srgbClr val="000000"/>
                </a:solidFill>
                <a:miter/>
              </a:ln>
              <a:solidFill>
                <a:srgbClr val="800080"/>
              </a:solidFill>
              <a:latin typeface="宋体"/>
              <a:ea typeface="宋体"/>
            </a:endParaRPr>
          </a:p>
        </p:txBody>
      </p:sp>
      <p:sp>
        <p:nvSpPr>
          <p:cNvPr id="174" name=""/>
          <p:cNvSpPr txBox="1"/>
          <p:nvPr/>
        </p:nvSpPr>
        <p:spPr>
          <a:xfrm>
            <a:off x="2195640" y="549360"/>
            <a:ext cx="2160360" cy="115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3300"/>
                  </a:solidFill>
                  <a:miter/>
                </a:ln>
                <a:solidFill>
                  <a:srgbClr val="0000ff"/>
                </a:solidFill>
                <a:latin typeface="隶书"/>
              </a:rPr>
              <a:t>找一找</a:t>
            </a:r>
            <a:endParaRPr b="1" lang="en-US" sz="4000" spc="-1" strike="noStrike">
              <a:ln w="9360">
                <a:solidFill>
                  <a:srgbClr val="ff3300"/>
                </a:solidFill>
                <a:miter/>
              </a:ln>
              <a:solidFill>
                <a:srgbClr val="0000ff"/>
              </a:solidFill>
              <a:latin typeface="隶书"/>
              <a:ea typeface="隶书"/>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165"/>
                                        </p:tgtEl>
                                        <p:attrNameLst>
                                          <p:attrName>style.visibility</p:attrName>
                                        </p:attrNameLst>
                                      </p:cBhvr>
                                      <p:to>
                                        <p:strVal val="visible"/>
                                      </p:to>
                                    </p:set>
                                    <p:animEffect filter="slide(fromBottom)" transition="in">
                                      <p:cBhvr additive="repl">
                                        <p:cTn id="105" dur="500"/>
                                        <p:tgtEl>
                                          <p:spTgt spid="165"/>
                                        </p:tgtEl>
                                      </p:cBhvr>
                                    </p:animEffect>
                                  </p:childTnLst>
                                </p:cTn>
                              </p:par>
                            </p:childTnLst>
                          </p:cTn>
                        </p:par>
                        <p:par>
                          <p:cTn id="106" fill="hold">
                            <p:stCondLst>
                              <p:cond delay="500"/>
                            </p:stCondLst>
                            <p:childTnLst>
                              <p:par>
                                <p:cTn id="107" nodeType="afterEffect" fill="hold" presetClass="entr" presetID="16" presetSubtype="21">
                                  <p:stCondLst>
                                    <p:cond delay="0"/>
                                  </p:stCondLst>
                                  <p:childTnLst>
                                    <p:set>
                                      <p:cBhvr>
                                        <p:cTn id="108" dur="1" fill="hold">
                                          <p:stCondLst>
                                            <p:cond delay="0"/>
                                          </p:stCondLst>
                                        </p:cTn>
                                        <p:tgtEl>
                                          <p:spTgt spid="174"/>
                                        </p:tgtEl>
                                        <p:attrNameLst>
                                          <p:attrName>style.visibility</p:attrName>
                                        </p:attrNameLst>
                                      </p:cBhvr>
                                      <p:to>
                                        <p:strVal val="visible"/>
                                      </p:to>
                                    </p:set>
                                    <p:animEffect filter="barn(inVertical)" transition="in">
                                      <p:cBhvr additive="repl">
                                        <p:cTn id="109" dur="500"/>
                                        <p:tgtEl>
                                          <p:spTgt spid="17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63"/>
                                        </p:tgtEl>
                                        <p:attrNameLst>
                                          <p:attrName>style.visibility</p:attrName>
                                        </p:attrNameLst>
                                      </p:cBhvr>
                                      <p:to>
                                        <p:strVal val="visible"/>
                                      </p:to>
                                    </p:set>
                                    <p:anim calcmode="lin" valueType="num">
                                      <p:cBhvr additive="base">
                                        <p:cTn id="114" dur="500" fill="hold"/>
                                        <p:tgtEl>
                                          <p:spTgt spid="163"/>
                                        </p:tgtEl>
                                        <p:attrNameLst>
                                          <p:attrName>ppt_x</p:attrName>
                                        </p:attrNameLst>
                                      </p:cBhvr>
                                      <p:tavLst>
                                        <p:tav tm="0">
                                          <p:val>
                                            <p:strVal val="0-#ppt_w/2"/>
                                          </p:val>
                                        </p:tav>
                                        <p:tav tm="100000">
                                          <p:val>
                                            <p:strVal val="#ppt_x"/>
                                          </p:val>
                                        </p:tav>
                                      </p:tavLst>
                                    </p:anim>
                                    <p:anim calcmode="lin" valueType="num">
                                      <p:cBhvr additive="base">
                                        <p:cTn id="11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64"/>
                                        </p:tgtEl>
                                        <p:attrNameLst>
                                          <p:attrName>style.visibility</p:attrName>
                                        </p:attrNameLst>
                                      </p:cBhvr>
                                      <p:to>
                                        <p:strVal val="visible"/>
                                      </p:to>
                                    </p:set>
                                    <p:anim calcmode="lin" valueType="num">
                                      <p:cBhvr additive="base">
                                        <p:cTn id="120" dur="500" fill="hold"/>
                                        <p:tgtEl>
                                          <p:spTgt spid="164"/>
                                        </p:tgtEl>
                                        <p:attrNameLst>
                                          <p:attrName>ppt_x</p:attrName>
                                        </p:attrNameLst>
                                      </p:cBhvr>
                                      <p:tavLst>
                                        <p:tav tm="0">
                                          <p:val>
                                            <p:strVal val="0-#ppt_w/2"/>
                                          </p:val>
                                        </p:tav>
                                        <p:tav tm="100000">
                                          <p:val>
                                            <p:strVal val="#ppt_x"/>
                                          </p:val>
                                        </p:tav>
                                      </p:tavLst>
                                    </p:anim>
                                    <p:anim calcmode="lin" valueType="num">
                                      <p:cBhvr additive="base">
                                        <p:cTn id="12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166"/>
                                        </p:tgtEl>
                                        <p:attrNameLst>
                                          <p:attrName>style.visibility</p:attrName>
                                        </p:attrNameLst>
                                      </p:cBhvr>
                                      <p:to>
                                        <p:strVal val="visible"/>
                                      </p:to>
                                    </p:set>
                                    <p:anim calcmode="lin" valueType="num">
                                      <p:cBhvr additive="repl">
                                        <p:cTn id="126" dur="500" fill="hold"/>
                                        <p:tgtEl>
                                          <p:spTgt spid="166"/>
                                        </p:tgtEl>
                                        <p:attrNameLst>
                                          <p:attrName>ppt_w</p:attrName>
                                        </p:attrNameLst>
                                      </p:cBhvr>
                                      <p:tavLst>
                                        <p:tav tm="0">
                                          <p:val>
                                            <p:fltVal val="0"/>
                                          </p:val>
                                        </p:tav>
                                        <p:tav tm="100000">
                                          <p:val>
                                            <p:strVal val="#ppt_w"/>
                                          </p:val>
                                        </p:tav>
                                      </p:tavLst>
                                    </p:anim>
                                    <p:anim calcmode="lin" valueType="num">
                                      <p:cBhvr additive="repl">
                                        <p:cTn id="127" dur="500" fill="hold"/>
                                        <p:tgtEl>
                                          <p:spTgt spid="166"/>
                                        </p:tgtEl>
                                        <p:attrNameLst>
                                          <p:attrName>ppt_h</p:attrName>
                                        </p:attrNameLst>
                                      </p:cBhvr>
                                      <p:tavLst>
                                        <p:tav tm="0">
                                          <p:val>
                                            <p:strVal val="#ppt_h"/>
                                          </p:val>
                                        </p:tav>
                                        <p:tav tm="100000">
                                          <p:val>
                                            <p:strVal val="#ppt_h"/>
                                          </p:val>
                                        </p:tav>
                                      </p:tavLst>
                                    </p:anim>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6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42">
                                  <p:stCondLst>
                                    <p:cond delay="0"/>
                                  </p:stCondLst>
                                  <p:childTnLst>
                                    <p:set>
                                      <p:cBhvr>
                                        <p:cTn id="134" dur="1" fill="hold">
                                          <p:stCondLst>
                                            <p:cond delay="0"/>
                                          </p:stCondLst>
                                        </p:cTn>
                                        <p:tgtEl>
                                          <p:spTgt spid="168"/>
                                        </p:tgtEl>
                                        <p:attrNameLst>
                                          <p:attrName>style.visibility</p:attrName>
                                        </p:attrNameLst>
                                      </p:cBhvr>
                                      <p:to>
                                        <p:strVal val="visible"/>
                                      </p:to>
                                    </p:set>
                                    <p:animEffect filter="barn(outHorizontal)" transition="in">
                                      <p:cBhvr additive="repl">
                                        <p:cTn id="135" dur="500"/>
                                        <p:tgtEl>
                                          <p:spTgt spid="168"/>
                                        </p:tgtEl>
                                      </p:cBhvr>
                                    </p:animEffect>
                                  </p:childTnLst>
                                </p:cTn>
                              </p:par>
                            </p:childTnLst>
                          </p:cTn>
                        </p:par>
                        <p:par>
                          <p:cTn id="136" fill="hold">
                            <p:stCondLst>
                              <p:cond delay="500"/>
                            </p:stCondLst>
                            <p:childTnLst>
                              <p:par>
                                <p:cTn id="137" nodeType="afterEffect" fill="hold" presetClass="entr" presetID="16" presetSubtype="42">
                                  <p:stCondLst>
                                    <p:cond delay="0"/>
                                  </p:stCondLst>
                                  <p:childTnLst>
                                    <p:set>
                                      <p:cBhvr>
                                        <p:cTn id="138" dur="1" fill="hold">
                                          <p:stCondLst>
                                            <p:cond delay="0"/>
                                          </p:stCondLst>
                                        </p:cTn>
                                        <p:tgtEl>
                                          <p:spTgt spid="169"/>
                                        </p:tgtEl>
                                        <p:attrNameLst>
                                          <p:attrName>style.visibility</p:attrName>
                                        </p:attrNameLst>
                                      </p:cBhvr>
                                      <p:to>
                                        <p:strVal val="visible"/>
                                      </p:to>
                                    </p:set>
                                    <p:animEffect filter="barn(outHorizontal)" transition="in">
                                      <p:cBhvr additive="repl">
                                        <p:cTn id="139" dur="500"/>
                                        <p:tgtEl>
                                          <p:spTgt spid="169"/>
                                        </p:tgtEl>
                                      </p:cBhvr>
                                    </p:animEffect>
                                  </p:childTnLst>
                                </p:cTn>
                              </p:par>
                            </p:childTnLst>
                          </p:cTn>
                        </p:par>
                        <p:par>
                          <p:cTn id="140" fill="hold">
                            <p:stCondLst>
                              <p:cond delay="1000"/>
                            </p:stCondLst>
                            <p:childTnLst>
                              <p:par>
                                <p:cTn id="141" nodeType="afterEffect" fill="hold" presetClass="entr" presetID="16" presetSubtype="42">
                                  <p:stCondLst>
                                    <p:cond delay="0"/>
                                  </p:stCondLst>
                                  <p:childTnLst>
                                    <p:set>
                                      <p:cBhvr>
                                        <p:cTn id="142" dur="1" fill="hold">
                                          <p:stCondLst>
                                            <p:cond delay="0"/>
                                          </p:stCondLst>
                                        </p:cTn>
                                        <p:tgtEl>
                                          <p:spTgt spid="170"/>
                                        </p:tgtEl>
                                        <p:attrNameLst>
                                          <p:attrName>style.visibility</p:attrName>
                                        </p:attrNameLst>
                                      </p:cBhvr>
                                      <p:to>
                                        <p:strVal val="visible"/>
                                      </p:to>
                                    </p:set>
                                    <p:animEffect filter="barn(outHorizontal)" transition="in">
                                      <p:cBhvr additive="repl">
                                        <p:cTn id="143" dur="500"/>
                                        <p:tgtEl>
                                          <p:spTgt spid="17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8">
                                  <p:stCondLst>
                                    <p:cond delay="0"/>
                                  </p:stCondLst>
                                  <p:childTnLst>
                                    <p:set>
                                      <p:cBhvr>
                                        <p:cTn id="147" dur="1" fill="hold">
                                          <p:stCondLst>
                                            <p:cond delay="0"/>
                                          </p:stCondLst>
                                        </p:cTn>
                                        <p:tgtEl>
                                          <p:spTgt spid="171"/>
                                        </p:tgtEl>
                                        <p:attrNameLst>
                                          <p:attrName>style.visibility</p:attrName>
                                        </p:attrNameLst>
                                      </p:cBhvr>
                                      <p:to>
                                        <p:strVal val="visible"/>
                                      </p:to>
                                    </p:set>
                                    <p:animEffect filter="slide(fromLeft)" transition="in">
                                      <p:cBhvr additive="repl">
                                        <p:cTn id="148" dur="500"/>
                                        <p:tgtEl>
                                          <p:spTgt spid="171"/>
                                        </p:tgtEl>
                                      </p:cBhvr>
                                    </p:animEffect>
                                  </p:childTnLst>
                                </p:cTn>
                              </p:par>
                            </p:childTnLst>
                          </p:cTn>
                        </p:par>
                        <p:par>
                          <p:cTn id="149" fill="hold">
                            <p:stCondLst>
                              <p:cond delay="500"/>
                            </p:stCondLst>
                            <p:childTnLst>
                              <p:par>
                                <p:cTn id="150" nodeType="afterEffect" fill="hold" presetClass="entr" presetID="12" presetSubtype="8">
                                  <p:stCondLst>
                                    <p:cond delay="0"/>
                                  </p:stCondLst>
                                  <p:childTnLst>
                                    <p:set>
                                      <p:cBhvr>
                                        <p:cTn id="151" dur="1" fill="hold">
                                          <p:stCondLst>
                                            <p:cond delay="0"/>
                                          </p:stCondLst>
                                        </p:cTn>
                                        <p:tgtEl>
                                          <p:spTgt spid="172"/>
                                        </p:tgtEl>
                                        <p:attrNameLst>
                                          <p:attrName>style.visibility</p:attrName>
                                        </p:attrNameLst>
                                      </p:cBhvr>
                                      <p:to>
                                        <p:strVal val="visible"/>
                                      </p:to>
                                    </p:set>
                                    <p:animEffect filter="slide(fromLeft)" transition="in">
                                      <p:cBhvr additive="repl">
                                        <p:cTn id="152" dur="500"/>
                                        <p:tgtEl>
                                          <p:spTgt spid="17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32">
                                  <p:stCondLst>
                                    <p:cond delay="0"/>
                                  </p:stCondLst>
                                  <p:childTnLst>
                                    <p:set>
                                      <p:cBhvr>
                                        <p:cTn id="156" dur="1" fill="hold">
                                          <p:stCondLst>
                                            <p:cond delay="0"/>
                                          </p:stCondLst>
                                        </p:cTn>
                                        <p:tgtEl>
                                          <p:spTgt spid="173"/>
                                        </p:tgtEl>
                                        <p:attrNameLst>
                                          <p:attrName>style.visibility</p:attrName>
                                        </p:attrNameLst>
                                      </p:cBhvr>
                                      <p:to>
                                        <p:strVal val="visible"/>
                                      </p:to>
                                    </p:set>
                                    <p:animEffect filter="circle(out)" transition="in">
                                      <p:cBhvr additive="repl">
                                        <p:cTn id="15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2"/>
          <p:cNvSpPr/>
          <p:nvPr/>
        </p:nvSpPr>
        <p:spPr>
          <a:xfrm>
            <a:off x="0" y="1195560"/>
            <a:ext cx="9144000" cy="1312920"/>
          </a:xfrm>
          <a:prstGeom prst="rect">
            <a:avLst/>
          </a:prstGeom>
          <a:noFill/>
          <a:ln w="28440">
            <a:solidFill>
              <a:srgbClr val="92d05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d3f41"/>
                </a:solidFill>
                <a:latin typeface="Times New Roman"/>
              </a:rPr>
              <a:t>  </a:t>
            </a:r>
            <a:r>
              <a:rPr b="1" lang="en-US" sz="4000" spc="-1" strike="noStrike">
                <a:solidFill>
                  <a:srgbClr val="3d3f41"/>
                </a:solidFill>
                <a:latin typeface="Times New Roman"/>
              </a:rPr>
              <a:t>1829</a:t>
            </a:r>
            <a:r>
              <a:rPr b="1" lang="zh-CN" sz="4000" spc="-1" strike="noStrike">
                <a:solidFill>
                  <a:srgbClr val="3d3f41"/>
                </a:solidFill>
                <a:latin typeface="Times New Roman"/>
              </a:rPr>
              <a:t>年，柏金汉公开演说：“中国有庞大的人口，其人富有积极的消费的性格，如果把那个国家的市场开放给自由贸易商人，则英国货物在那个市场上的销量将比其余全部世界的总销量还要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743200" y="228600"/>
            <a:ext cx="3505320" cy="825120"/>
          </a:xfrm>
          <a:prstGeom prst="rect">
            <a:avLst/>
          </a:prstGeom>
          <a:noFill/>
          <a:ln w="0">
            <a:noFill/>
          </a:ln>
          <a:effectLst>
            <a:outerShdw dist="17819" dir="2700000" blurRad="0" rotWithShape="0">
              <a:srgbClr val="f1f0eb"/>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Verdana"/>
                <a:ea typeface="黑体"/>
              </a:rPr>
              <a:t>中英贸易</a:t>
            </a:r>
            <a:endParaRPr b="0" lang="en-US" sz="4800" spc="-1" strike="noStrike">
              <a:solidFill>
                <a:srgbClr val="000000"/>
              </a:solidFill>
              <a:latin typeface="Arial"/>
            </a:endParaRPr>
          </a:p>
        </p:txBody>
      </p:sp>
      <p:sp>
        <p:nvSpPr>
          <p:cNvPr id="177" name=""/>
          <p:cNvSpPr/>
          <p:nvPr/>
        </p:nvSpPr>
        <p:spPr>
          <a:xfrm>
            <a:off x="228600" y="2286000"/>
            <a:ext cx="1066680" cy="581400"/>
          </a:xfrm>
          <a:prstGeom prst="rect">
            <a:avLst/>
          </a:prstGeom>
          <a:solidFill>
            <a:srgbClr val="c0c0c0"/>
          </a:solidFill>
          <a:ln w="0">
            <a:noFill/>
          </a:ln>
          <a:effectLst>
            <a:outerShdw dist="12600" dir="0" blurRad="0" rotWithShape="0">
              <a:srgbClr val="3333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38f6"/>
                </a:solidFill>
                <a:latin typeface="Verdana"/>
                <a:ea typeface="华文细黑"/>
              </a:rPr>
              <a:t>中国</a:t>
            </a:r>
            <a:endParaRPr b="0" lang="en-US" sz="3200" spc="-1" strike="noStrike">
              <a:solidFill>
                <a:srgbClr val="000000"/>
              </a:solidFill>
              <a:latin typeface="Arial"/>
            </a:endParaRPr>
          </a:p>
        </p:txBody>
      </p:sp>
      <p:sp>
        <p:nvSpPr>
          <p:cNvPr id="178" name=""/>
          <p:cNvSpPr/>
          <p:nvPr/>
        </p:nvSpPr>
        <p:spPr>
          <a:xfrm>
            <a:off x="7391520" y="2286000"/>
            <a:ext cx="1066680" cy="581400"/>
          </a:xfrm>
          <a:prstGeom prst="rect">
            <a:avLst/>
          </a:prstGeom>
          <a:solidFill>
            <a:srgbClr val="c0c0c0"/>
          </a:solidFill>
          <a:ln w="0">
            <a:noFill/>
          </a:ln>
          <a:effectLst>
            <a:outerShdw dist="12600" dir="0" blurRad="0" rotWithShape="0">
              <a:srgbClr val="3333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38f6"/>
                </a:solidFill>
                <a:latin typeface="Verdana"/>
                <a:ea typeface="华文细黑"/>
              </a:rPr>
              <a:t>英国</a:t>
            </a:r>
            <a:endParaRPr b="0" lang="en-US" sz="3200" spc="-1" strike="noStrike">
              <a:solidFill>
                <a:srgbClr val="000000"/>
              </a:solidFill>
              <a:latin typeface="Arial"/>
            </a:endParaRPr>
          </a:p>
        </p:txBody>
      </p:sp>
      <p:sp>
        <p:nvSpPr>
          <p:cNvPr id="179" name=""/>
          <p:cNvSpPr/>
          <p:nvPr/>
        </p:nvSpPr>
        <p:spPr>
          <a:xfrm>
            <a:off x="2195640" y="1757520"/>
            <a:ext cx="207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Verdana"/>
                <a:ea typeface="华文细黑"/>
              </a:rPr>
              <a:t>呢绒、布匹</a:t>
            </a:r>
            <a:endParaRPr b="0" lang="en-US" sz="2800" spc="-1" strike="noStrike">
              <a:solidFill>
                <a:srgbClr val="000000"/>
              </a:solidFill>
              <a:latin typeface="Arial"/>
            </a:endParaRPr>
          </a:p>
        </p:txBody>
      </p:sp>
      <p:sp>
        <p:nvSpPr>
          <p:cNvPr id="180" name=""/>
          <p:cNvSpPr/>
          <p:nvPr/>
        </p:nvSpPr>
        <p:spPr>
          <a:xfrm>
            <a:off x="1979640" y="2997360"/>
            <a:ext cx="32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Verdana"/>
                <a:ea typeface="华文细黑"/>
              </a:rPr>
              <a:t>茶叶、生丝、瓷器</a:t>
            </a:r>
            <a:endParaRPr b="0" lang="en-US" sz="2800" spc="-1" strike="noStrike">
              <a:solidFill>
                <a:srgbClr val="000000"/>
              </a:solidFill>
              <a:latin typeface="Arial"/>
            </a:endParaRPr>
          </a:p>
        </p:txBody>
      </p:sp>
      <p:sp>
        <p:nvSpPr>
          <p:cNvPr id="181" name=""/>
          <p:cNvSpPr/>
          <p:nvPr/>
        </p:nvSpPr>
        <p:spPr>
          <a:xfrm flipH="1">
            <a:off x="1907640" y="2349360"/>
            <a:ext cx="496908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979640" y="2851200"/>
            <a:ext cx="4968720" cy="1440"/>
          </a:xfrm>
          <a:prstGeom prst="line">
            <a:avLst/>
          </a:prstGeom>
          <a:ln w="50760">
            <a:solidFill>
              <a:srgbClr val="ff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4853520" y="1699560"/>
            <a:ext cx="1767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60f2"/>
                </a:solidFill>
                <a:latin typeface="华文细黑"/>
                <a:ea typeface="华文细黑"/>
              </a:rPr>
              <a:t>（很难卖出去 ）</a:t>
            </a:r>
            <a:endParaRPr b="0" lang="en-US" sz="2800" spc="-1" strike="noStrike">
              <a:solidFill>
                <a:srgbClr val="000000"/>
              </a:solidFill>
              <a:latin typeface="Arial"/>
            </a:endParaRPr>
          </a:p>
        </p:txBody>
      </p:sp>
      <p:sp>
        <p:nvSpPr>
          <p:cNvPr id="184" name=""/>
          <p:cNvSpPr/>
          <p:nvPr/>
        </p:nvSpPr>
        <p:spPr>
          <a:xfrm>
            <a:off x="5216760" y="2996640"/>
            <a:ext cx="12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60f2"/>
                </a:solidFill>
                <a:latin typeface="华文细黑"/>
                <a:ea typeface="华文细黑"/>
              </a:rPr>
              <a:t>（很畅销）</a:t>
            </a:r>
            <a:endParaRPr b="0" lang="en-US" sz="2800" spc="-1" strike="noStrike">
              <a:solidFill>
                <a:srgbClr val="000000"/>
              </a:solidFill>
              <a:latin typeface="Arial"/>
            </a:endParaRPr>
          </a:p>
        </p:txBody>
      </p:sp>
      <p:sp>
        <p:nvSpPr>
          <p:cNvPr id="185" name=""/>
          <p:cNvSpPr/>
          <p:nvPr/>
        </p:nvSpPr>
        <p:spPr>
          <a:xfrm>
            <a:off x="395280" y="4005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3f41"/>
                </a:solidFill>
                <a:latin typeface="Verdana"/>
                <a:ea typeface="黑体"/>
              </a:rPr>
              <a:t>贸易结果：</a:t>
            </a:r>
            <a:endParaRPr b="0" lang="en-US" sz="3200" spc="-1" strike="noStrike">
              <a:solidFill>
                <a:srgbClr val="000000"/>
              </a:solidFill>
              <a:latin typeface="Arial"/>
            </a:endParaRPr>
          </a:p>
        </p:txBody>
      </p:sp>
      <p:sp>
        <p:nvSpPr>
          <p:cNvPr id="186" name=""/>
          <p:cNvSpPr/>
          <p:nvPr/>
        </p:nvSpPr>
        <p:spPr>
          <a:xfrm>
            <a:off x="4142160" y="4075920"/>
            <a:ext cx="35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60f2"/>
                </a:solidFill>
                <a:latin typeface="华文细黑"/>
                <a:ea typeface="华文细黑"/>
              </a:rPr>
              <a:t>许多白银流入中国。</a:t>
            </a:r>
            <a:endParaRPr b="0" lang="en-US" sz="2800" spc="-1" strike="noStrike">
              <a:solidFill>
                <a:srgbClr val="000000"/>
              </a:solidFill>
              <a:latin typeface="Arial"/>
            </a:endParaRPr>
          </a:p>
        </p:txBody>
      </p:sp>
      <p:sp>
        <p:nvSpPr>
          <p:cNvPr id="187" name=""/>
          <p:cNvSpPr/>
          <p:nvPr/>
        </p:nvSpPr>
        <p:spPr>
          <a:xfrm>
            <a:off x="624960" y="4869000"/>
            <a:ext cx="729000" cy="1582560"/>
          </a:xfrm>
          <a:prstGeom prst="rect">
            <a:avLst/>
          </a:prstGeom>
          <a:gradFill rotWithShape="0">
            <a:gsLst>
              <a:gs pos="0">
                <a:srgbClr val="b5a8a1">
                  <a:alpha val="50196"/>
                </a:srgbClr>
              </a:gs>
              <a:gs pos="50000">
                <a:srgbClr val="ffffff"/>
              </a:gs>
              <a:gs pos="100000">
                <a:srgbClr val="b5a8a1">
                  <a:alpha val="50196"/>
                </a:srgbClr>
              </a:gs>
            </a:gsLst>
            <a:lin ang="10800000"/>
          </a:gradFill>
          <a:ln w="9360">
            <a:solidFill>
              <a:srgbClr val="b5a8a1"/>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想一想</a:t>
            </a:r>
            <a:endParaRPr b="0" lang="en-US" sz="3600" spc="-1" strike="noStrike">
              <a:solidFill>
                <a:srgbClr val="000000"/>
              </a:solidFill>
              <a:latin typeface="Arial"/>
            </a:endParaRPr>
          </a:p>
        </p:txBody>
      </p:sp>
      <p:sp>
        <p:nvSpPr>
          <p:cNvPr id="188" name=""/>
          <p:cNvSpPr/>
          <p:nvPr/>
        </p:nvSpPr>
        <p:spPr>
          <a:xfrm>
            <a:off x="1619280" y="5300640"/>
            <a:ext cx="7272360" cy="581400"/>
          </a:xfrm>
          <a:prstGeom prst="rect">
            <a:avLst/>
          </a:prstGeom>
          <a:solidFill>
            <a:srgbClr val="b5a8a1">
              <a:alpha val="50000"/>
            </a:srgbClr>
          </a:solidFill>
          <a:ln w="9360">
            <a:solidFill>
              <a:srgbClr val="00cc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3f41"/>
                </a:solidFill>
                <a:latin typeface="Arial"/>
              </a:rPr>
              <a:t>英国资产阶级是如何改变这种状况的？</a:t>
            </a:r>
            <a:endParaRPr b="0" lang="en-US" sz="3200" spc="-1" strike="noStrike">
              <a:solidFill>
                <a:srgbClr val="000000"/>
              </a:solidFill>
              <a:latin typeface="Arial"/>
            </a:endParaRPr>
          </a:p>
        </p:txBody>
      </p:sp>
      <p:sp>
        <p:nvSpPr>
          <p:cNvPr id="189" name=""/>
          <p:cNvSpPr txBox="1"/>
          <p:nvPr/>
        </p:nvSpPr>
        <p:spPr>
          <a:xfrm>
            <a:off x="6084720" y="4221000"/>
            <a:ext cx="24480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0000"/>
                  </a:solidFill>
                  <a:miter/>
                </a:ln>
                <a:gradFill rotWithShape="0">
                  <a:gsLst>
                    <a:gs pos="0">
                      <a:srgbClr val="0000ff"/>
                    </a:gs>
                    <a:gs pos="100000">
                      <a:srgbClr val="ff3300"/>
                    </a:gs>
                  </a:gsLst>
                  <a:lin ang="13500000"/>
                </a:gradFill>
                <a:latin typeface="楷体_GB2312"/>
              </a:rPr>
              <a:t>走私鸦片</a:t>
            </a:r>
            <a:endParaRPr b="1" lang="en-US" sz="4000" spc="-1" strike="noStrike">
              <a:ln w="9360">
                <a:solidFill>
                  <a:srgbClr val="ff0000"/>
                </a:solidFill>
                <a:miter/>
              </a:ln>
              <a:gradFill rotWithShape="0">
                <a:gsLst>
                  <a:gs pos="0">
                    <a:srgbClr val="0000ff"/>
                  </a:gs>
                  <a:gs pos="100000">
                    <a:srgbClr val="ff3300"/>
                  </a:gs>
                </a:gsLst>
                <a:lin ang="13500000"/>
              </a:gradFill>
              <a:latin typeface="楷体_GB2312"/>
              <a:ea typeface="楷体_GB2312"/>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7" presetSubtype="10">
                                  <p:stCondLst>
                                    <p:cond delay="0"/>
                                  </p:stCondLst>
                                  <p:childTnLst>
                                    <p:set>
                                      <p:cBhvr>
                                        <p:cTn id="163" dur="1" fill="hold">
                                          <p:stCondLst>
                                            <p:cond delay="0"/>
                                          </p:stCondLst>
                                        </p:cTn>
                                        <p:tgtEl>
                                          <p:spTgt spid="176"/>
                                        </p:tgtEl>
                                        <p:attrNameLst>
                                          <p:attrName>style.visibility</p:attrName>
                                        </p:attrNameLst>
                                      </p:cBhvr>
                                      <p:to>
                                        <p:strVal val="visible"/>
                                      </p:to>
                                    </p:set>
                                    <p:anim calcmode="lin" valueType="num">
                                      <p:cBhvr additive="repl">
                                        <p:cTn id="164" dur="500" fill="hold"/>
                                        <p:tgtEl>
                                          <p:spTgt spid="176"/>
                                        </p:tgtEl>
                                        <p:attrNameLst>
                                          <p:attrName>ppt_w</p:attrName>
                                        </p:attrNameLst>
                                      </p:cBhvr>
                                      <p:tavLst>
                                        <p:tav tm="0">
                                          <p:val>
                                            <p:fltVal val="0"/>
                                          </p:val>
                                        </p:tav>
                                        <p:tav tm="100000">
                                          <p:val>
                                            <p:strVal val="#ppt_w"/>
                                          </p:val>
                                        </p:tav>
                                      </p:tavLst>
                                    </p:anim>
                                    <p:anim calcmode="lin" valueType="num">
                                      <p:cBhvr additive="repl">
                                        <p:cTn id="165"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7" presetSubtype="10">
                                  <p:stCondLst>
                                    <p:cond delay="0"/>
                                  </p:stCondLst>
                                  <p:childTnLst>
                                    <p:set>
                                      <p:cBhvr>
                                        <p:cTn id="169" dur="1" fill="hold">
                                          <p:stCondLst>
                                            <p:cond delay="0"/>
                                          </p:stCondLst>
                                        </p:cTn>
                                        <p:tgtEl>
                                          <p:spTgt spid="177"/>
                                        </p:tgtEl>
                                        <p:attrNameLst>
                                          <p:attrName>style.visibility</p:attrName>
                                        </p:attrNameLst>
                                      </p:cBhvr>
                                      <p:to>
                                        <p:strVal val="visible"/>
                                      </p:to>
                                    </p:set>
                                    <p:anim calcmode="lin" valueType="num">
                                      <p:cBhvr additive="repl">
                                        <p:cTn id="170" dur="500" fill="hold"/>
                                        <p:tgtEl>
                                          <p:spTgt spid="177"/>
                                        </p:tgtEl>
                                        <p:attrNameLst>
                                          <p:attrName>ppt_w</p:attrName>
                                        </p:attrNameLst>
                                      </p:cBhvr>
                                      <p:tavLst>
                                        <p:tav tm="0">
                                          <p:val>
                                            <p:fltVal val="0"/>
                                          </p:val>
                                        </p:tav>
                                        <p:tav tm="100000">
                                          <p:val>
                                            <p:strVal val="#ppt_w"/>
                                          </p:val>
                                        </p:tav>
                                      </p:tavLst>
                                    </p:anim>
                                    <p:anim calcmode="lin" valueType="num">
                                      <p:cBhvr additive="repl">
                                        <p:cTn id="171" dur="500" fill="hold"/>
                                        <p:tgtEl>
                                          <p:spTgt spid="177"/>
                                        </p:tgtEl>
                                        <p:attrNameLst>
                                          <p:attrName>ppt_h</p:attrName>
                                        </p:attrNameLst>
                                      </p:cBhvr>
                                      <p:tavLst>
                                        <p:tav tm="0">
                                          <p:val>
                                            <p:strVal val="#ppt_h"/>
                                          </p:val>
                                        </p:tav>
                                        <p:tav tm="100000">
                                          <p:val>
                                            <p:strVal val="#ppt_h"/>
                                          </p:val>
                                        </p:tav>
                                      </p:tavLst>
                                    </p:anim>
                                  </p:childTnLst>
                                </p:cTn>
                              </p:par>
                            </p:childTnLst>
                          </p:cTn>
                        </p:par>
                        <p:par>
                          <p:cTn id="172" fill="hold">
                            <p:stCondLst>
                              <p:cond delay="500"/>
                            </p:stCondLst>
                            <p:childTnLst>
                              <p:par>
                                <p:cTn id="173" nodeType="afterEffect" fill="hold" presetClass="entr" presetID="17" presetSubtype="10">
                                  <p:stCondLst>
                                    <p:cond delay="0"/>
                                  </p:stCondLst>
                                  <p:childTnLst>
                                    <p:set>
                                      <p:cBhvr>
                                        <p:cTn id="174" dur="1" fill="hold">
                                          <p:stCondLst>
                                            <p:cond delay="0"/>
                                          </p:stCondLst>
                                        </p:cTn>
                                        <p:tgtEl>
                                          <p:spTgt spid="178"/>
                                        </p:tgtEl>
                                        <p:attrNameLst>
                                          <p:attrName>style.visibility</p:attrName>
                                        </p:attrNameLst>
                                      </p:cBhvr>
                                      <p:to>
                                        <p:strVal val="visible"/>
                                      </p:to>
                                    </p:set>
                                    <p:anim calcmode="lin" valueType="num">
                                      <p:cBhvr additive="repl">
                                        <p:cTn id="175" dur="500" fill="hold"/>
                                        <p:tgtEl>
                                          <p:spTgt spid="178"/>
                                        </p:tgtEl>
                                        <p:attrNameLst>
                                          <p:attrName>ppt_w</p:attrName>
                                        </p:attrNameLst>
                                      </p:cBhvr>
                                      <p:tavLst>
                                        <p:tav tm="0">
                                          <p:val>
                                            <p:fltVal val="0"/>
                                          </p:val>
                                        </p:tav>
                                        <p:tav tm="100000">
                                          <p:val>
                                            <p:strVal val="#ppt_w"/>
                                          </p:val>
                                        </p:tav>
                                      </p:tavLst>
                                    </p:anim>
                                    <p:anim calcmode="lin" valueType="num">
                                      <p:cBhvr additive="repl">
                                        <p:cTn id="176" dur="500" fill="hold"/>
                                        <p:tgtEl>
                                          <p:spTgt spid="178"/>
                                        </p:tgtEl>
                                        <p:attrNameLst>
                                          <p:attrName>ppt_h</p:attrName>
                                        </p:attrNameLst>
                                      </p:cBhvr>
                                      <p:tavLst>
                                        <p:tav tm="0">
                                          <p:val>
                                            <p:strVal val="#ppt_h"/>
                                          </p:val>
                                        </p:tav>
                                        <p:tav tm="100000">
                                          <p:val>
                                            <p:strVal val="#ppt_h"/>
                                          </p:val>
                                        </p:tav>
                                      </p:tavLst>
                                    </p:anim>
                                  </p:childTnLst>
                                </p:cTn>
                              </p:par>
                            </p:childTnLst>
                          </p:cTn>
                        </p:par>
                        <p:par>
                          <p:cTn id="177" fill="hold">
                            <p:stCondLst>
                              <p:cond delay="1000"/>
                            </p:stCondLst>
                            <p:childTnLst>
                              <p:par>
                                <p:cTn id="178" nodeType="afterEffect" fill="hold" presetClass="entr" presetID="12" presetSubtype="2">
                                  <p:stCondLst>
                                    <p:cond delay="0"/>
                                  </p:stCondLst>
                                  <p:childTnLst>
                                    <p:set>
                                      <p:cBhvr>
                                        <p:cTn id="179" dur="1" fill="hold">
                                          <p:stCondLst>
                                            <p:cond delay="0"/>
                                          </p:stCondLst>
                                        </p:cTn>
                                        <p:tgtEl>
                                          <p:spTgt spid="181"/>
                                        </p:tgtEl>
                                        <p:attrNameLst>
                                          <p:attrName>style.visibility</p:attrName>
                                        </p:attrNameLst>
                                      </p:cBhvr>
                                      <p:to>
                                        <p:strVal val="visible"/>
                                      </p:to>
                                    </p:set>
                                    <p:animEffect filter="slide(fromRight)" transition="in">
                                      <p:cBhvr additive="repl">
                                        <p:cTn id="180" dur="500"/>
                                        <p:tgtEl>
                                          <p:spTgt spid="181"/>
                                        </p:tgtEl>
                                      </p:cBhvr>
                                    </p:animEffect>
                                  </p:childTnLst>
                                </p:cTn>
                              </p:par>
                            </p:childTnLst>
                          </p:cTn>
                        </p:par>
                        <p:par>
                          <p:cTn id="181" fill="hold">
                            <p:stCondLst>
                              <p:cond delay="1500"/>
                            </p:stCondLst>
                            <p:childTnLst>
                              <p:par>
                                <p:cTn id="182" nodeType="afterEffect" fill="hold" presetClass="entr" presetID="12" presetSubtype="2">
                                  <p:stCondLst>
                                    <p:cond delay="0"/>
                                  </p:stCondLst>
                                  <p:childTnLst>
                                    <p:set>
                                      <p:cBhvr>
                                        <p:cTn id="183" dur="1" fill="hold">
                                          <p:stCondLst>
                                            <p:cond delay="0"/>
                                          </p:stCondLst>
                                        </p:cTn>
                                        <p:tgtEl>
                                          <p:spTgt spid="179"/>
                                        </p:tgtEl>
                                        <p:attrNameLst>
                                          <p:attrName>style.visibility</p:attrName>
                                        </p:attrNameLst>
                                      </p:cBhvr>
                                      <p:to>
                                        <p:strVal val="visible"/>
                                      </p:to>
                                    </p:set>
                                    <p:animEffect filter="slide(fromRight)" transition="in">
                                      <p:cBhvr additive="repl">
                                        <p:cTn id="184" dur="500"/>
                                        <p:tgtEl>
                                          <p:spTgt spid="179"/>
                                        </p:tgtEl>
                                      </p:cBhvr>
                                    </p:animEffect>
                                  </p:childTnLst>
                                </p:cTn>
                              </p:par>
                            </p:childTnLst>
                          </p:cTn>
                        </p:par>
                        <p:par>
                          <p:cTn id="185" fill="hold">
                            <p:stCondLst>
                              <p:cond delay="2000"/>
                            </p:stCondLst>
                            <p:childTnLst>
                              <p:par>
                                <p:cTn id="186" nodeType="afterEffect" fill="hold" presetClass="entr" presetID="1">
                                  <p:stCondLst>
                                    <p:cond delay="0"/>
                                  </p:stCondLst>
                                  <p:childTnLst>
                                    <p:set>
                                      <p:cBhvr>
                                        <p:cTn id="187" dur="1" fill="hold">
                                          <p:stCondLst>
                                            <p:cond delay="0"/>
                                          </p:stCondLst>
                                        </p:cTn>
                                        <p:tgtEl>
                                          <p:spTgt spid="18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182"/>
                                        </p:tgtEl>
                                        <p:attrNameLst>
                                          <p:attrName>style.visibility</p:attrName>
                                        </p:attrNameLst>
                                      </p:cBhvr>
                                      <p:to>
                                        <p:strVal val="visible"/>
                                      </p:to>
                                    </p:set>
                                    <p:animEffect filter="slide(fromLeft)" transition="in">
                                      <p:cBhvr additive="repl">
                                        <p:cTn id="192" dur="500"/>
                                        <p:tgtEl>
                                          <p:spTgt spid="182"/>
                                        </p:tgtEl>
                                      </p:cBhvr>
                                    </p:animEffect>
                                  </p:childTnLst>
                                </p:cTn>
                              </p:par>
                            </p:childTnLst>
                          </p:cTn>
                        </p:par>
                        <p:par>
                          <p:cTn id="193" fill="hold">
                            <p:stCondLst>
                              <p:cond delay="500"/>
                            </p:stCondLst>
                            <p:childTnLst>
                              <p:par>
                                <p:cTn id="194" nodeType="afterEffect" fill="hold" presetClass="entr" presetID="12" presetSubtype="8">
                                  <p:stCondLst>
                                    <p:cond delay="0"/>
                                  </p:stCondLst>
                                  <p:childTnLst>
                                    <p:set>
                                      <p:cBhvr>
                                        <p:cTn id="195" dur="1" fill="hold">
                                          <p:stCondLst>
                                            <p:cond delay="0"/>
                                          </p:stCondLst>
                                        </p:cTn>
                                        <p:tgtEl>
                                          <p:spTgt spid="180"/>
                                        </p:tgtEl>
                                        <p:attrNameLst>
                                          <p:attrName>style.visibility</p:attrName>
                                        </p:attrNameLst>
                                      </p:cBhvr>
                                      <p:to>
                                        <p:strVal val="visible"/>
                                      </p:to>
                                    </p:set>
                                    <p:animEffect filter="slide(fromLeft)" transition="in">
                                      <p:cBhvr additive="repl">
                                        <p:cTn id="196" dur="500"/>
                                        <p:tgtEl>
                                          <p:spTgt spid="180"/>
                                        </p:tgtEl>
                                      </p:cBhvr>
                                    </p:animEffect>
                                  </p:childTnLst>
                                </p:cTn>
                              </p:par>
                            </p:childTnLst>
                          </p:cTn>
                        </p:par>
                        <p:par>
                          <p:cTn id="197" fill="hold">
                            <p:stCondLst>
                              <p:cond delay="1000"/>
                            </p:stCondLst>
                            <p:childTnLst>
                              <p:par>
                                <p:cTn id="198" nodeType="afterEffect" fill="hold" presetClass="entr" presetID="1">
                                  <p:stCondLst>
                                    <p:cond delay="0"/>
                                  </p:stCondLst>
                                  <p:childTnLst>
                                    <p:set>
                                      <p:cBhvr>
                                        <p:cTn id="199" dur="1" fill="hold">
                                          <p:stCondLst>
                                            <p:cond delay="0"/>
                                          </p:stCondLst>
                                        </p:cTn>
                                        <p:tgtEl>
                                          <p:spTgt spid="184"/>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85"/>
                                        </p:tgtEl>
                                        <p:attrNameLst>
                                          <p:attrName>style.visibility</p:attrName>
                                        </p:attrNameLst>
                                      </p:cBhvr>
                                      <p:to>
                                        <p:strVal val="visible"/>
                                      </p:to>
                                    </p:set>
                                    <p:animEffect filter="barn(inHorizontal)" transition="in">
                                      <p:cBhvr additive="repl">
                                        <p:cTn id="204" dur="500"/>
                                        <p:tgtEl>
                                          <p:spTgt spid="185"/>
                                        </p:tgtEl>
                                      </p:cBhvr>
                                    </p:animEffect>
                                  </p:childTnLst>
                                </p:cTn>
                              </p:par>
                            </p:childTnLst>
                          </p:cTn>
                        </p:par>
                        <p:par>
                          <p:cTn id="205" fill="hold">
                            <p:stCondLst>
                              <p:cond delay="500"/>
                            </p:stCondLst>
                            <p:childTnLst>
                              <p:par>
                                <p:cTn id="206" nodeType="afterEffect" fill="hold" presetClass="entr" presetID="27">
                                  <p:stCondLst>
                                    <p:cond delay="0"/>
                                  </p:stCondLst>
                                  <p:iterate type="lt">
                                    <p:tmAbs val="40"/>
                                  </p:iterate>
                                  <p:childTnLst>
                                    <p:set>
                                      <p:cBhvr>
                                        <p:cTn id="207" dur="1" fill="hold">
                                          <p:stCondLst>
                                            <p:cond delay="0"/>
                                          </p:stCondLst>
                                        </p:cTn>
                                        <p:tgtEl>
                                          <p:spTgt spid="186"/>
                                        </p:tgtEl>
                                        <p:attrNameLst>
                                          <p:attrName>style.visibility</p:attrName>
                                        </p:attrNameLst>
                                      </p:cBhvr>
                                      <p:to>
                                        <p:strVal val="visible"/>
                                      </p:to>
                                    </p:set>
                                    <p:anim calcmode="discrete" valueType="clr">
                                      <p:cBhvr additive="repl">
                                        <p:cTn id="208" dur="80"/>
                                        <p:tgtEl>
                                          <p:spTgt spid="186"/>
                                        </p:tgtEl>
                                        <p:attrNameLst>
                                          <p:attrName>style.color</p:attrName>
                                        </p:attrNameLst>
                                      </p:cBhvr>
                                      <p:tavLst>
                                        <p:tav tm="0">
                                          <p:val>
                                            <p:strVal val="rgb(64,-85,-60)"/>
                                          </p:val>
                                        </p:tav>
                                        <p:tav tm="50000">
                                          <p:val>
                                            <p:strVal val="rgb(-16,-80,0)"/>
                                          </p:val>
                                        </p:tav>
                                      </p:tavLst>
                                    </p:anim>
                                    <p:anim calcmode="discrete" valueType="clr">
                                      <p:cBhvr additive="repl">
                                        <p:cTn id="209" dur="80"/>
                                        <p:tgtEl>
                                          <p:spTgt spid="186"/>
                                        </p:tgtEl>
                                        <p:attrNameLst>
                                          <p:attrName>fillcolor</p:attrName>
                                        </p:attrNameLst>
                                      </p:cBhvr>
                                      <p:tavLst>
                                        <p:tav tm="0">
                                          <p:val>
                                            <p:strVal val="rgb(64,-85,-60)"/>
                                          </p:val>
                                        </p:tav>
                                        <p:tav tm="50000">
                                          <p:val>
                                            <p:strVal val="rgb(-16,-80,0)"/>
                                          </p:val>
                                        </p:tav>
                                      </p:tavLst>
                                    </p:anim>
                                    <p:set>
                                      <p:cBhvr>
                                        <p:cTn id="210" dur="80"/>
                                        <p:tgtEl>
                                          <p:spTgt spid="186"/>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87"/>
                                        </p:tgtEl>
                                        <p:attrNameLst>
                                          <p:attrName>style.visibility</p:attrName>
                                        </p:attrNameLst>
                                      </p:cBhvr>
                                      <p:to>
                                        <p:strVal val="visible"/>
                                      </p:to>
                                    </p:set>
                                    <p:animEffect filter="slide(fromBottom)" transition="in">
                                      <p:cBhvr additive="repl">
                                        <p:cTn id="215" dur="500"/>
                                        <p:tgtEl>
                                          <p:spTgt spid="18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8">
                                  <p:stCondLst>
                                    <p:cond delay="0"/>
                                  </p:stCondLst>
                                  <p:childTnLst>
                                    <p:set>
                                      <p:cBhvr>
                                        <p:cTn id="219" dur="1" fill="hold">
                                          <p:stCondLst>
                                            <p:cond delay="0"/>
                                          </p:stCondLst>
                                        </p:cTn>
                                        <p:tgtEl>
                                          <p:spTgt spid="188"/>
                                        </p:tgtEl>
                                        <p:attrNameLst>
                                          <p:attrName>style.visibility</p:attrName>
                                        </p:attrNameLst>
                                      </p:cBhvr>
                                      <p:to>
                                        <p:strVal val="visible"/>
                                      </p:to>
                                    </p:set>
                                    <p:animEffect filter="slide(fromLeft)" transition="in">
                                      <p:cBhvr additive="repl">
                                        <p:cTn id="220" dur="500"/>
                                        <p:tgtEl>
                                          <p:spTgt spid="18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89"/>
                                        </p:tgtEl>
                                        <p:attrNameLst>
                                          <p:attrName>style.visibility</p:attrName>
                                        </p:attrNameLst>
                                      </p:cBhvr>
                                      <p:to>
                                        <p:strVal val="visible"/>
                                      </p:to>
                                    </p:set>
                                    <p:anim calcmode="lin" valueType="num">
                                      <p:cBhvr additive="base">
                                        <p:cTn id="225" dur="500" fill="hold"/>
                                        <p:tgtEl>
                                          <p:spTgt spid="189"/>
                                        </p:tgtEl>
                                        <p:attrNameLst>
                                          <p:attrName>ppt_x</p:attrName>
                                        </p:attrNameLst>
                                      </p:cBhvr>
                                      <p:tavLst>
                                        <p:tav tm="0">
                                          <p:val>
                                            <p:strVal val="1+#ppt_w/2"/>
                                          </p:val>
                                        </p:tav>
                                        <p:tav tm="100000">
                                          <p:val>
                                            <p:strVal val="#ppt_x"/>
                                          </p:val>
                                        </p:tav>
                                      </p:tavLst>
                                    </p:anim>
                                    <p:anim calcmode="lin" valueType="num">
                                      <p:cBhvr additive="base">
                                        <p:cTn id="2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6T10:26:15Z</dcterms:created>
  <dc:creator>Lenovo User</dc:creator>
  <dc:description/>
  <dc:language>en-US</dc:language>
  <cp:lastModifiedBy>番茄花园</cp:lastModifiedBy>
  <dcterms:modified xsi:type="dcterms:W3CDTF">2015-09-06T15:48:30Z</dcterms:modified>
  <cp:revision>1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